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0B0-CDD9-40CA-8A97-68CCE1D2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159-5565-483F-9848-883B6928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A7F-F887-4662-93B2-A122FE27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AC2-8DE9-4936-8EF7-DB154F05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394-508A-43B6-AA11-9547708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182-B8AA-45E0-8C69-7E0F74AE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CC6-0726-491B-9EEF-A986CEE5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69F-C110-4A52-9DD8-752E324A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323-28F3-42BC-B6F4-9FB08379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C06-8E3C-4852-A5F3-F40D4ED6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083-2992-4525-8F01-5F03A3B4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41F-E62D-4132-9477-28FC9266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5A90C-A41D-48CC-A39C-AA0E09E7BC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B1FF3-FA70-49DB-B3E6-44B250CCF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31640" y="1733400"/>
            <a:ext cx="621036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100" spc="-1" strike="noStrike">
                <a:solidFill>
                  <a:srgbClr val="174a7c"/>
                </a:solidFill>
                <a:latin typeface="Adobe Garamond Pro"/>
              </a:rPr>
              <a:t>Eficiencia de los sistemas tributarios: El ejemplo de Andorr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174a7c"/>
                </a:solidFill>
                <a:latin typeface="Adobe Garamond Pro"/>
              </a:rPr>
              <a:t>Ministerio de Finanzas y Función Públ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174a7c"/>
                </a:solidFill>
                <a:latin typeface="Adobe Garamond Pro"/>
              </a:rPr>
              <a:t>Madrid, 30 de septiembre de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7"/>
          <p:cNvSpPr/>
          <p:nvPr/>
        </p:nvSpPr>
        <p:spPr>
          <a:xfrm>
            <a:off x="2232000" y="1052640"/>
            <a:ext cx="6210360" cy="144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"/>
          <p:cNvSpPr/>
          <p:nvPr/>
        </p:nvSpPr>
        <p:spPr>
          <a:xfrm>
            <a:off x="2232000" y="6308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Claves para el éxito del nuevo modelo de Administr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1 CuadroTexto"/>
          <p:cNvSpPr/>
          <p:nvPr/>
        </p:nvSpPr>
        <p:spPr>
          <a:xfrm>
            <a:off x="1835280" y="1268280"/>
            <a:ext cx="66960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Integración de las funciones de Aduanas y del Departamento de 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Reforma de la Ley General Tribut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ＭＳ Ｐゴシック"/>
              </a:rPr>
              <a:t>Competencias de control y in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ＭＳ Ｐゴシック"/>
              </a:rPr>
              <a:t>Regulación de los derechos del contribuyente – Información y a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ＭＳ Ｐゴシック"/>
              </a:rPr>
              <a:t>Recaudación ejec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Nuevo Sistema integrad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Capacitación y alta calificación del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Esta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8 Gráfico" descr=""/>
          <p:cNvPicPr/>
          <p:nvPr/>
        </p:nvPicPr>
        <p:blipFill>
          <a:blip r:embed="rId2"/>
          <a:stretch/>
        </p:blipFill>
        <p:spPr>
          <a:xfrm>
            <a:off x="1792440" y="1457280"/>
            <a:ext cx="6851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17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Gráfico 8"/>
          <p:cNvGraphicFramePr/>
          <p:nvPr/>
        </p:nvGraphicFramePr>
        <p:xfrm>
          <a:off x="1757520" y="1146240"/>
          <a:ext cx="7053120" cy="477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Gráfico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7520" y="1146240"/>
                    <a:ext cx="70531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25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Flujo de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0 Gráfico" descr=""/>
          <p:cNvPicPr/>
          <p:nvPr/>
        </p:nvPicPr>
        <p:blipFill>
          <a:blip r:embed="rId2"/>
          <a:stretch/>
        </p:blipFill>
        <p:spPr>
          <a:xfrm>
            <a:off x="1792440" y="1268280"/>
            <a:ext cx="70833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Modalidades de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10 Gráfico" descr=""/>
          <p:cNvPicPr/>
          <p:nvPr/>
        </p:nvPicPr>
        <p:blipFill>
          <a:blip r:embed="rId2"/>
          <a:stretch/>
        </p:blipFill>
        <p:spPr>
          <a:xfrm>
            <a:off x="1792440" y="1268280"/>
            <a:ext cx="6918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39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523880" y="1700280"/>
            <a:ext cx="76201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527120" y="47466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Arial"/>
              </a:rPr>
              <a:t>Departamento de Tributos y de Front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Arial"/>
              </a:rPr>
              <a:t>Ministerio de Finanzas y Func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835280" y="525780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174a7c"/>
                </a:solidFill>
                <a:latin typeface="Adobe Garamond Pro"/>
              </a:rPr>
              <a:t>Superficie: 468 Km2                                        Población 70.000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174a7c"/>
                </a:solidFill>
                <a:latin typeface="Adobe Garamond Pro"/>
              </a:rPr>
              <a:t>PIB nominal (2013): 2.447,09 M€         Presupuesto (2014): 568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El Principado de Ando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2232000" y="1125360"/>
            <a:ext cx="6085080" cy="3525840"/>
          </a:xfrm>
          <a:prstGeom prst="rect">
            <a:avLst/>
          </a:prstGeom>
          <a:ln w="0">
            <a:noFill/>
          </a:ln>
        </p:spPr>
      </p:pic>
      <p:sp>
        <p:nvSpPr>
          <p:cNvPr id="53" name="Oval 10"/>
          <p:cNvSpPr/>
          <p:nvPr/>
        </p:nvSpPr>
        <p:spPr>
          <a:xfrm>
            <a:off x="4643280" y="2881440"/>
            <a:ext cx="505080" cy="662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Sistema tributario antes d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 CuadroTexto"/>
          <p:cNvSpPr/>
          <p:nvPr/>
        </p:nvSpPr>
        <p:spPr>
          <a:xfrm>
            <a:off x="1908000" y="1413000"/>
            <a:ext cx="66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Dos sistemas tributarios: Estado y ent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Predominio de la imposición in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Ausencia de gravamen sobre la renta de las actividades económicas y sobre las personas 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Recaudación basada principalmente en la fiscalidad asociada al comercio ext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Nuevo modelo fi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 CuadroTexto"/>
          <p:cNvSpPr/>
          <p:nvPr/>
        </p:nvSpPr>
        <p:spPr>
          <a:xfrm>
            <a:off x="1908000" y="1484280"/>
            <a:ext cx="669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Cumplir con el precepto constitucional de contribución según capacidad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Garantizar al Estado un nivel de ingresos suficiente para sufragar las necesidades de inversión y la prestación de servicios púb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Homologación internacional de la economía andor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Contribuir a la competitividad de la economía andorrana mediante la firma de C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Sistema fiscal de bases amplias y tipos mod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69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Evolución desd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 CuadroTexto"/>
          <p:cNvSpPr/>
          <p:nvPr/>
        </p:nvSpPr>
        <p:spPr>
          <a:xfrm>
            <a:off x="1835280" y="112536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09: Contabilidad obligatoria para todas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1: Impuesto sobre la renta de los no residentes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2: Impuesto sobre las sociedades y sobre la renta de las actividade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3: Impuesto general indirecto (tipo 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5: Impuesto sobre la renta de las personas físicas</a:t>
            </a:r>
            <a:r>
              <a:rPr b="1" lang="es-ES" sz="2400" spc="-1" strike="noStrike">
                <a:solidFill>
                  <a:srgbClr val="4f81bd"/>
                </a:solidFill>
                <a:latin typeface="Adobe Garamond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76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Sistema tributario d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3 Diagrama" descr=""/>
          <p:cNvPicPr/>
          <p:nvPr/>
        </p:nvPicPr>
        <p:blipFill>
          <a:blip r:embed="rId2"/>
          <a:stretch/>
        </p:blipFill>
        <p:spPr>
          <a:xfrm>
            <a:off x="1920960" y="1096920"/>
            <a:ext cx="6881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82" name="Straight Connector 7"/>
          <p:cNvSpPr/>
          <p:nvPr/>
        </p:nvSpPr>
        <p:spPr>
          <a:xfrm>
            <a:off x="2232000" y="1052640"/>
            <a:ext cx="6210360" cy="144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Nuevo modelo de Administr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 CuadroTexto"/>
          <p:cNvSpPr/>
          <p:nvPr/>
        </p:nvSpPr>
        <p:spPr>
          <a:xfrm>
            <a:off x="1835280" y="1484280"/>
            <a:ext cx="66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Integración de las funciones de Aduanas y del Departamento de 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Agrupación de los distintos aspectos relativos a la aplicación de los tributos: gestión, inspección y recau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Sujeción a un criterio unitario de 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Clara voluntad de servicio al ciudadano</a:t>
            </a:r>
            <a:r>
              <a:rPr b="1" lang="es-ES" sz="2400" spc="-1" strike="noStrike">
                <a:solidFill>
                  <a:srgbClr val="4f81bd"/>
                </a:solidFill>
                <a:latin typeface="Adobe Garamond Pro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7"/>
          <p:cNvSpPr/>
          <p:nvPr/>
        </p:nvSpPr>
        <p:spPr>
          <a:xfrm>
            <a:off x="2232000" y="1052640"/>
            <a:ext cx="6210360" cy="144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Departamento de Tributos y de Fronteras (D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 CuadroTexto"/>
          <p:cNvSpPr/>
          <p:nvPr/>
        </p:nvSpPr>
        <p:spPr>
          <a:xfrm>
            <a:off x="1746360" y="1355760"/>
            <a:ext cx="669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Adscrito al Ministerio de Finan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Responsable único de la aplicación del sistema tributario de la Administración general y del sistema adua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Fusión de los Departamentos de Tributos y Aduanas a partir del 1 de febrero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Formado por unas 100 personas que se reparten las 4 grandes funciones: gestión, inspección, recaudación y comercio ex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Programa anual de act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a-ES" sz="3200" spc="-1" strike="noStrike">
                <a:solidFill>
                  <a:srgbClr val="4f81bd"/>
                </a:solidFill>
                <a:latin typeface="Adobe Garamond Pro"/>
              </a:rPr>
              <a:t>Organigrama del D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913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a-ES" sz="2000" spc="-1" strike="noStrike">
              <a:solidFill>
                <a:srgbClr val="4f81bd"/>
              </a:solidFill>
              <a:latin typeface="Adobe Garamond Pro"/>
            </a:endParaRPr>
          </a:p>
        </p:txBody>
      </p:sp>
      <p:pic>
        <p:nvPicPr>
          <p:cNvPr id="101" name="8 Diagrama" descr=""/>
          <p:cNvPicPr/>
          <p:nvPr/>
        </p:nvPicPr>
        <p:blipFill>
          <a:blip r:embed="rId2"/>
          <a:stretch/>
        </p:blipFill>
        <p:spPr>
          <a:xfrm>
            <a:off x="1523880" y="1554120"/>
            <a:ext cx="76266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6:42:32Z</dcterms:created>
  <dc:creator>Sonia R</dc:creator>
  <dc:description/>
  <dc:language>en-US</dc:language>
  <cp:lastModifiedBy>alumno</cp:lastModifiedBy>
  <dcterms:modified xsi:type="dcterms:W3CDTF">2014-09-30T10:04:10Z</dcterms:modified>
  <cp:revision>105</cp:revision>
  <dc:subject/>
  <dc:title>Slide 1</dc:title>
</cp:coreProperties>
</file>