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242-B1F7-41EF-BE91-22363E51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B24-7D41-407F-B304-3324468F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C05-1693-4908-909E-6D25B77A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C35-CCBC-4B79-A9AD-F6FFD869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1B2-4A10-4970-AB43-5C572445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A119-EE31-4D6E-AC2D-8ACE54D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A224-E767-42F5-8170-BF8C251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889-6CAD-4E43-BF11-A75CF093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93A-5D12-4E6C-BABD-89598D0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DB4-A465-4EC5-80F9-2C90F6D0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31C5-3971-4112-A96B-598B056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EB6-D00F-45A9-A654-3C2A96D8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7E5-DF34-4E54-82A9-543B563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D400-09F2-4F86-82B8-23E94D49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40D-570A-4910-B285-8822AD73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A56-BADB-4B79-93CA-859033E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E8E1-CBA2-40CA-A8DC-0FE714C1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C2F3-AA4F-4B17-9C1C-3F874D11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1314-6085-40EF-A308-9CA6BB5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887D-AE61-4AF2-9779-B168D60E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7C78-2A42-4872-B8F0-F74B3672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1F17-26E9-4BFC-97D5-358D9C5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232-E6F5-4DAB-830B-3CF0C4BF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C317-71E9-4265-BC61-CCC3A117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6276-451E-434A-B606-F3B70DF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C55A-87E1-4039-9DEE-2409593B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2ABB-5E0A-48D9-827D-133B894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3A5C-CB70-4B19-A61F-BBA1F56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BE408-4F68-479E-BE42-04712577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5039-D8B2-4863-919E-D8C2F8A2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D19E-57BE-4962-AB16-895CB0B5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6958-992C-4613-924B-924EBF2B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DF2D-4BBA-4EEB-8C51-B6CACF91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FE2-7AE7-457B-B92D-4B63477A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1C5F-412F-46C4-B87F-74EE938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375C-4B1D-45FA-8153-657AF83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6040-7BE7-41B0-AB49-9B0D355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B4EC-4821-440A-8617-742A235D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71A6-AE3E-494B-BEBA-9C5E76FD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A6A99-1CA2-49D0-9346-4D8B5AA1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F595-855B-457D-BB7B-1E8DE810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BD8E-3A92-4E8D-8D93-24715B50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5483-A7C7-4142-8CA2-746285C3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B933-0826-4174-B195-31163897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09A-8CFD-4E81-B20D-2CB9E92D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B6A79-E0BF-450A-B763-12B2268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13FA-7299-4F32-B537-B22A9517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574D-7FE0-4A6B-B4D2-17E4C030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1344-C3C0-43DB-B89D-C680F073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04881-9742-40FC-A9D4-FFC2084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4A03-82E8-45E3-9160-1B9EC1A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8CAA-85C1-48DA-9941-0809BF4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50D7-E63E-42D8-A0E1-CECB8D1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6648-F5BB-4CA5-86A9-D83480A7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C17B-6228-4B2E-B78C-E835C71F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567-3400-41B6-A1D1-175F0231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762A4-BFFF-45FF-8462-0EA78B77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D2C1-F509-4A20-841E-01CBC1E0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18BA-A574-42DC-841B-5AC99C27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5D497-5876-4290-8D40-AEA280A4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CB9AD-D237-4C8E-8626-D62712C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A708-3041-4B75-B8B8-2A86AB1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41FC-2A2D-4DE0-8980-0F1567A7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2015-8058-4F72-9EEB-CCC4EDA4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F14E6-626D-427E-922D-EA2D2D7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FBAE2-D077-44A1-9A14-B446540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D9E-FEFB-4CCE-BCD4-3094A10B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8D54-6E89-4EBA-ADEF-1D0FB10B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7CCA8-614C-4B04-904A-31A77046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ED1D-B5B5-4E2F-89F2-24A1E80D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07826-8449-47AF-A8CD-BC89BFF6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DA07A-C91B-446F-B7E1-091ADFD7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9CAD7-AFE7-4FE2-8BD1-2EF309B1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AF3B4-B210-4159-AF03-28835A74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B1BA7-45D4-4F86-9AA0-980D0FE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D486-D56C-4FB7-A918-8D7380E0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8F2EE-A76C-40A1-A19C-AAC035D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26B-5672-4153-AE0D-FAC9205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509A-2FD4-4AA0-B753-3D5DD7B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A3362-955F-4803-9BA5-3C9A4DC2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23B92-47B2-4394-885A-94E91EE3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031BF-71F4-452F-A778-55C0945C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22391-1F56-4F3E-BA0D-08C87377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3DCF2-C355-4613-85FD-74424B17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4B9AD-6D2A-4864-877B-47B0DD83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03AB-5166-4988-A324-74FF03A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6D44-B5F4-4CF3-92DF-718B335F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8AC52-9912-4A20-A59F-9394320C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554-7701-45D8-87B0-EB4BE2A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03875-C774-46EC-9C83-6FEB0BF5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C6D86-7518-4227-9A0E-3974704C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94F2-202B-43FA-BCD9-6C95973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5EDB0-9FB4-475D-9B29-6EF1C02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0A1E-9060-4E97-9678-5B52C6C0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F20BC-C03B-4532-98ED-6BC3288E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494C7-18D1-41B5-B157-938B8F35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B778-D8EB-4A18-B49C-DDE6A267F5F4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578A-C8F3-4614-903F-3E656B048829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95136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1028520" y="63082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DR. MAURICIO TRUJIL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7072-D331-4973-A2FB-28566B69E0AF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63D-E2C6-4A09-AE73-89F5DC549578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033-6C4A-4262-A619-A00489994393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709A-5372-4C86-A21A-A6DDE83B7369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5DD4-E309-4672-AA2C-6E80053A2A40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424F-C39A-4BEB-B0EE-0B029BC5AC14}" type="slidenum">
              <a:rPr b="0" lang="es-EC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640" y="414936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572314"/>
                </a:solidFill>
                <a:latin typeface="Gill Sans MT"/>
              </a:rPr>
              <a:t>METODOLOGÍA, JUSTIFICATIVOS Y HERRAMIENTAS QUE PERMITAN IDENTIFICAR EL UNIVERSO DE ENTIDADES PRIVADAS QUE MANEJEN FONDOS PÚBLICOS O POSEAN INFORMACIÓN PÚBLICA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4 Imagen" descr="descarga.jpg"/>
          <p:cNvPicPr/>
          <p:nvPr/>
        </p:nvPicPr>
        <p:blipFill>
          <a:blip r:embed="rId1"/>
          <a:stretch/>
        </p:blipFill>
        <p:spPr>
          <a:xfrm>
            <a:off x="2843280" y="907920"/>
            <a:ext cx="4011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MARCO JURID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0" name="3 Marcador de contenido" descr=""/>
          <p:cNvPicPr/>
          <p:nvPr/>
        </p:nvPicPr>
        <p:blipFill>
          <a:blip r:embed="rId1"/>
          <a:stretch/>
        </p:blipFill>
        <p:spPr>
          <a:xfrm>
            <a:off x="1352520" y="1395360"/>
            <a:ext cx="7658280" cy="4956120"/>
          </a:xfrm>
          <a:prstGeom prst="rect">
            <a:avLst/>
          </a:prstGeom>
          <a:ln w="0">
            <a:noFill/>
          </a:ln>
        </p:spPr>
      </p:pic>
      <p:sp>
        <p:nvSpPr>
          <p:cNvPr id="371" name="Cuadro de texto 5"/>
          <p:cNvSpPr/>
          <p:nvPr/>
        </p:nvSpPr>
        <p:spPr>
          <a:xfrm>
            <a:off x="4338720" y="1628640"/>
            <a:ext cx="145728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Calibri"/>
                <a:ea typeface="Arial"/>
              </a:rPr>
              <a:t>CONSTITUCION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Llamada con línea 1 4"/>
          <p:cNvSpPr/>
          <p:nvPr/>
        </p:nvSpPr>
        <p:spPr>
          <a:xfrm>
            <a:off x="2481120" y="2371680"/>
            <a:ext cx="1229040" cy="399960"/>
          </a:xfrm>
          <a:prstGeom prst="borderCallout1">
            <a:avLst>
              <a:gd name="adj1" fmla="val 18750"/>
              <a:gd name="adj2" fmla="val -8333"/>
              <a:gd name="adj3" fmla="val -94638"/>
              <a:gd name="adj4" fmla="val 174162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Calibri"/>
                <a:ea typeface="Arial"/>
              </a:rPr>
              <a:t>TRATADOS, PACTOS, ACUERDOS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MARCO JURID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Picture 2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0" y="532908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rcRect l="26202" t="27320" r="15473" b="13461"/>
          <a:stretch/>
        </p:blipFill>
        <p:spPr>
          <a:xfrm>
            <a:off x="1332000" y="1413000"/>
            <a:ext cx="7624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572314"/>
                </a:solidFill>
                <a:latin typeface="Gill Sans MT"/>
              </a:rPr>
              <a:t>PRECISIONES CONCEPTUALES Y CUESTIONES PREVIAS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58560" y="1125360"/>
            <a:ext cx="74991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Las personas son naturales o jurídica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Las personas jurídicas son de dos especies: corporaciones y fundaciones de beneficencia pública.  La condición es que para que ostenten personalidad jurídica, deberán ser generadas por una ley o aprobadas por el Presidente de la Repúblic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Gill Sans MT"/>
              </a:rPr>
              <a:t>Una segunda precisión necesaria, hace referencia a la clasificación de las organizaciones de derecho privado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8" name="17 Grupo"/>
          <p:cNvGrpSpPr/>
          <p:nvPr/>
        </p:nvGrpSpPr>
        <p:grpSpPr>
          <a:xfrm>
            <a:off x="2771640" y="3213000"/>
            <a:ext cx="5040360" cy="3645000"/>
            <a:chOff x="2771640" y="3213000"/>
            <a:chExt cx="5040360" cy="3645000"/>
          </a:xfrm>
        </p:grpSpPr>
        <p:sp>
          <p:nvSpPr>
            <p:cNvPr id="379" name="30 Rectángulo"/>
            <p:cNvSpPr/>
            <p:nvPr/>
          </p:nvSpPr>
          <p:spPr>
            <a:xfrm>
              <a:off x="2771640" y="3864960"/>
              <a:ext cx="1454400" cy="577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SONAS JURIDICAS DE DERECHO PRIVAD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0" name="31 Rectángulo"/>
            <p:cNvSpPr/>
            <p:nvPr/>
          </p:nvSpPr>
          <p:spPr>
            <a:xfrm>
              <a:off x="4710960" y="3448080"/>
              <a:ext cx="1454400" cy="651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RPORACION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DACIONES SIN FINES DE LUCR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1" name="34 Rectángulo"/>
            <p:cNvSpPr/>
            <p:nvPr/>
          </p:nvSpPr>
          <p:spPr>
            <a:xfrm>
              <a:off x="4710960" y="4271040"/>
              <a:ext cx="1454400" cy="619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EDADES CIVILES Y MERCANTIL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2" name="35 Conector recto"/>
            <p:cNvSpPr/>
            <p:nvPr/>
          </p:nvSpPr>
          <p:spPr>
            <a:xfrm>
              <a:off x="4226040" y="4206960"/>
              <a:ext cx="282600" cy="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3" name="36 Conector recto"/>
            <p:cNvSpPr/>
            <p:nvPr/>
          </p:nvSpPr>
          <p:spPr>
            <a:xfrm>
              <a:off x="4509000" y="3864960"/>
              <a:ext cx="0" cy="73728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84" name="37 Conector recto de flecha"/>
            <p:cNvCxnSpPr/>
            <p:nvPr/>
          </p:nvCxnSpPr>
          <p:spPr>
            <a:xfrm>
              <a:off x="4508640" y="3864600"/>
              <a:ext cx="2026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cxnSp>
          <p:nvCxnSpPr>
            <p:cNvPr id="385" name="38 Conector recto de flecha"/>
            <p:cNvCxnSpPr/>
            <p:nvPr/>
          </p:nvCxnSpPr>
          <p:spPr>
            <a:xfrm>
              <a:off x="4508640" y="4602240"/>
              <a:ext cx="2026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sp>
          <p:nvSpPr>
            <p:cNvPr id="386" name="39 Rectángulo"/>
            <p:cNvSpPr/>
            <p:nvPr/>
          </p:nvSpPr>
          <p:spPr>
            <a:xfrm>
              <a:off x="6499080" y="3213000"/>
              <a:ext cx="1181880" cy="7052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e primero,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egundo y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ercer grad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87" name="40 Conector recto de flecha"/>
            <p:cNvCxnSpPr/>
            <p:nvPr/>
          </p:nvCxnSpPr>
          <p:spPr>
            <a:xfrm flipV="1">
              <a:off x="5872680" y="3618360"/>
              <a:ext cx="677520" cy="11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88" name="41 Conector recto"/>
            <p:cNvSpPr/>
            <p:nvPr/>
          </p:nvSpPr>
          <p:spPr>
            <a:xfrm>
              <a:off x="4377600" y="4206960"/>
              <a:ext cx="0" cy="1197000"/>
            </a:xfrm>
            <a:prstGeom prst="line">
              <a:avLst/>
            </a:prstGeom>
            <a:ln w="9360">
              <a:solidFill>
                <a:srgbClr val="457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89" name="42 Rectángulo"/>
            <p:cNvSpPr/>
            <p:nvPr/>
          </p:nvSpPr>
          <p:spPr>
            <a:xfrm>
              <a:off x="4731120" y="5233320"/>
              <a:ext cx="1767600" cy="1624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tras, que se rigen por leyes especiales, comunas, juntas de agua, juntas de regantes, las de la economía social y solidaria, organizaciones deportivas, culturales, asociaciones de productores, gremio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90" name="43 Conector recto de flecha"/>
            <p:cNvCxnSpPr/>
            <p:nvPr/>
          </p:nvCxnSpPr>
          <p:spPr>
            <a:xfrm>
              <a:off x="4377240" y="5403960"/>
              <a:ext cx="33372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  <p:sp>
          <p:nvSpPr>
            <p:cNvPr id="391" name="44 Rectángulo"/>
            <p:cNvSpPr/>
            <p:nvPr/>
          </p:nvSpPr>
          <p:spPr>
            <a:xfrm>
              <a:off x="6549480" y="4206960"/>
              <a:ext cx="1262520" cy="6840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ectiva, en comandita, o anónim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cxnSp>
          <p:nvCxnSpPr>
            <p:cNvPr id="392" name="45 Conector recto de flecha"/>
            <p:cNvCxnSpPr/>
            <p:nvPr/>
          </p:nvCxnSpPr>
          <p:spPr>
            <a:xfrm>
              <a:off x="6165720" y="4602240"/>
              <a:ext cx="384480" cy="1080"/>
            </a:xfrm>
            <a:prstGeom prst="straightConnector1">
              <a:avLst/>
            </a:prstGeom>
            <a:ln w="9360">
              <a:solidFill>
                <a:srgbClr val="4579b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572314"/>
                </a:solidFill>
                <a:latin typeface="Gill Sans MT"/>
              </a:rPr>
              <a:t>EL CRITERO METODOLOGI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15904" t="29915" r="24564" b="15294"/>
          <a:stretch/>
        </p:blipFill>
        <p:spPr>
          <a:xfrm>
            <a:off x="1008000" y="1700280"/>
            <a:ext cx="79567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72314"/>
                </a:solidFill>
                <a:latin typeface="Gill Sans MT"/>
              </a:rPr>
              <a:t>FUENTES DE INFORMACIÓ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6" name="3 Marcador de contenido" descr=""/>
          <p:cNvPicPr/>
          <p:nvPr/>
        </p:nvPicPr>
        <p:blipFill>
          <a:blip r:embed="rId1"/>
          <a:stretch/>
        </p:blipFill>
        <p:spPr>
          <a:xfrm>
            <a:off x="2189160" y="3243240"/>
            <a:ext cx="6461280" cy="3621240"/>
          </a:xfrm>
          <a:prstGeom prst="rect">
            <a:avLst/>
          </a:prstGeom>
          <a:ln w="0">
            <a:noFill/>
          </a:ln>
        </p:spPr>
      </p:pic>
      <p:pic>
        <p:nvPicPr>
          <p:cNvPr id="397" name="4 Diagrama" descr=""/>
          <p:cNvPicPr/>
          <p:nvPr/>
        </p:nvPicPr>
        <p:blipFill>
          <a:blip r:embed="rId2"/>
          <a:stretch/>
        </p:blipFill>
        <p:spPr>
          <a:xfrm>
            <a:off x="3627360" y="963720"/>
            <a:ext cx="3565440" cy="2065320"/>
          </a:xfrm>
          <a:prstGeom prst="rect">
            <a:avLst/>
          </a:prstGeom>
          <a:ln w="0">
            <a:noFill/>
          </a:ln>
        </p:spPr>
      </p:pic>
      <p:sp>
        <p:nvSpPr>
          <p:cNvPr id="398" name="5 Flecha abajo"/>
          <p:cNvSpPr/>
          <p:nvPr/>
        </p:nvSpPr>
        <p:spPr>
          <a:xfrm>
            <a:off x="5292720" y="2997360"/>
            <a:ext cx="287280" cy="5029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116000" y="1700280"/>
          <a:ext cx="7559640" cy="4195800"/>
        </p:xfrm>
        <a:graphic>
          <a:graphicData uri="http://schemas.openxmlformats.org/drawingml/2006/table">
            <a:tbl>
              <a:tblPr/>
              <a:tblGrid>
                <a:gridCol w="438120"/>
                <a:gridCol w="1865520"/>
                <a:gridCol w="1581120"/>
                <a:gridCol w="1226880"/>
                <a:gridCol w="1297080"/>
                <a:gridCol w="1150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</a:t>
                      </a: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EFICIENTE PRESUPUESTO DEL ESTADO (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FERENCIA DE PROCESO SER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O 2013, 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TIDADES PRIVADAS LOTA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C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lt; 0.000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CUANT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lt;52.218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00002 - 0,00001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CUANTIA – COTIZACION B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.218,54 - 391.6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gt; 0,00001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CITACION/ CONCURSO PUBLICO B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gt;391.639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572314"/>
                </a:solidFill>
                <a:latin typeface="Gill Sans MT"/>
              </a:rPr>
              <a:t>APLICATIVO, 2013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572314"/>
                </a:solidFill>
                <a:latin typeface="Gill Sans MT"/>
              </a:rPr>
              <a:t>EJEMPLO DEL APLICATIVO, 2013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3 Elipse"/>
          <p:cNvSpPr/>
          <p:nvPr/>
        </p:nvSpPr>
        <p:spPr>
          <a:xfrm>
            <a:off x="1042920" y="1557360"/>
            <a:ext cx="1368360" cy="122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203640" y="1700280"/>
          <a:ext cx="4089240" cy="952560"/>
        </p:xfrm>
        <a:graphic>
          <a:graphicData uri="http://schemas.openxmlformats.org/drawingml/2006/table">
            <a:tbl>
              <a:tblPr/>
              <a:tblGrid>
                <a:gridCol w="4089240"/>
              </a:tblGrid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LDEAS INFANTILES SOS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DE SCOUTS DEL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ECUATORIANA DE PRODUCTORES LACTEOS CAPULISPA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OCIACION FE Y ALEGRIA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5 Elipse"/>
          <p:cNvSpPr/>
          <p:nvPr/>
        </p:nvSpPr>
        <p:spPr>
          <a:xfrm>
            <a:off x="1042920" y="3141720"/>
            <a:ext cx="1368360" cy="1224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9 Elipse"/>
          <p:cNvSpPr/>
          <p:nvPr/>
        </p:nvSpPr>
        <p:spPr>
          <a:xfrm>
            <a:off x="1042920" y="4941720"/>
            <a:ext cx="1368360" cy="1224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03640" y="3213000"/>
          <a:ext cx="5616360" cy="100656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NIS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DEN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G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UL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P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R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ERI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ECY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STITU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>
                    <a:lnL w="5760">
                      <a:solidFill>
                        <a:srgbClr val="3891a7"/>
                      </a:solidFill>
                    </a:lnL>
                    <a:lnR w="5760">
                      <a:solidFill>
                        <a:srgbClr val="3891a7"/>
                      </a:solidFill>
                    </a:lnR>
                    <a:lnT w="5760">
                      <a:solidFill>
                        <a:srgbClr val="3891a7"/>
                      </a:solidFill>
                    </a:lnT>
                    <a:lnB w="5760">
                      <a:solidFill>
                        <a:srgbClr val="3891a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12 CuadroTexto"/>
          <p:cNvSpPr/>
          <p:nvPr/>
        </p:nvSpPr>
        <p:spPr>
          <a:xfrm>
            <a:off x="3203640" y="4941720"/>
            <a:ext cx="468144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200" spc="-1" strike="noStrike">
                <a:solidFill>
                  <a:srgbClr val="000000"/>
                </a:solidFill>
                <a:latin typeface="Gill Sans MT"/>
              </a:rPr>
              <a:t>MUESTREO ALEATORIO ESTRATIFICADO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mediante el análisis del número de instituciones por sector estratégico para 5.457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Gill Sans MT"/>
              </a:rPr>
              <a:t>E=10%, nivel de confianza 95%= 94 instituciones que PODRÍAN ser analizada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300" spc="-1" strike="noStrike">
                <a:solidFill>
                  <a:srgbClr val="572314"/>
                </a:solidFill>
                <a:latin typeface="Gill Sans MT"/>
              </a:rPr>
              <a:t>PUNTOS A CONSIDERA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9" name="3 Marcador de contenido" descr=""/>
          <p:cNvPicPr/>
          <p:nvPr/>
        </p:nvPicPr>
        <p:blipFill>
          <a:blip r:embed="rId1"/>
          <a:stretch/>
        </p:blipFill>
        <p:spPr>
          <a:xfrm>
            <a:off x="1414440" y="1432080"/>
            <a:ext cx="7540560" cy="4835520"/>
          </a:xfrm>
          <a:prstGeom prst="rect">
            <a:avLst/>
          </a:prstGeom>
          <a:ln w="0">
            <a:noFill/>
          </a:ln>
        </p:spPr>
      </p:pic>
      <p:sp>
        <p:nvSpPr>
          <p:cNvPr id="410" name="4 Flecha curvada hacia la derecha"/>
          <p:cNvSpPr/>
          <p:nvPr/>
        </p:nvSpPr>
        <p:spPr>
          <a:xfrm>
            <a:off x="1763640" y="2997360"/>
            <a:ext cx="1513080" cy="1655640"/>
          </a:xfrm>
          <a:custGeom>
            <a:avLst/>
            <a:gdLst>
              <a:gd name="textAreaLeft" fmla="*/ 202680 w 1513080"/>
              <a:gd name="textAreaRight" fmla="*/ 1310400 w 1513080"/>
              <a:gd name="textAreaTop" fmla="*/ 272160 h 1655640"/>
              <a:gd name="textAreaBottom" fmla="*/ 119448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02" stAng="-5400000" swAng="-5400000"/>
                <a:lnTo>
                  <a:pt x="0" y="12033"/>
                </a:lnTo>
                <a:arcTo wR="21600" hR="7102" stAng="10800000" swAng="-3111478"/>
                <a:lnTo>
                  <a:pt x="16200" y="21374"/>
                </a:lnTo>
                <a:lnTo>
                  <a:pt x="21600" y="16670"/>
                </a:lnTo>
                <a:lnTo>
                  <a:pt x="16200" y="11513"/>
                </a:lnTo>
                <a:lnTo>
                  <a:pt x="16200" y="13978"/>
                </a:lnTo>
                <a:arcTo wR="21600" hR="7102" stAng="7688522" swAng="2695107"/>
                <a:lnTo>
                  <a:pt x="1343" y="9568"/>
                </a:lnTo>
                <a:arcTo wR="21600" hR="7102" stAng="-10383629" swAng="4983629"/>
                <a:close/>
              </a:path>
              <a:path fill="darkenLess" w="21600" h="21600">
                <a:moveTo>
                  <a:pt x="21600" y="0"/>
                </a:moveTo>
                <a:arcTo wR="21600" hR="7102" stAng="-5400000" swAng="-5400000"/>
                <a:lnTo>
                  <a:pt x="0" y="7102"/>
                </a:lnTo>
                <a:arcTo wR="21600" hR="7102" stAng="10800000" swAng="-416371"/>
                <a:lnTo>
                  <a:pt x="1343" y="9568"/>
                </a:lnTo>
                <a:arcTo wR="21600" hR="7102" stAng="-10383629" swAng="4983629"/>
                <a:close/>
              </a:path>
            </a:pathLst>
          </a:cu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5 Flecha curvada hacia la izquierda"/>
          <p:cNvSpPr/>
          <p:nvPr/>
        </p:nvSpPr>
        <p:spPr>
          <a:xfrm>
            <a:off x="7164360" y="3068640"/>
            <a:ext cx="1511280" cy="16556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272160 h 1655640"/>
              <a:gd name="textAreaBottom" fmla="*/ 11944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02" stAng="-5400000" swAng="5400000"/>
                <a:lnTo>
                  <a:pt x="21600" y="12033"/>
                </a:lnTo>
                <a:arcTo wR="21600" hR="7102" stAng="0" swAng="3111478"/>
                <a:lnTo>
                  <a:pt x="5400" y="21374"/>
                </a:lnTo>
                <a:lnTo>
                  <a:pt x="0" y="16670"/>
                </a:lnTo>
                <a:lnTo>
                  <a:pt x="5400" y="11513"/>
                </a:lnTo>
                <a:lnTo>
                  <a:pt x="5400" y="13978"/>
                </a:lnTo>
                <a:arcTo wR="21600" hR="7102" stAng="3111478" swAng="-2695107"/>
                <a:lnTo>
                  <a:pt x="20257" y="9568"/>
                </a:lnTo>
                <a:arcTo wR="21600" hR="7102" stAng="-416371" swAng="-4983629"/>
                <a:close/>
              </a:path>
              <a:path fill="darkenLess" w="21600" h="21600">
                <a:moveTo>
                  <a:pt x="0" y="0"/>
                </a:moveTo>
                <a:arcTo wR="21600" hR="7102" stAng="-5400000" swAng="5400000"/>
                <a:lnTo>
                  <a:pt x="21600" y="12033"/>
                </a:lnTo>
                <a:arcTo wR="21600" hR="7102" stAng="0" swAng="-416371"/>
                <a:lnTo>
                  <a:pt x="20257" y="9568"/>
                </a:lnTo>
                <a:arcTo wR="21600" hR="7102" stAng="-416371" swAng="-4983629"/>
                <a:close/>
              </a:path>
            </a:pathLst>
          </a:cu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0:31:34Z</dcterms:created>
  <dc:creator>CEPEDA CORP</dc:creator>
  <dc:description/>
  <dc:language>en-US</dc:language>
  <cp:lastModifiedBy> CEDDET</cp:lastModifiedBy>
  <dcterms:modified xsi:type="dcterms:W3CDTF">2014-08-05T11:11:27Z</dcterms:modified>
  <cp:revision>29</cp:revision>
  <dc:subject/>
  <dc:title>Metodología, justificativos y herramientas que permitan identificar el universo de entidades privadas que manejen fondos públicos o posean información pública.</dc:title>
</cp:coreProperties>
</file>