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CA04-7209-4876-8CC4-388914F8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3251-4A45-401F-ABE7-5BD625CC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ADF8-007A-4452-A87F-BEAE4BC5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DAF3-8AC0-4C33-9782-17FC4D3B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7B68-1EB7-4C8E-9037-66522420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B6F7-64F1-4503-9D7D-0120477C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D9D8-EA74-4FBD-9F86-715812F0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C7E5-4B29-4757-8ABF-6E0D0D02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13CE-91A0-4324-8984-09B85C93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D245-EA33-4414-A5B3-503FC374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3FD4-F41A-4692-A43B-2669B0E8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5DCE-9C55-4851-AB45-CC90375A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02FF-A1A1-48B1-93B0-779E51C7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7ACE-C626-4669-8B89-C98C187D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0D66-4F82-4A76-A0C9-2CB1ADF8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77FD-D7BB-41F2-BD07-2A472AD4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97C2-CFBF-4B47-B459-524D987D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5EF6A-97FF-4BC4-81A0-CE877CFF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CEACB-FB95-4CC7-9279-4E018FE1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8BCF7-30AF-4CD7-8EF9-FD18241E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C4992-EF59-4F12-A93B-D7E322EA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3E99B-E7A4-4482-BB0D-128BFB8E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A34F-FC92-4BBA-ABAD-270F0FA4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942C8-F4C4-4DAB-BA63-98603175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B6724-BB69-4749-96B0-941FAEF8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74479-EBD7-4752-A63C-EBAD4D60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748D6-A8FE-4453-9272-8DA4EEB2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A7BA8-D80B-4B7B-B676-5D061D25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07FFE-DBB8-460B-9CA5-6CD1A27F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25B43-31A8-4793-8E7A-5326E3A2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2DB6A-ABEA-4A70-8960-24B2E8AA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0DFEF-3AAF-4D5A-8F75-9A045D99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62D0C-D1EE-45A8-8DC6-AE23FB9F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7AC4-AE90-4B5E-8EF2-D72D1191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EA92F-13B4-446E-B486-A052B836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A10EB-D512-45BA-B198-8326F552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5CDC9-9B26-4308-AF9C-7CA2FE59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58605-08F0-4CB7-875F-B832F65E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1C9EA-3CEE-4F21-8FC1-6C5EA4C2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4566F-0943-4206-B982-33F360AE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7C241-BB92-4DD9-879D-2245E097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CFF32-A75C-4E59-AC88-434A36C2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BC024-DD1C-4D0B-93B8-3A806ACE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055B5-207C-48BE-99FB-E3F4EBFE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A5DE-9E1A-4433-9602-70DD2912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50FD5-A5CC-4885-8837-9BA01DB0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03857-C4D3-409B-955E-198F323B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C0FD3-711E-4560-91CD-6B348654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66F18-B3D8-45CB-B045-4C27557A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A7A30-F8AE-4B8A-8573-AE0FB6A8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3F8C3-9858-48D5-B41E-3F6C828F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30A89-181D-4F94-ABA6-78A481CC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4C922-6CB9-41FA-9D7C-8D74E72A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2784B-8B40-4B15-8341-14E89DAA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DDDE7-8EFB-4C76-87E4-8FC70A1A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48B6-2B30-4411-A1D9-468B9DF0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12830-6662-43C7-B326-1673488B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04690-3EB3-45DB-B306-6A185AD3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DD56D-198C-4788-8327-944AC06F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4C32D-F576-46AF-B7F2-97A260F3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201E9-26AF-413F-8E5B-19664C48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62A3C-881E-4BE5-9641-B707D7FB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0C335-566B-4900-ABDD-A08D3491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D68B4-FC46-4836-A63A-8BAB7C2C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2757F-658E-4838-B340-040EB62A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1638B-498C-4608-9907-C002A598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C132-2B39-4051-BA1F-EBFA2A32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5E732-C3D6-477C-8111-1E1AD64C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AE95E-A34A-4D5F-9560-5645B6A9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A2E01-496E-4647-B1BE-564F0A80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D4C5F-404F-402C-8BFC-A172E8FF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394C1-7BD6-479F-BEE6-DF4AFFD3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E6723-16AA-4337-80FB-6A425C38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5AC48-2B78-4DA7-8597-B8FCE943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E0A40-DAE4-4B52-864E-D3F922D8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EE612-FAA8-4EF0-A273-9EE5428C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208D0-820F-46D6-9171-DDB4CC15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9EC8-CC4B-4A25-B6E4-B38995B7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CC874-024F-4F41-8C28-A7D5AA44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8EB9B-0951-4B46-AD89-71D28D4E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5BBA2-D5DD-4853-8F47-CDCFE312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052B4-D1DA-481C-A9E9-0602D1E6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2997F-EC59-4A81-A45F-C8019596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90588-F448-4BC4-8EB9-DB24F00E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BE1B6-9141-40C3-B8A5-60A069E1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FBA44-72C3-44A1-8E62-78082D56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BADCA-1DFD-4B8F-BB35-8A0919D9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0E31E-B8C0-4917-ABB9-9D2991B2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1D35-DDCE-44D1-9C77-90797F13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F7D1E-62E9-4C77-89C5-877C1B2A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E4A49-4EF4-4030-981F-0C016FD1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F3FD6-1C46-4131-9773-6EF7D289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9B073-79F7-4D39-9DF6-B95E6C82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21BBF-3591-459C-8F71-7280022F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173A7-A893-4251-9792-90241417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A0717-FB91-4E93-BF27-D36AA5B0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D1B8-6AD1-4721-BD8B-B523AA68DF4F}" type="slidenum"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5FA7-4145-4B22-A355-2A2687A45778}" type="slidenum"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951360" y="63050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1028520" y="63082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DR. MAURICIO TRUJILL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4F51-3971-4210-8539-A0BE2FE7ADD2}" type="slidenum"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36BA-C01D-45F5-AA81-91952B2FF92D}" type="slidenum"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142C-0873-43E1-B7C8-2B6E33D20667}" type="slidenum"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21AE-2914-4B20-8009-80EC70539A8E}" type="slidenum"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0E96-F223-4F0E-A855-D9409A0CD369}" type="slidenum"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21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23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E557-C1D1-45F8-9760-CA3C0117CD66}" type="slidenum"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47640" y="4149360"/>
            <a:ext cx="66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572314"/>
                </a:solidFill>
                <a:latin typeface="Gill Sans MT"/>
              </a:rPr>
              <a:t>METODOLOGÍA, JUSTIFICATIVOS Y HERRAMIENTAS QUE PERMITAN IDENTIFICAR EL UNIVERSO DE ENTIDADES PRIVADAS QUE MANEJEN FONDOS PÚBLICOS O POSEAN INFORMACIÓN PÚBLICA.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8" name="4 Imagen" descr="descarga.jpg"/>
          <p:cNvPicPr/>
          <p:nvPr/>
        </p:nvPicPr>
        <p:blipFill>
          <a:blip r:embed="rId1"/>
          <a:stretch/>
        </p:blipFill>
        <p:spPr>
          <a:xfrm>
            <a:off x="2843280" y="907920"/>
            <a:ext cx="40114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572314"/>
                </a:solidFill>
                <a:latin typeface="Gill Sans MT"/>
              </a:rPr>
              <a:t>MARCO JURIDICO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0" name="3 Marcador de contenido" descr=""/>
          <p:cNvPicPr/>
          <p:nvPr/>
        </p:nvPicPr>
        <p:blipFill>
          <a:blip r:embed="rId1"/>
          <a:stretch/>
        </p:blipFill>
        <p:spPr>
          <a:xfrm>
            <a:off x="1352520" y="1395360"/>
            <a:ext cx="7658280" cy="4956120"/>
          </a:xfrm>
          <a:prstGeom prst="rect">
            <a:avLst/>
          </a:prstGeom>
          <a:ln w="0">
            <a:noFill/>
          </a:ln>
        </p:spPr>
      </p:pic>
      <p:sp>
        <p:nvSpPr>
          <p:cNvPr id="371" name="Cuadro de texto 5"/>
          <p:cNvSpPr/>
          <p:nvPr/>
        </p:nvSpPr>
        <p:spPr>
          <a:xfrm>
            <a:off x="4338720" y="1628640"/>
            <a:ext cx="145728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Calibri"/>
                <a:ea typeface="Arial"/>
              </a:rPr>
              <a:t>CONSTITUCION</a:t>
            </a: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Llamada con línea 1 4"/>
          <p:cNvSpPr/>
          <p:nvPr/>
        </p:nvSpPr>
        <p:spPr>
          <a:xfrm>
            <a:off x="2481120" y="2371680"/>
            <a:ext cx="1229040" cy="399960"/>
          </a:xfrm>
          <a:prstGeom prst="borderCallout1">
            <a:avLst>
              <a:gd name="adj1" fmla="val 18750"/>
              <a:gd name="adj2" fmla="val -8333"/>
              <a:gd name="adj3" fmla="val -94638"/>
              <a:gd name="adj4" fmla="val 174162"/>
            </a:avLst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Calibri"/>
                <a:ea typeface="Arial"/>
              </a:rPr>
              <a:t>TRATADOS, PACTOS, ACUERDOS</a:t>
            </a: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572314"/>
                </a:solidFill>
                <a:latin typeface="Gill Sans MT"/>
              </a:rPr>
              <a:t>MARCO JURIDICO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4" name="Picture 2" descr="C:\Program Files\Microsoft Office\MEDIA\CAGCAT10\j0300840.wmf"/>
          <p:cNvPicPr/>
          <p:nvPr/>
        </p:nvPicPr>
        <p:blipFill>
          <a:blip r:embed="rId1"/>
          <a:stretch/>
        </p:blipFill>
        <p:spPr>
          <a:xfrm>
            <a:off x="0" y="5329080"/>
            <a:ext cx="1814400" cy="15289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2"/>
          <a:srcRect l="26202" t="27320" r="15473" b="13461"/>
          <a:stretch/>
        </p:blipFill>
        <p:spPr>
          <a:xfrm>
            <a:off x="1332000" y="1413000"/>
            <a:ext cx="7624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572314"/>
                </a:solidFill>
                <a:latin typeface="Gill Sans MT"/>
              </a:rPr>
              <a:t>PRECISIONES CONCEPTUALES Y CUESTIONES PREVIAS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258560" y="1125360"/>
            <a:ext cx="74991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Gill Sans MT"/>
              </a:rPr>
              <a:t>Las personas son naturales o jurídicas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Gill Sans MT"/>
              </a:rPr>
              <a:t>Las personas jurídicas son de dos especies: corporaciones y fundaciones de beneficencia pública.  La condición es que para que ostenten personalidad jurídica, deberán ser generadas por una ley o aprobadas por el Presidente de la Repúblic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Gill Sans MT"/>
              </a:rPr>
              <a:t>Una segunda precisión necesaria, hace referencia a la clasificación de las organizaciones de derecho privado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78" name="17 Grupo"/>
          <p:cNvGrpSpPr/>
          <p:nvPr/>
        </p:nvGrpSpPr>
        <p:grpSpPr>
          <a:xfrm>
            <a:off x="2771640" y="3213000"/>
            <a:ext cx="5040360" cy="3645000"/>
            <a:chOff x="2771640" y="3213000"/>
            <a:chExt cx="5040360" cy="3645000"/>
          </a:xfrm>
        </p:grpSpPr>
        <p:sp>
          <p:nvSpPr>
            <p:cNvPr id="379" name="30 Rectángulo"/>
            <p:cNvSpPr/>
            <p:nvPr/>
          </p:nvSpPr>
          <p:spPr>
            <a:xfrm>
              <a:off x="2771640" y="3864960"/>
              <a:ext cx="1454400" cy="577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243f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ERSONAS JURIDICAS DE DERECHO PRIVADO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80" name="31 Rectángulo"/>
            <p:cNvSpPr/>
            <p:nvPr/>
          </p:nvSpPr>
          <p:spPr>
            <a:xfrm>
              <a:off x="4710960" y="3448080"/>
              <a:ext cx="1454400" cy="6519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243f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RPORACIONES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DACIONES SIN FINES DE LUCRO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81" name="34 Rectángulo"/>
            <p:cNvSpPr/>
            <p:nvPr/>
          </p:nvSpPr>
          <p:spPr>
            <a:xfrm>
              <a:off x="4710960" y="4271040"/>
              <a:ext cx="1454400" cy="619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243f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OCIEDADES CIVILES Y MERCANTILES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82" name="35 Conector recto"/>
            <p:cNvSpPr/>
            <p:nvPr/>
          </p:nvSpPr>
          <p:spPr>
            <a:xfrm>
              <a:off x="4226040" y="4206960"/>
              <a:ext cx="282600" cy="0"/>
            </a:xfrm>
            <a:prstGeom prst="line">
              <a:avLst/>
            </a:prstGeom>
            <a:ln w="9360">
              <a:solidFill>
                <a:srgbClr val="457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83" name="36 Conector recto"/>
            <p:cNvSpPr/>
            <p:nvPr/>
          </p:nvSpPr>
          <p:spPr>
            <a:xfrm>
              <a:off x="4509000" y="3864960"/>
              <a:ext cx="0" cy="737280"/>
            </a:xfrm>
            <a:prstGeom prst="line">
              <a:avLst/>
            </a:prstGeom>
            <a:ln w="9360">
              <a:solidFill>
                <a:srgbClr val="457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cxnSp>
          <p:nvCxnSpPr>
            <p:cNvPr id="384" name="37 Conector recto de flecha"/>
            <p:cNvCxnSpPr/>
            <p:nvPr/>
          </p:nvCxnSpPr>
          <p:spPr>
            <a:xfrm>
              <a:off x="4508640" y="3864600"/>
              <a:ext cx="202680" cy="1080"/>
            </a:xfrm>
            <a:prstGeom prst="straightConnector1">
              <a:avLst/>
            </a:prstGeom>
            <a:ln w="9360">
              <a:solidFill>
                <a:srgbClr val="4579b8"/>
              </a:solidFill>
              <a:miter/>
              <a:tailEnd len="med" type="arrow" w="med"/>
            </a:ln>
          </p:spPr>
        </p:cxnSp>
        <p:cxnSp>
          <p:nvCxnSpPr>
            <p:cNvPr id="385" name="38 Conector recto de flecha"/>
            <p:cNvCxnSpPr/>
            <p:nvPr/>
          </p:nvCxnSpPr>
          <p:spPr>
            <a:xfrm>
              <a:off x="4508640" y="4602240"/>
              <a:ext cx="202680" cy="1080"/>
            </a:xfrm>
            <a:prstGeom prst="straightConnector1">
              <a:avLst/>
            </a:prstGeom>
            <a:ln w="9360">
              <a:solidFill>
                <a:srgbClr val="4579b8"/>
              </a:solidFill>
              <a:miter/>
              <a:tailEnd len="med" type="arrow" w="med"/>
            </a:ln>
          </p:spPr>
        </p:cxnSp>
        <p:sp>
          <p:nvSpPr>
            <p:cNvPr id="386" name="39 Rectángulo"/>
            <p:cNvSpPr/>
            <p:nvPr/>
          </p:nvSpPr>
          <p:spPr>
            <a:xfrm>
              <a:off x="6499080" y="3213000"/>
              <a:ext cx="1181880" cy="7052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243f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e primero,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gundo y 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ercer grado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cxnSp>
          <p:nvCxnSpPr>
            <p:cNvPr id="387" name="40 Conector recto de flecha"/>
            <p:cNvCxnSpPr/>
            <p:nvPr/>
          </p:nvCxnSpPr>
          <p:spPr>
            <a:xfrm flipV="1">
              <a:off x="5872680" y="3618360"/>
              <a:ext cx="677520" cy="111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388" name="41 Conector recto"/>
            <p:cNvSpPr/>
            <p:nvPr/>
          </p:nvSpPr>
          <p:spPr>
            <a:xfrm>
              <a:off x="4377600" y="4206960"/>
              <a:ext cx="0" cy="1197000"/>
            </a:xfrm>
            <a:prstGeom prst="line">
              <a:avLst/>
            </a:prstGeom>
            <a:ln w="9360">
              <a:solidFill>
                <a:srgbClr val="457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89" name="42 Rectángulo"/>
            <p:cNvSpPr/>
            <p:nvPr/>
          </p:nvSpPr>
          <p:spPr>
            <a:xfrm>
              <a:off x="4731120" y="5233320"/>
              <a:ext cx="1767600" cy="16246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243f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tras, que se rigen por leyes especiales, comunas, juntas de agua, juntas de regantes, las de la economía social y solidaria, organizaciones deportivas, culturales, asociaciones de productores, gremios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cxnSp>
          <p:nvCxnSpPr>
            <p:cNvPr id="390" name="43 Conector recto de flecha"/>
            <p:cNvCxnSpPr/>
            <p:nvPr/>
          </p:nvCxnSpPr>
          <p:spPr>
            <a:xfrm>
              <a:off x="4377240" y="5403960"/>
              <a:ext cx="333720" cy="1080"/>
            </a:xfrm>
            <a:prstGeom prst="straightConnector1">
              <a:avLst/>
            </a:prstGeom>
            <a:ln w="9360">
              <a:solidFill>
                <a:srgbClr val="4579b8"/>
              </a:solidFill>
              <a:miter/>
              <a:tailEnd len="med" type="arrow" w="med"/>
            </a:ln>
          </p:spPr>
        </p:cxnSp>
        <p:sp>
          <p:nvSpPr>
            <p:cNvPr id="391" name="44 Rectángulo"/>
            <p:cNvSpPr/>
            <p:nvPr/>
          </p:nvSpPr>
          <p:spPr>
            <a:xfrm>
              <a:off x="6549480" y="4206960"/>
              <a:ext cx="1262520" cy="6840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243f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lectiva, en comandita, o anónima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cxnSp>
          <p:nvCxnSpPr>
            <p:cNvPr id="392" name="45 Conector recto de flecha"/>
            <p:cNvCxnSpPr/>
            <p:nvPr/>
          </p:nvCxnSpPr>
          <p:spPr>
            <a:xfrm>
              <a:off x="6165720" y="4602240"/>
              <a:ext cx="384480" cy="1080"/>
            </a:xfrm>
            <a:prstGeom prst="straightConnector1">
              <a:avLst/>
            </a:prstGeom>
            <a:ln w="9360">
              <a:solidFill>
                <a:srgbClr val="4579b8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572314"/>
                </a:solidFill>
                <a:latin typeface="Gill Sans MT"/>
              </a:rPr>
              <a:t>EL CRITERO METODOLOGICO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rcRect l="15904" t="29915" r="24564" b="15294"/>
          <a:stretch/>
        </p:blipFill>
        <p:spPr>
          <a:xfrm>
            <a:off x="1008000" y="1700280"/>
            <a:ext cx="79567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572314"/>
                </a:solidFill>
                <a:latin typeface="Gill Sans MT"/>
              </a:rPr>
              <a:t>FUENTES DE INFORMACIÓ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6" name="3 Marcador de contenido" descr=""/>
          <p:cNvPicPr/>
          <p:nvPr/>
        </p:nvPicPr>
        <p:blipFill>
          <a:blip r:embed="rId1"/>
          <a:stretch/>
        </p:blipFill>
        <p:spPr>
          <a:xfrm>
            <a:off x="2189160" y="3243240"/>
            <a:ext cx="6461280" cy="3621240"/>
          </a:xfrm>
          <a:prstGeom prst="rect">
            <a:avLst/>
          </a:prstGeom>
          <a:ln w="0">
            <a:noFill/>
          </a:ln>
        </p:spPr>
      </p:pic>
      <p:pic>
        <p:nvPicPr>
          <p:cNvPr id="397" name="4 Diagrama" descr=""/>
          <p:cNvPicPr/>
          <p:nvPr/>
        </p:nvPicPr>
        <p:blipFill>
          <a:blip r:embed="rId2"/>
          <a:stretch/>
        </p:blipFill>
        <p:spPr>
          <a:xfrm>
            <a:off x="3627360" y="963720"/>
            <a:ext cx="3565440" cy="2065320"/>
          </a:xfrm>
          <a:prstGeom prst="rect">
            <a:avLst/>
          </a:prstGeom>
          <a:ln w="0">
            <a:noFill/>
          </a:ln>
        </p:spPr>
      </p:pic>
      <p:sp>
        <p:nvSpPr>
          <p:cNvPr id="398" name="5 Flecha abajo"/>
          <p:cNvSpPr/>
          <p:nvPr/>
        </p:nvSpPr>
        <p:spPr>
          <a:xfrm>
            <a:off x="5292720" y="2997360"/>
            <a:ext cx="287280" cy="50292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1116000" y="1700280"/>
          <a:ext cx="7559640" cy="4195800"/>
        </p:xfrm>
        <a:graphic>
          <a:graphicData uri="http://schemas.openxmlformats.org/drawingml/2006/table">
            <a:tbl>
              <a:tblPr/>
              <a:tblGrid>
                <a:gridCol w="438120"/>
                <a:gridCol w="1865520"/>
                <a:gridCol w="1581120"/>
                <a:gridCol w="1226880"/>
                <a:gridCol w="1297080"/>
                <a:gridCol w="11509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C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</a:t>
                      </a:r>
                      <a:r>
                        <a:rPr b="1" lang="es-EC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EFICIENTE PRESUPUESTO DEL ESTADO (P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C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FERENCIA DE PROCESO SERC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C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ONTO 2013, U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C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ENTIDADES PRIVADAS LOTA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C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&lt; 0.000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NOR CUANT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&lt;52.218,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4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6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000002 - 0,000015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NOR CUANTIA – COTIZACION B/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2.218,54 - 391.639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8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&gt; 0,000015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ICITACION/ CONCURSO PUBLICO B/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&gt;391.639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6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572314"/>
                </a:solidFill>
                <a:latin typeface="Gill Sans MT"/>
              </a:rPr>
              <a:t>APLICATIVO, 2013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900" spc="-1" strike="noStrike">
                <a:solidFill>
                  <a:srgbClr val="572314"/>
                </a:solidFill>
                <a:latin typeface="Gill Sans MT"/>
              </a:rPr>
              <a:t>EJEMPLO DEL APLICATIVO, 2013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3 Elipse"/>
          <p:cNvSpPr/>
          <p:nvPr/>
        </p:nvSpPr>
        <p:spPr>
          <a:xfrm>
            <a:off x="1042920" y="1557360"/>
            <a:ext cx="1368360" cy="122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3203640" y="1700280"/>
          <a:ext cx="4089240" cy="952560"/>
        </p:xfrm>
        <a:graphic>
          <a:graphicData uri="http://schemas.openxmlformats.org/drawingml/2006/table">
            <a:tbl>
              <a:tblPr/>
              <a:tblGrid>
                <a:gridCol w="4089240"/>
              </a:tblGrid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LDEAS INFANTILES SOS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SOCIACION DE SCOUTS DEL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SOCIACION ECUATORIANA DE PRODUCTORES LACTEOS CAPULISPAM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SOCIACION FE Y ALEGRIA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5 Elipse"/>
          <p:cNvSpPr/>
          <p:nvPr/>
        </p:nvSpPr>
        <p:spPr>
          <a:xfrm>
            <a:off x="1042920" y="3141720"/>
            <a:ext cx="1368360" cy="1224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9 Elipse"/>
          <p:cNvSpPr/>
          <p:nvPr/>
        </p:nvSpPr>
        <p:spPr>
          <a:xfrm>
            <a:off x="1042920" y="4941720"/>
            <a:ext cx="1368360" cy="1224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203640" y="3213000"/>
          <a:ext cx="5616360" cy="1006560"/>
        </p:xfrm>
        <a:graphic>
          <a:graphicData uri="http://schemas.openxmlformats.org/drawingml/2006/table">
            <a:tbl>
              <a:tblPr/>
              <a:tblGrid>
                <a:gridCol w="431640"/>
                <a:gridCol w="432000"/>
                <a:gridCol w="433440"/>
                <a:gridCol w="431640"/>
                <a:gridCol w="431640"/>
                <a:gridCol w="432000"/>
                <a:gridCol w="431640"/>
                <a:gridCol w="432000"/>
                <a:gridCol w="433440"/>
                <a:gridCol w="431640"/>
                <a:gridCol w="432000"/>
                <a:gridCol w="431640"/>
                <a:gridCol w="431640"/>
              </a:tblGrid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NISTE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DEN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GA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UL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P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R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S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ERI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NECY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NAG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STITU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12 CuadroTexto"/>
          <p:cNvSpPr/>
          <p:nvPr/>
        </p:nvSpPr>
        <p:spPr>
          <a:xfrm>
            <a:off x="3203640" y="4941720"/>
            <a:ext cx="4681440" cy="11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200" spc="-1" strike="noStrike">
                <a:solidFill>
                  <a:srgbClr val="000000"/>
                </a:solidFill>
                <a:latin typeface="Gill Sans MT"/>
              </a:rPr>
              <a:t>MUESTREO ALEATORIO ESTRATIFICADO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C" sz="1200" spc="-1" strike="noStrike">
                <a:solidFill>
                  <a:srgbClr val="000000"/>
                </a:solidFill>
                <a:latin typeface="Gill Sans MT"/>
              </a:rPr>
              <a:t>mediante el análisis del número de instituciones por sector estratégico para 5.457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Gill Sans MT"/>
              </a:rPr>
              <a:t>E=10%, nivel de confianza 95%= 94 instituciones que PODRÍAN ser analizadas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300" spc="-1" strike="noStrike">
                <a:solidFill>
                  <a:srgbClr val="572314"/>
                </a:solidFill>
                <a:latin typeface="Gill Sans MT"/>
              </a:rPr>
              <a:t>PUNTOS A CONSIDERA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09" name="3 Marcador de contenido" descr=""/>
          <p:cNvPicPr/>
          <p:nvPr/>
        </p:nvPicPr>
        <p:blipFill>
          <a:blip r:embed="rId1"/>
          <a:stretch/>
        </p:blipFill>
        <p:spPr>
          <a:xfrm>
            <a:off x="1414440" y="1432080"/>
            <a:ext cx="7540560" cy="4835520"/>
          </a:xfrm>
          <a:prstGeom prst="rect">
            <a:avLst/>
          </a:prstGeom>
          <a:ln w="0">
            <a:noFill/>
          </a:ln>
        </p:spPr>
      </p:pic>
      <p:sp>
        <p:nvSpPr>
          <p:cNvPr id="410" name="4 Flecha curvada hacia la derecha"/>
          <p:cNvSpPr/>
          <p:nvPr/>
        </p:nvSpPr>
        <p:spPr>
          <a:xfrm>
            <a:off x="1763640" y="2997360"/>
            <a:ext cx="1513080" cy="1655640"/>
          </a:xfrm>
          <a:custGeom>
            <a:avLst/>
            <a:gdLst>
              <a:gd name="textAreaLeft" fmla="*/ 202680 w 1513080"/>
              <a:gd name="textAreaRight" fmla="*/ 1310400 w 1513080"/>
              <a:gd name="textAreaTop" fmla="*/ 272160 h 1655640"/>
              <a:gd name="textAreaBottom" fmla="*/ 119448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02" stAng="-5400000" swAng="-5400000"/>
                <a:lnTo>
                  <a:pt x="0" y="12033"/>
                </a:lnTo>
                <a:arcTo wR="21600" hR="7102" stAng="10800000" swAng="-3111478"/>
                <a:lnTo>
                  <a:pt x="16200" y="21374"/>
                </a:lnTo>
                <a:lnTo>
                  <a:pt x="21600" y="16670"/>
                </a:lnTo>
                <a:lnTo>
                  <a:pt x="16200" y="11513"/>
                </a:lnTo>
                <a:lnTo>
                  <a:pt x="16200" y="13978"/>
                </a:lnTo>
                <a:arcTo wR="21600" hR="7102" stAng="7688522" swAng="2695107"/>
                <a:lnTo>
                  <a:pt x="1343" y="9568"/>
                </a:lnTo>
                <a:arcTo wR="21600" hR="7102" stAng="-10383629" swAng="4983629"/>
                <a:close/>
              </a:path>
              <a:path fill="darkenLess" w="21600" h="21600">
                <a:moveTo>
                  <a:pt x="21600" y="0"/>
                </a:moveTo>
                <a:arcTo wR="21600" hR="7102" stAng="-5400000" swAng="-5400000"/>
                <a:lnTo>
                  <a:pt x="0" y="7102"/>
                </a:lnTo>
                <a:arcTo wR="21600" hR="7102" stAng="10800000" swAng="-416371"/>
                <a:lnTo>
                  <a:pt x="1343" y="9568"/>
                </a:lnTo>
                <a:arcTo wR="21600" hR="7102" stAng="-10383629" swAng="4983629"/>
                <a:close/>
              </a:path>
            </a:pathLst>
          </a:custGeom>
          <a:solidFill>
            <a:srgbClr val="ffffff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5 Flecha curvada hacia la izquierda"/>
          <p:cNvSpPr/>
          <p:nvPr/>
        </p:nvSpPr>
        <p:spPr>
          <a:xfrm>
            <a:off x="7164360" y="3068640"/>
            <a:ext cx="1511280" cy="16556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272160 h 1655640"/>
              <a:gd name="textAreaBottom" fmla="*/ 119448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02" stAng="-5400000" swAng="5400000"/>
                <a:lnTo>
                  <a:pt x="21600" y="12033"/>
                </a:lnTo>
                <a:arcTo wR="21600" hR="7102" stAng="0" swAng="3111478"/>
                <a:lnTo>
                  <a:pt x="5400" y="21374"/>
                </a:lnTo>
                <a:lnTo>
                  <a:pt x="0" y="16670"/>
                </a:lnTo>
                <a:lnTo>
                  <a:pt x="5400" y="11513"/>
                </a:lnTo>
                <a:lnTo>
                  <a:pt x="5400" y="13978"/>
                </a:lnTo>
                <a:arcTo wR="21600" hR="7102" stAng="3111478" swAng="-2695107"/>
                <a:lnTo>
                  <a:pt x="20257" y="9568"/>
                </a:lnTo>
                <a:arcTo wR="21600" hR="7102" stAng="-416371" swAng="-4983629"/>
                <a:close/>
              </a:path>
              <a:path fill="darkenLess" w="21600" h="21600">
                <a:moveTo>
                  <a:pt x="0" y="0"/>
                </a:moveTo>
                <a:arcTo wR="21600" hR="7102" stAng="-5400000" swAng="5400000"/>
                <a:lnTo>
                  <a:pt x="21600" y="12033"/>
                </a:lnTo>
                <a:arcTo wR="21600" hR="7102" stAng="0" swAng="-416371"/>
                <a:lnTo>
                  <a:pt x="20257" y="9568"/>
                </a:lnTo>
                <a:arcTo wR="21600" hR="7102" stAng="-416371" swAng="-4983629"/>
                <a:close/>
              </a:path>
            </a:pathLst>
          </a:custGeom>
          <a:solidFill>
            <a:srgbClr val="ffffff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1T00:31:34Z</dcterms:created>
  <dc:creator>CEPEDA CORP</dc:creator>
  <dc:description/>
  <dc:language>en-US</dc:language>
  <cp:lastModifiedBy> CEDDET</cp:lastModifiedBy>
  <dcterms:modified xsi:type="dcterms:W3CDTF">2014-08-05T11:11:27Z</dcterms:modified>
  <cp:revision>29</cp:revision>
  <dc:subject/>
  <dc:title>Metodología, justificativos y herramientas que permitan identificar el universo de entidades privadas que manejen fondos públicos o posean información pública.</dc:title>
</cp:coreProperties>
</file>