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007-D2BD-45AA-85CE-6F079817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577-561B-4BE1-8AD2-7B5C1CD1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216-F535-43C0-A588-985828B5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AA4-EE1F-44CC-88C4-43CCB3B8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05AD-F772-4FCF-BB00-7027CD78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4A49-EAE0-4F22-95DF-91F97E43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FC71-CF14-49E4-A2AB-CCD37F3D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79DE-5F95-4D85-88A6-1826BC1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D07E-5805-4E1B-9896-CCF63F9B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B932-F568-446B-BA1E-0864953A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C15E-D8D6-46D2-9AEF-203857DA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16F-75D9-46C5-B394-2032293E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4C52-9582-4D18-81EC-5F0EF2E7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A371-3ED1-40E8-ABB8-631D8AAE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01E7-1624-456D-9474-C496AC46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1333-F1CA-47A6-9615-E1369E65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8253-4F57-4FC5-A147-33594536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1CE1-C4E3-443B-85D5-477FD510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D98A-3B2D-4740-9F93-0550F9DF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619A4-ACA0-4D84-B65F-1D454A07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DEB6B-F4F1-4C3B-99EB-0F65EFB6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8F4F-585A-4C68-A7B1-569E8692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EA6-E3F3-4D1D-9081-219B44B1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8B92-9847-47F3-911B-F7F6CEDB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8400-C36E-446E-864A-39FA6860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CC3C-A684-4B96-9137-CD9D0057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55AF-1384-4541-A6D3-CDF44BF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D0CF-359F-4CCF-AEF3-7E092512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E1512-40D2-4EC8-8026-93405A00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08E1-5522-4FE3-B064-31552110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5049A-2ABB-42F9-89B4-D084C1E4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AE86-1815-4244-ACD6-9C14AC8F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9A998-4E5B-4460-A669-BAD9376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868-1F73-4B20-B21B-FD78C191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5CFC-E972-4006-A7A3-26552B81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CBE0D-0817-4A84-8739-782A2158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9183-1ABE-473E-85F3-CFF78F8F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0109-CD0F-44AB-B43D-AF8679A8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62FA-5D40-4C79-AEC0-F4C2134B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BFE2-4DC8-40B7-A9D0-8A0C6653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0594-D11B-4043-92D9-C7747251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329C1-9986-423A-BA11-11797E5D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031F-C444-4729-BADE-D6220177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56B18-E1C1-460C-A6AD-E1C13005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515-058D-4FE2-A886-86E95BE3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CBBF6-F904-4772-8B97-FF48E25A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C8B15-76E5-44CE-8CDA-5E4BCF26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34C8-CCD9-4B41-B108-9F62EFD6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59128-DA1F-4092-861F-A3245182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4623-AB31-4D57-8BBF-F3101DDA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1669-E38E-4289-B42B-C19E206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6ED4-7A42-4120-80C2-2634B28D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2F63-0B5F-49DE-AF0A-AD1E9000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C9799-D4D9-4298-A9A8-B2782C3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E504-4E73-4F62-A583-CB46616D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957-EAC9-4CDF-AF58-EF04A7E2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8F4D2-03AC-46C7-A4EA-CE8B3BC8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E2574-470C-4BD8-B65B-89EF562B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69EF9-FBBB-4B57-88C6-C7C54094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C4C5F-6187-46DC-84C3-B1B367AB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209ED-5816-4BFD-BEBB-C68FC263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CA9E-3995-4F16-999F-5ED86577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9D78B-DD4D-4C53-8947-04FDFDC3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3CD74-3A20-4258-8A80-6ED43AB8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ACF24-5F60-4B36-BF24-48A350E7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62A10-34BE-4D7A-90B3-EE9283A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EDB-E744-48E5-B44A-64602077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5F37-7D07-443F-A6DF-F8829D7F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ECB4A-428E-4D73-919A-57BB550F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3990-5E5C-433C-A206-E18E745C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AF8B-F9BF-4676-A7CC-0EEB7050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C8BA4-17ED-4E66-BD4C-CFB69174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4B90C-4E57-4BF9-A50F-33574725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658F5-EA77-499E-B823-64F4CBA2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30CF4-4AF4-4DCE-8773-1D88FD45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5CF5-6F74-4981-B697-F04ED90D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C189C-9407-42F7-835F-F27B22A2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A74-BFE0-4111-9192-0D9BCB54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DE9D8-9701-4C71-BA97-9528FF7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53D3C-204D-4707-AD00-DCBE80BA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7D76-2DCB-4427-8999-A71C1FC0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CF9EA-0ACA-4472-9728-ED09C2AE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5418-BC35-4A34-BFD2-E91A73C5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DAC-09D1-4259-9AF1-B88A269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D29F-26CF-49BF-AF7F-A5AE5B6046E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61E4-CBA4-4622-A1B7-28FADAF8A02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D46D-A207-4E77-A158-D4A2D2A7764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03D9-6D34-4D57-97D8-A0DD649B37C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4258-7F42-440A-B572-15533ECF1A4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18C5-6B0C-464A-B947-D46762EE510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8517-78A5-4748-8C7C-E6F5A5D801A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aller sobre Mecanismos de coordinación interinstitucional para la lucha contra la corrupción 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i="1" lang="es-ES" sz="2200" spc="-1" strike="noStrike">
                <a:solidFill>
                  <a:srgbClr val="320e04"/>
                </a:solidFill>
                <a:latin typeface="Gill Sans MT"/>
              </a:rPr>
              <a:t>Quito,  9 de octubre de 2014</a:t>
            </a:r>
            <a:r>
              <a:rPr b="0" lang="es-ES" sz="2200" spc="-1" strike="noStrike">
                <a:solidFill>
                  <a:srgbClr val="320e04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572000" y="5143680"/>
            <a:ext cx="428616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ón II –b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iseño de programas de fortalecimiento de capacidades multidisciplinarios y planificados por varias entidades con un carácter permanente en los que puedan participar funcionarios de distintas entidades relacionadas con la lucha contra  la corrup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4857840" y="542916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 I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Evaluar la funcionalidad de los sistemas institucionales, de comunicación y de cooperación entre entidades de manera periódica en base al desempeño y experiencia de sus propios funcionarios y adoptar medidas de corre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Fortalecer a las entidades responsables de la lucha contra los delitos económicos y financieros vinculados a la corrupción dotándolos de adecuados recursos presupuestales, humanos y logísticos garantizando así su adecuado desempeñ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4857840" y="528624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lan de Ac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Fijar objetivos y metas claros y precisos consensuados, con plazo de implement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tablecer pautas de actuación y coordinación del proyecto. Prioridades inmediatas y mediat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xistencia real de un compromiso efectivo por parte de cada uno de los organismos involucrad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643720" y="0"/>
            <a:ext cx="3143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royecto Ecuad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venio interinstitucional para la formación de una Comis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Reglas de actuación, organización y funcionamiento de la Comis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osibles bases de datos de casos e intercambio de inform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anuales de intercambio de inform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anuales de Investigación patrimonial y financie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643720" y="0"/>
            <a:ext cx="3143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royecto Ecuador 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álisis del marco legal para la recuperación de activos proveniente de la corru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álisis del marco legal para la utilización de Técnicas Especiales de Investigació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anuales de Metodología de investig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udio del marco legal de los informes perici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ablecer mecanismos eficaces en requerimientos y acuerdos de cooperación internacional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072120" y="142920"/>
            <a:ext cx="2857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Proyecto Ecuador I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rotocolos que determinen el contenido y alcance de los informes técnicos y periciales. Determinar el valor probatorio y calidad de los mism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pacios de capacitación conjunta. Talleres, seminarios, workshops, etc, que posiblemente sirvan para la confección de manuales y protocolos de actu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ón de Tipologías para cada secto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857840" y="-214200"/>
            <a:ext cx="428616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rear un ámbito de actuación y coordinación entre los distintos organismos para implementar y fortalecer los mecanismos adecuados para la lucha contra la corru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vanzar en ese sentido en la implementación de los convenios o acuerdos de cooperación interinstitucionales, ejecutando los compromisos que corresponden a cada una de las instituciones en dichos acuerdo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Fortalecer este aspecto para lograr la efectividad dese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28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Objetivos 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valuar la posibilidad de incluir o invitar a otros organismos involucrados directa o indirectamente en este ámbito de actu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stablecer puntos de contacto permanentes de los diferentes organismos, como así también,  los mecanismos de comunicación y el organismo de coordina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428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14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La corrupción es un como un cáncer para las sociedades que penetra en todos las esferas sociales, y provoca no sólo cuantiosas ganancias económicas, sino también muertes de ciudadanos inocentes. Sólo podemos hacer frente a esta amenaza globales si trabajamos juntos."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500120" y="214200"/>
            <a:ext cx="7358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Conclusiones Finales por parte de los participantes.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000000"/>
                </a:solidFill>
                <a:latin typeface="Gill Sans MT"/>
              </a:rPr>
              <a:t>Muchas Gracias por su atención y especialmente por su participación.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Federico Di Pasqu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Modelos organizacionales de los organismos que luchan contra la corrupción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ntidad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inisterio Público o Fiscalía Gener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oder Judicial o Consejo de la Judicatu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Unidad de Inteligencia Financie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olicí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Administración Tributar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Otras Entidades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4857840" y="5500800"/>
            <a:ext cx="42861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tidades Ecuatorian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Fiscalía General del Estado. FG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Contraloría General del Estado. CG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Consejo de Participación Ciudadana y Control Social. CPCC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Secretaría Nacional de la Administración Pública. SNA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Superintendencia de Bancos. SB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Superintendencia de Economía Popular y Solidaria. SEP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Consejo de la Judicatura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UAF_CONCLA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4857840" y="550080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es ejes principa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Gill Sans MT"/>
              </a:rPr>
              <a:t>Se centra en la organización y funciones de cada entidad evidenciando en la mayoría de los casos particularidades que configuran modelos distintos organizativos y por ende funcionales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Gill Sans MT"/>
              </a:rPr>
              <a:t>El segundo eje se centra en el tipo de información generada por cada entidad y sobre la capacidad que estas entidades tienen para compartir esta información con la demás entidades, y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Gill Sans MT"/>
              </a:rPr>
              <a:t>el tercer eje que expone distintas iniciativas para mejorar la cooperación entre estas entidade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4714920" y="567684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Modelos para mejorar la cooperación y coordinación interinstitucional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Gill Sans MT"/>
              </a:rPr>
              <a:t>La coordinación de políticas son iniciativas que buscan generar espacios de encuentro entre instituciones para el diseño e impulso de propuestas e iniciativas que tiene que ver con la “arquitectura” sistémica de los sistemas anticorrupción, como por ejemplo proyectos de ley o programas de capacitación, entre otros. Por otro lado, la coordinación procedimental se centra en el desarrollo de protocolos y coordinaciones para mejorar la actuación de las distintas entidades, mejorar el flujo de información, o estrategias de investigación, entre ot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5857920" y="5676840"/>
            <a:ext cx="30718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iferentes iniciativ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nvenios de Cooperación.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Acuerd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quipos de investigación conjun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entros de información especializad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ités Inter instituciona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Programas de Capacitación conjun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714920" y="535788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28480"/>
            <a:ext cx="7499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Revisión de los canales de comunicación entre entidades responsables de la investigación a fin de desarrollar protocolos de comunicación en el que se consideren aspectos como cualidades y especificidades de la información compartida, reduciendo dentro de lo posible y dentro de la legalidad los plazos y formalidad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Desarrollo de protocolos de solicitud de información de tal forma que no que-den “espacios interpretativos” o “lagunas”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Políticas integrales a nivel gubernamental que permitan la uniformidad en el manejo, almacenamiento y procesamiento de la información entre entidades a dos niveles.  Información Procesal y estadístic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857840" y="542916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 I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Revisar los modelos de estrategias de cooperación contenidos en este informe procurando mayores y mejores espacios de colaboración no sólo en el ámbito de las políticas públicas, sino también de los procedimientos cotidianos para la lucha contra los delitos económicos y financieros vinculados a al corrupció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4857840" y="5357880"/>
            <a:ext cx="4286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comendaciones II –a-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Impulso a la conformación de equipos de investigación conjunta dentro de los márgenes de ley de cada país procurando que en lo posible estos tengan un carácter permanente y especializado en el tiempo, lo cual permitiría el desarrollo de protocolos de investigación y prácticas cotidianas que mejorarían la coordinación interinstituc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4643280" y="5357880"/>
            <a:ext cx="4286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8:45:48Z</dcterms:created>
  <dc:creator>WinuE</dc:creator>
  <dc:description/>
  <dc:language>en-US</dc:language>
  <cp:lastModifiedBy>Ignacio Suarez</cp:lastModifiedBy>
  <dcterms:modified xsi:type="dcterms:W3CDTF">2014-11-05T09:55:03Z</dcterms:modified>
  <cp:revision>14</cp:revision>
  <dc:subject/>
  <dc:title>Taller sobre Mecanismos de coordinación interinstitucional para la lucha contra la corrupción</dc:title>
</cp:coreProperties>
</file>