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3CF-5A9B-4D1D-A7A0-57075844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CD1-A5D5-40D8-A941-A066CECA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A9E-932C-40CF-835F-24AF545F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304-378D-4A89-B002-41D40D8B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39AE-6835-4050-9895-92F960B4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37F-B57C-4DDE-85D2-50DB91E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81A2-84A8-4826-B2CC-47D3976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BB4-4523-44DF-BF5E-0FA9B506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038F-F35B-4B88-B1E3-300D30F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A7C4-5739-4AEE-AB58-AF1A33EB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5E27-7EEB-4302-8A0E-8505E71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1AB-512C-49D6-8E09-033219D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8C3-AF3E-48E6-B239-415AC05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B098-DD9C-4AED-A4E3-EAF3AEA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727A-16C4-41B6-8123-D099432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348-5477-41F1-A656-9FABFB90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D40-9713-4336-B985-CA02BFD5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F3A1-92CF-45DC-A429-FE719CB7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73BD-C445-4C46-B697-2861EA2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79AF-275F-4216-BF9D-8B5AD9C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EDFE-A4E8-4BAD-BE08-749B50AC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3498-D576-4BE0-9F1D-00A6E9A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A49-ED2D-442D-9A00-9AFC5E98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F312-17D9-4C7F-A03F-EB0BE59E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D815-7C3F-46A9-BFAF-692C1FB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3537-7229-4F13-B41F-A926112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2920-5643-4276-A854-F6F0149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964D-D106-4F43-A9F8-0283260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11EF-76CD-4CF2-B8A9-0AD47C72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9BDF-45A6-4B76-8F4F-F2D08F55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32F3-4342-4347-A682-F95D53F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02DD-3FC2-4BC9-8E24-65FED88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747A-89AE-4246-A27C-A918056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836-75B8-4EEA-824F-E0E86B9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17B9-816A-4961-B5F1-5656FDB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9CDB-CFDF-4F85-83A1-E7E3A11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C3CC-62E0-4F42-8D7D-A7F9CE4C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8E55-B45F-4D21-9659-99FB23E2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EBBE-3339-4657-AED5-D72C259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2F43-5BFB-40A5-91F5-C1C0992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FF8E-686E-44EE-8ABA-EBCB555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0C2A-62D6-4A39-9593-8C62273D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EFC4-A9A8-4CAE-8A20-3AFC47D9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EF55-1833-4CC4-BFD6-E26A3252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68F-5C58-437A-8E6C-D9E1A98A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64AB-2F17-4972-B705-49E5B34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6F29-527A-49C1-8766-0CEBB8C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374D-F2B8-4E53-9E90-53540F6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FC1EC-74CF-4CCD-9FA5-D58A95C2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745E-4047-4329-8671-42A1119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8BF5-82A8-47D6-83E5-A5AAB91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D4F2-C980-4007-B0CE-2CC7CC0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E637-0248-49C7-B907-909E09F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A81F-43E2-4657-BEB6-34026465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21F3-B0A9-471B-BFA9-E7433E4E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119-EE67-4269-85E1-A7A86C03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C8DE-816F-48B0-B29C-F9414166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59A0-CF33-430E-AF6D-598C73C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DC19-A6E4-4F81-A6F0-E38F433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16BF-21C1-40B2-850B-460E8B35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BF73-602D-401C-B87F-403E1968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564F-30CC-4375-9AEF-B4AF0AE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6FA0B-3443-4387-AD92-E679D9E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ADC0-F4D9-40E7-B1F8-8665334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4E59-79B1-41D1-8D23-5DC8DEE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733D-FB3C-4D7F-901C-E9538DE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A35-61E3-4680-87CE-05309EF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1DE2D-78E0-415C-8714-EA6B1CB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FFA6-0B33-48F3-A71D-52CDF6F2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5A38-BA4B-4D89-9217-6E591E60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977F-948D-4406-B2C9-2AC57A06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3180-D22B-4E75-9F8A-4A11856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6331-8CAD-46F8-81E5-A5757DE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A9A6-2D76-450F-B8A0-6E7AE8E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61ED-A7C3-4F51-91F7-BE6D22E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A277-688F-4AE9-88DF-71EAB75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DA51-EF55-49D4-A8E2-30624A3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E18-B3FF-4AC8-825A-50E2561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114C-80E8-4C83-8FE2-918CF2D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DC7D-8F07-416F-8FD9-3305FAC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EF86-4B12-4083-B538-92CB895A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A0487-6C12-46C2-9D86-78FF852F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86D5-DD4E-4A40-BA05-0520C0B6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597-01D4-4B8C-AFEB-FEB8573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594-2275-407F-B94A-01E49501646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8712-0EFA-42E4-9B9B-D9DA80B5F03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C1A-6C3B-41A8-8F47-F8C758916AC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A67-8212-49D1-BD07-9EC0813A74B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13B-6A55-44AC-9EC6-FB4D88FFCCB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6B98-588C-45E2-AF95-8341E2554DE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D80-F4A3-4075-B15B-F035DA87507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aller sobre Mecanismos de coordinación interinstitucional para la lucha contra la corrupción 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i="1" lang="es-ES" sz="2200" spc="-1" strike="noStrike">
                <a:solidFill>
                  <a:srgbClr val="320e04"/>
                </a:solidFill>
                <a:latin typeface="Gill Sans MT"/>
              </a:rPr>
              <a:t>Quito,  9 de octubre de 2014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572000" y="5143680"/>
            <a:ext cx="428616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ón II –b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iseño de programas de fortalecimiento de capacidades multidisciplinarios y planificados por varias entidades con un carácter permanente en los que puedan participar funcionarios de distintas entidades relacionadas con la lucha contra  la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Evaluar la funcionalidad de los sistemas institucionales, de comunicación y de cooperación entre entidades de manera periódica en base al desempeño y experiencia de sus propios funcionarios y adoptar medidas de corre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ortalecer a las entidades responsables de la lucha contra los delitos económicos y financieros vinculados a la corrupción dotándolos de adecuados recursos presupuestales, humanos y logísticos garantizando así su adecuado desempeñ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4857840" y="52862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lan de A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Fijar objetivos y metas claros y precisos consensuados, con plazo de implement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autas de actuación y coordinación del proyecto. Prioridades inmediatas y mediat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xistencia real de un compromiso efectivo por parte de cada uno de los organismos involucr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 interinstitucional para la formación de un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Reglas de actuación, organización y funcionamiento de l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sibles bases de datos de casos 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vestigación patrimonial y financie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recuperación de activos proveniente de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utilización de Técnicas Especiales de Investigació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nuales de Metodología de investig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udio del marco legal de los informes perici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blecer mecanismos eficaces en requerimientos y acuerdos de cooperación internacional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14292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tocolos que determinen el contenido y alcance de los informes técnicos y periciales. Determinar el valor probatorio y calidad de los mism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pacios de capacitación conjunta. Talleres, seminarios, workshops, etc, que posiblemente sirvan para la confección de manuales y protocolos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ón de Tipologías para cada secto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857840" y="-214200"/>
            <a:ext cx="428616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rear un ámbito de actuación y coordinación entre los distintos organismos para implementar y fortalecer los mecanismos adecuados para la lucha contra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vanzar en ese sentido en la implementación de los convenios o acuerdos de cooperación interinstitucionales, ejecutando los compromisos que corresponden a cada una de las instituciones en dichos acuerd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Fortalecer este aspecto para lograr la efectividad dese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valuar la posibilidad de incluir o invitar a otros organismos involucrados directa o indirectamente en este ámbito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untos de contacto permanentes de los diferentes organismos, como así también,  los mecanismos de comunicación y el organismo de coordin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La corrupción es un como un cáncer para las sociedades que penetra en todos las esferas sociales, y provoca no sólo cuantiosas ganancias económicas, sino también muertes de ciudadanos inocentes. Sólo podemos hacer frente a esta amenaza globales si trabajamos juntos."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735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onclusiones Finales por parte de los participantes.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0000"/>
                </a:solidFill>
                <a:latin typeface="Gill Sans MT"/>
              </a:rPr>
              <a:t>Muchas Gracias por su atención y especialmente por su participación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Federico Di Pasqu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Modelos organizacionales de los organismos que luchan contra la corrupció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ntidad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inisterio Público o Fiscalía Gener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der Judicial o Consejo de la Judicatu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Unidad de Inteligencia Financie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lic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dministración Tributa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tras Entidades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tidades Ecuatorian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Fiscalía General del Estado. FG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traloría General del Estado. CG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Participación Ciudadana y Control Social. CPCC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ecretaría Nacional de la Administración Pública. SNA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Bancos. SB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Economía Popular y Solidaria. SEP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la Judicatur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UAF_CONCL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es ejes principa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Se centra en la organización y funciones de cada entidad evidenciando en la mayoría de los casos particularidades que configuran modelos distintos organizativos y por ende funcionale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segundo eje se centra en el tipo de información generada por cada entidad y sobre la capacidad que estas entidades tienen para compartir esta información con la demás entidades, y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tercer eje que expone distintas iniciativas para mejorar la cooperación entre estas entidade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4714920" y="56768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Modelos para mejorar la cooperación y coordinación interinstituciona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ill Sans MT"/>
              </a:rPr>
              <a:t>La coordinación de políticas son iniciativas que buscan generar espacios de encuentro entre instituciones para el diseño e impulso de propuestas e iniciativas que tiene que ver con la “arquitectura” sistémica de los sistemas anticorrupción, como por ejemplo proyectos de ley o programas de capacitación, entre otros. Por otro lado, la coordinación procedimental se centra en el desarrollo de protocolos y coordinaciones para mejorar la actuación de las distintas entidades, mejorar el flujo de información, o estrategias de investigación, entre ot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857920" y="5676840"/>
            <a:ext cx="3071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ferentes iniciativ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s de Cooperación.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cuer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quipos de investig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entros de información especializ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ités Inter instituciona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gramas de Capacit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71492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28480"/>
            <a:ext cx="749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Revisión de los canales de comunicación entre entidades responsables de la investigación a fin de desarrollar protocolos de comunicación en el que se consideren aspectos como cualidades y especificidades de la información compartida, reduciendo dentro de lo posible y dentro de la legalidad los plazos y formalidad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Desarrollo de protocolos de solicitud de información de tal forma que no que-den “espacios interpretativos” o “lagunas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Políticas integrales a nivel gubernamental que permitan la uniformidad en el manejo, almacenamiento y procesamiento de la información entre entidades a dos niveles.  Información Procesal y estadístic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visar los modelos de estrategias de cooperación contenidos en este informe procurando mayores y mejores espacios de colaboración no sólo en el ámbito de las políticas públicas, sino también de los procedimientos cotidianos para la lucha contra los delitos económicos y financieros vinculados a al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85784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 –a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Impulso a la conformación de equipos de investigación conjunta dentro de los márgenes de ley de cada país procurando que en lo posible estos tengan un carácter permanente y especializado en el tiempo, lo cual permitiría el desarrollo de protocolos de investigación y prácticas cotidianas que mejorarían la coordinación interinstituc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4643280" y="5357880"/>
            <a:ext cx="428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8:45:48Z</dcterms:created>
  <dc:creator>WinuE</dc:creator>
  <dc:description/>
  <dc:language>en-US</dc:language>
  <cp:lastModifiedBy>Ignacio Suarez</cp:lastModifiedBy>
  <dcterms:modified xsi:type="dcterms:W3CDTF">2014-11-05T09:55:03Z</dcterms:modified>
  <cp:revision>14</cp:revision>
  <dc:subject/>
  <dc:title>Taller sobre Mecanismos de coordinación interinstitucional para la lucha contra la corrupción</dc:title>
</cp:coreProperties>
</file>