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n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3219-26F9-440D-895D-0CBD72BFFC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64E3-0310-49C3-B780-537CF4825B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5FDE-4615-4555-B022-62D5F71F95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5A9A-E778-42C9-95B0-D81218E9A0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7E2B-A68B-44BD-AC21-37FAD93614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E0B9-518B-4549-88D7-721D78E260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23E-59A4-4794-B876-DDCAAB3377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594-30D0-40C0-8FFA-E1E53AB611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69BD-6972-4303-A18C-255838FCD7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F771-A343-4CFA-9958-7D356C8054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3046-7947-4588-82E4-D343A94451C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51F-1AB3-4ACA-B596-F54C26A0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39643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CD8-9C67-4B96-8F0A-AA50452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D3F-E36A-4B1E-AC65-6691C0D9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E2D-64C3-4247-9A4C-47CF5614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8C4-2E53-4876-9DB0-54B3AA1F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AB7-2805-4F17-BCCF-DB68B43F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4B9-40A9-469A-9FBA-A5D1FD8F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F02-6F18-45CC-8E38-68D6E651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658-AFD8-47D3-99DC-D5DEF6D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FBB-D7AC-4F00-929B-96F9A55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F51-F2B2-4430-B5C1-6B08EA5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BBC-F495-4887-8EB0-DA5B1580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n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in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in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in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in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1D51-3D06-46CA-A375-00D62C7BB0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_imagenes_logos_OPP_logo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6440" y="1263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ndara"/>
              </a:rPr>
              <a:t>PLANIFICACIÓN y PRESUPUESTO QUINQUENAL en URUGUAY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43160" y="3068280"/>
            <a:ext cx="640080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Seminario de IMPLEMENTACIÓN del PRESUPUESTO de MEDIANO PLAZO – EUROsociAL II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Asunción, Paraguay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17 a 19 de noviembre de 2014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320" y="52768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Jerónimo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Oficina de Planeamiento y Presup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90160"/>
            <a:ext cx="721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ENSIONES MILITARES y POLICIALES - 2013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87" name="2 Gráfico" descr=""/>
          <p:cNvPicPr/>
          <p:nvPr/>
        </p:nvPicPr>
        <p:blipFill>
          <a:blip r:embed="rId1"/>
          <a:stretch/>
        </p:blipFill>
        <p:spPr>
          <a:xfrm>
            <a:off x="176040" y="1596960"/>
            <a:ext cx="879192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Gráfico" descr=""/>
          <p:cNvPicPr/>
          <p:nvPr/>
        </p:nvPicPr>
        <p:blipFill>
          <a:blip r:embed="rId1"/>
          <a:stretch/>
        </p:blipFill>
        <p:spPr>
          <a:xfrm>
            <a:off x="542880" y="1755720"/>
            <a:ext cx="8143920" cy="449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Jubilaciones: ajuste por IPC vs. IM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0" name="5 CuadroTexto"/>
          <p:cNvSpPr/>
          <p:nvPr/>
        </p:nvSpPr>
        <p:spPr>
          <a:xfrm>
            <a:off x="1386000" y="1527120"/>
            <a:ext cx="71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ndara"/>
              </a:rPr>
              <a:t>Evolución de la serie original (ajuste por IMS) y la alternativa (ajuste por IP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 CuadroTexto"/>
          <p:cNvSpPr/>
          <p:nvPr/>
        </p:nvSpPr>
        <p:spPr>
          <a:xfrm>
            <a:off x="1285920" y="621972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Fuente: elaboración propia en base a datos de BPS e 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Disminución del peso relativo de la Segurida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Social en el G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3" name="1 Rectángulo"/>
          <p:cNvSpPr/>
          <p:nvPr/>
        </p:nvSpPr>
        <p:spPr>
          <a:xfrm>
            <a:off x="781200" y="1901880"/>
            <a:ext cx="58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ndara"/>
              </a:rPr>
              <a:t>Evolución de la participación de la Seguridad y Asistencia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1184400" y="634356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Fuente: elaboración propia en base a datos del M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4 Gráfico" descr=""/>
          <p:cNvPicPr/>
          <p:nvPr/>
        </p:nvPicPr>
        <p:blipFill>
          <a:blip r:embed="rId1"/>
          <a:stretch/>
        </p:blipFill>
        <p:spPr>
          <a:xfrm>
            <a:off x="725400" y="2182680"/>
            <a:ext cx="755352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4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Aumento del peso relativo del GPS en niños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y jóvene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97" name="1 Gráfico" descr=""/>
          <p:cNvPicPr/>
          <p:nvPr/>
        </p:nvPicPr>
        <p:blipFill>
          <a:blip r:embed="rId1"/>
          <a:stretch/>
        </p:blipFill>
        <p:spPr>
          <a:xfrm>
            <a:off x="785880" y="1878120"/>
            <a:ext cx="8083440" cy="4546440"/>
          </a:xfrm>
          <a:prstGeom prst="rect">
            <a:avLst/>
          </a:prstGeom>
          <a:ln w="0">
            <a:noFill/>
          </a:ln>
        </p:spPr>
      </p:pic>
      <p:sp>
        <p:nvSpPr>
          <p:cNvPr id="98" name="5 Rectángulo"/>
          <p:cNvSpPr/>
          <p:nvPr/>
        </p:nvSpPr>
        <p:spPr>
          <a:xfrm>
            <a:off x="970920" y="161928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ndara"/>
              </a:rPr>
              <a:t>Distribución del GPS por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uadroTexto"/>
          <p:cNvSpPr/>
          <p:nvPr/>
        </p:nvSpPr>
        <p:spPr>
          <a:xfrm>
            <a:off x="1184400" y="634356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DinC"/>
              </a:rPr>
              <a:t>Fuente: elaboración </a:t>
            </a: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propia</a:t>
            </a:r>
            <a:r>
              <a:rPr b="0" lang="es-MX" sz="1000" spc="-1" strike="noStrike">
                <a:solidFill>
                  <a:srgbClr val="000000"/>
                </a:solidFill>
                <a:latin typeface="DinC"/>
              </a:rPr>
              <a:t> en base a datos del M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brir llave 7"/>
          <p:cNvSpPr/>
          <p:nvPr/>
        </p:nvSpPr>
        <p:spPr>
          <a:xfrm rot="5400000">
            <a:off x="1866600" y="1644480"/>
            <a:ext cx="181080" cy="1343160"/>
          </a:xfrm>
          <a:custGeom>
            <a:avLst/>
            <a:gdLst>
              <a:gd name="textAreaLeft" fmla="*/ 115920 w 181080"/>
              <a:gd name="textAreaRight" fmla="*/ 181440 w 181080"/>
              <a:gd name="textAreaTop" fmla="*/ 4680 h 1343160"/>
              <a:gd name="textAreaBottom" fmla="*/ 1338480 h 13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9116"/>
                </a:lnTo>
                <a:cubicBezTo>
                  <a:pt x="10800" y="9238"/>
                  <a:pt x="5400" y="9359"/>
                  <a:pt x="0" y="9359"/>
                </a:cubicBezTo>
                <a:cubicBezTo>
                  <a:pt x="5400" y="9359"/>
                  <a:pt x="10800" y="9481"/>
                  <a:pt x="10800" y="9602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adroTexto 1"/>
          <p:cNvSpPr/>
          <p:nvPr/>
        </p:nvSpPr>
        <p:spPr>
          <a:xfrm>
            <a:off x="1565280" y="2001960"/>
            <a:ext cx="1203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ndara"/>
              </a:rPr>
              <a:t>24% vs 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 Modelo Pla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prioridades de política están explicitadas en un Plan Nacional de Desarrollo que es l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guía de las prioridades de gasto en el mediano plaz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ndara"/>
              </a:rPr>
              <a:t>2 Modelo Presupuest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ff0000"/>
                </a:solidFill>
                <a:latin typeface="Candara"/>
              </a:rPr>
              <a:t>El Presupuesto contiene las orientaciones de gasto sin que haya condicionamiento a las metas de un Plan Nacional de Desarroll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 Modelo Mixt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ntegra Planificación Estratégica y presupuestación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361800"/>
            <a:ext cx="74134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85880"/>
            <a:ext cx="87854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Presupuesto Quinquenal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Presupuesto Quinquenal es una de las principales herramientas para instrumentar el Plan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a el marco temporal adecuado para introducir la planificación en el Presupuesto: 5 años al igual que el ciclo electoral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icho Plan surge del Programa/Agenda de gobierno (insumo político) y del planeamiento estratégico y proyecciones de medio-largo plazo (insumo técnico)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 asignación del espacio fiscal se realiza en función de las prioridades que surgen del Programa/Agenda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6320" y="1417680"/>
            <a:ext cx="878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Rendiciones de Cuentas anuales no alteran las prioridades: Presupuesto 2005-2009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08" name="4 Gráfico" descr=""/>
          <p:cNvPicPr/>
          <p:nvPr/>
        </p:nvPicPr>
        <p:blipFill>
          <a:blip r:embed="rId1"/>
          <a:stretch/>
        </p:blipFill>
        <p:spPr>
          <a:xfrm>
            <a:off x="165240" y="2109960"/>
            <a:ext cx="9216720" cy="4552920"/>
          </a:xfrm>
          <a:prstGeom prst="rect">
            <a:avLst/>
          </a:prstGeom>
          <a:ln w="0">
            <a:noFill/>
          </a:ln>
        </p:spPr>
      </p:pic>
      <p:pic>
        <p:nvPicPr>
          <p:cNvPr id="109" name="3 Gráfico" descr=""/>
          <p:cNvPicPr/>
          <p:nvPr/>
        </p:nvPicPr>
        <p:blipFill>
          <a:blip r:embed="rId2"/>
          <a:stretch/>
        </p:blipFill>
        <p:spPr>
          <a:xfrm>
            <a:off x="6303960" y="4340160"/>
            <a:ext cx="300528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37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11" name="4 Gráfico" descr=""/>
          <p:cNvPicPr/>
          <p:nvPr/>
        </p:nvPicPr>
        <p:blipFill>
          <a:blip r:embed="rId1"/>
          <a:stretch/>
        </p:blipFill>
        <p:spPr>
          <a:xfrm>
            <a:off x="334800" y="1504800"/>
            <a:ext cx="8474400" cy="4707000"/>
          </a:xfrm>
          <a:prstGeom prst="rect">
            <a:avLst/>
          </a:prstGeom>
          <a:ln w="0">
            <a:noFill/>
          </a:ln>
        </p:spPr>
      </p:pic>
      <p:pic>
        <p:nvPicPr>
          <p:cNvPr id="112" name="4 Gráfico" descr=""/>
          <p:cNvPicPr/>
          <p:nvPr/>
        </p:nvPicPr>
        <p:blipFill>
          <a:blip r:embed="rId2"/>
          <a:stretch/>
        </p:blipFill>
        <p:spPr>
          <a:xfrm>
            <a:off x="5321160" y="3975120"/>
            <a:ext cx="3365640" cy="1809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243000" y="873000"/>
            <a:ext cx="72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Rendiciones de Cuentas anuales no alteran las prioridades: Presupuesto 2010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9280" y="1263600"/>
            <a:ext cx="87854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. Importancia de la Inversión de las 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omedio 2007-2013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1996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16" name="Chart 5" descr=""/>
          <p:cNvPicPr/>
          <p:nvPr/>
        </p:nvPicPr>
        <p:blipFill>
          <a:blip r:embed="rId1"/>
          <a:stretch/>
        </p:blipFill>
        <p:spPr>
          <a:xfrm>
            <a:off x="3919680" y="1874880"/>
            <a:ext cx="581328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243000" y="2647800"/>
          <a:ext cx="4632120" cy="2103480"/>
        </p:xfrm>
        <a:graphic>
          <a:graphicData uri="http://schemas.openxmlformats.org/drawingml/2006/table">
            <a:tbl>
              <a:tblPr/>
              <a:tblGrid>
                <a:gridCol w="2279520"/>
                <a:gridCol w="1176480"/>
                <a:gridCol w="1176120"/>
              </a:tblGrid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32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E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8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obiernos Subn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9280" y="1263600"/>
            <a:ext cx="87854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structura de la Inversión de las 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ño 2013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1996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20" name="Chart 4" descr=""/>
          <p:cNvPicPr/>
          <p:nvPr/>
        </p:nvPicPr>
        <p:blipFill>
          <a:blip r:embed="rId1"/>
          <a:stretch/>
        </p:blipFill>
        <p:spPr>
          <a:xfrm>
            <a:off x="-658800" y="2036880"/>
            <a:ext cx="5896080" cy="38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932360" y="2587680"/>
          <a:ext cx="4032360" cy="2705040"/>
        </p:xfrm>
        <a:graphic>
          <a:graphicData uri="http://schemas.openxmlformats.org/drawingml/2006/table">
            <a:tbl>
              <a:tblPr/>
              <a:tblGrid>
                <a:gridCol w="1749600"/>
                <a:gridCol w="1141200"/>
                <a:gridCol w="1141560"/>
              </a:tblGrid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ill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NTEL (Telec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.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NCAP (Petrol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TE (Electricid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.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E (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.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3600" y="1504440"/>
            <a:ext cx="8416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¿POR QUÉ PLANIFICAR EN URUGUAY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LANIFICACIÓN – PRESUPUEST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L PRESUPUESTO QUINQUENAL EN URUGUAY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LANIFICACIÓN-PRESUPUESTO, MONITOREO y EVALUACIÓ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7978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263240"/>
            <a:ext cx="8785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i bien las Empresas Públicas cuentan con un Presupuesto anual, entran en la lógica del Presupuesto Quinquenal por: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Presupuesto Quinquenal del Gobierno Central incorpora las transferencias desde (aportes) o hacia (subsidios) las Empresas Públicas, por lo que éstas deben realizar el  ejercicio de planificar el quinquenio, en particular sus inversion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te ejercicio de planificación quinquenal –insisto: en particular las inversiones- se discute con la Oficina de Planeamiento y Presupuesto y el Ministerio de Economía y Finanzas. Por tanto, toma en cuenta tanto las prioridades definidas en la Agenda de Gobierno como el contexto macro-fiscal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demás, las Empresas Públicas tienen Directorios polít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41732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Gobiernos Subnacion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Gobiernos Subnacionales tienen autonomía para la elaboración de sus Presupuestos, que son aprobados anualmente por los Legislativos Subnacionales.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No obstante, entran en la lógica de la presupuestación quinquenal básicamente porque las transferencias del Gobierno Central llegan 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representar el 60% de los recursos de varios de los Gobiernos Subnacional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) 3.33% de todos los recursos del Presupuesto Nacional [Art. 214 de la Constitució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e transfiere contra el cumplimiento de Compromisos de Gest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Información actualizada de la ejecución presupuestal y financiera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Criterios contables homogéneos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41732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Gobiernos Subnacion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b) Fondo de Desarrollo del Interior (FDI) = US$ 30 millones, destinados a inversiones [Art. 298 de la Constitució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También se transfiere contra el cumplimiento de Compromisos de Gestión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autas del Gobierno Central para asignar los recursos del FDI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dicionalmente, el Gobierno Central, a través de los Ministerios inversores, ejecuta el 67% del FDI, en línea con la estrategia definida en el Presupuest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) SUCIVE: la intervención del Gobierno Central para superar la (histórica) “guerra de las patentes”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41732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4. Sistema Nacional de Inversión Pública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Ventanilla única y, por tanto, criterios de evaluación únicos para la inversión del Gobierno Central, Empresas Públicas y Gobiernos Subnacional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) Cartera de Proyectos evaluada =&gt; programación de inversiones en línea con las prioridades del Gobierno. Mundo ¿ideal?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b) Presupuestación agregada pero ejecución solamente de proyectos evaluados por el SNIP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SNIP permitirá: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1. Asegurar la asignación de los recursos públicos a las prioridades y objetivos de las políticas públicas [Planificación]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2. Asegurar la asignación de los recursos públicos a los proyectos de inversión más rentables desde el punto de vista socio-económico [Eficiencia socio-económica]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3. Evitar la discrecionalidad en el uso de los recursos públ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4. Realizar el seguimiento de los proyectos (monitoreo) a lo largo de su ciclo de vida, identificando desvíos (en costos y en tiempos) y decidiendo las correcciones necesaria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5. Medir los resultados o impactos de la inversión realizada (y no solo el conteo de productos –kms. de carreteras, nº de escuelas-), de modo de maximizar la eficiencia y equidad en el uso de los recursos públ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41732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Incrementalismo: (casi) la misma línea de base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los últimos 6 Presupues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34" name="1 Gráfico" descr=""/>
          <p:cNvPicPr/>
          <p:nvPr/>
        </p:nvPicPr>
        <p:blipFill>
          <a:blip r:embed="rId1"/>
          <a:stretch/>
        </p:blipFill>
        <p:spPr>
          <a:xfrm>
            <a:off x="-46080" y="2557440"/>
            <a:ext cx="4835520" cy="4264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457200" y="2330280"/>
            <a:ext cx="38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crementos 2014/2009 por Áreas Progra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64120" y="3670200"/>
            <a:ext cx="38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pacio fiscal = 2.9% del P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pacio Fiscal / Presupuesto 2009 = 1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558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38" name="1 Gráfico" descr=""/>
          <p:cNvPicPr/>
          <p:nvPr/>
        </p:nvPicPr>
        <p:blipFill>
          <a:blip r:embed="rId1"/>
          <a:stretch/>
        </p:blipFill>
        <p:spPr>
          <a:xfrm>
            <a:off x="176040" y="1262160"/>
            <a:ext cx="8791920" cy="5351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179280" y="843120"/>
            <a:ext cx="65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No obstante, evolución favorable de las rigid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Rigidez macro: intereses, nivel óptimo de reservas y espacio fisc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Nivel actual de Reservas = US$ 18.180 mill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Nivel óptimo de Reservas = US$ 11.550 mill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upuesto conservador de riesgos 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ambiari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e corrida bancari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e corrida contra la Deuda Públic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xcedente = U$S 6.630 millone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9040" y="1417320"/>
            <a:ext cx="878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 Presupuesto </a:t>
            </a: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¿</a:t>
            </a: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or Programas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43" name="1 Gráfico" descr=""/>
          <p:cNvPicPr/>
          <p:nvPr/>
        </p:nvPicPr>
        <p:blipFill>
          <a:blip r:embed="rId1"/>
          <a:stretch/>
        </p:blipFill>
        <p:spPr>
          <a:xfrm>
            <a:off x="128520" y="1987560"/>
            <a:ext cx="4673520" cy="49212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303120" y="2152800"/>
            <a:ext cx="400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ndara"/>
              </a:rPr>
              <a:t>Ejecución Presupuestal 2013 por Área Programá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 Gráfico" descr=""/>
          <p:cNvPicPr/>
          <p:nvPr/>
        </p:nvPicPr>
        <p:blipFill>
          <a:blip r:embed="rId2"/>
          <a:stretch/>
        </p:blipFill>
        <p:spPr>
          <a:xfrm>
            <a:off x="4700520" y="2655720"/>
            <a:ext cx="5645160" cy="3649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5322960" y="2174760"/>
            <a:ext cx="4006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ndara"/>
              </a:rPr>
              <a:t>Ejecución Presupuestal 2013 de S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9280" y="1384200"/>
            <a:ext cx="87854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rogramas “bolsa”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l caso de Vivienda: casi el 60% del Presupuesto del MVOTMA  (0.5% del PIB) corresponde a un único programa: Rehabilitación y Consolidación Urbano Habitacion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resupuestación de “pelotas” de inversió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 importancia del SNIP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3600" y="2166840"/>
            <a:ext cx="8416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Crecimiento del PIB por encima del Tendenci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. Aumento de la importancia del Estad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Peso de la Inversión Pública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4. Restricciones Macro-Fisc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Callejón Fisc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Cajas Militar y Policial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juste Pensi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Gasto en Salud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63240" y="1324080"/>
            <a:ext cx="8537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I. ¿POR QUÉ PLANIFICAR EN URUGUAY?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384200"/>
            <a:ext cx="87854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 Programas ¿Transversales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Aún insuficiente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MIDES = el socio menor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Inercia =&gt; el recurso del territorio: 7 Zon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Transversalidad desde el diseñ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3600" y="2106360"/>
            <a:ext cx="7935840" cy="35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ndara"/>
              </a:rPr>
              <a:t>III. EL PRESUPUESTO QUINQUENAL </a:t>
            </a:r>
            <a:endParaRPr b="0" lang="en-US" sz="40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ndara"/>
              </a:rPr>
              <a:t>EN URUGUAY</a:t>
            </a:r>
            <a:endParaRPr b="0" lang="en-US" sz="40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–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br>
              <a:rPr sz="3600"/>
            </a:br>
            <a:r>
              <a:rPr b="0" lang="es-SV" sz="2000" spc="-1" strike="noStrike">
                <a:solidFill>
                  <a:srgbClr val="bbe0e3"/>
                </a:solidFill>
                <a:latin typeface="Candara"/>
              </a:rPr>
              <a:t>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[Plazos internos no obligatorios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141768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DinC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0/junio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– MEF, con asesoramiento de OPP, eleva al PE para aprobar en CM: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ioridades de Asignación Presupuestal para el período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ogramación Fiscal y Financier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incipales Lineamientos Operativos para la Formulación del Presupuesto 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Candara"/>
              </a:rPr>
              <a:t>[TOP-DOW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1/juli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Incisos de la Administración Central comunican al MEF sus propuestas (fundamentadas, costeadas y articuladas)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organismos del artículo 220 de la Constitución de la República remiten al MEF sus proyectos de presupuest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EF coordina el proceso de elaboración del Proyecto de Ley de Presupuesto 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15/agosto –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EF, con asesoramiento de OPP y ONSC, presentan proyecto al PE par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probar en CM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1/agosto -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Vence el plazo constitucional para presentación del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Presupuesto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Quinquenal al P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000" y="23940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endParaRPr b="0" lang="en-US" sz="2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4" name="Picture 25" descr=""/>
          <p:cNvPicPr/>
          <p:nvPr/>
        </p:nvPicPr>
        <p:blipFill>
          <a:blip r:embed="rId1"/>
          <a:stretch/>
        </p:blipFill>
        <p:spPr>
          <a:xfrm>
            <a:off x="257040" y="1284120"/>
            <a:ext cx="8229600" cy="4399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7040" y="595476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El PL no puede aumentar gastos sin la financiación correspond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Iniciativas privativas del PE. </a:t>
            </a:r>
            <a:r>
              <a:rPr b="0" i="1" lang="es-ES_tradnl" sz="2200" spc="-1" strike="noStrike">
                <a:solidFill>
                  <a:srgbClr val="000000"/>
                </a:solidFill>
                <a:latin typeface="Candara"/>
              </a:rPr>
              <a:t>La regla de oro</a:t>
            </a: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00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endParaRPr b="0" lang="en-US" sz="2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structura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que debe tener el Presupuesto Quinquenal (Art. 214 de la Constitución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Gastos corrientes e Inversiones distribuidos en cada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Inciso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por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Programa.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[El Presupuesto 2010-2014 se presentó, además, por Áreas Programáticas y con Programas transversales].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scalafones y sueldos funcionales distribuidos en cada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Inciso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por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Programa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Recursos y estimación de su producido, así como el porcentaje que, sobre el monto total de recursos, corresponderá a los Gobiernos Subnacionale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l P x P está establecido en la propia Constitución -así como la clasificación institucional y la económica del gasto-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Las asignaciones presupuestales constituyen créditos abiertos para realizar los gastos. La asignación de créditos es anual, no quinquenal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Años no móviles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Cada uno de los 5 años debe presentarse con el mismo nivel de desagregación, tanto para gastos como para recursos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(Otra) diferencia con los MPMP = desagregado vs. agregado; obligatorio vs. Referencial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Los gastos no ejecutados al cierre del ejercicio quedan sin valor ni efecto alguno. [Ejercicio financiero:  1° de enero a 31 de diciembre]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Los impuestos afectados, las sillas del Decano y las transferencias a ejecutores fuera del Presupuesto (CND) [= Fuga del Derecho Público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83760"/>
            <a:ext cx="82296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</a:rPr>
              <a:t>Destino del crédito: Los créditos no podrán destinarse a finalidad u objeto que no sean los enunciados en la asignación presupuestal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Hay excepciones por normativa de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Trasposi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, que se verán más adelante. </a:t>
            </a:r>
            <a:r>
              <a:rPr b="0" lang="es-SV" sz="2000" spc="-1" strike="noStrike">
                <a:solidFill>
                  <a:srgbClr val="2bd33b"/>
                </a:solidFill>
                <a:latin typeface="Candara"/>
              </a:rPr>
              <a:t>[FLEX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Presentación del Presupuesto en forma comparativa con el vigente. (Art. 216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No se establecerá en los Presupuestos ni en las RC disposiciones cuya vigencia exceda la del mandato de gobierno. (Art. 216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Mientras no se apruebe el Presupuesto, continúa rigiendo el Presupuesto vigente. (Art. 228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Tipos de Crédito Presupuest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a) Permanente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Retribuciones de funcionarios presupuestados  (permanente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b) Anual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c) Por una sola vez:</a:t>
            </a: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 saldo sin ejecutar pasa al ejercicio siguiente. Uso muy acotado. </a:t>
            </a:r>
            <a:r>
              <a:rPr b="0" lang="es-ES" sz="2200" spc="-1" strike="noStrike">
                <a:solidFill>
                  <a:srgbClr val="2bd33b"/>
                </a:solidFill>
                <a:latin typeface="Candara"/>
              </a:rPr>
              <a:t>[FLEX]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enso de Pobla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d) Estimativo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Beneficios familiares (ejemplos: Prima por matrimonio, Prima por nacimiento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Transferencias (ejemplos: Asistencia financiera a la Seguridad Social; Fondo de reintegro de impuestos a turista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Intereses y otros gastos de la deuda (internos y externo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Otros gastos (ejemplo: Honores fúnebre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777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Fecha valor de la presupuestación y 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Se presupuesta a valores de 1° de enero del primer año de Gobierno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Las modificaciones de las RC se presupuestan a valores de 1° de enero del año en que se presenta la RC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028520" indent="-2055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No se hacen proyecciones de inflación, solo de crecimiento real, 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n base a estimaciones macro, tanto para ingresos como para gas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La Ley de Presupuesto y las de RC establecen mecanismos de ajuste de crédito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2 Marcador de contenido"/>
          <p:cNvSpPr/>
          <p:nvPr/>
        </p:nvSpPr>
        <p:spPr>
          <a:xfrm>
            <a:off x="250920" y="1916280"/>
            <a:ext cx="8497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 Gráfico" descr=""/>
          <p:cNvPicPr/>
          <p:nvPr/>
        </p:nvPicPr>
        <p:blipFill>
          <a:blip r:embed="rId1"/>
          <a:stretch/>
        </p:blipFill>
        <p:spPr>
          <a:xfrm>
            <a:off x="609480" y="2444760"/>
            <a:ext cx="7205760" cy="4011480"/>
          </a:xfrm>
          <a:prstGeom prst="rect">
            <a:avLst/>
          </a:prstGeom>
          <a:ln w="0">
            <a:noFill/>
          </a:ln>
        </p:spPr>
      </p:pic>
      <p:sp>
        <p:nvSpPr>
          <p:cNvPr id="57" name="1 CuadroTexto"/>
          <p:cNvSpPr/>
          <p:nvPr/>
        </p:nvSpPr>
        <p:spPr>
          <a:xfrm>
            <a:off x="2273400" y="47116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ndara"/>
              </a:rPr>
              <a:t>2,2% promedi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50920" y="961920"/>
            <a:ext cx="793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1. Crecimiento mayor que el tenden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en los últimos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 flipV="1">
            <a:off x="7037280" y="2827440"/>
            <a:ext cx="662040" cy="15523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654520" y="294804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5,3 promedi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Remunera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ajuste anual en función de IPC. Si el IPC supera 10%, el ajuste puede ser semestral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Gastos de Funcionamiento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(excepto Suministros),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bsidio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bven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como máximo IPC, </a:t>
            </a:r>
            <a:r>
              <a:rPr b="0" i="1" lang="es-SV" sz="2000" spc="-1" strike="noStrike">
                <a:solidFill>
                  <a:srgbClr val="000000"/>
                </a:solidFill>
                <a:latin typeface="Candara"/>
              </a:rPr>
              <a:t>uniforme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en función de las disponibilidades del Tesoro Nacional. Puede ser cuatrimestral y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99"/>
                </a:solidFill>
                <a:latin typeface="Candara"/>
              </a:rPr>
              <a:t>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ministro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ajuste en cada oportunidad en que varían las tarifas públicas.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Invers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como máximo IPC, </a:t>
            </a:r>
            <a:r>
              <a:rPr b="0" i="1" lang="es-SV" sz="2000" spc="-1" strike="noStrike">
                <a:solidFill>
                  <a:srgbClr val="000000"/>
                </a:solidFill>
                <a:latin typeface="Candara"/>
              </a:rPr>
              <a:t>uniforme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en función de las disponibilidades de las respectivas fuentes de financiamiento. Puede ser cuatrimestral y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Desde este año, el MEF está autorizado a realizar ajustes </a:t>
            </a:r>
            <a:r>
              <a:rPr b="0" i="1" lang="es-ES_tradnl" sz="2200" spc="-1" strike="noStrike">
                <a:solidFill>
                  <a:srgbClr val="000000"/>
                </a:solidFill>
                <a:latin typeface="Candara"/>
              </a:rPr>
              <a:t>no uniformes </a:t>
            </a: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de gastos de funcionamiento: como máximo IPC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Razones: i) evitar el ajuste uniforme y ii) evitar que “la inflación se coma los refuerzos”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especi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réditos que se ajustan por recaudación. [Proyectos de inversión financiados con el Fondo Nacional de Vivienda; ajuste bimensual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réditos que se ajustan por IPC. [Transferencias a Gobiernos Departamentales;  ajuste anual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Precios y tasas que se fijan en unidades especiales (UR, UI) y que se actualizan con la frecuencia que determina la ley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Din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482400"/>
            <a:ext cx="71582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FLEXIBILIZACIÓN de las RIGIDECES de un PRESUPUESTO PLURIANUAL – El caso de URUGUAY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2285640"/>
            <a:ext cx="878544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93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Repaso de algunas características del presupuesto plurianual en Uruguay que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permiten la asignación de recursos y la instrumentación de políticas en un horizonte de mediano plazo, acorde al plan de Gobierno, y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aportan, además, los elementos necesarios para su adaptabilidad a cambios en las proyecciones de las variables macroeconómicas en las que se basó la formulación del Plan y del Presupuesto original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749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361800"/>
            <a:ext cx="71582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1. RENDICIÓN de CUENT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985760"/>
            <a:ext cx="8785440" cy="4329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83000"/>
          </a:bodyPr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nualmente el PE debe rendir cuentas al PL de lo actuado en el ejercicio anterior y, en esa ocasión, puede introducir modificaciones para el ejercicio en curso y/o los siguientes (Art. 214 de la Constitución)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Modificaciones al monto global de gastos o de recurso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Crear, suprimir o modificar programa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El PL no puede aprobar presupuestos 12 meses antes de las elecciones nacionales, por lo que el último año de Gobierno el PE no puede proponer modificacione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2. PARTIDAS de CONTINGENCI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565280"/>
            <a:ext cx="8785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ff6699"/>
                </a:solidFill>
                <a:latin typeface="Candara"/>
              </a:rPr>
              <a:t>1. Imprevistos - </a:t>
            </a:r>
            <a:r>
              <a:rPr b="0" lang="es-SV" sz="2200" spc="-1" strike="noStrike">
                <a:solidFill>
                  <a:srgbClr val="000000"/>
                </a:solidFill>
                <a:latin typeface="Candara"/>
              </a:rPr>
              <a:t>Presupuestación de partida de contingencia del 1% del total del Presupuesto para acontecimientos graves e imprevistos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900" spc="-1" strike="noStrike">
                <a:solidFill>
                  <a:srgbClr val="000000"/>
                </a:solidFill>
                <a:latin typeface="Candara"/>
              </a:rPr>
              <a:t>Dispone el PE dando cuenta a la Asamblea General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2. Refuerzos - </a:t>
            </a: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Presupuestación de partida de contingencia del 6% del presupuesto de gastos -la base de cálculo no incluye salarios, inversiones ni intereses de deuda-, para reforzar gastos no salariales y proyectos de inversión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Dispone el PE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RC versus Refuerzos (≈0.8% del PIB) en perspectiva: resultados versus resultadistas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Rigidez de los Refuerzos: Salud (17%) + Educación (7%) + Interior (15%) + Defensa (7.5%) = 46.5% en 2010-2014. </a:t>
            </a:r>
            <a:r>
              <a:rPr b="0" i="1" lang="es-ES" sz="1900" spc="-1" strike="noStrike">
                <a:solidFill>
                  <a:srgbClr val="000000"/>
                </a:solidFill>
                <a:latin typeface="Candara"/>
              </a:rPr>
              <a:t>[2014 estimado] </a:t>
            </a:r>
            <a:r>
              <a:rPr b="0" i="1" lang="es-ES" sz="1900" spc="-1" strike="noStrike">
                <a:solidFill>
                  <a:srgbClr val="ff6699"/>
                </a:solidFill>
                <a:latin typeface="Candara"/>
              </a:rPr>
              <a:t>=&gt; Línea de Base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El mayor peso de los Refuerzos (hasta 15%) en gobiernos de coalición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2" marL="767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3. LEYES con IMPACTO PRESUPUEST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1444320"/>
            <a:ext cx="8785440" cy="52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SOLO en Presupuesto - 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La autorización de gastos y creación y supresión de empleos y servicios públicos debe hacerse en leyes de Presupuesto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Toda otra ley que signifique gastos para el Tesoro Nacional deberá indicar los recursos con que serán cubiertos. (Art. 86 de la Constitución)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n diciembre de 2012, se creó por Ley la Universidad Tecnológica. En junio de 2013, se creó/redefinió el Impuesto al Patrimonio Agropecuario y se estableció que el 10% de la recaudación se destinaría a proyectos educativos de este nuevo autónomo de enseñanza, los que deberán ser incluidos en las sucesivas instancias presupuestales.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3. LEYES con IMPACTO PRESUPUEST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9280" y="1444320"/>
            <a:ext cx="8785440" cy="52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Además, pueden aprobarse algunas leyes con impacto presupuestal (en gastos y/o ingresos) “en razón de la materia que comprendan”.  (Art. 214 de la Constitución)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jemplos: Creación del MIDES, Reforma Tributaria, Reforma de la Salud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NO en PRESUPUESTO - 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 pueden incluirse en Leyes de Presupuesto ni en RC modificaciones al régimen de Seguridad Social, Seguros Sociales, Previsión Socia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4. OTRAS NORM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564920"/>
            <a:ext cx="87854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rmas aprobadas en instancias del Presupuesto Quinquenal o Rendiciones de Cuenta que flexibilizan la ejecución del Presupuesto, facultando al PE a hacer algunas reasignaciones de partidas presupuestales para optimizar el uso de recurs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Modificación de fuentes de financiamiento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Trasposición de asignaciones presupuestales entre determinados objetos del gasto, entre proyectos, programas e incluso entre Ministerios u Organismos siempre que haya objetivos comunes. En este último caso, se deberá dar cuenta al Tribunal de Cuentas y al PL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5. NUEVOS PROYECTO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565280"/>
            <a:ext cx="878544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Posibilidad del PE de  habilitar proyectos de inversión y de funcionamiento en cualquier momento, siempre que no impliquen costo presupuestal e informando al Tribunal de Cuentas y al PL (2010)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005840" indent="-200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Financiamiento con trasposiciones y ¿con refuerzos?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106200" y="782640"/>
            <a:ext cx="69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2. Aumento de la importancia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-422280" y="155412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Gasto del Gobierno Central como porcentaje del P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 Rectángulo"/>
          <p:cNvSpPr/>
          <p:nvPr/>
        </p:nvSpPr>
        <p:spPr>
          <a:xfrm>
            <a:off x="905040" y="5977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ndara"/>
              </a:rPr>
              <a:t>Fuente: F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5" descr=""/>
          <p:cNvPicPr/>
          <p:nvPr/>
        </p:nvPicPr>
        <p:blipFill>
          <a:blip r:embed="rId1"/>
          <a:stretch/>
        </p:blipFill>
        <p:spPr>
          <a:xfrm>
            <a:off x="785880" y="192564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6. LÍMITES de EJECU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564920"/>
            <a:ext cx="87854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Facultad del PL al PE de establecer límites a la ejecución presupuestal -no a salarios- cuando los recursos fueran inferiores a los presupuestados y de establecer prioridades en caso de restricciones fiscales, informando al PL 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14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7. TOPES de ENDEUDAMIENTO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2045880"/>
            <a:ext cx="878544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Fijación de topes de endeudamiento por Ley, facultando al PE a incrementarlo hasta determinados límites, en determinadas condiciones, informando al PL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14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8. CONVENIOS con ORGANISMOS INTERNACIONALE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2045880"/>
            <a:ext cx="878544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Los convenios con organismos internacionales de los que el país forma parte no requieren ratificación del P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Esto hace más ágil la incorporación de proyectos y financiamientos en los proyectos de ley de Presupuesto y/o Rendición de Cuenta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9. DONACIONES y LEGADO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2046240"/>
            <a:ext cx="878544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Por disposición legal, las donaciones y legados se consideran no presupuestales. Deben registrarse en el SIIF e incluirse en la Rendición de Cuentas anual al P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Esto permite hacer uso de los mismos desde el momento en que son aceptados por el PE, sin tener que esperar una instancia presupuestal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 obstante, el principio general legal es que el sistema presupuestario debe incluir todos los gastos e ingresos, los que deben figurar por separado, sin compensaciones entre sí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 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1417680"/>
            <a:ext cx="87854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o que no se mide, no se conoce…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y lo que no se conoce, no se puede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ontrolar =&gt; Monitore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xplicar =&gt; Evaluac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ncentivar =&gt; Compromisos de Gest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orregir =&gt; Reasignaciones presupuestales y/o cambios de política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ar respuesta a la ciudadanía sobre el uso de los recursos público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ndara"/>
              </a:rPr>
              <a:t>=&gt;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Sin Monitoreo y Evaluación no es posible la Planifica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7442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r en forma oportuna (siempre) y no oportunista (solo en las Renciones de Cuenta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RC = 1/3 Refuerzo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s asignaciones estratégicas son las del Presupuesto Quinquen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r todo, no solo el Gasto Corriente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ón de la Inversión: SNIP  es evaluación ex ante, durante y ex post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ón de la eficacia, eficiencia y equidad del Gasto Tributario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560" y="122400"/>
            <a:ext cx="685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Gasto Tributario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9120" y="1925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Gasto Tributario en IR Empresas en países seleccionados de AL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03040" y="2286000"/>
          <a:ext cx="5257800" cy="3782880"/>
        </p:xfrm>
        <a:graphic>
          <a:graphicData uri="http://schemas.openxmlformats.org/drawingml/2006/table">
            <a:tbl>
              <a:tblPr/>
              <a:tblGrid>
                <a:gridCol w="2337120"/>
                <a:gridCol w="979200"/>
                <a:gridCol w="1173240"/>
                <a:gridCol w="768240"/>
              </a:tblGrid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 % del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asto Tribu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caudación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c. Ef/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rasil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hile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sta Rica (20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lombia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cuador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uatemala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amaica (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éxico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aguay (20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. Dominicana (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ruguay (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08080" y="6296040"/>
          <a:ext cx="3644640" cy="192240"/>
        </p:xfrm>
        <a:graphic>
          <a:graphicData uri="http://schemas.openxmlformats.org/drawingml/2006/table">
            <a:tbl>
              <a:tblPr/>
              <a:tblGrid>
                <a:gridCol w="36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uente: BID (Recaudar para crecer) y cálculos pro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654520" y="2766960"/>
          <a:ext cx="3353040" cy="995400"/>
        </p:xfrm>
        <a:graphic>
          <a:graphicData uri="http://schemas.openxmlformats.org/drawingml/2006/table">
            <a:tbl>
              <a:tblPr/>
              <a:tblGrid>
                <a:gridCol w="2364120"/>
                <a:gridCol w="98892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asa nominal de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asa efectiva de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654520" y="4419720"/>
          <a:ext cx="3353040" cy="7412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98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A Beneficio Tributa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0% del monto de inversión promov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 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17680"/>
            <a:ext cx="87854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Que la evaluación no alient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Programiti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Ir a evaluación de política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lgunas causa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Programiti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ones para el Ejecutivo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cuerdos de Mejora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¿Relación lineal y mecánica entre (malos) resultados y (menores) recursos? [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Direct performance budgeting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l diseño importa: los casos de Patronato y de Cooperativas de Vivienda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 implementación importa: el caso de Autoconstruc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Decisiones políticas: i) 4.5% del PIB para la educación. ii) ¿Renunciar a la seguridad vial?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43000" y="122400"/>
            <a:ext cx="67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3. Inversión pública relativamente alta con respecto a 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región y el m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 CuadroTexto"/>
          <p:cNvSpPr/>
          <p:nvPr/>
        </p:nvSpPr>
        <p:spPr>
          <a:xfrm>
            <a:off x="243000" y="644364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ndara"/>
              </a:rPr>
              <a:t>Fuente: CEPAL y EUR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hart 5" descr=""/>
          <p:cNvPicPr/>
          <p:nvPr/>
        </p:nvPicPr>
        <p:blipFill>
          <a:blip r:embed="rId1"/>
          <a:stretch/>
        </p:blipFill>
        <p:spPr>
          <a:xfrm>
            <a:off x="492120" y="1393920"/>
            <a:ext cx="7978680" cy="5100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784080" y="1139760"/>
            <a:ext cx="63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Inversión Pública como porcentaje de la Inversió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2" descr=""/>
          <p:cNvPicPr/>
          <p:nvPr/>
        </p:nvPicPr>
        <p:blipFill>
          <a:blip r:embed="rId1"/>
          <a:stretch/>
        </p:blipFill>
        <p:spPr>
          <a:xfrm>
            <a:off x="420840" y="1444680"/>
            <a:ext cx="8600760" cy="4333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603360" y="5894280"/>
            <a:ext cx="7456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Fuente: BID-CIAT (20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1/ Para Ecuador y Nicaragua, se dispone de información de presión fiscal a partir de los años 1993 y 1991, respectivamente. 2/ Promedio ponderado por el PIB corriente de cada país. 3/ Las contribuciones a la seguridad social incluyen a los sistemas de pensiones y salud, públicos y privados, obligatorios. 4/ Ingresos netos recaudados por  la explotación de recursos naturales. 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22400" y="425520"/>
            <a:ext cx="73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URUGUAY: TOP 5 EN PRESIÓN TRIBUTA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9960" y="1419120"/>
            <a:ext cx="64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PRESIÓN FISCAL EQUIVALENTE A LA BID/C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hart 1" descr=""/>
          <p:cNvPicPr/>
          <p:nvPr/>
        </p:nvPicPr>
        <p:blipFill>
          <a:blip r:embed="rId1"/>
          <a:stretch/>
        </p:blipFill>
        <p:spPr>
          <a:xfrm>
            <a:off x="365040" y="1530360"/>
            <a:ext cx="835812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3"/>
          <p:cNvSpPr/>
          <p:nvPr/>
        </p:nvSpPr>
        <p:spPr>
          <a:xfrm>
            <a:off x="4871880" y="2776680"/>
            <a:ext cx="662040" cy="2765160"/>
          </a:xfrm>
          <a:custGeom>
            <a:avLst/>
            <a:gdLst>
              <a:gd name="textAreaLeft" fmla="*/ 32040 w 662040"/>
              <a:gd name="textAreaRight" fmla="*/ 630000 w 662040"/>
              <a:gd name="textAreaTop" fmla="*/ 32040 h 2765160"/>
              <a:gd name="textAreaBottom" fmla="*/ 2733120 h 2765160"/>
            </a:gdLst>
            <a:ahLst/>
            <a:rect l="textAreaLeft" t="textAreaTop" r="textAreaRight" b="textAreaBottom"/>
            <a:pathLst>
              <a:path w="21600" h="90180">
                <a:moveTo>
                  <a:pt x="3600" y="0"/>
                </a:moveTo>
                <a:arcTo wR="3600" hR="3600" stAng="16200000" swAng="-5400000"/>
                <a:lnTo>
                  <a:pt x="0" y="86580"/>
                </a:lnTo>
                <a:arcTo wR="3600" hR="3600" stAng="10800000" swAng="-5400000"/>
                <a:lnTo>
                  <a:pt x="18000" y="90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-779400" y="195120"/>
            <a:ext cx="90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… </a:t>
            </a: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ERO A MITAD DE TAB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EN INGRESO FISCAL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287440" y="139068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GRESO FISCAL DISPONIBLE 2010. EN % DEL 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82760" y="5773680"/>
            <a:ext cx="763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GRESO FISCAL DISPONIBLE = TOTAL INGRESOS – SEGURIDAD SOCIAL –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Fuente: Elaboración propia en base a BID, BM y C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067520" cy="13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EL CALLEJÓN FISCAL</a:t>
            </a:r>
            <a:br>
              <a:rPr sz="2800"/>
            </a:br>
            <a:r>
              <a:rPr b="0" lang="es-MX" sz="2400" spc="-1" strike="noStrike">
                <a:solidFill>
                  <a:srgbClr val="000000"/>
                </a:solidFill>
                <a:latin typeface="Candara"/>
              </a:rPr>
              <a:t>PRESUPUESTO TOTAL versus DISPONIBLE</a:t>
            </a:r>
            <a:br>
              <a:rPr sz="2800"/>
            </a:br>
            <a:r>
              <a:rPr b="0" lang="es-MX" sz="2200" spc="-1" strike="noStrike">
                <a:solidFill>
                  <a:srgbClr val="000000"/>
                </a:solidFill>
                <a:latin typeface="Candara"/>
              </a:rPr>
              <a:t>Evolución en % del PIB 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79" name="3 Marcador de contenido" descr=""/>
          <p:cNvPicPr/>
          <p:nvPr/>
        </p:nvPicPr>
        <p:blipFill>
          <a:blip r:embed="rId1"/>
          <a:stretch/>
        </p:blipFill>
        <p:spPr>
          <a:xfrm>
            <a:off x="469800" y="156672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80" name="4 CuadroTexto"/>
          <p:cNvSpPr/>
          <p:nvPr/>
        </p:nvSpPr>
        <p:spPr>
          <a:xfrm>
            <a:off x="826920" y="6093000"/>
            <a:ext cx="727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ndara"/>
              </a:rPr>
              <a:t>Presupuesto Disponible = Presupuesto Total – Intereses de deuda – Transferencias Seguridad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6 Conector recto de flecha"/>
          <p:cNvCxnSpPr/>
          <p:nvPr/>
        </p:nvCxnSpPr>
        <p:spPr>
          <a:xfrm>
            <a:off x="8100720" y="2565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82" name="7 Conector recto de flecha"/>
          <p:cNvCxnSpPr/>
          <p:nvPr/>
        </p:nvCxnSpPr>
        <p:spPr>
          <a:xfrm>
            <a:off x="5795640" y="2421000"/>
            <a:ext cx="1080" cy="122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83" name="10 Conector recto de flecha"/>
          <p:cNvCxnSpPr/>
          <p:nvPr/>
        </p:nvCxnSpPr>
        <p:spPr>
          <a:xfrm>
            <a:off x="2615760" y="36799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84" name="1 CuadroTexto"/>
          <p:cNvSpPr/>
          <p:nvPr/>
        </p:nvSpPr>
        <p:spPr>
          <a:xfrm>
            <a:off x="7524720" y="2744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DinC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5219640" y="3149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DinC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4:35:00Z</dcterms:created>
  <dc:creator>Administrador</dc:creator>
  <dc:description/>
  <dc:language>en-US</dc:language>
  <cp:lastModifiedBy>Gilda Arias</cp:lastModifiedBy>
  <cp:lastPrinted>2014-09-29T17:52:01Z</cp:lastPrinted>
  <dcterms:modified xsi:type="dcterms:W3CDTF">2014-12-16T11:57:34Z</dcterms:modified>
  <cp:revision>455</cp:revision>
  <dc:subject/>
  <dc:title>Titulo Din C</dc:title>
</cp:coreProperties>
</file>