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6F5-A784-4810-ADC4-32D6A7A4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4C6-3AE6-4D64-9CCB-C1BF42F0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D3BCB-CD32-440B-8EA6-D10521CD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329AA-FA20-4598-B811-CBAD531C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0B59E-17FF-4082-A1CB-F2F9D776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5C67B-CB4F-4F09-A734-24FB9C0D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F2E13-DA65-4395-93F7-C4262A72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20076-5C16-4E6D-AA5B-E64A41D5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5A041-D6A2-4913-84B9-EA8954A7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3341A-9873-47AE-8F73-AFB50A44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BD904-2C5A-41C6-B47E-8CC7F469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6F9DC-B313-4FE6-BE52-EAE5D5B3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1CB-9A4A-418A-B548-AB575F92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27E98-D48A-4C70-8025-C5F4D74E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2CE6B-B577-466D-94AE-40E18136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F032E-8125-4258-928C-79D2BC14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AA133-ECFB-47D2-AD2B-C440E641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B83C2-8E73-47A2-946F-5241BE6C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F2B81-4190-4AA2-B4AF-BA09A65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566A4-4E93-4E8C-A6F2-45073760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D8C02-6286-4D7C-AB3B-2F2C00D0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E02A9-7BF7-405E-9DB1-DFE2D3E4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31FFA-F99A-4B19-AC3E-6053F2C1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0AF-FF57-4EDC-AE47-20E4B46A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26E60-E19A-40E1-8ED9-5B96C045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41B62-7383-4093-93C3-BDAFEF79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B7968-A4A7-4680-9725-FB0CFA1F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3F4AC-51AF-4E10-8A4B-AC5B2C7A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BD652-4DB5-4986-8444-D23D99EF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FA0D4-3799-4C93-B7EC-639C71A5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BEB3E-4C19-442D-81FF-D72BD000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4FE8A-5E7B-4369-855F-7255E4E1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85A0F-F70B-4AAC-B2B8-E8D8591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75C7D-C9E6-423B-AF65-A79A42F0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B074-E7AB-4889-8EC7-AFF12C0F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6ABAE-E4D0-4198-A5F0-59D4E6F0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53D2B-B092-43E1-BC39-7E523645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2EBD7-416F-4855-B799-A537880B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68D64-30F8-430C-8916-274D204A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F4DCD-3EED-400D-8BF4-DEC8A29E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10D73-9504-4A50-9C76-8CE2A816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1CDFA-6130-42CB-9DFC-7D35496A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3BD3D-A852-4324-8247-7C5CDA95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4E2D4-1F2F-4461-8142-0A690AB4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994D8-81BC-4F47-A772-47965BC3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B7E9-1A1B-4031-B864-D28905B6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EAE23-FF77-430C-96F5-CDB1AB61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755F0-9435-4672-90EE-4D0AF3F0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36CE7-B159-486D-9E78-DB3F3E12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0CF29-4802-451C-915F-1487BCC7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2A547-9CAB-4F15-BF3A-F1E9EABE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66726-287E-4414-B9A1-F864D7DD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CD615-82FF-4E44-AE49-C284C328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62C36-7EBD-4F67-B9B2-7BE49C2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6FAA4-7B7D-4DB8-8673-5A748971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E6BCC-DC9E-4642-87E7-AA141AF5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1D22-CDE1-42B6-A477-67341685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682DF-65DB-4AFF-9A2C-2DADC899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2CC19-F7E8-4BD6-873C-04DD4C70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20E15-AB89-4AA3-901C-B297E39B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8858F-37EA-457D-8542-9301B58B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27DF5-367F-414A-92D0-9B5FEFD6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2587D-B189-4C31-A025-8E31DDCA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D40B5-4B75-4A6A-A337-56B827A9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A6403-8F6C-479A-92F5-A930D6B4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D11CE-8D81-4FB5-8AEA-8E74C774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A9F1A-70CE-4361-B917-F2C4D3D1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9E58-E3A3-4E60-A641-348DDC68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70CD3-4D29-4473-BA72-55B7F991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8BDA1-2D48-4F74-98E9-6F387A59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DEEAC-BA88-4A99-ADF9-EA589EB8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956DB-61E3-4616-9650-D73A3671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9ACD2-6DE9-4CFA-AFE9-5AF19518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2A55F-CFB4-4CD7-8C8D-1F3C22E7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1960C-5A84-4FC5-8D12-84D42F1E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95947-58FE-463B-A6BE-D34A04DA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C3566-DADF-4F4F-AD3C-12804A82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BA7FE9-A592-44E6-9F2E-B9D9DF0C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A8DD-6D53-4AEB-A3A0-2CD0CCC7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89380-7DF0-4263-BF05-9285A7B1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EDCB4-DB81-4EAB-B22F-7DE2F331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A2CC1-10F2-4DF7-BA82-0E5DC4AC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1ABB3-E5B6-4585-98AA-8632BAEA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49731-D66A-439A-AB33-700B4840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B40F7-D267-46B9-B972-80B0BF51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4C835-8E31-41D8-BA86-80BDC8EC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E8817-4324-4532-A43D-BECC0830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CA49D-5BE9-425F-B01B-EF2FE894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D662B6-A344-4464-8D8D-299DCAFB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720C-2F40-424F-8799-CE4ABF5C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09BA4-A80C-40FC-879E-D0A11C96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D30DF-A013-4DE3-83A0-58E72E5D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7E1A1-0886-409F-B4B0-B1D9B487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4EBD0-B43A-4966-9CDF-02CD8475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A9BDC-83D4-450E-823D-AC7B82EB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3EB2E-12C1-48A8-8AF7-40AE4CBF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42C9B-59C2-46EE-AD9A-FE0C7D8B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717CB1-93DD-421A-85D3-A997D6B1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5E341-BAAB-4BF7-99E9-B6B8D366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219D3-59FD-4E26-8A83-C37348E6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6EF7-2F6B-426E-840C-2F73C3B1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B73A2-428E-48AF-B41A-B665FD50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29218-3561-46CE-962E-CC8F2503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F9583-C491-4B18-A055-01144005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110C6-8DD4-4B6F-B82A-280CD82B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69946-7182-4026-8D7D-10F8CF5B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A79205-A4FD-45F6-856C-CB6F7E48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B238C-4634-4E14-84E0-E709AD7E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789E5A-30E0-4CFF-A2BB-12E9F7EB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41A32C-A2B5-4413-A255-FE74CEFA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3142E-5131-4450-9F9E-5F8F110D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987-9C02-4A51-A161-0D76D35D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6506-0720-4651-9C21-2A6E35AE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551BA-AE2E-4943-8D3F-9ECEF5F0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727476-DCB6-4585-9AA2-B74C6DD0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39301-2D9A-4874-8506-1E90C901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D4F49-E727-4DD2-AFAC-58991484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501C5A-814A-4D25-A900-A78BF30B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25A7-EE71-47B1-9341-560DF67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E241-7565-4816-89CD-15D7A696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7F4B-4A62-4024-B0C1-11D2E10D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E8C0-1AA1-4750-9B6D-78EA014B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9D38-DAF9-41EB-BB38-C081F7DD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09418-7C09-4CFC-A296-3CB16CC3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D09E-DF45-4C09-AED5-3F5E1D83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03ED-2E73-4CA8-A2FD-33FDCC83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DAC0-D5D4-433A-889C-49F72565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EF7-94DA-4D86-A048-9251AD92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91FD-D49C-4916-8810-77B1A266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B783-9451-486A-8B5E-3C6BEDB7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2011-5946-46C2-9B55-5A737173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9D5E-95DE-42A8-B759-26B013EC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8C03-68EC-47BE-A0A4-895D77CA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84A5-EA2A-4AA8-9D4A-B55089B9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B084-1E19-40CF-A6C4-6A1E6F11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C9A5-8DF3-43AE-BBF6-EB01B5C7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09CE0-BC4D-4B86-B40E-4F8A3DDB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D1777-8785-4DA3-B44E-624455C0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979-E08A-4F18-8AAF-4543A9D7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543A-5CB3-43D8-83BD-D862661F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A7A8-300C-41E3-B9F9-9F924716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96263-629B-4093-B344-A976FB17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383E5-804F-40BF-9039-F80FA8F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43BD-A6BE-4256-A4B3-EDD2A994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EE7F-BD81-40A5-B412-32CE052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1C19-F6BF-48C2-B126-B6B8594D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A2BE1-83F1-4400-ADE9-6F5A3F21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BDB59-D338-4289-952B-BF4564A6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8B2D-CE36-4ADF-AE75-32FB2EB3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1CE-3FB2-415F-91D9-F25B4572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6B05F-BD4B-4808-A2F6-FFB09B63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23FEC-067E-4ACC-A932-9A4AB3E2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2C73C-55F6-4D69-A349-7C294633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D6658-425F-4D0A-BF7F-A208DFF4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8F3F-6332-4122-9DB5-151253D1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DBA5F-F32C-4D96-9A91-19013D2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60BA0-C8EE-43D4-AC1E-07A93F2E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6701-728F-4B75-82C7-5D5866F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D1326-400D-449A-9D2E-0476C8F9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3F7B2-95F4-452A-9B04-28E2390C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DC5-75F2-4F19-8653-677826BD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989B-B2DA-48EF-B4E9-8CE7C4F6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097DE-3F40-4383-B0EF-2DD6BC03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9A530-AF78-4808-A4E2-050CBE16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22E8-BE7C-4930-9D6B-AE2D1438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3DE6C-C784-438C-BD2B-A2A19A7F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2BA0-AF9C-4720-9E3C-3FE43DCF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6BD17-1FF8-41F3-886F-291445F7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9E63E-9532-4469-8DD4-DCF55AD3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499F5-7DAB-41E7-A9DE-A1D1914A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A4C06-3F84-457E-A6CC-E6BDDA1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0C7-5EF2-45FA-910C-119AC12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EB13A-B3C1-486D-8B77-7E7349B4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FBD5B-FCD2-4DE5-98D6-6E4B3F48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F741F-09E1-454A-A7AD-4D96959D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9F48A-9FB7-4C80-A5D4-B2BFE472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BFC3B-CA60-4FA7-96A0-AFAE3EF6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D61FB-096F-423C-BD6D-824BB0C2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6D541-D1CD-401A-B4B5-4EE1731B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BC63F-63B3-4378-842E-B207A158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6EAF6-FADE-476E-87A6-51A3F946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77728-C96E-4D2B-9D7B-72DB5324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5B7-0F9D-4E48-A4BF-C6C0789A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27FF7-09BF-4211-9C37-0AFDBA5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41FD2-5E78-44D9-A858-D4B7C436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EEAB7-0486-45C7-9330-F15F0BCF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D9CB2-5FD0-441E-A37A-FF49F758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52BA8-D1ED-4338-9E7A-2CE2B536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C3113-637E-4DB7-BD1C-9E9F8A4B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DC325-759D-48EF-8DA7-D9B1B345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71AB0-2964-4EE5-AAB2-0357832B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7E288-1D7D-4C76-8B92-EB3E5E08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A5B76-C366-450F-A29A-EAC071EE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406-7F98-41D5-865F-4C409861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61ABE-A1D7-4FF8-868B-41793FF5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CBB47-B540-4BFC-A885-2236660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89EEA-4CB4-42BF-BA1B-2CD8B96F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7B7E0-DCE7-4825-9931-9854649A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086CE-6818-404B-83DF-CBEBF809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CDDC4-0605-4F4E-A82A-4A8328ED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01D3E-3EF6-4778-B29B-D40A582F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25758-1B87-4E45-AF25-262E6414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EB49E-D28B-44ED-A530-B42E37FD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E3D86-0F7E-4F94-93D9-315F4620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47DE-2A72-4608-B31F-24F7FDE5BAB3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6F2A-108D-4C6E-B03F-FE47C6A66C1C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B67E-6641-427B-A0E3-396F453EB2F9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0B41-2C6B-47C3-BE62-AD1A3CB95CE2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A919-575E-4260-8D39-4C40F78CC36A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FE0D-7EB1-4765-A626-A5C439DB9390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23A4-5D28-44A4-9614-953828674D87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8070-86C9-43AC-9E95-038C9E6EFEB3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AB7E-B817-4EBB-B2FA-E6E7F99327C8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2335-2282-4BEF-9D53-9ED16DF0C2F6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DFC-ED98-42E4-BB6B-360C62C255CC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A654-7C24-4BDF-BC1B-36DE1E362023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BE5A-EACE-4DA7-919A-11962794F93F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8632-B050-4143-812F-6D65E5B816DF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B676-5C97-40F9-8B5E-1BC2FDBC8FA9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5542-E45A-428E-967A-DCD70ADC135C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9CDC-EE01-45ED-8C72-FE5AEAA4F898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fabian.repetto@gmail.com" TargetMode="External"/><Relationship Id="rId2" Type="http://schemas.openxmlformats.org/officeDocument/2006/relationships/hyperlink" Target="mailto:jbertranou@hotmail.com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591840"/>
            <a:ext cx="8915400" cy="29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La función de evaluación en el nivel nacional en Argentina y el desarrollo de capacidades: la instrumentación de un Programa de Posgrado en Evaluación de Políticas Pública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588760" y="3749760"/>
            <a:ext cx="891540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595959"/>
                </a:solidFill>
                <a:latin typeface="Century Gothic"/>
              </a:rPr>
              <a:t>Julián Bertranou (Universidad Nacional de San Martín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es-AR" sz="2400" spc="-1" strike="noStrike">
                <a:solidFill>
                  <a:srgbClr val="595959"/>
                </a:solidFill>
                <a:latin typeface="Calibri"/>
              </a:rPr>
              <a:t>Seminario Internacional de Evaluación de Políticas Públicas. Condiciones para favorecer las Evaluaciones de Impacto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595959"/>
                </a:solidFill>
                <a:latin typeface="Calibri"/>
              </a:rPr>
              <a:t>Montevideo, 2 a 4 de julio de 2014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595959"/>
                </a:solidFill>
                <a:latin typeface="Calibri"/>
              </a:rPr>
              <a:t>OPP Uruguay/Eurosocial/Gobierno de Españ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879560" y="457200"/>
            <a:ext cx="962496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200" spc="-1" strike="noStrike">
                <a:solidFill>
                  <a:srgbClr val="262626"/>
                </a:solidFill>
                <a:latin typeface="Century Gothic"/>
              </a:rPr>
              <a:t>Acciones de fortalecimiento de capacidades para la función de evaluació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879560" y="2133360"/>
            <a:ext cx="9624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Creación de una Unidad Especializad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Planificación, ejecución, normalización, difusión. En Coordinación con Ministerios e inserta en el sistema de administración financiera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sarrollo de un marco normativo integral y unificado para la evaluació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Creación de una Red de Evaluación en la AP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sarrollo de recursos humanos especializad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10347120" cy="21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Diploma de Estudios Avanzados en E</a:t>
            </a:r>
            <a:r>
              <a:rPr b="1" lang="es-AR" sz="4400" spc="-1" strike="noStrike">
                <a:solidFill>
                  <a:srgbClr val="262626"/>
                </a:solidFill>
                <a:latin typeface="Century Gothic"/>
              </a:rPr>
              <a:t>valuación de Políticas Públicas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Imagen 2" descr=""/>
          <p:cNvPicPr/>
          <p:nvPr/>
        </p:nvPicPr>
        <p:blipFill>
          <a:blip r:embed="rId1"/>
          <a:stretch/>
        </p:blipFill>
        <p:spPr>
          <a:xfrm>
            <a:off x="1768320" y="3670200"/>
            <a:ext cx="9145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647720" y="618840"/>
            <a:ext cx="939960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resentación y Objetivo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141200" y="1995480"/>
            <a:ext cx="102042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Dictado por la Universidad Nacional de San Martín (UNSAM), con el apoyo de la Jefatura de Gabinete de Ministros de la Nación (JGM) y el Banco Interamericano de Desarrollo (BID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El propósito principal del Programa es el fortalecer las habilidades de los funcionarios y funcionarias públicas (y de algunos profesionales de la sociedad civil) para promover, preparar, dirigir y validar procesos de evaluación de acciones de interés público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La evaluación es un momento clave de la gestión de las políticas públicas, en la medida en que facilita la acumulación de conocimiento y el aprendizaje organizacional tendientes a mejorar los efectos de estas políticas en la población, en la estructura social y productiva, y en las instituciones democráticas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647720" y="618840"/>
            <a:ext cx="939960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Equipo de gestió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2020680" y="2149560"/>
            <a:ext cx="96980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Director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: Fabián Repetto (</a:t>
            </a:r>
            <a:r>
              <a:rPr b="0" lang="es-AR" sz="18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fabian.repetto@gmail.com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Secretario Académico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: Julián Bertranou (</a:t>
            </a:r>
            <a:r>
              <a:rPr b="0" lang="es-AR" sz="18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jbertranou@hotmail.com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)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Consejo Académico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: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Roberto Martínez Nogueira, PhD (Presidente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María Matilde Ollier, PhD (Decana de la Escuela de Política y Gobierno, UNSAM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Dagmar Raczynski, PhD (Directora de Asesoría para el Desarrollo, Santiago de Chile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Lucas González, PhD (Secretario Académico de la Escuela de Política y Gobierno, UNSAM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arlos H. Acuña, PhD (Director del Programa de Estado y Políticas Públicas, Escuela de Política y Gobierno, UNSAM)                                                               Horacio Cao, Dr. (Director del INAP, JGM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erfil de participant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846160" y="2415960"/>
            <a:ext cx="8219880" cy="31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Funcionarios y funcionarias vinculados a las áreas de monitoreo y evaluación de proyectos, y a las áreas de gestión administrativa y presupuestari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Pertenecientes a 10 Ministerios además de la JGM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Una parte, con experiencia previa de monitoreo y evaluación de programas y proyect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roductos esperados del Program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2846160" y="2415960"/>
            <a:ext cx="82198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50 funcionarios y funcionarias capacitados para </a:t>
            </a: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promover, diseñar, ejecutar y evaluar </a:t>
            </a: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xperiencias de evaluación de políticas, programas y proyect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Foco específico: capacitados para diseñar y revisar </a:t>
            </a: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términos de referencia </a:t>
            </a: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 evaluacion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sarrollo de una </a:t>
            </a: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red de expertos</a:t>
            </a: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 en evaluación en el sector público, bajo la coordinación de la JGM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Estructura del Program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Century Gothic"/>
              </a:rPr>
              <a:t>9 asignaturas sustantivas y una taller anual de práctica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Century Gothic"/>
              </a:rPr>
              <a:t>3 trimestre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1° trimestre: 8/Abril – 17/Juni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2° trimestre: 1/Julio – 11/Sep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3° trimestre: 30/Sep – 4/Dic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Asignaturas</a:t>
            </a:r>
            <a:br>
              <a:rPr sz="3600"/>
            </a:br>
            <a:r>
              <a:rPr b="1" lang="es-AR" sz="2800" spc="-1" strike="noStrike">
                <a:solidFill>
                  <a:srgbClr val="262626"/>
                </a:solidFill>
                <a:latin typeface="Century Gothic"/>
              </a:rPr>
              <a:t>(270 horas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2588760" y="2133360"/>
            <a:ext cx="89154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Century Gothic"/>
              </a:rPr>
              <a:t>Fundamentos de la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Century Gothic"/>
              </a:rPr>
              <a:t>Fundamentos de Políticas Pública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Century Gothic"/>
              </a:rPr>
              <a:t>Métodos Cualitativo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Diseño de Programas y Proyecto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Métodos Cuantitativo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Diseño de la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Century Gothic"/>
              </a:rPr>
              <a:t>Evaluación Instituciona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Century Gothic"/>
              </a:rPr>
              <a:t>Inserción política e institucional de la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Century Gothic"/>
              </a:rPr>
              <a:t>Estrategias comparadas de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Formación práctica</a:t>
            </a:r>
            <a:br>
              <a:rPr sz="3600"/>
            </a:br>
            <a:r>
              <a:rPr b="1" lang="es-AR" sz="2800" spc="-1" strike="noStrike">
                <a:solidFill>
                  <a:srgbClr val="262626"/>
                </a:solidFill>
                <a:latin typeface="Century Gothic"/>
              </a:rPr>
              <a:t>(90 horas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2588760" y="2133720"/>
            <a:ext cx="891540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Taller de práctic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Dos sesiones orientadoras por cada trimest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Trabajo en Institución: 3 momento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Century Gothic"/>
              </a:rPr>
              <a:t>Relevar   prácticas de monitoreo y evaluación y registro de información en la institució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Century Gothic"/>
              </a:rPr>
              <a:t>Análisis   del diseño de un programa y su organización con miras a su coherencia interna,  inserción en la política pública,  y evaluabilidad 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Century Gothic"/>
              </a:rPr>
              <a:t>Formular TDR para la evaluación de un programa o algún aspecto de éste y proponer un diseño fino de la evaluación, justificando las decisiones tomada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lantel Docente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2835000" y="1773000"/>
            <a:ext cx="89154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Roberto Martínez Nogueir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Carlos Acuñ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Fabián Repet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Julián Bertranou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Jimena Rubi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Fernanda Potenz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Jorge Hintz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Pablo Vinocu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Lucas González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Luciano Andrenacc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Mercedes Di Virgili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La función de evaluación en el nivel nacional de Argentin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Organismos de carácter transversal que desarrollan experiencias de evaluación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Oficina Nacional de Presupuesto </a:t>
            </a: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(Secretaría de Hacienda): Sistema de seguimiento físico-financiero (SSFF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Consejo Nacional de Coordinación de Políticas Soc</a:t>
            </a: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iales: Sistema de Información, Monitoreo y Evaluación de Programas Sociales (SIEMPRO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Jefatura de Gabinete de Ministros</a:t>
            </a: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: 4 organismos/sistemas que se analizarán más adelante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(Análisis basado en Acuña, Martínez Nogueira y Rubio, 2013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Desafíos hacia el futuro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2835000" y="1851120"/>
            <a:ext cx="8915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el Gobierno Nacional y en especial, la JGM capitalice este recurso humano calificad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se incremente de manera sistemática la masa crítica de expert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se consolide una red de expertos y que se difundan e intercambien metodologías, experiencias y saber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se incorpore el nivel provincial en el proceso de fortalecimiento de las capacidades de evaluació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746440" y="497628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Muchas gracias,</a:t>
            </a:r>
            <a:br>
              <a:rPr sz="3600"/>
            </a:b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jbertranou@hotmail.com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Oficina Nacional de Presupuesto:</a:t>
            </a:r>
            <a:br>
              <a:rPr sz="3600"/>
            </a:b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SSFF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588760" y="2584440"/>
            <a:ext cx="8915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l SSFF constituye un sistema de información de la ejecución financiera y seguimiento trimestral de indicadores de metas físicas vinculadas a la provisión de bienes y/o servicios de los programas presupuestarios que en 2011 alcanzó a cubrir el 80% del total de la cartera programátic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Consejo Coordinador de Políticas Sociales: SIEMPR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588760" y="2047680"/>
            <a:ext cx="89154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El SIEMPRO es un sistema de monitoreo y evaluación de los programas sociales referidos a la pobreza implementados por diversos ministerios del PE nacional. Cuenta con el Sistema Integrado de Monitoreo (SIM) que proporciona información sobre actividades, recursos utilizados y disponibles, beneficiarios y resultados con relación con los programados. Asimismo, realiza evaluaciones de distinto tipo (ex - ante, diagnósticas, líneas de base, perspectiva de los beneficiarios, final de resultados y de impacto), varias de ellas de uso interno al Ministerio, sin acceso público o difusión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Actualmente los organismos que integran el Consejo de Coordinación de Políticas Sociales son: Desarrollo Social; Trabajo, Empleo y Seguridad Social; Educación; Ciencia, Tecnología e Innovación Productiva; Salud; Economía; Justicia y Derechos Humanos; Planificación Federal, Inversión Pública y Servicios; Secretaría Nacional de Niñez, Adolescencia y Familia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De acuerdo a datos proporcionados por Canievsky (2007), en el año 2007 el SIEMPRO disponía de información sobre 56 programas sociales del Estado nacional, y entre 1996 y 2007 se llevaron a cabo 36 evaluaciones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Jefatura de Gabinete de Ministro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982520" y="1778040"/>
            <a:ext cx="95216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La JGM tiene asignadas legalmente las responsabilidades principales en materia de monitoreo y evaluación de políticas y programas en el Estado Nacional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l Decreto 22/2011 establece que la Secretaría de Gabinete y Coordinación Administrativa de la JGM tiene a su cargo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entender en el proceso de monitoreo y evaluación de la ejecución de las políticas públicas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coordinar con los distintos organismos de la APN la articulación de los sistemas de evaluación sectoriales; y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desarrollar un sistema de seguimiento de los programas de gobierno, estableciendo indicadores claves de las políticas prioritarias para la toma de decisiones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Jefatura de Gabinete de Ministros (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588760" y="1904760"/>
            <a:ext cx="89154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404040"/>
                </a:solidFill>
                <a:latin typeface="Century Gothic"/>
              </a:rPr>
              <a:t>Lleva a cabo estas responsabilidades a través de 4 organismos</a:t>
            </a:r>
            <a:r>
              <a:rPr b="0" lang="es-AR" sz="28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Oficina Nacional de Innovación de Gestión (ONIG): Programa Carta Compromiso con el Ciudadan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Sistema Integral de Seguimiento y Evaluación de la Gestión (Proyecto de Modernización del Estado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Subsecretaría de Evaluación del Presupuesto Nacional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Subsecretaría de Evaluación de Proyectos con Financiamiento Extern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Imagen 1" descr=""/>
          <p:cNvPicPr/>
          <p:nvPr/>
        </p:nvPicPr>
        <p:blipFill>
          <a:blip r:embed="rId1"/>
          <a:stretch/>
        </p:blipFill>
        <p:spPr>
          <a:xfrm>
            <a:off x="2330280" y="412920"/>
            <a:ext cx="8037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457200"/>
            <a:ext cx="891216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200" spc="-1" strike="noStrike">
                <a:solidFill>
                  <a:srgbClr val="262626"/>
                </a:solidFill>
                <a:latin typeface="Century Gothic"/>
              </a:rPr>
              <a:t>Características de la función de evaluación en el nivel nacional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795400" y="2344320"/>
            <a:ext cx="89154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Inexistencia de un marco legal que establezca una visión integral sobre la función de evaluación, y que defina obligaciones, responsabilidades y estándar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No hay una unidad encargada de planificar, poner en práctica y coordinar las funciones de evaluación de política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importancia en las prioridades del Gobiern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inserción institucional en cada uno de los Ministerios o Agencias del Gobiern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relación funcional con los organismos de control interno y externo de la Administración Pública: SIGEN, AG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vinculación con el Congres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592360" y="457200"/>
            <a:ext cx="891216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200" spc="-1" strike="noStrike">
                <a:solidFill>
                  <a:srgbClr val="262626"/>
                </a:solidFill>
                <a:latin typeface="Century Gothic"/>
              </a:rPr>
              <a:t>Características de la función de evaluación en el nivel nacional (2)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588760" y="2184480"/>
            <a:ext cx="891540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Predominio, a excepción del SIEMPRO, de una perspectiva presupuestaria y operativa de la evaluación, centrada en el monitoreo del gasto y de indicadores de desempeño (producto, cobertura, procesos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obertura variable: más abarcador en el caso del SSFF y del PCCC que en el caso del SISEG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Debilidad de mecanismo formales de relacionamiento e intercambio entre las experiencias para compatibilizar metodologías y conocer hallazgo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irculación restringida de resultados. La difusión queda a criterio del organismo productor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xperiencias carecen de un marco estratégico que defina claramente su función y objetivos en función de un sistema integra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9:36:20Z</dcterms:created>
  <dc:creator>Julián Bertranou</dc:creator>
  <dc:description/>
  <dc:language>en-US</dc:language>
  <cp:lastModifiedBy>ltorrejon</cp:lastModifiedBy>
  <dcterms:modified xsi:type="dcterms:W3CDTF">2014-12-05T08:57:58Z</dcterms:modified>
  <cp:revision>20</cp:revision>
  <dc:subject/>
  <dc:title>Diploma de estudios avanzados en evaluación de políticas públicas</dc:title>
</cp:coreProperties>
</file>