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814-70AC-4324-87B1-341AB2EA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02C-B6F1-4EE3-9588-E544711D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AB0E1-66D9-4F0C-A22B-94B28A90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03B46-AE7D-4ADA-8AC7-02D09DE4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5B192-25C0-4E84-BDDD-8E577561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D4BA0-3B8A-4490-8E7D-89E2DA91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F33BA-D268-49C7-B4FA-8C6E381C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F5513-2216-4BD1-9A2C-EBC1DA2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313F-C8EA-4190-AB45-1C6578CA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1F11D-05CA-400C-B20E-E57330AD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2653C-260F-40B6-AEF1-0B831436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9B06B-1562-4FC2-9FF6-0BD58C18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F35-6322-4D01-AFE7-5CC9F41A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0B7E8-D5EA-431E-A72B-2A0AC5B9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0DD2F-46E7-4E18-8823-6ECAFE65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A66FC-8888-4C58-A6FC-AEC1C6FD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3A268-F3ED-4955-B7A1-90583955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DA9A1-D601-46CB-92D9-83163A0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3D601-478F-4784-BA47-EB20DD6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BFB90-B5CE-475B-8318-6F786ED8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5F843-99D7-4D6B-9BAC-1B62B99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8BC38-D9A3-4D6D-9A49-1E56A075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26956-FA71-455E-B86C-AED5A1F5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272-8CDC-4300-983C-67F149D9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B64D0-D600-41DA-89E0-326DB80A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AE616-BE46-40D7-9412-84DC5DB3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E9382-2DAD-407A-9BB6-9A7B9224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02F83-5D27-40FD-B727-4EA0E77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1643A-3947-46AD-8EEF-F55541A9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BB76A-E4B6-408C-A727-4C58B23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BBD51-DAA0-4CE0-84E3-E7EE0C6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E769F-7883-446C-A2E1-F7D4B70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9CDBE-6AA2-4314-9846-95525A7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67C4A-E42B-4B39-89D9-8556F8D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5694-0CE3-4664-852E-A48554E9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D4C15-2490-4E06-AF8C-2F9D884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1D00C-0411-4330-80E1-D2897DFF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03B57-483C-4768-90A9-9020AC4D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06810-6CC7-463C-BB28-6DB975BF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DD9E5-6219-4299-8CB0-DDC717B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4AC06-5450-4809-9D18-A337AE91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884F0-6A3C-4685-BA5A-84E410CD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C0B41-DFD7-4C7A-A81F-34558AB5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0C595-C328-4798-A67F-3781B617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7607E-0D2B-486B-95EB-3EDF5613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B4B1-FFA3-46C3-895A-AA5DA500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C81FC-EB43-4522-BEBF-CE903C0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4D0AE-D155-4D75-BCCB-451E0A3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E5018-4BFA-43D3-A06B-913BB3F8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9FC2A-63A5-4226-B611-CAE0F189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8B2AF-6534-4B8F-8964-40DB8C6B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403E3-DECE-443E-83B5-96BF82E8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947F3-FF10-4E34-890C-E80B4F71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7FA2E-37F1-4FF3-BBA7-11C3641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66B3D-C375-4C25-8E19-61926991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0F70F-69E0-47FD-A4F5-0E54D805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D22D-8FBC-4E11-94B3-83ABC291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72DF3-9D1A-4018-A78C-B9C7F43B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952FB-4FBE-474C-B311-976B2591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31501-3C28-4C95-9807-3711BEA2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36966-74AF-4417-8D8B-09F5F15E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F43FF-6A46-4708-BDBF-E27E8224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A7968-E12C-4999-9F65-83A5F1F7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3436E-519C-405F-8407-3D15451C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5AD20-79D3-4C08-BF9A-49D4A9F3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E9378-9102-441B-9ED5-8D910553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33D7E-4752-46C8-A7A4-60C51EBF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23AF-504E-44E2-81D6-B2EB54BC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ED205-85D4-4A4E-9F3B-CFED047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95D96-2A24-4B2D-8257-E7400AA2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AF7B5-47E9-4BAA-8F81-3A73A3D4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2A1F4-9801-4F9F-A325-806240CE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12F95-F52B-40A0-9F48-0B88A7E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3FB91-906A-4FBE-879D-203D3C8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FAFC2-F0BF-44FD-9F5F-D1FCFB6C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21A1A-0147-4691-A1A2-0EC43E13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08116-5C49-48D7-B52C-36416883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D4814-D943-4770-9FE8-11FB380D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1860-BE82-4E65-8079-27873D4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67883-E4A5-4691-BF3F-4F6E62D9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00A3E-0876-44AE-9E80-B20A3436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941FF-F124-4983-A1A8-45E41F99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D77C8-0AE1-4161-AE3D-793AB9E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10C93-E76F-411A-ABE3-D454CBB7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64E48-36A2-4024-A982-E06F2AB5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87F9E-064A-49AE-8D1E-DD0019A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19D70-D1E6-42C8-A59F-19C2149A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59326-26DF-47D0-BF2F-694D3CBA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9EFE2-2EC2-4FAB-BB0D-663CD3AB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681D-6F1B-4022-A7AA-EB1D2335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1827D-5656-4B49-9408-1555FBDB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C444E-F723-4038-80B3-A7A19A8B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D1B8EA-AC50-4E5B-A2AF-F2EB77A8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17A84-2CBD-4908-864B-049E85EA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C5B54-7C3B-42A8-83B8-0AEC8B3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2819A-2666-4945-B763-58C5F2D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280AE-F0E1-46B4-9208-177846CD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52C97-C944-4D87-BD29-21983A9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FAACA-523C-45C0-97BB-660FB656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E11FB-4600-44D5-A4AD-ECA6C2B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81EA-CC0B-4F8C-AEE0-70ECE55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EEDC5-11F4-4B24-9677-EDC453A2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3CC2F-9E9A-424C-8695-E22010A3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251EB-0897-4B01-89EE-2316125B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3E6B8-8E4B-465C-B0F4-1D247D21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AAC07-FBFC-4233-A141-C84D3E81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6D239-9BF4-4C22-AB95-5BDB769B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81400-F111-4BA2-9B17-5858FB0A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E3444-869B-4202-B49A-2C4941A9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2C1C4-AE4E-43A2-BF09-E6565D59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EC174-7A6B-4928-80BB-489863FF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BB1-33F3-4614-B5B7-067A78EF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6261-FA3B-44DD-9B4A-BD49590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E53F2-921E-453D-922A-02B090CD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94B1D-45B5-4CEB-97A7-E7B70B0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26706-61D8-4AAE-95F3-BB628079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4F2F8D-CB6E-4EB2-9D3F-4B334EC7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DE389-C1A0-49B8-86AA-8BF9B98C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C7D6-97F9-47DA-9518-79671186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4207-89E0-4154-9D2D-8BDA4965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6391-B651-48F1-928D-3CA2E1B3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37B8-F6EF-459E-BEEE-7CC8F561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F920-8844-4BEE-B691-7FD01DAF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6B9F-7995-4178-98C2-1C62CCD5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6448-3687-49D3-A2A4-1158D063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20E8-FC65-494F-84AC-A35AA12E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549F-B252-4F13-91C2-85EB0CD6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CCC-3449-47BC-B243-2F90865D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63DE-3818-4DC2-B439-4FED9438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2BC8-C7DC-4F36-88C4-14AE8B2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A057-B04E-485C-904B-F6A549FC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052E-617E-45DF-AED4-14044F5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C845-2037-47A0-A31B-8E7B4D57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EEC0-9587-42E6-9D33-BD55CF9B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5BAE-797A-4EBF-8584-3F05889F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ED27-0CBC-408C-92D7-F61ACE7C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0B9C-671B-41AD-AEEA-C90C52B4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A64DB-5782-406D-B7A2-BC24C8F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05C-4D78-42D7-8C52-BA10FDE7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C637E-6350-4E87-9E14-8B87FE6E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4DF16-471A-4F4F-8ED5-6FDD623A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2FC4-5FAC-4DC1-8747-4F03F041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EF07F-1234-4C3F-81A5-9B0989B7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1D49-C4BE-42AA-8BBA-20E4991C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1101-CF68-4E0F-BE46-A5D417A0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8D80-1889-4E44-82CE-D0A83D63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A94B-46B5-458B-94FF-7D1CAC3C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DFB3E-BEB4-4C40-91E1-4E8B1AC3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BA75-044A-4A26-AA76-0EB9CAC1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FD8-3D08-4D3D-89CA-75D757B4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C581F-983E-4502-AE6F-460B3E6F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96BF-FD4B-4EEC-A610-78DB4A27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95CC-002B-4D77-8511-FE8D5016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A362-9379-413B-8272-2660389E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ECD03-8153-405A-85B2-F2D70127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FA1EE-33C3-4C8F-AF0B-E26D234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023AD-1670-45D6-A663-9BC9882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6196-A5E3-4A78-AC55-67D0FB72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6FB21-7556-48C5-A1D3-6F501320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91411-756C-4017-B0A3-41F71937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E06-0824-4148-9001-090C1B45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035E5-4ABA-482C-8E43-57000C65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AD6E4-1BBA-473B-8257-2B25F6E7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18912-AF7D-41A9-BFEE-D9DBEC53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8B13-C3C0-4429-9995-1631120C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8040-48C8-438C-B27B-FE3B7436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781BB-2761-45F2-9907-4BD694D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04C0-93B4-4812-ADD6-139906B9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ADD0-F3E9-4FC6-9C9A-C9A60737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96FAB-52C1-4BA4-A9B3-7C351526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7BDD-0B8C-4D6A-988C-2584A694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D03-1F58-4029-9D13-6CBAFA0D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DB1BB-6DC3-441F-9F22-743A8BDB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285A8-938E-4CD9-A6EC-933BD104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49FC4-E531-40FB-B694-DF5B0B49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2DE2A-557E-427C-B150-09DCF6DC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B87DF-98AA-4BC1-9502-E9FF5551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D5AF4-98C6-4F2B-9362-1248538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4F13-6CB3-402C-B236-A801B41F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97F23-87F8-4C94-B95E-2FDF008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DB45E-3FBD-47AE-A659-10FD08F2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3FEC4-2ACC-4061-B5DE-1F11B74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FAA-1F00-4CB2-BB6F-4FBE0D6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A8900-A975-4856-9331-474AEBF8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31B5B-D52B-4D3A-91BF-9C59082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4B536-7D8D-43D1-B8AC-A3D11B15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13C3B-08CD-4FF9-AFC2-57DF4AC1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619E-F250-4898-87FC-47983129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BF897-DAE9-4281-938C-904F6E42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4D709-8534-429A-806A-AF453806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C830-0E04-48E5-BDCC-6774A90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5770B-9786-474D-AB9B-D4E4171F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785EF-2A62-49A0-83A8-2129548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E66-3297-48E5-9CF7-A28BE1E5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93331-46AF-4E6C-B750-FDC42B09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06F41-3565-45DB-91B3-C4BC0CBC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6E3C6-3B0B-4D92-B1BF-AC94970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0F2EE-292E-4561-A32F-D22676C1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EDC92-EB4B-4AAD-BEDF-B25CB7C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F5340-0119-45A3-844C-11546712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C2AF7-6DE9-4BCB-AD8E-AE6F4664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6D959-7C4A-476D-983F-1B7788E1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19272-30F8-46E4-AD69-43771711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61E95-710F-4AD8-A14A-FB12A7E6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53E8-1D09-4BEC-80F8-9B3781F4F8D5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D27-77BB-433D-B8D2-01B459C5FEA8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403-09B7-4407-A14E-92C0773B49B6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2EA5-C3B2-418C-B8F0-2CF5059EC13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64C8-9B2A-4318-A9A4-236A9EE73DA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E6A6-5DCD-4BB3-825B-AB9E1DD3080B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AE9E-E1F0-452E-A5AB-BB24045729F9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617-4255-4C12-9FBE-14BD8B79312D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8364-1159-4BD7-BB45-8204424C2A6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A94-CC1F-44A9-84EA-6082CCF925BE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270-3327-4F83-BFE8-165CFD3702C3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117-A6B1-4998-8410-D88FE7D0F77F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39B8-BE2F-464C-AEE3-08FF386D999E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1BCF-F34D-4CCD-9051-D7C220FEBB1D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4C6-F7FD-4F1E-8A6F-2169C81EBC6C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4660-5856-4795-9FE5-FC77276DE1B7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D16D-0EC7-4F43-844A-D65DC10413CF}" type="slidenum">
              <a:rPr b="0" lang="es-AR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fabian.repetto@gmail.com" TargetMode="External"/><Relationship Id="rId2" Type="http://schemas.openxmlformats.org/officeDocument/2006/relationships/hyperlink" Target="mailto:jbertranou@hotmail.com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591840"/>
            <a:ext cx="8915400" cy="29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La función de evaluación en el nivel nacional en Argentina y el desarrollo de capacidades: la instrumentación de un Programa de Posgrado en Evaluación de Políticas Públic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588760" y="3749760"/>
            <a:ext cx="89154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entury Gothic"/>
              </a:rPr>
              <a:t>Julián Bertranou (Universidad Nacional de San Martín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s-AR" sz="2400" spc="-1" strike="noStrike">
                <a:solidFill>
                  <a:srgbClr val="595959"/>
                </a:solidFill>
                <a:latin typeface="Calibri"/>
              </a:rPr>
              <a:t>Seminario Internacional de Evaluación de Políticas Públicas. Condiciones para favorecer las Evaluaciones de Impacto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alibri"/>
              </a:rPr>
              <a:t>Montevideo, 2 a 4 de julio de 2014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595959"/>
                </a:solidFill>
                <a:latin typeface="Calibri"/>
              </a:rPr>
              <a:t>OPP Uruguay/Eurosocial/Gobierno de Españ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879560" y="457200"/>
            <a:ext cx="96249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Acciones de fortalecimiento de capacidades para la función de evaluació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879560" y="2133360"/>
            <a:ext cx="9624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reación de una Unidad Especializad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Planificación, ejecución, normalización, difusión. En Coordinación con Ministerios e inserta en el sistema de administración financier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un marco normativo integral y unificado para la evaluació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reación de una Red de Evaluación en la AP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recursos humanos especializad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10347120" cy="21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Diploma de Estudios Avanzados en E</a:t>
            </a:r>
            <a:r>
              <a:rPr b="1" lang="es-AR" sz="4400" spc="-1" strike="noStrike">
                <a:solidFill>
                  <a:srgbClr val="262626"/>
                </a:solidFill>
                <a:latin typeface="Century Gothic"/>
              </a:rPr>
              <a:t>valuación de Políticas Públicas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Imagen 2" descr=""/>
          <p:cNvPicPr/>
          <p:nvPr/>
        </p:nvPicPr>
        <p:blipFill>
          <a:blip r:embed="rId1"/>
          <a:stretch/>
        </p:blipFill>
        <p:spPr>
          <a:xfrm>
            <a:off x="1768320" y="3670200"/>
            <a:ext cx="9145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647720" y="618840"/>
            <a:ext cx="93996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resentación y Objetiv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141200" y="1995480"/>
            <a:ext cx="102042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Dictado por la Universidad Nacional de San Martín (UNSAM), con el apoyo de la Jefatura de Gabinete de Ministros de la Nación (JGM) y el Banco Interamericano de Desarrollo (BID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El propósito principal del Programa es el fortalecer las habilidades de los funcionarios y funcionarias públicas (y de algunos profesionales de la sociedad civil) para promover, preparar, dirigir y validar procesos de evaluación de acciones de interés público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La evaluación es un momento clave de la gestión de las políticas públicas, en la medida en que facilita la acumulación de conocimiento y el aprendizaje organizacional tendientes a mejorar los efectos de estas políticas en la población, en la estructura social y productiva, y en las instituciones democráticas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647720" y="618840"/>
            <a:ext cx="93996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Equipo de gestió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2020680" y="2149560"/>
            <a:ext cx="96980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Director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 Fabián Repetto (</a:t>
            </a:r>
            <a:r>
              <a:rPr b="0" lang="es-AR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fabian.repetto@gmail.com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Secretario Académico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 Julián Bertranou (</a:t>
            </a:r>
            <a:r>
              <a:rPr b="0" lang="es-AR" sz="18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jbertranou@hotmail.com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)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Consejo Académico</a:t>
            </a: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: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Roberto Martínez Nogueira, PhD (Presidente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María Matilde Ollier, PhD (Decana de la Escuela de Política y Gobierno, UNSAM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Dagmar Raczynski, PhD (Directora de Asesoría para el Desarrollo, Santiago de Chile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Lucas González, PhD (Secretario Académico de la Escuela de Política y Gobierno, UNSAM)</a:t>
            </a:r>
            <a:br>
              <a:rPr sz="1800"/>
            </a:b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arlos H. Acuña, PhD (Director del Programa de Estado y Políticas Públicas, Escuela de Política y Gobierno, UNSAM)                                                               Horacio Cao, Dr. (Director del INAP, JGM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erfil de participant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846160" y="2415960"/>
            <a:ext cx="8219880" cy="31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Funcionarios y funcionarias vinculados a las áreas de monitoreo y evaluación de proyectos, y a las áreas de gestión administrativa y presupuestari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Pertenecientes a 10 Ministerios además de la JGM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Una parte, con experiencia previa de monitoreo y evaluación de programas y proyec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roductos esperados del Program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2846160" y="2415960"/>
            <a:ext cx="82198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50 funcionarios y funcionarias capacitados para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promover, diseñar, ejecutar y evaluar 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xperiencias de evaluación de políticas, programas y proyec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Foco específico: capacitados para diseñar y revisar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érminos de referencia 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 evaluacion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Desarrollo de una </a:t>
            </a: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red de expertos</a:t>
            </a: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 en evaluación en el sector público, bajo la coordinación de la JGM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Estructura del Program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9 asignaturas sustantivas y una taller anual de práctic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3 trimestre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1° trimestre: 8/Abril – 17/Juni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2° trimestre: 1/Julio – 11/Sep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3° trimestre: 30/Sep – 4/Dic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Asignaturas</a:t>
            </a:r>
            <a:br>
              <a:rPr sz="3600"/>
            </a:b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(270 horas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588760" y="2133360"/>
            <a:ext cx="89154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Fundamentos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Fundamentos de Políticas Pública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Century Gothic"/>
              </a:rPr>
              <a:t>Métodos Cualitativ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Diseño de Programas y Proyect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Métodos Cuantitativ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Diseño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Evaluación Institucion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Inserción política e institucional de la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Century Gothic"/>
              </a:rPr>
              <a:t>Estrategias comparadas de evalu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Formación práctica</a:t>
            </a:r>
            <a:br>
              <a:rPr sz="3600"/>
            </a:b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(90 horas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588760" y="2133720"/>
            <a:ext cx="891540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aller de práctic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Century Gothic"/>
              </a:rPr>
              <a:t>Dos sesiones orientadoras por cada trimest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Trabajo en Institución: 3 moment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Relevar   prácticas de monitoreo y evaluación y registro de información en la institució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Análisis   del diseño de un programa y su organización con miras a su coherencia interna,  inserción en la política pública,  y evaluabilidad 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</a:rPr>
              <a:t>Formular TDR para la evaluación de un programa o algún aspecto de éste y proponer un diseño fino de la evaluación, justificando las decisiones tomad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Plantel Docente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2835000" y="1773000"/>
            <a:ext cx="89154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Roberto Martínez Nogueir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Carlos Acuñ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abián Repet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ulián Bertranou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imena Rubi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Fernanda Potenz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Jorge Hintz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Pablo Vinocu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Lucas González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Luciano Andrenacc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Mercedes Di Virgili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La función de evaluación en el nivel nacional de Argentin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404040"/>
                </a:solidFill>
                <a:latin typeface="Century Gothic"/>
              </a:rPr>
              <a:t>Organismos de carácter transversal que desarrollan experiencias de evaluación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Oficina Nacional de Presupuesto 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(Secretaría de Hacienda): Sistema de seguimiento físico-financiero (SSFF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Consejo Nacional de Coordinación de Políticas Soc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iales: Sistema de Información, Monitoreo y Evaluación de Programas Sociales (SIEMPRO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entury Gothic"/>
              </a:rPr>
              <a:t>Jefatura de Gabinete de Ministros</a:t>
            </a: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: 4 organismos/sistemas que se analizarán más adelante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(Análisis basado en Acuña, Martínez Nogueira y Rubio, 2013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Desafíos hacia el futuro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835000" y="1851120"/>
            <a:ext cx="8915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el Gobierno Nacional y en especial, la JGM capitalice este recurso humano calificad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incremente de manera sistemática la masa crítica de experto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consolide una red de expertos y que se difundan e intercambien metodologías, experiencias y saber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Que se incorpore el nivel provincial en el proceso de fortalecimiento de las capacidades de evaluació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746440" y="497628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Muchas gracias,</a:t>
            </a:r>
            <a:br>
              <a:rPr sz="3600"/>
            </a:b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bertranou@hotmail.com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Oficina Nacional de Presupuesto:</a:t>
            </a:r>
            <a:br>
              <a:rPr sz="3600"/>
            </a:b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SSFF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588760" y="2584440"/>
            <a:ext cx="8915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SSFF constituye un sistema de información de la ejecución financiera y seguimiento trimestral de indicadores de metas físicas vinculadas a la provisión de bienes y/o servicios de los programas presupuestarios que en 2011 alcanzó a cubrir el 80% del total de la cartera programátic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Consejo Coordinador de Políticas Sociales: SIEMPR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588760" y="2047680"/>
            <a:ext cx="89154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El SIEMPRO es un sistema de monitoreo y evaluación de los programas sociales referidos a la pobreza implementados por diversos ministerios del PE nacional. Cuenta con el Sistema Integrado de Monitoreo (SIM) que proporciona información sobre actividades, recursos utilizados y disponibles, beneficiarios y resultados con relación con los programados. Asimismo, realiza evaluaciones de distinto tipo (ex - ante, diagnósticas, líneas de base, perspectiva de los beneficiarios, final de resultados y de impacto), varias de ellas de uso interno al Ministerio, sin acceso público o difusión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Actualmente los organismos que integran el Consejo de Coordinación de Políticas Sociales son: Desarrollo Social; Trabajo, Empleo y Seguridad Social; Educación; Ciencia, Tecnología e Innovación Productiva; Salud; Economía; Justicia y Derechos Humanos; Planificación Federal, Inversión Pública y Servicios; Secretaría Nacional de Niñez, Adolescencia y Familia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600" spc="-1" strike="noStrike">
                <a:solidFill>
                  <a:srgbClr val="404040"/>
                </a:solidFill>
                <a:latin typeface="Century Gothic"/>
              </a:rPr>
              <a:t>De acuerdo a datos proporcionados por Canievsky (2007), en el año 2007 el SIEMPRO disponía de información sobre 56 programas sociales del Estado nacional, y entre 1996 y 2007 se llevaron a cabo 36 evaluaciones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efatura de Gabinete de Ministr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82520" y="1778040"/>
            <a:ext cx="95216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La JGM tiene asignadas legalmente las responsabilidades principales en materia de monitoreo y evaluación de políticas y programas en el Estado Nacional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Decreto 22/2011 establece que la Secretaría de Gabinete y Coordinación Administrativa de la JGM tiene a su cargo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entender en el proceso de monitoreo y evaluación de la ejecución de las políticas públicas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coordinar con los distintos organismos de la APN la articulación de los sistemas de evaluación sectoriales; y,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Century Gothic"/>
              </a:rPr>
              <a:t>desarrollar un sistema de seguimiento de los programas de gobierno, estableciendo indicadores claves de las políticas prioritarias para la toma de decisiones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600" spc="-1" strike="noStrike">
                <a:solidFill>
                  <a:srgbClr val="262626"/>
                </a:solidFill>
                <a:latin typeface="Century Gothic"/>
              </a:rPr>
              <a:t>Jefatura de Gabinete de Ministros (2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88760" y="1904760"/>
            <a:ext cx="89154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404040"/>
                </a:solidFill>
                <a:latin typeface="Century Gothic"/>
              </a:rPr>
              <a:t>Lleva a cabo estas responsabilidades a través de 4 organismos</a:t>
            </a:r>
            <a:r>
              <a:rPr b="0" lang="es-AR" sz="28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Oficina Nacional de Innovación de Gestión (ONIG): Programa Carta Compromiso con el Ciudadan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istema Integral de Seguimiento y Evaluación de la Gestión (Proyecto de Modernización del Estado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ubsecretaría de Evaluación del Presupuesto Nacional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Subsecretaría de Evaluación de Proyectos con Financiamiento Extern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Imagen 1" descr=""/>
          <p:cNvPicPr/>
          <p:nvPr/>
        </p:nvPicPr>
        <p:blipFill>
          <a:blip r:embed="rId1"/>
          <a:stretch/>
        </p:blipFill>
        <p:spPr>
          <a:xfrm>
            <a:off x="2330280" y="412920"/>
            <a:ext cx="8037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457200"/>
            <a:ext cx="89121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Características de la función de evaluación en el nivel nacional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795400" y="2344320"/>
            <a:ext cx="89154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Inexistencia de un marco legal que establezca una visión integral sobre la función de evaluación, y que defina obligaciones, responsabilidades y estándar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No hay una unidad encargada de planificar, poner en práctica y coordinar las funciones de evaluación de polític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importancia en las prioridades del Gobiern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inserción institucional en cada uno de los Ministerios o Agencias del Gobiern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relación funcional con los organismos de control interno y externo de la Administración Pública: SIGEN, AG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scasa vinculación con el Congres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92360" y="457200"/>
            <a:ext cx="891216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200" spc="-1" strike="noStrike">
                <a:solidFill>
                  <a:srgbClr val="262626"/>
                </a:solidFill>
                <a:latin typeface="Century Gothic"/>
              </a:rPr>
              <a:t>Características de la función de evaluación en el nivel nacional (2)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88760" y="2184480"/>
            <a:ext cx="891540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Predominio, a excepción del SIEMPRO, de una perspectiva presupuestaria y operativa de la evaluación, centrada en el monitoreo del gasto y de indicadores de desempeño (producto, cobertura, procesos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obertura variable: más abarcador en el caso del SSFF y del PCCC que en el caso del SISEG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Debilidad de mecanismo formales de relacionamiento e intercambio entre las experiencias para compatibilizar metodologías y conocer hallazgo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irculación restringida de resultados. La difusión queda a criterio del organismo producto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Experiencias carecen de un marco estratégico que defina claramente su función y objetivos en función de un sistema integra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9:36:20Z</dcterms:created>
  <dc:creator>Julián Bertranou</dc:creator>
  <dc:description/>
  <dc:language>en-US</dc:language>
  <cp:lastModifiedBy>ltorrejon</cp:lastModifiedBy>
  <dcterms:modified xsi:type="dcterms:W3CDTF">2014-12-05T08:57:58Z</dcterms:modified>
  <cp:revision>20</cp:revision>
  <dc:subject/>
  <dc:title>Diploma de estudios avanzados en evaluación de políticas públicas</dc:title>
</cp:coreProperties>
</file>