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13575" cy="9299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12800" cy="929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9736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701640" y="441792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88329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973680" y="88329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232CF7A-99E4-4984-9E92-A01A7BE88EE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1640" y="441792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3973680" y="88329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329C669-E40A-44DE-B78E-059BA3821D8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4E75-D10F-495E-8606-3414341FC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FFD0-BC6C-4AB8-B6D7-F9685DEA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ED25-F1F1-451B-9602-C63049A6C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8970-4EE0-4C14-8F5A-DF514C340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241AB-C58D-4B3D-B5D4-FDA5C074C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64A9-78F7-4DFC-AED5-2D1073ED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21773-AD8D-46AB-B82B-900ECF73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CE16C-C681-49BB-AD67-3FC1B2C1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CD6EF-E187-4CF8-8EDD-5C884F5D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07A2-29FF-4B94-B28F-2B14D4B7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8DC3-627F-433C-B120-C38FB0D8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4353-2966-4E16-8FFF-FF9636DD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2ECF1-C6C6-4CE1-9AD3-B4A65D9A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AD11-53D7-4F10-94B8-394238CB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F29E8-C784-4A65-A934-C0F227D8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0CA7-6EDB-4F78-B04C-7FDB5B4A6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9A21-C246-4173-B232-B727459FF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6F70-7547-40C7-B404-5B468E7B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6EF3-D947-4C93-9A30-19B4AB95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0D0A-9DA5-4EF3-A68F-458B4032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85FC-D4A8-4F42-8A5D-3E61AEC7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5418-217D-4F36-8B2B-16683D8A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F7CE-A281-4E6E-A90F-6B07CF12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857E-8720-4BF0-80A9-82508971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8519-7AAE-4D9D-80FC-877673BCACF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26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1027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1028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1029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1030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9F53-CCD7-46FA-AEFD-541611C69F4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324000" y="105264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INSTITUTO DE ACCESO A LA INFORMACIÓ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ÚBLIC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84360" y="2637000"/>
            <a:ext cx="845964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ff"/>
                </a:solidFill>
                <a:latin typeface="Times New Roman"/>
              </a:rPr>
              <a:t>PROTECCIÓN DE DATOS PERSONALES EN EL SALVADOR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" name="7 Grupo"/>
          <p:cNvGrpSpPr/>
          <p:nvPr/>
        </p:nvGrpSpPr>
        <p:grpSpPr>
          <a:xfrm>
            <a:off x="0" y="0"/>
            <a:ext cx="684360" cy="6858000"/>
            <a:chOff x="0" y="0"/>
            <a:chExt cx="684360" cy="6858000"/>
          </a:xfrm>
        </p:grpSpPr>
        <p:pic>
          <p:nvPicPr>
            <p:cNvPr id="102" name="Picture 5" descr="banderaabajo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2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6" descr="escudo"/>
            <p:cNvPicPr/>
            <p:nvPr/>
          </p:nvPicPr>
          <p:blipFill>
            <a:blip r:embed="rId2"/>
            <a:stretch/>
          </p:blipFill>
          <p:spPr>
            <a:xfrm>
              <a:off x="0" y="3069000"/>
              <a:ext cx="684360" cy="791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SV" sz="4400" spc="-1" strike="noStrike">
                <a:solidFill>
                  <a:srgbClr val="ffff00"/>
                </a:solidFill>
                <a:latin typeface="Times New Roman"/>
              </a:rPr>
              <a:t>PROHIBICIÓN DE DIFUS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Difundir, distribuir o comercializar DP en sistemas de información de EO, salvo consentimiento expreso y libre, por escrito o equivalente de los individuos referidos en la inform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00"/>
                </a:solidFill>
                <a:latin typeface="Times New Roman"/>
              </a:rPr>
              <a:t>EXCEP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34136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ffffff"/>
                </a:solidFill>
                <a:latin typeface="Times New Roman"/>
              </a:rPr>
              <a:t>Se entenderá que no se requiere el consentimiento expreso del titular de la información, cuando su vida o su salud se encuentre en peligro, la autoridad evaluará la situación de emergencia y </a:t>
            </a:r>
            <a:r>
              <a:rPr b="0" lang="es-SV" sz="2400" spc="-1" strike="noStrike" u="sng">
                <a:solidFill>
                  <a:srgbClr val="ffffff"/>
                </a:solidFill>
                <a:uFillTx/>
                <a:latin typeface="Times New Roman"/>
              </a:rPr>
              <a:t>motivará</a:t>
            </a:r>
            <a:r>
              <a:rPr b="0" lang="es-SV" sz="2400" spc="-1" strike="noStrike">
                <a:solidFill>
                  <a:srgbClr val="ffffff"/>
                </a:solidFill>
                <a:latin typeface="Times New Roman"/>
              </a:rPr>
              <a:t> la entrega de la Inform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ffffff"/>
                </a:solidFill>
                <a:latin typeface="Times New Roman"/>
              </a:rPr>
              <a:t>Que el titular de la Información Confidencial se encuentre imposibilitado para entregar un consentimiento expreso y siempre y cuando su entrega </a:t>
            </a:r>
            <a:r>
              <a:rPr b="0" lang="es-SV" sz="2400" spc="-1" strike="noStrike" u="sng">
                <a:solidFill>
                  <a:srgbClr val="ffffff"/>
                </a:solidFill>
                <a:uFillTx/>
                <a:latin typeface="Times New Roman"/>
              </a:rPr>
              <a:t>mejore</a:t>
            </a:r>
            <a:r>
              <a:rPr b="0" lang="es-SV" sz="2400" spc="-1" strike="noStrike">
                <a:solidFill>
                  <a:srgbClr val="ffffff"/>
                </a:solidFill>
                <a:latin typeface="Times New Roman"/>
              </a:rPr>
              <a:t> la situación de peligro que se tr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00"/>
                </a:solidFill>
                <a:latin typeface="Times New Roman"/>
              </a:rPr>
              <a:t>EXCEP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El titular de la Información Confidencial tendrá derecho al acceso </a:t>
            </a:r>
            <a:r>
              <a:rPr b="0" lang="es-SV" sz="2800" spc="-1" strike="noStrike" u="sng">
                <a:solidFill>
                  <a:srgbClr val="ffffff"/>
                </a:solidFill>
                <a:uFillTx/>
                <a:latin typeface="Times New Roman"/>
              </a:rPr>
              <a:t>irrestricto</a:t>
            </a: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 de su Información Confidencial y ningún Ente Obligado podrá negársela bajo ningún argumen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00"/>
                </a:solidFill>
                <a:latin typeface="Times New Roman"/>
              </a:rPr>
              <a:t>DIFUSIÓN SIN CONSENTIMIEN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Razones estadísticas, científicas o de interés general, </a:t>
            </a:r>
            <a:r>
              <a:rPr b="0" lang="es-SV" sz="2800" spc="-1" strike="noStrike" u="sng">
                <a:solidFill>
                  <a:srgbClr val="ffffff"/>
                </a:solidFill>
                <a:uFillTx/>
                <a:latin typeface="Times New Roman"/>
              </a:rPr>
              <a:t>sin identificar a la perso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Entre entes obligados, </a:t>
            </a:r>
            <a:r>
              <a:rPr b="0" lang="es-SV" sz="2800" spc="-1" strike="noStrike" u="sng">
                <a:solidFill>
                  <a:srgbClr val="ffffff"/>
                </a:solidFill>
                <a:uFillTx/>
                <a:latin typeface="Times New Roman"/>
              </a:rPr>
              <a:t>en el ejercicio de sus facult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Investigación de delitos o infrac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Orden judi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Cuando contraten o recurran a terceros para la prestación de un servicio que demande uso de D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SV" sz="4400" spc="-1" strike="noStrike">
                <a:solidFill>
                  <a:srgbClr val="ffff00"/>
                </a:solidFill>
                <a:latin typeface="Times New Roman"/>
              </a:rPr>
              <a:t>REGISTROS Y SISTEMAS DE D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EO deben comunicar la existencia de listas o sistemas de DP al IA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El Instituto debe mantener lista actualizada de ellos y de información sobre sus protocolos de segur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Previo a destrucción de DP se debe notificar al IA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00"/>
                </a:solidFill>
                <a:latin typeface="Times New Roman"/>
              </a:rPr>
              <a:t>PROCEDIMIEN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SOLICITUD: titular o representante, previa acreditación, en escrito libre o formulario expedido por el IA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Información contenida en documentos o registros sobre su perso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Consulta directa de documentos, registros o archiv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Rectificación, actualización, confidencialidad o supresió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00"/>
                </a:solidFill>
                <a:latin typeface="Times New Roman"/>
              </a:rPr>
              <a:t>APEL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Procede contra la negativa o falta de respuesta de entrega de informes, consulta directa, rectificación, actualización, confidencialidad o supresión de DP, ante el IA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Ante denegatoria del recurso deja a salvo las demás acciones leg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191628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9600" spc="-1" strike="noStrike">
                <a:solidFill>
                  <a:srgbClr val="ffff00"/>
                </a:solidFill>
                <a:latin typeface="Times New Roman"/>
              </a:rPr>
              <a:t>GRACIAS</a:t>
            </a:r>
            <a:endParaRPr b="0" lang="en-US" sz="9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4437000"/>
            <a:ext cx="7772400" cy="16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200" spc="-1" strike="noStrike">
                <a:solidFill>
                  <a:srgbClr val="ffffff"/>
                </a:solidFill>
                <a:latin typeface="Times New Roman"/>
              </a:rPr>
              <a:t>mvasquez@iaip.gob.s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3 Marcador de contenido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720540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SV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8" name="3 Marcador de contenido" descr=""/>
          <p:cNvPicPr/>
          <p:nvPr/>
        </p:nvPicPr>
        <p:blipFill>
          <a:blip r:embed="rId1"/>
          <a:stretch/>
        </p:blipFill>
        <p:spPr>
          <a:xfrm>
            <a:off x="2411280" y="404640"/>
            <a:ext cx="4454640" cy="59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00"/>
                </a:solidFill>
                <a:latin typeface="Times New Roman"/>
              </a:rPr>
              <a:t>CONSTITU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Art. 2 inc. 2º   Derechos Individu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Se garantiza el derecho al honor, a la intimidad personal y familiar y a la propia image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PDP es el ejercicio del derecho a la privacidad de las person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Habeas data sin regulación leg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Derecho de autodeterminación de la información como manifestación del derecho a la intimidad, vía jurisprudencial de la Sala de lo Constitu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SV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0" name="3 Marcador de contenido" descr=""/>
          <p:cNvPicPr/>
          <p:nvPr/>
        </p:nvPicPr>
        <p:blipFill>
          <a:blip r:embed="rId1"/>
          <a:stretch/>
        </p:blipFill>
        <p:spPr>
          <a:xfrm>
            <a:off x="2411280" y="189000"/>
            <a:ext cx="4454640" cy="59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SV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2" name="3 Marcador de contenido" descr=""/>
          <p:cNvPicPr/>
          <p:nvPr/>
        </p:nvPicPr>
        <p:blipFill>
          <a:blip r:embed="rId1"/>
          <a:stretch/>
        </p:blipFill>
        <p:spPr>
          <a:xfrm>
            <a:off x="2195640" y="404640"/>
            <a:ext cx="4454280" cy="59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SV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4" name="4 Marcador de contenido" descr=""/>
          <p:cNvPicPr/>
          <p:nvPr/>
        </p:nvPicPr>
        <p:blipFill>
          <a:blip r:embed="rId1"/>
          <a:stretch/>
        </p:blipFill>
        <p:spPr>
          <a:xfrm>
            <a:off x="2195640" y="333360"/>
            <a:ext cx="4454280" cy="59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SV" sz="4400" spc="-1" strike="noStrike">
                <a:solidFill>
                  <a:srgbClr val="ffff00"/>
                </a:solidFill>
                <a:latin typeface="Times New Roman"/>
              </a:rPr>
              <a:t>LEY DE ACCESO A LA INFORMACIÓN PÚBLI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VIGENCIA 8 de mayo de 201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VIGENCIA PLENA 8 de mayo 20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NOMBRAMIENTO IAIP 23 febrero de 201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PRESUPUESTO octubre 201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INSTALACION enero 201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ÓRGANO GARANTE DEL ACCESO A LA INFORMACION Y PROTECCIÓN DE D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00"/>
                </a:solidFill>
                <a:latin typeface="Times New Roman"/>
              </a:rPr>
              <a:t>¿QUE TENÍAMO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DESCONOCI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FALTA DE CONCIEN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FALTA DE REGULAC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imes New Roman"/>
              </a:rPr>
              <a:t>FALTA DE INTER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LAI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FINES. Art. 3 literal h): “Proteger los datos personales en posesión de los entes obligados y garantizar su exactitud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TRIBUCIONES IAIP. Art 58, literal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b) Garantizar (...) la protección de la información personal; y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j) Establecer los lineamientos para el manejo, mantenimiento, seguridad y protección de datos person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m) Desarrollar cursos de capacit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DEFINI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641240"/>
            <a:ext cx="91440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DATOS PERS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s la información privada concerniente a una persona identificada o identificable, relativa a su nacionalidad, domicilio, patrimonio, dirección electrónica, número telefónico u otra análog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DEFINIC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641240"/>
            <a:ext cx="91440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DATOS PERSONALES SENSIB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Los que corresponden a una persona en lo referente a su credo, religión, origen étnico, filiación o ideologías políticas, afiliación sindical, preferencias sexuales, salud física y mental, situación moral o familiar y otras informaciones intimas de similar naturaleza o que pudieran afectar el derecho al honor, a la intimidad personal y familiar y a la propia imag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PROTECCION D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641240"/>
            <a:ext cx="91440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imes New Roman"/>
              </a:rPr>
              <a:t>Art. 3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recho a saber si se están procesan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nseguir reproducción inteligible sin dem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Rectificar o suprimir datos en registros injustificados o inexa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nocer destinatarios cuando los datos sean transmitidos justificadam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DEBERES DE E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641240"/>
            <a:ext cx="91440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rt. 3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doptar procedimientos adecuados para recibir y responder solicitudes de indagatoria, actualización, modificación y supresión de D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Usar datos con fines institucionales con que fueron solicitados u obteni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rocurar que sean exactos y actualiz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ctificar o completa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doptar medidas que protejan la seguridad de DP y eviten su alteración, perdida, transmisión y acceso no autoriz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3T15:51:27Z</dcterms:created>
  <dc:creator>MINISTERIO DEL MEDIO AMBIENTE</dc:creator>
  <dc:description/>
  <dc:language>en-US</dc:language>
  <cp:lastModifiedBy>Vicente Orlando Hernandez Melara</cp:lastModifiedBy>
  <dcterms:modified xsi:type="dcterms:W3CDTF">2014-10-06T23:38:35Z</dcterms:modified>
  <cp:revision>256</cp:revision>
  <dc:subject/>
  <dc:title>Presentación de PowerPoint</dc:title>
</cp:coreProperties>
</file>