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7013575" cy="9299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12800" cy="929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9736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701640" y="441792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88329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973680" y="88329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663300A-D5E1-40CF-B1C5-3AE2186EC73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1640" y="441792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3 Marcador de número de diapositiva"/>
          <p:cNvSpPr/>
          <p:nvPr/>
        </p:nvSpPr>
        <p:spPr>
          <a:xfrm>
            <a:off x="3973680" y="88329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6B38870-29F5-466B-88FD-43EB9A70B282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22BF-3B57-4FB4-A48A-BC7CF87F9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033A-C805-44B6-AEE0-485522E80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F013-686C-413B-9676-D72C88157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97D5-7E25-450F-AA67-CFBFCDEFF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F5038-08E0-4C24-AF99-9A2603EA6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3553E-1916-4864-9C43-DEBEC6438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C5729-0908-45FB-B6D4-C06F2E6FE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33242-37A1-4A83-BF5B-9F24854B5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94FDC-71B1-4E68-9116-F44D8D9DE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ACB57-15F0-4D21-B0E4-5400D1CA2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3849F-6992-4C67-984D-6D4D973E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1D9C-57FF-4966-AA85-3DBAA2730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9EE89-B43A-49E7-8F8B-A0DE92D5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1161D-4FD7-49E9-BAA0-D4BC9101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BD6AD-9F60-47A0-8D39-5CD069DCF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C61D1-8023-4CAE-B0BF-67A27C287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4600F-4585-4E10-8A38-0A232EEF2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0C7B-99D3-486E-B357-AB05B3EC6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4CCA-D8AE-4A04-8D9C-573AD9A99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D4E1-B06B-428B-8BC3-7090D4B55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DA4E-76B0-40D0-89FC-9092D6D4F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9E8B-CADF-4A76-BCBF-91E27C84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53CF-40A4-4A89-9F50-9BAE462A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63C1-B3F7-4130-972A-0414DAE7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68AA0-4983-4F51-BA1F-74ACB6799A8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026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1027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1028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1029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1030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681ED-DA56-443D-8E1A-16B0C1A0B92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3"/>
          <p:cNvSpPr/>
          <p:nvPr/>
        </p:nvSpPr>
        <p:spPr>
          <a:xfrm>
            <a:off x="324000" y="105264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INSTITUTO DE ACCESO A LA INFORMACIÓ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ÚBLIC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84360" y="2637000"/>
            <a:ext cx="845964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ff"/>
                </a:solidFill>
                <a:latin typeface="Times New Roman"/>
              </a:rPr>
              <a:t>PROTECCIÓN DE DATOS PERSONALES EN EL SALVADOR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1" name="7 Grupo"/>
          <p:cNvGrpSpPr/>
          <p:nvPr/>
        </p:nvGrpSpPr>
        <p:grpSpPr>
          <a:xfrm>
            <a:off x="0" y="0"/>
            <a:ext cx="684360" cy="6858000"/>
            <a:chOff x="0" y="0"/>
            <a:chExt cx="684360" cy="6858000"/>
          </a:xfrm>
        </p:grpSpPr>
        <p:pic>
          <p:nvPicPr>
            <p:cNvPr id="102" name="Picture 5" descr="banderaabajo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24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6" descr="escudo"/>
            <p:cNvPicPr/>
            <p:nvPr/>
          </p:nvPicPr>
          <p:blipFill>
            <a:blip r:embed="rId2"/>
            <a:stretch/>
          </p:blipFill>
          <p:spPr>
            <a:xfrm>
              <a:off x="0" y="3069000"/>
              <a:ext cx="684360" cy="791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SV" sz="4400" spc="-1" strike="noStrike">
                <a:solidFill>
                  <a:srgbClr val="ffff00"/>
                </a:solidFill>
                <a:latin typeface="Times New Roman"/>
              </a:rPr>
              <a:t>PROHIBICIÓN DE DIFUS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Times New Roman"/>
              </a:rPr>
              <a:t>Difundir, distribuir o comercializar DP en sistemas de información de EO, salvo consentimiento expreso y libre, por escrito o equivalente de los individuos referidos en la inform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4400" spc="-1" strike="noStrike">
                <a:solidFill>
                  <a:srgbClr val="ffff00"/>
                </a:solidFill>
                <a:latin typeface="Times New Roman"/>
              </a:rPr>
              <a:t>EXCEP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134136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ffffff"/>
                </a:solidFill>
                <a:latin typeface="Times New Roman"/>
              </a:rPr>
              <a:t>Se entenderá que no se requiere el consentimiento expreso del titular de la información, cuando su vida o su salud se encuentre en peligro, la autoridad evaluará la situación de emergencia y </a:t>
            </a:r>
            <a:r>
              <a:rPr b="0" lang="es-SV" sz="2400" spc="-1" strike="noStrike" u="sng">
                <a:solidFill>
                  <a:srgbClr val="ffffff"/>
                </a:solidFill>
                <a:uFillTx/>
                <a:latin typeface="Times New Roman"/>
              </a:rPr>
              <a:t>motivará</a:t>
            </a:r>
            <a:r>
              <a:rPr b="0" lang="es-SV" sz="2400" spc="-1" strike="noStrike">
                <a:solidFill>
                  <a:srgbClr val="ffffff"/>
                </a:solidFill>
                <a:latin typeface="Times New Roman"/>
              </a:rPr>
              <a:t> la entrega de la Inform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ffffff"/>
                </a:solidFill>
                <a:latin typeface="Times New Roman"/>
              </a:rPr>
              <a:t>Que el titular de la Información Confidencial se encuentre imposibilitado para entregar un consentimiento expreso y siempre y cuando su entrega </a:t>
            </a:r>
            <a:r>
              <a:rPr b="0" lang="es-SV" sz="2400" spc="-1" strike="noStrike" u="sng">
                <a:solidFill>
                  <a:srgbClr val="ffffff"/>
                </a:solidFill>
                <a:uFillTx/>
                <a:latin typeface="Times New Roman"/>
              </a:rPr>
              <a:t>mejore</a:t>
            </a:r>
            <a:r>
              <a:rPr b="0" lang="es-SV" sz="2400" spc="-1" strike="noStrike">
                <a:solidFill>
                  <a:srgbClr val="ffffff"/>
                </a:solidFill>
                <a:latin typeface="Times New Roman"/>
              </a:rPr>
              <a:t> la situación de peligro que se tr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4400" spc="-1" strike="noStrike">
                <a:solidFill>
                  <a:srgbClr val="ffff00"/>
                </a:solidFill>
                <a:latin typeface="Times New Roman"/>
              </a:rPr>
              <a:t>EXCEP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Times New Roman"/>
              </a:rPr>
              <a:t>El titular de la Información Confidencial tendrá derecho al acceso </a:t>
            </a:r>
            <a:r>
              <a:rPr b="0" lang="es-SV" sz="2800" spc="-1" strike="noStrike" u="sng">
                <a:solidFill>
                  <a:srgbClr val="ffffff"/>
                </a:solidFill>
                <a:uFillTx/>
                <a:latin typeface="Times New Roman"/>
              </a:rPr>
              <a:t>irrestricto</a:t>
            </a:r>
            <a:r>
              <a:rPr b="0" lang="es-SV" sz="2800" spc="-1" strike="noStrike">
                <a:solidFill>
                  <a:srgbClr val="ffffff"/>
                </a:solidFill>
                <a:latin typeface="Times New Roman"/>
              </a:rPr>
              <a:t> de su Información Confidencial y ningún Ente Obligado podrá negársela bajo ningún argument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4400" spc="-1" strike="noStrike">
                <a:solidFill>
                  <a:srgbClr val="ffff00"/>
                </a:solidFill>
                <a:latin typeface="Times New Roman"/>
              </a:rPr>
              <a:t>DIFUSIÓN SIN CONSENTIMIEN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Times New Roman"/>
              </a:rPr>
              <a:t>Razones estadísticas, científicas o de interés general, </a:t>
            </a:r>
            <a:r>
              <a:rPr b="0" lang="es-SV" sz="2800" spc="-1" strike="noStrike" u="sng">
                <a:solidFill>
                  <a:srgbClr val="ffffff"/>
                </a:solidFill>
                <a:uFillTx/>
                <a:latin typeface="Times New Roman"/>
              </a:rPr>
              <a:t>sin identificar a la perso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Times New Roman"/>
              </a:rPr>
              <a:t>Entre entes obligados, </a:t>
            </a:r>
            <a:r>
              <a:rPr b="0" lang="es-SV" sz="2800" spc="-1" strike="noStrike" u="sng">
                <a:solidFill>
                  <a:srgbClr val="ffffff"/>
                </a:solidFill>
                <a:uFillTx/>
                <a:latin typeface="Times New Roman"/>
              </a:rPr>
              <a:t>en el ejercicio de sus facult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Times New Roman"/>
              </a:rPr>
              <a:t>Investigación de delitos o infrac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Times New Roman"/>
              </a:rPr>
              <a:t>Orden judi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Times New Roman"/>
              </a:rPr>
              <a:t>Cuando contraten o recurran a terceros para la prestación de un servicio que demande uso de D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SV" sz="4400" spc="-1" strike="noStrike">
                <a:solidFill>
                  <a:srgbClr val="ffff00"/>
                </a:solidFill>
                <a:latin typeface="Times New Roman"/>
              </a:rPr>
              <a:t>REGISTROS Y SISTEMAS DE D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Times New Roman"/>
              </a:rPr>
              <a:t>EO deben comunicar la existencia de listas o sistemas de DP al IA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Times New Roman"/>
              </a:rPr>
              <a:t>El Instituto debe mantener lista actualizada de ellos y de información sobre sus protocolos de segur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Times New Roman"/>
              </a:rPr>
              <a:t>Previo a destrucción de DP se debe notificar al IA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4400" spc="-1" strike="noStrike">
                <a:solidFill>
                  <a:srgbClr val="ffff00"/>
                </a:solidFill>
                <a:latin typeface="Times New Roman"/>
              </a:rPr>
              <a:t>PROCEDIMIEN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Times New Roman"/>
              </a:rPr>
              <a:t>SOLICITUD: titular o representante, previa acreditación, en escrito libre o formulario expedido por el IA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Times New Roman"/>
              </a:rPr>
              <a:t>Información contenida en documentos o registros sobre su perso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Times New Roman"/>
              </a:rPr>
              <a:t>Consulta directa de documentos, registros o archiv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Times New Roman"/>
              </a:rPr>
              <a:t>Rectificación, actualización, confidencialidad o supresió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4400" spc="-1" strike="noStrike">
                <a:solidFill>
                  <a:srgbClr val="ffff00"/>
                </a:solidFill>
                <a:latin typeface="Times New Roman"/>
              </a:rPr>
              <a:t>APELA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Times New Roman"/>
              </a:rPr>
              <a:t>Procede contra la negativa o falta de respuesta de entrega de informes, consulta directa, rectificación, actualización, confidencialidad o supresión de DP, ante el IA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Times New Roman"/>
              </a:rPr>
              <a:t>Ante denegatoria del recurso deja a salvo las demás acciones leg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4360" y="191628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9600" spc="-1" strike="noStrike">
                <a:solidFill>
                  <a:srgbClr val="ffff00"/>
                </a:solidFill>
                <a:latin typeface="Times New Roman"/>
              </a:rPr>
              <a:t>GRACIAS</a:t>
            </a:r>
            <a:endParaRPr b="0" lang="en-US" sz="9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4437000"/>
            <a:ext cx="7772400" cy="16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3200" spc="-1" strike="noStrike">
                <a:solidFill>
                  <a:srgbClr val="ffffff"/>
                </a:solidFill>
                <a:latin typeface="Times New Roman"/>
              </a:rPr>
              <a:t>mvasquez@iaip.gob.s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3 Marcador de contenido" descr=""/>
          <p:cNvPicPr/>
          <p:nvPr/>
        </p:nvPicPr>
        <p:blipFill>
          <a:blip r:embed="rId1"/>
          <a:stretch/>
        </p:blipFill>
        <p:spPr>
          <a:xfrm>
            <a:off x="971640" y="620640"/>
            <a:ext cx="720540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SV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8" name="3 Marcador de contenido" descr=""/>
          <p:cNvPicPr/>
          <p:nvPr/>
        </p:nvPicPr>
        <p:blipFill>
          <a:blip r:embed="rId1"/>
          <a:stretch/>
        </p:blipFill>
        <p:spPr>
          <a:xfrm>
            <a:off x="2411280" y="404640"/>
            <a:ext cx="4454640" cy="59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4400" spc="-1" strike="noStrike">
                <a:solidFill>
                  <a:srgbClr val="ffff00"/>
                </a:solidFill>
                <a:latin typeface="Times New Roman"/>
              </a:rPr>
              <a:t>CONSTITU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Times New Roman"/>
              </a:rPr>
              <a:t>Art. 2 inc. 2º   Derechos Individu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SV" sz="2800" spc="-1" strike="noStrike">
                <a:solidFill>
                  <a:srgbClr val="ffffff"/>
                </a:solidFill>
                <a:latin typeface="Times New Roman"/>
              </a:rPr>
              <a:t>Se garantiza el derecho al honor, a la intimidad personal y familiar y a la propia imagen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Times New Roman"/>
              </a:rPr>
              <a:t>PDP es el ejercicio del derecho a la privacidad de las person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Times New Roman"/>
              </a:rPr>
              <a:t>Habeas data sin regulación leg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Times New Roman"/>
              </a:rPr>
              <a:t>Derecho de autodeterminación de la información como manifestación del derecho a la intimidad, vía jurisprudencial de la Sala de lo Constitu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SV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0" name="3 Marcador de contenido" descr=""/>
          <p:cNvPicPr/>
          <p:nvPr/>
        </p:nvPicPr>
        <p:blipFill>
          <a:blip r:embed="rId1"/>
          <a:stretch/>
        </p:blipFill>
        <p:spPr>
          <a:xfrm>
            <a:off x="2411280" y="189000"/>
            <a:ext cx="4454640" cy="59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SV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2" name="3 Marcador de contenido" descr=""/>
          <p:cNvPicPr/>
          <p:nvPr/>
        </p:nvPicPr>
        <p:blipFill>
          <a:blip r:embed="rId1"/>
          <a:stretch/>
        </p:blipFill>
        <p:spPr>
          <a:xfrm>
            <a:off x="2195640" y="404640"/>
            <a:ext cx="4454280" cy="59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SV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4" name="4 Marcador de contenido" descr=""/>
          <p:cNvPicPr/>
          <p:nvPr/>
        </p:nvPicPr>
        <p:blipFill>
          <a:blip r:embed="rId1"/>
          <a:stretch/>
        </p:blipFill>
        <p:spPr>
          <a:xfrm>
            <a:off x="2195640" y="333360"/>
            <a:ext cx="4454280" cy="59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SV" sz="4400" spc="-1" strike="noStrike">
                <a:solidFill>
                  <a:srgbClr val="ffff00"/>
                </a:solidFill>
                <a:latin typeface="Times New Roman"/>
              </a:rPr>
              <a:t>LEY DE ACCESO A LA INFORMACIÓN PÚBLI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Times New Roman"/>
              </a:rPr>
              <a:t>VIGENCIA 8 de mayo de 201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Times New Roman"/>
              </a:rPr>
              <a:t>VIGENCIA PLENA 8 de mayo 20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Times New Roman"/>
              </a:rPr>
              <a:t>NOMBRAMIENTO IAIP 23 febrero de 201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Times New Roman"/>
              </a:rPr>
              <a:t>PRESUPUESTO octubre 201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Times New Roman"/>
              </a:rPr>
              <a:t>INSTALACION enero 201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Times New Roman"/>
              </a:rPr>
              <a:t>ÓRGANO GARANTE DEL ACCESO A LA INFORMACION Y PROTECCIÓN DE D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4400" spc="-1" strike="noStrike">
                <a:solidFill>
                  <a:srgbClr val="ffff00"/>
                </a:solidFill>
                <a:latin typeface="Times New Roman"/>
              </a:rPr>
              <a:t>¿QUE TENÍAMO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Times New Roman"/>
              </a:rPr>
              <a:t>DESCONOCIMI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Times New Roman"/>
              </a:rPr>
              <a:t>FALTA DE CONCIEN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Times New Roman"/>
              </a:rPr>
              <a:t>FALTA DE REGULAC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Times New Roman"/>
              </a:rPr>
              <a:t>FALTA DE INTERÉ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LAI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FINES. Art. 3 literal h): “Proteger los datos personales en posesión de los entes obligados y garantizar su exactitud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TRIBUCIONES IAIP. Art 58, literal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b) Garantizar (...) la protección de la información personal; y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j) Establecer los lineamientos para el manejo, mantenimiento, seguridad y protección de datos persona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m) Desarrollar cursos de capacit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DEFINI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641240"/>
            <a:ext cx="91440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DATOS PERSON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Es la información privada concerniente a una persona identificada o identificable, relativa a su nacionalidad, domicilio, patrimonio, dirección electrónica, número telefónico u otra análog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DEFINIC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641240"/>
            <a:ext cx="91440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DATOS PERSONALES SENSIB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Los que corresponden a una persona en lo referente a su credo, religión, origen étnico, filiación o ideologías políticas, afiliación sindical, preferencias sexuales, salud física y mental, situación moral o familiar y otras informaciones intimas de similar naturaleza o que pudieran afectar el derecho al honor, a la intimidad personal y familiar y a la propia imag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PROTECCION D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641240"/>
            <a:ext cx="91440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ff"/>
                </a:solidFill>
                <a:uFillTx/>
                <a:latin typeface="Times New Roman"/>
              </a:rPr>
              <a:t>Art. 3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recho a saber si se están procesan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onseguir reproducción inteligible sin demo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Rectificar o suprimir datos en registros injustificados o inexac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onocer destinatarios cuando los datos sean transmitidos justificadam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DEBERES DE E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641240"/>
            <a:ext cx="91440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rt. 3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doptar procedimientos adecuados para recibir y responder solicitudes de indagatoria, actualización, modificación y supresión de D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Usar datos con fines institucionales con que fueron solicitados u obteni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rocurar que sean exactos y actualiz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ectificar o completa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doptar medidas que protejan la seguridad de DP y eviten su alteración, perdida, transmisión y acceso no autoriz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3T15:51:27Z</dcterms:created>
  <dc:creator>MINISTERIO DEL MEDIO AMBIENTE</dc:creator>
  <dc:description/>
  <dc:language>en-US</dc:language>
  <cp:lastModifiedBy>Vicente Orlando Hernandez Melara</cp:lastModifiedBy>
  <dcterms:modified xsi:type="dcterms:W3CDTF">2014-10-06T23:38:35Z</dcterms:modified>
  <cp:revision>256</cp:revision>
  <dc:subject/>
  <dc:title>Presentación de PowerPoint</dc:title>
</cp:coreProperties>
</file>