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2E7-79DB-4749-9407-F2C43731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52A-1C57-4B6E-9F9D-A9A28AF6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6C7-B9E5-4D8B-8ABF-DDB0868D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02E-5AB5-4705-BCAF-D9ADC974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74B-9780-496A-B727-4B391391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8F9-6F60-4AB1-9D1F-2BF8AA09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085-6008-44A3-B7F8-BECF3013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5EF-BFCA-4FB3-AA44-4AE61EF0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D43-FABF-426A-BFFD-7FA62BCE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60A-7FD3-42FB-AFA3-338D593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847-70D5-4AA7-867B-90A2B8F9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204-BD27-48EC-8B16-8D12EE9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7E3F-AB77-4778-A963-E95D77C26E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538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981440" cy="72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0" y="1538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6400800" y="762120"/>
            <a:ext cx="2333520" cy="833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0" y="2133720"/>
            <a:ext cx="914400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para la búsqueda de consen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Segur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ucigalpa, 5 y 6 de agosto de 201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6905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0 Imagen" descr="LOGO.png"/>
          <p:cNvPicPr/>
          <p:nvPr/>
        </p:nvPicPr>
        <p:blipFill>
          <a:blip r:embed="rId3"/>
          <a:srcRect l="0" t="0" r="67120" b="58363"/>
          <a:stretch/>
        </p:blipFill>
        <p:spPr>
          <a:xfrm>
            <a:off x="3597120" y="571680"/>
            <a:ext cx="1551240" cy="110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bmartin\Desktop\logos_eurosocial_CMYK (nuevo).jpg"/>
          <p:cNvPicPr/>
          <p:nvPr/>
        </p:nvPicPr>
        <p:blipFill>
          <a:blip r:embed="rId4"/>
          <a:stretch/>
        </p:blipFill>
        <p:spPr>
          <a:xfrm>
            <a:off x="1128600" y="5516640"/>
            <a:ext cx="64864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8:31:32Z</dcterms:created>
  <dc:creator>ces</dc:creator>
  <dc:description/>
  <dc:language>en-US</dc:language>
  <cp:lastModifiedBy>Beatriz Martín</cp:lastModifiedBy>
  <dcterms:modified xsi:type="dcterms:W3CDTF">2014-07-25T12:32:28Z</dcterms:modified>
  <cp:revision>11</cp:revision>
  <dc:subject/>
  <dc:title>Presentación de PowerPoint</dc:title>
</cp:coreProperties>
</file>