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36F-4B97-44E8-8EF6-29FF4ADB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0BE-5376-4E4F-8B68-CEF245DA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489-5861-4010-B345-6DDDBE69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C81-3DC0-4F34-B343-A37D8B24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AD2-3D56-452F-9D85-B0519C84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987-4F7F-47A4-8C10-4BADF74F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3BC-8E8F-4F3A-9BFF-7F275A74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75B-21CE-4FE1-A796-F9596D0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CA9-2DA2-4785-A21A-7E3E2C68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E90-70FA-4B19-919F-BB73659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717-C58B-446B-8D76-412BBE4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8C6-30AF-4B20-81B0-FB7E685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8963-9826-491F-A344-97401A842C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538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981440" cy="72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0" y="1538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6400800" y="762120"/>
            <a:ext cx="2333520" cy="833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0" y="2133720"/>
            <a:ext cx="91440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para la búsqueda de consen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ucigalpa, 5 y 6 de agosto de 201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6905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 Imagen" descr="LOGO.png"/>
          <p:cNvPicPr/>
          <p:nvPr/>
        </p:nvPicPr>
        <p:blipFill>
          <a:blip r:embed="rId3"/>
          <a:srcRect l="0" t="0" r="67120" b="58363"/>
          <a:stretch/>
        </p:blipFill>
        <p:spPr>
          <a:xfrm>
            <a:off x="3597120" y="571680"/>
            <a:ext cx="1551240" cy="110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bmartin\Desktop\logos_eurosocial_CMYK (nuevo).jpg"/>
          <p:cNvPicPr/>
          <p:nvPr/>
        </p:nvPicPr>
        <p:blipFill>
          <a:blip r:embed="rId4"/>
          <a:stretch/>
        </p:blipFill>
        <p:spPr>
          <a:xfrm>
            <a:off x="1128600" y="5516640"/>
            <a:ext cx="64864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8:31:32Z</dcterms:created>
  <dc:creator>ces</dc:creator>
  <dc:description/>
  <dc:language>en-US</dc:language>
  <cp:lastModifiedBy>Beatriz Martín</cp:lastModifiedBy>
  <dcterms:modified xsi:type="dcterms:W3CDTF">2014-07-25T12:32:28Z</dcterms:modified>
  <cp:revision>11</cp:revision>
  <dc:subject/>
  <dc:title>Presentación de PowerPoint</dc:title>
</cp:coreProperties>
</file>