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9DA42-AB60-4160-9723-61878749FD4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264FB-10D0-4ABB-9F0D-EFB62633F40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57320" y="803160"/>
            <a:ext cx="5445000" cy="4008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49265-57AB-4A3A-B7E9-7AED8D1BB6B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1573C-2A40-4FD3-A3A8-E367407F782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0D67A-7FF2-4931-8F97-8BD7BB4690C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3B019-C242-4306-B033-752259067CD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ED06-063E-4900-9195-D73EEA6E3C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BA47-6CC2-41F2-9E9C-5F7FDE9A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678A-5597-4B5C-B763-26263206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F2CD-9CF8-4DE7-9D99-7A3AE8A686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B19D8-ED7E-4355-B38B-917EB23AEE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AA6BF-C4D4-4C17-B1EF-1A224EA4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9F3BC-B331-4422-BEE6-508F34AA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02FBE-C2EA-4DCD-962C-3353F34D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E2482-D909-4008-8A6F-4366B36B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FCD09-5A80-479B-B0C2-4C48E985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4D102-2317-4872-8F61-7F4E02CF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774E-0B1F-401A-A161-F4B272A8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58F9D-2F38-416C-AEDC-6FB9081A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3D1C4-724E-41EE-8D66-6E9FA3E2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10B38-34B8-4971-B9B5-AE7B5904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3FB94-8A8A-4422-A375-0C80D8D8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E2D3F-D8D5-40D9-A883-9BBBEA350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CBA1-48EB-46F1-A306-F5A0D439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BFD9-7833-49AC-A324-556059E7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7E85-98F3-4D4F-9F73-DF5952BF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0413-2D7D-4BCD-9C9B-F9939AD7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FC5D-A8A2-47C5-A89C-9570B843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FF62-B275-4F0E-A649-F7EE7AD1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C669-088E-4C25-B019-02276111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0/07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A3DA07-52B3-4486-A126-18C09A078DE7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8C0783-5D61-4AD6-9389-D01E0D709B6D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ndicadores%20(1).xls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6858000" y="3857760"/>
            <a:ext cx="2286000" cy="1274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0" y="0"/>
            <a:ext cx="678168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458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NITOREO DE LA EQUIDAD EN SALUD EN URUGUA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15880" y="4191120"/>
            <a:ext cx="5853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Arial"/>
              </a:rPr>
              <a:t>Lima, 24- 25 de julio de 20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7000920" y="2286000"/>
            <a:ext cx="1919160" cy="127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6858000" y="357120"/>
            <a:ext cx="228600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SVES: Línea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96640"/>
            <a:ext cx="8226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Primer paso en la construcción del SVES: matriz de indicado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Fuentes de información: ECH, ELPS, ENS, ENFR, SINA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Indicadores (1).x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285920" y="2428920"/>
            <a:ext cx="615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) ESTADO DE SALUD DE LA POB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) DETERMINANTES SOCIALES DE LA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I) DETERMINANTES DEL SISTEMA DE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857680" y="2286000"/>
            <a:ext cx="790560" cy="1714680"/>
          </a:xfrm>
          <a:prstGeom prst="downArrow">
            <a:avLst>
              <a:gd name="adj1" fmla="val 49796"/>
              <a:gd name="adj2" fmla="val 3353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ÉTNIA-RAZ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1571760" y="2286000"/>
            <a:ext cx="790560" cy="1714680"/>
          </a:xfrm>
          <a:prstGeom prst="downArrow">
            <a:avLst>
              <a:gd name="adj1" fmla="val 49796"/>
              <a:gd name="adj2" fmla="val 3353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GÉN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286160" y="2286000"/>
            <a:ext cx="790560" cy="1714680"/>
          </a:xfrm>
          <a:prstGeom prst="downArrow">
            <a:avLst>
              <a:gd name="adj1" fmla="val 49796"/>
              <a:gd name="adj2" fmla="val 3353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OSICIÓN SOCIO-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85920" y="41432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Arial"/>
                <a:ea typeface="Lucida Sans Unicode"/>
              </a:rPr>
              <a:t>SEX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428920" y="4143240"/>
            <a:ext cx="13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Arial"/>
                <a:ea typeface="Lucida Sans Unicode"/>
              </a:rPr>
              <a:t>ASCENDENCIA ÈTN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071960" y="4143240"/>
            <a:ext cx="13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Arial"/>
                <a:ea typeface="Lucida Sans Unicode"/>
              </a:rPr>
              <a:t>INGRESOS, AÑOS DE ESTUDIO, OCUP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Perspectivas fu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28480"/>
            <a:ext cx="822636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El país tiene una política de estado en agenda digital. Por tanto, los diferentes sectores de política pública están trabajando con identificador único, datos interoperables, y consolidación de información de registros administrativos digitales. (educación, protección social, registro civil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Se encuentra elaborando un plan nacional de gobierno abierto, lo que facilitará la posibilidad de compartir da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También se encuentra en desarrollo el proyecto Salud Uy que tiene entre sus objetivos el fortalecimiento del sistema de información en salud y la historia clínica electrónica nacional. Ambos estarán operativos en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fecha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BC291-E389-484E-B05C-2AB8AB3E69BA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Perspectivas fu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Diagnóstico de  las fuentes de información disponibles, ha evidenciado que la función de monitoreo es más difícil de viabilizar; la mayoría de las fuentes que pueden proporcionar la información de manera sistemática y con un frecuencia menor a un año, no incluyen las variables necesarias para visualizar inequidades soc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En este sentido, se ha iniciado una línea de trabajo de mediano y largo plazo con AGESIC orientada a integrar información proveniente de distintas fuentes, principalmente registros administrativos. Para una primera etapa, se ha priorizado la integración del Certificado de Defunción con otras fuentes que proporcionen las variables estratificador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62FC8-D584-459A-8D50-ECFEFF0C4FF9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458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4586"/>
                </a:solidFill>
                <a:latin typeface="Calibri"/>
              </a:rPr>
              <a:t>COMENTARIOS AL DOCUMENTO DE EURO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á en sintonía con las definiciones y el desarrollo de la experiencia n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Aspectos teóricos: incorporar algunas conceptualizaciones que se han realizado desde latinoamérica. Mayor énfasis en los aspectos estrucurales del proceso social-colectivo de la salu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pectos metodológicos: incorporar dimensiones que consideren otras unidades de observación que no sean individu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A8848-2879-4672-A330-C20BBB69FF84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3800" spc="-1" strike="noStrike">
                <a:solidFill>
                  <a:srgbClr val="004586"/>
                </a:solidFill>
                <a:latin typeface="Calibri"/>
              </a:rPr>
              <a:t>Referencias bibliográfic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orell, Carme et al. (1999) LA MEDICIÓN DE LAS DESIGUALDADES EN SALUD. Gaceta Sanitaria, Españ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ndmann Szwarcwald, Celia (2000) MEDIDAS DE DESIGUALDAD EN SALUD: LA DISCUSIÓN DE ALGUNOS ASPECTOS METODOLÓGICOS CON UNA APLICACIÓN PARA LA MORTALIDAD NEONATAL EN EL MUNICIPIO DE RÌO DE JANEIRO. Caderno de Saúde Pública, FIOCRUZ. RJ-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chneider, Cristina (2002) METODOS DE MEDICIÓN DE LAS DESIGUALDADES DE SALUD. Revista Panamericana de Salud Pública. 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CONTENIDO DE LA PRESEN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907920"/>
            <a:ext cx="82263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Marco legal relativo a las inequidades en salud y su medi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Sistema de Vigilancia de la Equidad en Salud (SVES). Línea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mentarios al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ocumento de EUROsociAL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“Metodología para la construcción de sistemas de monitoreo de las desigualdades sociales en salud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todas las personas, según cual sea su clase, género, etnia, situación migratoria o edad, tienen las mismas posibilidades de escoger conductas san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s inequidades en salud, implican inequidades en los desempeños potenciales de las personas y esto es un elemento que tiende a cristalizar las desigualdades preexist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fecha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25360"/>
            <a:ext cx="8226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y 18.211 de Creación del Sistema Nacional Integrado de Salud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l derecho a la protección de la salud que tienen todos los habitantes residentes en el paí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 Ubica entre las competencias del MSP el aseguramiento del “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so a servicios integrales de salud a todos los habitantes residentes en el paí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  A su vez, reconoce la equidad entre los principios rect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olución de la Asamblea General de la OMS (WHA62.14): “Medir la magnitud del problema, analizarlo y evaluar los efectos de las intervenciones”. Comisión de Determinantes Sociales de la Salu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071360"/>
            <a:ext cx="8226360" cy="50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4 Ley 18.211: Alcanzar el más alto nivel posible de salud de la población, mediante el desarrollo integrado de actividades dirigidas a las personas y al medio ambiente que promuevan hábitos saludables de vida y la participación en todas aquellas que contribuyan al mejoramiento de la calidad de vida de la pobl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341360"/>
            <a:ext cx="8226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claración Política de Río en ocasión de la Conferencia Mundial sobre Determinantes Sociales de la Salud, que subraya la necesidad de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“vigilar los progresos y reforzar la rendición de cuentas”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partir de la medición de las desigualdades en salud y sus determinantes soci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 este marco, el Sistema de Vigilancia de la Equidad en Salud (SVES) aspira a ser una herramienta que aporte información para la toma de decision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757EF-B030-4687-886A-3B6BA76212C4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SISTEMA DE VIGILANCIA DE LA EQUIDAD EN SALUD (S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58640" y="13701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de indicadores y medidas que permita identificar las inequidades en salud de la población uruguaya y sus factores determin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  <a:ea typeface="Calibri"/>
              </a:rPr>
              <a:t>Dos funciones principales: una de evaluación (1) y otra de monitoreo (2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1) M</a:t>
            </a: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ediciones orientadas a conocer </a:t>
            </a:r>
            <a:r>
              <a:rPr b="0" i="1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en qué grado las inequidades en salud y sus determinantes sociales están siendo transformadas (reduciéndose o aumentando) a partir de las políticas públicas en general y de salud pública en particula</a:t>
            </a: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Metodología: Línea de base y estud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(2) Seguimiento de la evolución de las inequidades en función de las variables más sensibles, seleccionadas a partir de la línea de 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SISTEMA DE VIGILANCIA DE LA EQUIDAD EN SALUD (S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0920" y="1341360"/>
            <a:ext cx="82263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Fuentes de informac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"/>
              </a:rPr>
              <a:t>Person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Continua de Hogares (E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Nacional de Salu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Longitudinal de Protección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de Factores de Ries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Certificado de Mort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Sistema de Información Perinat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"/>
              </a:rPr>
              <a:t>Otras unidades de anális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Sistema Nacional de Información (SINADI-Asisten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gresos hospitala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"/>
              </a:rPr>
              <a:t>Fuente auxiliar: </a:t>
            </a: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SII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SISTEMA DE VIGILANCIA DE LA EQUIDAD EN SALUD (S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Medidas estándar sugeridas por la literatur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Cocientes y diferencias (Odds ratios, R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Medidas basadas en la curva de Lorenz (Índice de concentración, Índice de inequidad horizontal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Medidas basadas en regresi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bricio Mendez</dc:creator>
  <dc:description/>
  <dc:language>en-US</dc:language>
  <cp:lastModifiedBy>Seven</cp:lastModifiedBy>
  <dcterms:modified xsi:type="dcterms:W3CDTF">2014-07-24T21:46:39Z</dcterms:modified>
  <cp:revision>69</cp:revision>
  <dc:subject/>
  <dc:title>Lima, 24-25 de julio de 2014</dc:title>
</cp:coreProperties>
</file>