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5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6B774-DB93-4D2F-91D2-5A7C2C79E7B0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9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8B064-14DF-41E0-8095-337AE8DAB2B5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057320" y="803160"/>
            <a:ext cx="5445000" cy="40086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12982-5D72-4E6D-9DDA-8A78CE8EC8F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3BC56-4A3D-4329-8A13-9BDE7A1EF1A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5FEE4-048C-4A7A-B5A0-A2E0A1FB0B9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25D45A-026B-468B-B204-446C6D3B82F0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444BB-3D4B-42C7-890E-A70E29737C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5CF44-40A9-44DB-8500-0407DD24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E1452-7E69-4BD4-8493-D1F8624D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0F135-3469-44AD-AF30-24077B42DF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7305D-0A47-4CC9-BEFD-097D381374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634764-A139-42A7-A9A3-20E74F9A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C1010-2FC8-452F-8740-0D22C800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35097-0957-4F7E-BA6F-26AB943F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863E9C-6DAE-4F5E-8591-9CA260C22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61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3950B9-150A-45B1-B3D2-C73AD2AD3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8970D-BCB9-468B-B5BF-CF1C309C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3D197-DF51-4F17-BAB1-DF239EEA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841F5-869D-4482-A7F2-56040262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425DB-D22B-4FE0-A330-47896F8A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09448A-D2B2-4F97-ABA8-1B02D8A1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76003-BF35-45A6-A453-5B8CDEA6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B3A42A-DF04-4749-B4E6-0E53CF6ABB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19176-1020-4B8F-A551-504E70E6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3B5F7-7FBF-497F-9F7C-598E2A7F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91365-2737-4FA2-98B9-37DAE4134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61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BDA5E-951C-41AF-A397-971541173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8EC88-E9B6-454E-823F-5446173E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2EA89-D543-47AC-B7F8-DE9E3A5E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719A5-767A-42EF-BBDE-41795431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916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0/07/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69322F0-BD50-4B96-AA3F-E6399EEBE0A1}" type="slidenum">
              <a:rPr b="0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9548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9548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07/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30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03477A7-869F-41C6-9EF5-CF219331639C}" type="slidenum">
              <a:rPr b="0" lang="it-IT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Indicadores%20(1).xls" TargetMode="Externa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6858000" y="3857760"/>
            <a:ext cx="2286000" cy="12747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"/>
          <p:cNvSpPr/>
          <p:nvPr/>
        </p:nvSpPr>
        <p:spPr>
          <a:xfrm>
            <a:off x="0" y="0"/>
            <a:ext cx="6781680" cy="6858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4586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MONITOREO DE LA EQUIDAD EN SALUD EN URUGUAY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515880" y="4191120"/>
            <a:ext cx="58532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fcc00"/>
                </a:solidFill>
                <a:latin typeface="Arial"/>
              </a:rPr>
              <a:t>Lima, 24- 25 de julio de 201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7000920" y="2286000"/>
            <a:ext cx="1919160" cy="1279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3"/>
          <a:stretch/>
        </p:blipFill>
        <p:spPr>
          <a:xfrm>
            <a:off x="6858000" y="357120"/>
            <a:ext cx="2286000" cy="10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4586"/>
                </a:solidFill>
                <a:latin typeface="Calibri"/>
              </a:rPr>
              <a:t>SVES: Línea de 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196640"/>
            <a:ext cx="82263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alibri"/>
              </a:rPr>
              <a:t>Primer paso en la construcción del SVES: matriz de indicador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alibri"/>
              </a:rPr>
              <a:t>Fuentes de información: ECH, ELPS, ENS, ENFR, SINAD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UY" sz="28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Indicadores (1).x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1285920" y="2428920"/>
            <a:ext cx="6151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6600"/>
                </a:solidFill>
                <a:latin typeface="Arial"/>
              </a:rPr>
              <a:t>I) ESTADO DE SALUD DE LA POBL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6600"/>
                </a:solidFill>
                <a:latin typeface="Arial"/>
              </a:rPr>
              <a:t>II) DETERMINANTES SOCIALES DE LA SALU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66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6600"/>
                </a:solidFill>
                <a:latin typeface="Arial"/>
              </a:rPr>
              <a:t>III) DETERMINANTES DEL SISTEMA DE SALU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2857680" y="2286000"/>
            <a:ext cx="790560" cy="1714680"/>
          </a:xfrm>
          <a:prstGeom prst="downArrow">
            <a:avLst>
              <a:gd name="adj1" fmla="val 49796"/>
              <a:gd name="adj2" fmla="val 33538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ÉTNIA-RAZ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1"/>
          <p:cNvSpPr/>
          <p:nvPr/>
        </p:nvSpPr>
        <p:spPr>
          <a:xfrm>
            <a:off x="1571760" y="2286000"/>
            <a:ext cx="790560" cy="1714680"/>
          </a:xfrm>
          <a:prstGeom prst="downArrow">
            <a:avLst>
              <a:gd name="adj1" fmla="val 49796"/>
              <a:gd name="adj2" fmla="val 33538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GÉNER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4286160" y="2286000"/>
            <a:ext cx="790560" cy="1714680"/>
          </a:xfrm>
          <a:prstGeom prst="downArrow">
            <a:avLst>
              <a:gd name="adj1" fmla="val 49796"/>
              <a:gd name="adj2" fmla="val 33538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POSICIÓN SOCIO-E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285920" y="41432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Arial"/>
                <a:ea typeface="Lucida Sans Unicode"/>
              </a:rPr>
              <a:t>SEX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428920" y="4143240"/>
            <a:ext cx="135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Arial"/>
                <a:ea typeface="Lucida Sans Unicode"/>
              </a:rPr>
              <a:t>ASCENDENCIA ÈTNI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4071960" y="4143240"/>
            <a:ext cx="1357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Arial"/>
                <a:ea typeface="Lucida Sans Unicode"/>
              </a:rPr>
              <a:t>INGRESOS, AÑOS DE ESTUDIO, OCUP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4586"/>
                </a:solidFill>
                <a:latin typeface="Calibri"/>
              </a:rPr>
              <a:t>Perspectivas futu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428480"/>
            <a:ext cx="822636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alibri"/>
              </a:rPr>
              <a:t>El país tiene una política de estado en agenda digital. Por tanto, los diferentes sectores de política pública están trabajando con identificador único, datos interoperables, y consolidación de información de registros administrativos digitales. (educación, protección social, registro civil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alibri"/>
              </a:rPr>
              <a:t>Se encuentra elaborando un plan nacional de gobierno abierto, lo que facilitará la posibilidad de compartir dat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alibri"/>
              </a:rPr>
              <a:t>También se encuentra en desarrollo el proyecto Salud Uy que tiene entre sus objetivos el fortalecimiento del sistema de información en salud y la historia clínica electrónica nacional. Ambos estarán operativos en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Marcador de fecha"/>
          <p:cNvSpPr/>
          <p:nvPr/>
        </p:nvSpPr>
        <p:spPr>
          <a:xfrm>
            <a:off x="457200" y="6356520"/>
            <a:ext cx="213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07/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735FB-6B1B-4B59-BAD8-19704874F81A}" type="slidenum">
              <a:rPr b="0" lang="it-IT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4586"/>
                </a:solidFill>
                <a:latin typeface="Calibri"/>
              </a:rPr>
              <a:t>Perspectivas futu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alibri"/>
              </a:rPr>
              <a:t>Diagnóstico de  las fuentes de información disponibles, ha evidenciado que la función de monitoreo es más difícil de viabilizar; la mayoría de las fuentes que pueden proporcionar la información de manera sistemática y con un frecuencia menor a un año, no incluyen las variables necesarias para visualizar inequidades social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alibri"/>
              </a:rPr>
              <a:t>En este sentido, se ha iniciado una línea de trabajo de mediano y largo plazo con AGESIC orientada a integrar información proveniente de distintas fuentes, principalmente registros administrativos. Para una primera etapa, se ha priorizado la integración del Certificado de Defunción con otras fuentes que proporcionen las variables estratificador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D7BB8C-26F0-45E3-BA76-95009C344021}" type="slidenum">
              <a:rPr b="0" lang="it-IT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4586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4586"/>
                </a:solidFill>
                <a:latin typeface="Calibri"/>
              </a:rPr>
              <a:t>COMENTARIOS AL DOCUMENTO DE EURO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tá en sintonía con las definiciones y el desarrollo de la experiencia n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alibri"/>
              </a:rPr>
              <a:t>Aspectos teóricos: incorporar algunas conceptualizaciones que se han realizado desde latinoamérica. Mayor énfasis en los aspectos estrucurales del proceso social-colectivo de la salu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pectos metodológicos: incorporar dimensiones que consideren otras unidades de observación que no sean individu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3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3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0B90A-29CC-4248-BEF3-F95769DD43F2}" type="slidenum">
              <a:rPr b="0" lang="it-IT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3800" spc="-1" strike="noStrike">
                <a:solidFill>
                  <a:srgbClr val="004586"/>
                </a:solidFill>
                <a:latin typeface="Calibri"/>
              </a:rPr>
              <a:t>Referencias bibliográfic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orell, Carme et al. (1999) LA MEDICIÓN DE LAS DESIGUALDADES EN SALUD. Gaceta Sanitaria, Españ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Landmann Szwarcwald, Celia (2000) MEDIDAS DE DESIGUALDAD EN SALUD: LA DISCUSIÓN DE ALGUNOS ASPECTOS METODOLÓGICOS CON UNA APLICACIÓN PARA LA MORTALIDAD NEONATAL EN EL MUNICIPIO DE RÌO DE JANEIRO. Caderno de Saúde Pública, FIOCRUZ. RJ-Bras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Schneider, Cristina (2002) METODOS DE MEDICIÓN DE LAS DESIGUALDADES DE SALUD. Revista Panamericana de Salud Pública. 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3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3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alibri"/>
              </a:rPr>
              <a:t>CONTENIDO DE LA PRESENT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907920"/>
            <a:ext cx="82263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Calibri"/>
              </a:rPr>
              <a:t>Marco legal relativo a las inequidades en salud y su medi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Calibri"/>
              </a:rPr>
              <a:t>Sistema de Vigilancia de la Equidad en Salud (SVES). Línea de b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Comentarios al 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documento de EUROsociAL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 “Metodología para la construcción de sistemas de monitoreo de las desigualdades sociales en salud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4586"/>
                </a:solidFill>
                <a:latin typeface="Calibri"/>
              </a:rPr>
              <a:t>MARCO CONCEPT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 algn="just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o todas las personas, según cual sea su clase, género, etnia, situación migratoria o edad, tienen las mismas posibilidades de escoger conductas san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s inequidades en salud, implican inequidades en los desempeños potenciales de las personas y esto es un elemento que tiende a cristalizar las desigualdades preexisten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3 Marcador de fecha"/>
          <p:cNvSpPr/>
          <p:nvPr/>
        </p:nvSpPr>
        <p:spPr>
          <a:xfrm>
            <a:off x="457200" y="6356520"/>
            <a:ext cx="213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07/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4586"/>
                </a:solidFill>
                <a:latin typeface="Calibri"/>
              </a:rPr>
              <a:t>MARCO LEG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125360"/>
            <a:ext cx="8226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 algn="just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Ley 18.211 de Creación del Sistema Nacional Integrado de Salud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“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el derecho a la protección de la salud que tienen todos los habitantes residentes en el paí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”. Ubica entre las competencias del MSP el aseguramiento del “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cceso a servicios integrales de salud a todos los habitantes residentes en el paí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”.  A su vez, reconoce la equidad entre los principios rector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olución de la Asamblea General de la OMS (WHA62.14): “Medir la magnitud del problema, analizarlo y evaluar los efectos de las intervenciones”. Comisión de Determinantes Sociales de la Salu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4586"/>
                </a:solidFill>
                <a:latin typeface="Calibri"/>
              </a:rPr>
              <a:t>MARCO LEG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071360"/>
            <a:ext cx="8226360" cy="50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T 4 Ley 18.211: Alcanzar el más alto nivel posible de salud de la población, mediante el desarrollo integrado de actividades dirigidas a las personas y al medio ambiente que promuevan hábitos saludables de vida y la participación en todas aquellas que contribuyan al mejoramiento de la calidad de vida de la pobl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fecha"/>
          <p:cNvSpPr/>
          <p:nvPr/>
        </p:nvSpPr>
        <p:spPr>
          <a:xfrm>
            <a:off x="457200" y="6356520"/>
            <a:ext cx="213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07/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4586"/>
                </a:solidFill>
                <a:latin typeface="Calibri"/>
              </a:rPr>
              <a:t>MARCO LEG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341360"/>
            <a:ext cx="82263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 algn="just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eclaración Política de Río en ocasión de la Conferencia Mundial sobre Determinantes Sociales de la Salud, que subraya la necesidad de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“vigilar los progresos y reforzar la rendición de cuentas”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a partir de la medición de las desigualdades en salud y sus determinantes soci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En este marco, el Sistema de Vigilancia de la Equidad en Salud (SVES) aspira a ser una herramienta que aporte información para la toma de decision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D3F1E-B63F-4F09-8CAC-53D7B6E6BF6B}" type="slidenum">
              <a:rPr b="0" lang="it-IT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4586"/>
                </a:solidFill>
                <a:latin typeface="Calibri"/>
              </a:rPr>
              <a:t>SISTEMA DE VIGILANCIA DE LA EQUIDAD EN SALUD (SV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458640" y="137016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just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stema de indicadores y medidas que permita identificar las inequidades en salud de la población uruguaya y sus factores determinant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alibri"/>
                <a:ea typeface="Calibri"/>
              </a:rPr>
              <a:t>Dos funciones principales: una de evaluación (1) y otra de monitoreo (2)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algn="just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(1) M</a:t>
            </a:r>
            <a:r>
              <a:rPr b="0" lang="es-UY" sz="2000" spc="-1" strike="noStrike">
                <a:solidFill>
                  <a:srgbClr val="000000"/>
                </a:solidFill>
                <a:latin typeface="Calibri"/>
                <a:ea typeface="SimSun"/>
              </a:rPr>
              <a:t>ediciones orientadas a conocer </a:t>
            </a:r>
            <a:r>
              <a:rPr b="0" i="1" lang="es-UY" sz="2000" spc="-1" strike="noStrike">
                <a:solidFill>
                  <a:srgbClr val="000000"/>
                </a:solidFill>
                <a:latin typeface="Calibri"/>
                <a:ea typeface="SimSun"/>
              </a:rPr>
              <a:t>en qué grado las inequidades en salud y sus determinantes sociales están siendo transformadas (reduciéndose o aumentando) a partir de las políticas públicas en general y de salud pública en particula</a:t>
            </a:r>
            <a:r>
              <a:rPr b="0" lang="es-UY" sz="2000" spc="-1" strike="noStrike">
                <a:solidFill>
                  <a:srgbClr val="000000"/>
                </a:solidFill>
                <a:latin typeface="Calibri"/>
                <a:ea typeface="SimSun"/>
              </a:rPr>
              <a:t>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algn="just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alibri"/>
                <a:ea typeface="SimSun"/>
              </a:rPr>
              <a:t>Metodología: Línea de base y estud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algn="just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alibri"/>
                <a:ea typeface="SimSun"/>
              </a:rPr>
              <a:t>(2) Seguimiento de la evolución de las inequidades en función de las variables más sensibles, seleccionadas a partir de la línea de 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4586"/>
                </a:solidFill>
                <a:latin typeface="Calibri"/>
              </a:rPr>
              <a:t>SISTEMA DE VIGILANCIA DE LA EQUIDAD EN SALUD (SV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10920" y="1341360"/>
            <a:ext cx="8226360" cy="48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318960" indent="-318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alibri"/>
              </a:rPr>
              <a:t>Fuentes de informació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UY" sz="2000" spc="-1" strike="noStrike">
                <a:solidFill>
                  <a:srgbClr val="000000"/>
                </a:solidFill>
                <a:latin typeface="Calibri"/>
              </a:rPr>
              <a:t>Persona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alibri"/>
              </a:rPr>
              <a:t>Encuesta Continua de Hogares (EC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alibri"/>
              </a:rPr>
              <a:t>Encuesta Nacional de Salu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alibri"/>
              </a:rPr>
              <a:t>Encuesta Longitudinal de Protección So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alibri"/>
              </a:rPr>
              <a:t>Encuesta de Factores de Ries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alibri"/>
              </a:rPr>
              <a:t>Certificado de Mortali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alibri"/>
              </a:rPr>
              <a:t>Sistema de Información Perinat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UY" sz="2000" spc="-1" strike="noStrike">
                <a:solidFill>
                  <a:srgbClr val="000000"/>
                </a:solidFill>
                <a:latin typeface="Calibri"/>
              </a:rPr>
              <a:t>Otras unidades de análisi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alibri"/>
              </a:rPr>
              <a:t>Sistema Nacional de Información (SINADI-Asistencia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alibri"/>
              </a:rPr>
              <a:t>Egresos hospitalari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UY" sz="2000" spc="-1" strike="noStrike">
                <a:solidFill>
                  <a:srgbClr val="000000"/>
                </a:solidFill>
                <a:latin typeface="Calibri"/>
              </a:rPr>
              <a:t>Fuente auxiliar: </a:t>
            </a:r>
            <a:r>
              <a:rPr b="0" lang="es-UY" sz="2000" spc="-1" strike="noStrike">
                <a:solidFill>
                  <a:srgbClr val="000000"/>
                </a:solidFill>
                <a:latin typeface="Calibri"/>
              </a:rPr>
              <a:t>SIIA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4586"/>
                </a:solidFill>
                <a:latin typeface="Calibri"/>
              </a:rPr>
              <a:t>SISTEMA DE VIGILANCIA DE LA EQUIDAD EN SALUD (SV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Calibri"/>
              </a:rPr>
              <a:t>Medidas estándar sugeridas por la literatur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alibri"/>
              </a:rPr>
              <a:t>Cocientes y diferencias (Odds ratios, RA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alibri"/>
              </a:rPr>
              <a:t>Medidas basadas en la curva de Lorenz (Índice de concentración, Índice de inequidad horizontal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alibri"/>
              </a:rPr>
              <a:t>Medidas basadas en regresio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2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abricio Mendez</dc:creator>
  <dc:description/>
  <dc:language>en-US</dc:language>
  <cp:lastModifiedBy>Seven</cp:lastModifiedBy>
  <dcterms:modified xsi:type="dcterms:W3CDTF">2014-07-24T21:46:39Z</dcterms:modified>
  <cp:revision>69</cp:revision>
  <dc:subject/>
  <dc:title>Lima, 24-25 de julio de 2014</dc:title>
</cp:coreProperties>
</file>