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B29-B2DE-4676-8FE5-7C97F01AC102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ED55-E99A-411E-AD4F-A5E344FBE13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AE3-3872-43B6-9F23-AA951B16FA94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F42F-F05F-4B66-8B13-5721347B25DA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B34-B2C1-41C4-A30C-809FFF0178BE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C0F-A811-4693-B039-0E5C64623DC4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905-46DF-44F9-BC4A-8D6B80E3E97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7D4E-9A99-4499-9112-4A725DB5D5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C7B2-962C-4474-8905-BCE96E1239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A3B2-EFDB-47AE-A644-772BD286B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2E39-64A9-4BEE-9C71-4319CD2E6E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035B-DCD5-4A57-99FB-BBC2D59E1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53B8-3698-4FBA-93A4-458BF30FAB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28E8-BC95-4FA5-B00E-91CB64598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332F-3E9C-4B47-ABD3-BD6CADA440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0194-14C7-4B60-BACC-00871E463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42E5-05EA-462B-AB5E-F3A5FB149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6356-DE43-4D1D-A899-206EE6130C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B203-A8B8-4CA1-B27D-53CAE2C252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0BC2-58F3-406D-A921-F9DD21EC46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5DE7-2DAF-47C3-886A-6F7DE451D3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5963-3C14-4274-AA1D-D0359B99FB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8D0C-DE56-43A7-B13A-B8D94B65EF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519E-BAC1-498E-96D8-5C528AEB08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651D-F04F-4C2F-B4BA-0EB2E8524C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1EDA-1A6B-477D-8C88-D3F0F7E950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8F10-F9ED-405B-8422-55BA0E13C2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293A-FE2F-4DBE-AC79-2A01BCB5F9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A395-BDE7-4738-ABF3-DBA237A601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4CA5-5127-4703-B15B-AFAE1E698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EA31-6FD8-403C-BCE8-D5DCE2B5C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0B6-5A0C-4FC5-988D-93FE477A7F6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0 Imagen" descr="logo_eurosocial_rgb.jpg"/>
          <p:cNvPicPr/>
          <p:nvPr/>
        </p:nvPicPr>
        <p:blipFill>
          <a:blip r:embed="rId4"/>
          <a:stretch/>
        </p:blipFill>
        <p:spPr>
          <a:xfrm>
            <a:off x="4518000" y="392040"/>
            <a:ext cx="413712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928-5F88-4079-93D5-598A6BBC5BB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"/>
              </a:rPr>
              <a:t>REUNION DE TRABAJO </a:t>
            </a:r>
            <a:br>
              <a:rPr sz="2800"/>
            </a:br>
            <a:br>
              <a:rPr sz="3600"/>
            </a:br>
            <a:r>
              <a:rPr b="1" lang="es-ES" sz="4000" spc="-1" strike="noStrike">
                <a:solidFill>
                  <a:srgbClr val="ffc000"/>
                </a:solidFill>
                <a:latin typeface="Gill Sans MT"/>
              </a:rPr>
              <a:t>MONITOREO DE LA EQUIDAD EN SALUD </a:t>
            </a:r>
            <a:br>
              <a:rPr sz="2800"/>
            </a:br>
            <a:br>
              <a:rPr sz="2800"/>
            </a:br>
            <a:r>
              <a:rPr b="0" lang="es-ES" sz="4000" spc="-1" strike="noStrike">
                <a:solidFill>
                  <a:srgbClr val="ffffff"/>
                </a:solidFill>
                <a:latin typeface="Gill Sans MT"/>
              </a:rPr>
              <a:t>Como afinar nuestras actividades</a:t>
            </a:r>
            <a:br>
              <a:rPr sz="40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Gill Sans MT"/>
              </a:rPr>
              <a:t>Lima, 25 de Julio de 201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866-47C6-4CD8-AA61-092501372D8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20943" t="29757" r="20977" b="15370"/>
          <a:stretch/>
        </p:blipFill>
        <p:spPr>
          <a:xfrm>
            <a:off x="450720" y="2598840"/>
            <a:ext cx="12193560" cy="648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35040" y="1934640"/>
            <a:ext cx="11912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TEORICO DE EQUIDAD EN SALU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Content Placeholder 6"/>
          <p:cNvSpPr/>
          <p:nvPr/>
        </p:nvSpPr>
        <p:spPr>
          <a:xfrm>
            <a:off x="8875800" y="8945640"/>
            <a:ext cx="3703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C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F592-8353-425E-9D34-144598B5DE4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20943" t="15580" r="42912" b="15122"/>
          <a:stretch/>
        </p:blipFill>
        <p:spPr>
          <a:xfrm>
            <a:off x="954000" y="2160720"/>
            <a:ext cx="6624720" cy="714528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6"/>
          <p:cNvSpPr/>
          <p:nvPr/>
        </p:nvSpPr>
        <p:spPr>
          <a:xfrm>
            <a:off x="635040" y="1859040"/>
            <a:ext cx="11912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PARA ACTUAR SOBRE LOS 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8155080" y="68961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5385a"/>
                </a:solidFill>
                <a:latin typeface="Gill Sans"/>
              </a:rPr>
              <a:t>Disponer de sistemas de seguimiento sistemático de la equidad sanitaria y los DSS a nivel local, nacional e inter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Ovale 7"/>
          <p:cNvSpPr/>
          <p:nvPr/>
        </p:nvSpPr>
        <p:spPr>
          <a:xfrm>
            <a:off x="7939080" y="6264360"/>
            <a:ext cx="4772160" cy="2952720"/>
          </a:xfrm>
          <a:prstGeom prst="ellipse">
            <a:avLst/>
          </a:prstGeom>
          <a:noFill/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CD7-3D31-4A89-8FDB-F3427758EC3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239364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COMO ACTUAR  SOBRE DSS (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Solar O, Irwin A. 2010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ttangolo 6"/>
          <p:cNvSpPr/>
          <p:nvPr/>
        </p:nvSpPr>
        <p:spPr>
          <a:xfrm>
            <a:off x="1546200" y="3755880"/>
            <a:ext cx="998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Estrategias concernientes el contexto socio-economicos y politicos dirigidas a los determinantes estructurales e intermedio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Accion intersectori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Participacion social y 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"/>
              </a:rPr>
              <a:t>empower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1453-25F9-4BCA-8F70-A94D0A11FA6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19159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Y AHORA????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Rettangolo 6"/>
          <p:cNvSpPr/>
          <p:nvPr/>
        </p:nvSpPr>
        <p:spPr>
          <a:xfrm>
            <a:off x="1546200" y="2906640"/>
            <a:ext cx="106408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ac:uerdo a los </a:t>
            </a:r>
            <a:r>
              <a:rPr b="1" lang="es-ES_tradnl" sz="2800" spc="-1" strike="noStrike">
                <a:solidFill>
                  <a:srgbClr val="b54639"/>
                </a:solidFill>
                <a:latin typeface="Gill Sans"/>
              </a:rPr>
              <a:t>insumo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recibidos en estos dias y, tomando en cuenta las actividades que EUROsociAL puede apoyar en sus Paì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elencar los componentes de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GOBERNANZA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del monitoreo de la equidad en salud que necesitan de especial atenciòn en su Paìs para la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considerando </a:t>
            </a:r>
            <a:r>
              <a:rPr b="1" i="1" lang="es-ES_tradnl" sz="2800" spc="-1" strike="noStrike">
                <a:solidFill>
                  <a:srgbClr val="000000"/>
                </a:solidFill>
                <a:latin typeface="Gill Sans"/>
              </a:rPr>
              <a:t>puntos de fuerza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su Paìs y “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debilidade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“/ aspectos que pueden perjudicar el éxito de las iniciativ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52:48Z</dcterms:created>
  <dc:creator>Iván</dc:creator>
  <dc:description/>
  <dc:language>en-US</dc:language>
  <cp:lastModifiedBy>Rita</cp:lastModifiedBy>
  <cp:lastPrinted>2014-07-21T14:30:17Z</cp:lastPrinted>
  <dcterms:modified xsi:type="dcterms:W3CDTF">2014-07-25T18:25:35Z</dcterms:modified>
  <cp:revision>403</cp:revision>
  <dc:subject/>
  <dc:title>Titulo de la presentación -Subtítulo de la presentación-</dc:title>
</cp:coreProperties>
</file>