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300003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F5B3-7428-40B0-ADBC-78D1A914EE00}" type="datetime">
              <a:rPr b="0" lang="es-ES" sz="1200" spc="-1" strike="noStrike">
                <a:solidFill>
                  <a:srgbClr val="000000"/>
                </a:solidFill>
                <a:latin typeface="Gill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00080" y="744120"/>
            <a:ext cx="47973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CFE7-E66F-405B-B9DE-AF58E44A271E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075B-099A-4C39-935B-048108AE186C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443D-980E-4EE9-A8B1-B540CD6D502D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83D-1829-464B-9DC0-B049645D3C72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73C0-AE90-4651-8691-4F6BFB9ACB37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FBE1-9BFF-444A-9DEB-CC6A1C964904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9593-DCE5-423D-B3A3-3405C925EC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2098-6D0F-470D-8F4E-EB068AADE9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3596-3498-460E-A4B9-07F4DBC06D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0A28-1CC4-42C3-B930-633757137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5D27-CF8F-499F-8E74-76C2BC2ADC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BA2C-EB2D-4243-A6A7-F3C66A6298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96A1-E191-4701-B1A2-4AB051432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0E01-C08F-4116-9C05-285EB1856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D87D-CA37-4862-8C26-63ACDE6E79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BA9C-7774-4DC1-9161-409CF1BAE4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759D-48C0-455E-886D-525FF4A2EF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D936-87A5-4BAE-87AD-060B66CD8A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90C6-90B0-4235-9D43-FDA01CFF0B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3291-D34B-46CC-BC20-57A6A2E77B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E8DB-3217-4F45-8BD7-B4CF51BD58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406F-AE80-49F3-A1B0-D8EEE4A480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FB84-D70C-4C2B-ACCA-FCB77A18D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5F7A-0CB6-4628-9DFD-BBEF2C96B4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DFE4-FD92-48BA-AC13-25BE6D5A72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CEE2-0DBC-43AF-8441-6D634606E4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92D2-A551-436D-A84E-8FF9420F73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6900-0123-4666-9592-BEC578FCEC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5F9B-104B-4FD2-B881-B2A646C2B5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5076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66840" y="142992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3468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5076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866840" y="1649880"/>
            <a:ext cx="20149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F3AD-13CD-470A-9FA9-B31FAF847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0" y="164988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468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41200" y="1429920"/>
            <a:ext cx="305352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4680" y="1649880"/>
            <a:ext cx="6257880" cy="2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3360240"/>
            <a:ext cx="12998520" cy="335916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-5112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111240" indent="-42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71360" indent="-342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239760" indent="-342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308520" indent="-342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FE29-7AC5-48CA-9152-8C9AFF5BA31C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0 Imagen" descr="logo_eurosocial_rgb.jpg"/>
          <p:cNvPicPr/>
          <p:nvPr/>
        </p:nvPicPr>
        <p:blipFill>
          <a:blip r:embed="rId4"/>
          <a:stretch/>
        </p:blipFill>
        <p:spPr>
          <a:xfrm>
            <a:off x="4518000" y="392040"/>
            <a:ext cx="413712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34680" y="1430280"/>
            <a:ext cx="11728440" cy="76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2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5E21-E0CB-4CA9-952F-A924AAF9F2A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46600" y="0"/>
            <a:ext cx="383220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-12600" y="835992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12998520" cy="633600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ill Sans MT"/>
              </a:rPr>
              <a:t>REUNION DE TRABAJO </a:t>
            </a:r>
            <a:br>
              <a:rPr sz="2800"/>
            </a:br>
            <a:br>
              <a:rPr sz="3600"/>
            </a:br>
            <a:r>
              <a:rPr b="1" lang="es-ES" sz="4000" spc="-1" strike="noStrike">
                <a:solidFill>
                  <a:srgbClr val="ffc000"/>
                </a:solidFill>
                <a:latin typeface="Gill Sans MT"/>
              </a:rPr>
              <a:t>MONITOREO DE LA EQUIDAD EN SALUD </a:t>
            </a:r>
            <a:br>
              <a:rPr sz="2800"/>
            </a:br>
            <a:br>
              <a:rPr sz="2800"/>
            </a:br>
            <a:r>
              <a:rPr b="0" lang="es-ES" sz="4000" spc="-1" strike="noStrike">
                <a:solidFill>
                  <a:srgbClr val="ffffff"/>
                </a:solidFill>
                <a:latin typeface="Gill Sans MT"/>
              </a:rPr>
              <a:t>Como afinar nuestras actividades</a:t>
            </a:r>
            <a:br>
              <a:rPr sz="40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Gill Sans MT"/>
              </a:rPr>
              <a:t>Lima, 25 de Julio de 201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-12600" y="7554960"/>
            <a:ext cx="130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        </a:t>
            </a: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Rita Ferrelli – Istituto Superiore di Sanità, Ital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307-B6CC-41AF-86CE-B1FB92D6C279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20943" t="29757" r="20977" b="15370"/>
          <a:stretch/>
        </p:blipFill>
        <p:spPr>
          <a:xfrm>
            <a:off x="450720" y="2598840"/>
            <a:ext cx="12193560" cy="648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35040" y="1934640"/>
            <a:ext cx="11912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MARCO TEORICO DE EQUIDAD EN SALUD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3" name="Content Placeholder 6"/>
          <p:cNvSpPr/>
          <p:nvPr/>
        </p:nvSpPr>
        <p:spPr>
          <a:xfrm>
            <a:off x="8875800" y="8945640"/>
            <a:ext cx="3703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CDSS 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(OMS 2008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017-A804-4C0A-8216-9827DA67B2E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20943" t="15580" r="42912" b="15122"/>
          <a:stretch/>
        </p:blipFill>
        <p:spPr>
          <a:xfrm>
            <a:off x="954000" y="2160720"/>
            <a:ext cx="6624720" cy="714528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6"/>
          <p:cNvSpPr/>
          <p:nvPr/>
        </p:nvSpPr>
        <p:spPr>
          <a:xfrm>
            <a:off x="635040" y="1859040"/>
            <a:ext cx="11912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a396d"/>
                </a:solidFill>
                <a:latin typeface="Gill Sans MT"/>
              </a:rPr>
              <a:t>MARCO PARA ACTUAR SOBRE LOS DSS 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(OMS 2008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8155080" y="68961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5385a"/>
                </a:solidFill>
                <a:latin typeface="Gill Sans"/>
              </a:rPr>
              <a:t>Disponer de sistemas de seguimiento sistemático de la equidad sanitaria y los DSS a nivel local, nacional e internacion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Ovale 7"/>
          <p:cNvSpPr/>
          <p:nvPr/>
        </p:nvSpPr>
        <p:spPr>
          <a:xfrm>
            <a:off x="7939080" y="6264360"/>
            <a:ext cx="4772160" cy="2952720"/>
          </a:xfrm>
          <a:prstGeom prst="ellipse">
            <a:avLst/>
          </a:prstGeom>
          <a:noFill/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381B-F7B0-4D72-89B3-F52A6EFA07D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239364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396d"/>
                </a:solidFill>
                <a:latin typeface="Gill Sans MT"/>
              </a:rPr>
              <a:t>COMO ACTUAR  SOBRE DSS (</a:t>
            </a:r>
            <a:r>
              <a:rPr b="0" lang="it-IT" sz="3200" spc="-1" strike="noStrike">
                <a:solidFill>
                  <a:srgbClr val="0a396d"/>
                </a:solidFill>
                <a:latin typeface="Gill Sans MT"/>
              </a:rPr>
              <a:t>Solar O, Irwin A. 2010)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ttangolo 6"/>
          <p:cNvSpPr/>
          <p:nvPr/>
        </p:nvSpPr>
        <p:spPr>
          <a:xfrm>
            <a:off x="1546200" y="3755880"/>
            <a:ext cx="998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Estrategias concernientes el contexto socio-economicos y politicos dirigidas a los determinantes estructurales e intermedio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Accion intersectori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Participacion social y 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"/>
              </a:rPr>
              <a:t>empowerme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9DC2-94C1-4AD9-A1F8-4106F9B3261F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191592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396d"/>
                </a:solidFill>
                <a:latin typeface="Gill Sans MT"/>
              </a:rPr>
              <a:t>Y AHORA?????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Rettangolo 6"/>
          <p:cNvSpPr/>
          <p:nvPr/>
        </p:nvSpPr>
        <p:spPr>
          <a:xfrm>
            <a:off x="1546200" y="2906640"/>
            <a:ext cx="106408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De ac:uerdo a los </a:t>
            </a:r>
            <a:r>
              <a:rPr b="1" lang="es-ES_tradnl" sz="2800" spc="-1" strike="noStrike">
                <a:solidFill>
                  <a:srgbClr val="b54639"/>
                </a:solidFill>
                <a:latin typeface="Gill Sans"/>
              </a:rPr>
              <a:t>insumos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recibidos en estos dias y, tomando en cuenta las actividades que EUROsociAL puede apoyar en sus Paì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elencar los componentes de </a:t>
            </a: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GOBERNANZA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del monitoreo de la equidad en salud que necesitan de especial atenciòn en su Paìs para la </a:t>
            </a: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TOMA DE DECIS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considerando </a:t>
            </a:r>
            <a:r>
              <a:rPr b="1" i="1" lang="es-ES_tradnl" sz="2800" spc="-1" strike="noStrike">
                <a:solidFill>
                  <a:srgbClr val="000000"/>
                </a:solidFill>
                <a:latin typeface="Gill Sans"/>
              </a:rPr>
              <a:t>puntos de fuerza 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de su Paìs y “</a:t>
            </a:r>
            <a:r>
              <a:rPr b="1" lang="es-ES_tradnl" sz="2800" spc="-1" strike="noStrike">
                <a:solidFill>
                  <a:srgbClr val="000000"/>
                </a:solidFill>
                <a:latin typeface="Gill Sans"/>
              </a:rPr>
              <a:t>debilidades</a:t>
            </a: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“/ aspectos que pueden perjudicar el éxito de las iniciativ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14:52:48Z</dcterms:created>
  <dc:creator>Iván</dc:creator>
  <dc:description/>
  <dc:language>en-US</dc:language>
  <cp:lastModifiedBy>Rita</cp:lastModifiedBy>
  <cp:lastPrinted>2014-07-21T14:30:17Z</cp:lastPrinted>
  <dcterms:modified xsi:type="dcterms:W3CDTF">2014-07-25T18:25:35Z</dcterms:modified>
  <cp:revision>403</cp:revision>
  <dc:subject/>
  <dc:title>Titulo de la presentación -Subtítulo de la presentación-</dc:title>
</cp:coreProperties>
</file>