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E99-FD9E-4DCE-992D-565DF1D7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B0A-179F-4804-828C-7B016F69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FD1-645F-4A13-8E21-390A394D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E4D-39E7-42D9-88DB-28A42992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D191-BA4F-48C6-A374-22A3337E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D7DA-BA9D-416B-A3D6-D460C050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2F1B-2064-4AAD-AD4A-80E2C7CA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2804-0745-4F8F-BFC0-F0F9F430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3A57-34A3-4E94-9705-CBD5B6C1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ECEB-C305-46C6-BA8C-34BE39B7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4A2B-7300-4617-92AA-A356CFB5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73C-ACB7-496B-82EC-6B03031C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8424-CF9A-4488-946D-FD6D8298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0953-0F7E-4E58-8B85-224D6179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565B-1C03-4751-AA79-6B62A27F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BC4D-FD49-41A8-90D4-56257829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074F-8275-4620-BFB1-C9A4988A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2CB46-CB07-4BC0-B848-596ABD15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09EFF-1F47-40A6-8BAD-16AA3513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80CF8-FC9A-43FF-9661-C5C98951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5ED86-D6AC-44F7-9B26-527C201A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04B30-0981-4047-A8CC-D8BDD19C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21C-A1A5-4830-9E54-CC99B6EE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BAB1F-A5AB-4AB1-8657-6A7B1322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9B871-43E7-494E-B725-B7509488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97B83-AD65-47D8-A249-DDF19AB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DEEDD-B2D5-41C1-964E-65763F9A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1357E-429F-435F-81BF-C4E28718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92E9E-6D16-4CB5-A892-2EFFD60C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6596-857E-450A-97FB-3230F569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3D7DE-685F-4404-A90F-46B33CA2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C5547-841B-4B8F-8A6D-532F737E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BFAC6-94A7-43AE-AE44-C2C063BA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4C1-45DE-4265-BD16-1E4CA4AA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E664E-B646-40F0-BD3E-917A0913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4631B-9338-43A0-8FFC-A3C70ACA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8ED38-0A1E-4B3E-9203-50FD207C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D79EB-6A46-4A1B-B71C-59E685E3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C721E-994F-4CB0-A86A-1F0BD28D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D9919-6D2A-4A36-9422-6BB54DE9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A4178-8484-4E9A-9CB8-F1B74573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EFC4B-8EAE-4180-A5B0-10166277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3BC99-1459-4AED-B935-206EEB66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C2A-AD8D-4B49-9609-C79AA819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DCF-784A-4FEE-AE2A-6D8011D7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EF7-1D49-4A05-AC5E-3608A4A4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54F-F064-4996-8A60-2D71FA7F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690-1C7A-4B7B-8C16-1FC0F032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EF47A-DDC2-4587-81E7-2541264AA503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90837-FA3D-4772-87AF-35008336913C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31DE8-C2DF-4656-B042-B1E6ADDC41BC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2C890-C431-468D-B696-0C18CEBE789C}" type="slidenum">
              <a:rPr b="0" lang="es-E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76200" y="266760"/>
            <a:ext cx="8915400" cy="295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300" spc="-1" strike="noStrike">
                <a:solidFill>
                  <a:srgbClr val="262626"/>
                </a:solidFill>
                <a:latin typeface="Century Gothic"/>
              </a:rPr>
              <a:t>Monitoreo y evaluación de la determinación social de la salud: papel de los INS</a:t>
            </a:r>
            <a:br>
              <a:rPr sz="4300"/>
            </a:br>
            <a:endParaRPr b="0" lang="en-US" sz="43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733480" y="4175280"/>
            <a:ext cx="8915400" cy="112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595959"/>
                </a:solidFill>
                <a:latin typeface="Century Gothic"/>
              </a:rPr>
              <a:t>Lima, Perú</a:t>
            </a:r>
            <a:br>
              <a:rPr sz="2400"/>
            </a:br>
            <a:r>
              <a:rPr b="0" i="1" lang="es-ES" sz="2400" spc="-1" strike="noStrike">
                <a:solidFill>
                  <a:srgbClr val="595959"/>
                </a:solidFill>
                <a:latin typeface="Century Gothic"/>
              </a:rPr>
              <a:t>24-25 de julio de 2014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400" spc="-1" strike="noStrike">
                <a:solidFill>
                  <a:srgbClr val="595959"/>
                </a:solidFill>
                <a:latin typeface="Century Gothic"/>
              </a:rPr>
              <a:t>Felix J. Rosenberg, Fiocruz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77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95640" y="321840"/>
            <a:ext cx="89359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200" spc="-1" strike="noStrike">
                <a:solidFill>
                  <a:srgbClr val="262626"/>
                </a:solidFill>
                <a:latin typeface="Calibri"/>
              </a:rPr>
              <a:t>Territorio y Salud:</a:t>
            </a:r>
            <a:r>
              <a:rPr b="1" lang="es-UY" sz="3200" spc="-1" strike="noStrike">
                <a:solidFill>
                  <a:srgbClr val="262626"/>
                </a:solidFill>
                <a:latin typeface="Comic Sans MS"/>
              </a:rPr>
              <a:t> </a:t>
            </a:r>
            <a:r>
              <a:rPr b="1" lang="es-UY" sz="3200" spc="-1" strike="noStrike">
                <a:solidFill>
                  <a:srgbClr val="262626"/>
                </a:solidFill>
                <a:latin typeface="Calibri"/>
              </a:rPr>
              <a:t>LA DIVISIÓN SOCIAL DEL TERRITORIO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2206800" y="1576440"/>
            <a:ext cx="870552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Nidalidad Natural de Enfermedades Transmisibles (E.Pavlovsky, 19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Samuel Pessoa (Estudos Médico-Sociais) y Josué de Castro (Geografia da F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Breilh y Granda; Samaja; Castellano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Paulo Sabroza (Geografia das endem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alibri"/>
              </a:rPr>
              <a:t>Milton Santos: El padre de la Geografía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2320" y="347400"/>
            <a:ext cx="89125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800" spc="-1" strike="noStrike">
                <a:solidFill>
                  <a:srgbClr val="262626"/>
                </a:solidFill>
                <a:latin typeface="Calibri"/>
              </a:rPr>
              <a:t>CONFIGURACIÓN TERRITORIAL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1552680" y="1222200"/>
            <a:ext cx="974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¿Cómo se construye la escala en la vida cotidiana; cómo se conectan las diferentes escalas; qué diferentes papeles juegan cuestiones de clase, género y raza en la construcción de las diferentes escalas; y cómo estos problemas se conectan a cuestiones de determinación económica, política y social de la esca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1574640" y="3849840"/>
            <a:ext cx="956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La meta de una política espacializada es superar la dominación social ejercida a través de la construcción autoritaria de la escala reconstruyendola como actividad social</a:t>
            </a: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NI" sz="2800" spc="-1" strike="noStrike">
                <a:solidFill>
                  <a:srgbClr val="000000"/>
                </a:solidFill>
                <a:latin typeface="Calibri"/>
                <a:ea typeface="Arial"/>
              </a:rPr>
              <a:t>Jan Bitoun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m 2" descr=""/>
          <p:cNvPicPr/>
          <p:nvPr/>
        </p:nvPicPr>
        <p:blipFill>
          <a:blip r:embed="rId2"/>
          <a:stretch/>
        </p:blipFill>
        <p:spPr>
          <a:xfrm>
            <a:off x="2538360" y="196920"/>
            <a:ext cx="965376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Imagem 3" descr=""/>
          <p:cNvPicPr/>
          <p:nvPr/>
        </p:nvPicPr>
        <p:blipFill>
          <a:blip r:embed="rId2"/>
          <a:stretch/>
        </p:blipFill>
        <p:spPr>
          <a:xfrm>
            <a:off x="3019320" y="196920"/>
            <a:ext cx="91728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600" spc="-1" strike="noStrike">
                <a:solidFill>
                  <a:srgbClr val="262626"/>
                </a:solidFill>
                <a:latin typeface="Century Gothic"/>
              </a:rPr>
              <a:t>DIVISÓN SOCIAL DEL ESPACIO O </a:t>
            </a:r>
            <a:r>
              <a:rPr b="1" i="1" lang="es-UY" sz="3200" spc="-1" strike="noStrike">
                <a:solidFill>
                  <a:srgbClr val="262626"/>
                </a:solidFill>
                <a:latin typeface="Calibri"/>
              </a:rPr>
              <a:t>el desafío d</a:t>
            </a:r>
            <a:r>
              <a:rPr b="1" i="1" lang="pt-BR" sz="3200" spc="-1" strike="noStrike">
                <a:solidFill>
                  <a:srgbClr val="262626"/>
                </a:solidFill>
                <a:latin typeface="Calibri"/>
              </a:rPr>
              <a:t>e c</a:t>
            </a:r>
            <a:r>
              <a:rPr b="1" i="1" lang="es-UY" sz="3200" spc="-1" strike="noStrike">
                <a:solidFill>
                  <a:srgbClr val="262626"/>
                </a:solidFill>
                <a:latin typeface="Calibri"/>
              </a:rPr>
              <a:t>omo superar de los promedio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ff0000"/>
                </a:solidFill>
                <a:latin typeface="Comic Sans MS"/>
              </a:rPr>
              <a:t>El desafio es construir una cartografia en escala tal que permita dermarcar espacios relativamente homogeneos cuanto a su producción y reproducción social</a:t>
            </a:r>
            <a:r>
              <a:rPr b="0" lang="es-UY" sz="1800" spc="-1" strike="noStrike">
                <a:solidFill>
                  <a:srgbClr val="404040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200" spc="-1" strike="noStrike">
                <a:solidFill>
                  <a:srgbClr val="404040"/>
                </a:solidFill>
                <a:latin typeface="Comic Sans MS"/>
              </a:rPr>
              <a:t>Esa construcción, idealmente, es alcanzada mediante la participación de la comunidad involucrada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12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88720" y="62496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600" spc="-1" strike="noStrike">
                <a:solidFill>
                  <a:srgbClr val="cc3300"/>
                </a:solidFill>
                <a:latin typeface="Century Gothic"/>
              </a:rPr>
              <a:t>DESAFIO 3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2249640" y="282744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UY" sz="2800" spc="-1" strike="noStrike">
                <a:solidFill>
                  <a:srgbClr val="2a5631"/>
                </a:solidFill>
                <a:latin typeface="Century Gothic"/>
              </a:rPr>
              <a:t>Como construir indicadores de salud que reflejen la determinación social sobre un espacio definido socialmente</a:t>
            </a:r>
            <a:r>
              <a:rPr b="0" i="1" lang="es-UY" sz="2400" spc="-1" strike="noStrike">
                <a:solidFill>
                  <a:srgbClr val="2a5631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15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262626"/>
                </a:solidFill>
                <a:latin typeface="Calibri"/>
              </a:rPr>
              <a:t>EXPOSICIÓN O RIESGO: </a:t>
            </a:r>
            <a:r>
              <a:rPr b="0" i="1" lang="es-UY" sz="3200" spc="-1" strike="noStrike">
                <a:solidFill>
                  <a:srgbClr val="262626"/>
                </a:solidFill>
                <a:latin typeface="Calibri"/>
              </a:rPr>
              <a:t>EJEMPLOS URBANO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El Espacio Dividido”: Los dos circuitos de la economia urbana (Milton Santos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La especulación inmobiliaria y las areas de riesgo de catastrofes climática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El acceso a los equipos sociales, servicios (salud, educación) empleo, transporte, deporte, cultura, el oci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18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061720" y="380520"/>
            <a:ext cx="931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200" spc="-1" strike="noStrike">
                <a:solidFill>
                  <a:srgbClr val="262626"/>
                </a:solidFill>
                <a:latin typeface="Calibri"/>
              </a:rPr>
              <a:t>EXPOSICIÓN O RIESGO: </a:t>
            </a:r>
            <a:r>
              <a:rPr b="0" i="1" lang="es-UY" sz="3200" spc="-1" strike="noStrike">
                <a:solidFill>
                  <a:srgbClr val="262626"/>
                </a:solidFill>
                <a:latin typeface="Calibri"/>
              </a:rPr>
              <a:t>EJEMPLOS RURALE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8880" y="2403360"/>
            <a:ext cx="88866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Los circuitos internos y externos de la economía rural: Agronegocios, Agricultura familiar, Agricultura de subsistencia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Economía extractiva (Impactos de la minería legal e ilegal sobre las poblaciones locales y los migrantes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21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600" spc="-1" strike="noStrike">
                <a:solidFill>
                  <a:srgbClr val="262626"/>
                </a:solidFill>
                <a:latin typeface="Calibri"/>
              </a:rPr>
              <a:t>CONSTRUYENDO INDICADORES DE SALUD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971720" y="1800360"/>
            <a:ext cx="95328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Asi como la configuración de las escalas territoriales, la construcción de indicadores de salud también representa y responde a intereses hegemónicos (dominantes) (Por ejemplo, el complejo productivo de la salud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El gran desafio consiste en construir indicadores participativamente, que incluyan indicadores globales de salud que permitan comparaciones, en territorios socialmente construidos e incluyendo indicadores que reflejen las pautas inter-culturales del buen vivir</a:t>
            </a:r>
            <a:r>
              <a:rPr b="0" lang="es-UY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24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80680" y="590040"/>
            <a:ext cx="858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600" spc="-1" strike="noStrike">
                <a:solidFill>
                  <a:srgbClr val="cc3300"/>
                </a:solidFill>
                <a:latin typeface="Century Gothic"/>
              </a:rPr>
              <a:t>DESAFIO 4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803680" y="264636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UY" sz="2400" spc="-1" strike="noStrike">
                <a:solidFill>
                  <a:srgbClr val="404040"/>
                </a:solidFill>
                <a:latin typeface="Century Gothic"/>
              </a:rPr>
              <a:t>Como obtener informaciones que permitam el m</a:t>
            </a:r>
            <a:r>
              <a:rPr b="1" i="1" lang="pt-BR" sz="2400" spc="-1" strike="noStrike">
                <a:solidFill>
                  <a:srgbClr val="404040"/>
                </a:solidFill>
                <a:latin typeface="Century Gothic"/>
              </a:rPr>
              <a:t>onitoreo y la evaluación de las</a:t>
            </a:r>
            <a:r>
              <a:rPr b="1" i="1" lang="es-UY" sz="2400" spc="-1" strike="noStrike">
                <a:solidFill>
                  <a:srgbClr val="404040"/>
                </a:solidFill>
                <a:latin typeface="Century Gothic"/>
              </a:rPr>
              <a:t> inequidades en salud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27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1240" y="382320"/>
            <a:ext cx="276516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262626"/>
                </a:solidFill>
                <a:latin typeface="Century Gothic"/>
              </a:rPr>
              <a:t>AGEND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19320" y="1074240"/>
            <a:ext cx="93852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entury Gothic"/>
              </a:rPr>
              <a:t>1. LOS CUATRO DESAFIOS PARA</a:t>
            </a:r>
            <a:r>
              <a:rPr b="1" lang="pt-BR" sz="2400" spc="-1" strike="noStrike">
                <a:solidFill>
                  <a:srgbClr val="404040"/>
                </a:solidFill>
                <a:latin typeface="Century Gothic"/>
              </a:rPr>
              <a:t> EL MONITOREO Y LA EVALUACIÓN DE LA DETERMINACIÓN SOCIAL DE LA SALUD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000" spc="-1" strike="noStrike">
                <a:solidFill>
                  <a:srgbClr val="404040"/>
                </a:solidFill>
                <a:latin typeface="Century Gothic"/>
              </a:rPr>
              <a:t>Desafio 1: Como construir una categoria operacional de Clase Socia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000" spc="-1" strike="noStrike">
                <a:solidFill>
                  <a:srgbClr val="404040"/>
                </a:solidFill>
                <a:latin typeface="Century Gothic"/>
              </a:rPr>
              <a:t>Desafio 2: Como definir operacionalmente un territorio como espacio de producción y reproducción de uma clase social definida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000" spc="-1" strike="noStrike">
                <a:solidFill>
                  <a:srgbClr val="404040"/>
                </a:solidFill>
                <a:latin typeface="Century Gothic"/>
              </a:rPr>
              <a:t>Desafio 3: Como construir indicadores de salud que reflejen la determinación social sobre un espacio definido socialmente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UY" sz="2000" spc="-1" strike="noStrike">
                <a:solidFill>
                  <a:srgbClr val="404040"/>
                </a:solidFill>
                <a:latin typeface="Century Gothic"/>
              </a:rPr>
              <a:t>Desafio 4: Como obtener informaciones que permitan el monitoreo  de las inequidades en salud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Century Gothic"/>
              </a:rPr>
              <a:t>2. PAPEL DE LOS I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Century Gothic"/>
              </a:rPr>
              <a:t>3. ?POLÍTICAS BASADAS EN EVIDENCIAS 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29000" y="445680"/>
            <a:ext cx="891216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200" spc="-1" strike="noStrike">
                <a:solidFill>
                  <a:srgbClr val="262626"/>
                </a:solidFill>
                <a:latin typeface="Calibri"/>
              </a:rPr>
              <a:t>SISTEMAS DE INFORMACIÓN PARA LA SALUD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1650960"/>
            <a:ext cx="891540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Incluir indicadores que reflejen la determinación social de la salud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Integrar datos de sistemas correspondientes a diversas escalas territoriales: censos nacionales; encuestas domiciliares por muestreo; sistemas locales de salud, empleo, educación, etc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Incluir datos de sistemas correspondientes a otros sectores de Gobierno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2400" spc="-1" strike="noStrike">
                <a:solidFill>
                  <a:srgbClr val="404040"/>
                </a:solidFill>
                <a:latin typeface="Calibri"/>
              </a:rPr>
              <a:t>ES FUNDAMENTAL EL DIALOGO / LA INTEGRACI</a:t>
            </a:r>
            <a:r>
              <a:rPr b="1" i="1" lang="pt-BR" sz="2400" spc="-1" strike="noStrike">
                <a:solidFill>
                  <a:srgbClr val="404040"/>
                </a:solidFill>
                <a:latin typeface="Calibri"/>
              </a:rPr>
              <a:t>ÓN ENTRE ÓRGANISMOS DE SALUD E INSTITUTOS NACIONALES DE ESTADÍSTICA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30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50760" y="409680"/>
            <a:ext cx="9653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800" spc="-1" strike="noStrike">
                <a:solidFill>
                  <a:srgbClr val="262626"/>
                </a:solidFill>
                <a:latin typeface="Calibri"/>
              </a:rPr>
              <a:t>PAPEL DE LOS INS: </a:t>
            </a:r>
            <a:r>
              <a:rPr b="1" lang="es-AR" sz="2800" spc="-1" strike="noStrike">
                <a:solidFill>
                  <a:srgbClr val="262626"/>
                </a:solidFill>
                <a:latin typeface="Century Gothic"/>
              </a:rPr>
              <a:t>Fortalecimiento de los Observatorios Nacionales de Salud con foco en la DSS-IS</a:t>
            </a:r>
            <a:br>
              <a:rPr sz="2800"/>
            </a:br>
            <a:r>
              <a:rPr b="0" lang="es-AR" sz="2400" spc="-1" strike="noStrike">
                <a:solidFill>
                  <a:srgbClr val="262626"/>
                </a:solidFill>
                <a:latin typeface="Century Gothic"/>
              </a:rPr>
              <a:t>Conclusiones del Seminario Conjunto RINS-UNASUR / RINSP-CPLP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79640" y="1905120"/>
            <a:ext cx="95248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Incorporación de los DSS-IS en el monitoreo y la evaluación de la salud en los respectivos país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Los INS deben involucrarse en el monitoreo y la evaluación sistemática de los DSS-I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Identificar las fuentes disponibles de datos e informacion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Construir indicadores que integren y articulen los ODM con otras variabl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El sitio Web de la RINS podría constituirse en un poderoso instrumento de “clearinghouse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33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50760" y="409680"/>
            <a:ext cx="9653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800" spc="-1" strike="noStrike">
                <a:solidFill>
                  <a:srgbClr val="262626"/>
                </a:solidFill>
                <a:latin typeface="Calibri"/>
              </a:rPr>
              <a:t>PAPEL DE LOS INS: </a:t>
            </a:r>
            <a:r>
              <a:rPr b="1" lang="es-AR" sz="2400" spc="-1" strike="noStrike">
                <a:solidFill>
                  <a:srgbClr val="262626"/>
                </a:solidFill>
                <a:latin typeface="Century Gothic"/>
              </a:rPr>
              <a:t>Fortalecimiento de la Investigación de Campo sobre os DSS-IS</a:t>
            </a:r>
            <a:br>
              <a:rPr sz="2400"/>
            </a:br>
            <a:r>
              <a:rPr b="0" lang="es-AR" sz="2400" spc="-1" strike="noStrike">
                <a:solidFill>
                  <a:srgbClr val="262626"/>
                </a:solidFill>
                <a:latin typeface="Century Gothic"/>
              </a:rPr>
              <a:t>Conclusiones del Seminario Conjunto RINS-UNASUR / RINSP-CPLP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979640" y="1905120"/>
            <a:ext cx="95248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Realizar un mapeo de todos los actores involucrados en las investigaciones de DSS-IS en el ámbito de los I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Validar un modelo de DSS que utilice como categoría la relación dialéctica existente entre clases sociales y territorios: Territorios “Paradigmáticos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Proyecto multicéntrico que integre experiencias locales concreta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entury Gothic"/>
              </a:rPr>
              <a:t>Que los INS encuentren medios para orientar los tomadores de decisión sobre políticas de salud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36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262626"/>
                </a:solidFill>
                <a:latin typeface="Calibri"/>
              </a:rPr>
              <a:t>TERRITORIOS PARADIGMÁTICOS: Ejemplo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1738080"/>
            <a:ext cx="89154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Impacto sobre la salud de la transformación de la Agricultura Familiar en Cultivo Intensivo de Soja – Agronegocios, en la Frontera Argentino – Brasileña (INMET - Fiocruz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Salud en territorios de poblaciones de trabajadores y ex-trabajadores mineros en la frontera entre Africa del Sur y Mozambique (INS/Mozambique – NIOH/Africa del Sur – Fiocruz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Cuotas Verticales y Salud en Comunidades de la Estrada da Saudade- Petrópolis (Fiocruz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Epidemiología de la Basura en Quito (UASB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262626"/>
                </a:solidFill>
                <a:latin typeface="Century Gothic"/>
              </a:rPr>
              <a:t>?POLÍTICAS BASADAS EN EVIDENCIAS ?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as Definiciones políticas son basadas en ideologías. Las evidencias sirven apenas para establecer mejores estrategias y tácticas, inclusive para orientar la demostración de nuevas evidencias que refuercen las ideologías del poder decisori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Un ejemplo: El Grupo de Alto Nivel para el establecimiento de la propuesta de OBJETIVOS PARA EL DESARROLLO POST – 2015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12ª Sesión del OPEN WORKING GROUP – OWG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Análisis Costo – Beneficio de la propuesta del OWG (Copenhaguen Consensus Center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41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88760" y="495000"/>
            <a:ext cx="89154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262626"/>
                </a:solidFill>
                <a:latin typeface="Calibri"/>
              </a:rPr>
              <a:t>OBJETIVO 3: Alcanzar vida saludable para todos en todas las edade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871640" y="1366560"/>
            <a:ext cx="96328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 2030, reducir la Mortalidad Materna a menos de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x 100.000 nacidos vivos.</a:t>
            </a:r>
            <a:r>
              <a:rPr b="0" lang="en-US" sz="1800" spc="-1" strike="noStrike">
                <a:solidFill>
                  <a:srgbClr val="ff99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(40: POBRE; 94 es REGULAR. Dinamarca= 5; Chile = 22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2030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ACABAR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con muertes prevenibles en recién nacidos y menores de 5 año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(Propuesta: Reducir a 20 per 1,000 en &lt; 5 años. Dinamarca = 0; Chile = 2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n Cooperación con las compañías farmacéuticas, proveer acceso a medicamentos esenciales de bajo costo en países en desarrollo y apoyar a esos países en el uso de las flexibilidades de TRIP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siderado “POBRE”: Se aduce Falta de Colaboración por parte de la Industri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Todas las metas que implican en subsidios públicos para la intervención del Mercado (Ej. Medicamentos; investigación; seguros médicos) son considerados “Buenos” o “Fenomenales”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44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57080" y="301320"/>
            <a:ext cx="984708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Objetivo 4:  Proveer oportunidades de educación de calidad, equitativa e inclusiva y oportunidades de aprendizaje durante toda la vida para todo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871640" y="1699920"/>
            <a:ext cx="96328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l 2030 asegurar que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TODAS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las niñas y niños completen educación primaria y secundaria completa </a:t>
            </a: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gratis, equitativa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y de 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calidad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….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rgumentos:  Gratis para todos no es costo-eficaz: apenas para los pobres. Se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be priorizar las niñas. Equitativo es un término poco definido. Cuanto a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“Calidad” se cita un estudio que dice “un resultado típico es que un aumento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 1 desvío standard en scores de testes cuesta 100 $”.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 sugiere substituir por: “Aumentar el acceso de niñas a la educación primaria”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sic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De NUEVE metas de educación, 4 son consideradas “POBRES” y 2 “REGULARES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47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76040" y="94464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4000" spc="-1" strike="noStrike">
                <a:solidFill>
                  <a:srgbClr val="262626"/>
                </a:solidFill>
                <a:latin typeface="Calibri"/>
              </a:rPr>
              <a:t>La sugerencia de políticas diferenciales para pobres en lugar de políticas universales es exclusivamente ideológica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2437920" y="406692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595959"/>
                </a:solidFill>
                <a:latin typeface="Comic Sans MS"/>
              </a:rPr>
              <a:t>Pueden buscarse evidencias para una o para otra opción dependiendo de la política pre-determinada. Pensar lo opuesto es, por lo menos, ingenuidad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50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3600" spc="-1" strike="noStrike">
                <a:solidFill>
                  <a:srgbClr val="262626"/>
                </a:solidFill>
                <a:latin typeface="Century Gothic"/>
              </a:rPr>
              <a:t>DESAFIO 1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828440" y="41148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UY" sz="2400" spc="-1" strike="noStrike">
                <a:solidFill>
                  <a:srgbClr val="cc3300"/>
                </a:solidFill>
                <a:latin typeface="Century Gothic"/>
              </a:rPr>
              <a:t>Como construir una categoría operacional de Clase Social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82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600" spc="-1" strike="noStrike">
                <a:solidFill>
                  <a:srgbClr val="262626"/>
                </a:solidFill>
                <a:latin typeface="Century Gothic"/>
              </a:rPr>
              <a:t>DETERMINANTES Y DETERMINACIÓN: Relaciones y Diferencia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92360" y="1905120"/>
            <a:ext cx="761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UY" sz="2400" spc="-1" strike="noStrike">
                <a:solidFill>
                  <a:srgbClr val="404040"/>
                </a:solidFill>
                <a:latin typeface="Calibri"/>
              </a:rPr>
              <a:t>Los Determinantes Sociales y Económicos de la Salud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 se fundamentan en la multifactorialidad de elementos que determinan los factores de riesgo para la salud, dependientes de las </a:t>
            </a:r>
            <a:r>
              <a:rPr b="1" i="1" lang="es-UY" sz="2400" spc="-1" strike="noStrike">
                <a:solidFill>
                  <a:srgbClr val="404040"/>
                </a:solidFill>
                <a:latin typeface="Calibri"/>
              </a:rPr>
              <a:t>condiciones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 ambientales, sociales y económicas del individuo (Determinantes estructurales e Intermedios)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La </a:t>
            </a:r>
            <a:r>
              <a:rPr b="1" lang="es-UY" sz="2400" spc="-1" strike="noStrike">
                <a:solidFill>
                  <a:srgbClr val="404040"/>
                </a:solidFill>
                <a:latin typeface="Calibri"/>
              </a:rPr>
              <a:t>Determinación Social de la Salud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 es una construcción teórica que parte de la </a:t>
            </a:r>
            <a:r>
              <a:rPr b="1" i="1" lang="es-UY" sz="2400" spc="-1" strike="noStrike">
                <a:solidFill>
                  <a:srgbClr val="404040"/>
                </a:solidFill>
                <a:latin typeface="Calibri"/>
              </a:rPr>
              <a:t>inserción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 históricamente determinada del individuo y su familia en la estructura de producción</a:t>
            </a:r>
            <a:r>
              <a:rPr b="0" lang="es-UY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s-UY" sz="2400" spc="-1" strike="noStrike">
                <a:solidFill>
                  <a:srgbClr val="404040"/>
                </a:solidFill>
                <a:latin typeface="Calibri"/>
              </a:rPr>
              <a:t>(Categoría Síntesis Central - Singular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85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9"/>
          <p:cNvGraphicFramePr/>
          <p:nvPr/>
        </p:nvGraphicFramePr>
        <p:xfrm>
          <a:off x="1919160" y="593640"/>
          <a:ext cx="8350200" cy="62643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8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9160" y="593640"/>
                    <a:ext cx="83502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-2629080" y="188640"/>
            <a:ext cx="41529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O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1703520" y="214200"/>
            <a:ext cx="8821440" cy="612720"/>
          </a:xfrm>
          <a:prstGeom prst="rect">
            <a:avLst/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Para un análisis de las determinación social de la Calidad de Vida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 (Armando de Negri)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800" spc="-1" strike="noStrike">
                <a:solidFill>
                  <a:srgbClr val="262626"/>
                </a:solidFill>
                <a:latin typeface="Calibri"/>
              </a:rPr>
              <a:t>CLASES SOCIALES O CLASES ECONÓMICA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90920" y="1219320"/>
            <a:ext cx="847224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La mayoría de las investigaciones utilizan los conceptos oficiales de Clases Económicas, equivalentes a un gradiente de renta: Clases A a 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Estas “Clases” según renta están basadas en la capacidad de consumo</a:t>
            </a:r>
            <a:r>
              <a:rPr b="0" lang="es-AR" sz="2400" spc="-1" strike="noStrike">
                <a:solidFill>
                  <a:srgbClr val="404040"/>
                </a:solidFill>
                <a:latin typeface="Calibri"/>
                <a:ea typeface="DejaVu San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Diversos estudios demuestran una correlación entre el gradiente de renta e indicadores de salud-enfermedad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Reciente estudio de José Alcides Figueiredo demuestra que la renta o la educación responden por menos del 80% de la autoevaluación de “no salud” en Brasil. Tambien M. Marmot demuestra que </a:t>
            </a:r>
            <a:r>
              <a:rPr b="1" i="1" lang="es-AR" sz="2400" spc="-1" strike="noStrike">
                <a:solidFill>
                  <a:srgbClr val="404040"/>
                </a:solidFill>
                <a:latin typeface="Calibri"/>
              </a:rPr>
              <a:t>la posición ocupacional</a:t>
            </a:r>
            <a:r>
              <a:rPr b="0" lang="es-AR" sz="2400" spc="-1" strike="noStrike">
                <a:solidFill>
                  <a:srgbClr val="404040"/>
                </a:solidFill>
                <a:latin typeface="Calibri"/>
              </a:rPr>
              <a:t> es una categoría mas explicativa de indicadores de salud que la </a:t>
            </a:r>
            <a:r>
              <a:rPr b="1" i="1" lang="es-AR" sz="2400" spc="-1" strike="noStrike">
                <a:solidFill>
                  <a:srgbClr val="404040"/>
                </a:solidFill>
                <a:latin typeface="Calibri"/>
              </a:rPr>
              <a:t>renta o la educació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92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262626"/>
                </a:solidFill>
                <a:latin typeface="Century Gothic"/>
              </a:rPr>
              <a:t>LA POSICIÓN OCUPACIONAL COMO PROXI DE CLASE SOCIAL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La posición ocupacional / empleo sintetiza los principales factores que definen las clases sociales en el capitalismo contemporaneo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l dominio de activo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La posición de Poder Social Relativ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l dominio del conocimiento  / informació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2922480" y="1471680"/>
          <a:ext cx="7948800" cy="5067360"/>
        </p:xfrm>
        <a:graphic>
          <a:graphicData uri="http://schemas.openxmlformats.org/drawingml/2006/table">
            <a:tbl>
              <a:tblPr/>
              <a:tblGrid>
                <a:gridCol w="1855800"/>
                <a:gridCol w="2379600"/>
                <a:gridCol w="1857600"/>
                <a:gridCol w="1855800"/>
              </a:tblGrid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siciones de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rupaciones de Cl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marL="182520"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822320"/>
                          <a:tab algn="ctr" pos="2679840"/>
                          <a:tab algn="r" pos="5423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marL="182520"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1822320"/>
                          <a:tab algn="ctr" pos="2679840"/>
                          <a:tab algn="r" pos="5423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nta Total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08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pit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5">
                  <a:txBody>
                    <a:bodyPr lIns="72360" rIns="7236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siciones Privilegiad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10,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perto autóno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8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r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7936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perto emple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mpleador pequ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tónomo con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os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 Menor Valor (9,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1896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tónomo agríc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mpleado califi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3"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ase Trabaj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tituida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41,7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upervi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492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rabajador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íp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rabajador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e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6"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tituidos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8,3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7936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tónomo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c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mpleada domé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rícola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c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45108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rabajador de subsis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282600">
                <a:tc>
                  <a:txBody>
                    <a:bodyPr lIns="54360" rIns="54360" tIns="75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rabajador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ced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4360" rIns="543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88604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32240" y="37116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88604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ipolog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 de Clases. Brasil, 2011 (J.A.Figueiredo)</a:t>
            </a:r>
            <a:br>
              <a:rPr sz="2400"/>
            </a:b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uente: Estimaciones del autor basadas en los Microdatos de la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Investigaci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n Nacional por Muestreo de Hogares (PNAD), IBGE, Brasil, 2011”.</a:t>
            </a: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80680" y="590040"/>
            <a:ext cx="858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3600" spc="-1" strike="noStrike">
                <a:solidFill>
                  <a:srgbClr val="cc3300"/>
                </a:solidFill>
                <a:latin typeface="Century Gothic"/>
              </a:rPr>
              <a:t>DESAFIO 2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803680" y="264636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UY" sz="2400" spc="-1" strike="noStrike">
                <a:solidFill>
                  <a:srgbClr val="404040"/>
                </a:solidFill>
                <a:latin typeface="Century Gothic"/>
              </a:rPr>
              <a:t>Como definir operacionalmente un territorio como espacio de producción y reproducción de una clase social definida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99" name="Imagem 4" descr=""/>
          <p:cNvPicPr/>
          <p:nvPr/>
        </p:nvPicPr>
        <p:blipFill>
          <a:blip r:embed="rId2"/>
          <a:stretch/>
        </p:blipFill>
        <p:spPr>
          <a:xfrm>
            <a:off x="4202280" y="5865840"/>
            <a:ext cx="78422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7:26:25Z</dcterms:created>
  <dc:creator>user</dc:creator>
  <dc:description/>
  <dc:language>en-US</dc:language>
  <cp:lastModifiedBy>Felix Rosenberg</cp:lastModifiedBy>
  <dcterms:modified xsi:type="dcterms:W3CDTF">2014-07-24T23:46:22Z</dcterms:modified>
  <cp:revision>38</cp:revision>
  <dc:subject/>
  <dc:title>Iº seminario para a ELABORAÇÃO DE um plano ESTRATÉGICO DE cooperação em ciência e tecnologia em saúde na área de FRONTEIRA ARGENTINA e Brasil</dc:title>
</cp:coreProperties>
</file>