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4"/>
          <p:cNvSpPr>
            <a:spLocks noGrp="1"/>
          </p:cNvSpPr>
          <p:nvPr>
            <p:ph type="dt" idx="5"/>
          </p:nvPr>
        </p:nvSpPr>
        <p:spPr>
          <a:xfrm>
            <a:off x="4278240" y="-360"/>
            <a:ext cx="3278160" cy="531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5"/>
          <p:cNvSpPr>
            <a:spLocks noGrp="1"/>
          </p:cNvSpPr>
          <p:nvPr>
            <p:ph type="ftr" idx="6"/>
          </p:nvPr>
        </p:nvSpPr>
        <p:spPr>
          <a:xfrm>
            <a:off x="0" y="10156680"/>
            <a:ext cx="3278160" cy="53208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6"/>
          <p:cNvSpPr>
            <a:spLocks noGrp="1"/>
          </p:cNvSpPr>
          <p:nvPr>
            <p:ph type="sldNum" idx="7"/>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05AD78-D4D2-4C9D-A27C-A34B2DB3DB1E}"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0BC86E-00FB-4863-BD0C-5335B3159B8B}"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7AB489-6C80-4AE8-B64F-4B5B7EACAA19}"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EF991E-5F92-4002-98F2-6BAB5A9CD1E2}"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describir los objetivos que el País quiere lograr en términos de monitoreo de la equidad en salud y contraste/reducción de la inequidad en salud</a:t>
            </a:r>
            <a:endParaRPr b="0" lang="en-US" sz="1200" spc="-1" strike="noStrike">
              <a:solidFill>
                <a:srgbClr val="000000"/>
              </a:solidFill>
              <a:latin typeface="Times New Roman"/>
            </a:endParaRPr>
          </a:p>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mencionar las debilidades que obstaculizan el logro de los objetivos</a:t>
            </a:r>
            <a:endParaRPr b="0" lang="en-US" sz="1200" spc="-1" strike="noStrike">
              <a:solidFill>
                <a:srgbClr val="000000"/>
              </a:solidFill>
              <a:latin typeface="Times New Roman"/>
            </a:endParaRPr>
          </a:p>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indicar los aspectos/componentes que se deberían fortalecer para el monitoreo de la equidad en salud</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0B41DA-5F08-4FDB-BC58-90BBAB713639}"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F487D-B1F0-43DC-8D69-CAFA6DD98069}"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71" name="PlaceHolder 1"/>
          <p:cNvSpPr>
            <a:spLocks noGrp="1"/>
          </p:cNvSpPr>
          <p:nvPr>
            <p:ph type="sldImg"/>
          </p:nvPr>
        </p:nvSpPr>
        <p:spPr>
          <a:xfrm>
            <a:off x="1106640" y="812880"/>
            <a:ext cx="5344920" cy="4008240"/>
          </a:xfrm>
          <a:prstGeom prst="rect">
            <a:avLst/>
          </a:prstGeom>
          <a:ln w="0">
            <a:noFill/>
          </a:ln>
        </p:spPr>
      </p:sp>
      <p:sp>
        <p:nvSpPr>
          <p:cNvPr id="1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D82C65-B80B-41E9-82B6-CFC37B8A5023}"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38" name="PlaceHolder 1"/>
          <p:cNvSpPr>
            <a:spLocks noGrp="1"/>
          </p:cNvSpPr>
          <p:nvPr>
            <p:ph type="sldImg"/>
          </p:nvPr>
        </p:nvSpPr>
        <p:spPr>
          <a:xfrm>
            <a:off x="1106640" y="812880"/>
            <a:ext cx="5344920" cy="4008240"/>
          </a:xfrm>
          <a:prstGeom prst="rect">
            <a:avLst/>
          </a:prstGeom>
          <a:ln w="0">
            <a:noFill/>
          </a:ln>
        </p:spPr>
      </p:sp>
      <p:sp>
        <p:nvSpPr>
          <p:cNvPr id="1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F9E0E-6E39-4A03-9CB7-B894F331E6F4}"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B6A8E-D45C-4256-8188-4F44F7520341}"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4" name="PlaceHolder 1"/>
          <p:cNvSpPr>
            <a:spLocks noGrp="1"/>
          </p:cNvSpPr>
          <p:nvPr>
            <p:ph type="sldImg"/>
          </p:nvPr>
        </p:nvSpPr>
        <p:spPr>
          <a:xfrm>
            <a:off x="1106640" y="812880"/>
            <a:ext cx="534492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FA6EE-F554-4CC5-83C3-C05329643E22}"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7" name="PlaceHolder 1"/>
          <p:cNvSpPr>
            <a:spLocks noGrp="1"/>
          </p:cNvSpPr>
          <p:nvPr>
            <p:ph type="sldImg"/>
          </p:nvPr>
        </p:nvSpPr>
        <p:spPr>
          <a:xfrm>
            <a:off x="1106640" y="812880"/>
            <a:ext cx="534492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E604A6-AD57-4F94-BA8C-19744AF994EC}"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0" name="PlaceHolder 1"/>
          <p:cNvSpPr>
            <a:spLocks noGrp="1"/>
          </p:cNvSpPr>
          <p:nvPr>
            <p:ph type="sldImg"/>
          </p:nvPr>
        </p:nvSpPr>
        <p:spPr>
          <a:xfrm>
            <a:off x="1106640" y="812880"/>
            <a:ext cx="534492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8606EC-D623-48A2-B39D-2E5E5996F057}"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CBB353-A4C5-4E0E-A4CB-C2AE0BEA01CB}"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9A6D0B-971F-44F4-83F8-D0979DDF5155}"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F4A7FC-A0BF-4873-B32C-9B7239A114F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13B1FA-11B3-42FB-826E-11853F4E7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237CFBD-2809-47DE-9407-6E1ACC53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EB3D38F-937F-4104-B3E7-44AB299145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92F564-A57E-4D2B-9E3F-D7C48BAECC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60751B7-3DAB-414F-8410-8C02EB607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6840" y="1599840"/>
            <a:ext cx="8226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CA82A6-DD8F-425A-AD45-D2F863FF1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7AF70B-9C46-479F-8855-6887EBB2D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D1EF00-A60F-4A55-804D-B1B97AEA5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26360" cy="6189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D0163B9-6A73-46F1-A18C-70899F59A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A43C62-5CD5-4082-8880-62851A439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4B0CF2-F0F3-4BBC-ACA8-E7F0CD15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CF0B83-308A-4EC1-AC53-30684D1F5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36C835-CD7A-4155-A452-BD547597F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159984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08A401D-B283-4BB8-8F18-AC7ED462E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E56A915-CAFE-46F6-844B-0CA93486D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820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1956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820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1956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3C24D3C-10DF-4C24-B611-E3E6DEFFCE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3C10543-B11C-4F98-8234-4E8CF253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CF24AE-3D57-4185-8BDF-9A839A1B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550E0A9-8940-4CB3-93F6-6B58CE64B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6189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47E9993-A031-4F49-ADB4-F548817A6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2A8E88-E92F-4D80-9061-7ED23C704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9FB7A9-88D3-48BA-AF1F-0C69DA546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7B08C0-F2DE-48E1-AFC3-53C45B5CB4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9160" cy="146664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160"/>
            <a:ext cx="2130480" cy="361800"/>
          </a:xfrm>
          <a:prstGeom prst="rect">
            <a:avLst/>
          </a:prstGeom>
          <a:noFill/>
          <a:ln w="0">
            <a:noFill/>
          </a:ln>
        </p:spPr>
        <p:txBody>
          <a:bodyPr lIns="90000" rIns="90000" tIns="45000" bIns="450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10/07/14</a:t>
            </a:r>
            <a:endParaRPr b="0" lang="en-US" sz="1800" spc="-1" strike="noStrike">
              <a:solidFill>
                <a:srgbClr val="000000"/>
              </a:solidFill>
              <a:latin typeface="Arial"/>
            </a:endParaRPr>
          </a:p>
        </p:txBody>
      </p:sp>
      <p:sp>
        <p:nvSpPr>
          <p:cNvPr id="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3"/>
          <p:cNvSpPr>
            <a:spLocks noGrp="1"/>
          </p:cNvSpPr>
          <p:nvPr>
            <p:ph type="sldNum" idx="2"/>
          </p:nvPr>
        </p:nvSpPr>
        <p:spPr>
          <a:xfrm>
            <a:off x="6553080" y="6356160"/>
            <a:ext cx="2130480" cy="361800"/>
          </a:xfrm>
          <a:prstGeom prst="rect">
            <a:avLst/>
          </a:prstGeom>
          <a:noFill/>
          <a:ln w="0">
            <a:noFill/>
          </a:ln>
        </p:spPr>
        <p:txBody>
          <a:bodyPr lIns="90000" rIns="90000" tIns="45000" bIns="450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387877-FC06-4E62-869B-46E12156E3D1}"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6840" y="1604880"/>
            <a:ext cx="8226360" cy="4523040"/>
          </a:xfrm>
          <a:prstGeom prst="rect">
            <a:avLst/>
          </a:prstGeom>
          <a:noFill/>
          <a:ln w="0">
            <a:noFill/>
          </a:ln>
        </p:spPr>
        <p:txBody>
          <a:bodyPr lIns="0" rIns="0" tIns="0" bIns="0" anchor="t">
            <a:normAutofit fontScale="99000"/>
          </a:bodyPr>
          <a:p>
            <a:pPr marL="339480" indent="-3394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6840" y="1599840"/>
            <a:ext cx="8226360" cy="4522680"/>
          </a:xfrm>
          <a:prstGeom prst="rect">
            <a:avLst/>
          </a:prstGeom>
          <a:noFill/>
          <a:ln w="0">
            <a:noFill/>
          </a:ln>
        </p:spPr>
        <p:txBody>
          <a:bodyPr lIns="90000" rIns="90000" tIns="45000" bIns="45000" anchor="t">
            <a:normAutofit fontScale="97000"/>
          </a:bodyPr>
          <a:p>
            <a:pPr marL="332640" indent="-33264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0720" indent="-2772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844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5196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04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Calibri"/>
                <a:ea typeface="Arial Unicode MS"/>
              </a:rPr>
              <a:t>10/07/14</a:t>
            </a:r>
            <a:endParaRPr b="0" lang="en-US" sz="1800" spc="-1" strike="noStrike">
              <a:solidFill>
                <a:srgbClr val="000000"/>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3080" y="6356160"/>
            <a:ext cx="2130480" cy="36828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67E18F-9277-4FF2-9E6C-F826221C27E7}"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pj.go.cr/component/docman/doc_download/41-segunda-encuesta-nacional-de-juventudes-informe-de-principales-resultados-costa-rica-2013"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inisteriodesalud.go.cr/index.php/centro-de-prensa/noticias/662-noticias-2014/680-salud-inaugura-moderno-sistema-informatico-que-busca-reducir-la-mortalidad-materno-infantil" TargetMode="External"/><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inisteriodesalud.go.cr/index.php/vigilancia-de-la-salud/estadistica-y-base-de-datos/cat_view/659-documentos-ministerio-de-salud/121-vigilancia-de-la-salud/122-consulta-a-bases-de-datos/344-estadisticas/483-estadistica-de-cancer-registro-nacional-de-tumores"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ccp.ucr.ac.cr/farmacoeconomia/documentos/ENSA/informetecnicoyprimerosresultadosENSA.pdf" TargetMode="External"/><Relationship Id="rId2" Type="http://schemas.openxmlformats.org/officeDocument/2006/relationships/hyperlink" Target="http://ccp.ucr.ac.cr/espam/intro.html" TargetMode="External"/><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67D5C0-A6C7-48BF-9D32-D074B277D664}"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91" name="PlaceHolder 1"/>
          <p:cNvSpPr>
            <a:spLocks noGrp="1"/>
          </p:cNvSpPr>
          <p:nvPr>
            <p:ph type="title"/>
          </p:nvPr>
        </p:nvSpPr>
        <p:spPr>
          <a:xfrm>
            <a:off x="900000" y="3492360"/>
            <a:ext cx="7772400" cy="54000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800" spc="-1" strike="noStrike">
                <a:solidFill>
                  <a:srgbClr val="000000"/>
                </a:solidFill>
                <a:latin typeface="Calibri"/>
              </a:rPr>
              <a:t>Lima, 24-25 de julio de 2014</a:t>
            </a:r>
            <a:endParaRPr b="0" lang="en-US" sz="2800" spc="-1" strike="noStrike">
              <a:solidFill>
                <a:srgbClr val="000000"/>
              </a:solidFill>
              <a:latin typeface="Arial"/>
            </a:endParaRPr>
          </a:p>
        </p:txBody>
      </p:sp>
      <p:sp>
        <p:nvSpPr>
          <p:cNvPr id="92" name="PlaceHolder 2"/>
          <p:cNvSpPr>
            <a:spLocks noGrp="1"/>
          </p:cNvSpPr>
          <p:nvPr>
            <p:ph type="subTitle"/>
          </p:nvPr>
        </p:nvSpPr>
        <p:spPr>
          <a:xfrm>
            <a:off x="2239920" y="4642920"/>
            <a:ext cx="6400800" cy="1079640"/>
          </a:xfrm>
          <a:prstGeom prst="rect">
            <a:avLst/>
          </a:prstGeom>
          <a:noFill/>
          <a:ln w="0">
            <a:noFill/>
          </a:ln>
        </p:spPr>
        <p:txBody>
          <a:bodyPr lIns="90000" rIns="90000" tIns="45000" bIns="45000" anchor="t">
            <a:noAutofit/>
          </a:bodyPr>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Calibri"/>
              </a:rPr>
              <a:t>Dr. César Gamboa Peñaranda </a:t>
            </a:r>
            <a:endParaRPr b="0" lang="en-US" sz="3000" spc="-1" strike="noStrike">
              <a:solidFill>
                <a:srgbClr val="000000"/>
              </a:solidFill>
              <a:latin typeface="Calibri"/>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alibri"/>
              </a:rPr>
              <a:t>Director Garantía de Acceso a Servicios de Salud</a:t>
            </a:r>
            <a:endParaRPr b="0" lang="en-US" sz="2400" spc="-1" strike="noStrike">
              <a:solidFill>
                <a:srgbClr val="000000"/>
              </a:solidFill>
              <a:latin typeface="Calibri"/>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0000"/>
                </a:solidFill>
                <a:latin typeface="Calibri"/>
              </a:rPr>
              <a:t>Ministerio de Salud</a:t>
            </a:r>
            <a:endParaRPr b="0" lang="en-US" sz="3000" spc="-1" strike="noStrike">
              <a:solidFill>
                <a:srgbClr val="000000"/>
              </a:solidFill>
              <a:latin typeface="Calibri"/>
            </a:endParaRPr>
          </a:p>
        </p:txBody>
      </p:sp>
      <p:pic>
        <p:nvPicPr>
          <p:cNvPr id="93" name="Picture 5" descr=""/>
          <p:cNvPicPr/>
          <p:nvPr/>
        </p:nvPicPr>
        <p:blipFill>
          <a:blip r:embed="rId1"/>
          <a:stretch/>
        </p:blipFill>
        <p:spPr>
          <a:xfrm>
            <a:off x="728640" y="360360"/>
            <a:ext cx="2692440" cy="1193760"/>
          </a:xfrm>
          <a:prstGeom prst="rect">
            <a:avLst/>
          </a:prstGeom>
          <a:ln w="0">
            <a:noFill/>
          </a:ln>
        </p:spPr>
      </p:pic>
      <p:sp>
        <p:nvSpPr>
          <p:cNvPr id="94" name="Text Box 6"/>
          <p:cNvSpPr/>
          <p:nvPr/>
        </p:nvSpPr>
        <p:spPr>
          <a:xfrm>
            <a:off x="720720" y="1979640"/>
            <a:ext cx="7740720" cy="144000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4586"/>
                </a:solidFill>
                <a:latin typeface="Calibri"/>
              </a:rPr>
              <a:t> </a:t>
            </a:r>
            <a:r>
              <a:rPr b="1" lang="en-US" sz="3600" spc="-1" strike="noStrike">
                <a:solidFill>
                  <a:srgbClr val="004586"/>
                </a:solidFill>
                <a:latin typeface="Calibri"/>
              </a:rPr>
              <a:t>MONITOREO DE LA EQUIDAD EN SALUD EN COSTA RICA </a:t>
            </a:r>
            <a:endParaRPr b="0" lang="en-US" sz="3600" spc="-1" strike="noStrike">
              <a:solidFill>
                <a:srgbClr val="ffffff"/>
              </a:solidFill>
              <a:latin typeface="Arial"/>
            </a:endParaRPr>
          </a:p>
        </p:txBody>
      </p:sp>
      <p:pic>
        <p:nvPicPr>
          <p:cNvPr id="95" name="Imagen 1" descr=""/>
          <p:cNvPicPr/>
          <p:nvPr/>
        </p:nvPicPr>
        <p:blipFill>
          <a:blip r:embed="rId2"/>
          <a:stretch/>
        </p:blipFill>
        <p:spPr>
          <a:xfrm>
            <a:off x="6905520" y="243000"/>
            <a:ext cx="1428840" cy="142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EA3F0F-080C-46BA-88A1-86F439D2AC77}"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3"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24"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1"/>
              </a:rPr>
              <a:t>Informe de Resultados de la Segunda Encuesta Nacional de Juventudes (2013)</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Segunda Encuesta Nacional de Juventudes está estructurada en temáticas que corresponden a derechos humanos de las personas jóvenes, siguiendo lo establecido en la Ley General de la Persona Joven (Ley 8261) y en la Convención Iberoamericana de los Derechos de las Personas Jóvene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FD9EE1-F87E-4DB9-8A4E-8B03E18A1781}"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6"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PERSPECTIVAS FUTURAS</a:t>
            </a:r>
            <a:endParaRPr b="0" lang="en-US" sz="4400" spc="-1" strike="noStrike">
              <a:solidFill>
                <a:srgbClr val="000000"/>
              </a:solidFill>
              <a:latin typeface="Arial"/>
            </a:endParaRPr>
          </a:p>
        </p:txBody>
      </p:sp>
      <p:sp>
        <p:nvSpPr>
          <p:cNvPr id="127"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000000"/>
                </a:solidFill>
                <a:latin typeface="Calibri"/>
              </a:rPr>
              <a:t>Crear un sistema de monitorio de la equidad en salud, enfatizando en</a:t>
            </a:r>
            <a:r>
              <a:rPr b="0" lang="es-CR" sz="2400" spc="-1" strike="noStrike">
                <a:solidFill>
                  <a:srgbClr val="000000"/>
                </a:solidFill>
                <a:latin typeface="Calibri"/>
                <a:ea typeface="Arial"/>
              </a:rPr>
              <a:t> la necesidad de que la información a registrar sea en función del objeto a evaluar, en este caso la capacidad de las personas de ser saludables y de poder ser saludables (la capacidad en salud).</a:t>
            </a:r>
            <a:endParaRPr b="0" lang="en-US" sz="2400" spc="-1" strike="noStrike">
              <a:solidFill>
                <a:srgbClr val="ffffff"/>
              </a:solidFill>
              <a:latin typeface="Arial"/>
            </a:endParaRPr>
          </a:p>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ste énfasis en las personas no debe ser incompatible con el registro y la evaluación de aspectos relativos al gasto y financiamiento, la eficiencia y calidad de las intervenciones o el monitoreo sobre las actividades relativas a la salud.</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requiere que los datos recolectados permitan realizar observaciones a las posibilidades reales de las personas de ser saludables.</a:t>
            </a: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3F3E8F-9EF1-42C6-BCB8-E8FCFBFDD1A7}"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9" name="PlaceHolder 1"/>
          <p:cNvSpPr>
            <a:spLocks noGrp="1"/>
          </p:cNvSpPr>
          <p:nvPr>
            <p:ph type="title"/>
          </p:nvPr>
        </p:nvSpPr>
        <p:spPr>
          <a:xfrm>
            <a:off x="457200" y="274680"/>
            <a:ext cx="8229600" cy="944640"/>
          </a:xfrm>
          <a:prstGeom prst="rect">
            <a:avLst/>
          </a:prstGeom>
          <a:solidFill>
            <a:srgbClr val="ffffff"/>
          </a:solid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4586"/>
                </a:solidFill>
                <a:latin typeface="Calibri"/>
              </a:rPr>
              <a:t> </a:t>
            </a:r>
            <a:r>
              <a:rPr b="1" lang="en-US" sz="2800" spc="-1" strike="noStrike">
                <a:solidFill>
                  <a:srgbClr val="004586"/>
                </a:solidFill>
                <a:latin typeface="Calibri"/>
              </a:rPr>
              <a:t>COMENTARIOS AL DOCUMENTO DE EUROSOCIAL</a:t>
            </a:r>
            <a:endParaRPr b="0" lang="en-US" sz="2800" spc="-1" strike="noStrike">
              <a:solidFill>
                <a:srgbClr val="000000"/>
              </a:solidFill>
              <a:latin typeface="Arial"/>
            </a:endParaRPr>
          </a:p>
        </p:txBody>
      </p:sp>
      <p:sp>
        <p:nvSpPr>
          <p:cNvPr id="130" name="Text Box 3"/>
          <p:cNvSpPr/>
          <p:nvPr/>
        </p:nvSpPr>
        <p:spPr>
          <a:xfrm>
            <a:off x="457200" y="907920"/>
            <a:ext cx="8229600" cy="549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000000"/>
                </a:solidFill>
                <a:latin typeface="Calibri"/>
              </a:rPr>
              <a:t>En cuanto a la posibilidad de aplicar la “Metodología para la construcción de sistemas de monitoreo de las desigualdades sociales en salud” en Costa Rica, es factible y necesario.</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En el país se desarrollan estadísticas nacionales y encuestas permanentes.</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os sistemas institucionales de información sanitaria y socioeconómica pueden se ajustados para medir equidad en salud.</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Existe un identificador único por individuo (Número de Cédula de Identidad) que se utiliza para relacionarlo con diferentes fuentes de información nominal.</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A59D5D-9F16-4F79-9997-2AC4747E648D}"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32"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3800" spc="-1" strike="noStrike">
                <a:solidFill>
                  <a:srgbClr val="004586"/>
                </a:solidFill>
                <a:latin typeface="Calibri"/>
              </a:rPr>
              <a:t>Referencias bibliográficas</a:t>
            </a:r>
            <a:endParaRPr b="0" lang="en-US" sz="3800" spc="-1" strike="noStrike">
              <a:solidFill>
                <a:srgbClr val="000000"/>
              </a:solidFill>
              <a:latin typeface="Arial"/>
            </a:endParaRPr>
          </a:p>
        </p:txBody>
      </p:sp>
      <p:sp>
        <p:nvSpPr>
          <p:cNvPr id="133"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457200" indent="-457200">
              <a:lnSpc>
                <a:spcPct val="7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Política Nacional de Salud (2011-2021)</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Plan Nacional de Salud (2010-2021)</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Salud en Costa Rica: Incorporar el enfoque de capacidades para evaluar la equidad</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457200" indent="-45720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457200" indent="-45720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41BD17-C7DC-4E0C-AF36-399A1F2D3797}"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97"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98" name="Text Box 3"/>
          <p:cNvSpPr/>
          <p:nvPr/>
        </p:nvSpPr>
        <p:spPr>
          <a:xfrm>
            <a:off x="457200" y="1268280"/>
            <a:ext cx="5554800" cy="54007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Política Nacional de Salud  es el marco de referencia que rige las acciones en salud que ejecutan o deben ejecutar los principales  actores que intervienen en la producción social de la salud en el país.</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Política y el Plan Nacional de Salud 2010 - 2021, como principales instrumentos para la articulación de la rectoría del Sector Salud, buscan dar respuesta a las necesidades de la población en general y a los  grupos más  vulnerables y excluidos en particular en materia de salud.</a:t>
            </a:r>
            <a:endParaRPr b="0" lang="en-US" sz="24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pic>
        <p:nvPicPr>
          <p:cNvPr id="99" name="Picture 5" descr=""/>
          <p:cNvPicPr/>
          <p:nvPr/>
        </p:nvPicPr>
        <p:blipFill>
          <a:blip r:embed="rId1"/>
          <a:stretch/>
        </p:blipFill>
        <p:spPr>
          <a:xfrm>
            <a:off x="6620040" y="981000"/>
            <a:ext cx="2523960" cy="3370320"/>
          </a:xfrm>
          <a:prstGeom prst="rect">
            <a:avLst/>
          </a:prstGeom>
          <a:ln w="0">
            <a:noFill/>
          </a:ln>
        </p:spPr>
      </p:pic>
      <p:pic>
        <p:nvPicPr>
          <p:cNvPr id="100" name="Picture 6" descr=""/>
          <p:cNvPicPr/>
          <p:nvPr/>
        </p:nvPicPr>
        <p:blipFill>
          <a:blip r:embed="rId2"/>
          <a:stretch/>
        </p:blipFill>
        <p:spPr>
          <a:xfrm>
            <a:off x="6084720" y="3260880"/>
            <a:ext cx="2559240" cy="3369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B2EEFF-81F6-4CC0-9A19-083FBDE793E1}"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2"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3"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La política se formuló considerando enfoques que sustentan las acciones estratégicas para la reducción de brechas e inequidades en salud.</a:t>
            </a:r>
            <a:endParaRPr b="0" lang="en-US" sz="24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 </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l Plan Nacional de Salud se  fundamenta  en  una  serie de   enfoques y principios orientadores que transversan las acciones estratégicas necesarias para contribuir a la protección y al mejoramiento del estado de salud de la población y a la reducción de brechas e inequidades sociales.</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u propósito es proteger y mejorar, con equidad  el proceso de salud de la población, mediante  la participación articulada de los actores sociales y la gestión de la planificación, a fin de promover una mejor calidad de vida.</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940D92-FD68-46B1-8A5F-CEEE0EC69229}"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5"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6"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BJETIVOS GENERALES EN EL TEMA DE EQUIDAD:</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3. Garantizar el acceso a servicios de salud de atención integral a las personas y la protección y mejoramiento del hábitat humano con equidad, calidad, seguridad, diversidad, universalidad, solidaridad, accesibilidad e inclusión social para la promoción, protección y mejoramiento del proceso de salud de la población.</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5. Promover la reducción de brechas de inequidad social mediante acciones económicas y sociales articuladas de manera que faciliten el mejoramiento de la salud y una mejor calidad de vida.</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900F05-FCDF-452A-B203-CA9C900FD757}"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9"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BJETIVOS GENERALES EN EL TEMA DE EQUIDAD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6. Propiciar el acceso con equidad a la infraestructura física segura y con diseño universal necesaria para incidir sobre las determinantes de la salud y la calidad de vida de la población.</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INTERSECTORIALIDAD: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requiere de la articulación de distintos sectores relativos a la producción social de la salud, regidos en Costa Rica por el Ministerio de Salud, para poder unificar criterios en cuanto registro y análisis de la información.  </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B1242D-E379-477C-B05C-66C649BD512D}"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1"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2"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No existe un sistema de monitoreo de la equidad en salud.</a:t>
            </a:r>
            <a:endParaRPr b="0" lang="en-US" sz="2400" spc="-1" strike="noStrike">
              <a:solidFill>
                <a:srgbClr val="ffffff"/>
              </a:solidFill>
              <a:latin typeface="Arial"/>
            </a:endParaRPr>
          </a:p>
          <a:p>
            <a:pPr marL="343080" indent="-343080">
              <a:lnSpc>
                <a:spcPct val="10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Con respecto a los servicios de atención a la salud en Costa Rica, la Caja Costarricense de Seguro Social continúa siendo el referente más importante, pero sus sistemas de recolección de datos no permiten establecer qué tipo de personas utilizan sus servicios, quiénes son los usuarios ni cómo responden a las intervenciones realizadas.</a:t>
            </a:r>
            <a:endParaRPr b="0" lang="en-US" sz="2400" spc="-1" strike="noStrike">
              <a:solidFill>
                <a:srgbClr val="ffffff"/>
              </a:solidFill>
              <a:latin typeface="Arial"/>
            </a:endParaRPr>
          </a:p>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Tampoco permite relacionar con las variables señaladas como importantes en estudios realizados, nivel de ingreso y nivel educativo, para analizar estado de salud, utilización de servicios de atención, implementación de estilos de vida saludables, etc.</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5CB6D-F9AF-4499-A737-E1112B185E86}"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4"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5"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u="sng">
                <a:solidFill>
                  <a:srgbClr val="ccccff"/>
                </a:solidFill>
                <a:uFillTx/>
                <a:latin typeface="Calibri"/>
                <a:ea typeface="Arial"/>
                <a:hlinkClick r:id="rId1"/>
              </a:rPr>
              <a:t>Sistema Informático de Mortalidad Materno Infantil (SIMMI)</a:t>
            </a:r>
            <a:r>
              <a:rPr b="1" lang="es-ES_tradnl" sz="2400" spc="-1" strike="noStrike">
                <a:solidFill>
                  <a:srgbClr val="22228b"/>
                </a:solidFill>
                <a:latin typeface="Calibri"/>
                <a:ea typeface="Arial"/>
              </a:rPr>
              <a:t> </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Arial"/>
              </a:rPr>
              <a:t>Dicho sistema permitirá modernizar el proceso actual del registro de mortalidad infantil y de mortalidad materna; crear flujos de información entre las diferentes instituciones que participan en esta integración; automatizar el proceso de registro y análisis de la información; acceso a la información estadística a los usuarios autorizados; y además facilitar la información precisa y oportuna para la toma de decisiones, intervenciones así como para la investigación en sus diferentes perfile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9B827D-FBD6-47EC-B90D-DF99747EB965}"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7"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8"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u="sng">
                <a:solidFill>
                  <a:srgbClr val="ccccff"/>
                </a:solidFill>
                <a:uFillTx/>
                <a:latin typeface="Calibri"/>
                <a:ea typeface="Arial"/>
                <a:hlinkClick r:id="rId1"/>
              </a:rPr>
              <a:t>Registro Nacional de Tumores</a:t>
            </a:r>
            <a:r>
              <a:rPr b="1" lang="es-CR" sz="2400" spc="-1" strike="noStrike">
                <a:solidFill>
                  <a:srgbClr val="000000"/>
                </a:solidFill>
                <a:latin typeface="Calibri"/>
                <a:ea typeface="Arial"/>
              </a:rPr>
              <a:t> </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Ha sido el Registro Nacional de Tumores del Ministerio de Salud el encargado de recolectar, analizar y divulgar las estadísticas de cáncer a lo largo de más de 25 años desde que inició labores en el año 1976. Estos datos han sido utilizados para un sinnúmero de fines entre los que destaca la docencia, la investigación, la educación de la población, la planificación y toma de decisiones a todo nivel.</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426B89-0373-4754-8143-742CCA8240DA}"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0"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21"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1"/>
              </a:rPr>
              <a:t>Encuesta Nacional de Salud en Costa Rica (ENSA-2006)</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laborada y aplicada como complemento indispensable para subsanar las limitaciones intrínsecas de la información rutinaria generada en los propios servicios de salud, por el Centro Centroamericano de Población de la Universidad de Costar Rica.</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2"/>
              </a:rPr>
              <a:t>I Informe estado de situación de la persona adulta mayor en Costa Rica (2008)</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examinan los derechos a la salud, la seguridad económica, la participación, el acceso a servicios y, en general, las condiciones de vida de las personas de 65 años y más, con el objetivo de reconocer la contribución de las personas adultas mayores al desarrollo del paí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3-Invitado</dc:creator>
  <dc:description/>
  <dc:language>en-US</dc:language>
  <cp:lastModifiedBy>G3-INVITADOS</cp:lastModifiedBy>
  <dcterms:modified xsi:type="dcterms:W3CDTF">2014-07-24T19:27:38Z</dcterms:modified>
  <cp:revision>63</cp:revision>
  <dc:subject/>
  <dc:title>Lima, 24-25 de julio de 2014</dc:title>
</cp:coreProperties>
</file>