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1000-BE4D-444F-A1CF-93A106B00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AE71-FCBA-4A69-93F6-9FC3529C7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0024-0C94-43EA-8AC1-4A1B7CAE9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A164-4C0E-479E-9CA9-3BA578299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B7DF-D109-4DFE-8F83-058124311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8838-A17C-4F18-92DC-13D794736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2C61-4B21-445B-8E41-CEABD8C6C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4050-DB28-4F6A-ACA7-2A964AAF8E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259F-ADB3-4F9D-86FD-18B8F59ED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5D0C-CA25-4F96-9A4B-1F1F06C6C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73E3-EB6A-48E3-9922-B85A36C81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6661-A952-4265-A2C2-12064953E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4386-0C9E-4072-957A-2D3FAD59B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0321-4876-4C0C-BE02-5EE4E5F31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042C-60DE-433B-B5F3-4783F221D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772E-B14D-4C3F-A435-49E532E72B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ECE9-690A-4467-964A-B7600C07ED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4F8D-BA8C-4FD9-AFE2-8E31D1844A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7210-20A2-43B0-80C1-54EBC08B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63121-6C6F-4A62-B549-2A059B8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FDF17-ACC3-4593-B926-9AC907D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3E5F-C06F-43DB-AAD7-FC35E9B05D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2AEA-634E-45CF-A915-26730B6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202D3-E692-42C0-8B8D-97FE6362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467DE-C66D-4044-9135-BFEE88E9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26E4B-5313-4831-9B6D-A595BEE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3BB3-944D-4F0F-99CC-06E323A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18944-9E2C-4B99-816D-F2353E0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E3C4C-962B-4AE0-B321-BEC8D662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5F0C2-5A8B-451C-8A33-D67E45E0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5344-032B-4FF5-9C78-E1A31CCE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966DD-5860-4C19-8431-0C07D715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2851-552C-449E-AA48-243540AEA3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DE58D-865D-42DE-A545-02487DF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752E6-8B68-4F15-9840-D0A8B4F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6D7BD-BA18-4930-91A4-A879CA54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7F5D1-2D77-48B1-A588-51A25F5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6D1EF-165D-4A2D-BF2D-D83C844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AFC05-8C74-4CFB-BB15-F3A4718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5A5C0-4A95-4B7C-A19D-FD93620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183E3-1277-4720-879D-075395D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A7DFC-EE23-41C5-9555-E2C027DF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2FEC3-C67E-4D28-9081-1D679260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3920" y="70920"/>
            <a:ext cx="7821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EFD9-388B-41C8-8338-0E924A992F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060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366960" y="128592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424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060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366960" y="3970080"/>
            <a:ext cx="26913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A71AE-3C07-4525-84A7-827C80EA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54CC-AD11-44FC-B380-C32757BF6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7520" y="397008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E795-663F-45E2-8A51-CF852E525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7520" y="1285920"/>
            <a:ext cx="4078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4240" y="3970080"/>
            <a:ext cx="83584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59EF-E234-4B84-A365-8DCA1756F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C3D-9C0B-41B6-A47A-E6DC9689A52D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3"/>
          <p:cNvSpPr/>
          <p:nvPr/>
        </p:nvSpPr>
        <p:spPr>
          <a:xfrm>
            <a:off x="1071720" y="1214280"/>
            <a:ext cx="8072280" cy="78588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4"/>
          <p:cNvSpPr/>
          <p:nvPr/>
        </p:nvSpPr>
        <p:spPr>
          <a:xfrm>
            <a:off x="0" y="1714680"/>
            <a:ext cx="1143000" cy="51433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13" descr="Encat HQ 2.jpg"/>
          <p:cNvPicPr/>
          <p:nvPr/>
        </p:nvPicPr>
        <p:blipFill>
          <a:blip r:embed="rId3"/>
          <a:stretch/>
        </p:blipFill>
        <p:spPr>
          <a:xfrm>
            <a:off x="0" y="0"/>
            <a:ext cx="564372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7572240" y="0"/>
            <a:ext cx="1571760" cy="1285920"/>
          </a:xfrm>
          <a:prstGeom prst="rect">
            <a:avLst/>
          </a:prstGeom>
          <a:solidFill>
            <a:srgbClr val="e8e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18728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pres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m 21" descr=""/>
          <p:cNvPicPr/>
          <p:nvPr/>
        </p:nvPicPr>
        <p:blipFill>
          <a:blip r:embed="rId4"/>
          <a:stretch/>
        </p:blipFill>
        <p:spPr>
          <a:xfrm>
            <a:off x="34920" y="6086520"/>
            <a:ext cx="91296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061-2C4B-44BE-9AE8-FAE91D1A8387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4"/>
          </p:nvPr>
        </p:nvSpPr>
        <p:spPr>
          <a:xfrm>
            <a:off x="3123720" y="6244920"/>
            <a:ext cx="580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5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B53-246A-4ABF-BD0A-954E0A3A1679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e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ângulo 10"/>
          <p:cNvSpPr/>
          <p:nvPr/>
        </p:nvSpPr>
        <p:spPr>
          <a:xfrm>
            <a:off x="642960" y="1214280"/>
            <a:ext cx="850104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8"/>
          <p:cNvSpPr/>
          <p:nvPr/>
        </p:nvSpPr>
        <p:spPr>
          <a:xfrm>
            <a:off x="0" y="1214280"/>
            <a:ext cx="642960" cy="5643720"/>
          </a:xfrm>
          <a:prstGeom prst="rect">
            <a:avLst/>
          </a:prstGeom>
          <a:solidFill>
            <a:srgbClr val="f47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Imagem 9" descr="Encat HQ mapa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233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539640" y="5732640"/>
            <a:ext cx="8209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187280" y="580536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64d80"/>
                </a:solidFill>
                <a:latin typeface="Arial"/>
              </a:rPr>
              <a:t>Presentación  SAT Guatemala julio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m 11" descr=""/>
          <p:cNvPicPr/>
          <p:nvPr/>
        </p:nvPicPr>
        <p:blipFill>
          <a:blip r:embed="rId3"/>
          <a:stretch/>
        </p:blipFill>
        <p:spPr>
          <a:xfrm>
            <a:off x="-36360" y="6086520"/>
            <a:ext cx="912600" cy="79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7151760" y="6248520"/>
            <a:ext cx="1942920" cy="609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821720" cy="1071720"/>
          </a:xfrm>
          <a:prstGeom prst="rect">
            <a:avLst/>
          </a:prstGeom>
          <a:solidFill>
            <a:srgbClr val="ffd7a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1b5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1b5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14240" y="1285920"/>
            <a:ext cx="83584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64d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64d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64d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d8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8"/>
          </p:nvPr>
        </p:nvSpPr>
        <p:spPr>
          <a:xfrm>
            <a:off x="-360" y="6500880"/>
            <a:ext cx="490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58E-F1F1-4EBF-B600-33181FD0B599}" type="slidenum">
              <a:rPr b="0" lang="pt-B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7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1187280" y="1989000"/>
            <a:ext cx="77774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1800" spc="-1" strike="noStrike">
                <a:solidFill>
                  <a:srgbClr val="10253f"/>
                </a:solidFill>
                <a:latin typeface="Arial Black"/>
                <a:ea typeface="MS Gothic"/>
              </a:rPr>
              <a:t>ASESORIA ESPECIALIZADA: A LA SUPERINTENDENCIA DE ADMINISTRACIÓN TRIBUTARIA DE GUATEMALA PARA LA IMPLEMENTACIÓN DE LA FACTURA ELECTRÓNICA EN EL PAÍ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0 es Obligatoria la FE para cualquier industria, mayorista, operación de comercio exterior, venta al gobierno y operaciones entre Estados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9,5 mil millones de FE autorizada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1 millón de empresas emisoras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esde diciembre de 2013 es Obligatorio el CT-e para todos los transportistas de carga entre Estados y entre Municipalidade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680 millones de CT-e autoriza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60160" indent="-398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70 mil transportistas emisores de CT-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mpezo con normativa en 2007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Archivo Electrónico no tiene Firma Digital del Emisor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los archivos electrónicos de las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tiene clave de identific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representación impresa no tiene código de barra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En 2011 se estableció la obligación de FE para los 3118 contribuyentes más grande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80% de los contribuyentes obligados optaron por utilizar la factura copia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20% de omisión de obligados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hay sanciones relativas a F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No tiene reglas de validación de los archivos electrónicos por los GFACE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349"/>
              </a:spcBef>
              <a:spcAft>
                <a:spcPts val="134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700" spc="-1" strike="noStrike">
                <a:solidFill>
                  <a:srgbClr val="333399"/>
                </a:solidFill>
                <a:latin typeface="Tahoma"/>
              </a:rPr>
              <a:t>Propuesta de ampliación de más 19 mil obligados </a:t>
            </a:r>
            <a:endParaRPr b="0" lang="en-US" sz="27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19280" y="1916280"/>
            <a:ext cx="823752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14360" y="928800"/>
            <a:ext cx="651528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royecto de FE no es conocido por la mayoria de SAT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No hay una equipo de Proyecto con personas de todas áreas interesadas (Recaudación, Fiscalización, Planificación, Gestión, Tecnologia de Información)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iderazco del Proyecto debe garantizar la motivación y integración del Equipo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AT no recibe información de la FE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Modelo de FE no tiene Firma Digita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actura copia dificulta la masificación de la FE y  no garantiza la calidad de la inform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FE no tiene reglas de valid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hay legislación que establezca sanciones relacionadas con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No existen herramientas para acceder a la información de FE en SAT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extensión de la obligatoriedad FE sin resolver las debilidades existentes en el modelo, puede complicar aún más la masifica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-42984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Haber disponibilidad de infraestructura, bases de datos y servidores en SAT para recibir FE y hacer uso de los dat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0372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trocinio y Prioridad del proyecto por la alta dirección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tablecimiento de un equipo de proyecto con participantes de todas las áreas afectada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Participantes del equipo de proyecto de FE con dedicación a tiempo completo y que trabajan ubicados en un mismo luga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Escoger los mejores representantes para el equipo d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34960" indent="-3808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Jefe de Proyecto con el siguiente perfil: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pasionado por el proyect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Gran capacidad de liderazc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Fuerte conocimiento de SAT y de las áreas de negocios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Capacidad de comunicación y integración del equipo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  <a:p>
            <a:pPr lvl="2" marL="879120" indent="-380520" algn="just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333399"/>
                </a:solidFill>
                <a:latin typeface="Tahoma"/>
              </a:rPr>
              <a:t>Algun conocimiento de informática</a:t>
            </a:r>
            <a:endParaRPr b="0" lang="en-US" sz="16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Diagnóstico, posible revisión y ajustes del modelo antes de la expansión de la obligatoriedad de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cronograma de actividades con metas y hacer el seguimiento periódico de los avances del proyecto por la alta direc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volucrar a las empresas y GFACEs en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sanciones relacionadas con FE en la legislación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Incorporar, en el modelo de FE, la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38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stablecer estrategia para quitar, en corto o mediano plazo, lo modelo de factura cop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ontar con el apoyo de consultores externos especializados en FE para desarrollar el proyect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En paralelo con el proyecto FE, también desarrollar herramientas para acceder y utilizar la información 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Tener una estrategia de difusión positiva de la imagen del proyecto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609840" indent="-434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400" spc="-1" strike="noStrike">
                <a:solidFill>
                  <a:srgbClr val="333399"/>
                </a:solidFill>
                <a:latin typeface="Tahoma"/>
              </a:rPr>
              <a:t>Capacitación del personal de SAT en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Sugerencias Generales para Mejoría del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La Importancia de la Factura Electrónic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Brasil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ituación Actual de la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Puntos de Atención en el Proyecto de FE en Guatemala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  <a:p>
            <a:pPr lvl="1" marL="522720" indent="-372240" algn="just">
              <a:lnSpc>
                <a:spcPct val="80000"/>
              </a:lnSpc>
              <a:spcBef>
                <a:spcPts val="1400"/>
              </a:spcBef>
              <a:spcAft>
                <a:spcPts val="1400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333399"/>
                </a:solidFill>
                <a:latin typeface="Tahoma"/>
              </a:rPr>
              <a:t>Sugerencias Generales</a:t>
            </a:r>
            <a:endParaRPr b="0" lang="en-US" sz="28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Equipo de 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835200" y="1204920"/>
            <a:ext cx="7941960" cy="50324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upo 1"/>
          <p:cNvGrpSpPr/>
          <p:nvPr/>
        </p:nvGrpSpPr>
        <p:grpSpPr>
          <a:xfrm>
            <a:off x="835200" y="3532320"/>
            <a:ext cx="6329160" cy="2282760"/>
            <a:chOff x="835200" y="3532320"/>
            <a:chExt cx="6329160" cy="22827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464436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3" descr=""/>
            <p:cNvPicPr/>
            <p:nvPr/>
          </p:nvPicPr>
          <p:blipFill>
            <a:blip r:embed="rId3"/>
            <a:stretch/>
          </p:blipFill>
          <p:spPr>
            <a:xfrm>
              <a:off x="3493440" y="35323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" descr=""/>
            <p:cNvPicPr/>
            <p:nvPr/>
          </p:nvPicPr>
          <p:blipFill>
            <a:blip r:embed="rId4"/>
            <a:stretch/>
          </p:blipFill>
          <p:spPr>
            <a:xfrm>
              <a:off x="5928480" y="35848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3" descr=""/>
            <p:cNvPicPr/>
            <p:nvPr/>
          </p:nvPicPr>
          <p:blipFill>
            <a:blip r:embed="rId5"/>
            <a:stretch/>
          </p:blipFill>
          <p:spPr>
            <a:xfrm>
              <a:off x="6936480" y="357228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6"/>
            <a:stretch/>
          </p:blipFill>
          <p:spPr>
            <a:xfrm>
              <a:off x="212400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3" descr=""/>
            <p:cNvPicPr/>
            <p:nvPr/>
          </p:nvPicPr>
          <p:blipFill>
            <a:blip r:embed="rId7"/>
            <a:stretch/>
          </p:blipFill>
          <p:spPr>
            <a:xfrm>
              <a:off x="835200" y="423324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3" descr=""/>
            <p:cNvPicPr/>
            <p:nvPr/>
          </p:nvPicPr>
          <p:blipFill>
            <a:blip r:embed="rId8"/>
            <a:stretch/>
          </p:blipFill>
          <p:spPr>
            <a:xfrm>
              <a:off x="835200" y="480492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3" descr=""/>
            <p:cNvPicPr/>
            <p:nvPr/>
          </p:nvPicPr>
          <p:blipFill>
            <a:blip r:embed="rId9"/>
            <a:stretch/>
          </p:blipFill>
          <p:spPr>
            <a:xfrm>
              <a:off x="5928480" y="5301000"/>
              <a:ext cx="227880" cy="4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3" descr=""/>
            <p:cNvPicPr/>
            <p:nvPr/>
          </p:nvPicPr>
          <p:blipFill>
            <a:blip r:embed="rId10"/>
            <a:stretch/>
          </p:blipFill>
          <p:spPr>
            <a:xfrm>
              <a:off x="3251520" y="5319360"/>
              <a:ext cx="227880" cy="49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6" descr=""/>
          <p:cNvPicPr/>
          <p:nvPr/>
        </p:nvPicPr>
        <p:blipFill>
          <a:blip r:embed="rId11"/>
          <a:stretch/>
        </p:blipFill>
        <p:spPr>
          <a:xfrm>
            <a:off x="8244000" y="2637000"/>
            <a:ext cx="357120" cy="5079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upo 5"/>
          <p:cNvGrpSpPr/>
          <p:nvPr/>
        </p:nvGrpSpPr>
        <p:grpSpPr>
          <a:xfrm>
            <a:off x="826920" y="2276640"/>
            <a:ext cx="2111400" cy="1363320"/>
            <a:chOff x="826920" y="2276640"/>
            <a:chExt cx="2111400" cy="1363320"/>
          </a:xfrm>
        </p:grpSpPr>
        <p:grpSp>
          <p:nvGrpSpPr>
            <p:cNvPr id="313" name="Grupo 3"/>
            <p:cNvGrpSpPr/>
            <p:nvPr/>
          </p:nvGrpSpPr>
          <p:grpSpPr>
            <a:xfrm>
              <a:off x="899280" y="2276640"/>
              <a:ext cx="1895760" cy="720000"/>
              <a:chOff x="899280" y="2276640"/>
              <a:chExt cx="1895760" cy="720000"/>
            </a:xfrm>
          </p:grpSpPr>
          <p:pic>
            <p:nvPicPr>
              <p:cNvPr id="314" name="Picture 4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28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45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3360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82196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74320" y="2348280"/>
                <a:ext cx="252360" cy="54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326680" y="2348280"/>
                <a:ext cx="356760" cy="5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Retângulo 2"/>
              <p:cNvSpPr/>
              <p:nvPr/>
            </p:nvSpPr>
            <p:spPr>
              <a:xfrm>
                <a:off x="899280" y="2276640"/>
                <a:ext cx="1895760" cy="720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CaixaDeTexto 4"/>
            <p:cNvSpPr/>
            <p:nvPr/>
          </p:nvSpPr>
          <p:spPr>
            <a:xfrm>
              <a:off x="826920" y="2997360"/>
              <a:ext cx="21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Equipo Proyecto 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2" name="Conector de seta reta 15"/>
          <p:cNvCxnSpPr>
            <a:stCxn id="320" idx="3"/>
          </p:cNvCxnSpPr>
          <p:nvPr/>
        </p:nvCxnSpPr>
        <p:spPr>
          <a:xfrm>
            <a:off x="2795400" y="2636640"/>
            <a:ext cx="2353320" cy="1080"/>
          </a:xfrm>
          <a:prstGeom prst="straightConnector1">
            <a:avLst/>
          </a:prstGeom>
          <a:ln w="50760">
            <a:solidFill>
              <a:srgbClr val="1f497d"/>
            </a:solidFill>
            <a:miter/>
            <a:tailEnd len="med" type="arrow" w="med"/>
          </a:ln>
        </p:spPr>
      </p:cxn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puesta de Macro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oyecto de FE en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116000" y="1192320"/>
          <a:ext cx="6892920" cy="5261040"/>
        </p:xfrm>
        <a:graphic>
          <a:graphicData uri="http://schemas.openxmlformats.org/drawingml/2006/table">
            <a:tbl>
              <a:tblPr/>
              <a:tblGrid>
                <a:gridCol w="4648320"/>
                <a:gridCol w="22446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Definición Equip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d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Revisión del 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Aprobación de Legis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– 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Desarrollo de Sist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Modernización de la Infra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- 18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Obligatoriedad de 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- 12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Capacitación de Empleados 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Difusión FE Publico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Otras 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LAZ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108000" y="4940280"/>
            <a:ext cx="59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 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Líder Nacional Proyecto NFC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Newton.olle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1141560" cy="1167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403280" y="6019920"/>
            <a:ext cx="554508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 Black"/>
                <a:ea typeface="MS Gothic"/>
              </a:rPr>
              <a:t> </a:t>
            </a:r>
            <a:r>
              <a:rPr b="0" lang="pt-BR" sz="2400" spc="-1" strike="noStrike">
                <a:solidFill>
                  <a:srgbClr val="1d1d59"/>
                </a:solidFill>
                <a:latin typeface="Arial Black"/>
                <a:ea typeface="MS Gothic"/>
              </a:rPr>
              <a:t>Guatemala – Julio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219640" y="4951440"/>
            <a:ext cx="3745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 Alme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Coordinador General del EN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f497d"/>
                </a:solidFill>
                <a:latin typeface="Calibri"/>
              </a:rPr>
              <a:t>Eudaldoaj@yahoo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E:\home\almerindo\Downloads\IMG-20140430-WA0003.jpg"/>
          <p:cNvPicPr/>
          <p:nvPr/>
        </p:nvPicPr>
        <p:blipFill>
          <a:blip r:embed="rId2"/>
          <a:stretch/>
        </p:blipFill>
        <p:spPr>
          <a:xfrm>
            <a:off x="6156360" y="3314880"/>
            <a:ext cx="1584360" cy="15858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187280" y="2133720"/>
            <a:ext cx="7777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DUD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 </a:t>
            </a:r>
            <a:r>
              <a:rPr b="0" lang="es-PE" sz="3200" spc="-1" strike="noStrike">
                <a:solidFill>
                  <a:srgbClr val="10253f"/>
                </a:solidFill>
                <a:latin typeface="Arial Black"/>
                <a:ea typeface="MS Gothic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La administración Tributaria - Antes y Después de la F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los Sistemas Tributari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Base Central de Informaciones para Decisiones de Gobiern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Aumento de la Productividad y Eficiencia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Reducción de los Costos para Cumplimiento Tributario del Contribuyente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Mayor Capacidad de Control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-443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Cambio de la Forma de Trabajo y Perfil del Auditor Fiscal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622440" indent="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Importancia de la Factura Electrónica para la Administración Tribu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ta para a direita 1"/>
          <p:cNvSpPr/>
          <p:nvPr/>
        </p:nvSpPr>
        <p:spPr>
          <a:xfrm>
            <a:off x="1258920" y="5484960"/>
            <a:ext cx="1728720" cy="792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aixaDeTexto 2"/>
          <p:cNvSpPr/>
          <p:nvPr/>
        </p:nvSpPr>
        <p:spPr>
          <a:xfrm>
            <a:off x="3016440" y="544500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royecto Estratégico y Estructur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la Administración Tribut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ig Evolução FE na AL"/>
          <p:cNvPicPr/>
          <p:nvPr/>
        </p:nvPicPr>
        <p:blipFill>
          <a:blip r:embed="rId1"/>
          <a:stretch/>
        </p:blipFill>
        <p:spPr>
          <a:xfrm>
            <a:off x="1338120" y="1268280"/>
            <a:ext cx="5610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volución FE en Ame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Fig Fase Projetos FE AL"/>
          <p:cNvPicPr/>
          <p:nvPr/>
        </p:nvPicPr>
        <p:blipFill>
          <a:blip r:embed="rId1"/>
          <a:stretch/>
        </p:blipFill>
        <p:spPr>
          <a:xfrm>
            <a:off x="1679400" y="1268280"/>
            <a:ext cx="4389480" cy="52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879480" y="1341360"/>
            <a:ext cx="7508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258920" y="115920"/>
            <a:ext cx="7667640" cy="5205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Resumen del Modelo de FE de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Fig2"/>
          <p:cNvPicPr/>
          <p:nvPr/>
        </p:nvPicPr>
        <p:blipFill>
          <a:blip r:embed="rId1"/>
          <a:stretch/>
        </p:blipFill>
        <p:spPr>
          <a:xfrm>
            <a:off x="1068480" y="1211400"/>
            <a:ext cx="7454880" cy="49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utorización previa a la circulación de la mercanci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rchivo Electrónico com Firma Digital del Emisor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Garantiza quien es el emisor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81360" indent="-42480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Validez del Archivo Electrónic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presentación Impresa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lave de Aceso para identificación univoca de la FE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-42516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ódigos de barras unidimensional para facilitar la consulta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97240" indent="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388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ás de 400 reglas de validación on line del archivo electrónico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iempo de Autorización Promédio de Millisegundos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1" marL="585000" indent="-41652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rategia de implementación:</a:t>
            </a:r>
            <a:endParaRPr b="0" lang="en-US" sz="24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ticipación de las empresas em el proyecto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fases: proyecto piloto, voluntariedad y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Obligatoriedad por sectores economicos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lazo minimo de </a:t>
            </a:r>
            <a:r>
              <a:rPr b="1" lang="es-PE" sz="2000" spc="-1" strike="noStrike">
                <a:solidFill>
                  <a:srgbClr val="333399"/>
                </a:solidFill>
                <a:latin typeface="Tahoma"/>
              </a:rPr>
              <a:t>8 meses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ara la obligatoriedad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  <a:p>
            <a:pPr lvl="2" marL="960840" indent="-41616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9900"/>
              </a:buClr>
              <a:buSzPct val="12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Masificación tardó 5 años </a:t>
            </a:r>
            <a:endParaRPr b="0" lang="en-US" sz="2000" spc="-1" strike="noStrike">
              <a:solidFill>
                <a:srgbClr val="464d80"/>
              </a:solidFill>
              <a:latin typeface="Calibri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901800" y="692280"/>
            <a:ext cx="518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258920" y="115920"/>
            <a:ext cx="7667640" cy="947160"/>
          </a:xfrm>
          <a:prstGeom prst="rect">
            <a:avLst/>
          </a:prstGeom>
          <a:solidFill>
            <a:srgbClr val="333399">
              <a:alpha val="50000"/>
            </a:srgbClr>
          </a:solidFill>
          <a:ln w="648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rincipales Característic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FE en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7:41:00Z</dcterms:created>
  <dc:creator>RaulZambrano</dc:creator>
  <dc:description/>
  <dc:language>en-US</dc:language>
  <cp:lastModifiedBy>Newton Oller de Mello</cp:lastModifiedBy>
  <dcterms:modified xsi:type="dcterms:W3CDTF">2014-07-04T14:10:11Z</dcterms:modified>
  <cp:revision>257</cp:revision>
  <dc:subject/>
  <dc:title>Facturación Electrónica</dc:title>
</cp:coreProperties>
</file>