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53A3-0F7D-40A3-9589-2933037AE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4857-F38E-4DDE-8F01-90D325124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E6C6-2EC1-4D1D-8E24-B9B754073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EE73-19FF-48C1-9CAB-E733AAAD0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E53D-0118-420B-AD22-CCF6CA53E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9803-E11F-4E2E-AF18-655BA2FFBB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BD92-BBE8-4D0A-BFAE-86696C6C71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4036-0364-42A8-AF9E-66E7CC0FE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81C4-9F57-4417-96E7-423D2B776A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0FA0-C93B-4FE8-BA27-6D38D00D2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9FE9-8200-4324-81C1-99EA91982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6D67-DF8D-4BF0-B07F-BDFFF6899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3198-BCDF-4D63-9DC6-4F69AEBAC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2B63-B641-468D-B67D-6B23059EE8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24DC-2ED6-431B-83D2-0C11C85D6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FD32-0F6A-46E6-B7BC-000CFC3CA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ADB2-C644-4BE6-9329-55E7560B65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180F-2594-4526-954C-588E068769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AAAF1-44C3-4598-87DE-BFBA9F31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FFA30-B226-47C2-9F9E-A077B5EC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A7B5-40F5-47BC-942D-242351A0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86D9-4941-479C-9BEE-D30AEF00EC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6BFD-BC83-4941-801D-811FB7C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43155-D70B-4E2D-89D0-71358F7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39AB-A731-46CF-A9CD-9842582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2F772-5EB4-44F1-B2D4-00DC50D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580C-CD48-43BD-BD11-E26C2E3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59CDE-773B-49CF-9E27-7BA1371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A8506-D00B-4E5E-99E6-19D8F1A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CC2FD-6991-47EE-B855-5A2D1EFB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9C2D2-2011-4B79-A37B-2AD6BA22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79DDA-E2D2-4356-946A-020C7EE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E619-883D-45A0-B434-BB3E639EC6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5F6DB-8F0B-48B9-BCFF-B78125A7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21641-12EF-4BD4-A503-88C9713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1E75-B5E2-49C7-B9A6-B665DBF9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2A5BC-5D63-4043-96AB-C4DAF4D8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B7B0B-D6E0-4B88-9B5C-48B175F1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E97BC-A28C-4419-84A5-01E7082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2FDF2-4B7A-46BC-82DE-2A284FD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84695-E8C4-4E8D-8CF4-1D79DD3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CAB0B-F294-45A7-833A-16E45B5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FA21-221E-4728-B193-B612F21A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C6E8-C29C-4D1F-B83F-77D5199277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2977-E56C-4881-AF94-8A6B96B2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12DF-7DB0-41D8-AB4B-A4DA1B225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77A8-8285-4CA8-B6B2-8A51F079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2D09-3247-4A86-84BE-65A0A4D1D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B36-6CE5-480C-BF97-9F0FD67B8DE2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3"/>
          <p:cNvSpPr/>
          <p:nvPr/>
        </p:nvSpPr>
        <p:spPr>
          <a:xfrm>
            <a:off x="1071720" y="1214280"/>
            <a:ext cx="8072280" cy="78588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4"/>
          <p:cNvSpPr/>
          <p:nvPr/>
        </p:nvSpPr>
        <p:spPr>
          <a:xfrm>
            <a:off x="0" y="1714680"/>
            <a:ext cx="1143000" cy="51433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13" descr="Encat HQ 2.jpg"/>
          <p:cNvPicPr/>
          <p:nvPr/>
        </p:nvPicPr>
        <p:blipFill>
          <a:blip r:embed="rId3"/>
          <a:stretch/>
        </p:blipFill>
        <p:spPr>
          <a:xfrm>
            <a:off x="0" y="0"/>
            <a:ext cx="564372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7572240" y="0"/>
            <a:ext cx="1571760" cy="128592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18728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pres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21" descr=""/>
          <p:cNvPicPr/>
          <p:nvPr/>
        </p:nvPicPr>
        <p:blipFill>
          <a:blip r:embed="rId4"/>
          <a:stretch/>
        </p:blipFill>
        <p:spPr>
          <a:xfrm>
            <a:off x="34920" y="6086520"/>
            <a:ext cx="91296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98A-94F3-4CA1-8D4C-668CAA63657A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4"/>
          </p:nvPr>
        </p:nvSpPr>
        <p:spPr>
          <a:xfrm>
            <a:off x="3123720" y="6244920"/>
            <a:ext cx="580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5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F85-4BA5-4C2F-BD41-603E7E5AE39F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8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E610-DB76-4BDE-87D8-A2275FD7247C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1187280" y="1989000"/>
            <a:ext cx="77774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ASESORIA ESPECIALIZADA: A LA SUPERINTENDENCIA DE ADMINISTRACIÓN TRIBUTARIA DE GUATEMALA PARA LA IMPLEMENTACIÓN DE LA FACTURA ELECTRÓNICA EN EL PAÍ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0 es Obligatoria la FE para cualquier industria, mayorista, operación de comercio exterior, venta al gobierno y operaciones entre Estados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9,5 mil millones de FE autorizada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1 millón de empresas emisoras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3 es Obligatorio el CT-e para todos los transportistas de carga entre Estados y entre Municipalidade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680 millones de CT-e autoriza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70 mil transportistas emisores de CT-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mpezo con normativa en 2007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Archivo Electrónico no tiene Firma Digital del Emisor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los archivos electrónicos de las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tiene clave de identific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representación impresa no tiene código de barra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En 2011 se estableció la obligación de FE para los 3118 contribuyentes más grande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80% de los contribuyentes obligados optaron por utilizar la factura copia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20% de omisión de obligado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hay sanciones relativas a F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tiene reglas de validación de los archivos electrónicos por los GFAC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Propuesta de ampliación de más 19 mil obligados 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19280" y="1916280"/>
            <a:ext cx="823752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14360" y="928800"/>
            <a:ext cx="65152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royecto de FE no es conocido por la mayoria de SAT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hay una equipo de Proyecto con personas de todas áreas interesadas (Recaudación, Fiscalización, Planificación, Gestión, Tecnologia de Información)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iderazco del Proyecto debe garantizar la motivación y integración del Equipo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inform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Modelo de FE no tiene Firma Digita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actura copia dificulta la masificación de la FE y  no garantiza la calidad de la inform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E no tiene reglas de valid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hay legislación que establezca sanciones relacionadas con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existen herramientas para acceder a la información de FE en SAT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extensión de la obligatoriedad FE sin resolver las debilidades existentes en el modelo, puede complicar aún más la masific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Haber disponibilidad de infraestructura, bases de datos y servidores en SAT para recibir FE y hacer uso de los dat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trocinio y Prioridad del proyecto por la alta direc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tablecimiento de un equipo de proyecto con participantes de todas las áreas afectada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rticipantes del equipo de proyecto de FE con dedicación a tiempo completo y que trabajan ubicados en un mismo luga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coger los mejores representantes para el equipo d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Jefe de Proyecto con el siguiente perfil: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pasionado por el proyect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Gran capacidad de liderazc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Fuerte conocimiento de SAT y de las áreas de negocios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Capacidad de comunicación y integración del equip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lgun conocimiento de informática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iagnóstico, posible revisión y ajustes del modelo antes de la expansión de la obligatoriedad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cronograma de actividades con metas y hacer el seguimiento periódico de los avances del proyecto por la alta direc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volucrar a las empresas y GFACEs en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sanciones relacionadas con FE en la legisla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corporar, en el modelo de FE, la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estrategia para quitar, en corto o mediano plazo, lo modelo de factura cop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ontar con el apoyo de consultores externos especializados en FE para desarrollar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n paralelo con el proyecto FE, también desarrollar herramientas para acceder y utilizar la información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Tener una estrategia de difusión positiva de la imagen del proyecto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apacitación del personal de SAT en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Importancia de la Factura Electrónic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ugerencias Generale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Equipo de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835200" y="1204920"/>
            <a:ext cx="7941960" cy="50324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upo 1"/>
          <p:cNvGrpSpPr/>
          <p:nvPr/>
        </p:nvGrpSpPr>
        <p:grpSpPr>
          <a:xfrm>
            <a:off x="835200" y="3532320"/>
            <a:ext cx="6329160" cy="2282760"/>
            <a:chOff x="835200" y="3532320"/>
            <a:chExt cx="6329160" cy="22827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464436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" descr=""/>
            <p:cNvPicPr/>
            <p:nvPr/>
          </p:nvPicPr>
          <p:blipFill>
            <a:blip r:embed="rId3"/>
            <a:stretch/>
          </p:blipFill>
          <p:spPr>
            <a:xfrm>
              <a:off x="3493440" y="35323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" descr=""/>
            <p:cNvPicPr/>
            <p:nvPr/>
          </p:nvPicPr>
          <p:blipFill>
            <a:blip r:embed="rId4"/>
            <a:stretch/>
          </p:blipFill>
          <p:spPr>
            <a:xfrm>
              <a:off x="592848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" descr=""/>
            <p:cNvPicPr/>
            <p:nvPr/>
          </p:nvPicPr>
          <p:blipFill>
            <a:blip r:embed="rId5"/>
            <a:stretch/>
          </p:blipFill>
          <p:spPr>
            <a:xfrm>
              <a:off x="6936480" y="35722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6"/>
            <a:stretch/>
          </p:blipFill>
          <p:spPr>
            <a:xfrm>
              <a:off x="212400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" descr=""/>
            <p:cNvPicPr/>
            <p:nvPr/>
          </p:nvPicPr>
          <p:blipFill>
            <a:blip r:embed="rId7"/>
            <a:stretch/>
          </p:blipFill>
          <p:spPr>
            <a:xfrm>
              <a:off x="835200" y="423324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" descr=""/>
            <p:cNvPicPr/>
            <p:nvPr/>
          </p:nvPicPr>
          <p:blipFill>
            <a:blip r:embed="rId8"/>
            <a:stretch/>
          </p:blipFill>
          <p:spPr>
            <a:xfrm>
              <a:off x="835200" y="48049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" descr=""/>
            <p:cNvPicPr/>
            <p:nvPr/>
          </p:nvPicPr>
          <p:blipFill>
            <a:blip r:embed="rId9"/>
            <a:stretch/>
          </p:blipFill>
          <p:spPr>
            <a:xfrm>
              <a:off x="592848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" descr=""/>
            <p:cNvPicPr/>
            <p:nvPr/>
          </p:nvPicPr>
          <p:blipFill>
            <a:blip r:embed="rId10"/>
            <a:stretch/>
          </p:blipFill>
          <p:spPr>
            <a:xfrm>
              <a:off x="3251520" y="5319360"/>
              <a:ext cx="227880" cy="4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6" descr=""/>
          <p:cNvPicPr/>
          <p:nvPr/>
        </p:nvPicPr>
        <p:blipFill>
          <a:blip r:embed="rId11"/>
          <a:stretch/>
        </p:blipFill>
        <p:spPr>
          <a:xfrm>
            <a:off x="8244000" y="2637000"/>
            <a:ext cx="357120" cy="5079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upo 5"/>
          <p:cNvGrpSpPr/>
          <p:nvPr/>
        </p:nvGrpSpPr>
        <p:grpSpPr>
          <a:xfrm>
            <a:off x="826920" y="2276640"/>
            <a:ext cx="2111400" cy="1363320"/>
            <a:chOff x="826920" y="2276640"/>
            <a:chExt cx="2111400" cy="1363320"/>
          </a:xfrm>
        </p:grpSpPr>
        <p:grpSp>
          <p:nvGrpSpPr>
            <p:cNvPr id="313" name="Grupo 3"/>
            <p:cNvGrpSpPr/>
            <p:nvPr/>
          </p:nvGrpSpPr>
          <p:grpSpPr>
            <a:xfrm>
              <a:off x="899280" y="2276640"/>
              <a:ext cx="1895760" cy="720000"/>
              <a:chOff x="899280" y="2276640"/>
              <a:chExt cx="1895760" cy="720000"/>
            </a:xfrm>
          </p:grpSpPr>
          <p:pic>
            <p:nvPicPr>
              <p:cNvPr id="314" name="Picture 4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28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45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33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82196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7432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326680" y="2348280"/>
                <a:ext cx="356760" cy="5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Retângulo 2"/>
              <p:cNvSpPr/>
              <p:nvPr/>
            </p:nvSpPr>
            <p:spPr>
              <a:xfrm>
                <a:off x="899280" y="2276640"/>
                <a:ext cx="1895760" cy="720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aixaDeTexto 4"/>
            <p:cNvSpPr/>
            <p:nvPr/>
          </p:nvSpPr>
          <p:spPr>
            <a:xfrm>
              <a:off x="826920" y="2997360"/>
              <a:ext cx="21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Equipo Proyecto 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2" name="Conector de seta reta 15"/>
          <p:cNvCxnSpPr>
            <a:stCxn id="320" idx="3"/>
          </p:cNvCxnSpPr>
          <p:nvPr/>
        </p:nvCxnSpPr>
        <p:spPr>
          <a:xfrm>
            <a:off x="2795400" y="2636640"/>
            <a:ext cx="2353320" cy="1080"/>
          </a:xfrm>
          <a:prstGeom prst="straightConnector1">
            <a:avLst/>
          </a:prstGeom>
          <a:ln w="50760">
            <a:solidFill>
              <a:srgbClr val="1f497d"/>
            </a:solidFill>
            <a:miter/>
            <a:tailEnd len="med" type="arrow" w="med"/>
          </a:ln>
        </p:spPr>
      </p:cxn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Macro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116000" y="1192320"/>
          <a:ext cx="6892920" cy="5261040"/>
        </p:xfrm>
        <a:graphic>
          <a:graphicData uri="http://schemas.openxmlformats.org/drawingml/2006/table">
            <a:tbl>
              <a:tblPr/>
              <a:tblGrid>
                <a:gridCol w="4648320"/>
                <a:gridCol w="22446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Definición Equip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d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Revisión del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Aprobación de Legis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– 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Desarrollo de Sist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Modernización de la Infra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- 1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Obligatoriedad de 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1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Capacitación de Empleados 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Difusión FE Publico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Otras 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LAZ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187280" y="2133720"/>
            <a:ext cx="777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DUD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administración Tributaria - Antes y Después de la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los Sistemas Tributari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Decisiones de Gobiern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Aumento de la Productividad y Eficiencia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Reducción de los Costos para Cumplimiento Tributario del Contribuyent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Mayor Capacidad de Control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Cambio de la Forma de Trabajo y Perfil del Auditor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Importancia de la Factura Electrónica para la Administración Tribu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ta para a direita 1"/>
          <p:cNvSpPr/>
          <p:nvPr/>
        </p:nvSpPr>
        <p:spPr>
          <a:xfrm>
            <a:off x="1258920" y="5484960"/>
            <a:ext cx="1728720" cy="792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aixaDeTexto 2"/>
          <p:cNvSpPr/>
          <p:nvPr/>
        </p:nvSpPr>
        <p:spPr>
          <a:xfrm>
            <a:off x="3016440" y="544500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royecto Estratégico y Estructur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la Administración Tribut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ig Evolução FE na AL"/>
          <p:cNvPicPr/>
          <p:nvPr/>
        </p:nvPicPr>
        <p:blipFill>
          <a:blip r:embed="rId1"/>
          <a:stretch/>
        </p:blipFill>
        <p:spPr>
          <a:xfrm>
            <a:off x="1338120" y="1268280"/>
            <a:ext cx="5610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Fig Fase Projetos FE AL"/>
          <p:cNvPicPr/>
          <p:nvPr/>
        </p:nvPicPr>
        <p:blipFill>
          <a:blip r:embed="rId1"/>
          <a:stretch/>
        </p:blipFill>
        <p:spPr>
          <a:xfrm>
            <a:off x="1679400" y="1268280"/>
            <a:ext cx="4389480" cy="52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879480" y="1341360"/>
            <a:ext cx="7508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Fig2"/>
          <p:cNvPicPr/>
          <p:nvPr/>
        </p:nvPicPr>
        <p:blipFill>
          <a:blip r:embed="rId1"/>
          <a:stretch/>
        </p:blipFill>
        <p:spPr>
          <a:xfrm>
            <a:off x="1068480" y="1211400"/>
            <a:ext cx="7454880" cy="49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utorización previa a la circulación de la mercanc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rchivo Electrónico com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Garantiza quien es el emiso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Validez del Archivo Electrónic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presentación Impresa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lave de Aceso para identificación univoca de la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ódigos de barras unidimensional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ás de 400 reglas de validación on line del archivo electrónic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iempo de Autorización Promédio de Millisegun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rategia de implementación: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ticipación de las empresas em 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fases: proyecto piloto, voluntariedad y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Obligatoriedad por sectores economic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lazo minimo de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8 meses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a la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Masificación tardó 5 años 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7:41:00Z</dcterms:created>
  <dc:creator>RaulZambrano</dc:creator>
  <dc:description/>
  <dc:language>en-US</dc:language>
  <cp:lastModifiedBy>Newton Oller de Mello</cp:lastModifiedBy>
  <dcterms:modified xsi:type="dcterms:W3CDTF">2014-07-04T14:10:11Z</dcterms:modified>
  <cp:revision>257</cp:revision>
  <dc:subject/>
  <dc:title>Facturación Electrónica</dc:title>
</cp:coreProperties>
</file>