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AF35-6624-4366-8824-CFD72EC9907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G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D0F0-E0E7-4EE2-8D58-61A73C01E603}" type="slidenum">
              <a:rPr b="0" lang="es-G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917-A653-4E35-8CCD-ECF66B86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50C-2771-470F-B246-4D08DC91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DC91-D7C8-48F9-9B4F-6126DE0E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B8B2-501C-48E7-AADC-C9913C16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87D-1F02-4B85-BD53-B457A189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0EC9-6571-4614-939A-D50BEEF0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632-81C6-442F-970B-AEAC4E18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7BA-4C7A-4D6B-86BA-F337E000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AC8-6A95-4A3D-A7FC-49C97FE3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3C2-73AD-435B-AACC-4EB08CFF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82F-95BE-427C-8A6F-ED322D51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0381-1E5A-4525-87E4-98FAAE3B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82DE-30AB-4D12-B1D9-3B1CCC97E83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G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2 Imagen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0" name="2 Subtítulo"/>
          <p:cNvSpPr/>
          <p:nvPr/>
        </p:nvSpPr>
        <p:spPr>
          <a:xfrm>
            <a:off x="755640" y="4221000"/>
            <a:ext cx="735804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200" spc="-1" strike="noStrike">
                <a:solidFill>
                  <a:srgbClr val="1f497d"/>
                </a:solidFill>
                <a:latin typeface="Arial"/>
              </a:rPr>
              <a:t>MINISTERIO DE DESARROLLO SOCI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1f497d"/>
                </a:solidFill>
                <a:latin typeface="Arial"/>
              </a:rPr>
              <a:t>Gobierno de Guatem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714240" y="357120"/>
            <a:ext cx="8143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a Visión Estratégica de la Protecc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concepto de Soci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Concepto de 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Concepto de Gobi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214200" y="500040"/>
            <a:ext cx="8715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strategia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genda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ctos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1 Resultados Estratégicos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mplementación de la Gestión Por Resultados (Con enfoque en la Ciudadan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) Ministerio de Desarrollo Social, como Ente Rector de la Política Social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CuadroTexto"/>
          <p:cNvSpPr/>
          <p:nvPr/>
        </p:nvSpPr>
        <p:spPr>
          <a:xfrm>
            <a:off x="0" y="642960"/>
            <a:ext cx="900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ogramas Sociales del Ministerio de Desarroll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1) Generando capacidades human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2) La reducción de la vulnerabilidad (hogares con ingresos baj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3) La concurrencia de tres requisitos básic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a) Mejorar la oferta de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b) Coordinación interinstitucion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GT" sz="2400" spc="-1" strike="noStrike">
                <a:solidFill>
                  <a:srgbClr val="000000"/>
                </a:solidFill>
                <a:latin typeface="Calibri"/>
              </a:rPr>
              <a:t>c) La articulación de las políticas so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214200" y="1000080"/>
            <a:ext cx="8715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implementación de los programas sociales se fundamenta 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) El enfoque de derech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) En el principio de inclusión con equidad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 género y étnico cult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3T17:21:50Z</dcterms:created>
  <dc:creator>Elmer Alvarado</dc:creator>
  <dc:description/>
  <dc:language>en-US</dc:language>
  <cp:lastModifiedBy>lcaxaj</cp:lastModifiedBy>
  <dcterms:modified xsi:type="dcterms:W3CDTF">2014-03-24T14:21:36Z</dcterms:modified>
  <cp:revision>7</cp:revision>
  <dc:subject/>
  <dc:title>Diapositiva 1</dc:title>
</cp:coreProperties>
</file>