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63DBE-7844-455D-A3AA-6C6F01336F3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G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9D54E-A4FC-4A97-A02C-02424362AEEB}" type="slidenum">
              <a:rPr b="0" lang="es-G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B76C-5E07-422A-9C5E-3E608EB01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81BB-6DF3-464F-8344-FF5D4F619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2A4C-3430-4F60-A956-406C536C7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40C2-B54F-4160-97D9-EBC0E03CC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8FD7-F106-4C83-A784-ADD69A7E0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07C7-5374-490C-9C41-7900868D2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09D5-1884-4B55-987A-4D4BD325F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DBAB-36B9-4DA4-A6B1-F9DC78617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E154-AFEB-4D3B-AB1D-BE1024254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99DB-58A1-4046-A873-1FD72831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D13F-63D8-4DC7-B8FE-9DE8DACE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B2F4-E66E-4B24-BD88-0F54CDC1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BFC5-C69A-4835-A4FD-E0CF5589DBDC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G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9" name="2 Imagen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50" name="2 Subtítulo"/>
          <p:cNvSpPr/>
          <p:nvPr/>
        </p:nvSpPr>
        <p:spPr>
          <a:xfrm>
            <a:off x="755640" y="4221000"/>
            <a:ext cx="7358040" cy="16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200" spc="-1" strike="noStrike">
                <a:solidFill>
                  <a:srgbClr val="1f497d"/>
                </a:solidFill>
                <a:latin typeface="Arial"/>
              </a:rPr>
              <a:t>MINISTERIO DE DESARROLLO SOCIA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800" spc="-1" strike="noStrike">
                <a:solidFill>
                  <a:srgbClr val="1f497d"/>
                </a:solidFill>
                <a:latin typeface="Arial"/>
              </a:rPr>
              <a:t>Gobierno de Guatem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 CuadroTexto"/>
          <p:cNvSpPr/>
          <p:nvPr/>
        </p:nvSpPr>
        <p:spPr>
          <a:xfrm>
            <a:off x="714240" y="357120"/>
            <a:ext cx="81439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na Visión Estratégica de la Protección So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n concepto de Socie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n Concepto de Est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n Concepto de Gobie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1 CuadroTexto"/>
          <p:cNvSpPr/>
          <p:nvPr/>
        </p:nvSpPr>
        <p:spPr>
          <a:xfrm>
            <a:off x="214200" y="500040"/>
            <a:ext cx="8715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Estrategia de Gobi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Agenda del Camb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ctos de Gobi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1 Resultados Estratégicos de Gobi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mplementación de la Gestión Por Resultados (Con enfoque en la Ciudadaní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) Ministerio de Desarrollo Social, como Ente Rector de la Política Social de Gobi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1 CuadroTexto"/>
          <p:cNvSpPr/>
          <p:nvPr/>
        </p:nvSpPr>
        <p:spPr>
          <a:xfrm>
            <a:off x="0" y="642960"/>
            <a:ext cx="9001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Programas Sociales del Ministerio de Desarrollo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400" spc="-1" strike="noStrike">
                <a:solidFill>
                  <a:srgbClr val="000000"/>
                </a:solidFill>
                <a:latin typeface="Calibri"/>
              </a:rPr>
              <a:t>1) Generando capacidades human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2) La reducción de la vulnerabilidad (hogares con ingresos baj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400" spc="-1" strike="noStrike">
                <a:solidFill>
                  <a:srgbClr val="000000"/>
                </a:solidFill>
                <a:latin typeface="Calibri"/>
              </a:rPr>
              <a:t>3) La concurrencia de tres requisitos básic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GT" sz="2400" spc="-1" strike="noStrike">
                <a:solidFill>
                  <a:srgbClr val="000000"/>
                </a:solidFill>
                <a:latin typeface="Calibri"/>
              </a:rPr>
              <a:t>a) Mejorar la oferta de serv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GT" sz="2400" spc="-1" strike="noStrike">
                <a:solidFill>
                  <a:srgbClr val="000000"/>
                </a:solidFill>
                <a:latin typeface="Calibri"/>
              </a:rPr>
              <a:t>b) Coordinación interinstituciona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GT" sz="2400" spc="-1" strike="noStrike">
                <a:solidFill>
                  <a:srgbClr val="000000"/>
                </a:solidFill>
                <a:latin typeface="Calibri"/>
              </a:rPr>
              <a:t>c) La articulación de las políticas soci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1 CuadroTexto"/>
          <p:cNvSpPr/>
          <p:nvPr/>
        </p:nvSpPr>
        <p:spPr>
          <a:xfrm>
            <a:off x="214200" y="1000080"/>
            <a:ext cx="8715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a implementación de los programas sociales se fundamenta 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) El enfoque de derech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b) En el principio de inclusión con equidad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e género y étnico cultur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3T17:21:50Z</dcterms:created>
  <dc:creator>Elmer Alvarado</dc:creator>
  <dc:description/>
  <dc:language>en-US</dc:language>
  <cp:lastModifiedBy>lcaxaj</cp:lastModifiedBy>
  <dcterms:modified xsi:type="dcterms:W3CDTF">2014-03-24T14:21:36Z</dcterms:modified>
  <cp:revision>7</cp:revision>
  <dc:subject/>
  <dc:title>Diapositiva 1</dc:title>
</cp:coreProperties>
</file>