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bde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eaebde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1B287-E150-4121-A8C0-913DBD4262A9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06A76-17C9-409A-A43F-2749D05F616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E60-50ED-4E9F-8694-22735B59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20E-5B65-4F99-AACF-A97C80F7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677A9-E79F-4231-839E-2A6D9EBC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D142F-065C-4DD0-A489-AC9C8C5A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A6481-858D-4298-A40C-3D6B7C7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C701B-A40D-4338-8C8E-F773A15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C3D9F-408A-4BB6-837C-5C9A015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2B43E-55D2-45CD-BDD3-19C0C907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376A5-CCF5-4470-A0A9-37376FB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F4762-983B-46D9-9DA6-FC7C7785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17176-A826-4403-9996-459DFAE8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4B2-9BBD-4411-BD07-B83ED354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E10-5FAD-4112-A89B-995FB762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963F-D0E6-431C-BBEA-53E40945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82F7-C6F6-4035-A320-BE8A4594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9495-6E10-4BD6-B24E-5F70464E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B24A-A4C8-46EA-BCEB-D078A8D2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E60-E15B-4050-B085-BB3BF4B1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25BB-7DA9-42F7-937B-056A4D1E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07AF-612D-49EC-943C-C3FE0D3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E02-456C-4A7C-9DAB-4F05421F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29B1-3538-4687-BE1F-1F6A7217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8315-3C52-4FD8-AE02-D38CF06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3C9F-8BC5-4702-A459-05C5546F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6160-2F4D-4E93-85A6-3B08F9C4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92E-DC91-45AE-8F83-816E16C6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93F8-8207-48F0-8095-B3B7F9F7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7E78-5BA0-4CD1-8C46-580AE720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F10A-31BA-4880-9F3B-C4030FB5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74F3-573C-440F-A0FF-08D5ADD8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D15C-B1C3-408F-8AF1-BCDD005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E53-0957-4E75-8E8A-5B9BFDCF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3A5A-C17F-4BB5-A61F-AF6E44CD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20F3-B3D2-4BCC-8DC6-F90171D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19BF-1FBE-4B9C-B09B-ABEE941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F668-A119-4E56-8C8D-758E2F4B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6281-9AFF-4164-86A5-2198F5A7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3D32-39DC-4F0F-B7AF-8A9ADA1A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6405-3587-4514-BF5A-BF9B8328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8320-BD77-4A6F-9A64-16A00043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67DC-1294-454D-8611-2EDECEBC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86AD-3846-4A82-86F9-9A9D8E4A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A60-3565-4D16-8D71-FFB74618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0D1E-165B-44D4-A0E3-B2E2CE0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28C4-FA4D-41F4-8F65-9FCA0BB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4F6A-7948-42CC-8ED0-4CB390B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3EF6-A044-4DBA-8848-4C70F497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3422-86C6-40C7-9B39-8780B886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B6FE-B967-43D0-8F00-A7B311B8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2F6E0-8D2D-4832-AF54-0F737D95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7CCB-C335-49B2-9BA7-A661A7C8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5AB6-61AF-4F8E-9C1D-A04A3115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82459-6300-4086-BD7C-FE4D208A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063-BDC0-4A75-BF43-C066F90E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E165-DEC2-4E93-8D29-C1957509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4B09-8CC4-48FD-B31D-8EF53549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8564-DDB6-4AE6-86BF-DD0B748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C1A0-283E-4EC3-A275-1D62A9D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8C881-C285-42A2-A031-4A09E874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4FC4-3E6F-4953-8575-04A37DC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5DB7-F94E-4988-BAD1-0525CD40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A5831-3284-4665-B12B-FE7C44B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9E5B-E2A0-4052-9CE9-767A3721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AAC53-0519-4D29-824F-529064C5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D3E-62C7-4ABC-A9F4-BBAD6CAE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B624-9E99-47FB-AA4C-C04348D2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041F-F53D-489E-B6B6-9EBD243D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11715-C178-466F-A0EA-DA9A1F8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5933A-FCFA-46E2-B27F-0DDCF12D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B1D3-6C92-41BD-B7FE-A9111132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20A8-7407-4E83-869E-9FBF388B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4D36D-A783-4EB5-B53A-AD88C4C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0D301-7EEF-484E-806E-197B9E41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15CE-5B30-4D15-A292-1D4C300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CFBC-E979-4991-BC9E-A31C90A9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C63-DECE-480C-821D-34B16DBB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42D8F-A72E-4674-8092-9B8A4DFD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11423-FF4F-44A1-9A77-AAF763C1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7B2B-EEA8-4F0A-AA2F-CE99B427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F6839-6787-467F-8B88-9F03A266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B9D8F-5E2A-40DA-8639-E16898A2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4696A-AE3F-4180-8C61-432169D0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0FBC-3AF7-4DAD-B8A2-8C42684A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B708-334D-4E4B-A858-791363DE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4F70D-6740-4529-A192-974DA727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3D59-E1E1-4D6E-AFC6-BE2E676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0A5-A055-437F-8ECB-EB289A62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9A6D-78A1-404E-86CC-A94F9549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DB7FD-711F-4919-B349-D3303F8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E7FD-4FFB-4FB6-99C5-11FB1E4A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4B01F-6227-4032-9E74-ACE3CBEB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4CC5-9D10-435D-B6E3-92C640EF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346B-F1D1-4512-8E62-7C9B0C91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4A392-8A66-407D-9893-47AD6D58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D06CB-8335-44B8-B473-E29504AF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FE2E-4F33-4DC3-8CA6-8A700FA3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46AEE-54AE-4551-A179-D5C80099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9A7-129C-45F9-A43B-422CDA1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CEC22-9DE9-4339-B3E3-07FF38CE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B3379-8462-46DF-9617-A0C2BA8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FB328-3BB7-429C-981B-756AD34E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51EF5-034B-4FB4-8FF2-24DFB9E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5E620-B198-4103-A54D-165CA37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E4840-222F-4BD6-91E4-D0237A81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79007-E4AC-45AE-AE2B-B4A72979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2A655-F1AA-44DC-8C24-7D094E26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77383-6549-4314-84C1-06DCB87B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1D75F-A461-468D-A3A7-9B48FE25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BF0D-EEB0-4B22-90FA-03222BC9BE5A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369A-A79E-4512-B291-280A37F67777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B95A-1F94-4BD7-BC83-172458AA909B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bd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aebde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2B3B-17E1-4518-8B82-0BBC97099D49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C7C2-1205-4D4B-B5D1-E99802A8BD9F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6F75-6BC3-4BBC-A1CE-6E500E45F441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BB7-8D4B-401B-A5CE-59E8F08545E7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CDD6-7D90-40C5-9D4A-69940C1A640A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B85-4474-4883-91A9-CAF82E137D8F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5940360" y="465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bde"/>
                </a:solidFill>
                <a:latin typeface="Arial"/>
                <a:ea typeface="Arial"/>
              </a:rPr>
              <a:t>Lic. Daniel Arr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82520" y="2871720"/>
            <a:ext cx="8948880" cy="1359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ecfc3"/>
                </a:solidFill>
                <a:latin typeface="Franklin Gothic Book"/>
              </a:rPr>
              <a:t>Seminario III ciclo MIDES  - GUATEMALA</a:t>
            </a:r>
            <a:endParaRPr b="0" lang="en-US" sz="2800" spc="-1" strike="noStrike">
              <a:solidFill>
                <a:srgbClr val="eaebd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900000" y="249228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966600" y="3213000"/>
            <a:ext cx="240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Prote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e las fami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4425120" y="314172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stencia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directa a las famil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1547640" y="3933720"/>
            <a:ext cx="3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4716360" y="4005360"/>
            <a:ext cx="4248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Sistema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e los derechos de ni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y ado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476360" y="333360"/>
            <a:ext cx="698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OTECCIÓN DE LAS FAMIL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9" name="Line 5"/>
          <p:cNvSpPr/>
          <p:nvPr/>
        </p:nvSpPr>
        <p:spPr>
          <a:xfrm>
            <a:off x="1116000" y="256536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332000" y="306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Inclusión laboral y Economí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4683600" y="3165480"/>
            <a:ext cx="32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apacitación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lab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4816080" y="3860640"/>
            <a:ext cx="21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utoemp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806000" y="4581360"/>
            <a:ext cx="22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Micro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4709520" y="54450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ooperativas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900000" y="404640"/>
            <a:ext cx="755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INCLUSIÓN LABORAL Y ECONOMI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92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900000" y="256536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200600" y="3141720"/>
            <a:ext cx="19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Progra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foc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044240" y="309420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dultos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155480" y="3908520"/>
            <a:ext cx="22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is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4097880" y="4843440"/>
            <a:ext cx="32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Violencia de gé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484360" y="404640"/>
            <a:ext cx="475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OGRAMAS FOCALIZ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042920" y="249228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187280" y="2708280"/>
            <a:ext cx="266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Transferencia          de Ingresos condici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4932360" y="2781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gnación Universal por h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5003640" y="37162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o-responsabilidad en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5003640" y="494172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5003640" y="479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compañamiento           a las fami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611280" y="260280"/>
            <a:ext cx="83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TRANSFERENCIA DE INGRESOS CONDICION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76a55"/>
                </a:solidFill>
                <a:latin typeface="Franklin Gothic Medium"/>
              </a:rPr>
              <a:t>Responsabilidad Social Empresaria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53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</a:rPr>
              <a:t>Primera etap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132000" y="2060640"/>
            <a:ext cx="180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  <a:ea typeface="Arial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5940360" y="20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  <a:ea typeface="Arial"/>
              </a:rPr>
              <a:t>Tercera et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611280" y="3284640"/>
            <a:ext cx="1296720" cy="360360"/>
          </a:xfrm>
          <a:prstGeom prst="rightArrow">
            <a:avLst>
              <a:gd name="adj1" fmla="val 50000"/>
              <a:gd name="adj2" fmla="val 89960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7"/>
          <p:cNvSpPr/>
          <p:nvPr/>
        </p:nvSpPr>
        <p:spPr>
          <a:xfrm>
            <a:off x="3492360" y="328464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6516720" y="328464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50920" y="4221000"/>
            <a:ext cx="2016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676a55"/>
                </a:solidFill>
                <a:latin typeface="Constantia"/>
                <a:ea typeface="Arial"/>
              </a:rPr>
              <a:t>Acciones de bajo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3132000" y="4221000"/>
            <a:ext cx="2016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676a55"/>
                </a:solidFill>
                <a:latin typeface="Constantia"/>
                <a:ea typeface="Arial"/>
              </a:rPr>
              <a:t>Programas            de a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6084720" y="4165560"/>
            <a:ext cx="273708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Programas edu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Capacitación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Apoyo  a emprendimientos produ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1 Título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229600" cy="10126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Políticas sociales de segunda generación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Masividad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Cambio de paradigma / Enfoque de derechos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Articulación público-privada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PROBLEM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 CuadroTexto"/>
          <p:cNvSpPr/>
          <p:nvPr/>
        </p:nvSpPr>
        <p:spPr>
          <a:xfrm>
            <a:off x="82692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. Pobreza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2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Informalidad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4 CuadroTexto"/>
          <p:cNvSpPr/>
          <p:nvPr/>
        </p:nvSpPr>
        <p:spPr>
          <a:xfrm>
            <a:off x="826920" y="32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3. Des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4. Jóvenes de 16 a 24 años que ni estudian ni traba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5.  Violencia en el h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PROBLEM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2 CuadroTexto"/>
          <p:cNvSpPr/>
          <p:nvPr/>
        </p:nvSpPr>
        <p:spPr>
          <a:xfrm>
            <a:off x="90000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6. Hacinamiento / Adicciones / Endeu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7. Acceso a la tierra / Viv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4 CuadroTexto"/>
          <p:cNvSpPr/>
          <p:nvPr/>
        </p:nvSpPr>
        <p:spPr>
          <a:xfrm>
            <a:off x="826920" y="32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8. Escuela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9. Atención primaria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0. Organización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1547640" y="2852640"/>
          <a:ext cx="5977080" cy="5335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LAS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09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547640" y="2205000"/>
          <a:ext cx="5977080" cy="5079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50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LASE 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ccb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547640" y="3573360"/>
          <a:ext cx="5977080" cy="4701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47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ECTORES VULN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de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547640" y="4221000"/>
          <a:ext cx="5986800" cy="522360"/>
        </p:xfrm>
        <a:graphic>
          <a:graphicData uri="http://schemas.openxmlformats.org/drawingml/2006/table">
            <a:tbl>
              <a:tblPr/>
              <a:tblGrid>
                <a:gridCol w="5986800"/>
              </a:tblGrid>
              <a:tr h="52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BRES ESTRUC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f"/>
                    </a:solidFill>
                  </a:tcPr>
                </a:tc>
              </a:tr>
            </a:tbl>
          </a:graphicData>
        </a:graphic>
      </p:graphicFrame>
      <p:sp>
        <p:nvSpPr>
          <p:cNvPr id="425" name="7 CuadroTexto"/>
          <p:cNvSpPr/>
          <p:nvPr/>
        </p:nvSpPr>
        <p:spPr>
          <a:xfrm>
            <a:off x="1476360" y="981000"/>
            <a:ext cx="604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ESTRUCTUR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4 CuadroTexto"/>
          <p:cNvSpPr/>
          <p:nvPr/>
        </p:nvSpPr>
        <p:spPr>
          <a:xfrm>
            <a:off x="395280" y="907920"/>
            <a:ext cx="828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FORMAS DE ORGANIZ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42920" y="1628640"/>
          <a:ext cx="3384720" cy="41706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59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tidades interme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apo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4427640" y="1628640"/>
          <a:ext cx="3384360" cy="417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5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“flas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reivindicativos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r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calidad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971640" y="1413000"/>
          <a:ext cx="3456000" cy="50472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4427640" y="1413000"/>
          <a:ext cx="3456000" cy="50472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987480" y="1916280"/>
          <a:ext cx="3441600" cy="342396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342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ón de 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tidades Interme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Apo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4427640" y="1916280"/>
          <a:ext cx="3456000" cy="342396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342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“flas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reivindicativos de der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calidad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987480" y="5300640"/>
          <a:ext cx="6908760" cy="1100160"/>
        </p:xfrm>
        <a:graphic>
          <a:graphicData uri="http://schemas.openxmlformats.org/drawingml/2006/table">
            <a:tbl>
              <a:tblPr/>
              <a:tblGrid>
                <a:gridCol w="6908760"/>
              </a:tblGrid>
              <a:tr h="110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desoc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ndic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-Religios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sp>
        <p:nvSpPr>
          <p:cNvPr id="434" name="4 CuadroTexto"/>
          <p:cNvSpPr/>
          <p:nvPr/>
        </p:nvSpPr>
        <p:spPr>
          <a:xfrm>
            <a:off x="395280" y="620640"/>
            <a:ext cx="828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FORMAS DE ORGANIZ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CONCEP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 CuadroTexto"/>
          <p:cNvSpPr/>
          <p:nvPr/>
        </p:nvSpPr>
        <p:spPr>
          <a:xfrm>
            <a:off x="82692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. ASISTENCIA / PROMO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2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DESARROLLO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4 CuadroTexto"/>
          <p:cNvSpPr/>
          <p:nvPr/>
        </p:nvSpPr>
        <p:spPr>
          <a:xfrm>
            <a:off x="826920" y="3284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3. POLÍTICA UNIVERSAL / POLÍTICA FOC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4. SISTEMA DE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5.  ENFOQUE DE DERECHOS EN POLÍTIC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179280" y="2060640"/>
          <a:ext cx="8748720" cy="1944720"/>
        </p:xfrm>
        <a:graphic>
          <a:graphicData uri="http://schemas.openxmlformats.org/drawingml/2006/table">
            <a:tbl>
              <a:tblPr/>
              <a:tblGrid>
                <a:gridCol w="1871640"/>
                <a:gridCol w="1576440"/>
                <a:gridCol w="1722600"/>
                <a:gridCol w="1724040"/>
                <a:gridCol w="1854000"/>
              </a:tblGrid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imentación y Nutri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tección de las Famili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clusión laboral 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onomía Soc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gramas focaliz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nsferencia de Ingresos condicio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18"/>
          <p:cNvSpPr/>
          <p:nvPr/>
        </p:nvSpPr>
        <p:spPr>
          <a:xfrm>
            <a:off x="971640" y="404640"/>
            <a:ext cx="72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TIPOS DE POLÍTIC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826920" y="2492280"/>
            <a:ext cx="777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772200" y="3068640"/>
            <a:ext cx="2343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limen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y 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4444560" y="3094200"/>
            <a:ext cx="34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stencia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alimen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4516200" y="3860640"/>
            <a:ext cx="25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Tarjetas/t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4419000" y="458136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utoproducción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de ali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572000" y="5373720"/>
            <a:ext cx="4321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Comedores comunitarios              y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esc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826920" y="333360"/>
            <a:ext cx="75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ALIMENTACIÓN Y NUTR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5:18Z</dcterms:created>
  <dc:creator>User</dc:creator>
  <dc:description/>
  <dc:language>en-US</dc:language>
  <cp:lastModifiedBy>Usuario</cp:lastModifiedBy>
  <dcterms:modified xsi:type="dcterms:W3CDTF">2014-03-22T20:25:46Z</dcterms:modified>
  <cp:revision>136</cp:revision>
  <dc:subject/>
  <dc:title>Diapositiva 1</dc:title>
</cp:coreProperties>
</file>