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A4937-2BB5-465F-8346-0691DA683AE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3F8C5-0BD8-4E15-8B81-46824E1066C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F2-B99A-4533-AA5E-1CA9F9DC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230-FD7C-4C68-A4B6-C39E3B1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1DB83-B430-4B6B-8FD3-CA62002B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0327-8C2E-49A2-A0FC-86BDE42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27F3-F83A-44E7-BC1A-777D8FA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966CC-BA97-4617-B8CC-5253DF5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E4C5-221B-460B-93C3-6B5D050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FF443-73D2-4FAC-9302-16F7034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E9412-4991-4481-BA3F-49C6E05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97158-E865-486B-8FBE-06E141D4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60398-9B2B-402A-90E4-E0142607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DEC-A3E3-4B43-AC22-5D21273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E7A-A6B9-4575-8650-1A38449F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D18C-B9A3-49CF-88DE-EEF5DDCF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00E7-124D-4EA6-BEFE-A74572B2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555-6C0C-4E0B-A49B-6DAB87D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305-6F6F-4622-BDFB-D9690ED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2331-2DAD-439D-B9E2-91F5CF3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F2B-445F-42CD-90FD-8D02364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D05-4FA8-43F7-AD1D-B8F867F6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F79-D427-4677-AD8B-69866B67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6DD-E056-4CCC-B15E-911DE6E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B4A3-5A65-4605-AAFE-6EE1F58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67EB-CAC1-42DE-9009-F2FA6CE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29A7-CC70-4854-9049-FE60AEC5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25F8-92E0-4DA0-980B-18143D94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B98C-924D-49C5-9755-094900A3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CF58-4857-4517-A372-2E7A7C6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A7AB-3B35-46FD-9F2D-7FE20F9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B59C-60E3-4E17-B820-BD6EAC1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3333-9DD0-4877-A2C2-8DE2C5C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178-01C4-428E-83F8-A43112C4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095A-CA27-4129-8056-CC2B09B8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1EEA-9289-4A6E-939C-2EAE6AE4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3AAD-AA26-48E1-9F69-02C64A8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10E9-4570-413C-B833-B99C5852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257D-FD64-4054-A49C-D10234BF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1230-312B-44F9-BC98-B26B44AA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6A41-A011-468D-B075-305972E6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F08B-B016-47CC-83B1-D49450B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0795-163C-4075-9AB2-C1728F1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C623-58A9-4509-88B7-30440BF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272-9690-4FBA-B815-E0DB5F2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B8CD-4D72-4A58-9D83-30CDC95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6E77-DA18-47AF-8F66-49F3C11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82E7-4B96-4066-A1B0-C14BCDE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FBA1-92EC-47ED-87BE-E067A93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5A87-AD93-4E2E-83D3-8EBFB82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F28F8-1F4F-4746-BB8B-C9E4027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092B-D3DA-49B0-B7CC-705EADD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5A25-6FC6-473D-95C7-F71FA2D0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FDED-A403-4D87-AD79-F67CFCBF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A160-CC59-484F-A357-F40BC555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7F6-5E7D-49A2-8BDA-30A959D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2795-3031-4A6E-8B1C-9FBC1713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163D-8499-4CB7-81E1-78BDE161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C2FA-8F0C-4115-813C-21C101DA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D8D8-F122-46C6-88DE-47B0F286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119B-A220-4DE0-947E-1C4F345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8057-358B-4FCD-845C-E6AFD71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79D4-641A-4479-9FCD-0C2B877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3B60-05A4-45E2-AF55-FBD12B1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BCD9-B09A-4F24-94F5-A3757DF1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09A2-33E3-4C7D-915C-A7033473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87F-EB82-4B9B-A963-B225226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5999-FF02-42F2-8C06-295D6007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5DC9-9D01-4421-A696-DE694CA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AAFC-B6C5-4A64-A2D1-390FA3E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9154-8B18-4ED2-AB2F-8015D9B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0D6C-3F2C-44F3-B976-2462B363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742A-9ADE-4400-9E58-FD82FC4D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2243-F8C0-42A8-94AC-2B80B72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A074-D3D2-4CF9-A7BD-D97842A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10608-FD0A-49B0-AF9E-445EBE5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CE448-B51D-456F-A335-AE115BF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7B0-2A54-4F64-9D97-D04B940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87F4-E3BD-43AE-AB1A-26F7BDE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FB75-68F1-4B94-A92C-50662809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A01F-9B7C-4F11-8EC5-3C640A8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976E-2B98-4229-B02E-1D98112E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D891-E73C-485D-BFE2-87646B5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FE10-4CDD-4017-B67D-82A2687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D4A5-A8F4-4942-BE04-EABC459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65CB-3105-49C2-B503-C5A64C3D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C46A-BD34-40C6-B418-1E029FCF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3C7D5-3442-4624-82E1-8EA3C75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F01-22C0-4999-A943-A616CA7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EB5C-647D-493E-B70F-C52A4E2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3A5D-2AC4-47DB-8B16-1526EB9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12D75-4B93-4F53-A1FF-85C8DB9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4891-2549-4D00-82D4-B8FD9ADC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7180-3A66-4F2E-A00E-0EC74E2F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C3F1-D7EB-4E0E-81B6-4178C2C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AB19-3640-4433-B9F7-9FCEF125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40D1-79E9-4A35-B1C2-B97CAA8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B328-B3B7-42C8-871F-FFB2A660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DCE23-39B4-4C9B-8EA3-5FCD85A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EFC-F797-4156-B734-63C5CCC6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F7C4A-6AD5-471F-9825-6191C6C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01DBA-A04E-4BA0-8E0E-779B1A7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A674-F4EF-4BF9-AD9A-2FC1811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5C92-294B-4F6B-9ECA-228B57F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6D859-61E2-45AA-A6FA-13F449FD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5D8E-B948-467E-9AB3-79C89D35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2FAF8-26B0-4A03-97CD-DDCF0FD7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0F45B-1024-4ED0-823D-865AA26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740EA-5F24-4F83-AEF8-AC56A319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BD185-F6DC-4C1A-B663-A08A90D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1A51-24DB-41A9-894B-4ED1B8CDDE2B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13F-E08F-43EE-971C-82CFE1C76135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626F-14D9-4A07-A477-E2F7990456FA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aebd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bd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aebde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4A3-2432-40AF-A22D-0A2165FAA639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852-E487-4F1C-B118-32C96FC7BDF2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6BC-81B7-4EC2-ADDA-F4E5CDD40664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5CB-E330-4188-94D1-97311E086153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FEF5-5129-4638-9789-59944FFFECB6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a37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648f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C6F-AA8F-468D-BA9D-746CA277FE6D}" type="slidenum">
              <a:rPr b="0" lang="es-AR" sz="1200" spc="-1" strike="noStrike">
                <a:solidFill>
                  <a:srgbClr val="648f6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4"/>
          <p:cNvSpPr/>
          <p:nvPr/>
        </p:nvSpPr>
        <p:spPr>
          <a:xfrm>
            <a:off x="5940360" y="465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bde"/>
                </a:solidFill>
                <a:latin typeface="Arial"/>
                <a:ea typeface="Arial"/>
              </a:rPr>
              <a:t>Lic. Daniel Arro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82520" y="2871720"/>
            <a:ext cx="8948880" cy="1359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ecfc3"/>
                </a:solidFill>
                <a:latin typeface="Franklin Gothic Book"/>
              </a:rPr>
              <a:t>Seminario III ciclo MIDES  - GUATEMALA</a:t>
            </a:r>
            <a:endParaRPr b="0" lang="en-US" sz="2800" spc="-1" strike="noStrike">
              <a:solidFill>
                <a:srgbClr val="eaebd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900000" y="249228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966600" y="3213000"/>
            <a:ext cx="240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t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4425120" y="314172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irecta a las fami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547640" y="3933720"/>
            <a:ext cx="3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4716360" y="4005360"/>
            <a:ext cx="4248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Sistema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e los derechos de ni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476360" y="333360"/>
            <a:ext cx="698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TECCIÓN DE LAS FAMIL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59" name="Line 5"/>
          <p:cNvSpPr/>
          <p:nvPr/>
        </p:nvSpPr>
        <p:spPr>
          <a:xfrm>
            <a:off x="1116000" y="25653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332000" y="306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Inclusión laboral y Economí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4683600" y="3165480"/>
            <a:ext cx="32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lab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4816080" y="3860640"/>
            <a:ext cx="21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806000" y="4581360"/>
            <a:ext cx="22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Micro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4709520" y="54450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operativa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900000" y="404640"/>
            <a:ext cx="755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INCLUSIÓN LABORAL Y ECONOMI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92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900000" y="256536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00600" y="3141720"/>
            <a:ext cx="19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Progr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foc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044240" y="30942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dultos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155480" y="3908520"/>
            <a:ext cx="22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097880" y="4843440"/>
            <a:ext cx="32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Violencia de gé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484360" y="404640"/>
            <a:ext cx="47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OGRAMAS FOCALIZ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r>
              <a:rPr b="0" lang="es-AR" sz="32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042920" y="2492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187280" y="2708280"/>
            <a:ext cx="266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ransferencia          de Ingresos condic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4932360" y="2781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gnación Universal por h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5003640" y="37162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Co-responsabilidad en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003640" y="494172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5003640" y="479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compañamiento           a las fami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611280" y="260280"/>
            <a:ext cx="83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RANSFERENCIA DE INGRESOS CONDICION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76a55"/>
                </a:solidFill>
                <a:latin typeface="Franklin Gothic Medium"/>
              </a:rPr>
              <a:t>Responsabilidad Social Empresaria</a:t>
            </a:r>
            <a:endParaRPr b="0" lang="en-US" sz="3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53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</a:rPr>
              <a:t>Primera etap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132000" y="2060640"/>
            <a:ext cx="180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5940360" y="20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Constantia"/>
                <a:ea typeface="Arial"/>
              </a:rPr>
              <a:t>Tercera et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611280" y="3284640"/>
            <a:ext cx="1296720" cy="360360"/>
          </a:xfrm>
          <a:prstGeom prst="rightArrow">
            <a:avLst>
              <a:gd name="adj1" fmla="val 50000"/>
              <a:gd name="adj2" fmla="val 89960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349236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6516720" y="328464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50920" y="422100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Acciones de bajo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132000" y="4221000"/>
            <a:ext cx="2016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6a55"/>
                </a:solidFill>
                <a:latin typeface="Constantia"/>
                <a:ea typeface="Arial"/>
              </a:rPr>
              <a:t>Programas            de a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6084720" y="4165560"/>
            <a:ext cx="273708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Programas edu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Capacitación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Constantia"/>
                <a:ea typeface="Arial"/>
              </a:rPr>
              <a:t>Apoyo  a emprendimientos produ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1 Título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0126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Políticas sociales de segunda generación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Masividad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Cambio de paradigma / Enfoque de derechos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76a55"/>
                </a:solidFill>
                <a:latin typeface="Franklin Gothic Book"/>
              </a:rPr>
              <a:t>Articulación público-privada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Pobreza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Informalidad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Jóvenes de 16 a 24 años que ni estudian ni traba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Violencia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PROBLEM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2 CuadroTexto"/>
          <p:cNvSpPr/>
          <p:nvPr/>
        </p:nvSpPr>
        <p:spPr>
          <a:xfrm>
            <a:off x="90000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6. Hacinamiento / Adicciones /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7. Acceso a la tierra /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4 CuadroTexto"/>
          <p:cNvSpPr/>
          <p:nvPr/>
        </p:nvSpPr>
        <p:spPr>
          <a:xfrm>
            <a:off x="82692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8. Escuela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9. Atención primaria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0. Organización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547640" y="2852640"/>
          <a:ext cx="5977080" cy="5335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09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547640" y="2205000"/>
          <a:ext cx="5977080" cy="5079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LASE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cc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47640" y="3573360"/>
          <a:ext cx="5977080" cy="4701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47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CTORES VULN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de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547640" y="4221000"/>
          <a:ext cx="5986800" cy="522360"/>
        </p:xfrm>
        <a:graphic>
          <a:graphicData uri="http://schemas.openxmlformats.org/drawingml/2006/table">
            <a:tbl>
              <a:tblPr/>
              <a:tblGrid>
                <a:gridCol w="598680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BRE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f"/>
                    </a:solidFill>
                  </a:tcPr>
                </a:tc>
              </a:tr>
            </a:tbl>
          </a:graphicData>
        </a:graphic>
      </p:graphicFrame>
      <p:sp>
        <p:nvSpPr>
          <p:cNvPr id="425" name="7 CuadroTexto"/>
          <p:cNvSpPr/>
          <p:nvPr/>
        </p:nvSpPr>
        <p:spPr>
          <a:xfrm>
            <a:off x="1476360" y="98100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ESTRUCTURA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4 CuadroTexto"/>
          <p:cNvSpPr/>
          <p:nvPr/>
        </p:nvSpPr>
        <p:spPr>
          <a:xfrm>
            <a:off x="395280" y="90792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42920" y="1628640"/>
          <a:ext cx="3384720" cy="417060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9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427640" y="1628640"/>
          <a:ext cx="3384360" cy="417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5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971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rrit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427640" y="1413000"/>
          <a:ext cx="3456000" cy="504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987480" y="1916280"/>
          <a:ext cx="3441600" cy="34239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ón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tidades Interme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rganizaciones de Apoy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4427640" y="1916280"/>
          <a:ext cx="3456000" cy="34239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4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“flash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reivindicativos de der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calidad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987480" y="5300640"/>
          <a:ext cx="6908760" cy="1100160"/>
        </p:xfrm>
        <a:graphic>
          <a:graphicData uri="http://schemas.openxmlformats.org/drawingml/2006/table">
            <a:tbl>
              <a:tblPr/>
              <a:tblGrid>
                <a:gridCol w="6908760"/>
              </a:tblGrid>
              <a:tr h="110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vimientos de desoc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ndic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-Religio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c8"/>
                    </a:solidFill>
                  </a:tcPr>
                </a:tc>
              </a:tr>
            </a:tbl>
          </a:graphicData>
        </a:graphic>
      </p:graphicFrame>
      <p:sp>
        <p:nvSpPr>
          <p:cNvPr id="434" name="4 CuadroTexto"/>
          <p:cNvSpPr/>
          <p:nvPr/>
        </p:nvSpPr>
        <p:spPr>
          <a:xfrm>
            <a:off x="395280" y="620640"/>
            <a:ext cx="828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FORMAS DE ORGANIZ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4 CuadroTexto"/>
          <p:cNvSpPr/>
          <p:nvPr/>
        </p:nvSpPr>
        <p:spPr>
          <a:xfrm>
            <a:off x="611280" y="83664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PRINCIPALES CONCEP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 CuadroTexto"/>
          <p:cNvSpPr/>
          <p:nvPr/>
        </p:nvSpPr>
        <p:spPr>
          <a:xfrm>
            <a:off x="826920" y="19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1. ASISTENCIA / PROMO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 CuadroTexto"/>
          <p:cNvSpPr/>
          <p:nvPr/>
        </p:nvSpPr>
        <p:spPr>
          <a:xfrm>
            <a:off x="90000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2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DESARROL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4 CuadroTexto"/>
          <p:cNvSpPr/>
          <p:nvPr/>
        </p:nvSpPr>
        <p:spPr>
          <a:xfrm>
            <a:off x="826920" y="3284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3. POLÍTICA UNIVERSAL / POLÍTICA FOC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5 CuadroTexto"/>
          <p:cNvSpPr/>
          <p:nvPr/>
        </p:nvSpPr>
        <p:spPr>
          <a:xfrm>
            <a:off x="684360" y="39337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4. SISTEMA DE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 CuadroTexto"/>
          <p:cNvSpPr/>
          <p:nvPr/>
        </p:nvSpPr>
        <p:spPr>
          <a:xfrm>
            <a:off x="826920" y="4724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  </a:t>
            </a:r>
            <a:r>
              <a:rPr b="1" lang="es-AR" sz="1800" spc="-1" strike="noStrike">
                <a:solidFill>
                  <a:srgbClr val="676a55"/>
                </a:solidFill>
                <a:latin typeface="Arial"/>
                <a:ea typeface="Arial"/>
              </a:rPr>
              <a:t>5.  ENFOQUE DE DERECHOS EN POLÍTIC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179280" y="2060640"/>
          <a:ext cx="8748720" cy="1944720"/>
        </p:xfrm>
        <a:graphic>
          <a:graphicData uri="http://schemas.openxmlformats.org/drawingml/2006/table">
            <a:tbl>
              <a:tblPr/>
              <a:tblGrid>
                <a:gridCol w="1871640"/>
                <a:gridCol w="1576440"/>
                <a:gridCol w="1722600"/>
                <a:gridCol w="1724040"/>
                <a:gridCol w="1854000"/>
              </a:tblGrid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imentación y Nutri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tección de las Famili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clusión laboral 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onomía So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gramas focaliz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erencia de Ingresos condicio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18"/>
          <p:cNvSpPr/>
          <p:nvPr/>
        </p:nvSpPr>
        <p:spPr>
          <a:xfrm>
            <a:off x="971640" y="40464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TIPOS DE POLÍTICA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        </a:t>
            </a:r>
            <a:r>
              <a:rPr b="0" lang="es-AR" sz="2800" spc="-1" strike="noStrike">
                <a:solidFill>
                  <a:srgbClr val="676a55"/>
                </a:solidFill>
                <a:latin typeface="Franklin Gothic Book"/>
              </a:rPr>
              <a:t>Eje sectorial                        Tipo de Programa</a:t>
            </a:r>
            <a:endParaRPr b="0" lang="en-US" sz="28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826920" y="249228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72200" y="3068640"/>
            <a:ext cx="2343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lim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y nutr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444560" y="3094200"/>
            <a:ext cx="34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sistencia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alimen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516200" y="3860640"/>
            <a:ext cx="25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Tarjetas/t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419000" y="458136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Autoproducción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de al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572000" y="5373720"/>
            <a:ext cx="4321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76a5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 </a:t>
            </a:r>
            <a:r>
              <a:rPr b="0" lang="es-AR" sz="2200" spc="-1" strike="noStrike">
                <a:solidFill>
                  <a:srgbClr val="676a55"/>
                </a:solidFill>
                <a:latin typeface="Constantia"/>
                <a:ea typeface="Arial"/>
              </a:rPr>
              <a:t>Comedores comunitarios              y </a:t>
            </a:r>
            <a:r>
              <a:rPr b="0" lang="es-AR" sz="2400" spc="-1" strike="noStrike">
                <a:solidFill>
                  <a:srgbClr val="676a55"/>
                </a:solidFill>
                <a:latin typeface="Constantia"/>
                <a:ea typeface="Arial"/>
              </a:rPr>
              <a:t>esc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826920" y="333360"/>
            <a:ext cx="75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676a55"/>
                </a:solidFill>
                <a:uFillTx/>
                <a:latin typeface="Constantia"/>
                <a:ea typeface="Arial"/>
              </a:rPr>
              <a:t>ALIMENTACIÓN Y NUTR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5:18Z</dcterms:created>
  <dc:creator>User</dc:creator>
  <dc:description/>
  <dc:language>en-US</dc:language>
  <cp:lastModifiedBy>Usuario</cp:lastModifiedBy>
  <dcterms:modified xsi:type="dcterms:W3CDTF">2014-03-22T20:25:46Z</dcterms:modified>
  <cp:revision>136</cp:revision>
  <dc:subject/>
  <dc:title>Diapositiva 1</dc:title>
</cp:coreProperties>
</file>