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FDAB4-10FB-4580-B446-8ECC8380456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6B70D-FFEF-4619-AC3B-A18437E19F6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21A96-4242-43D2-825D-B2BD7437D41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255FA-BC40-4B14-97A1-91B9E5B56AA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C564D-CDEC-4471-A2CC-52470EBF61C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D3C79-CA5A-4417-9C8A-EC5C4F66EE2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BD19C-B0D5-4155-9917-A390E9F75E3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800E0-4D5E-4202-BA16-23800532105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EE557-CD08-4193-BBF3-BF67AE05C9D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F6CC6-0C80-441B-B481-A086CB79F7B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4D434-C926-4E5A-8655-0E508E1B146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AFF-4DF9-4EAB-94AE-02611878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9A6-4BF4-48C0-8E09-94DDF727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86C-B5C6-49DC-97BF-F44CC2FD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1BB-76A4-4BFC-97CB-096A8E51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9F1-33D4-408F-835A-0FE4FD88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3AB-007F-400B-9430-D61B6C97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F75-BEA3-4EC1-8FC1-2C698FA6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75C-DCEF-40B7-B2C5-1AC532E1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3C6-6057-4B97-983B-FFD126E4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BB5-52F5-43A9-AB9F-15EFD9D4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E79-DFC4-459D-BA50-042A2680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665-F758-4DFF-9FED-8874682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3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BAD409-647E-40AC-9DD1-698823EFA71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RECOMENDACION DE LA UE, octubr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NCLUSIÓN A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 LAS PERSONAS EXCLU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L MERCADO LAB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6) Mejorar el sistema de información y evaluación y garantizar la coherencia con la política de cohesión de la UE (Estrategia de Lisbo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ara que los Estados miembros se comprometan 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Arial"/>
              </a:rPr>
              <a:t>- implementar estrategias de inclusión activa de las personas excluidas del mercado lab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Arial"/>
              </a:rPr>
              <a:t>- asegurar el derecho a una ayuda social y de vivienda para garantizar una existencia digna a todos aquellos que no dispongan de recursos sufici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clus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4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Entre los objetivos de la UE se encuentra la inclusión social activa de todos a través de la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en el mercado laboral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la lucha contra la pobrez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. Se necesitan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soluciones políticas globales e integradas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, las que combinen un apoyo a la renta con 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vínculo al mercado de trabajo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y 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acceso a servicios de calidad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en una estrategia de inclusión activ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clus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De conformidad con 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principio de subsidiariedad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, los Estados miembros son responsables de definir nivel de apoyo a la renta y una adecuada combinación de estrategias a la luz de las distintas situaciones y necesidades a escala local, intermedia y nacio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1) implementar una estrategia global integrada para la inclusión a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88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2) Asegurar la eficacia de las políticas combinando acceso al empleo, recursos para una vida digna, ayuda a la participación social. Las políticas tienen que facilitar la participación de todos los actores, y deben coordinarse horizontal y verticalmente (múltiples causas de la pobreza, distintos niveles de la administr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97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3) Velar porque las políticas de inclusión activa apoyen la aplicación de derechos fundamentales, consideren la complejidad de las situaciones, tomen en cuenta las circunstancias del territorio, interrumpan la transmisión inter-generacional de la pobr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4) Respetar los siguientes princip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a)  Apoyo a la renta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Derecho fundamental del individuo a una vida digna, combatir la 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)  Mercados de trabajo inclus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Garantizar que las personas aptas reciban ayuda para conseguir el empl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)  Acceso a servicio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os Estados miembros deb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5) Poner a disposición recursos y beneficios pertinentes, utilizando también los Fondos Europe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22:20:31Z</dcterms:created>
  <dc:creator/>
  <dc:description/>
  <dc:language>en-US</dc:language>
  <cp:lastModifiedBy>Valued Acer Customer</cp:lastModifiedBy>
  <dcterms:modified xsi:type="dcterms:W3CDTF">2014-03-28T15:24:29Z</dcterms:modified>
  <cp:revision>2</cp:revision>
  <dc:subject/>
  <dc:title>RECOMENDACION DE LA UE, octubre 2008</dc:title>
</cp:coreProperties>
</file>