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8F890-7EA6-4EAD-A47E-1239F9D0DCAD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9332F-5444-41FF-A55E-B7C832556C6A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37A17-5ACD-43F6-AF45-65C4ED85BF99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74733-561B-4E57-ADEF-AC5C792CA1CF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5D659-9637-4E50-B64F-C148A2930580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9F92DF-C575-4FF7-A2C8-808DE01EAF0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4EFE2-A15A-46AC-A966-FC79C920906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98D28-C9E0-41DF-8207-03AE7FF56565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E7625-94F5-4C41-B4B9-49654EBAA96F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4EE133-8048-47A1-A172-325145122FD5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EC794-88E5-4B99-87D5-70ADB7FC06F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32AD-E42C-4F61-BFC7-ACF3C2EC8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9674-AA68-4B7E-8261-9E385327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3FDA-91EC-4C33-B7E6-6F89627A8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809A-66EB-44DB-8629-E9BF8FEF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3A96-C33D-4262-9B3D-DD9A6D4F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B7A3-9993-4D92-9AF0-15FD93BA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847F-FC31-47E1-ACD0-67487B74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25E4-CFA3-4993-A1BF-F374DB07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B495-B08E-4D0D-9E52-464C0FBA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0D61-EB80-4110-B730-C94F6162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3F93-BA6F-43D3-9480-6C9F5685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0CCA-0541-4455-ABEC-73F6FF76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3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79FD22F-510A-48D1-8E0B-53867CFDAC84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RECOMENDACION DE LA UE, octubre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INCLUSIÓN AC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DE LAS PERSONAS EXCLUI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DEL MERCADO LABO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Los Estados miembros deb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6) Mejorar el sistema de información y evaluación y garantizar la coherencia con la política de cohesión de la UE (Estrategia de Lisbo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Para que los Estados miembros se comprometan 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  <a:ea typeface="Arial"/>
              </a:rPr>
              <a:t>- implementar estrategias de inclusión activa de las personas excluidas del mercado labo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  <a:ea typeface="Arial"/>
              </a:rPr>
              <a:t>- asegurar el derecho a una ayuda social y de vivienda para garantizar una existencia digna a todos aquellos que no dispongan de recursos suficient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nclusión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 fontScale="94000"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Entre los objetivos de la UE se encuentra la inclusión social activa de todos a través de la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participación en el mercado laboral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 y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la lucha contra la pobreza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. Se necesitan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soluciones políticas globales e integradas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, las que combinen un apoyo a la renta con el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vínculo al mercado de trabajo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y el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acceso a servicios de calidad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en una estrategia de inclusión activ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nclusión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De conformidad con el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principio de subsidiariedad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, los Estados miembros son responsables de definir nivel de apoyo a la renta y una adecuada combinación de estrategias a la luz de las distintas situaciones y necesidades a escala local, intermedia y nacion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Los Estados miembros deb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1) implementar una estrategia global integrada para la inclusión ac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Los Estados miembros deb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 fontScale="88000"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2) Asegurar la eficacia de las políticas combinando acceso al empleo, recursos para una vida digna, ayuda a la participación social. Las políticas tienen que facilitar la participación de todos los actores, y deben coordinarse horizontal y verticalmente (múltiples causas de la pobreza, distintos niveles de la administració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Los Estados miembros deb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 fontScale="97000"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3) Velar porque las políticas de inclusión activa apoyen la aplicación de derechos fundamentales, consideren la complejidad de las situaciones, tomen en cuenta las circunstancias del territorio, interrumpan la transmisión inter-generacional de la pobrez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Los Estados miembros deb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4) Respetar los siguientes principi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a)  Apoyo a la renta adecu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Derecho fundamental del individuo a una vida digna, combatir la exclus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b)  Mercados de trabajo inclusiv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Garantizar que las personas aptas reciban ayuda para conseguir el emple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c)  Acceso a servicios de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Los Estados miembros deb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5) Poner a disposición recursos y beneficios pertinentes, utilizando también los Fondos Europe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3T22:20:31Z</dcterms:created>
  <dc:creator/>
  <dc:description/>
  <dc:language>en-US</dc:language>
  <cp:lastModifiedBy>Valued Acer Customer</cp:lastModifiedBy>
  <dcterms:modified xsi:type="dcterms:W3CDTF">2014-03-28T15:24:29Z</dcterms:modified>
  <cp:revision>2</cp:revision>
  <dc:subject/>
  <dc:title>RECOMENDACION DE LA UE, octubre 2008</dc:title>
</cp:coreProperties>
</file>