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62749-327C-4BAC-BC62-A22BEB729D1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8D12F-B5DF-4191-A5D6-7D3229036F7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7046F-3564-4286-BCD2-94ADD863648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2B63C-B1AB-429C-B3E9-F4E82576434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422E2-C78E-4CDC-8618-F77A34A0D3D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37354-EDC3-42B6-ABEA-5660811FB2B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ED9EA-9FBE-4C45-B0E3-C784F67821E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ADA82-9204-4D08-A66F-61C39D1CE18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4DB8B-2E31-476A-A103-3DAFE90F39C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F6BE3-5DAA-4D5F-AAE1-1E0968227B4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E128F-1514-463C-A9AA-B9763E8BE77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F1BED-DE3F-452A-8CBD-C2281D147B9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CEC76-E35E-4424-ADE4-FD62D005954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A9217-4A4A-44BE-8929-F2F88509334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4283D-A2EB-4D7F-BFB5-598535E8C91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BDD22-9970-48A4-A6EC-A6633D52E8C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270F1-D8F3-4F11-A959-9242662E17B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53202-B27B-4297-AECB-E1AD30E5BFB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2AA7E-F961-4BE6-97C3-478F998EE0E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02517-F006-4DBA-AC3A-712546C900C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2E903-E5FE-43BD-B08D-A154914829C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CCD5F-3866-4B45-8DC5-189F958089E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31FFF-50AB-4C66-B173-A17A07DA44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B3928-CF44-436E-954E-7E669356D22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A61BC-DED2-4428-8E7A-7E7AEB0C966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C3217-EC28-4790-9BEF-11D06FD77A2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F1AED-EBCF-43F2-8C5E-8FDC362127A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8BD8E-C62A-45A9-A160-CE259A400E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E20CB-7E3C-4D67-962D-4137E947D9F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8C067-E8AA-4649-A085-A3EA7BD1B85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7FC99-B8A4-44AD-A6E6-3EF7A6A00F0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DC5E0-8FCD-49DB-94BF-4EDF12DA910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2B166-A5EC-4029-ABD5-DD09E8EA20F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atos preliminares del monitoreo  2013 de los planes sociales territoriales realizado por ISFOL, Ministero del Lavoro e Politiche Sociali – Direzione Generale per il Terzo settore e le formazioni sociali, Fondo Sociale Europe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0478B-9ED1-4351-8646-0EF5D058FFE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22694-35C2-4B89-8B9B-57FED3AF79D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Ranci Ortigosa, Emanuele, 2013, “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Le nostre proposte per una riforma delle politiche sociali attuale e attuabile”, 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onencia presentada en el seminario </a:t>
            </a:r>
            <a:r>
              <a:rPr b="0" i="1" lang="it-IT" sz="1100" spc="-1" strike="noStrike">
                <a:solidFill>
                  <a:srgbClr val="000000"/>
                </a:solidFill>
                <a:latin typeface="Calibri"/>
              </a:rPr>
              <a:t>Costruiamo il welfare di domani</a:t>
            </a: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Milano 26 Settembre 2013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Nel 2011: 67 miliardi, il 4,28% del Pil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54 miliardi, pari al 80% del totale, sono assorbiti da programmi nazionali e detrazioni fiscali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Tre settori: famiglia, non autosufficienza e disabilità, povertà, di peso simile, rispettivamente di 21, 24, 18 miliardi circ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A Comuni, Regioni ed altri enti solo 8,5 miliardi, quasi il 14% del totale, per servizi e anche erogazioni monetarie. Nel federalismo fiscale si sono considerate solo queste risorse!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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5 miliardi è la stima della spesa sociosanitaria per la non autosufficenza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----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Disoccupazione al 12% (+1,3% sul 2012); giovanile al 39,5% (+4,3% sul 2012). In un anno 325mila disoccupati in pi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Cassa integrazione in aumento: autorizzate 75,3 milioni di ore, tra interventi ordinari, straordinari e in deroga (+12,4% sul 2012)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Oneri crescenti su famiglie: +1.492 euro a famiglia (Imu, alimentari)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Riduzione consumi: - 7,3% spesa delle famiglie rispetto al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Impoverimento diffuso: persone in povertà assolut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4,1% nel 2005; 8% nel 2012, 4.800.000, 1 persona ogni 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Diseguaglianze crescenti (Gini: 0,323 per redditi, 0,613 per ricchezza, sesto per entità delle diseguaglianze fra 30 paesi Ocse)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160C1-66E6-443F-9AC3-6A2AE4AC015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CEC2F-DA7F-46B1-922E-7E58DE79FA0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E2442-83E0-4CC2-9177-B21E8B05A98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BEB54-9550-428F-94D1-4A141CBE024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3C96A-05CC-4D32-81D2-CD32349ACE2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28674-8BBE-42A7-B3B1-618D514E684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C611C-FDFE-4AF5-95BF-1B7A007B946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egnaposto numero diapositiva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C682D-847F-40D0-8440-7F699EC4294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2BDF-8ACB-400F-A892-3A5E7671EE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1B27-548B-46AA-A13A-1CCC1459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2BA0-199A-43C4-A01A-DD28EA8D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4DA5-D29C-470B-8D26-1025BFFD12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55CC-BDFD-40CC-B4DF-E6D77367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23A7-2D46-42DD-B13C-81679F0A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ADD7-D155-4701-93A1-2C3C9285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BAA6-D79F-47EA-9474-D667E9FF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766D-D1B1-42B8-9724-378ACC71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2FCF-FF3F-44BB-872B-3064745F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3BF8-664A-4518-A9D7-337FD567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D9A9-3792-4C9A-B4CB-21533BEC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125D03-6C95-4D41-BE03-4AE5BA4023DA}" type="datetime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29/07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27D108-FD38-4B26-8393-9A72039F3B26}" type="slidenum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3960" y="2274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dimensión territorial en los servicios sociales y las políticas de inclusión: el caso itali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266920" cy="628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440000" y="5616720"/>
            <a:ext cx="6191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entación: Dario Con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os: Dario Conato y Francesco Chio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08000" y="189000"/>
            <a:ext cx="87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1. El marco de competencias</a:t>
            </a:r>
            <a:br>
              <a:rPr sz="2400"/>
            </a:br>
            <a:r>
              <a:rPr b="1" lang="es-ES" sz="1800" spc="-1" strike="noStrike">
                <a:solidFill>
                  <a:srgbClr val="ffcc00"/>
                </a:solidFill>
                <a:latin typeface="Arial"/>
                <a:ea typeface="Arial"/>
              </a:rPr>
              <a:t>(notas básicas sobre el sistema socio asistencial italia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00040" y="1714680"/>
            <a:ext cx="82296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servicios socio-asistenciales se dan a niv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territori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son de competencia y responsabilidad de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Municip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xiste un amplio abanico prestaciones sociales de tipo monetario reguladas y proporcionadas por 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9EFB8-60F8-4AA1-BB24-F6B3FE05F53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Marco de competencias según la Constitució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836640"/>
            <a:ext cx="8229600" cy="58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stitución italiana asigna a las Regiones el poder legislativo en materia socio-asisten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as funciones administrativas son atribuidas a las Municip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stado, Regiones, Ciudades metropolitanas, Provincias y Municipalidades favorecen la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utónoma iniciativa de los ciudadanos, individuos y asociad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subsidiariedad horizo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Estado debe determinar lo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niveles esenciales de las prestacione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referidas a los derechos civiles y sociales que deben ser garantizados en todo el territorio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0AC2A-6E50-43E2-B09A-B2054097DDF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08000" y="274680"/>
            <a:ext cx="8856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Articulación competencias Estado / niveles sub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296BA-D491-43FE-8BE3-76449F85ABA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s territoriales integra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yes y políticas reg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iveles esenciales de las pres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iso mínimo obligatorio en todo el paí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0" y="4581360"/>
            <a:ext cx="176364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s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0" y="2781360"/>
            <a:ext cx="176364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Reg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0" y="1125360"/>
            <a:ext cx="176364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unicipa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108000" y="189000"/>
            <a:ext cx="885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Funciones de los tres niveles de gobi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45C32-3942-4883-938C-0CEA39EEAEC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9280" y="765000"/>
            <a:ext cx="87138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Calibri"/>
                <a:ea typeface="Arial"/>
              </a:rPr>
              <a:t>El territorio es la unidad de referencia para la programación y la gestión del </a:t>
            </a:r>
            <a:r>
              <a:rPr b="0" lang="it-IT" sz="1800" spc="-1" strike="noStrike">
                <a:solidFill>
                  <a:srgbClr val="0070c0"/>
                </a:solidFill>
                <a:latin typeface="Calibri"/>
                <a:ea typeface="Arial"/>
              </a:rPr>
              <a:t>sistema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(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 territorio asegura la pertinencia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mbienta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de las respuestas). Los servicios, por tanto, son brindados a nivel de ámbito territorial en el marco de una organización que prevé los siguientes ro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Calibri"/>
                <a:ea typeface="Arial"/>
              </a:rPr>
              <a:t>Municip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ación, diseño y gestión del sistema local de servicios + evalu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visión  directa o delegada de los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Coordinación interinstitu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Autorización, acreditación y supervisión centros pri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moción de la participación ciudad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Arial"/>
              </a:rPr>
              <a:t>Reg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Legislación, directrices y coordi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lanes sociales regionales (que enmarcan la programación de los sistemas locales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Definición requisitos y tipología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  <a:ea typeface="Arial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Niveles esenciales de las pres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16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Ley 328/2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 la Ley marco para la realización del sistema de acciones y servicios soci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ilosofía de la ley 3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perar el concepto preminentemente asistencialista de la acción social: el ciudadano no es solament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usuario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no qu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actor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n tant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titular de derecho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IPOS DE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yectos individuales para personas con discapa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poyo domiciliario a personas mayores no autosufic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provechamiento de y apoyo a las responsabilidades fam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misión de cheques de cu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líticas para conciliar tiempo de trabajo y tiempo de cuido o de v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IPOS DE SERV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9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ostén a los padres, también a través de la promoción del apoyo mutuo entre famil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poyo domicilliario para familias que ofrecen acogida, asistencia a discapacitados físicos, psíquicos y sensoriales, personas en dificultad, menores, anci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rvicios de “alivio”, para acompañar a las familias en el cuido demiembros necesi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gogida y socialización en estructuras residenciales y semi-residenciales de las personas que no pueden recibir atención domicilia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poyo al cuido de crianz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(formació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OS B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s municipallidades pueden ofrecer bonos no rembolsables o préstamos de honor (tasa cero)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úcleos con un solo pad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ujeres embarazadas en dificultad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milias con miembros no autosuficientes en dificultades econó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17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migrados recientes con dificultades de inserción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ASAS Y TARIF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s municipalidades también pueden aplicar a las categorías mencionadas descuentos en las tasas y tarif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720720" y="1871640"/>
            <a:ext cx="755964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84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RES ELEMENTOS DE CONTEX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Membresía en la Unión Europea  (adhesión a un marco común de referencia y vínculo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SzPct val="102909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forma de las políticas sociales (Ley 328/2000 Sistema integrado de servicios e intervenciones social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51"/>
              </a:spcBef>
              <a:buSzPct val="102909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forma constitucional del 2001 (nuevo sistema de competencia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Niveles esenciales de las prestaciones</a:t>
            </a: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 según la ley de reforma 328/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68360" y="1197000"/>
            <a:ext cx="82296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Las medidas, servicios e intervenciones señaladas deben traducirse a nivel territorial, 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servicios sociales profesionales y secretariado social para la información y asesoría al individuo y núcleos familiar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servicios de primer auxilio social para situaciones de emergencia personales y familiar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atención domiciliaria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BO" sz="2700" spc="-1" strike="noStrike">
                <a:solidFill>
                  <a:srgbClr val="000000"/>
                </a:solidFill>
                <a:latin typeface="Calibri"/>
              </a:rPr>
              <a:t>estructuras residenciales y semi residenciales para personas con fragilidades social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centros de acogida residenciales o diurnos de carácter comunitario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BCE31-8924-4F09-A8DE-4B309602420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l FN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ley 328/2000 establece un Fondo Nacional para las Políticas y Acciones Soci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l Fondo co-financia Planes Sociales Regionales y Planes Sociales de Zona para la inclusión y el mejoramiento de la calidad de v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BENEFICI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iudadanos italianos y sus fam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iudadanos de la UE y sus fam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iudadanos extra-comunit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fugiados y apátri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324000" y="18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3. Planificación de los sistemas integrados de servicios territoriales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9640" y="692280"/>
            <a:ext cx="8425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C667A-66F0-4A4C-9672-479341671B2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539640" y="1440000"/>
            <a:ext cx="392436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Las Regiones legiferan y definen sus Plane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608360" y="2808360"/>
            <a:ext cx="3743640" cy="2519280"/>
          </a:xfrm>
          <a:prstGeom prst="rect">
            <a:avLst/>
          </a:prstGeom>
          <a:solidFill>
            <a:srgbClr val="dce6f2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as Municipalidades asociadas en ámbitos territoriales planifican su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lanes territoriales trienal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Un plan es la expresión de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b050"/>
                </a:solidFill>
                <a:latin typeface="Calibri"/>
                <a:ea typeface="Arial"/>
              </a:rPr>
              <a:t>sistema territorial integrado de intervenciones y servicio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AutoShape 6"/>
          <p:cNvCxnSpPr>
            <a:stCxn id="104" idx="2"/>
            <a:endCxn id="105" idx="1"/>
          </p:cNvCxnSpPr>
          <p:nvPr/>
        </p:nvCxnSpPr>
        <p:spPr>
          <a:xfrm flipH="1" rot="16200000">
            <a:off x="2815560" y="2277000"/>
            <a:ext cx="1477080" cy="210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8710D-BEA2-4676-983B-BDE3A583BB6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24000" y="333360"/>
            <a:ext cx="8820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Sistema inte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servicios y ac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servicios y acciones se harmonizan en sistemas locales diseñados a través de planes territor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políticas e instituciones sectoria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convergencia alrededor de los objetivos de las diferentes instituciones, en particular los servicios socio asistenciales y los servicios sani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público y privad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 las políticas y los planes involucran aportes privados y del “privado soci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Symbol" charset="2"/>
              <a:buChar char="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Entre fond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un plan territorial es financiado por diferentes fuentes públicas (multi-niv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079640" y="1125360"/>
            <a:ext cx="7524720" cy="15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Ámbitos territoriale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31772-C852-46FD-AF3D-6E4A4BA9973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3348000" cy="352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4067280" y="981000"/>
            <a:ext cx="4838760" cy="56167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/>
          <p:cNvSpPr/>
          <p:nvPr/>
        </p:nvSpPr>
        <p:spPr>
          <a:xfrm>
            <a:off x="250920" y="5373720"/>
            <a:ext cx="4033800" cy="12240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Ámbito territorial del Sebino  (12 Municipalida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unicipalidad líder:  Is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AutoShape 6"/>
          <p:cNvCxnSpPr/>
          <p:nvPr/>
        </p:nvCxnSpPr>
        <p:spPr>
          <a:xfrm>
            <a:off x="5580000" y="3284280"/>
            <a:ext cx="434160" cy="649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Rectangle 7"/>
          <p:cNvSpPr/>
          <p:nvPr/>
        </p:nvSpPr>
        <p:spPr>
          <a:xfrm>
            <a:off x="0" y="765000"/>
            <a:ext cx="37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unicipios asoci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 cumple la función de jefe de fila o lí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6516720" y="404640"/>
            <a:ext cx="2303280" cy="5763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isten en 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635 ámb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248A2-4F4B-4D39-BBFA-FCE0178792D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Las f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79280" y="765000"/>
            <a:ext cx="896472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Caso Región Pug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conforma la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samblea de consorcio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Municipalidades asoci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cretaría general del Plan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grupo de trabajo con mandato de coordin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1  publica la información sobre puesta en marcha del proceso de planif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2  instituye y coordina las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sas de concertación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temáticas) con los actores del territorio (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tre Municipalidades, servicios e instituciones -sobre todo del sector salud -, organizaciones del tercer sector (consulta y/o codis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3  elabora el  Plan social territorial, de acuerdo con las líneas del Plan reg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4  convoca la Conferencia de Servicios por mandato de la Asambl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alización de la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nferencia de Servicios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a la aprobación del Plan (participan: Municipalidades, Servicio de Salud, Provincia, Región, otros acto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inanciamiento y puesta en marcha del Plan (tres añ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645240" y="1322280"/>
            <a:ext cx="2406600" cy="14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158760" y="1322280"/>
            <a:ext cx="2413080" cy="14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3187800" y="1249200"/>
            <a:ext cx="2914560" cy="16956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7"/>
          <p:cNvSpPr/>
          <p:nvPr/>
        </p:nvSpPr>
        <p:spPr>
          <a:xfrm>
            <a:off x="2556000" y="1916280"/>
            <a:ext cx="649080" cy="2872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6012000" y="1916280"/>
            <a:ext cx="647640" cy="2872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378000" y="165240"/>
            <a:ext cx="1761840" cy="7617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0"/>
          <p:cNvSpPr/>
          <p:nvPr/>
        </p:nvSpPr>
        <p:spPr>
          <a:xfrm rot="5400000">
            <a:off x="871560" y="1089000"/>
            <a:ext cx="649440" cy="287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539640" y="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Estructura de un Pl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06C1E-4E43-4966-9728-64A594AD1D8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765000"/>
            <a:ext cx="6516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libri"/>
                <a:ea typeface="Arial"/>
              </a:rPr>
              <a:t>ANALISIS DEL CONTEXTO Y DEL SISTEMA DE OFFERT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PRIORIDADES ESTRATEGIC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STRATEGIA DEL AMBITO TERRITORIA PARA CONSOLIDAR EL SISTEMA DEL WELFARE LOC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OBJETIVOS SE SERVI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NLACE ENTRE PLANIFICACIÓN ORDINARIA Y OTROS PLANES Y RECURS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RECURSOS ORDINARIOS (FNPS, FNA, FGS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RECURSOS ADI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COFINANCIAMIENTO MUNICIPA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LOS ACTORES DEL SISTEMA DE WELFARE LO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STRUCTURA ORGANIZATIVA Y DE 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SISTEMA DE GOVER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FICHAS DE INTERVENCIONES Y OBJETIVOS DE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443640" y="765000"/>
            <a:ext cx="2521080" cy="520452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  <a:ea typeface="Times New Roman"/>
              </a:rPr>
              <a:t>Secretaría ge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structura organizativa de gestión y coordin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nálisis de la demanda del territorio y de la capacidad de respues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oordinación del proceso de concertación y codis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edacción del 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ón técnica y administr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Vigilancia de la integración socio sanitaria y de la articulación con otros pla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sistencia técnica a los servicios y entidades que implement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7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es de avances y ajustes a la pla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2" name="AutoShape 5"/>
          <p:cNvCxnSpPr/>
          <p:nvPr/>
        </p:nvCxnSpPr>
        <p:spPr>
          <a:xfrm>
            <a:off x="-360" y="2565000"/>
            <a:ext cx="469080" cy="3960"/>
          </a:xfrm>
          <a:prstGeom prst="straightConnector1">
            <a:avLst/>
          </a:prstGeom>
          <a:ln cap="sq" w="255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data 1"/>
          <p:cNvSpPr/>
          <p:nvPr/>
        </p:nvSpPr>
        <p:spPr>
          <a:xfrm>
            <a:off x="457200" y="6356520"/>
            <a:ext cx="2128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479F8-A47D-404D-88DF-A429B7021877}" type="datetime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29/07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53964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Aspectos medulares de la implemen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0A5C6-0CA5-4DD2-81C0-E831115DB53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765000"/>
            <a:ext cx="8964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ón asoci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e los servicios por parte de l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Municipalidades: una Municipalidad puede proporcionar un servicio para todo el ámbito territorial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superar la fragmentación, garantizar la cobertura, racionalizar la oferta, igualdad de oportunida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stión integr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rvicios municipales – servicios de salud (para lo cual se suscribe un “Acuerdo de Programa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stión deleg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organizaciones del tercer sector (ya en la fase de redacción del Plan se suscribe un “Pacto de participación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icitacion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para proy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rticulación con otros planes regionales y 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ol central de la Secretaría d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forme anual y ajustes a la progra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talia: algunos da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8224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59 millones de habi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ritorio 301,340 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esencia de minorías étnicas : alemanes, eslovenos, otr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ngua: italiano, más minoría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DH: lugar 25. a nivel mund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IB:  9. lugar en el mun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dice de Gini: 0.34 (2004: 0.33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sempleo: 12.7% (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oblación bajo línea pobreza: 16.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cidencia migrantes: apróx. 8.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egnaposto data 3"/>
          <p:cNvSpPr/>
          <p:nvPr/>
        </p:nvSpPr>
        <p:spPr>
          <a:xfrm>
            <a:off x="457200" y="6356520"/>
            <a:ext cx="2128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40BFA-6E9A-4543-9836-999A6D06901D}" type="datetime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29/07/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324000" y="189000"/>
            <a:ext cx="8362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Principales prestaciones en los territo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907920"/>
            <a:ext cx="82296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Estado aún  no ha definido los niveles esenciales y los derechos sociales correspondientes a prestaciones exigibles (existen para salud y educación). Ante esta falta, las Regiones, en sus leyes y planes sociales, han definido las prestaciones básicas que deben ser garantizadas, retomando las indicadas por la Ley 328/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53376-2387-472B-8AC4-1EB03E4E3B1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539640" y="2492280"/>
          <a:ext cx="78678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92280"/>
                    <a:ext cx="78678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Entrada al sistema d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0B0A0-1CC9-4B4B-AEBE-ED7AC207A1E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684360" y="3357720"/>
            <a:ext cx="3743280" cy="2087280"/>
          </a:xfrm>
          <a:prstGeom prst="ellipse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 SOCIAL PROFE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uerta de entrada al sist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AutoShape 5"/>
          <p:cNvCxnSpPr/>
          <p:nvPr/>
        </p:nvCxnSpPr>
        <p:spPr>
          <a:xfrm flipV="1">
            <a:off x="3492360" y="2204640"/>
            <a:ext cx="648360" cy="129600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AutoShape 6"/>
          <p:cNvCxnSpPr/>
          <p:nvPr/>
        </p:nvCxnSpPr>
        <p:spPr>
          <a:xfrm flipV="1">
            <a:off x="3797280" y="2939400"/>
            <a:ext cx="1945440" cy="86436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AutoShape 7"/>
          <p:cNvCxnSpPr/>
          <p:nvPr/>
        </p:nvCxnSpPr>
        <p:spPr>
          <a:xfrm flipV="1">
            <a:off x="4284360" y="3933360"/>
            <a:ext cx="2159640" cy="43272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AutoShape 8"/>
          <p:cNvCxnSpPr/>
          <p:nvPr/>
        </p:nvCxnSpPr>
        <p:spPr>
          <a:xfrm>
            <a:off x="4284360" y="4581000"/>
            <a:ext cx="2159640" cy="7380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0" name="AutoShape 9"/>
          <p:cNvCxnSpPr/>
          <p:nvPr/>
        </p:nvCxnSpPr>
        <p:spPr>
          <a:xfrm>
            <a:off x="3563640" y="5300640"/>
            <a:ext cx="2089800" cy="218160"/>
          </a:xfrm>
          <a:prstGeom prst="straightConnector1">
            <a:avLst/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1" name="AutoShape 10"/>
          <p:cNvSpPr/>
          <p:nvPr/>
        </p:nvSpPr>
        <p:spPr>
          <a:xfrm>
            <a:off x="4211640" y="162864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012000" y="249228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6659640" y="3429000"/>
            <a:ext cx="187308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6588000" y="4292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5796000" y="522936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RV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324000" y="1125360"/>
            <a:ext cx="2303280" cy="14385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ell MT"/>
              </a:rPr>
              <a:t>La cantidad y calidad de los servicios no es homogénea en todo el territorio nac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39528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Principales target y principios de ac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250920" y="907920"/>
            <a:ext cx="8713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servicios que constituyen el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piso básico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prestaciones son en su mayoría de carácter universalista (en diferentes casos el acceso es según nivel de rent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Usuario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 italianos, europeos, extranj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Target prioritario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bres y personas e situación de exclu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fancia y adolesc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amilia, víctimas de violencia y tr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grantes, solicitantes asilo y refugi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scapaci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ultos may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sonas con problemas de salud mental y depende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sonas sin empleo (para la inserción labor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Principios comu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moción de la autonomía, promoción social, personalización, atención domiciliaria o en centros, valorización de la familia, prevención, integración (sectores social, sanitario, educativo, ocupacional), subsidiariedad y complementariedad público-privado, mix prestaciones monetarias – servic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52138-0E4E-42EC-892F-241EE5CC674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30294-6334-4657-9B82-FDF1DF66AE0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Object 2"/>
          <p:cNvGraphicFramePr/>
          <p:nvPr/>
        </p:nvGraphicFramePr>
        <p:xfrm>
          <a:off x="177840" y="1200240"/>
          <a:ext cx="504648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00240"/>
                    <a:ext cx="504648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"/>
          <p:cNvGraphicFramePr/>
          <p:nvPr/>
        </p:nvGraphicFramePr>
        <p:xfrm>
          <a:off x="4356000" y="333360"/>
          <a:ext cx="4680000" cy="626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33360"/>
                    <a:ext cx="46800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Conclusiones sobre planificación y coordinació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216000" y="177156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, no programas o proye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RITORIALIZADO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pertinencia, subsidiariedad) 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LTI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iveles esenciales prest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ANIFICACIÓN PLURI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GRACIO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 monte, non a valle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es más difícil integrar lo que ha nacido por vías paralelas / es más fácil integra y coordinarse cuando se planifica conjuntamen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COMU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ordinación a través de las Secretarías generales y puertas únicas de entrada a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86D49-0E22-4AF0-839B-036E36D8277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Reducción dramática de los financiamientos nacionales (sin federalismo fisc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alta de definición nacional de los niveles esenciales de las prest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Falta de un fuerte rol central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El sistema nacional depende mucho de las capacidades (políticas, financieras y técnicas) de los actores loc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ersiste una alta fragmentación de medidas y prestaciones, sobre todo de carácter nacional, de tipo sectorial y categorial y monet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Tendencia a la concentración en la vulnerabilidad so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uto referencialidad como tendencia de muchas institu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uperposición de planes europeos y nacion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s regiones italiana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talia está dividida en 20 regio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s regiones tienen autonomía estatutaria, legislativa, reglamentaria y financi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s regiones italiana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2263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s regiones tienen competencias exclusivas o complementarias en todas las materias, excluídas las que corresponden únicamente al Est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edan por lo tanto excluídas Política Exterior, Inmigración, Defensa, Orden Público, Administración del Estado, Educación, Seguridad Nacional, Fronteras, Finanzas Públicas, Elecciones, Seguridad Social, Aduanas, Derechos civiles y sociales, Medio Ambi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567160" y="0"/>
            <a:ext cx="5281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567160" y="0"/>
            <a:ext cx="52815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Ovale 4"/>
          <p:cNvSpPr/>
          <p:nvPr/>
        </p:nvSpPr>
        <p:spPr>
          <a:xfrm rot="21266400">
            <a:off x="3346200" y="1020600"/>
            <a:ext cx="1968480" cy="1328760"/>
          </a:xfrm>
          <a:prstGeom prst="ellipse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ile:Mappa stranieri in Italia per paese d'origine.png"/>
          <p:cNvPicPr/>
          <p:nvPr/>
        </p:nvPicPr>
        <p:blipFill>
          <a:blip r:embed="rId1"/>
          <a:stretch/>
        </p:blipFill>
        <p:spPr>
          <a:xfrm>
            <a:off x="0" y="571680"/>
            <a:ext cx="978696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571680" y="0"/>
            <a:ext cx="1043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9:29:15Z</dcterms:created>
  <dc:creator>Francesco Maria FMC. Chiodi</dc:creator>
  <dc:description/>
  <dc:language>en-US</dc:language>
  <cp:lastModifiedBy>Valued Acer Customer</cp:lastModifiedBy>
  <dcterms:modified xsi:type="dcterms:W3CDTF">2014-03-28T15:24:51Z</dcterms:modified>
  <cp:revision>402</cp:revision>
  <dc:subject/>
  <dc:title>Diapositiva 1</dc:title>
</cp:coreProperties>
</file>