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53849-001D-43D0-85EA-94B867D49F0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6017-67B0-49C3-AF3C-D7791443320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7B4C9-5C3D-49C7-8E9C-FCD6B8781AE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3D7F7-3D80-429C-89DD-E25084A0946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D79EE-4CEE-4390-ABE1-FACE7129E99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0ABE5-FEDA-4346-ABD3-383AB239107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18EC1-0EF8-4D47-B9F0-502724A65B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3A1B9-906C-47AD-A9F6-CEB77C58A92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A3DD5-17AD-43E8-A1B4-BA2A91F0785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4DC41-84FF-4CA9-9FD0-7C6AA2F0DE9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321AD-CE70-4429-BF45-FACB52FD184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43A71-E228-4883-9359-2D67A8DBF48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2C41C-7FD0-4A25-806C-BB91E996750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C66B1-FCF7-459F-A8B1-0244DEF8040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E6ED2-C5A3-4B08-9933-CA8F37428A0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8BCF6-8C2A-404F-96F3-6ACCE4660FC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3642A-87DF-4BDB-8377-4E18061EDD6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5E60-803D-4B85-A89C-DD78403A8C2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C040B-F2FE-4507-A750-F8422E4B855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D7BE4-F87A-4202-8714-C5FDD43085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F5AFE-4002-44A2-ACF5-42A2A5B352C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ABF39-C6F8-49EB-AE41-D7BF2FAE1A0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838A0-B95D-46CE-B822-CDB011346B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3903-05EA-44AB-821D-8C7B8EA14FB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D110-E7FA-4226-974D-2C27FD51FAE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C7D76-FEC6-455C-A4A3-7AF69BD1DE2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BC89E-D1BF-4066-B0EE-EF008D0FBEA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482BA-987C-41EF-943A-2071809AE7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84196-7940-4FBE-8D57-726B346A0D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A6AD8-657B-477E-B5D0-BC63BF28EB6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7D096-487B-471C-977B-0D7BB79AB62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0856E-D5C9-4128-8BC4-5942B96B086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B97C8-EA05-4857-955B-46683926B81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atos preliminares del monitoreo  2013 de los planes sociales territoriales realizado por ISFOL, Ministero del Lavoro e Politiche Sociali – Direzione Generale per il Terzo settore e le formazioni sociali, Fondo Sociale Europe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256B8-A939-493E-B4CE-E620D5F30D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7A3F-FBF0-4664-A80B-37711394BD2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Ranci Ortigosa, Emanuele, 2013, “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Le nostre proposte per una riforma delle politiche sociali attuale e attuabile”,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nencia presentada en el seminario </a:t>
            </a:r>
            <a:r>
              <a:rPr b="0" i="1" lang="it-IT" sz="1100" spc="-1" strike="noStrike">
                <a:solidFill>
                  <a:srgbClr val="000000"/>
                </a:solidFill>
                <a:latin typeface="Calibri"/>
              </a:rPr>
              <a:t>Costruiamo il welfare di domani</a:t>
            </a: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Milano 26 Settembre 2013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Nel 2011: 67 miliardi, il 4,28% del Pil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54 miliardi, pari al 80% del totale, sono assorbiti da programmi nazionali e detrazioni fiscali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Tre settori: famiglia, non autosufficienza e disabilità, povertà, di peso simile, rispettivamente di 21, 24, 18 miliardi circ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A Comuni, Regioni ed altri enti solo 8,5 miliardi, quasi il 14% del totale, per servizi e anche erogazioni monetarie. Nel federalismo fiscale si sono considerate solo queste risorse!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5 miliardi è la stima della spesa sociosanitaria per la non autosufficenza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---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isoccupazione al 12% (+1,3% sul 2012); giovanile al 39,5% (+4,3% sul 2012). In un anno 325mila disoccupati in pi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Cassa integrazione in aumento: autorizzate 75,3 milioni di ore, tra interventi ordinari, straordinari e in deroga (+12,4% sul 2012)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Oneri crescenti su famiglie: +1.492 euro a famiglia (Imu, alimentari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iduzione consumi: - 7,3% spesa delle famiglie rispetto al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Impoverimento diffuso: persone in povertà assolut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4,1% nel 2005; 8% nel 2012, 4.800.000, 1 persona ogni 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iseguaglianze crescenti (Gini: 0,323 per redditi, 0,613 per ricchezza, sesto per entità delle diseguaglianze fra 30 paesi Ocse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F76ED-8897-4BD6-A066-606A5DC944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E4355-80EC-4A3A-B01B-BCEC400B771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3A0F5-4B04-4B9E-86E3-28A7FEFB488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CFFF0-BD3C-46EF-9B47-78E5B08DECD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0F8F0-0F50-4021-9DAD-C063366134C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912B8-DCE2-4F26-8D11-AFAD7466BC3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E9571-C182-45E4-BEED-D423E0BE88F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3BA68-7BAD-4330-B015-3D6B8DB4C77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41A6-BC0F-4AAB-A484-3DC5ACCEB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A836-93D2-428E-9062-F638E624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ACB2-BAB4-4D13-A3C5-840945D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373A-77CA-4545-AA34-2C519F9ED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B274-4A74-42D3-A8EA-7E20779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2B75-A362-43DF-87EC-269009E8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6195-54CF-425F-BF23-E4E2A3B8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AD18-AD46-480B-A7A5-F7159E9E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2975-45D2-4A44-97F7-05860466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2964-308C-452C-8B30-4EEE52F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ACEB-832D-4EBB-A830-9E41D2A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B998-8DF9-4E19-B8B8-7EE39F38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4254EB-4FA7-439D-B66B-E35FF8FC1364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A8B154-A723-4B65-B83A-EE805959A7EA}" type="slidenum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2274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dimensión territorial en los servicios sociales y las políticas de inclusión: el caso ital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266920" cy="628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440000" y="5616720"/>
            <a:ext cx="619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ntación: Dario Co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os: Dario Conato y Francesco Chio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08000" y="189000"/>
            <a:ext cx="87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1. El marco de competencias</a:t>
            </a:r>
            <a:br>
              <a:rPr sz="2400"/>
            </a:br>
            <a:r>
              <a:rPr b="1" lang="es-ES" sz="1800" spc="-1" strike="noStrike">
                <a:solidFill>
                  <a:srgbClr val="ffcc00"/>
                </a:solidFill>
                <a:latin typeface="Arial"/>
                <a:ea typeface="Arial"/>
              </a:rPr>
              <a:t>(notas básicas sobre el sistema socio asistencial italia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00040" y="1714680"/>
            <a:ext cx="8229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servicios socio-asistenciales se dan a niv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territor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son de competencia y responsabilidad de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unicip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 un amplio abanico prestaciones sociales de tipo monetario reguladas y proporcionadas por 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4E7A0-6873-419E-9E60-840F45955B8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Marco de competencias según la Constitució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836640"/>
            <a:ext cx="822960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stitución italiana asigna a las Regiones el poder legislativo en materia socio-asist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as funciones administrativas son atribuidas a las Municip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ado, Regiones, Ciudades metropolitanas, Provincias y Municipalidades favorecen la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utónoma iniciativa de los ciudadanos, individuos y asociad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ubsidiariedad horizo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Estado debe determinar lo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niveles esenciales de las prestacion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referidas a los derechos civiles y sociales que deben ser garantizados en todo el territorio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0A68F-A6E3-48B9-8B48-30252D8C106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08000" y="274680"/>
            <a:ext cx="8856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Articulación competencias Estado / niveles sub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7346F-E14D-4457-90EF-6F58E2A470E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territoriales integr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yes y políticas reg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iveles esenciales de las pres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iso mínimo obligatorio en todo el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0" y="4581360"/>
            <a:ext cx="176364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s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0" y="2781360"/>
            <a:ext cx="176364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Reg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0" y="1125360"/>
            <a:ext cx="176364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unicipa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0800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Funciones de los tres niveles de gobi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ABADC-1B48-4A4F-ABB7-60AE4949A30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765000"/>
            <a:ext cx="8713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Calibri"/>
                <a:ea typeface="Arial"/>
              </a:rPr>
              <a:t>El territorio es la unidad de referencia para la programación y la gestión del </a:t>
            </a:r>
            <a:r>
              <a:rPr b="0" lang="it-IT" sz="1800" spc="-1" strike="noStrike">
                <a:solidFill>
                  <a:srgbClr val="0070c0"/>
                </a:solidFill>
                <a:latin typeface="Calibri"/>
                <a:ea typeface="Arial"/>
              </a:rPr>
              <a:t>sistema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(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 territorio asegura la pertinencia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mbient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de las respuestas). Los servicios, por tanto, son brindados a nivel de ámbito territorial en el marco de una organización que prevé los siguientes ro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Calibri"/>
                <a:ea typeface="Arial"/>
              </a:rPr>
              <a:t>Municip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ación, diseño y gestión del sistema local de servicios + evalu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visión  directa o delegada de los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oordinación interinstitu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Autorización, acreditación y supervisión centros pri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moción de la participación ciudad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Arial"/>
              </a:rPr>
              <a:t>Reg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Legislación, directrices y coord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lanes sociales regionales (que enmarcan la programación de los sistemas locale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finición requisitos y tipología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  <a:ea typeface="Arial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Niveles esenciales de las pres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Ley 328/2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 la Ley marco para la realización del sistema de acciones y servicios soc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ilosofía de la ley 3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perar el concepto preminentemente asistencialista de la acción social: el ciudadano no es solament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usuario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no qu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actor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n tant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titular de derecho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IPOS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yectos individuales para personas con discapa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oyo domiciliario a personas mayores no autosufic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rovechamiento de y apoyo a las responsabilidade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misión de cheques de cu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líticas para conciliar tiempo de trabajo y tiempo de cuido o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IPOS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9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stén a los padres, también a través de la promoción del apoyo mutuo entre famil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oyo domicilliario para familias que ofrecen acogida, asistencia a discapacitados físicos, psíquicos y sensoriales, personas en dificultad, menores, anci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rvicios de “alivio”, para acompañar a las familias en el cuido demiembros necesi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gogida y socialización en estructuras residenciales y semi-residenciales de las personas que no pueden recibir atención domicili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oyo al cuido de crianz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(formació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OS B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municipallidades pueden ofrecer bonos no rembolsables o préstamos de honor (tasa cero)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úcleos con un solo pa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ujeres embarazadas en dificult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milias con miembros no autosuficientes en dificultades 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migrados recientes con dificultades de inserción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ASAS Y TARIF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municipalidades también pueden aplicar a las categorías mencionadas descuentos en las tasas y tarif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720720" y="1871640"/>
            <a:ext cx="75596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RES ELEMENTOS DE CONTEX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Membresía en la Unión Europea  (adhesión a un marco común de referencia y vínculo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SzPct val="102909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forma de las políticas sociales (Ley 328/2000 Sistema integrado de servicios e intervenciones social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51"/>
              </a:spcBef>
              <a:buSzPct val="102909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forma constitucional del 2001 (nuevo sistema de competenci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Niveles esenciales de las prestaciones</a:t>
            </a: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 según la ley de reforma 328/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68360" y="1197000"/>
            <a:ext cx="82296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Las medidas, servicios e intervenciones señaladas deben traducirse a nivel territorial, 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servicios sociales profesionales y secretariado social para la información y asesoría al individuo y núcleos familia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servicios de primer auxilio social para situaciones de emergencia personales y familia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atención domiciliaria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estructuras residenciales y semi residenciales para personas con fragilidades social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centros de acogida residenciales o diurnos de carácter comunitari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74CA3-0632-4096-8D5B-1BD87E3B762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l FN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ley 328/2000 establece un Fondo Nacional para las Políticas y Acciones Soc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 Fondo co-financia Planes Sociales Regionales y Planes Sociales de Zona para la inclusión y el mejoramiento de la calidad de v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ENEFICI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italianos y su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de la UE y su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extra-comunit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fugiados y apátr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32400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3. Planificación de los sistemas integrados de servicios territoriales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692280"/>
            <a:ext cx="8425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0B946-3BE6-4FE4-A18A-EA3D7586083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539640" y="1440000"/>
            <a:ext cx="392436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as Regiones legiferan y definen sus Plan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08360" y="2808360"/>
            <a:ext cx="3743640" cy="2519280"/>
          </a:xfrm>
          <a:prstGeom prst="rect">
            <a:avLst/>
          </a:prstGeom>
          <a:solidFill>
            <a:srgbClr val="dce6f2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s Municipalidades asociadas en ámbitos territoriales planifican su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lanes territoriales triena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Un plan es la expresión de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b050"/>
                </a:solidFill>
                <a:latin typeface="Calibri"/>
                <a:ea typeface="Arial"/>
              </a:rPr>
              <a:t>sistema territorial integrado de intervenciones y servicio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AutoShape 6"/>
          <p:cNvCxnSpPr>
            <a:stCxn id="104" idx="2"/>
            <a:endCxn id="105" idx="1"/>
          </p:cNvCxnSpPr>
          <p:nvPr/>
        </p:nvCxnSpPr>
        <p:spPr>
          <a:xfrm flipH="1" rot="16200000">
            <a:off x="2815560" y="2277000"/>
            <a:ext cx="1477080" cy="210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5CCED-CA72-4915-A8B2-1C86E7AB81F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24000" y="333360"/>
            <a:ext cx="8820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servicios y a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servicios y acciones se harmonizan en sistemas locales diseñados a través de planes territo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políticas e instituciones sectori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convergencia alrededor de los objetivos de las diferentes instituciones, en particular los servicios socio asistenciales y los servicios sani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público y priv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las políticas y los planes involucran aportes privados y del “privado soci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fond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un plan territorial es financiado por diferentes fuentes públicas (multi-niv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079640" y="1125360"/>
            <a:ext cx="752472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Ámbitos territorial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DF74D-4906-42FE-A493-7E527FC74B7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3348000" cy="35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067280" y="981000"/>
            <a:ext cx="4838760" cy="5616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250920" y="5373720"/>
            <a:ext cx="4033800" cy="12240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Ámbito territorial del Sebino  (12 Municipalida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nicipalidad líder:  Is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AutoShape 6"/>
          <p:cNvCxnSpPr/>
          <p:nvPr/>
        </p:nvCxnSpPr>
        <p:spPr>
          <a:xfrm>
            <a:off x="5580000" y="3284280"/>
            <a:ext cx="434160" cy="649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"/>
          <p:cNvSpPr/>
          <p:nvPr/>
        </p:nvSpPr>
        <p:spPr>
          <a:xfrm>
            <a:off x="0" y="765000"/>
            <a:ext cx="37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unicipios asoci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cumple la función de jefe de fila o lí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516720" y="404640"/>
            <a:ext cx="2303280" cy="576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isten en 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635 ámb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145AB-84C1-4A49-BBB9-97979E8E635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Las f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9280" y="765000"/>
            <a:ext cx="896472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Caso Región Pug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conforma l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amblea de consorci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Municipalidades asoci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cretaría general del Plan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grupo de trabajo con mandato de coordin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1  publica la información sobre puesta en marcha del proceso de planif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2  instituye y coordina las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sas de concertación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emáticas) con los actores del territorio (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tre Municipalidades, servicios e instituciones -sobre todo del sector salud -, organizaciones del tercer sector (consulta y/o codis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3  elabora el  Plan social territorial, de acuerdo con las líneas del Plan reg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4  convoca la Conferencia de Servicios por mandato de la Asambl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alización de l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ferencia de Servicio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a la aprobación del Plan (participan: Municipalidades, Servicio de Salud, Provincia, Región, otros acto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inanciamiento y puesta en marcha del Plan (tres añ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645240" y="1322280"/>
            <a:ext cx="240660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58760" y="1322280"/>
            <a:ext cx="2413080" cy="14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3187800" y="1249200"/>
            <a:ext cx="2914560" cy="16956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2556000" y="1916280"/>
            <a:ext cx="649080" cy="2872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6012000" y="1916280"/>
            <a:ext cx="647640" cy="287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378000" y="165240"/>
            <a:ext cx="176184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0"/>
          <p:cNvSpPr/>
          <p:nvPr/>
        </p:nvSpPr>
        <p:spPr>
          <a:xfrm rot="5400000">
            <a:off x="871560" y="1089000"/>
            <a:ext cx="64944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539640" y="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Estructura de un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D07FE-8DFA-48E4-8520-A310CA413CC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765000"/>
            <a:ext cx="6516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libri"/>
                <a:ea typeface="Arial"/>
              </a:rPr>
              <a:t>ANALISIS DEL CONTEXTO Y DEL SISTEMA DE OFFERT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PRIORIDADES ESTRATEGIC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STRATEGIA DEL AMBITO TERRITORIA PARA CONSOLIDAR EL SISTEMA DEL WELFARE LO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OBJETIVOS SE SERVI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NLACE ENTRE PLANIFICACIÓN ORDINARIA Y OTROS PLANES Y RECURS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RECURSOS ORDINARIOS (FNPS, FNA, FGS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RECURSOS ADI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OFINANCIAMIENTO MUNICIP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LOS ACTORES DEL SISTEMA DE WELFARE 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STRUCTURA ORGANIZATIVA Y DE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SISTEMA DE GOVER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FICHAS DE INTERVENCIONES Y OBJETIVOS DE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443640" y="765000"/>
            <a:ext cx="2521080" cy="52045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  <a:ea typeface="Times New Roman"/>
              </a:rPr>
              <a:t>Secretaría ge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structura organizativa de gestión y coordin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nálisis de la demanda del territorio y de la capacidad de respues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ordinación del proceso de concertación y codis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dacción del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técnica y administr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lancia de la integración socio sanitaria y de la articulación con otros 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sistencia técnica a los servicios y entidades que implemen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es de avances y ajustes a la pla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AutoShape 5"/>
          <p:cNvCxnSpPr/>
          <p:nvPr/>
        </p:nvCxnSpPr>
        <p:spPr>
          <a:xfrm>
            <a:off x="-360" y="2565000"/>
            <a:ext cx="469080" cy="3960"/>
          </a:xfrm>
          <a:prstGeom prst="straightConnector1">
            <a:avLst/>
          </a:prstGeom>
          <a:ln cap="sq" w="255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data 1"/>
          <p:cNvSpPr/>
          <p:nvPr/>
        </p:nvSpPr>
        <p:spPr>
          <a:xfrm>
            <a:off x="457200" y="63565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8E2B8-39CF-4135-966C-5FAF4313B697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Aspectos medulares de la implemen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51F99-8597-4FAD-BEE4-9246D75A0CE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765000"/>
            <a:ext cx="8964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asoci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e los servicios por parte de l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unicipalidades: una Municipalidad puede proporcionar un servicio para todo el ámbito territorial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superar la fragmentación, garantizar la cobertura, racionalizar la oferta, igualdad de oportunida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stión integr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s municipales – servicios de salud (para lo cual se suscribe un “Acuerdo de Programa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stión deleg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organizaciones del tercer sector (ya en la fase de redacción del Plan se suscribe un “Pacto de participación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cita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ara proy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iculación con otros planes regionales y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l central de la Secretaría d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forme anual y ajustes a la progra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talia: algunos da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59 millones de habi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ritorio 301,340 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esencia de minorías étnicas : alemanes, eslovenos, otr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ngua: italiano, más minoría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DH: lugar 25. a nivel mund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IB:  9. lugar en el mu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dice de Gini: 0.34 (2004: 0.3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sempleo: 12.7% (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oblación bajo línea pobreza: 16.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cidencia migrantes: apróx. 8.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gnaposto data 3"/>
          <p:cNvSpPr/>
          <p:nvPr/>
        </p:nvSpPr>
        <p:spPr>
          <a:xfrm>
            <a:off x="457200" y="63565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00D40-5657-45DF-BEFF-3DF4B4177F8B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324000" y="189000"/>
            <a:ext cx="8362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Principales prestaciones en los territo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9079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Estado aún  no ha definido los niveles esenciales y los derechos sociales correspondientes a prestaciones exigibles (existen para salud y educación). Ante esta falta, las Regiones, en sus leyes y planes sociales, han definido las prestaciones básicas que deben ser garantizadas, retomando las indicadas por la Ley 328/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FE4F4-4C20-4F9F-8909-4763ED2245B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539640" y="2492280"/>
          <a:ext cx="7867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7867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Entrada al sistema d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1B4A1-3851-443F-90EB-EE94520560E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684360" y="3357720"/>
            <a:ext cx="3743280" cy="2087280"/>
          </a:xfrm>
          <a:prstGeom prst="ellipse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 SOCIA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uerta de entrada al sist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AutoShape 5"/>
          <p:cNvCxnSpPr/>
          <p:nvPr/>
        </p:nvCxnSpPr>
        <p:spPr>
          <a:xfrm flipV="1">
            <a:off x="3492360" y="2204640"/>
            <a:ext cx="648360" cy="129600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AutoShape 6"/>
          <p:cNvCxnSpPr/>
          <p:nvPr/>
        </p:nvCxnSpPr>
        <p:spPr>
          <a:xfrm flipV="1">
            <a:off x="3797280" y="2939400"/>
            <a:ext cx="1945440" cy="8643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AutoShape 7"/>
          <p:cNvCxnSpPr/>
          <p:nvPr/>
        </p:nvCxnSpPr>
        <p:spPr>
          <a:xfrm flipV="1">
            <a:off x="4284360" y="3933360"/>
            <a:ext cx="2159640" cy="43272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AutoShape 8"/>
          <p:cNvCxnSpPr/>
          <p:nvPr/>
        </p:nvCxnSpPr>
        <p:spPr>
          <a:xfrm>
            <a:off x="4284360" y="4581000"/>
            <a:ext cx="2159640" cy="7380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AutoShape 9"/>
          <p:cNvCxnSpPr/>
          <p:nvPr/>
        </p:nvCxnSpPr>
        <p:spPr>
          <a:xfrm>
            <a:off x="3563640" y="5300640"/>
            <a:ext cx="2089800" cy="2181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1" name="AutoShape 10"/>
          <p:cNvSpPr/>
          <p:nvPr/>
        </p:nvSpPr>
        <p:spPr>
          <a:xfrm>
            <a:off x="4211640" y="162864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012000" y="249228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6659640" y="342900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588000" y="4292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96000" y="522936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24000" y="1125360"/>
            <a:ext cx="2303280" cy="14385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ll MT"/>
              </a:rPr>
              <a:t>La cantidad y calidad de los servicios no es homogénea en todo el territorio n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Principales target y principios de ac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50920" y="90792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servicios que constituyen el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piso básico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prestaciones son en su mayoría de carácter universalista (en diferentes casos el acceso es según nivel de rent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Usu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 italianos, europeos, extranj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Target priorit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bres y personas e situación de excl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fancia y adolesc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milia, víctimas de violencia y tr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grantes, solicitantes asilo y refugi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capaci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ultos may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con problemas de salud mental y depende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sin empleo (para la inserción labo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Principios comu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moción de la autonomía, promoción social, personalización, atención domiciliaria o en centros, valorización de la familia, prevención, integración (sectores social, sanitario, educativo, ocupacional), subsidiariedad y complementariedad público-privado, mix prestaciones monetarias – servic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BCFC1-1D55-4622-8161-2187C875905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F37FF-3F16-4098-807D-05A79C6940F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177840" y="1200240"/>
          <a:ext cx="504648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00240"/>
                    <a:ext cx="504648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"/>
          <p:cNvGraphicFramePr/>
          <p:nvPr/>
        </p:nvGraphicFramePr>
        <p:xfrm>
          <a:off x="4356000" y="333360"/>
          <a:ext cx="4680000" cy="626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33360"/>
                    <a:ext cx="4680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Conclusiones sobre planificación y coordinació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216000" y="177156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, no programas o proye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RITORIALIZADO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pertinencia, subsidiariedad) 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LTI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iveles esenciales pres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NIFICACIÓN PLURI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GRACIO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 monte, non a valle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es más difícil integrar lo que ha nacido por vías paralelas / es más fácil integra y coordinarse cuando se planifica conjuntamen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CO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ordinación a través de las Secretarías generales y puertas únicas de entrada a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24988-8C3B-4C62-8EDB-A9FAAC66BAB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ducción dramática de los financiamientos nacionales (sin federalismo fis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lta de definición nacional de los niveles esenciales de las prest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lta de un fuerte rol central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l sistema nacional depende mucho de las capacidades (políticas, financieras y técnicas) de los actores loc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rsiste una alta fragmentación de medidas y prestaciones, sobre todo de carácter nacional, de tipo sectorial y categorial y mone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ndencia a la concentración en la vulnerabilidad so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uto referencialidad como tendencia de muchas institu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uperposición de planes europeos y nacion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s regiones italiana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talia está dividida en 20 regi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regiones tienen autonomía estatutaria, legislativa, reglamentaria y financi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s regiones italiana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2263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s regiones tienen competencias exclusivas o complementarias en todas las materias, excluídas las que corresponden únicamente al Est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edan por lo tanto excluídas Política Exterior, Inmigración, Defensa, Orden Público, Administración del Estado, Educación, Seguridad Nacional, Fronteras, Finanzas Públicas, Elecciones, Seguridad Social, Aduanas, Derechos civiles y sociales, Medio Amb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67160" y="0"/>
            <a:ext cx="5281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56716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Ovale 4"/>
          <p:cNvSpPr/>
          <p:nvPr/>
        </p:nvSpPr>
        <p:spPr>
          <a:xfrm rot="21266400">
            <a:off x="3346200" y="1020600"/>
            <a:ext cx="1968480" cy="1328760"/>
          </a:xfrm>
          <a:prstGeom prst="ellipse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ile:Mappa stranieri in Italia per paese d'origine.png"/>
          <p:cNvPicPr/>
          <p:nvPr/>
        </p:nvPicPr>
        <p:blipFill>
          <a:blip r:embed="rId1"/>
          <a:stretch/>
        </p:blipFill>
        <p:spPr>
          <a:xfrm>
            <a:off x="0" y="571680"/>
            <a:ext cx="978696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571680" y="0"/>
            <a:ext cx="1043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9:29:15Z</dcterms:created>
  <dc:creator>Francesco Maria FMC. Chiodi</dc:creator>
  <dc:description/>
  <dc:language>en-US</dc:language>
  <cp:lastModifiedBy>Valued Acer Customer</cp:lastModifiedBy>
  <dcterms:modified xsi:type="dcterms:W3CDTF">2014-03-28T15:24:51Z</dcterms:modified>
  <cp:revision>402</cp:revision>
  <dc:subject/>
  <dc:title>Diapositiva 1</dc:title>
</cp:coreProperties>
</file>