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C767-682B-4DB5-A7A5-630B779AF4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881520" y="8685360"/>
            <a:ext cx="2976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28D0D49D-FB1A-4606-9B20-8831CBB8CCA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2C0-517F-4DC7-A297-65070C6B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67A-6288-4B9C-AFF2-72A1BF23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0D9-9610-47DE-837A-1792C4ED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0C3-2F04-481A-91A9-41BCAAB9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40D-AE92-4A83-8696-05B27C35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964-24AC-4D32-9C81-B4A20E3C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222-175A-495A-AF90-2479BFDA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9EE-31AB-4E0F-BB5F-70C75B1A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DD7-4799-4B19-AAA4-3BD19C25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837-EBD6-4FD0-A6B4-380F768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C50-8BDB-415D-9385-7D76DA7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7D4-378B-4DB3-B454-FB72D1B1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B8E3-F67F-44CB-A0F5-5EEB180AA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558ed5"/>
                </a:solidFill>
                <a:latin typeface="Arial"/>
              </a:rPr>
              <a:t>El Modelo de Gestión Territorial de la Protección Social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558ed5"/>
                </a:solidFill>
                <a:latin typeface="Arial"/>
              </a:rPr>
              <a:t>Ministerio de Desarrollo Social - Uruguay</a:t>
            </a:r>
            <a:br>
              <a:rPr sz="3200"/>
            </a:br>
            <a:br>
              <a:rPr sz="3200"/>
            </a:br>
            <a:r>
              <a:rPr b="1" lang="es-UY" sz="3000" spc="-1" strike="noStrike">
                <a:solidFill>
                  <a:srgbClr val="004586"/>
                </a:solidFill>
                <a:latin typeface="Arial"/>
              </a:rPr>
              <a:t>Dirección Nacional de Gestión Territorial</a:t>
            </a:r>
            <a:br>
              <a:rPr sz="3000"/>
            </a:br>
            <a:r>
              <a:rPr b="1" lang="es-UY" sz="3200" spc="-1" strike="noStrike">
                <a:solidFill>
                  <a:srgbClr val="004586"/>
                </a:solidFill>
                <a:latin typeface="Arial"/>
              </a:rPr>
              <a:t>Lic. Martín Rodríguez</a:t>
            </a:r>
            <a:br>
              <a:rPr sz="3200"/>
            </a:br>
            <a:r>
              <a:rPr b="1" lang="es-UY" sz="3200" spc="-1" strike="noStrike">
                <a:solidFill>
                  <a:srgbClr val="004586"/>
                </a:solidFill>
                <a:latin typeface="Arial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00360" y="3067200"/>
            <a:ext cx="573696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000240" y="5153040"/>
            <a:ext cx="378648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58ed5"/>
                </a:solidFill>
                <a:latin typeface="Arial"/>
              </a:rPr>
              <a:t>Los dispositivos territoriales: “puertas de entrada” y “eternos demandan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7929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43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dispositivos territoriales: son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 punto de encuentro entre el conjunto de programas y acciones del MIDES y la ciudadan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plen la función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ción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ención Ciuda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nculo con los programas (difusión, información, inscripción, derivación, registro, apoyo a la implement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guimient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ormación de redes locales de protecc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ística global del MIDES en su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El despliegue territorial en cifras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000760" y="6143760"/>
            <a:ext cx="3786120" cy="4442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9 Direcciones Departamentales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5 Oficinas Territoriale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x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80 funcionari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técnicos y administrativos) dependientes de estos servicios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5 Servicios de Orientación, Consulta y Articulación Territorial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SOCAT) ejecutados a través de OSC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ox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250 técnicos 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4586"/>
                </a:solidFill>
                <a:latin typeface="Calibri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5000760" y="6143760"/>
            <a:ext cx="3786120" cy="4442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3"/>
          <p:cNvSpPr>
            <a:spLocks noGrp="1"/>
          </p:cNvSpPr>
          <p:nvPr>
            <p:ph type="title"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4295880" cy="3009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4786200" y="1285920"/>
            <a:ext cx="4143600" cy="3243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357120" y="3571920"/>
            <a:ext cx="420048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558ed5"/>
                </a:solidFill>
                <a:latin typeface="Arial"/>
              </a:rPr>
              <a:t>Las consultas atendid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28440" y="1143000"/>
            <a:ext cx="65372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431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pic>
        <p:nvPicPr>
          <p:cNvPr id="182" name="3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801036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4586"/>
                </a:solidFill>
                <a:latin typeface="Arial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64659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5000760" y="6143760"/>
            <a:ext cx="3786120" cy="444240"/>
          </a:xfrm>
          <a:prstGeom prst="rect">
            <a:avLst/>
          </a:prstGeom>
          <a:ln w="0">
            <a:noFill/>
          </a:ln>
        </p:spPr>
      </p:pic>
      <p:pic>
        <p:nvPicPr>
          <p:cNvPr id="192" name="Chart 7" descr=""/>
          <p:cNvPicPr/>
          <p:nvPr/>
        </p:nvPicPr>
        <p:blipFill>
          <a:blip r:embed="rId2"/>
          <a:stretch/>
        </p:blipFill>
        <p:spPr>
          <a:xfrm>
            <a:off x="493560" y="1133640"/>
            <a:ext cx="8083800" cy="47307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3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bbe0e3"/>
                </a:solidFill>
                <a:latin typeface="Arial"/>
              </a:rPr>
              <a:t>Principales motivos de consu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629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Los desafíos de la gestión terri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55280" y="907920"/>
            <a:ext cx="745812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eterna discusión polí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ensión centralidad – territori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¿Comunicación entre niveles?¿Qué márgenes para la innovación a nivel local se definirán? ¿Cómo acompasar el aumento de responsabilidades en el territorio con la disminución de los déficits en las capacidad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r y mejorar procesos y metodologías de trabajo en los cuatro pilares del trabajo territor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articulación intra e inter, atención ciudadana y promoción de la particip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r un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y recursos huma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acordes a las necesidades de un servicio de calidad (recursos limitados y escasez de oferta profesional en zonas perifér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629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Los desafíos de la gestión terri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16000" y="1557360"/>
            <a:ext cx="6480360" cy="36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ción/articulación interinstitucion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trabajo intersectorial como camino a intervenciones integrales, problemas de comunicación vertical, dificultad de lograr posiciones institucionales comunes en diferentes niveles de gestión, incentivos para el trabajo  asoci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participación social se gestion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¿en qué etapa del ciclo de la política social? ¿En qué áreas de política? ¿Con qué instrument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629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UY" sz="4000" spc="-1" strike="noStrike">
              <a:solidFill>
                <a:srgbClr val="558ed5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32000" y="1989000"/>
            <a:ext cx="64800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¡Muchas graci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ic. Martín Rodríguez Araú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rector Nacional de Gestión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rtinrodriguez@mides.gub.u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Arial"/>
              </a:rPr>
              <a:t>Urugu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pic>
        <p:nvPicPr>
          <p:cNvPr id="65" name="12 Imagen" descr="http://www.uruguayuruguay.com/graphics%20uruguayruguay/bandera-uruguay.jpg"/>
          <p:cNvPicPr/>
          <p:nvPr/>
        </p:nvPicPr>
        <p:blipFill>
          <a:blip r:embed="rId2"/>
          <a:stretch/>
        </p:blipFill>
        <p:spPr>
          <a:xfrm>
            <a:off x="755640" y="981000"/>
            <a:ext cx="2352600" cy="1569960"/>
          </a:xfrm>
          <a:prstGeom prst="rect">
            <a:avLst/>
          </a:prstGeom>
          <a:ln w="0">
            <a:noFill/>
          </a:ln>
        </p:spPr>
      </p:pic>
      <p:pic>
        <p:nvPicPr>
          <p:cNvPr id="66" name="13 Imagen" descr="http://karenberger.com.uy/wp-content/themes/karenberger/images/foto-mapa-kb.jpg"/>
          <p:cNvPicPr/>
          <p:nvPr/>
        </p:nvPicPr>
        <p:blipFill>
          <a:blip r:embed="rId3"/>
          <a:stretch/>
        </p:blipFill>
        <p:spPr>
          <a:xfrm>
            <a:off x="5435640" y="83664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7" name="14 Imagen" descr="http://eldiario.com.uy/wp-content/uploads/2012/06/Luis-Suarez-Uruguay.jpg"/>
          <p:cNvPicPr/>
          <p:nvPr/>
        </p:nvPicPr>
        <p:blipFill>
          <a:blip r:embed="rId4"/>
          <a:stretch/>
        </p:blipFill>
        <p:spPr>
          <a:xfrm>
            <a:off x="539640" y="2637000"/>
            <a:ext cx="2702160" cy="1746000"/>
          </a:xfrm>
          <a:prstGeom prst="rect">
            <a:avLst/>
          </a:prstGeom>
          <a:ln w="0">
            <a:noFill/>
          </a:ln>
        </p:spPr>
      </p:pic>
      <p:pic>
        <p:nvPicPr>
          <p:cNvPr id="68" name="16 Imagen" descr="http://hypescience.com/wp-content/uploads/2010/09/vaca1.jpg"/>
          <p:cNvPicPr/>
          <p:nvPr/>
        </p:nvPicPr>
        <p:blipFill>
          <a:blip r:embed="rId5"/>
          <a:stretch/>
        </p:blipFill>
        <p:spPr>
          <a:xfrm>
            <a:off x="3419640" y="1341360"/>
            <a:ext cx="1800000" cy="1533600"/>
          </a:xfrm>
          <a:prstGeom prst="rect">
            <a:avLst/>
          </a:prstGeom>
          <a:ln w="0">
            <a:noFill/>
          </a:ln>
        </p:spPr>
      </p:pic>
      <p:pic>
        <p:nvPicPr>
          <p:cNvPr id="69" name="17 Imagen" descr="http://www.semillasdevida.com.ar/wp-content/uploads/marihuana.jpg"/>
          <p:cNvPicPr/>
          <p:nvPr/>
        </p:nvPicPr>
        <p:blipFill>
          <a:blip r:embed="rId6"/>
          <a:stretch/>
        </p:blipFill>
        <p:spPr>
          <a:xfrm>
            <a:off x="7020000" y="3500280"/>
            <a:ext cx="1785960" cy="167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3348000" y="3141720"/>
            <a:ext cx="3529080" cy="2284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539640" y="4508640"/>
            <a:ext cx="2751120" cy="1128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7380360" y="907920"/>
            <a:ext cx="1414440" cy="22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558ed5"/>
                </a:solidFill>
                <a:latin typeface="Arial"/>
              </a:rPr>
              <a:t>Algunas cifras de Urugu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0040" y="121392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llo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erritorio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176 mil kilómetros cuad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paración Iglesia-Estado,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ciedad la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tnico-racialmente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omogé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Índice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arrollo Huma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lto (51 mundo, 3 en América Lat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emple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6.5% (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blación bajo línea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brez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12.4% (2012), 36.6%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breza extre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0.5% (2012), 3.5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239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Índice de Gini: 0.382 (2012), 0.441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58ed5"/>
                </a:solidFill>
                <a:latin typeface="Arial"/>
              </a:rPr>
              <a:t>Algunos</a:t>
            </a:r>
            <a:r>
              <a:rPr b="1" lang="es-UY" sz="4000" spc="-1" strike="noStrike">
                <a:solidFill>
                  <a:srgbClr val="558ed5"/>
                </a:solidFill>
                <a:latin typeface="Arial"/>
              </a:rPr>
              <a:t> desafíos pend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ciedad integrada, equiparación de oport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a de la calidad de servicios públicos (educación, salud, vivien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inuar con la reducción de la pobreza con distribución de riqu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stema de cuidados (1ª infancia, discapacidad, adulto mayor dependi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versificación de la matriz productiva (vínculo social + produc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58ed5"/>
                </a:solidFill>
                <a:latin typeface="Arial"/>
              </a:rPr>
              <a:t>Arquitectura institucional de la protección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5640" y="1484280"/>
            <a:ext cx="7031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431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ejo de Ministros - Gabinete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jo Nacional de Polí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as interinstitucionales de Políticas Sociales (M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as de Coordinación Zonal (MC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os temáticos (familia, educación, violenci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88000" y="2565360"/>
            <a:ext cx="217440" cy="504720"/>
          </a:xfrm>
          <a:prstGeom prst="upDownArrow">
            <a:avLst>
              <a:gd name="adj1" fmla="val 50000"/>
              <a:gd name="adj2" fmla="val 462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860640"/>
            <a:ext cx="217440" cy="505080"/>
          </a:xfrm>
          <a:prstGeom prst="upDownArrow">
            <a:avLst>
              <a:gd name="adj1" fmla="val 50000"/>
              <a:gd name="adj2" fmla="val 462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58ed5"/>
                </a:solidFill>
                <a:latin typeface="Arial"/>
              </a:rPr>
              <a:t>El Ministerio de Desarrollo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7072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do en 2005 con el objetivo central de articular las políticas sociales y la atención de las situaciones de mayor vulnerabilidad (PANES, Plan de Equida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zado en el inicio por la atención a la emergencia social lo cual condicionó su desarrollo y capacidades instituciona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za institutos sociales (juventud, infancia, género, adulto may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esar de ello en 9 años el MIDES logra consolidar una presencia nacional, desarrollando un conjunto de acciones públicas que llegaron a los sectores más vulnerables e instalando las bases para una institucionalidad de la coordinación de las políticas sociales orientadas al desarrollo soci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es programas: Transferencias Monetarias, Programas Sociolaborales, Socioeducativos, Atención a la vulnerabilidad extrema , Discapac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2011 inicia un proceso de reestructura organizacional que tuvo como uno de sus pilares la reorganización territo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558ed5"/>
                </a:solidFill>
                <a:latin typeface="Arial"/>
              </a:rPr>
              <a:t>Cometidos del M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28800" y="1142640"/>
            <a:ext cx="6465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ordinar y articular las polí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señar, coordinar, ejecutar y evaluar planes so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ctoría en juventud, género, adulto mayor, dis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expresión tiene eso para la gestión territo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629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58ed5"/>
                </a:solidFill>
                <a:latin typeface="Arial"/>
              </a:rPr>
              <a:t>Los pilares del Modelo de Gestión Territorial del 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32000" y="1125000"/>
            <a:ext cx="6278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atención ciudadana (los dispositivos territori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coordinación con programas, servicios e iniciativas regulatorias del M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articulación interinstitucional de base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 rot="10799400">
            <a:off x="8135640" y="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742080"/>
            <a:ext cx="914400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9036000" y="765000"/>
            <a:ext cx="108000" cy="6093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179280" y="6021360"/>
            <a:ext cx="8785440" cy="36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000760" y="6215040"/>
            <a:ext cx="378612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 rot="10800000">
            <a:off x="8136000" y="1440"/>
            <a:ext cx="1008000" cy="9367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"/>
          <p:cNvSpPr/>
          <p:nvPr/>
        </p:nvSpPr>
        <p:spPr>
          <a:xfrm>
            <a:off x="0" y="0"/>
            <a:ext cx="914256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0" y="6742080"/>
            <a:ext cx="9142560" cy="11592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"/>
          <p:cNvSpPr/>
          <p:nvPr/>
        </p:nvSpPr>
        <p:spPr>
          <a:xfrm>
            <a:off x="9036000" y="766800"/>
            <a:ext cx="108000" cy="609264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0" y="0"/>
            <a:ext cx="108000" cy="685800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179280" y="5940360"/>
            <a:ext cx="8785440" cy="1800"/>
          </a:xfrm>
          <a:prstGeom prst="pi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-39240" bIns="-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6156360" y="6308640"/>
            <a:ext cx="2579760" cy="303120"/>
          </a:xfrm>
          <a:prstGeom prst="rect">
            <a:avLst/>
          </a:prstGeom>
          <a:ln w="0">
            <a:noFill/>
          </a:ln>
        </p:spPr>
      </p:pic>
      <p:sp>
        <p:nvSpPr>
          <p:cNvPr id="136" name="12 Conector recto"/>
          <p:cNvSpPr/>
          <p:nvPr/>
        </p:nvSpPr>
        <p:spPr>
          <a:xfrm>
            <a:off x="392040" y="6172200"/>
            <a:ext cx="8556840" cy="0"/>
          </a:xfrm>
          <a:prstGeom prst="line">
            <a:avLst/>
          </a:prstGeom>
          <a:ln cap="rnd" w="38160">
            <a:solidFill>
              <a:srgbClr val="007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000000"/>
                </a:solidFill>
                <a:latin typeface="Arial"/>
              </a:rPr>
              <a:t>La gestión terri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3 Marcador de contenido" descr=""/>
          <p:cNvPicPr/>
          <p:nvPr/>
        </p:nvPicPr>
        <p:blipFill>
          <a:blip r:embed="rId2"/>
          <a:stretch/>
        </p:blipFill>
        <p:spPr>
          <a:xfrm>
            <a:off x="676440" y="1262160"/>
            <a:ext cx="7943760" cy="4870440"/>
          </a:xfrm>
          <a:prstGeom prst="rect">
            <a:avLst/>
          </a:prstGeom>
          <a:ln w="0">
            <a:noFill/>
          </a:ln>
        </p:spPr>
      </p:pic>
      <p:sp>
        <p:nvSpPr>
          <p:cNvPr id="140" name="14 Flecha derecha"/>
          <p:cNvSpPr/>
          <p:nvPr/>
        </p:nvSpPr>
        <p:spPr>
          <a:xfrm>
            <a:off x="357120" y="3071880"/>
            <a:ext cx="2214720" cy="15714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mplementación de Program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3:23:16Z</dcterms:created>
  <dc:creator>mides</dc:creator>
  <dc:description/>
  <dc:language>en-US</dc:language>
  <cp:lastModifiedBy>mides</cp:lastModifiedBy>
  <dcterms:modified xsi:type="dcterms:W3CDTF">2014-03-28T14:03:42Z</dcterms:modified>
  <cp:revision>4</cp:revision>
  <dc:subject/>
  <dc:title> El Modelo de Gestión Territorial de la Protección Social  Ministerio de Desarrollo Social - Uruguay  Dirección Nacional de Gestión Territorial Lic. Martín Rodríguez   </dc:title>
</cp:coreProperties>
</file>