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BE54-6764-408E-B46C-9932A19C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E41-9EEA-4279-BF94-2B990973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E074-4001-4298-AB0F-BD343315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9E4-40A0-4FC3-B67E-8CF1F083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808-693C-4833-A6C2-5A129D61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93E-034F-42EB-B0AC-0F3A5DE6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0D19-F382-4598-ACAF-F73E2AFB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21C-485E-4463-BF9C-9EBFFBFC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30B3-FE7A-4A10-99BD-16560759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CA1-5E44-4A8B-9087-4A681D24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F90-8E0B-4E15-A88E-F25EAA21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ACFA-CB8E-40B8-ACC7-26112ED8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vantGarde Bk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A7F6-C655-440D-8E78-2DDA60D7F8AD}" type="slidenum">
              <a:rPr b="0" lang="es-ES" sz="1200" spc="-1" strike="noStrike">
                <a:solidFill>
                  <a:srgbClr val="898989"/>
                </a:solidFill>
                <a:latin typeface="AvantGarde Bk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26"/>
          <p:cNvSpPr/>
          <p:nvPr/>
        </p:nvSpPr>
        <p:spPr>
          <a:xfrm>
            <a:off x="533520" y="458640"/>
            <a:ext cx="8229600" cy="62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Universidad Nacional Autónoma 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de México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Facultad de Medicina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Universidad Nacional Autónoma de México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vantGarde Bk BT"/>
              </a:rPr>
              <a:t>Curso de Especialización en Medicina Familiar para Médicos Generales en México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vantGarde Bk BT"/>
              </a:rPr>
              <a:t>Prof. Dr. Miguel Ángel Fernández Ortega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vantGarde Bk BT"/>
              </a:rPr>
              <a:t>Junio de 2014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vantGarde Bk BT"/>
              </a:rPr>
              <a:t>Bogotá Colombia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42" name="1 Imagen" descr=""/>
          <p:cNvPicPr/>
          <p:nvPr/>
        </p:nvPicPr>
        <p:blipFill>
          <a:blip r:embed="rId1"/>
          <a:stretch/>
        </p:blipFill>
        <p:spPr>
          <a:xfrm>
            <a:off x="409680" y="458640"/>
            <a:ext cx="1571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Actividades clínicas y rotaciones 3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r</a:t>
            </a: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 añ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04920" y="3200400"/>
            <a:ext cx="106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3er año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657600" y="3276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MI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MI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3657600" y="4343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4572000" y="4343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5410080" y="4343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6172200" y="4343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905120" y="2895480"/>
            <a:ext cx="161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Consulta de Medicina Familiar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1828800" y="2819520"/>
            <a:ext cx="51814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3429000" y="2819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4" name="Line 23"/>
          <p:cNvSpPr/>
          <p:nvPr/>
        </p:nvSpPr>
        <p:spPr>
          <a:xfrm>
            <a:off x="4419720" y="2819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5257800" y="2819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6" name="Line 25"/>
          <p:cNvSpPr/>
          <p:nvPr/>
        </p:nvSpPr>
        <p:spPr>
          <a:xfrm>
            <a:off x="6019920" y="2819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6095880" y="32767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Psiq.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7238880" y="32004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Investigación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terminada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9" name="Line 28"/>
          <p:cNvSpPr/>
          <p:nvPr/>
        </p:nvSpPr>
        <p:spPr>
          <a:xfrm>
            <a:off x="6934320" y="36576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205740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8 meses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Niveles de ejecu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5800" y="1752480"/>
            <a:ext cx="7696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Nivel central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Nivel estatal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Nivel operativo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(sede académica)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4572000" y="22860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4572000" y="380988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structura física de las unidades se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762120" y="2209680"/>
            <a:ext cx="761976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Consulta externa de Medicina Familiar co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población asignada por consultorio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Hospitales con las cuatro especialidades troncales y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Servicio de Urgencias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Auditorio o aula con equipo audiovisual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37" name="5 Imagen" descr="Imagen 021.jpg"/>
          <p:cNvPicPr/>
          <p:nvPr/>
        </p:nvPicPr>
        <p:blipFill>
          <a:blip r:embed="rId1"/>
          <a:stretch/>
        </p:blipFill>
        <p:spPr>
          <a:xfrm>
            <a:off x="6629400" y="350532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138" name="6 Imagen" descr="DSC00001.JPG"/>
          <p:cNvPicPr/>
          <p:nvPr/>
        </p:nvPicPr>
        <p:blipFill>
          <a:blip r:embed="rId2"/>
          <a:stretch/>
        </p:blipFill>
        <p:spPr>
          <a:xfrm>
            <a:off x="304920" y="434340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Instrumentación del Programa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(alumnos inscrito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4 Diagrama" descr=""/>
          <p:cNvPicPr/>
          <p:nvPr/>
        </p:nvPicPr>
        <p:blipFill>
          <a:blip r:embed="rId1"/>
          <a:stretch/>
        </p:blipFill>
        <p:spPr>
          <a:xfrm>
            <a:off x="1511280" y="1395360"/>
            <a:ext cx="673092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strategias pedagóg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5800" y="2362320"/>
            <a:ext cx="79246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Capacitación en servicio (horario laboral)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Sesiones clínicas, bibliográficas, temáticas 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Talleres  sabatinos de autoimagen y auditoria de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expedientes 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Rotaciones hospitalarias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Tutoría práctica por profesores de la misma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institu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Investigación generada en la propia institu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Equipo docente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por sede académ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Médico familiar (1 por cada 10 alumn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Terapeuta familiar, Psicólogo o Psiquia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Maestro en Investigación o en Salud Púb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Médico Interni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edia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Gineco-Obste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Urgencio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Características de los profes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5800" y="2286000"/>
            <a:ext cx="78487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Ser médico especialista en el área en que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participa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Poseer diploma que lo acredita como especialista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Estar certificado por el Consejo correspondiente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de la especialidad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Experiencia y vocación docente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Disponibilidad de tiempo para participar en las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actividades académicas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Requisitos de ingre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533520" y="1486080"/>
            <a:ext cx="838188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Ser médico activo de la institución en convenio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Ser propuesto por la institución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Entregar la documentación completa solicitada por la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Facultad de Medicina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Realizar y aprobar el examen de ingreso (Examen de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Competencia Académica)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Cubrir la cuota de inscripción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En caso de tener puesto directivo  o en el área de urgencias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comprometerse por escrito a cubrir mínimo cuatro horas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diarias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de consulta general atendiendo familias, en horario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opuesto al de actividades directivas.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Requisitos de permanencia y egre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762120" y="2209680"/>
            <a:ext cx="77724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Cumplir con todas las actividades académicas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del programa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Aprobar todas las evaluaciones realizadas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durante los tres años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Presentar trabajo de investigación final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aprobado por la UNAM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Presentar y aprobar el examen final elaborado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por la Facultad de Medicina.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295280" y="2743200"/>
            <a:ext cx="693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Fortalecer la calidad de los servicios prestados por instituciones de salud, a través de un programa de especialización en Medicina Familiar dirigido a los Médicos Generales que se encuentran laborando en el primer nivel de atención.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Justificació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533520" y="1469880"/>
            <a:ext cx="807696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Diferentes situaciones personales (económicas, laborales, familiares, etc.), así como la edad de ingreso a las residencias médicas, impiden que gran parte del personal médico general que se encuentra laborando en las instituciones de salud, se capacite para brindar una mejor atención a los individuos y familias a las que diariamente debe prestar sus servicios. 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El país requiere contar con personal médico especializado en los problemas que con mayor frecuencia aquejan a la pobla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Características gene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838080" y="2057400"/>
            <a:ext cx="80010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Estrategia semipresencial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Duración de tres años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Adiestramiento clínico complementario     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(guardias),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24 hrs/semana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Rotaciones hospitalarias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No hay límite de edad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El curso se desarrolla en el mismo sitio de trabajo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La planta académica está formada por personal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          de la propia institu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Programa académ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90720" y="20574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Morbimortalidad institucional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24852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PUEM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914400" y="44956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Seminario de Investiga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876920" y="43434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Atención a las necesidades de la institu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3886200" y="2209680"/>
            <a:ext cx="2286000" cy="1995480"/>
          </a:xfrm>
          <a:prstGeom prst="rect">
            <a:avLst/>
          </a:prstGeom>
          <a:ln w="0">
            <a:noFill/>
          </a:ln>
        </p:spPr>
      </p:pic>
      <p:cxnSp>
        <p:nvCxnSpPr>
          <p:cNvPr id="55" name="AutoShape 8"/>
          <p:cNvCxnSpPr/>
          <p:nvPr/>
        </p:nvCxnSpPr>
        <p:spPr>
          <a:xfrm>
            <a:off x="2514240" y="3048120"/>
            <a:ext cx="122004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9"/>
          <p:cNvCxnSpPr/>
          <p:nvPr/>
        </p:nvCxnSpPr>
        <p:spPr>
          <a:xfrm flipV="1">
            <a:off x="2819520" y="3962160"/>
            <a:ext cx="915120" cy="38160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AutoShape 10"/>
          <p:cNvCxnSpPr/>
          <p:nvPr/>
        </p:nvCxnSpPr>
        <p:spPr>
          <a:xfrm rot="10800000">
            <a:off x="6400080" y="3809160"/>
            <a:ext cx="762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AutoShape 11"/>
          <p:cNvCxnSpPr>
            <a:stCxn id="51" idx="2"/>
          </p:cNvCxnSpPr>
          <p:nvPr/>
        </p:nvCxnSpPr>
        <p:spPr>
          <a:xfrm rot="5400000">
            <a:off x="6514560" y="2781000"/>
            <a:ext cx="3056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Principios rectores de la Medicina Famili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581280" y="19051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Acción anticipatoria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066680" y="40384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Continuidad de la aten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400800" y="41148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Bk BT"/>
              </a:rPr>
              <a:t>Atención integral de la familia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3" name="Freeform 6"/>
          <p:cNvSpPr/>
          <p:nvPr/>
        </p:nvSpPr>
        <p:spPr>
          <a:xfrm>
            <a:off x="3429000" y="2819520"/>
            <a:ext cx="3200400" cy="16509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w="1488" h="768">
                <a:moveTo>
                  <a:pt x="0" y="768"/>
                </a:moveTo>
                <a:lnTo>
                  <a:pt x="1488" y="768"/>
                </a:lnTo>
                <a:lnTo>
                  <a:pt x="720" y="0"/>
                </a:lnTo>
                <a:lnTo>
                  <a:pt x="0" y="768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66ff6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45240" y="533520"/>
            <a:ext cx="86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Principales diferencias entre el Curso de Especializa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para Médicos Generales y la Residencia Médica Formal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67000" y="2135160"/>
            <a:ext cx="8181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Características                             Curso semiescolarizado                         Residencia médica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Duración                                                    Tres años                                              Tres años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       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Médicos Generales, de la institución              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Selección                               interesada, con más de dos años de                      Examen nacional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antigüedad.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Límite de edad                                  Cualquier edad                                   Menores de 40 años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Programa académico                                PUEM +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PUEM 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de la especialidad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morbimortalidad institucional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y local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6" name="Line 6"/>
          <p:cNvSpPr/>
          <p:nvPr/>
        </p:nvSpPr>
        <p:spPr>
          <a:xfrm>
            <a:off x="0" y="258912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7" name="Line 7"/>
          <p:cNvSpPr/>
          <p:nvPr/>
        </p:nvSpPr>
        <p:spPr>
          <a:xfrm>
            <a:off x="3240" y="312264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8" name="Line 8"/>
          <p:cNvSpPr/>
          <p:nvPr/>
        </p:nvSpPr>
        <p:spPr>
          <a:xfrm>
            <a:off x="0" y="426564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9" name="Line 9"/>
          <p:cNvSpPr/>
          <p:nvPr/>
        </p:nvSpPr>
        <p:spPr>
          <a:xfrm>
            <a:off x="3240" y="479916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0" name="Line 10"/>
          <p:cNvSpPr/>
          <p:nvPr/>
        </p:nvSpPr>
        <p:spPr>
          <a:xfrm>
            <a:off x="2666880" y="2057400"/>
            <a:ext cx="0" cy="358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6248520" y="2063880"/>
            <a:ext cx="0" cy="3581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32960" y="1981080"/>
            <a:ext cx="8039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Características                        Curso semiescolarizado                         Residencia médica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Tiempo                                     Durante la jornada laboral                            Tiempo completo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contratada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Guardias                                                     Si     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Sí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Becas                                  Perciben su sueldo íntegro como                    Perciben beca como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trabajadores                                      residente en formación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Reconocimiento                        Título de especialista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                 Título de especialista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de la especialidad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Lugar de residencia               Mismo lugar de residencia                           Cambio de residencia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3" name="Line 3"/>
          <p:cNvSpPr/>
          <p:nvPr/>
        </p:nvSpPr>
        <p:spPr>
          <a:xfrm>
            <a:off x="0" y="248904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4" name="Line 4"/>
          <p:cNvSpPr/>
          <p:nvPr/>
        </p:nvSpPr>
        <p:spPr>
          <a:xfrm>
            <a:off x="3240" y="348948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5" name="Line 5"/>
          <p:cNvSpPr/>
          <p:nvPr/>
        </p:nvSpPr>
        <p:spPr>
          <a:xfrm>
            <a:off x="3240" y="409896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240" y="486108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7" name="Line 7"/>
          <p:cNvSpPr/>
          <p:nvPr/>
        </p:nvSpPr>
        <p:spPr>
          <a:xfrm>
            <a:off x="3240" y="577548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8" name="Line 8"/>
          <p:cNvSpPr/>
          <p:nvPr/>
        </p:nvSpPr>
        <p:spPr>
          <a:xfrm>
            <a:off x="2666880" y="1965240"/>
            <a:ext cx="0" cy="4267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9" name="Line 9"/>
          <p:cNvSpPr/>
          <p:nvPr/>
        </p:nvSpPr>
        <p:spPr>
          <a:xfrm>
            <a:off x="6248520" y="1965240"/>
            <a:ext cx="0" cy="4273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45240" y="380880"/>
            <a:ext cx="86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Principales diferencias entre el Curso de Especialización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96464"/>
                </a:solidFill>
                <a:latin typeface="AvantGarde Bk BT"/>
              </a:rPr>
              <a:t>para Médicos Generales y la Residencia Médica Formal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Actividades clínicas y rotaciones 1° y 2°añ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2606760"/>
            <a:ext cx="106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er año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657600" y="260676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MI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GO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133720" y="3613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8 meses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657600" y="3613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572000" y="3613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410080" y="3613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172200" y="3613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61722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1889280" y="2424240"/>
            <a:ext cx="161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Consulta de Medicina Familiar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7315200" y="2514600"/>
            <a:ext cx="1600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Pirámide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de Población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1828800" y="2286000"/>
            <a:ext cx="51814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3" name="Line 19"/>
          <p:cNvSpPr/>
          <p:nvPr/>
        </p:nvSpPr>
        <p:spPr>
          <a:xfrm>
            <a:off x="350532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441972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52578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5943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304920" y="4800600"/>
            <a:ext cx="106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2o. año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8" name="Text Box 24"/>
          <p:cNvSpPr/>
          <p:nvPr/>
        </p:nvSpPr>
        <p:spPr>
          <a:xfrm>
            <a:off x="3657600" y="478476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MI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MI      GO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3657600" y="5791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4572000" y="5791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5410080" y="5791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6172200" y="5791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1889280" y="4602240"/>
            <a:ext cx="161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Consulta de Medicina Familiar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1828800" y="4464000"/>
            <a:ext cx="51814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5" name="Line 31"/>
          <p:cNvSpPr/>
          <p:nvPr/>
        </p:nvSpPr>
        <p:spPr>
          <a:xfrm>
            <a:off x="3505320" y="4464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6" name="Line 32"/>
          <p:cNvSpPr/>
          <p:nvPr/>
        </p:nvSpPr>
        <p:spPr>
          <a:xfrm>
            <a:off x="4419720" y="4464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7" name="Line 33"/>
          <p:cNvSpPr/>
          <p:nvPr/>
        </p:nvSpPr>
        <p:spPr>
          <a:xfrm>
            <a:off x="5257800" y="4464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8" name="Line 34"/>
          <p:cNvSpPr/>
          <p:nvPr/>
        </p:nvSpPr>
        <p:spPr>
          <a:xfrm>
            <a:off x="5943600" y="4464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9" name="Text Box 35"/>
          <p:cNvSpPr/>
          <p:nvPr/>
        </p:nvSpPr>
        <p:spPr>
          <a:xfrm>
            <a:off x="6095880" y="48006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0" name="Text Box 36"/>
          <p:cNvSpPr/>
          <p:nvPr/>
        </p:nvSpPr>
        <p:spPr>
          <a:xfrm>
            <a:off x="7162920" y="4495680"/>
            <a:ext cx="190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Proyecto 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de Investigación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1" name="Line 37"/>
          <p:cNvSpPr/>
          <p:nvPr/>
        </p:nvSpPr>
        <p:spPr>
          <a:xfrm>
            <a:off x="701028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2" name="Line 38"/>
          <p:cNvSpPr/>
          <p:nvPr/>
        </p:nvSpPr>
        <p:spPr>
          <a:xfrm>
            <a:off x="7010280" y="5257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3" name="Text Box 39"/>
          <p:cNvSpPr/>
          <p:nvPr/>
        </p:nvSpPr>
        <p:spPr>
          <a:xfrm>
            <a:off x="2057400" y="58514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Bk BT"/>
              </a:rPr>
              <a:t>8 meses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18:42:00Z</dcterms:created>
  <dc:creator>*</dc:creator>
  <dc:description/>
  <dc:language>en-US</dc:language>
  <cp:lastModifiedBy>Miguel</cp:lastModifiedBy>
  <cp:lastPrinted>2000-09-28T21:37:14Z</cp:lastPrinted>
  <dcterms:modified xsi:type="dcterms:W3CDTF">2014-06-12T05:32:32Z</dcterms:modified>
  <cp:revision>74</cp:revision>
  <dc:subject/>
  <dc:title>Medicina Familiar Antecedentes</dc:title>
</cp:coreProperties>
</file>