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01A-27BD-4752-A415-D6788798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91B-2DA4-408F-97F0-55F6A0A4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6FF-1071-46C0-9438-0CBCB5AE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AD2-49D8-4B5A-9671-2BA58725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E71-A8F0-4BF2-B322-F8127822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61A-60EA-4C45-8FE9-6DA804AF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BD5-2A15-471C-8AA2-3AACC656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9D9-3BFE-44FA-B180-8DEC318B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EE8-79A2-46E1-AA83-4FBF968F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1D9-0359-45ED-A897-D738F38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1E2-4E67-44C2-9A42-E6A6C2F8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6D9-650F-4008-8832-48D6E27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vantGarde Bk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1CBF-1E86-446E-83EB-5D16AE94CD05}" type="slidenum">
              <a:rPr b="0" lang="es-ES" sz="1200" spc="-1" strike="noStrike">
                <a:solidFill>
                  <a:srgbClr val="898989"/>
                </a:solidFill>
                <a:latin typeface="AvantGarde Bk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533520" y="458640"/>
            <a:ext cx="8229600" cy="62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Universidad Nacional Autónoma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de Méxic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Facultad de Medicin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Universidad Nacional Autónoma de Méxic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vantGarde Bk BT"/>
              </a:rPr>
              <a:t>Curso de Especialización en Medicina Familiar para Médicos Generales en México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vantGarde Bk BT"/>
              </a:rPr>
              <a:t>Prof. Dr. Miguel Ángel Fernández Orteg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vantGarde Bk BT"/>
              </a:rPr>
              <a:t>Junio de 2014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vantGarde Bk BT"/>
              </a:rPr>
              <a:t>Bogotá Colombi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42" name="1 Imagen" descr=""/>
          <p:cNvPicPr/>
          <p:nvPr/>
        </p:nvPicPr>
        <p:blipFill>
          <a:blip r:embed="rId1"/>
          <a:stretch/>
        </p:blipFill>
        <p:spPr>
          <a:xfrm>
            <a:off x="409680" y="458640"/>
            <a:ext cx="1571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Actividades clínicas y rotaciones 3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 añ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04920" y="320040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3er añ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657600" y="3276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65760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57200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541008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17220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905120" y="289548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de Medicina Familiar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828800" y="2819520"/>
            <a:ext cx="5181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34290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441972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52578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6" name="Line 25"/>
          <p:cNvSpPr/>
          <p:nvPr/>
        </p:nvSpPr>
        <p:spPr>
          <a:xfrm>
            <a:off x="601992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6095880" y="3276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siq.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7238880" y="3200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terminad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6934320" y="365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205740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8 mes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iveles de eje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5800" y="175248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ivel centr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ivel estat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ivel operativ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(sede académica)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4572000" y="22860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4572000" y="38098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structura física de las unidades se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209680"/>
            <a:ext cx="761976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externa de Medicina Familiar co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oblación asignada por consultorio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Hospitales con las cuatro especialidades troncales y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Servicio de Urgencia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Auditorio o aula con equipo audiovisua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37" name="5 Imagen" descr="Imagen 021.jpg"/>
          <p:cNvPicPr/>
          <p:nvPr/>
        </p:nvPicPr>
        <p:blipFill>
          <a:blip r:embed="rId1"/>
          <a:stretch/>
        </p:blipFill>
        <p:spPr>
          <a:xfrm>
            <a:off x="6629400" y="35053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138" name="6 Imagen" descr="DSC00001.JPG"/>
          <p:cNvPicPr/>
          <p:nvPr/>
        </p:nvPicPr>
        <p:blipFill>
          <a:blip r:embed="rId2"/>
          <a:stretch/>
        </p:blipFill>
        <p:spPr>
          <a:xfrm>
            <a:off x="304920" y="434340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Instrumentación del Program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(alumnos inscrito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4 Diagrama" descr=""/>
          <p:cNvPicPr/>
          <p:nvPr/>
        </p:nvPicPr>
        <p:blipFill>
          <a:blip r:embed="rId1"/>
          <a:stretch/>
        </p:blipFill>
        <p:spPr>
          <a:xfrm>
            <a:off x="1511280" y="1395360"/>
            <a:ext cx="67309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strategias pedagóg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2362320"/>
            <a:ext cx="7924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Capacitación en servicio (horario laboral)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Sesiones clínicas, bibliográficas, temáticas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Talleres  sabatinos de autoimagen y auditoria de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xpedientes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Rotaciones hospitalaria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Tutoría práctica por profesores de la misma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Investigación generada en la propia 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Equipo docente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or sede académ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édico familiar (1 por cada 10 alumn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Terapeuta familiar, Psicólogo o Psiquia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aestro en Investigación o en Salud Pú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édico Intern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edia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Gineco-Obste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Urgencio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Características de los profes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2286000"/>
            <a:ext cx="7848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Ser médico especialista en el área en que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articip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oseer diploma que lo acredita como especialist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star certificado por el Consejo correspondiente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e la especialidad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xperiencia y vocación docente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isponibilidad de tiempo para participar en las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ctividades académica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quisitos de ingr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33520" y="1486080"/>
            <a:ext cx="838188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Ser médico activo de la institución en convenio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Ser propuesto por la institu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Entregar la documentación completa solicitada por l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Facultad de Medicin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Realizar y aprobar el examen de ingreso (Examen de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mpetencia Académica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ubrir la cuota de inscrip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En caso de tener puesto directivo  o en el área de urgencias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mprometerse por escrito a cubrir mínimo cuatro horas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iarias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e consulta general atendiendo familias, en horario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opuesto al de actividades directivas.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quisitos de permanencia y egr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220968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Cumplir con todas las actividades académicas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el program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probar todas las evaluaciones realizadas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urante los tres año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resentar trabajo de investigación fin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probado por la UNAM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resentar y aprobar el examen final elaborado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or la Facultad de Medicina.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295280" y="274320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Fortalecer la calidad de los servicios prestados por instituciones de salud, a través de un programa de especialización en Medicina Familiar dirigido a los Médicos Generales que se encuentran laborando en el primer nivel de atención.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Justifica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33520" y="1469880"/>
            <a:ext cx="80769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iferentes situaciones personales (económicas, laborales, familiares, etc.), así como la edad de ingreso a las residencias médicas, impiden que gran parte del personal médico general que se encuentra laborando en las instituciones de salud, se capacite para brindar una mejor atención a los individuos y familias a las que diariamente debe prestar sus servicios.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l país requiere contar con personal médico especializado en los problemas que con mayor frecuencia aquejan a la pobl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Características ge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838080" y="2057400"/>
            <a:ext cx="8001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strategia semipresenci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uración de tres año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diestramiento clínico complementario     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(guardias),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24 hrs/seman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Rotaciones hospitalaria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o hay límite de edad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l curso se desarrolla en el mismo sitio de trabaj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La planta académica está formada por person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          de la propia 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Programa académ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90720" y="20574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Morbimortalidad institucion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24852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UEM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4495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Seminario de Investig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876920" y="43434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tención a las necesidades de la 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2286000" cy="1995480"/>
          </a:xfrm>
          <a:prstGeom prst="rect">
            <a:avLst/>
          </a:prstGeom>
          <a:ln w="0">
            <a:noFill/>
          </a:ln>
        </p:spPr>
      </p:pic>
      <p:cxnSp>
        <p:nvCxnSpPr>
          <p:cNvPr id="55" name="AutoShape 8"/>
          <p:cNvCxnSpPr/>
          <p:nvPr/>
        </p:nvCxnSpPr>
        <p:spPr>
          <a:xfrm>
            <a:off x="2514240" y="3048120"/>
            <a:ext cx="122004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9"/>
          <p:cNvCxnSpPr/>
          <p:nvPr/>
        </p:nvCxnSpPr>
        <p:spPr>
          <a:xfrm flipV="1">
            <a:off x="2819520" y="3962160"/>
            <a:ext cx="915120" cy="3816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AutoShape 10"/>
          <p:cNvCxnSpPr/>
          <p:nvPr/>
        </p:nvCxnSpPr>
        <p:spPr>
          <a:xfrm rot="10800000">
            <a:off x="6400080" y="3809160"/>
            <a:ext cx="762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1"/>
          <p:cNvCxnSpPr>
            <a:stCxn id="51" idx="2"/>
          </p:cNvCxnSpPr>
          <p:nvPr/>
        </p:nvCxnSpPr>
        <p:spPr>
          <a:xfrm rot="5400000">
            <a:off x="6514560" y="2781000"/>
            <a:ext cx="3056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Principios rectores de la Medicina Famili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581280" y="19051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cción anticipatori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66680" y="40384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Continuidad de la aten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400800" y="4114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tención integral de la famili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3429000" y="2819520"/>
            <a:ext cx="3200400" cy="16509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1488" h="768">
                <a:moveTo>
                  <a:pt x="0" y="768"/>
                </a:moveTo>
                <a:lnTo>
                  <a:pt x="1488" y="768"/>
                </a:lnTo>
                <a:lnTo>
                  <a:pt x="720" y="0"/>
                </a:lnTo>
                <a:lnTo>
                  <a:pt x="0" y="768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66ff6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45240" y="53352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rincipales diferencias entre el Curso de Especializ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ara Médicos Generales y la Residencia Médica Form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67000" y="2135160"/>
            <a:ext cx="8181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acterísticas                             Curso semiescolarizado                         Residencia médic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uración                                                    Tres años                                              Tres años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Médicos Generales, de la institución            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Selección                               interesada, con más de dos años de                      Examen nacional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antigüedad.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Límite de edad                                  Cualquier edad                                   Menores de 40 años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Programa académico                                PUEM +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PUEM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e la especi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morbimortalidad institucional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y local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Line 6"/>
          <p:cNvSpPr/>
          <p:nvPr/>
        </p:nvSpPr>
        <p:spPr>
          <a:xfrm>
            <a:off x="0" y="2589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240" y="312264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8" name="Line 8"/>
          <p:cNvSpPr/>
          <p:nvPr/>
        </p:nvSpPr>
        <p:spPr>
          <a:xfrm>
            <a:off x="0" y="426564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Line 9"/>
          <p:cNvSpPr/>
          <p:nvPr/>
        </p:nvSpPr>
        <p:spPr>
          <a:xfrm>
            <a:off x="3240" y="47991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2666880" y="2057400"/>
            <a:ext cx="0" cy="358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6248520" y="2063880"/>
            <a:ext cx="0" cy="358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32960" y="1981080"/>
            <a:ext cx="803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acterísticas                        Curso semiescolarizado                         Residencia médic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Tiempo                                     Durante la jornada laboral                            Tiempo completo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contratad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Guardias                                                     Si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Sí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Becas                                  Perciben su sueldo íntegro como                    Perciben beca como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trabajadores                                      residente en formación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Reconocimiento                        Título de especialista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Título de especialist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e la especialidad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Lugar de residencia               Mismo lugar de residencia                           Cambio de residenci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Line 3"/>
          <p:cNvSpPr/>
          <p:nvPr/>
        </p:nvSpPr>
        <p:spPr>
          <a:xfrm>
            <a:off x="0" y="248904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240" y="3489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40" y="40989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240" y="48610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240" y="5775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Line 8"/>
          <p:cNvSpPr/>
          <p:nvPr/>
        </p:nvSpPr>
        <p:spPr>
          <a:xfrm>
            <a:off x="2666880" y="1965240"/>
            <a:ext cx="0" cy="4267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Line 9"/>
          <p:cNvSpPr/>
          <p:nvPr/>
        </p:nvSpPr>
        <p:spPr>
          <a:xfrm>
            <a:off x="6248520" y="1965240"/>
            <a:ext cx="0" cy="4273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45240" y="38088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rincipales diferencias entre el Curso de Especializ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ara Médicos Generales y la Residencia Médica Form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Actividades clínicas y rotaciones 1° y 2°añ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260676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er añ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657600" y="260676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G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33720" y="3613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8 mes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65760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57200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41008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17220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1722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889280" y="242424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de Medicina Familiar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7315200" y="251460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irámide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e Pobla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828800" y="2286000"/>
            <a:ext cx="5181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50532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441972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2578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5943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304920" y="480060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2o. añ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3657600" y="478476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      G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365760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457200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41008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617220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1889280" y="460224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de Medicina Familiar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1828800" y="4464000"/>
            <a:ext cx="5181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350532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6" name="Line 32"/>
          <p:cNvSpPr/>
          <p:nvPr/>
        </p:nvSpPr>
        <p:spPr>
          <a:xfrm>
            <a:off x="441972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525780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8" name="Line 34"/>
          <p:cNvSpPr/>
          <p:nvPr/>
        </p:nvSpPr>
        <p:spPr>
          <a:xfrm>
            <a:off x="594360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6095880" y="4800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7162920" y="4495680"/>
            <a:ext cx="190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royecto 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e Investiga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1" name="Line 37"/>
          <p:cNvSpPr/>
          <p:nvPr/>
        </p:nvSpPr>
        <p:spPr>
          <a:xfrm>
            <a:off x="70102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2" name="Line 38"/>
          <p:cNvSpPr/>
          <p:nvPr/>
        </p:nvSpPr>
        <p:spPr>
          <a:xfrm>
            <a:off x="7010280" y="5257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2057400" y="5851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8 mes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8:42:00Z</dcterms:created>
  <dc:creator>*</dc:creator>
  <dc:description/>
  <dc:language>en-US</dc:language>
  <cp:lastModifiedBy>Miguel</cp:lastModifiedBy>
  <cp:lastPrinted>2000-09-28T21:37:14Z</cp:lastPrinted>
  <dcterms:modified xsi:type="dcterms:W3CDTF">2014-06-12T05:32:32Z</dcterms:modified>
  <cp:revision>74</cp:revision>
  <dc:subject/>
  <dc:title>Medicina Familiar Antecedentes</dc:title>
</cp:coreProperties>
</file>