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9AD-7819-4948-BD6F-0205AE54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D54-49B5-4690-AC79-EFA12FF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F2F-6A37-4755-BDD3-7667AE69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ACD-20CB-4A70-9A0C-6329891A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D6C-5DF6-49ED-991D-7BCC9B9C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9DF-62B2-4E1A-8C18-30319B0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047-9573-452C-8819-8E9AC11B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FC72-DCF9-461E-B006-F0EE562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1046-65DE-4F70-855D-2F57146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DF67-32B7-4407-9851-AE89317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4151-B56C-4921-9579-804C2A21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625-EF64-4469-81D1-769FD22A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9225-971D-4AA2-9C50-3616C35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B9BB-74F7-42B6-B9A2-847768B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8F72-4B37-4F72-8455-73AC47E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6172-8F89-4557-87BF-593D181D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79BC-E229-4EB8-AACD-6324CD43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3F4D-DDFE-46F9-8944-5E2CA61B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B84A-0735-4281-9252-7ED6A7CE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A8DD-C214-4FC9-AD28-D505D82E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D7CB-7060-4C2F-9BB0-2E8C2F73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A44B-136F-4875-BA9D-3D2713EE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A22-2B6C-4D71-9256-12EF53A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18F9-EDE9-4C6B-95CB-C809560B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17ED-BEFD-4932-8273-68C8D54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4F7A-62B5-4FA0-AE2F-3C768AD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28EA-576A-4A9E-AA05-52DA597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7094-E904-426E-BF41-B890EF2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210D-72EB-4F14-9616-11DC0E2E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5821-B758-4DD9-B53E-62711DA2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671EC-8CFC-4538-AE6C-9159067E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B561-2484-4A02-B994-145B7C27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1E83-472E-47D4-9C14-8DA59B15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3DF-3685-435C-8A69-51A823FC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6E65-B16C-4603-A237-E3AE117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4A56-1ADD-4D00-8CD7-26090E1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751F7-EC68-4C98-8A8A-D1950A7E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88F5-2BA9-4DCA-A360-BF65E6BD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0FCF-79FB-4FE5-AB4C-855B314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F638-64FD-4618-920B-D6A86A7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C6383-AC6C-45CF-82BF-31C7E9C1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BE59-5E38-4123-8B56-3798AD15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3DD4-EE25-4B27-A7C8-7F712B7F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6F36-15EA-498F-B843-35A80EC4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00F-F7E4-44EF-8FD7-23A7105E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9E6B-14EB-40C0-9A38-0D16DF3C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85E1-4ABF-47CB-90EB-9A782DE2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B0BA-26E6-47C1-9FAD-14D21BB7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3001-D892-41E7-B743-A173C2F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0E05B-3A30-4274-B2A0-6DD1BE3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206A-A27A-464D-9B67-EAA888D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40AB-34B4-46A8-8E40-3E218BDD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A294-FC1D-427F-B31A-A76ADA2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9903-41A1-455B-85EA-4082756E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4038-F1DB-4782-B056-1049DDE7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A11-CA62-48D9-B501-DBD6562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350E-CACE-46C4-AAD6-6128E9C7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83D7D-72C3-4841-A4CE-142B0F1B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4DC6-F752-4151-A499-6368BD1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52D5-A094-4CAD-84D8-73385618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D98E-FBAD-4335-B2C2-C40C941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2C6F-C5DD-451D-8B47-DD2FD31D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D0F33-4264-48C6-AED5-56011EC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EFC69-6BA6-45DE-93AF-FA08B00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8745-3C25-433D-9C3E-3FD21A8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6050-A473-496E-B47B-DAFF5BF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3D2-4A78-459D-BF52-03F380F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F85C-1A66-4393-B960-FEDE590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E218-9EAA-426A-A521-7AD770AF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5FCD-ADDC-4F4F-979A-B03D4E3A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25A33-62DB-462A-AB08-8406A374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C3ED-FADD-4295-A74B-ED4056D4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9655-99EF-4A95-AB09-BB9C2E08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70E96-B3D5-4148-B048-07F35F93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AEEF2-E505-4075-867F-16BF264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D31B9-CA2F-4A27-80D1-9C8E2044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9D1EA-748B-46D7-A8F4-AC14621F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3D6-BBE8-45AD-85B4-FD571ECD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AA7E-24F3-4BF7-89ED-62A7471A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8AB5C-E4A8-4CEC-829A-0ADC791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20A0F-1FDB-4AC4-802D-CAC7F21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259C-F1C2-451D-99C2-78427C7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1294-E5AB-4CFF-BCB1-D708C79F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441E-9F1D-4398-B2CE-5C788BC9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A0F5-64D5-4CD9-938B-FCBF7EA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7BD13-763E-4038-8CA8-8E87638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999D-8462-4FFF-A0E5-73C74483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A3399-10B5-4711-8F37-3640393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655-1411-4071-9A66-3CA0321F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3991-99BB-4F1E-B251-CE351C7B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1D51-25AA-496E-9648-9491F50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3876-147B-4EA5-A754-77FECB5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E3400-E573-4AE8-99F6-7B691C1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6F7C8-60FA-4582-A2C7-19A82D29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DD46-5B67-4DD6-99C0-4FF281DA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762FF-DE99-4555-8DEA-ADE5B1D3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B71-47B1-49F5-9CBC-8920007BEE1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B16-E2EE-441A-B3FE-9758830FE2D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E976-3FD3-44CF-8838-0CD20757A4D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AD76-6636-4B36-AEB0-4CCE132A0EA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CF0-386E-4449-BB58-919B65D69B8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94ED-9431-4D90-A36C-B89BED2892F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Obraz 6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6AC-656C-438E-8B3B-BDE4FD5DDFB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raz 6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EA87-9184-42B7-9888-087007579A4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71640" y="1916280"/>
            <a:ext cx="7200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600" spc="-1" strike="noStrike">
                <a:solidFill>
                  <a:srgbClr val="ffffff"/>
                </a:solidFill>
                <a:latin typeface="Tahoma"/>
              </a:rPr>
              <a:t>ituación socioeconómica</a:t>
            </a:r>
            <a:r>
              <a:rPr b="1" lang="pl-PL" sz="2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Tahoma"/>
              </a:rPr>
              <a:t>y sistema de planificación estratégica de la política de desarrollo en Pol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rostokąt 5"/>
          <p:cNvSpPr/>
          <p:nvPr/>
        </p:nvSpPr>
        <p:spPr>
          <a:xfrm>
            <a:off x="1692360" y="4365720"/>
            <a:ext cx="5759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Visita de los representantes de Bolivia en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MI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Jacek Białek, D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ugeniusz Sadowski, D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6"/>
          <p:cNvSpPr/>
          <p:nvPr/>
        </p:nvSpPr>
        <p:spPr>
          <a:xfrm>
            <a:off x="3395160" y="630864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6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de marzo d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7"/>
          <p:cNvGraphicFramePr/>
          <p:nvPr/>
        </p:nvGraphicFramePr>
        <p:xfrm>
          <a:off x="250920" y="1197000"/>
          <a:ext cx="858348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5834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13"/>
          <p:cNvSpPr/>
          <p:nvPr/>
        </p:nvSpPr>
        <p:spPr>
          <a:xfrm>
            <a:off x="3564000" y="3650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Situación de las finanz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684360" y="580536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Mejora de la situación del sector de finanzas públicas en</a:t>
            </a: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 2011 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y</a:t>
            </a: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PKB-wzrost 2004-2010-tlo"/>
          <p:cNvPicPr/>
          <p:nvPr/>
        </p:nvPicPr>
        <p:blipFill>
          <a:blip r:embed="rId1"/>
          <a:srcRect l="15974" t="0" r="18454" b="0"/>
          <a:stretch/>
        </p:blipFill>
        <p:spPr>
          <a:xfrm>
            <a:off x="2502000" y="1484280"/>
            <a:ext cx="4157640" cy="44784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2016000" y="6021360"/>
            <a:ext cx="511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P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I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B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per cápita según PAE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,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U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E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-27=100 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Voivodía M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azowieckie - 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102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(83%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0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Voivodía P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odkarpackie - 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42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(3</a:t>
            </a:r>
            <a:r>
              <a:rPr b="0" lang="pl-PL" sz="1600" spc="-1" strike="noStrike">
                <a:solidFill>
                  <a:srgbClr val="004f8a"/>
                </a:solidFill>
                <a:latin typeface="Tahoma"/>
              </a:rPr>
              <a:t>5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% </a:t>
            </a:r>
            <a:r>
              <a:rPr b="0" lang="es-ES_tradnl" sz="1600" spc="-1" strike="noStrike">
                <a:solidFill>
                  <a:srgbClr val="004f8a"/>
                </a:solidFill>
                <a:latin typeface="Tahoma"/>
              </a:rPr>
              <a:t>en</a:t>
            </a:r>
            <a:r>
              <a:rPr b="0" lang="en-GB" sz="1600" spc="-1" strike="noStrike">
                <a:solidFill>
                  <a:srgbClr val="004f8a"/>
                </a:solidFill>
                <a:latin typeface="Tahoma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324000" y="112572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P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ahoma"/>
              </a:rPr>
              <a:t>I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B per 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c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á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pita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según 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P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AE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UE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ahoma"/>
              </a:rPr>
              <a:t>-27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=100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ahoma"/>
              </a:rPr>
              <a:t>en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2010, (%) </a:t>
            </a:r>
            <a:r>
              <a:rPr b="1" lang="es-ES_tradn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y su cambio en los años</a:t>
            </a:r>
            <a:r>
              <a:rPr b="1" lang="pl-PL" sz="1600" spc="-1" strike="noStrike">
                <a:solidFill>
                  <a:srgbClr val="004f8a"/>
                </a:solidFill>
                <a:latin typeface="Arial"/>
                <a:ea typeface="Times New Roman"/>
              </a:rPr>
              <a:t> 2004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Tendenc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as de desarrollo en las voivodías (reg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564000" y="3636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ircunstancias de la Estrategia Nacional de Desarrollo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ventajas y 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0"/>
          <p:cNvSpPr/>
          <p:nvPr/>
        </p:nvSpPr>
        <p:spPr>
          <a:xfrm rot="10800000">
            <a:off x="179280" y="1052280"/>
            <a:ext cx="228600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0" bIns="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Población y espír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1"/>
          <p:cNvSpPr/>
          <p:nvPr/>
        </p:nvSpPr>
        <p:spPr>
          <a:xfrm rot="10800000">
            <a:off x="3058920" y="981000"/>
            <a:ext cx="2438280" cy="152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96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Desarrollo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2"/>
          <p:cNvSpPr/>
          <p:nvPr/>
        </p:nvSpPr>
        <p:spPr>
          <a:xfrm rot="10800000">
            <a:off x="6084720" y="1052280"/>
            <a:ext cx="243864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960" bIns="24516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Ordenación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territorial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del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/>
          <p:cNvSpPr/>
          <p:nvPr/>
        </p:nvSpPr>
        <p:spPr>
          <a:xfrm rot="10800000">
            <a:off x="1638360" y="2133360"/>
            <a:ext cx="228600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504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Atra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tiv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la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 rot="10800000">
            <a:off x="4427280" y="2192040"/>
            <a:ext cx="2438280" cy="152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0" bIns="252000" anchor="b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Recursos naturales</a:t>
            </a:r>
            <a:r>
              <a:rPr b="1" lang="pl-PL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</a:rPr>
              <a:t>y medio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5"/>
          <p:cNvSpPr/>
          <p:nvPr/>
        </p:nvSpPr>
        <p:spPr>
          <a:xfrm>
            <a:off x="324000" y="4065480"/>
            <a:ext cx="2286000" cy="152424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>
            <a:off x="3059280" y="4005360"/>
            <a:ext cx="2286000" cy="159552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Inn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7"/>
          <p:cNvSpPr/>
          <p:nvPr/>
        </p:nvSpPr>
        <p:spPr>
          <a:xfrm>
            <a:off x="6156360" y="3933720"/>
            <a:ext cx="2286000" cy="152424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Infra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e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stru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1547640" y="5221440"/>
            <a:ext cx="2286000" cy="144756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6960" bIns="-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Diversificación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5029200" y="5229360"/>
            <a:ext cx="2286000" cy="1447560"/>
          </a:xfrm>
          <a:prstGeom prst="pie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6960" bIns="-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Administrac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ión</a:t>
            </a: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ahoma"/>
              </a:rPr>
              <a:t>p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181080" y="1924200"/>
            <a:ext cx="2087280" cy="3809880"/>
          </a:xfrm>
          <a:custGeom>
            <a:avLst/>
            <a:gdLst>
              <a:gd name="textAreaLeft" fmla="*/ 101880 w 2087280"/>
              <a:gd name="textAreaRight" fmla="*/ 1985400 w 2087280"/>
              <a:gd name="textAreaTop" fmla="*/ 101880 h 3809880"/>
              <a:gd name="textAreaBottom" fmla="*/ 3708000 h 3809880"/>
            </a:gdLst>
            <a:ahLst/>
            <a:rect l="textAreaLeft" t="textAreaTop" r="textAreaRight" b="textAreaBottom"/>
            <a:pathLst>
              <a:path w="21600" h="39423">
                <a:moveTo>
                  <a:pt x="3600" y="0"/>
                </a:moveTo>
                <a:arcTo wR="3600" hR="3600" stAng="16200000" swAng="-5400000"/>
                <a:lnTo>
                  <a:pt x="0" y="35823"/>
                </a:lnTo>
                <a:arcTo wR="3600" hR="3600" stAng="10800000" swAng="-5400000"/>
                <a:lnTo>
                  <a:pt x="18000" y="394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62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Una seri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edidas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interconectadas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que tienen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objetivo </a:t>
            </a:r>
            <a:r>
              <a:rPr b="1" lang="pl-P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garantizar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911160" y="1422360"/>
            <a:ext cx="7059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Artículo 2 de la Ley sobre los principios de la política de desar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780000" y="1844640"/>
            <a:ext cx="5105160" cy="4572000"/>
          </a:xfrm>
          <a:custGeom>
            <a:avLst/>
            <a:gdLst>
              <a:gd name="textAreaLeft" fmla="*/ 1540440 w 5105160"/>
              <a:gd name="textAreaRight" fmla="*/ 3510000 w 5105160"/>
              <a:gd name="textAreaTop" fmla="*/ 649440 h 4572000"/>
              <a:gd name="textAreaBottom" fmla="*/ 392256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5292720" y="2276640"/>
            <a:ext cx="3429000" cy="3276360"/>
          </a:xfrm>
          <a:custGeom>
            <a:avLst/>
            <a:gdLst>
              <a:gd name="textAreaLeft" fmla="*/ 1034640 w 3429000"/>
              <a:gd name="textAreaRight" fmla="*/ 2357640 w 3429000"/>
              <a:gd name="textAreaTop" fmla="*/ 465480 h 3276360"/>
              <a:gd name="textAreaBottom" fmla="*/ 281088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6516720" y="2852640"/>
            <a:ext cx="2133720" cy="1981440"/>
          </a:xfrm>
          <a:custGeom>
            <a:avLst/>
            <a:gdLst>
              <a:gd name="textAreaLeft" fmla="*/ 643680 w 2133720"/>
              <a:gd name="textAreaRight" fmla="*/ 1467000 w 2133720"/>
              <a:gd name="textAreaTop" fmla="*/ 281520 h 1981440"/>
              <a:gd name="textAreaBottom" fmla="*/ 169992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225" y="2664"/>
                  <a:pt x="14850" y="5080"/>
                  <a:pt x="14850" y="10800"/>
                </a:cubicBezTo>
                <a:cubicBezTo>
                  <a:pt x="14850" y="16520"/>
                  <a:pt x="18225" y="1893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385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4"/>
          <p:cNvSpPr/>
          <p:nvPr/>
        </p:nvSpPr>
        <p:spPr>
          <a:xfrm>
            <a:off x="1968480" y="2214720"/>
            <a:ext cx="5483160" cy="114300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arrollo sostenible del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1835280" y="3284640"/>
            <a:ext cx="5497560" cy="116028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Cohesión socioeconómica regional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5"/>
          <p:cNvSpPr/>
          <p:nvPr/>
        </p:nvSpPr>
        <p:spPr>
          <a:xfrm>
            <a:off x="1882800" y="4356000"/>
            <a:ext cx="5497560" cy="116064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Mejora de la competitividad de la economía</a:t>
            </a:r>
            <a:r>
              <a:rPr b="1" lang="pl-P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 creación de nuevos puestos de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 rot="1200000">
            <a:off x="6667560" y="39686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escala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 rot="1020000">
            <a:off x="6311160" y="5479920"/>
            <a:ext cx="16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 escal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 rot="1140000">
            <a:off x="7309080" y="49672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 escala regional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OL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ÍTICA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3551400" y="189000"/>
            <a:ext cx="55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ircunstancias e indicios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strategia Nacional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upa 1"/>
          <p:cNvGrpSpPr/>
          <p:nvPr/>
        </p:nvGrpSpPr>
        <p:grpSpPr>
          <a:xfrm>
            <a:off x="324000" y="1270080"/>
            <a:ext cx="8496000" cy="5311440"/>
            <a:chOff x="324000" y="1270080"/>
            <a:chExt cx="8496000" cy="5311440"/>
          </a:xfrm>
        </p:grpSpPr>
        <p:grpSp>
          <p:nvGrpSpPr>
            <p:cNvPr id="405" name="Group 31"/>
            <p:cNvGrpSpPr/>
            <p:nvPr/>
          </p:nvGrpSpPr>
          <p:grpSpPr>
            <a:xfrm>
              <a:off x="350640" y="1270080"/>
              <a:ext cx="3429000" cy="1904760"/>
              <a:chOff x="350640" y="1270080"/>
              <a:chExt cx="3429000" cy="1904760"/>
            </a:xfrm>
          </p:grpSpPr>
          <p:sp>
            <p:nvSpPr>
              <p:cNvPr id="406" name="Line 32"/>
              <p:cNvSpPr/>
              <p:nvPr/>
            </p:nvSpPr>
            <p:spPr>
              <a:xfrm>
                <a:off x="3475080" y="2946240"/>
                <a:ext cx="30456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33"/>
              <p:cNvSpPr/>
              <p:nvPr/>
            </p:nvSpPr>
            <p:spPr>
              <a:xfrm>
                <a:off x="350640" y="1270080"/>
                <a:ext cx="3200400" cy="1828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d927"/>
                  </a:gs>
                  <a:gs pos="50000">
                    <a:srgbClr val="ddebcf"/>
                  </a:gs>
                  <a:gs pos="100000">
                    <a:srgbClr val="bbd9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nteriores</a:t>
                </a:r>
                <a:r>
                  <a:rPr b="1" lang="en-GB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4"/>
              <p:cNvSpPr/>
              <p:nvPr/>
            </p:nvSpPr>
            <p:spPr>
              <a:xfrm>
                <a:off x="503280" y="1650960"/>
                <a:ext cx="2895480" cy="12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Funcionamiento del sistem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inst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tu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on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-regula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Retraso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poten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y ac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Diversificación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reg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90000"/>
                  </a:lnSpc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Aspira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ones de los ciudad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5"/>
            <p:cNvGrpSpPr/>
            <p:nvPr/>
          </p:nvGrpSpPr>
          <p:grpSpPr>
            <a:xfrm>
              <a:off x="324000" y="4509720"/>
              <a:ext cx="3429000" cy="1981440"/>
              <a:chOff x="324000" y="4509720"/>
              <a:chExt cx="3429000" cy="1981440"/>
            </a:xfrm>
          </p:grpSpPr>
          <p:sp>
            <p:nvSpPr>
              <p:cNvPr id="410" name="AutoShape 36"/>
              <p:cNvSpPr/>
              <p:nvPr/>
            </p:nvSpPr>
            <p:spPr>
              <a:xfrm>
                <a:off x="324000" y="4738680"/>
                <a:ext cx="3200400" cy="175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ccff"/>
                  </a:gs>
                  <a:gs pos="50000">
                    <a:srgbClr val="ccecff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nfluencia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de la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 integraci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ón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 europe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a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7"/>
              <p:cNvSpPr/>
              <p:nvPr/>
            </p:nvSpPr>
            <p:spPr>
              <a:xfrm flipV="1">
                <a:off x="3476520" y="4509720"/>
                <a:ext cx="276480" cy="276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8"/>
              <p:cNvSpPr/>
              <p:nvPr/>
            </p:nvSpPr>
            <p:spPr>
              <a:xfrm>
                <a:off x="476280" y="5275080"/>
                <a:ext cx="289548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Oportunidades de desarroll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mpromisos del País Miemb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gest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9"/>
            <p:cNvGrpSpPr/>
            <p:nvPr/>
          </p:nvGrpSpPr>
          <p:grpSpPr>
            <a:xfrm>
              <a:off x="5319720" y="1270080"/>
              <a:ext cx="3429000" cy="1905120"/>
              <a:chOff x="5319720" y="1270080"/>
              <a:chExt cx="3429000" cy="1905120"/>
            </a:xfrm>
          </p:grpSpPr>
          <p:sp>
            <p:nvSpPr>
              <p:cNvPr id="414" name="AutoShape 40"/>
              <p:cNvSpPr/>
              <p:nvPr/>
            </p:nvSpPr>
            <p:spPr>
              <a:xfrm>
                <a:off x="5624280" y="1270080"/>
                <a:ext cx="3124440" cy="1752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ccff"/>
                  </a:gs>
                  <a:gs pos="50000">
                    <a:srgbClr val="ccecff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S</a:t>
                </a: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istema de valores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5319720" y="2946600"/>
                <a:ext cx="30456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42"/>
              <p:cNvSpPr/>
              <p:nvPr/>
            </p:nvSpPr>
            <p:spPr>
              <a:xfrm>
                <a:off x="5700600" y="1727280"/>
                <a:ext cx="297180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Estado solida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S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ociedad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iv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Cohesión social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económica y territo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43"/>
            <p:cNvGrpSpPr/>
            <p:nvPr/>
          </p:nvGrpSpPr>
          <p:grpSpPr>
            <a:xfrm>
              <a:off x="5390640" y="4676400"/>
              <a:ext cx="3429360" cy="1905120"/>
              <a:chOff x="5390640" y="4676400"/>
              <a:chExt cx="3429360" cy="1905120"/>
            </a:xfrm>
          </p:grpSpPr>
          <p:sp>
            <p:nvSpPr>
              <p:cNvPr id="418" name="AutoShape 44"/>
              <p:cNvSpPr/>
              <p:nvPr/>
            </p:nvSpPr>
            <p:spPr>
              <a:xfrm>
                <a:off x="5695920" y="4829040"/>
                <a:ext cx="3124080" cy="175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ad826"/>
                  </a:gs>
                  <a:gs pos="50000">
                    <a:srgbClr val="ddebcf"/>
                  </a:gs>
                  <a:gs pos="100000">
                    <a:srgbClr val="bad8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99"/>
                    </a:solidFill>
                    <a:latin typeface="Tahoma"/>
                  </a:rPr>
                  <a:t>Exteriores</a:t>
                </a:r>
                <a:r>
                  <a:rPr b="1" lang="pl-PL" sz="1600" spc="-1" strike="noStrike">
                    <a:solidFill>
                      <a:srgbClr val="000099"/>
                    </a:solidFill>
                    <a:latin typeface="Tahoma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45"/>
              <p:cNvSpPr/>
              <p:nvPr/>
            </p:nvSpPr>
            <p:spPr>
              <a:xfrm>
                <a:off x="5771880" y="5209920"/>
                <a:ext cx="2971800" cy="11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spAutoFit/>
              </a:bodyPr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99"/>
                    </a:solidFill>
                    <a:latin typeface="Times New Roman"/>
                  </a:rPr>
                  <a:t>Globaliz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Retos en materia de la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energ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ética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,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el medioambiente y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la </a:t>
                </a:r>
                <a:r>
                  <a:rPr b="0" lang="pl-PL" sz="1600" spc="-1" strike="noStrike">
                    <a:solidFill>
                      <a:srgbClr val="000099"/>
                    </a:solidFill>
                    <a:latin typeface="Times New Roman"/>
                  </a:rPr>
                  <a:t>migrac</a:t>
                </a: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8280" indent="-98280">
                  <a:lnSpc>
                    <a:spcPct val="100000"/>
                  </a:lnSpc>
                  <a:spcBef>
                    <a:spcPts val="201"/>
                  </a:spcBef>
                  <a:spcAft>
                    <a:spcPts val="99"/>
                  </a:spcAft>
                  <a:buClr>
                    <a:srgbClr val="000099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99"/>
                    </a:solidFill>
                    <a:latin typeface="Times New Roman"/>
                  </a:rPr>
                  <a:t>Seguridad intern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6"/>
              <p:cNvSpPr/>
              <p:nvPr/>
            </p:nvSpPr>
            <p:spPr>
              <a:xfrm flipH="1" flipV="1">
                <a:off x="5390640" y="4676400"/>
                <a:ext cx="304920" cy="22860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Oval 47"/>
            <p:cNvSpPr/>
            <p:nvPr/>
          </p:nvSpPr>
          <p:spPr>
            <a:xfrm>
              <a:off x="3564000" y="2881440"/>
              <a:ext cx="2087280" cy="208764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Objetivos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p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rior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idades y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p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roces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o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i</a:t>
              </a:r>
              <a:r>
                <a:rPr b="1" lang="pl-PL" sz="1600" spc="-1" strike="noStrike">
                  <a:solidFill>
                    <a:srgbClr val="0033cc"/>
                  </a:solidFill>
                  <a:latin typeface="Tahoma"/>
                </a:rPr>
                <a:t>mplementaci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ón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la Estrateg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</a:rPr>
                <a:t>Nacional de Desarrol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un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to de 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250920" y="1341360"/>
            <a:ext cx="4392360" cy="4537080"/>
          </a:xfrm>
          <a:custGeom>
            <a:avLst/>
            <a:gdLst>
              <a:gd name="textAreaLeft" fmla="*/ 214200 w 4392360"/>
              <a:gd name="textAreaRight" fmla="*/ 4178160 w 4392360"/>
              <a:gd name="textAreaTop" fmla="*/ 214200 h 4537080"/>
              <a:gd name="textAreaBottom" fmla="*/ 4322880 h 4537080"/>
            </a:gdLst>
            <a:ahLst/>
            <a:rect l="textAreaLeft" t="textAreaTop" r="textAreaRight" b="textAreaBottom"/>
            <a:pathLst>
              <a:path w="21600" h="22312">
                <a:moveTo>
                  <a:pt x="3600" y="0"/>
                </a:moveTo>
                <a:arcTo wR="3600" hR="3600" stAng="16200000" swAng="-5400000"/>
                <a:lnTo>
                  <a:pt x="0" y="18712"/>
                </a:lnTo>
                <a:arcTo wR="3600" hR="3600" stAng="10800000" swAng="-5400000"/>
                <a:lnTo>
                  <a:pt x="18000" y="22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70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spcAft>
                <a:spcPts val="5499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611280" y="227664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0 estrategi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611280" y="317664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ope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611280" y="4076640"/>
            <a:ext cx="3673440" cy="68436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3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/>
          <p:cNvSpPr/>
          <p:nvPr/>
        </p:nvSpPr>
        <p:spPr>
          <a:xfrm>
            <a:off x="611280" y="5013360"/>
            <a:ext cx="3673440" cy="684000"/>
          </a:xfrm>
          <a:prstGeom prst="roundRect">
            <a:avLst>
              <a:gd name="adj" fmla="val 16593"/>
            </a:avLst>
          </a:prstGeom>
          <a:solidFill>
            <a:srgbClr val="003366">
              <a:alpha val="54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4 otr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3480" y="6308640"/>
            <a:ext cx="6214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2008 – reducción del número de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do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cumentos de 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406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 a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 2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859280" y="1413000"/>
            <a:ext cx="41054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Debilidad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e ineficacia del sistema de programación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Conección insuficiente entre el nivel de programación y nivel opera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Cooperación insuficiente entre entidades que realizan la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política de desarrollo</a:t>
            </a:r>
            <a:r>
              <a:rPr b="1" lang="en-GB" sz="1700" spc="-1" strike="noStrike">
                <a:solidFill>
                  <a:srgbClr val="004f8a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Separación de la planificacón territorial de la planificación </a:t>
            </a:r>
            <a:r>
              <a:rPr b="1" lang="pl-PL" sz="1700" spc="-1" strike="noStrike" u="sng">
                <a:solidFill>
                  <a:srgbClr val="004f8a"/>
                </a:solidFill>
                <a:uFillTx/>
                <a:latin typeface="Arial"/>
              </a:rPr>
              <a:t>socio</a:t>
            </a:r>
            <a:r>
              <a:rPr b="1" lang="es-ES_tradnl" sz="1700" spc="-1" strike="noStrike" u="sng">
                <a:solidFill>
                  <a:srgbClr val="004f8a"/>
                </a:solidFill>
                <a:uFillTx/>
                <a:latin typeface="Arial"/>
              </a:rPr>
              <a:t>económica</a:t>
            </a:r>
            <a:r>
              <a:rPr b="1" lang="en-GB" sz="1700" spc="-1" strike="noStrike" u="sng">
                <a:solidFill>
                  <a:srgbClr val="004f8a"/>
                </a:solidFill>
                <a:uFillTx/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Relaciones entre la </a:t>
            </a:r>
            <a:r>
              <a:rPr b="1" lang="pl-PL" sz="1700" spc="-1" strike="noStrike">
                <a:solidFill>
                  <a:srgbClr val="004f8a"/>
                </a:solidFill>
                <a:latin typeface="Arial"/>
              </a:rPr>
              <a:t>política de desarrollo</a:t>
            </a: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 y política regional insuficientemente determinada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638"/>
              </a:spcAft>
              <a:buClr>
                <a:srgbClr val="004f8a"/>
              </a:buClr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4f8a"/>
                </a:solidFill>
                <a:latin typeface="Arial"/>
              </a:rPr>
              <a:t>Falta de un sistema transparente de financiación de la política de dasar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564000" y="3636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Medidas para aumentar la eficacia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812880" y="1486080"/>
            <a:ext cx="7791480" cy="647640"/>
          </a:xfrm>
          <a:custGeom>
            <a:avLst/>
            <a:gdLst>
              <a:gd name="textAreaLeft" fmla="*/ 0 w 7791480"/>
              <a:gd name="textAreaRight" fmla="*/ 7791840 w 7791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5" y="0"/>
                </a:lnTo>
                <a:lnTo>
                  <a:pt x="21600" y="10800"/>
                </a:lnTo>
                <a:lnTo>
                  <a:pt x="197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Preparaci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ó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n de 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la propuesta de soluciones de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irectrices del sistema de gestión del desarrollo polaco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- 27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e abril de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826920" y="2276640"/>
            <a:ext cx="7777440" cy="936360"/>
          </a:xfrm>
          <a:custGeom>
            <a:avLst/>
            <a:gdLst>
              <a:gd name="textAreaLeft" fmla="*/ 0 w 7777440"/>
              <a:gd name="textAreaRight" fmla="*/ 7777800 w 777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68" y="0"/>
                </a:lnTo>
                <a:lnTo>
                  <a:pt x="21600" y="10800"/>
                </a:lnTo>
                <a:lnTo>
                  <a:pt x="197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Medidas legislati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Enmiendas a la Ley de 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de diciembre de 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2006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sobre los principios  de la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polít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desarroll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Ley de Finanzas Públicas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;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 Ley de Planificación y Desarroll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9"/>
          <p:cNvSpPr/>
          <p:nvPr/>
        </p:nvSpPr>
        <p:spPr>
          <a:xfrm>
            <a:off x="826920" y="3357720"/>
            <a:ext cx="7777440" cy="1152360"/>
          </a:xfrm>
          <a:custGeom>
            <a:avLst/>
            <a:gdLst>
              <a:gd name="textAreaLeft" fmla="*/ 0 w 7777440"/>
              <a:gd name="textAreaRight" fmla="*/ 7777800 w 77774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5" y="0"/>
                </a:lnTo>
                <a:lnTo>
                  <a:pt x="21600" y="10800"/>
                </a:lnTo>
                <a:lnTo>
                  <a:pt x="197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Preparación de los principales 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instrument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os de 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implementac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ión</a:t>
            </a: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Estrategia Nacional de Desarrollo a Largo Plazo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ctualización de la Estrategia Nacional de Desarrollo a Medio Plazo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Plan de Reorganización de la Estrategia de Desarrollo 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aprobado el 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24 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de noviembre de</a:t>
            </a:r>
            <a:r>
              <a:rPr b="1" lang="pl-PL" sz="1200" spc="-1" strike="noStrike">
                <a:solidFill>
                  <a:srgbClr val="ffffcc"/>
                </a:solidFill>
                <a:latin typeface="Arial"/>
              </a:rPr>
              <a:t> 2009</a:t>
            </a: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812880" y="4653000"/>
            <a:ext cx="7791480" cy="792000"/>
          </a:xfrm>
          <a:custGeom>
            <a:avLst/>
            <a:gdLst>
              <a:gd name="textAreaLeft" fmla="*/ 0 w 7791480"/>
              <a:gd name="textAreaRight" fmla="*/ 7791840 w 7791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1" y="0"/>
                </a:lnTo>
                <a:lnTo>
                  <a:pt x="21600" y="10800"/>
                </a:lnTo>
                <a:lnTo>
                  <a:pt x="198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Evaluación de la conformidad de la estrategia 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y programas 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con l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 Estrategia Nacional de Desarrollo a medi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820800" y="5661000"/>
            <a:ext cx="7783560" cy="792360"/>
          </a:xfrm>
          <a:custGeom>
            <a:avLst/>
            <a:gdLst>
              <a:gd name="textAreaLeft" fmla="*/ 0 w 7783560"/>
              <a:gd name="textAreaRight" fmla="*/ 7783920 w 77835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94" y="0"/>
                </a:lnTo>
                <a:lnTo>
                  <a:pt x="21600" y="10800"/>
                </a:lnTo>
                <a:lnTo>
                  <a:pt x="197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Refuerzo de la administración pública</a:t>
            </a:r>
            <a:r>
              <a:rPr b="1" lang="pl-PL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en lo que se refiera a la gestión de desarrollo</a:t>
            </a: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pro</a:t>
            </a: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yecto</a:t>
            </a:r>
            <a:r>
              <a:rPr b="1" lang="pl-PL" sz="1400" spc="-1" strike="noStrike">
                <a:solidFill>
                  <a:srgbClr val="ffffcc"/>
                </a:solidFill>
                <a:latin typeface="Arial"/>
              </a:rPr>
              <a:t> PO KL</a:t>
            </a: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Sistema de vínculos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y coordinación de los document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upa 3"/>
          <p:cNvGrpSpPr/>
          <p:nvPr/>
        </p:nvGrpSpPr>
        <p:grpSpPr>
          <a:xfrm>
            <a:off x="179280" y="1125360"/>
            <a:ext cx="8856720" cy="5752080"/>
            <a:chOff x="179280" y="1125360"/>
            <a:chExt cx="8856720" cy="5752080"/>
          </a:xfrm>
        </p:grpSpPr>
        <p:sp>
          <p:nvSpPr>
            <p:cNvPr id="439" name="AutoShape 41"/>
            <p:cNvSpPr/>
            <p:nvPr/>
          </p:nvSpPr>
          <p:spPr>
            <a:xfrm>
              <a:off x="1222200" y="1125360"/>
              <a:ext cx="7166160" cy="934920"/>
            </a:xfrm>
            <a:prstGeom prst="pie">
              <a:avLst/>
            </a:prstGeom>
            <a:solidFill>
              <a:srgbClr val="33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Estrategia Nacional de Desarroll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a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(desarrollo </a:t>
              </a: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socioeconómico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 y territorial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cepto de la Ordenación Territorial del Pa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179280" y="1989000"/>
              <a:ext cx="912600" cy="46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99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a de C</a:t>
              </a:r>
              <a:r>
                <a:rPr b="1" lang="pl-PL" sz="800" spc="-1" strike="noStrike">
                  <a:solidFill>
                    <a:srgbClr val="003399"/>
                  </a:solidFill>
                  <a:latin typeface="Arial"/>
                </a:rPr>
                <a:t>on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vergenc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"/>
            <p:cNvSpPr/>
            <p:nvPr/>
          </p:nvSpPr>
          <p:spPr>
            <a:xfrm>
              <a:off x="323640" y="2565000"/>
              <a:ext cx="799920" cy="449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3399"/>
                  </a:solidFill>
                  <a:latin typeface="Arial"/>
                </a:rPr>
                <a:t>Plan</a:t>
              </a:r>
              <a:r>
                <a:rPr b="1" lang="es-ES_tradnl" sz="800" spc="-1" strike="noStrike">
                  <a:solidFill>
                    <a:srgbClr val="003399"/>
                  </a:solidFill>
                  <a:latin typeface="Arial"/>
                </a:rPr>
                <a:t> Plurianual de Financi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5"/>
            <p:cNvSpPr/>
            <p:nvPr/>
          </p:nvSpPr>
          <p:spPr>
            <a:xfrm>
              <a:off x="323640" y="3285720"/>
              <a:ext cx="768240" cy="46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240" rIns="5724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cc"/>
                  </a:solidFill>
                  <a:latin typeface="Arial"/>
                </a:rPr>
                <a:t>Program</a:t>
              </a: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a Nacional de </a:t>
              </a:r>
              <a:r>
                <a:rPr b="1" lang="pl-PL" sz="900" spc="-1" strike="noStrike">
                  <a:solidFill>
                    <a:srgbClr val="0000cc"/>
                  </a:solidFill>
                  <a:latin typeface="Arial"/>
                </a:rPr>
                <a:t> Reform</a:t>
              </a: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0"/>
            <p:cNvSpPr/>
            <p:nvPr/>
          </p:nvSpPr>
          <p:spPr>
            <a:xfrm>
              <a:off x="1279440" y="3157200"/>
              <a:ext cx="825480" cy="63180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trategia</a:t>
              </a: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 Nacional de Cohesión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(NSR</a:t>
              </a: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900"/>
              </a:b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>
              <a:off x="1114200" y="2260440"/>
              <a:ext cx="1152360" cy="1728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43"/>
            <p:cNvSpPr/>
            <p:nvPr/>
          </p:nvSpPr>
          <p:spPr>
            <a:xfrm>
              <a:off x="2411280" y="2277720"/>
              <a:ext cx="4681440" cy="502920"/>
            </a:xfrm>
            <a:prstGeom prst="pie">
              <a:avLst/>
            </a:prstGeom>
            <a:solidFill>
              <a:srgbClr val="0099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strategia Nacional de Desarrollo a Medio Plazo 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(contexto</a:t>
              </a:r>
              <a:r>
                <a:rPr b="0" lang="pl-PL" sz="1000" spc="-1" strike="noStrike">
                  <a:solidFill>
                    <a:srgbClr val="ffffff"/>
                  </a:solidFill>
                  <a:latin typeface="Arial"/>
                </a:rPr>
                <a:t>: económico, social 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 y territorial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br>
                <a:rPr sz="11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 flipV="1">
              <a:off x="4356000" y="1843920"/>
              <a:ext cx="0" cy="2156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5"/>
            <p:cNvSpPr/>
            <p:nvPr/>
          </p:nvSpPr>
          <p:spPr>
            <a:xfrm flipV="1">
              <a:off x="4572000" y="2059920"/>
              <a:ext cx="0" cy="2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 flipH="1">
              <a:off x="681840" y="2420640"/>
              <a:ext cx="1873080" cy="865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7"/>
            <p:cNvSpPr/>
            <p:nvPr/>
          </p:nvSpPr>
          <p:spPr>
            <a:xfrm flipV="1">
              <a:off x="1164960" y="2420640"/>
              <a:ext cx="1245960" cy="41112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8"/>
            <p:cNvSpPr/>
            <p:nvPr/>
          </p:nvSpPr>
          <p:spPr>
            <a:xfrm>
              <a:off x="1617480" y="3716280"/>
              <a:ext cx="1440" cy="1474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3"/>
            <p:cNvSpPr/>
            <p:nvPr/>
          </p:nvSpPr>
          <p:spPr>
            <a:xfrm>
              <a:off x="1293480" y="5118120"/>
              <a:ext cx="685800" cy="40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 Opera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ivos Nacion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7"/>
            <p:cNvSpPr/>
            <p:nvPr/>
          </p:nvSpPr>
          <p:spPr>
            <a:xfrm>
              <a:off x="2124000" y="5445000"/>
              <a:ext cx="42480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 innovación y eficacia de la economí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l capital humano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el 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transport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 seguridad energética y medioambiente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stado Eficiente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desarrollo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del capital social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 Nacional 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gional – Region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es Ciudades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Zonas rur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Sostenible de las zonas rurales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, 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agricultura y pesc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80880" indent="-380880">
                <a:buClr>
                  <a:srgbClr val="0033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trategia de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esarrollo </a:t>
              </a:r>
              <a:r>
                <a:rPr b="1" i="1" lang="es-ES_tradnl" sz="800" spc="-1" strike="noStrike">
                  <a:solidFill>
                    <a:srgbClr val="0033cc"/>
                  </a:solidFill>
                  <a:latin typeface="Arial"/>
                </a:rPr>
                <a:t>del sistema de seguridad nacional de Polonia</a:t>
              </a:r>
              <a:r>
                <a:rPr b="1" i="1" lang="pl-PL" sz="800" spc="-1" strike="noStrike">
                  <a:solidFill>
                    <a:srgbClr val="0033cc"/>
                  </a:solidFill>
                  <a:latin typeface="Arial"/>
                </a:rPr>
                <a:t>  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51"/>
            <p:cNvSpPr/>
            <p:nvPr/>
          </p:nvSpPr>
          <p:spPr>
            <a:xfrm>
              <a:off x="2914560" y="2997000"/>
              <a:ext cx="3097080" cy="21564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"/>
                </a:rPr>
                <a:t>Otras estrategias  de desarroll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 flipV="1">
              <a:off x="4572000" y="2780640"/>
              <a:ext cx="0" cy="2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1"/>
            <p:cNvSpPr/>
            <p:nvPr/>
          </p:nvSpPr>
          <p:spPr>
            <a:xfrm>
              <a:off x="2266920" y="3355920"/>
              <a:ext cx="2160360" cy="36036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rategias de desarrollo integrad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4611600" y="3355920"/>
              <a:ext cx="2047680" cy="36036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</a:rPr>
                <a:t>Estrategias referentes al desarrollo de las reg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 flipH="1">
              <a:off x="2771280" y="3089160"/>
              <a:ext cx="177480" cy="19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8"/>
            <p:cNvSpPr/>
            <p:nvPr/>
          </p:nvSpPr>
          <p:spPr>
            <a:xfrm>
              <a:off x="2555640" y="4555800"/>
              <a:ext cx="661680" cy="38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 de desarrol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9"/>
            <p:cNvSpPr/>
            <p:nvPr/>
          </p:nvSpPr>
          <p:spPr>
            <a:xfrm>
              <a:off x="2916000" y="3717720"/>
              <a:ext cx="0" cy="863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3635280" y="3933720"/>
              <a:ext cx="118260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Krajowa Strategia de desarrollo Regionalne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5"/>
            <p:cNvSpPr/>
            <p:nvPr/>
          </p:nvSpPr>
          <p:spPr>
            <a:xfrm>
              <a:off x="5076720" y="3933720"/>
              <a:ext cx="100800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Estrategias supraregion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 flipH="1">
              <a:off x="4427280" y="3717720"/>
              <a:ext cx="28872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6"/>
            <p:cNvSpPr/>
            <p:nvPr/>
          </p:nvSpPr>
          <p:spPr>
            <a:xfrm>
              <a:off x="5435640" y="3717720"/>
              <a:ext cx="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7"/>
            <p:cNvSpPr/>
            <p:nvPr/>
          </p:nvSpPr>
          <p:spPr>
            <a:xfrm>
              <a:off x="6156360" y="3716280"/>
              <a:ext cx="360360" cy="2156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6154560" y="3933720"/>
              <a:ext cx="1081080" cy="431640"/>
            </a:xfrm>
            <a:prstGeom prst="rect">
              <a:avLst/>
            </a:prstGeom>
            <a:solidFill>
              <a:srgbClr val="cc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60" rIns="1116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Arial"/>
                </a:rPr>
                <a:t>Estrategias de desarrollo województ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6"/>
            <p:cNvSpPr/>
            <p:nvPr/>
          </p:nvSpPr>
          <p:spPr>
            <a:xfrm>
              <a:off x="6443640" y="4508280"/>
              <a:ext cx="865080" cy="725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Estrategias de desarrollo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locales</a:t>
              </a:r>
              <a:br>
                <a:rPr sz="800"/>
              </a:b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(municipios, ciudades, otro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364000" y="5084640"/>
              <a:ext cx="844560" cy="45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vos Region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804000" y="5497560"/>
              <a:ext cx="863640" cy="523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7e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rogram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as y planes </a:t>
              </a:r>
              <a:r>
                <a:rPr b="1" lang="pl-PL" sz="800" spc="-1" strike="noStrike">
                  <a:solidFill>
                    <a:srgbClr val="000000"/>
                  </a:solidFill>
                  <a:latin typeface="Arial"/>
                </a:rPr>
                <a:t>de desarrollo</a:t>
              </a: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 regionales y loc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7020000" y="5268960"/>
              <a:ext cx="0" cy="1760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8"/>
            <p:cNvSpPr/>
            <p:nvPr/>
          </p:nvSpPr>
          <p:spPr>
            <a:xfrm>
              <a:off x="7667640" y="3408120"/>
              <a:ext cx="1296720" cy="884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Plan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es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 de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esarrollo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 Teriitoriales de Voivodí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9"/>
            <p:cNvSpPr/>
            <p:nvPr/>
          </p:nvSpPr>
          <p:spPr>
            <a:xfrm>
              <a:off x="7739280" y="5589360"/>
              <a:ext cx="1296720" cy="863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P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lan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es</a:t>
              </a:r>
              <a:r>
                <a:rPr b="0" lang="pl-PL" sz="1000" spc="-1" strike="noStrike">
                  <a:solidFill>
                    <a:srgbClr val="003399"/>
                  </a:solidFill>
                  <a:latin typeface="Arial"/>
                </a:rPr>
                <a:t> de desarrollo </a:t>
              </a:r>
              <a:r>
                <a:rPr b="0" lang="es-ES_tradnl" sz="1000" spc="-1" strike="noStrike">
                  <a:solidFill>
                    <a:srgbClr val="003399"/>
                  </a:solidFill>
                  <a:latin typeface="Arial"/>
                </a:rPr>
                <a:t>territorial loc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50"/>
            <p:cNvSpPr/>
            <p:nvPr/>
          </p:nvSpPr>
          <p:spPr>
            <a:xfrm>
              <a:off x="7632720" y="4514760"/>
              <a:ext cx="1403280" cy="930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3399"/>
                  </a:solidFill>
                  <a:latin typeface="Arial"/>
                </a:rPr>
                <a:t>Estudios referentes a las condiciones </a:t>
              </a:r>
              <a:r>
                <a:rPr b="0" lang="pl-PL" sz="900" spc="-1" strike="noStrike">
                  <a:solidFill>
                    <a:srgbClr val="003399"/>
                  </a:solidFill>
                  <a:latin typeface="Arial"/>
                </a:rPr>
                <a:t>de desarrollo </a:t>
              </a:r>
              <a:r>
                <a:rPr b="0" lang="es-ES_tradnl" sz="900" spc="-1" strike="noStrike">
                  <a:solidFill>
                    <a:srgbClr val="003399"/>
                  </a:solidFill>
                  <a:latin typeface="Arial"/>
                </a:rPr>
                <a:t>territorial de los municip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3"/>
            <p:cNvSpPr/>
            <p:nvPr/>
          </p:nvSpPr>
          <p:spPr>
            <a:xfrm>
              <a:off x="8172360" y="5443560"/>
              <a:ext cx="0" cy="217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4"/>
            <p:cNvSpPr/>
            <p:nvPr/>
          </p:nvSpPr>
          <p:spPr>
            <a:xfrm>
              <a:off x="7308720" y="4005000"/>
              <a:ext cx="358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1"/>
            <p:cNvSpPr/>
            <p:nvPr/>
          </p:nvSpPr>
          <p:spPr>
            <a:xfrm>
              <a:off x="7380360" y="4732200"/>
              <a:ext cx="215640" cy="64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>
              <a:off x="8317080" y="4362120"/>
              <a:ext cx="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6012000" y="3089160"/>
              <a:ext cx="109440" cy="195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58"/>
            <p:cNvSpPr/>
            <p:nvPr/>
          </p:nvSpPr>
          <p:spPr>
            <a:xfrm>
              <a:off x="3995640" y="371772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>
              <a:off x="7669440" y="1699920"/>
              <a:ext cx="1079280" cy="1800000"/>
            </a:xfrm>
            <a:prstGeom prst="line">
              <a:avLst/>
            </a:prstGeom>
            <a:ln w="1260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9"/>
            <p:cNvSpPr/>
            <p:nvPr/>
          </p:nvSpPr>
          <p:spPr>
            <a:xfrm>
              <a:off x="6588000" y="2636640"/>
              <a:ext cx="43164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0"/>
            <p:cNvSpPr/>
            <p:nvPr/>
          </p:nvSpPr>
          <p:spPr>
            <a:xfrm>
              <a:off x="1115640" y="350028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2"/>
            <p:cNvSpPr/>
            <p:nvPr/>
          </p:nvSpPr>
          <p:spPr>
            <a:xfrm flipH="1">
              <a:off x="6012000" y="4365360"/>
              <a:ext cx="288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53"/>
            <p:cNvSpPr/>
            <p:nvPr/>
          </p:nvSpPr>
          <p:spPr>
            <a:xfrm>
              <a:off x="2050920" y="37890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54"/>
            <p:cNvSpPr/>
            <p:nvPr/>
          </p:nvSpPr>
          <p:spPr>
            <a:xfrm>
              <a:off x="2050920" y="5229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5"/>
            <p:cNvSpPr/>
            <p:nvPr/>
          </p:nvSpPr>
          <p:spPr>
            <a:xfrm>
              <a:off x="3924360" y="3716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57"/>
            <p:cNvSpPr/>
            <p:nvPr/>
          </p:nvSpPr>
          <p:spPr>
            <a:xfrm flipH="1">
              <a:off x="1763280" y="2491920"/>
              <a:ext cx="936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5"/>
          <p:cNvSpPr/>
          <p:nvPr/>
        </p:nvSpPr>
        <p:spPr>
          <a:xfrm>
            <a:off x="395280" y="2205000"/>
            <a:ext cx="8497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Pre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enta principales tendencias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, 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retos y escenarios del desarrollo 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ocio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económico del país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Señala orientación del desarrollo territorial del paí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Contiene recomendaciones para la estrategia de desarrollo a medio plazo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Abarca el período mínimo de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15</a:t>
            </a:r>
            <a:r>
              <a:rPr b="0" lang="pl-P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70c0"/>
                </a:solidFill>
                <a:latin typeface="Tahoma"/>
                <a:ea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strategia de desarrollo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3564000" y="26028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971640" y="1357200"/>
            <a:ext cx="7561080" cy="70344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ole tekstowe 3"/>
          <p:cNvSpPr/>
          <p:nvPr/>
        </p:nvSpPr>
        <p:spPr>
          <a:xfrm>
            <a:off x="971640" y="220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TIVO PRINCIPAL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calidad de vida en Polonia basándose en un estable y alto crecimiento económico que lleve a la modernización económica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ole tekstowe 5"/>
          <p:cNvSpPr/>
          <p:nvPr/>
        </p:nvSpPr>
        <p:spPr>
          <a:xfrm>
            <a:off x="971640" y="371628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DE LA MODER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competitividad e innovación de la economí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40"/>
          <p:cNvSpPr/>
          <p:nvPr/>
        </p:nvSpPr>
        <p:spPr>
          <a:xfrm>
            <a:off x="971640" y="4653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 LA DIFUSIÓN</a:t>
            </a: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quilibrar el potencial de desarrollo de cada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ole tekstowe 42"/>
          <p:cNvSpPr/>
          <p:nvPr/>
        </p:nvSpPr>
        <p:spPr>
          <a:xfrm>
            <a:off x="971640" y="55958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ÁREA </a:t>
            </a:r>
            <a:r>
              <a:rPr b="1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 LA E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jorar la eficacia y eficiencia del funcionamiento de 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2060640"/>
            <a:ext cx="741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4f8a"/>
                </a:solidFill>
                <a:latin typeface="Tahoma"/>
              </a:rPr>
              <a:t>Índice de la presentación</a:t>
            </a:r>
            <a:r>
              <a:rPr b="1" lang="pl-PL" sz="2800" spc="-1" strike="noStrike">
                <a:solidFill>
                  <a:srgbClr val="004f8a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ituación económica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S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istema de planific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100000"/>
              </a:lnSpc>
              <a:buClr>
                <a:srgbClr val="004f8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4f8a"/>
                </a:solidFill>
                <a:latin typeface="Tahoma"/>
              </a:rPr>
              <a:t>P</a:t>
            </a:r>
            <a:r>
              <a:rPr b="0" lang="es-ES_tradnl" sz="2800" spc="-1" strike="noStrike">
                <a:solidFill>
                  <a:srgbClr val="004f8a"/>
                </a:solidFill>
                <a:latin typeface="Tahoma"/>
              </a:rPr>
              <a:t>rincipales estrategias de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ole tekstowe 5"/>
          <p:cNvSpPr/>
          <p:nvPr/>
        </p:nvSpPr>
        <p:spPr>
          <a:xfrm>
            <a:off x="900000" y="2506680"/>
            <a:ext cx="770436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Pre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senta circunstancias básica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objetivos y orientación del desarrollo 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ocio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económico del país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Toma en cuenta circunstancias sociales, económicas, regionales y territoriales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Abarca los períodos de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4-10 añ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Realiz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ada mediante la estrategia de desarrollo y programas de desarrollo</a:t>
            </a:r>
            <a:r>
              <a:rPr b="0" lang="pl-PL" sz="2000" spc="-1" strike="noStrike">
                <a:solidFill>
                  <a:srgbClr val="0033cc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ole tekstowe 3"/>
          <p:cNvSpPr/>
          <p:nvPr/>
        </p:nvSpPr>
        <p:spPr>
          <a:xfrm>
            <a:off x="971640" y="23115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JETIVO PRINCIPAL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y aprovechar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 potencial económico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social e institucional para garantizar un desarrollo m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s rápido y sostenible del estado y mejorar la calidad de vida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5"/>
          <p:cNvSpPr/>
          <p:nvPr/>
        </p:nvSpPr>
        <p:spPr>
          <a:xfrm>
            <a:off x="971640" y="36511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stado eficaz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ole tekstowe 5"/>
          <p:cNvSpPr/>
          <p:nvPr/>
        </p:nvSpPr>
        <p:spPr>
          <a:xfrm>
            <a:off x="971640" y="44434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conomía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ole tekstowe 5"/>
          <p:cNvSpPr/>
          <p:nvPr/>
        </p:nvSpPr>
        <p:spPr>
          <a:xfrm>
            <a:off x="971640" y="52308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hesión soci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971640" y="1413000"/>
            <a:ext cx="756108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ole tekstowe 3"/>
          <p:cNvSpPr/>
          <p:nvPr/>
        </p:nvSpPr>
        <p:spPr>
          <a:xfrm>
            <a:off x="971640" y="2411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ESTADO EFICAZ Y 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ole tekstowe 5"/>
          <p:cNvSpPr/>
          <p:nvPr/>
        </p:nvSpPr>
        <p:spPr>
          <a:xfrm>
            <a:off x="971640" y="3068640"/>
            <a:ext cx="792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sar de la administración de desarrollo a la gestión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arantizar fondos para las medidas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ar condiciones para satisfacer las nececidades de los ciudadanos y estimular su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ole tekstowe 3"/>
          <p:cNvSpPr/>
          <p:nvPr/>
        </p:nvSpPr>
        <p:spPr>
          <a:xfrm>
            <a:off x="971640" y="226692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ECONOMÍA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5"/>
          <p:cNvSpPr/>
          <p:nvPr/>
        </p:nvSpPr>
        <p:spPr>
          <a:xfrm>
            <a:off x="971640" y="2809800"/>
            <a:ext cx="78501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la estabilidad macr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ar la eficiencia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jor la innovación de la econó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esarrollar el 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mentar el uso de las tecnologías dig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guridad energética y conservación del medio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mentar la eficiencia del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2"/>
          <p:cNvSpPr/>
          <p:nvPr/>
        </p:nvSpPr>
        <p:spPr>
          <a:xfrm>
            <a:off x="971640" y="1413000"/>
            <a:ext cx="734544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ole tekstowe 3"/>
          <p:cNvSpPr/>
          <p:nvPr/>
        </p:nvSpPr>
        <p:spPr>
          <a:xfrm>
            <a:off x="971640" y="22669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ÁREA ESTRATÉGICA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COHESIÓN SOCI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ole tekstowe 5"/>
          <p:cNvSpPr/>
          <p:nvPr/>
        </p:nvSpPr>
        <p:spPr>
          <a:xfrm>
            <a:off x="971640" y="2738520"/>
            <a:ext cx="79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jetivos estratégicos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egrac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arantizar el acceso a los servicios públicos de un estandar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forzar mecanismos de la sostenibilidad de desarrollo territorial  e integración territorial para garantizar pleno aprovechamiento de los potenciales regionales.</a:t>
            </a:r>
            <a:r>
              <a:rPr b="1" lang="pl-P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3492360" y="29520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2"/>
          <p:cNvSpPr/>
          <p:nvPr/>
        </p:nvSpPr>
        <p:spPr>
          <a:xfrm>
            <a:off x="971640" y="1413000"/>
            <a:ext cx="7200720" cy="86364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RC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1042920" y="2637000"/>
            <a:ext cx="2374920" cy="1079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1044720" y="4022640"/>
            <a:ext cx="2447640" cy="1062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1620720" y="29908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7,3 %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620720" y="43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 bi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n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3276720" y="4005360"/>
            <a:ext cx="2447640" cy="1062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3924360" y="4365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30 bi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5"/>
          <p:cNvSpPr/>
          <p:nvPr/>
        </p:nvSpPr>
        <p:spPr>
          <a:xfrm>
            <a:off x="5867280" y="3141720"/>
            <a:ext cx="2881440" cy="28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"/>
          <p:cNvSpPr/>
          <p:nvPr/>
        </p:nvSpPr>
        <p:spPr>
          <a:xfrm>
            <a:off x="7236000" y="4653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72360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7237440" y="3645000"/>
            <a:ext cx="165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3 -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ndo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>
            <a:off x="3564000" y="3031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Contenid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ole tekstowe 4"/>
          <p:cNvSpPr/>
          <p:nvPr/>
        </p:nvSpPr>
        <p:spPr>
          <a:xfrm>
            <a:off x="2411280" y="379872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,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ole tekstowe 14"/>
          <p:cNvSpPr/>
          <p:nvPr/>
        </p:nvSpPr>
        <p:spPr>
          <a:xfrm>
            <a:off x="2843280" y="3573360"/>
            <a:ext cx="43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15"/>
          <p:cNvSpPr/>
          <p:nvPr/>
        </p:nvSpPr>
        <p:spPr>
          <a:xfrm>
            <a:off x="3995640" y="393372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7,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16"/>
          <p:cNvSpPr/>
          <p:nvPr/>
        </p:nvSpPr>
        <p:spPr>
          <a:xfrm>
            <a:off x="4427640" y="3598920"/>
            <a:ext cx="43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7"/>
          <p:cNvSpPr/>
          <p:nvPr/>
        </p:nvSpPr>
        <p:spPr>
          <a:xfrm>
            <a:off x="5508720" y="3527280"/>
            <a:ext cx="43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,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18"/>
          <p:cNvSpPr/>
          <p:nvPr/>
        </p:nvSpPr>
        <p:spPr>
          <a:xfrm>
            <a:off x="6084720" y="3529080"/>
            <a:ext cx="4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5"/>
          <p:cNvSpPr/>
          <p:nvPr/>
        </p:nvSpPr>
        <p:spPr>
          <a:xfrm>
            <a:off x="3059280" y="478008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13"/>
          <p:cNvSpPr/>
          <p:nvPr/>
        </p:nvSpPr>
        <p:spPr>
          <a:xfrm>
            <a:off x="4498920" y="4203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971640" y="1413000"/>
            <a:ext cx="7200720" cy="79200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rategia Nacional de Desarrollo a Medio Plazo 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20 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TEMA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5"/>
          <p:cNvSpPr/>
          <p:nvPr/>
        </p:nvSpPr>
        <p:spPr>
          <a:xfrm>
            <a:off x="539640" y="278136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ole tekstowe 15"/>
          <p:cNvSpPr/>
          <p:nvPr/>
        </p:nvSpPr>
        <p:spPr>
          <a:xfrm>
            <a:off x="826920" y="3141720"/>
            <a:ext cx="8636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Cada año</a:t>
            </a:r>
            <a:r>
              <a:rPr b="1" lang="pl-P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7"/>
          <p:cNvSpPr/>
          <p:nvPr/>
        </p:nvSpPr>
        <p:spPr>
          <a:xfrm>
            <a:off x="539640" y="4076640"/>
            <a:ext cx="1440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15"/>
          <p:cNvSpPr/>
          <p:nvPr/>
        </p:nvSpPr>
        <p:spPr>
          <a:xfrm>
            <a:off x="826920" y="4292640"/>
            <a:ext cx="8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C</a:t>
            </a:r>
            <a:r>
              <a:rPr b="1" lang="es-ES_tradnl" sz="1600" spc="-1" strike="noStrike">
                <a:solidFill>
                  <a:srgbClr val="3c7d96"/>
                </a:solidFill>
                <a:latin typeface="Times New Roman"/>
                <a:ea typeface="Times New Roman"/>
              </a:rPr>
              <a:t>ada tres añ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2195640" y="2997360"/>
            <a:ext cx="612144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2340000" y="3068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e sobre implementación del Plan de Medidas para realización de la Estrategia Naciona de Desarroll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2195640" y="4294080"/>
            <a:ext cx="6121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2340000" y="4365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forme del desarrollo socioeconómico regional y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14"/>
          <p:cNvSpPr/>
          <p:nvPr/>
        </p:nvSpPr>
        <p:spPr>
          <a:xfrm>
            <a:off x="3564000" y="30780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Estructura de l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ras Estartegi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upa 1"/>
          <p:cNvGrpSpPr/>
          <p:nvPr/>
        </p:nvGrpSpPr>
        <p:grpSpPr>
          <a:xfrm>
            <a:off x="1692360" y="2701800"/>
            <a:ext cx="5689080" cy="2743200"/>
            <a:chOff x="1692360" y="2701800"/>
            <a:chExt cx="5689080" cy="2743200"/>
          </a:xfrm>
        </p:grpSpPr>
        <p:sp>
          <p:nvSpPr>
            <p:cNvPr id="581" name="Line 58"/>
            <p:cNvSpPr/>
            <p:nvPr/>
          </p:nvSpPr>
          <p:spPr>
            <a:xfrm>
              <a:off x="4645080" y="407016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upa 45"/>
            <p:cNvGrpSpPr/>
            <p:nvPr/>
          </p:nvGrpSpPr>
          <p:grpSpPr>
            <a:xfrm>
              <a:off x="2383920" y="2701800"/>
              <a:ext cx="1323720" cy="1519200"/>
              <a:chOff x="2383920" y="2701800"/>
              <a:chExt cx="1323720" cy="1519200"/>
            </a:xfrm>
          </p:grpSpPr>
          <p:sp>
            <p:nvSpPr>
              <p:cNvPr id="583" name="Sześciokąt 46"/>
              <p:cNvSpPr/>
              <p:nvPr/>
            </p:nvSpPr>
            <p:spPr>
              <a:xfrm rot="5400000">
                <a:off x="2286000" y="279936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ześciokąt 4"/>
              <p:cNvSpPr/>
              <p:nvPr/>
            </p:nvSpPr>
            <p:spPr>
              <a:xfrm>
                <a:off x="2590560" y="293832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g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óstico de la situ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upa 27"/>
            <p:cNvGrpSpPr/>
            <p:nvPr/>
          </p:nvGrpSpPr>
          <p:grpSpPr>
            <a:xfrm>
              <a:off x="3824280" y="2701800"/>
              <a:ext cx="1325520" cy="1519200"/>
              <a:chOff x="3824280" y="2701800"/>
              <a:chExt cx="1325520" cy="1519200"/>
            </a:xfrm>
          </p:grpSpPr>
          <p:sp>
            <p:nvSpPr>
              <p:cNvPr id="586" name="Sześciokąt 28"/>
              <p:cNvSpPr/>
              <p:nvPr/>
            </p:nvSpPr>
            <p:spPr>
              <a:xfrm rot="5400000">
                <a:off x="3727440" y="2798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ześciokąt 4"/>
              <p:cNvSpPr/>
              <p:nvPr/>
            </p:nvSpPr>
            <p:spPr>
              <a:xfrm>
                <a:off x="4030560" y="2938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o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ósticos de las tendencias de desarrol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upa 33"/>
            <p:cNvGrpSpPr/>
            <p:nvPr/>
          </p:nvGrpSpPr>
          <p:grpSpPr>
            <a:xfrm>
              <a:off x="5264280" y="2701800"/>
              <a:ext cx="1325520" cy="1519200"/>
              <a:chOff x="5264280" y="2701800"/>
              <a:chExt cx="1325520" cy="1519200"/>
            </a:xfrm>
          </p:grpSpPr>
          <p:sp>
            <p:nvSpPr>
              <p:cNvPr id="589" name="Sześciokąt 34"/>
              <p:cNvSpPr/>
              <p:nvPr/>
            </p:nvSpPr>
            <p:spPr>
              <a:xfrm rot="5400000">
                <a:off x="5167440" y="2798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ześciokąt 4"/>
              <p:cNvSpPr/>
              <p:nvPr/>
            </p:nvSpPr>
            <p:spPr>
              <a:xfrm>
                <a:off x="5351400" y="2938320"/>
                <a:ext cx="11509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s de desarroll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upa 36"/>
            <p:cNvGrpSpPr/>
            <p:nvPr/>
          </p:nvGrpSpPr>
          <p:grpSpPr>
            <a:xfrm>
              <a:off x="3103560" y="3925800"/>
              <a:ext cx="1325520" cy="1519200"/>
              <a:chOff x="3103560" y="3925800"/>
              <a:chExt cx="1325520" cy="1519200"/>
            </a:xfrm>
          </p:grpSpPr>
          <p:sp>
            <p:nvSpPr>
              <p:cNvPr id="592" name="Sześciokąt 37"/>
              <p:cNvSpPr/>
              <p:nvPr/>
            </p:nvSpPr>
            <p:spPr>
              <a:xfrm rot="5400000">
                <a:off x="30067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ześciokąt 4"/>
              <p:cNvSpPr/>
              <p:nvPr/>
            </p:nvSpPr>
            <p:spPr>
              <a:xfrm>
                <a:off x="3309840" y="4162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Índices de cumplimi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upa 54"/>
            <p:cNvGrpSpPr/>
            <p:nvPr/>
          </p:nvGrpSpPr>
          <p:grpSpPr>
            <a:xfrm>
              <a:off x="4543560" y="3925800"/>
              <a:ext cx="1325520" cy="1519200"/>
              <a:chOff x="4543560" y="3925800"/>
              <a:chExt cx="1325520" cy="1519200"/>
            </a:xfrm>
          </p:grpSpPr>
          <p:sp>
            <p:nvSpPr>
              <p:cNvPr id="595" name="Sześciokąt 55"/>
              <p:cNvSpPr/>
              <p:nvPr/>
            </p:nvSpPr>
            <p:spPr>
              <a:xfrm rot="5400000">
                <a:off x="44467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ześciokąt 4"/>
              <p:cNvSpPr/>
              <p:nvPr/>
            </p:nvSpPr>
            <p:spPr>
              <a:xfrm>
                <a:off x="4614840" y="416232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upa 48"/>
            <p:cNvGrpSpPr/>
            <p:nvPr/>
          </p:nvGrpSpPr>
          <p:grpSpPr>
            <a:xfrm>
              <a:off x="5941800" y="3925800"/>
              <a:ext cx="1439640" cy="1519200"/>
              <a:chOff x="5941800" y="3925800"/>
              <a:chExt cx="1439640" cy="1519200"/>
            </a:xfrm>
          </p:grpSpPr>
          <p:sp>
            <p:nvSpPr>
              <p:cNvPr id="598" name="Sześciokąt 49"/>
              <p:cNvSpPr/>
              <p:nvPr/>
            </p:nvSpPr>
            <p:spPr>
              <a:xfrm rot="5400000">
                <a:off x="5901840" y="3965400"/>
                <a:ext cx="1519200" cy="1439640"/>
              </a:xfrm>
              <a:prstGeom prst="hexagon">
                <a:avLst>
                  <a:gd name="adj" fmla="val 2295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ześciokąt 4"/>
              <p:cNvSpPr/>
              <p:nvPr/>
            </p:nvSpPr>
            <p:spPr>
              <a:xfrm>
                <a:off x="6165720" y="4221000"/>
                <a:ext cx="992160" cy="920880"/>
              </a:xfrm>
              <a:prstGeom prst="rect">
                <a:avLst/>
              </a:prstGeom>
              <a:solidFill>
                <a:srgbClr val="4ea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rcos financi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upa 51"/>
            <p:cNvGrpSpPr/>
            <p:nvPr/>
          </p:nvGrpSpPr>
          <p:grpSpPr>
            <a:xfrm>
              <a:off x="1692360" y="3925800"/>
              <a:ext cx="1325520" cy="1519200"/>
              <a:chOff x="1692360" y="3925800"/>
              <a:chExt cx="1325520" cy="1519200"/>
            </a:xfrm>
          </p:grpSpPr>
          <p:sp>
            <p:nvSpPr>
              <p:cNvPr id="601" name="Sześciokąt 52"/>
              <p:cNvSpPr/>
              <p:nvPr/>
            </p:nvSpPr>
            <p:spPr>
              <a:xfrm rot="5400000">
                <a:off x="1595520" y="402264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ześciokąt 4"/>
              <p:cNvSpPr/>
              <p:nvPr/>
            </p:nvSpPr>
            <p:spPr>
              <a:xfrm>
                <a:off x="1898640" y="416232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edidas planeadas en el contexto territor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2"/>
          <p:cNvSpPr/>
          <p:nvPr/>
        </p:nvSpPr>
        <p:spPr>
          <a:xfrm>
            <a:off x="971640" y="1413000"/>
            <a:ext cx="7200720" cy="703080"/>
          </a:xfrm>
          <a:prstGeom prst="roundRect">
            <a:avLst>
              <a:gd name="adj" fmla="val 16667"/>
            </a:avLst>
          </a:prstGeom>
          <a:solidFill>
            <a:srgbClr val="73afcd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300"/>
              </a:spcAft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de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upa 5"/>
          <p:cNvGrpSpPr/>
          <p:nvPr/>
        </p:nvGrpSpPr>
        <p:grpSpPr>
          <a:xfrm>
            <a:off x="1692360" y="2486160"/>
            <a:ext cx="5689080" cy="3967200"/>
            <a:chOff x="1692360" y="2486160"/>
            <a:chExt cx="5689080" cy="3967200"/>
          </a:xfrm>
        </p:grpSpPr>
        <p:sp>
          <p:nvSpPr>
            <p:cNvPr id="610" name="Line 58"/>
            <p:cNvSpPr/>
            <p:nvPr/>
          </p:nvSpPr>
          <p:spPr>
            <a:xfrm>
              <a:off x="4645080" y="3718080"/>
              <a:ext cx="0" cy="215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upa 45"/>
            <p:cNvGrpSpPr/>
            <p:nvPr/>
          </p:nvGrpSpPr>
          <p:grpSpPr>
            <a:xfrm>
              <a:off x="2457000" y="3710160"/>
              <a:ext cx="1323720" cy="1519200"/>
              <a:chOff x="2457000" y="3710160"/>
              <a:chExt cx="1323720" cy="1519200"/>
            </a:xfrm>
          </p:grpSpPr>
          <p:sp>
            <p:nvSpPr>
              <p:cNvPr id="612" name="Sześciokąt 46"/>
              <p:cNvSpPr/>
              <p:nvPr/>
            </p:nvSpPr>
            <p:spPr>
              <a:xfrm rot="5400000">
                <a:off x="2359080" y="3807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Sześciokąt 4"/>
              <p:cNvSpPr/>
              <p:nvPr/>
            </p:nvSpPr>
            <p:spPr>
              <a:xfrm>
                <a:off x="2663640" y="3946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Medidas planeadas en el contexto territor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upa 27"/>
            <p:cNvGrpSpPr/>
            <p:nvPr/>
          </p:nvGrpSpPr>
          <p:grpSpPr>
            <a:xfrm>
              <a:off x="3824280" y="3710160"/>
              <a:ext cx="1325520" cy="1519200"/>
              <a:chOff x="3824280" y="3710160"/>
              <a:chExt cx="1325520" cy="1519200"/>
            </a:xfrm>
          </p:grpSpPr>
          <p:sp>
            <p:nvSpPr>
              <p:cNvPr id="615" name="Sześciokąt 28"/>
              <p:cNvSpPr/>
              <p:nvPr/>
            </p:nvSpPr>
            <p:spPr>
              <a:xfrm rot="5400000">
                <a:off x="3727440" y="3807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Sześciokąt 4"/>
              <p:cNvSpPr/>
              <p:nvPr/>
            </p:nvSpPr>
            <p:spPr>
              <a:xfrm>
                <a:off x="4030560" y="394668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 princip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upa 33"/>
            <p:cNvGrpSpPr/>
            <p:nvPr/>
          </p:nvGrpSpPr>
          <p:grpSpPr>
            <a:xfrm>
              <a:off x="5221440" y="3710160"/>
              <a:ext cx="1325520" cy="1519200"/>
              <a:chOff x="5221440" y="3710160"/>
              <a:chExt cx="1325520" cy="1519200"/>
            </a:xfrm>
          </p:grpSpPr>
          <p:sp>
            <p:nvSpPr>
              <p:cNvPr id="618" name="Sześciokąt 34"/>
              <p:cNvSpPr/>
              <p:nvPr/>
            </p:nvSpPr>
            <p:spPr>
              <a:xfrm rot="5400000">
                <a:off x="5124600" y="3807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Sześciokąt 4"/>
              <p:cNvSpPr/>
              <p:nvPr/>
            </p:nvSpPr>
            <p:spPr>
              <a:xfrm>
                <a:off x="5308560" y="3946680"/>
                <a:ext cx="11509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bjetivos específic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upa 36"/>
            <p:cNvGrpSpPr/>
            <p:nvPr/>
          </p:nvGrpSpPr>
          <p:grpSpPr>
            <a:xfrm>
              <a:off x="3103560" y="4934160"/>
              <a:ext cx="1325520" cy="1519200"/>
              <a:chOff x="3103560" y="4934160"/>
              <a:chExt cx="1325520" cy="1519200"/>
            </a:xfrm>
          </p:grpSpPr>
          <p:sp>
            <p:nvSpPr>
              <p:cNvPr id="621" name="Sześciokąt 37"/>
              <p:cNvSpPr/>
              <p:nvPr/>
            </p:nvSpPr>
            <p:spPr>
              <a:xfrm rot="5400000">
                <a:off x="30067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Sześciokąt 4"/>
              <p:cNvSpPr/>
              <p:nvPr/>
            </p:nvSpPr>
            <p:spPr>
              <a:xfrm>
                <a:off x="3309840" y="5170680"/>
                <a:ext cx="9129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lan fina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ier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upa 54"/>
            <p:cNvGrpSpPr/>
            <p:nvPr/>
          </p:nvGrpSpPr>
          <p:grpSpPr>
            <a:xfrm>
              <a:off x="4543560" y="4934160"/>
              <a:ext cx="1325520" cy="1519200"/>
              <a:chOff x="4543560" y="4934160"/>
              <a:chExt cx="1325520" cy="1519200"/>
            </a:xfrm>
          </p:grpSpPr>
          <p:sp>
            <p:nvSpPr>
              <p:cNvPr id="624" name="Sześciokąt 55"/>
              <p:cNvSpPr/>
              <p:nvPr/>
            </p:nvSpPr>
            <p:spPr>
              <a:xfrm rot="5400000">
                <a:off x="44467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Sześciokąt 4"/>
              <p:cNvSpPr/>
              <p:nvPr/>
            </p:nvSpPr>
            <p:spPr>
              <a:xfrm>
                <a:off x="4614840" y="517068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Índices del cumplimi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upa 48"/>
            <p:cNvGrpSpPr/>
            <p:nvPr/>
          </p:nvGrpSpPr>
          <p:grpSpPr>
            <a:xfrm>
              <a:off x="5941800" y="4934160"/>
              <a:ext cx="1439640" cy="1519200"/>
              <a:chOff x="5941800" y="4934160"/>
              <a:chExt cx="1439640" cy="1519200"/>
            </a:xfrm>
          </p:grpSpPr>
          <p:sp>
            <p:nvSpPr>
              <p:cNvPr id="627" name="Sześciokąt 49"/>
              <p:cNvSpPr/>
              <p:nvPr/>
            </p:nvSpPr>
            <p:spPr>
              <a:xfrm rot="5400000">
                <a:off x="5901840" y="4973760"/>
                <a:ext cx="1519200" cy="1439640"/>
              </a:xfrm>
              <a:prstGeom prst="hexagon">
                <a:avLst>
                  <a:gd name="adj" fmla="val 2295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Sześciokąt 4"/>
              <p:cNvSpPr/>
              <p:nvPr/>
            </p:nvSpPr>
            <p:spPr>
              <a:xfrm>
                <a:off x="6165720" y="5229360"/>
                <a:ext cx="1069920" cy="920880"/>
              </a:xfrm>
              <a:prstGeom prst="rect">
                <a:avLst/>
              </a:prstGeom>
              <a:solidFill>
                <a:srgbClr val="4ea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seguimiento de la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upa 51"/>
            <p:cNvGrpSpPr/>
            <p:nvPr/>
          </p:nvGrpSpPr>
          <p:grpSpPr>
            <a:xfrm>
              <a:off x="1692360" y="4934160"/>
              <a:ext cx="1325520" cy="1519200"/>
              <a:chOff x="1692360" y="4934160"/>
              <a:chExt cx="1325520" cy="1519200"/>
            </a:xfrm>
          </p:grpSpPr>
          <p:sp>
            <p:nvSpPr>
              <p:cNvPr id="630" name="Sześciokąt 52"/>
              <p:cNvSpPr/>
              <p:nvPr/>
            </p:nvSpPr>
            <p:spPr>
              <a:xfrm rot="5400000">
                <a:off x="1595520" y="5031000"/>
                <a:ext cx="1519200" cy="1325520"/>
              </a:xfrm>
              <a:prstGeom prst="hexagon">
                <a:avLst>
                  <a:gd name="adj" fmla="val 24928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Sześciokąt 4"/>
              <p:cNvSpPr/>
              <p:nvPr/>
            </p:nvSpPr>
            <p:spPr>
              <a:xfrm>
                <a:off x="1763640" y="5170680"/>
                <a:ext cx="115272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40" rIns="26640" tIns="26640" bIns="266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stema de implement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upa 45"/>
            <p:cNvGrpSpPr/>
            <p:nvPr/>
          </p:nvGrpSpPr>
          <p:grpSpPr>
            <a:xfrm>
              <a:off x="3133440" y="2486160"/>
              <a:ext cx="1323720" cy="1519200"/>
              <a:chOff x="3133440" y="2486160"/>
              <a:chExt cx="1323720" cy="1519200"/>
            </a:xfrm>
          </p:grpSpPr>
          <p:sp>
            <p:nvSpPr>
              <p:cNvPr id="633" name="Sześciokąt 46"/>
              <p:cNvSpPr/>
              <p:nvPr/>
            </p:nvSpPr>
            <p:spPr>
              <a:xfrm rot="5400000">
                <a:off x="3035520" y="2583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ześciokąt 4"/>
              <p:cNvSpPr/>
              <p:nvPr/>
            </p:nvSpPr>
            <p:spPr>
              <a:xfrm>
                <a:off x="3340080" y="2722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agn</a:t>
                </a: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óstico de la situ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upa 45"/>
            <p:cNvGrpSpPr/>
            <p:nvPr/>
          </p:nvGrpSpPr>
          <p:grpSpPr>
            <a:xfrm>
              <a:off x="4544640" y="2486160"/>
              <a:ext cx="1323720" cy="1519200"/>
              <a:chOff x="4544640" y="2486160"/>
              <a:chExt cx="1323720" cy="1519200"/>
            </a:xfrm>
          </p:grpSpPr>
          <p:sp>
            <p:nvSpPr>
              <p:cNvPr id="636" name="Sześciokąt 46"/>
              <p:cNvSpPr/>
              <p:nvPr/>
            </p:nvSpPr>
            <p:spPr>
              <a:xfrm rot="5400000">
                <a:off x="4446720" y="2583720"/>
                <a:ext cx="1519200" cy="1323720"/>
              </a:xfrm>
              <a:prstGeom prst="hexagon">
                <a:avLst>
                  <a:gd name="adj" fmla="val 24962"/>
                  <a:gd name="vf" fmla="val 115470"/>
                </a:avLst>
              </a:prstGeom>
              <a:solidFill>
                <a:srgbClr val="4ea0be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ześciokąt 4"/>
              <p:cNvSpPr/>
              <p:nvPr/>
            </p:nvSpPr>
            <p:spPr>
              <a:xfrm>
                <a:off x="4751280" y="2722680"/>
                <a:ext cx="911160" cy="10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600" rIns="30600" tIns="30600" bIns="30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clusiones de la evaluación</a:t>
                </a: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24"/>
                  </a:spcAft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622760"/>
                    <a:tab algn="l" pos="4978440"/>
                    <a:tab algn="l" pos="5334120"/>
                    <a:tab algn="l" pos="5689440"/>
                    <a:tab algn="l" pos="6045120"/>
                    <a:tab algn="l" pos="6400800"/>
                    <a:tab algn="l" pos="6756480"/>
                    <a:tab algn="l" pos="7112160"/>
                  </a:tabLst>
                </a:pPr>
                <a:r>
                  <a:rPr b="0" lang="pl-PL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x -a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ole tekstowe 14"/>
          <p:cNvSpPr/>
          <p:nvPr/>
        </p:nvSpPr>
        <p:spPr>
          <a:xfrm>
            <a:off x="3575160" y="307800"/>
            <a:ext cx="55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Estructura de los document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8"/>
          <p:cNvSpPr/>
          <p:nvPr/>
        </p:nvSpPr>
        <p:spPr>
          <a:xfrm>
            <a:off x="3995640" y="3754440"/>
            <a:ext cx="0" cy="2160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3564000" y="-27000"/>
            <a:ext cx="55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GB" sz="2200" spc="-1" strike="noStrike">
                <a:solidFill>
                  <a:srgbClr val="ffffcc"/>
                </a:solidFill>
                <a:latin typeface="Tahoma"/>
              </a:rPr>
              <a:t>Directrices del sistema de gestión del desarrollo polaco</a:t>
            </a:r>
            <a:r>
              <a:rPr b="0" lang="pl-PL" sz="2200" spc="-1" strike="noStrike">
                <a:solidFill>
                  <a:srgbClr val="ffffcc"/>
                </a:solidFill>
                <a:latin typeface="Tahoma"/>
              </a:rPr>
              <a:t>” </a:t>
            </a:r>
            <a:br>
              <a:rPr sz="2200"/>
            </a:br>
            <a:r>
              <a:rPr b="0" lang="es-ES_tradnl" sz="2200" spc="-1" strike="noStrike">
                <a:solidFill>
                  <a:srgbClr val="ffffcc"/>
                </a:solidFill>
                <a:latin typeface="Tahoma"/>
              </a:rPr>
              <a:t>Subsistema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>
            <a:off x="196920" y="1162800"/>
            <a:ext cx="8748720" cy="46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Primer ministro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– supervisión directa de la gest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/>
          <p:cNvSpPr/>
          <p:nvPr/>
        </p:nvSpPr>
        <p:spPr>
          <a:xfrm>
            <a:off x="206280" y="166788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onsejo de 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Ministr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os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decisiones más importantes y aprobación de los objetivos estratégico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5"/>
          <p:cNvSpPr/>
          <p:nvPr/>
        </p:nvSpPr>
        <p:spPr>
          <a:xfrm>
            <a:off x="196920" y="247824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omit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é de Coordinación de la Política de Desarrollo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órgano consultivo y asesor del Primer M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8"/>
          <p:cNvSpPr/>
          <p:nvPr/>
        </p:nvSpPr>
        <p:spPr>
          <a:xfrm>
            <a:off x="196920" y="332352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Cancillería del Presidente de Consejo de Ministros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inic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a actividad dentro del programa  y ejerce función de supervisión y ver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1"/>
          <p:cNvSpPr/>
          <p:nvPr/>
        </p:nvSpPr>
        <p:spPr>
          <a:xfrm>
            <a:off x="196920" y="4133880"/>
            <a:ext cx="8748720" cy="767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inist</a:t>
            </a:r>
            <a:r>
              <a:rPr b="1" lang="pl-PL" sz="1800" spc="-1" strike="noStrike" u="sng">
                <a:solidFill>
                  <a:srgbClr val="ffff00"/>
                </a:solidFill>
                <a:uFillTx/>
                <a:latin typeface="Arial"/>
              </a:rPr>
              <a:t>er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io de Desarrollo Regional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– coordinación conforme a  las competencias establecidas por las l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96920" y="4812480"/>
            <a:ext cx="8748720" cy="167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inisterios,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jefes de las administraciones centrales  y autoridades regionales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 sea instituciones coordinadas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oman iniciativas resultantes de sus competencias y responsabilidades, también toman decisiones en el marco de la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política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"/>
          <p:cNvSpPr/>
          <p:nvPr/>
        </p:nvSpPr>
        <p:spPr>
          <a:xfrm>
            <a:off x="214200" y="6384240"/>
            <a:ext cx="8713800" cy="46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"/>
              </a:rPr>
              <a:t>Otros agentes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(agentes sociales y económ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564000" y="333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 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anuales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197000"/>
          <a:ext cx="8280360" cy="5046480"/>
        </p:xfrm>
        <a:graphic>
          <a:graphicData uri="http://schemas.openxmlformats.org/drawingml/2006/table">
            <a:tbl>
              <a:tblPr/>
              <a:tblGrid>
                <a:gridCol w="2448000"/>
                <a:gridCol w="1457280"/>
                <a:gridCol w="1458720"/>
                <a:gridCol w="1457280"/>
                <a:gridCol w="1459080"/>
              </a:tblGrid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País</a:t>
                      </a: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/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4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015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l m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E.U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Zona del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Aleman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Fra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   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Esp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Gran Bre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oli</a:t>
                      </a:r>
                      <a:r>
                        <a:rPr b="0" lang="es-ES_tradn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ol</a:t>
                      </a:r>
                      <a:r>
                        <a:rPr b="0" lang="es-ES_tradnl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u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Bra</a:t>
                      </a:r>
                      <a:r>
                        <a:rPr b="0" lang="es-ES_tradnl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Jap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7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Canad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f8a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43" name="Prostokąt 2"/>
          <p:cNvSpPr/>
          <p:nvPr/>
        </p:nvSpPr>
        <p:spPr>
          <a:xfrm>
            <a:off x="324000" y="6273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Fuente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: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International Monetary Fund, “World Economic Outlook, Update”. 21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de enero de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2013. Boli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via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-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World Economic Outlook, database,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octubre de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2013. Polska, GUS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y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WEO database, </a:t>
            </a:r>
            <a:r>
              <a:rPr b="0" lang="es-ES_tradnl" sz="1600" spc="-1" strike="noStrike">
                <a:solidFill>
                  <a:srgbClr val="004f8a"/>
                </a:solidFill>
                <a:latin typeface="Arial Narrow"/>
              </a:rPr>
              <a:t>octubre de </a:t>
            </a:r>
            <a:r>
              <a:rPr b="0" lang="pl-PL" sz="1600" spc="-1" strike="noStrike">
                <a:solidFill>
                  <a:srgbClr val="004f8a"/>
                </a:solidFill>
                <a:latin typeface="Arial Narrow"/>
              </a:rPr>
              <a:t> 201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9"/>
          <p:cNvSpPr/>
          <p:nvPr/>
        </p:nvSpPr>
        <p:spPr>
          <a:xfrm>
            <a:off x="5921280" y="-7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8"/>
          <p:cNvSpPr/>
          <p:nvPr/>
        </p:nvSpPr>
        <p:spPr>
          <a:xfrm>
            <a:off x="3995640" y="371808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492360" y="74520"/>
            <a:ext cx="56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1268280"/>
            <a:ext cx="8785080" cy="22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E</a:t>
            </a: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valuación de la eficacia de determinados instrumentos de la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 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nforme anual de la realización de la Estrategia Nacional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esarrollo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 a medi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Requisito de la evaluación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ex-ante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 los 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program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as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Informe sobre el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desarrollo socioeconómic, regional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 y territorial preparado cada 3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79280" y="3429000"/>
            <a:ext cx="8640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Creación de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Garamond"/>
              </a:rPr>
              <a:t>“buenas prácticas” y su divul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et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odolog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í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a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 la elaboración de los documentos estratégicos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Determinación de la terminología única para el ámbito de la programación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C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clo de cursos de formación para personal de la a</a:t>
            </a:r>
            <a:r>
              <a:rPr b="1" lang="pl-PL" sz="1800" spc="-1" strike="noStrike">
                <a:solidFill>
                  <a:srgbClr val="333399"/>
                </a:solidFill>
                <a:latin typeface="Garamond"/>
              </a:rPr>
              <a:t>dministrac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ión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50920" y="5229360"/>
            <a:ext cx="705636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8000"/>
                </a:solidFill>
                <a:uFillTx/>
                <a:latin typeface="Garamond"/>
              </a:rPr>
              <a:t>Garantizar la financiación eficaz de la </a:t>
            </a:r>
            <a:r>
              <a:rPr b="1" lang="pl-PL" sz="2000" spc="-1" strike="noStrike" u="sng">
                <a:solidFill>
                  <a:srgbClr val="008000"/>
                </a:solidFill>
                <a:uFillTx/>
                <a:latin typeface="Garamond"/>
              </a:rPr>
              <a:t>política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Plan financiero plurianua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Presupuestación por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     </a:t>
            </a:r>
            <a:r>
              <a:rPr b="1" lang="en-GB" sz="1800" spc="-1" strike="noStrike">
                <a:solidFill>
                  <a:srgbClr val="333399"/>
                </a:solidFill>
                <a:latin typeface="Garamond"/>
              </a:rPr>
              <a:t>- </a:t>
            </a:r>
            <a:r>
              <a:rPr b="1" lang="es-ES_tradnl" sz="1800" spc="-1" strike="noStrike">
                <a:solidFill>
                  <a:srgbClr val="333399"/>
                </a:solidFill>
                <a:latin typeface="Garamond"/>
              </a:rPr>
              <a:t>Contracto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564000" y="139680"/>
            <a:ext cx="55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Tahoma"/>
              </a:rPr>
              <a:t>Directrices del sistema de gestión del desarrollo pola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1258920" y="2852640"/>
            <a:ext cx="65768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Gracias por su a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Departament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o de Coordinación de la Estrategia y Políticas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de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esarrollo (D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ugeniusz.Sadowski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Times New Roman"/>
              </a:rPr>
              <a:t>Jacek.Bialek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Garamond"/>
              </a:rPr>
              <a:t>www.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cc"/>
                </a:solidFill>
                <a:latin typeface="Garamond"/>
              </a:rPr>
              <a:t>www.funduszeeuropejskie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 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anuales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79280" y="1557360"/>
          <a:ext cx="874872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74872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4"/>
          <p:cNvSpPr/>
          <p:nvPr/>
        </p:nvSpPr>
        <p:spPr>
          <a:xfrm>
            <a:off x="3564000" y="4428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recimiento del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B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n países de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uropa Central y del Este en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1989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8000" y="1341360"/>
          <a:ext cx="8928000" cy="4969080"/>
        </p:xfrm>
        <a:graphic>
          <a:graphicData uri="http://schemas.openxmlformats.org/drawingml/2006/table">
            <a:tbl>
              <a:tblPr/>
              <a:tblGrid>
                <a:gridCol w="1797120"/>
                <a:gridCol w="866520"/>
                <a:gridCol w="792360"/>
                <a:gridCol w="792000"/>
                <a:gridCol w="792360"/>
                <a:gridCol w="792000"/>
                <a:gridCol w="792360"/>
                <a:gridCol w="863640"/>
                <a:gridCol w="720720"/>
                <a:gridCol w="718920"/>
              </a:tblGrid>
              <a:tr h="408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89=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g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Rep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ública Che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Es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Lit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u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6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Let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Pol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5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6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0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Rum</a:t>
                      </a: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7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slovaqu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3300"/>
                          </a:solidFill>
                          <a:latin typeface="Tahoma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3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4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Hung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8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9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0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333399"/>
                      </a:solidFill>
                    </a:lnR>
                    <a:lnT w="9360">
                      <a:solidFill>
                        <a:srgbClr val="333399"/>
                      </a:solidFill>
                    </a:lnT>
                    <a:lnB w="9360">
                      <a:solidFill>
                        <a:srgbClr val="333399"/>
                      </a:solidFill>
                    </a:lnB>
                    <a:solidFill>
                      <a:srgbClr val="ddffdd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282"/>
          <p:cNvSpPr/>
          <p:nvPr/>
        </p:nvSpPr>
        <p:spPr>
          <a:xfrm>
            <a:off x="463680" y="6467400"/>
            <a:ext cx="82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Fuente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timaciones propias basadas en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 Eurostat </a:t>
            </a: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y</a:t>
            </a:r>
            <a:r>
              <a:rPr b="1" lang="pl-PL" sz="1200" spc="-1" strike="noStrike">
                <a:solidFill>
                  <a:srgbClr val="003399"/>
                </a:solidFill>
                <a:latin typeface="Tahoma"/>
              </a:rPr>
              <a:t> UN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564000" y="189000"/>
            <a:ext cx="5580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P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B per c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á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pita 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en los países de la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 UE-28 </a:t>
            </a:r>
            <a:r>
              <a:rPr b="0" lang="es-ES_tradnl" sz="1900" spc="-1" strike="noStrike">
                <a:solidFill>
                  <a:srgbClr val="ffffcc"/>
                </a:solidFill>
                <a:latin typeface="Tahoma"/>
              </a:rPr>
              <a:t>en</a:t>
            </a:r>
            <a:r>
              <a:rPr b="0" lang="pl-PL" sz="1900" spc="-1" strike="noStrike">
                <a:solidFill>
                  <a:srgbClr val="ffffcc"/>
                </a:solidFill>
                <a:latin typeface="Tahoma"/>
              </a:rPr>
              <a:t> 2012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s-ES_tradnl" sz="1800" spc="-1" strike="noStrike">
                <a:solidFill>
                  <a:srgbClr val="ffffcc"/>
                </a:solidFill>
                <a:latin typeface="Tahoma"/>
              </a:rPr>
              <a:t>según el Poder Adquisitivo Estándar,</a:t>
            </a: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 EU-28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0" y="1413000"/>
          <a:ext cx="886608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86608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142"/>
          <p:cNvGraphicFramePr/>
          <p:nvPr/>
        </p:nvGraphicFramePr>
        <p:xfrm>
          <a:off x="223920" y="1263600"/>
          <a:ext cx="842652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8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263600"/>
                    <a:ext cx="84265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143"/>
          <p:cNvSpPr/>
          <p:nvPr/>
        </p:nvSpPr>
        <p:spPr>
          <a:xfrm>
            <a:off x="3564000" y="2016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Tasa de empleo en los países de l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UE-28, </a:t>
            </a:r>
            <a:br>
              <a:rPr sz="2000"/>
            </a:b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edad: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20-64 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años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(2012,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564000" y="189000"/>
            <a:ext cx="55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Tasa armonizada de desempleo en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 U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-28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diciembre de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2013, %</a:t>
            </a:r>
            <a:r>
              <a:rPr b="0" lang="en-GB" sz="2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7"/>
          <p:cNvGraphicFramePr/>
          <p:nvPr/>
        </p:nvGraphicFramePr>
        <p:xfrm>
          <a:off x="181080" y="1258920"/>
          <a:ext cx="8686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258920"/>
                    <a:ext cx="8686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9"/>
          <p:cNvSpPr/>
          <p:nvPr/>
        </p:nvSpPr>
        <p:spPr>
          <a:xfrm>
            <a:off x="5921280" y="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24000" y="1617840"/>
          <a:ext cx="8496000" cy="4187520"/>
        </p:xfrm>
        <a:graphic>
          <a:graphicData uri="http://schemas.openxmlformats.org/drawingml/2006/table">
            <a:tbl>
              <a:tblPr/>
              <a:tblGrid>
                <a:gridCol w="3311280"/>
                <a:gridCol w="1368360"/>
                <a:gridCol w="1224000"/>
                <a:gridCol w="1297080"/>
                <a:gridCol w="1295280"/>
              </a:tblGrid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Catego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2012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161645"/>
                          </a:solidFill>
                          <a:latin typeface="Arial Narrow"/>
                          <a:ea typeface="Tahoma"/>
                        </a:rPr>
                        <a:t>UE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255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Valor añadido bruto</a:t>
                      </a:r>
                      <a:r>
                        <a:rPr b="1" lang="pl-P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 (GV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agricultur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industri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+ 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construcción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5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rvicios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6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6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73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51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Empleo</a:t>
                      </a:r>
                      <a:r>
                        <a:rPr b="1" lang="pl-PL" sz="2000" spc="-1" strike="noStrike">
                          <a:solidFill>
                            <a:srgbClr val="004f8a"/>
                          </a:solidFill>
                          <a:latin typeface="Arial Narrow"/>
                        </a:rPr>
                        <a:t> (15+, L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agricultur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8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industria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+ 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construcción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8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24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ctor III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 (</a:t>
                      </a:r>
                      <a:r>
                        <a:rPr b="0" lang="es-ES_tradn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servicios</a:t>
                      </a:r>
                      <a:r>
                        <a:rPr b="0" lang="pl-PL" sz="1900" spc="-1" strike="noStrike">
                          <a:solidFill>
                            <a:srgbClr val="004f8a"/>
                          </a:solidFill>
                          <a:latin typeface="Arial Narrow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4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3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5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 Narrow"/>
                          <a:ea typeface="Tahoma"/>
                        </a:rPr>
                        <a:t>70,</a:t>
                      </a:r>
                      <a:r>
                        <a:rPr b="0" lang="pl-PL" sz="2000" spc="-1" strike="noStrike">
                          <a:solidFill>
                            <a:srgbClr val="004f8a"/>
                          </a:solidFill>
                          <a:latin typeface="Arial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66" name="Rectangle 2"/>
          <p:cNvSpPr/>
          <p:nvPr/>
        </p:nvSpPr>
        <p:spPr>
          <a:xfrm>
            <a:off x="3564000" y="3333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ahoma"/>
              </a:rPr>
              <a:t>Cambios de la estructura económica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AdaLara</cp:lastModifiedBy>
  <dcterms:modified xsi:type="dcterms:W3CDTF">2014-03-03T15:02:08Z</dcterms:modified>
  <cp:revision>120</cp:revision>
  <dc:subject/>
  <dc:title>Slajd 1</dc:title>
</cp:coreProperties>
</file>