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1.png" ContentType="image/png"/>
  <Override PartName="/ppt/media/image3.wmf" ContentType="image/x-wmf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3BCE-A091-487D-B2AB-9ACE64C023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A8F3-10F1-43DE-8F1D-9FE7D1DF42D9}" type="slidenum">
              <a:rPr b="0" lang="pl-P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BB9-C992-4FB2-AF05-39086C86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0C7-C91D-46DC-B97C-D4A076B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57A-0D9F-474B-8156-86467A79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222-40C6-4C42-ABB4-56A85EE9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188-0A16-468A-BE6F-7624E741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E60-BDDA-4DEC-8D90-B233278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EC0-E529-46A7-9AB9-5C21595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0D3-5425-4155-B1A9-F6ACED4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874-459B-4A03-A000-A5B5D42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094-161D-4E57-BBE8-235CC9F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5BB-B877-4963-AF81-ADA0B2D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1AD-A409-4910-AFFE-B109780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635-7DBC-4C03-AC88-655FD1754BF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2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7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8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637000"/>
            <a:ext cx="902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ítica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 regional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hacia un </a:t>
            </a: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„nuevo paradig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27280" y="531360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Varsovia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, 6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ma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zo de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132000" y="4581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Maciej Kolczyń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rcRect l="2334" t="0" r="2500" b="0"/>
          <a:stretch/>
        </p:blipFill>
        <p:spPr>
          <a:xfrm>
            <a:off x="179280" y="1300320"/>
            <a:ext cx="6120000" cy="5513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588000" y="3956040"/>
            <a:ext cx="1800360" cy="112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6443640" y="121932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5"/>
          <a:stretch/>
        </p:blipFill>
        <p:spPr>
          <a:xfrm>
            <a:off x="6516720" y="2443320"/>
            <a:ext cx="1819080" cy="1353960"/>
          </a:xfrm>
          <a:prstGeom prst="rect">
            <a:avLst/>
          </a:prstGeom>
          <a:ln w="0">
            <a:noFill/>
          </a:ln>
        </p:spPr>
      </p:pic>
      <p:sp>
        <p:nvSpPr>
          <p:cNvPr id="118" name="Symbol zastępczy numeru slajd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9B90-0B53-4DE2-B1C9-C6A8F7E0B23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rcRect l="13303" t="10794" r="9153" b="3140"/>
          <a:stretch/>
        </p:blipFill>
        <p:spPr>
          <a:xfrm>
            <a:off x="179280" y="1258920"/>
            <a:ext cx="5977080" cy="56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6191280" y="112536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6335640" y="2386080"/>
            <a:ext cx="147636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7812000" y="112716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7095960" y="3589200"/>
            <a:ext cx="1297080" cy="81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7783560" y="242568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"/>
          <p:cNvPicPr/>
          <p:nvPr/>
        </p:nvPicPr>
        <p:blipFill>
          <a:blip r:embed="rId8"/>
          <a:stretch/>
        </p:blipFill>
        <p:spPr>
          <a:xfrm>
            <a:off x="6983280" y="4724280"/>
            <a:ext cx="1657440" cy="728640"/>
          </a:xfrm>
          <a:prstGeom prst="rect">
            <a:avLst/>
          </a:prstGeom>
          <a:ln w="0">
            <a:noFill/>
          </a:ln>
        </p:spPr>
      </p:pic>
      <p:sp>
        <p:nvSpPr>
          <p:cNvPr id="127" name="Symbol zastępczy numeru slajdu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6AE0-5B1B-4BE2-B92B-7494944689A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-36360" y="1279800"/>
            <a:ext cx="85690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C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rácter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hor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zontal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abarca todas las instituciones que toman parte en ejecución de las políticas públicas enfocadas en territorios concret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5000"/>
              </a:lnSpc>
              <a:spcAft>
                <a:spcPts val="150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Potenciación del papel de las voivodías (regiones)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r>
              <a:rPr b="0" lang="es-ES_tradnl" sz="2400" spc="-1" strike="noStrike">
                <a:solidFill>
                  <a:srgbClr val="5c0000"/>
                </a:solidFill>
                <a:latin typeface="Calibri"/>
                <a:ea typeface="Times New Roman"/>
              </a:rPr>
              <a:t>principales centros de toma de decisiones y de coordinación al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29272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5724360" y="476280"/>
            <a:ext cx="12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723600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78000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93840" y="5084640"/>
            <a:ext cx="8138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servatorios de desarrollo regional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Foros territoriales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tracto territori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-36360" y="3738240"/>
            <a:ext cx="8688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ndica nuevos instrumentos de implementación de la política regiona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640000"/>
                </a:solidFill>
                <a:latin typeface="Calibri"/>
              </a:rPr>
              <a:t>que potencian la eficacia y el planteamiento integrado que abarque muchos niveles, entre otro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7CB-90F4-4B8B-AE15-D1E63B0FA9A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556000" y="2671920"/>
            <a:ext cx="65768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uchas 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inister</a:t>
            </a: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io de Infraestructuras y Desarrollo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ul. Wspólna 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00-926 Warsz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Maciej.Kolczyn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mir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funduszeeuropejskie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1052640"/>
            <a:ext cx="896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rovecha e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„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paradigma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”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de la política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regi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lemento integral de la política de desarroll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que ayuda a conseguir los objetivos nacionales mediante la </a:t>
            </a: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portación de los recursos territorial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No es una política destinada solamente a los territorios pobr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Tiene carácter integrado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p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rmite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integra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r diferentes políticas públicas a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s efic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oya indispensables cambios institucionales , legales y financier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enfoque a los principi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jetivos y procedimientos de gestión de la política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utoridades regionales como agentes del desarrollo regional</a:t>
            </a:r>
            <a:r>
              <a:rPr b="0" lang="pl-PL" sz="2400" spc="-1" strike="noStrike">
                <a:solidFill>
                  <a:srgbClr val="6c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kąt 5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Po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ítica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un camino h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l desarrollo del país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0CA-2BE8-4619-9E65-D697A0BBD62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0" y="1125360"/>
            <a:ext cx="896472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como un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element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o del nuevo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s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istema de gestión del desarrollo de Polonia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– 1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9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Carácter integrado</a:t>
            </a:r>
            <a:r>
              <a:rPr b="0" lang="es-ES_tradnl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que garantiza enfoque territorial en otros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8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defin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objetivos de la política de desarrollo del país en el sistema territorial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y reglas de llevar a cabo y coordinar las políticas de mayor importancia para lograr los objetivos territor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Principios de ejecución y coordinación de las políticas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 mayor importancia para lograr los objetivos territoriale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Mayor descentralización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575"/>
              </a:spcAft>
              <a:buClr>
                <a:srgbClr val="99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Concentración de la intervención de la política regional en los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ámbitos temáticos y territoriales seleccionados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strategia Nacional de Desarrollo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ymbol zastępczy numeru slajdu 4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DE6-59C8-4B10-B3B3-7510D52B32C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"/>
          <p:cNvPicPr/>
          <p:nvPr/>
        </p:nvPicPr>
        <p:blipFill>
          <a:blip r:embed="rId1">
            <a:lum contrast="6000"/>
          </a:blip>
          <a:srcRect l="2375" t="3111" r="2642" b="0"/>
          <a:stretch/>
        </p:blipFill>
        <p:spPr>
          <a:xfrm>
            <a:off x="1258920" y="2235240"/>
            <a:ext cx="6842160" cy="4622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71280" y="1114200"/>
            <a:ext cx="896472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spcAft>
                <a:spcPts val="624"/>
              </a:spcAft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onfiguración de los objetivos que refleja los ámbitos de influencia de la Estrategia Nacional de Desarrollo Regional hasta</a:t>
            </a:r>
            <a:r>
              <a:rPr b="0" lang="pl-PL" sz="2000" spc="-1" strike="noStrike">
                <a:solidFill>
                  <a:srgbClr val="003366"/>
                </a:solidFill>
                <a:latin typeface="Calibri"/>
              </a:rPr>
              <a:t> 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rean una </a:t>
            </a:r>
            <a:r>
              <a:rPr b="1" lang="es-ES_tradnl" sz="2000" spc="-1" strike="noStrike">
                <a:solidFill>
                  <a:srgbClr val="5c0000"/>
                </a:solidFill>
                <a:latin typeface="Calibri"/>
              </a:rPr>
              <a:t>tríada: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mpetitividad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herencia 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830920" y="2349360"/>
            <a:ext cx="3313080" cy="1582920"/>
          </a:xfrm>
          <a:prstGeom prst="wedgeRoundRectCallout">
            <a:avLst>
              <a:gd name="adj1" fmla="val -39601"/>
              <a:gd name="adj2" fmla="val -64842"/>
              <a:gd name="adj3" fmla="val 16667"/>
            </a:avLst>
          </a:prstGeom>
          <a:solidFill>
            <a:srgbClr val="003366">
              <a:alpha val="67000"/>
            </a:srgbClr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Un objetivo especial enfocado en la capacidad institucional de la gestión del desarrollo</a:t>
            </a: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no</a:t>
            </a:r>
            <a:r>
              <a:rPr b="1" lang="es-ES_tradnl" sz="1800" spc="-1" strike="noStrike">
                <a:solidFill>
                  <a:srgbClr val="640000"/>
                </a:solidFill>
                <a:latin typeface="Calibri"/>
              </a:rPr>
              <a:t>vedad en la política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880-B46F-4487-9F4D-FFE99D9970E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Objetivos de la política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7"/>
          <p:cNvSpPr/>
          <p:nvPr/>
        </p:nvSpPr>
        <p:spPr>
          <a:xfrm>
            <a:off x="250920" y="2781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1 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2 Coh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3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68F-2E8F-4C3D-8DBE-564EDC53FC3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572000" y="1706400"/>
            <a:ext cx="4572000" cy="40262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521820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724360" y="476280"/>
            <a:ext cx="1224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705120" y="404640"/>
            <a:ext cx="1440000" cy="433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3"/>
          <a:srcRect l="0" t="1873" r="2290" b="0"/>
          <a:stretch/>
        </p:blipFill>
        <p:spPr>
          <a:xfrm>
            <a:off x="0" y="1557360"/>
            <a:ext cx="4643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252360" y="210852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e objetivo se refiere a determinados territorios que corren riesgo de marginación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posibilidades de superar sus problem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acceso a ayudas externas proporcionadas desde e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os territorios están definidos como áreas problemátic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stituyen conjuntamente los Áreas de Intervención Estratégica de la política regional del paí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219640" y="331920"/>
            <a:ext cx="2016360" cy="5760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5724360" y="476280"/>
            <a:ext cx="11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370692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0F2B-0340-4376-B754-84474FB5601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rcRect l="5103" t="5670" r="5103" b="7038"/>
          <a:stretch/>
        </p:blipFill>
        <p:spPr>
          <a:xfrm>
            <a:off x="-36360" y="1352520"/>
            <a:ext cx="5760720" cy="510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7164360" y="292572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5867280" y="292572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5"/>
          <a:stretch/>
        </p:blipFill>
        <p:spPr>
          <a:xfrm>
            <a:off x="5867280" y="4294080"/>
            <a:ext cx="1162080" cy="88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6"/>
          <a:stretch/>
        </p:blipFill>
        <p:spPr>
          <a:xfrm>
            <a:off x="7093080" y="4294080"/>
            <a:ext cx="159048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7"/>
          <a:stretch/>
        </p:blipFill>
        <p:spPr>
          <a:xfrm>
            <a:off x="7380360" y="5591160"/>
            <a:ext cx="98244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8"/>
          <a:stretch/>
        </p:blipFill>
        <p:spPr>
          <a:xfrm>
            <a:off x="5867280" y="5478480"/>
            <a:ext cx="144144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9"/>
          <a:stretch/>
        </p:blipFill>
        <p:spPr>
          <a:xfrm>
            <a:off x="5940360" y="1341360"/>
            <a:ext cx="232416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8F4-338A-4078-8A66-1F6BBB20AAF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79280" y="1420920"/>
            <a:ext cx="5472360" cy="5321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443640" y="488952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5940360" y="172080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6227640" y="2585880"/>
            <a:ext cx="1224000" cy="102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6"/>
          <a:stretch/>
        </p:blipFill>
        <p:spPr>
          <a:xfrm>
            <a:off x="7451640" y="15048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7"/>
          <a:stretch/>
        </p:blipFill>
        <p:spPr>
          <a:xfrm>
            <a:off x="7740720" y="3736800"/>
            <a:ext cx="102852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8"/>
          <a:stretch/>
        </p:blipFill>
        <p:spPr>
          <a:xfrm>
            <a:off x="7524720" y="2657520"/>
            <a:ext cx="1150920" cy="9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9"/>
          <a:stretch/>
        </p:blipFill>
        <p:spPr>
          <a:xfrm>
            <a:off x="6372360" y="3665520"/>
            <a:ext cx="103032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0"/>
          <a:stretch/>
        </p:blipFill>
        <p:spPr>
          <a:xfrm>
            <a:off x="7451640" y="5033880"/>
            <a:ext cx="147636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B9C9-2186-4E62-B8FD-186ACBC1F54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977080" cy="568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6084720" y="2432160"/>
            <a:ext cx="1295640" cy="92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5"/>
          <a:stretch/>
        </p:blipFill>
        <p:spPr>
          <a:xfrm>
            <a:off x="7812000" y="2131920"/>
            <a:ext cx="943200" cy="145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6"/>
          <a:stretch/>
        </p:blipFill>
        <p:spPr>
          <a:xfrm>
            <a:off x="6156360" y="3860640"/>
            <a:ext cx="1009440" cy="93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7"/>
          <a:stretch/>
        </p:blipFill>
        <p:spPr>
          <a:xfrm>
            <a:off x="7812000" y="118116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8"/>
          <a:stretch/>
        </p:blipFill>
        <p:spPr>
          <a:xfrm>
            <a:off x="7381800" y="386064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9"/>
          <a:stretch/>
        </p:blipFill>
        <p:spPr>
          <a:xfrm>
            <a:off x="6156360" y="5084640"/>
            <a:ext cx="106848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10"/>
          <a:stretch/>
        </p:blipFill>
        <p:spPr>
          <a:xfrm>
            <a:off x="7380360" y="5156280"/>
            <a:ext cx="1441440" cy="1263600"/>
          </a:xfrm>
          <a:prstGeom prst="rect">
            <a:avLst/>
          </a:prstGeom>
          <a:ln w="0">
            <a:noFill/>
          </a:ln>
        </p:spPr>
      </p:pic>
      <p:sp>
        <p:nvSpPr>
          <p:cNvPr id="112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C947-04C0-434F-AF24-739CBC69E1D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leksandra Kilian</cp:lastModifiedBy>
  <dcterms:modified xsi:type="dcterms:W3CDTF">2014-03-03T07:51:59Z</dcterms:modified>
  <cp:revision>52</cp:revision>
  <dc:subject/>
  <dc:title>Slajd 1</dc:title>
</cp:coreProperties>
</file>