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369F-5506-436B-BBFC-BD394E778D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CAB4-352B-4910-9425-038328798C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35EE-208F-4C46-8714-8433ABED04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2808-B8A6-45B0-822F-7FE5A5977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0229-E572-4118-AB94-06952D0DED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2D8D-80E4-481F-B137-DC1EDF884B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2622-CBE4-4479-AE78-1BD68F509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9272-25AB-41B1-889C-EDA7B4013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EC99-AA6E-438C-8E9E-25250E1190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993E-6D4F-4EFE-BABB-EAC48CF19D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67F9-37E9-4215-84B7-A864F7E0F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4122-CFDD-4BF4-B4E6-2D44B15783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38D8-3B0E-4140-B512-633EA8B436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8E38-11C0-419A-A936-52EF9BC020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6806-64B3-4DC3-A68C-C94760956F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36C5-4188-4B07-AFBD-7A485328EF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90F9-840B-4182-835B-F40B9C182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F0A0-A103-4424-9889-4961B2AFAA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5586-0C86-457C-A8C7-78BCE3696A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6517-5979-4B26-BDE7-78EA200A09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33BD-E730-436D-8E9C-47BF13402D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D623-C4D6-4F54-BB54-F6968A6AC8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ACCD-F9D3-41D5-930A-D0E92EC4C9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4C9A-8249-4D28-A59E-E8D58C2C8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029C-3A3F-4796-AF30-936EF300BD89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54680" y="939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Índice         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B6CC-D6F3-4006-A5C5-7D20A603A080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buClr>
                <a:srgbClr val="333333"/>
              </a:buClr>
              <a:buFont typeface="Gill Sans MT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547560" indent="-210960">
              <a:buClr>
                <a:srgbClr val="a7aaab"/>
              </a:buClr>
              <a:buFont typeface="Gill Sans MT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4" marL="1515960" indent="-168120">
              <a:buClr>
                <a:srgbClr val="a7aaab"/>
              </a:buClr>
              <a:buFont typeface="Gill Sans MT"/>
              <a:buChar char="»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5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6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aller Técnico Binacional</a:t>
            </a: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Sistema de Gestión productiva y comercial en España</a:t>
            </a:r>
            <a:br>
              <a:rPr sz="5000"/>
            </a:b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Santiago de Chile</a:t>
            </a:r>
            <a:r>
              <a:rPr b="1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13-15 de Noviembre 2013</a:t>
            </a:r>
            <a:br>
              <a:rPr sz="27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                                 </a:t>
            </a:r>
            <a:r>
              <a:rPr b="1" i="1" lang="en-US" sz="2700" spc="-1" strike="noStrike">
                <a:solidFill>
                  <a:srgbClr val="ffffff"/>
                </a:solidFill>
                <a:latin typeface="Gill Sans MT"/>
              </a:rPr>
              <a:t>Manuel Fuentes Muñoz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9527038C-EC48-4B43-91AE-C5AD2054835F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77480" y="690840"/>
            <a:ext cx="5948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8.- Sistema de gestión comerci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1214280"/>
            <a:ext cx="101631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ORGANIZ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Servicios Centrales: Coordinación gene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Coordinadores Territoriales como agentes comer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Centros Penitenciarios en su ámbito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ODA LA ORGANIZACIÓN DEBE VENDER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OFERT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Espacios e instalaciones disponibles para empresas extern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Talleres de producción propia, para fabricación mediante pedidos puntuales de distintas especial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Productos fabricados en nuestros talleres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Productos artesa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5.- Servicios y suministros institucio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ESTRATEGIA COMERCIAL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Plan anual por demarcación territorial y por Centr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Objetivos anuales por Coordinador Territori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Explotación de la marca ASOMBR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Difusión comercial, por todos los medios disponib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DEF1945-D50E-490D-BBF9-527B8CE621FD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560160" y="690840"/>
            <a:ext cx="8785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9.- Sistemas de Organización y Gestión en la U.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DE ORGANIZACIÓN Y GEST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 Penitenciar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n sistemas diversos de gestión: casos de Portugal e Ital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pero con un sistema de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mixt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público o privado): Francia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spaña y Gran Bretaña. Gestión con criterios de viabilidad o rentabilidad económic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n España en la Comunidad Autónoma de Cataluñ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Sistema descentralizado de organización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 través de sus entes territoriales, con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pública o privad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Aleman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1575AF5-21D9-4D0C-90FC-B1376D7A079C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008000" y="1878120"/>
            <a:ext cx="84060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Antecedentes de Organización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Organización actual y futura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Características operativas del O.A.T.P.F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gestión productiv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ervicios Penitenciario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Extern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Propi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 de gestión comercial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Organización y Gestión en la U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95360" y="1878120"/>
            <a:ext cx="269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B287FDC5-AED3-41CC-A2A8-43C13FF42AE9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963360" y="903240"/>
            <a:ext cx="798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1.-Antecedentes de Organización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1303200"/>
            <a:ext cx="97250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Mínima organización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Reglamento de 1930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Incipiente regulación laboral de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benéfico y de gestión de la redención de pen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para la Redención de Penas por el Trabaj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39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de Nª Sª de la Merced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56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económic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-O. Autónomo de Trabajos Penitenciario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64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. Autónomo de Trabajo y Prestaciones Penitenciaria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95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 de Trabajo Penitenciario y Formación para el Emple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2004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104E5623-7E86-47E0-B358-D3DA0EE34DC7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105640" y="904680"/>
            <a:ext cx="764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2.-Organización actual y futura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SMO AUTONOMO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idad jurídica y tesorería propi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mixto (administrativo y comerci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Normas de contratación espe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funcionario y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Organización de la C. A. de Cataluña (CIRE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propio (no funcionari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iferenciada (contratos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NTIDAD DE DERECHO PÚBLICO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mixto (laboral y funcionario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únic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utofinanciación ple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809AF68-C544-47F8-B8EB-9A5F15E96B15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878120" y="904680"/>
            <a:ext cx="797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3.- Características operativas del O.A.T.P.F.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idad jurídica prop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y diferenciada del Est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esorería propia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con fondos propios y autonomía financiera (no depende del B. España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resupuesto administrativo y comerci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Mínima aportación del Estado (menos 10% del presupuesto tot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Normas de contratación especiale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convenios con distintas instituciones, contratos en régimen privado y no administrativo y encomiendas de gestión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 funcionario y labor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Prima el personal funcionario en la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Control financiero permanente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no previo. Se fiscaliza a posteriori la gestión que se lleva a cab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D6EBE971-07C6-431F-AD6D-132AF475EA9B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842480" y="903240"/>
            <a:ext cx="62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4.-Sistemas de gestión producti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-476280" y="1303200"/>
            <a:ext cx="1064412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SERVICIOS PENITENCIARIOS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limentación, panaderí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conomatos (expendi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ctividades Auxiliar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antenimient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COLABORACIÓN CON EMPRESAS PRIVAD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roducción en régimen de colaboración exter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Trabajos manufactureros  y de montaje de diversas especialidad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PRODUCCIÓN PROPIA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oducción a riesgo y ventura del Organismo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specialidades tradicionales (metal, confección o artes gráficas) y actuales (inyección de plástico, por ejempl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B8D0DAF8-F63E-457C-81CC-0868DAED3242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2468160" y="690840"/>
            <a:ext cx="4965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5.- Servicios Penitenciar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mpleta y/o parcial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centralizada de la adquisición de suministros y servicios, aprovechando las economías de escal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Derechos laborales plenos (hasta 1997 eran actividades gratificadas, no laborale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Aplicación de gestión ERP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árgenes comerciales diferenci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upresión total del dinero de curso legal y de las tarjetas de valor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F28EC63-91BE-417D-8F5E-8BFC99C97338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2830680" y="690840"/>
            <a:ext cx="4233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6.- Producción exter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477720" y="1071720"/>
            <a:ext cx="9889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L ORGANISMO AUTÓNOMO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uesta a disposición de trabajadores en horario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Relación laboral directa con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portación de instalaciones básicas y edifici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vención de RR LL: (evaluación de equipos e instalaciones y, entre otros, aportación de Equipos de protección individu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Fiscalización y control de estas activ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 LA EMPRES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edios materiales y recursos humanos.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olvencia técnica y económica (incluyendo avales y segur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e calidad y responsabilidad medio ambiental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agos mensuales conforme a lo acord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FORMALIZACIÓN DE LA REL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Formalización de la relación conforme a las condiciones generales de colaboración con empresas establecidas por el Organismo Autónomo (Convenios, protocolos, etc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10AEC711-442E-4752-94C0-7E2E035057BD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948760" y="690840"/>
            <a:ext cx="3994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7.- Producción Prop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l Organismo aport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todos los medios materiales y personales que requiere la actividad y establece los precios de venta de los productos que se fabrican. Medio propio de la Administración General del Estado. Además, asume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prevención de riesgos laborales de los intern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la calidad. Certificaciones ISO 9000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todo tipo de residuos y la responsabilidad medio ambient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s empresa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que realizan encargos a estas actividades están obligadas 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En su caso, realizar pagos anticip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Formalizar los pedidos conforme a lo exigido por el Organismo Autónomo en sus normas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Abonar las facturas en los plazos y forma estableci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Retirar los productos terminados mensualmente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anuel</cp:lastModifiedBy>
  <dcterms:modified xsi:type="dcterms:W3CDTF">2013-11-14T22:15:31Z</dcterms:modified>
  <cp:revision>22</cp:revision>
  <dc:subject/>
  <dc:title>Titulo de la presentación -Subtítulo de la presentación-</dc:title>
</cp:coreProperties>
</file>