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0749-4769-41A4-B74B-6B185EFBD4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EBEE-F881-4F6A-9500-4FA8383275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198D-CA23-4470-BDA7-AEE127535E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58C3F-E652-4484-B14F-4741039911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477C-3638-4F97-860E-A41B3F707D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F20EE-902B-4162-9F88-31C9404E55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357B0-1C8D-4717-8DA0-BAED2108F7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9403-C05C-4F5D-BE3B-2C62F23069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D5A4-24BE-455C-B33B-E28A4C49B6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EF7A-07DA-430F-833B-CE2E846DDE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9DA3-686B-467A-A7BD-4DC8837B91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6400-A515-4CC0-B995-EEF80C5B73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11F30-185C-4FA0-BEF0-805024F326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9F7B7-3BB2-41C4-9422-39C31B9BBB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F2F6F-762B-4A8C-BCC7-AFE3406551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61A1F-44B1-47DA-B056-BDB715764A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6E907-3677-4B3B-9AAB-5EB168B459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3772F-7D95-4074-9416-5EEE8643E4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7391F-2485-4C33-BEC2-D38FEBDD9D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411B0-FDCA-4498-AB5D-812B5469E4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1DF6F-0406-4D45-886C-7B3173B912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9A869-5394-43D9-8B07-55CDC43276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C9A31-B916-44DE-97BA-E2F018F89E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3E874-4EC3-4D88-BF6B-0247A3F06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2964960"/>
            <a:ext cx="9906120" cy="16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6523200"/>
            <a:ext cx="9906120" cy="37440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483480" y="1293840"/>
            <a:ext cx="89377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4c92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E4A5-1843-49E2-AE4A-38D4118F266B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Rectangle 4"/>
          <p:cNvSpPr/>
          <p:nvPr/>
        </p:nvSpPr>
        <p:spPr>
          <a:xfrm>
            <a:off x="454680" y="939600"/>
            <a:ext cx="1607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Índice          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0" y="6523200"/>
            <a:ext cx="9906120" cy="374400"/>
          </a:xfrm>
          <a:prstGeom prst="rect">
            <a:avLst/>
          </a:prstGeom>
          <a:ln w="0">
            <a:noFill/>
          </a:ln>
        </p:spPr>
      </p:pic>
      <p:sp>
        <p:nvSpPr>
          <p:cNvPr id="79" name="Line 2"/>
          <p:cNvSpPr/>
          <p:nvPr/>
        </p:nvSpPr>
        <p:spPr>
          <a:xfrm flipV="1">
            <a:off x="483480" y="1293840"/>
            <a:ext cx="89377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4c92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0E81-AF2A-486F-B928-0B7E02A6936B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82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80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buClr>
                <a:srgbClr val="333333"/>
              </a:buClr>
              <a:buFont typeface="Gill Sans MT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ill Sans MT"/>
            </a:endParaRPr>
          </a:p>
          <a:p>
            <a:pPr lvl="1" marL="547560" indent="-210960">
              <a:buClr>
                <a:srgbClr val="a7aaab"/>
              </a:buClr>
              <a:buFont typeface="Gill Sans MT"/>
              <a:buChar char="–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8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a7aaab"/>
              </a:solidFill>
              <a:latin typeface="Gill Sans MT"/>
            </a:endParaRPr>
          </a:p>
          <a:p>
            <a:pPr lvl="2" marL="841320" indent="-168120">
              <a:buClr>
                <a:srgbClr val="a7aaab"/>
              </a:buClr>
              <a:buFont typeface="Gill Sans MT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177920" indent="-168120">
              <a:buClr>
                <a:srgbClr val="a7aaab"/>
              </a:buClr>
              <a:buFont typeface="Gill Sans MT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0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a7aaab"/>
              </a:solidFill>
              <a:latin typeface="Gill Sans MT"/>
            </a:endParaRPr>
          </a:p>
          <a:p>
            <a:pPr lvl="4" marL="1515960" indent="-168120">
              <a:buClr>
                <a:srgbClr val="a7aaab"/>
              </a:buClr>
              <a:buFont typeface="Gill Sans MT"/>
              <a:buChar char="»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0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a7aaab"/>
              </a:solidFill>
              <a:latin typeface="Gill Sans MT"/>
            </a:endParaRPr>
          </a:p>
          <a:p>
            <a:pPr lvl="5" marL="1515960" indent="-168120">
              <a:spcBef>
                <a:spcPts val="4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a7aaab"/>
              </a:solidFill>
              <a:latin typeface="Gill Sans MT"/>
            </a:endParaRPr>
          </a:p>
          <a:p>
            <a:pPr lvl="6" marL="1515960" indent="-168120">
              <a:spcBef>
                <a:spcPts val="4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5616720"/>
            <a:ext cx="9906120" cy="12412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219240" y="5729400"/>
            <a:ext cx="9296280" cy="984240"/>
          </a:xfrm>
          <a:prstGeom prst="rect">
            <a:avLst/>
          </a:prstGeom>
          <a:ln w="0">
            <a:noFill/>
          </a:ln>
        </p:spPr>
      </p:pic>
      <p:sp>
        <p:nvSpPr>
          <p:cNvPr id="123" name="Line 4"/>
          <p:cNvSpPr/>
          <p:nvPr/>
        </p:nvSpPr>
        <p:spPr>
          <a:xfrm flipV="1">
            <a:off x="-720" y="5624640"/>
            <a:ext cx="990612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964960"/>
            <a:ext cx="9906120" cy="16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Taller Técnico Binacional</a:t>
            </a:r>
            <a:r>
              <a:rPr b="0" lang="en-US" sz="5000" spc="-1" strike="noStrike">
                <a:solidFill>
                  <a:srgbClr val="ffffff"/>
                </a:solidFill>
                <a:latin typeface="Gill Sans MT"/>
              </a:rPr>
              <a:t>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Gill Sans MT"/>
              </a:rPr>
              <a:t>Sistema de Gestión productiva y comercial en España</a:t>
            </a:r>
            <a:br>
              <a:rPr sz="5000"/>
            </a:br>
            <a:r>
              <a:rPr b="1" lang="en-US" sz="2700" spc="-1" strike="noStrike">
                <a:solidFill>
                  <a:srgbClr val="ffffff"/>
                </a:solidFill>
                <a:latin typeface="Gill Sans MT"/>
              </a:rPr>
              <a:t>Santiago de Chile</a:t>
            </a:r>
            <a:r>
              <a:rPr b="1" lang="en-US" sz="5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Gill Sans MT"/>
              </a:rPr>
              <a:t>13-15 de Noviembre 2013</a:t>
            </a:r>
            <a:br>
              <a:rPr sz="2700"/>
            </a:br>
            <a:r>
              <a:rPr b="0" lang="en-US" sz="5000" spc="-1" strike="noStrike">
                <a:solidFill>
                  <a:srgbClr val="ffffff"/>
                </a:solidFill>
                <a:latin typeface="Gill Sans MT"/>
              </a:rPr>
              <a:t>                                  </a:t>
            </a:r>
            <a:r>
              <a:rPr b="1" i="1" lang="en-US" sz="2700" spc="-1" strike="noStrike">
                <a:solidFill>
                  <a:srgbClr val="ffffff"/>
                </a:solidFill>
                <a:latin typeface="Gill Sans MT"/>
              </a:rPr>
              <a:t>Manuel Fuentes Muñoz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E0F26F9F-3CD2-4339-B647-EBEAC8A862B9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1977480" y="690840"/>
            <a:ext cx="59482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8.- Sistema de gestión comerci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1214280"/>
            <a:ext cx="1016316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ORGANIZACIÓN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1.- Servicios Centrales: Coordinación general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2.- Coordinadores Territoriales como agentes comercial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3.- Centros Penitenciarios en su ámbito de gestión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 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4.- 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TODA LA ORGANIZACIÓN DEBE VENDER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-OFERTA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1.- Espacios e instalaciones disponibles para empresas externa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2.- Talleres de producción propia, para fabricación mediante pedidos puntuales de distintas especialidad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 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3.- Productos fabricados en nuestros talleres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 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4.- Productos artesanal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5.- Servicios y suministros institucional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-ESTRATEGIA COMERCIAL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1.- Plan anual por demarcación territorial y por Centro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2.- Objetivos anuales por Coordinador Territorial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 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3.- Explotación de la marca ASOMBR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 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4.- Difusión comercial, por todos los medios disponibl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7A17304A-74AC-44EE-8A02-AB430669D735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Rectangle 1"/>
          <p:cNvSpPr/>
          <p:nvPr/>
        </p:nvSpPr>
        <p:spPr>
          <a:xfrm>
            <a:off x="560160" y="690840"/>
            <a:ext cx="8785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9.- Sistemas de Organización y Gestión en la U.E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-257040" y="1303200"/>
            <a:ext cx="966924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SISTEMAS DE ORGANIZACIÓN Y GESTIÓN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Por 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la propia Administración Penitenciaria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con sistemas diversos de gestión: casos de Portugal e Itali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Por 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la propia Administración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pero con un sistema de 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gestión mixto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(público o privado): Francia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Por 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Organismo Autónomo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: España y Gran Bretaña. Gestión con criterios de viabilidad o rentabilidad económic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Por 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Empresa Pública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: En España en la Comunidad Autónoma de Cataluñ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Sistema descentralizado de organización 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a través de sus entes territoriales, con 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gestión pública o privada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: Alemani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084472CF-5A80-4A04-ACD6-736E39786810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1008000" y="1878120"/>
            <a:ext cx="840600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Antecedentes de Organización en España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Organización actual y futura en España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Características operativas del O.A.T.P.F.E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Sistemas de gestión productiva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Servicios Penitenciarios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Producción Externa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Producción Propia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Sistema de gestión comercial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Gill Sans MT"/>
              </a:rPr>
              <a:t>Sistemas de Organización y Gestión en la U.E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495360" y="1878120"/>
            <a:ext cx="26964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7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9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C7AEB6DF-9700-46A6-A3E2-A86096533786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963360" y="903240"/>
            <a:ext cx="7982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1.-Antecedentes de Organización en Españ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1303200"/>
            <a:ext cx="972504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Mínima organización:</a:t>
            </a:r>
            <a:r>
              <a:rPr b="1" lang="es-ES" sz="2800" spc="-1" strike="noStrike" u="sng">
                <a:solidFill>
                  <a:srgbClr val="333399"/>
                </a:solidFill>
                <a:uFillTx/>
                <a:latin typeface="Gill Sans"/>
                <a:ea typeface="小塚ゴシック Pr6N 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Reglamento de 1930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 Incipiente regulación laboral de los internos trabajador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Organización de carácter benéfico y de gestión de la redención de penas</a:t>
            </a:r>
            <a:r>
              <a:rPr b="1" lang="es-ES_tradnl" sz="28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 algn="just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Patronato Central para la Redención de Penas por el Trabajo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(1939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 algn="just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Patronato Central de Nª Sª de la Merced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(1956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Organización de carácter económico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-O. Autónomo de Trabajos Penitenciarios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(1964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O. Autónomo de Trabajo y Prestaciones Penitenciarias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(1995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Organismo Autónomo de Trabajo Penitenciario y Formación para el Empleo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(2004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6CD0C0E1-232B-4CA7-943D-EAB07327FEFE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2105640" y="904680"/>
            <a:ext cx="7641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2.-Organización actual y futura en Españ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493560" y="1303200"/>
            <a:ext cx="891864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ORGANISMO AUTONOMO</a:t>
            </a:r>
            <a:r>
              <a:rPr b="1" lang="es-ES" sz="28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:</a:t>
            </a:r>
            <a:r>
              <a:rPr b="1" lang="es-ES" sz="2800" spc="-1" strike="noStrike" u="sng">
                <a:solidFill>
                  <a:srgbClr val="333399"/>
                </a:solidFill>
                <a:uFillTx/>
                <a:latin typeface="Gill Sans"/>
                <a:ea typeface="小塚ゴシック Pr6N 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ersonalidad jurídica y tesorería propia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resupuesto mixto (administrativo y comercial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Normas de contratación especial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ersonal funcionario y laboral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EMPRESA PÚBLICA</a:t>
            </a:r>
            <a:r>
              <a:rPr b="1" lang="es-ES_tradnl" sz="28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 algn="ctr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Organización de la C. A. de Cataluña (CIRE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 algn="ctr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ersonal propio (no funcionario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 algn="ctr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Gestión diferenciada (contratos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 algn="ctr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ENTIDAD DE DERECHO PÚBLICO</a:t>
            </a:r>
            <a:r>
              <a:rPr b="1" lang="es-ES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ersonal mixto (laboral y funcionario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resupuesto único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Autofinanciación plen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29F9C55B-F420-4DB2-9446-44781805D4CE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1878120" y="904680"/>
            <a:ext cx="7970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3.- Características operativas del O.A.T.P.F.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93560" y="1303200"/>
            <a:ext cx="891864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Personalidad jurídica propia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y diferenciada del Estado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Tesorería propia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, con fondos propios y autonomía financiera (no depende del B. España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Presupuesto administrativo y comercial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 Mínima aportación del Estado (menos 10% del presupuesto total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Normas de contratación especiales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(convenios con distintas instituciones, contratos en régimen privado y no administrativo y encomiendas de gestión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Personal funcionario y laboral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 Prima el personal funcionario en la gestión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Control financiero permanente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, no previo. Se fiscaliza a posteriori la gestión que se lleva a cabo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FC1F4E74-894B-47E9-BBD6-9C982EAF765C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1842480" y="903240"/>
            <a:ext cx="621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4.-Sistemas de gestión productiv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-476280" y="1303200"/>
            <a:ext cx="1064412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SERVICIOS PENITENCIARIOS</a:t>
            </a:r>
            <a:r>
              <a:rPr b="1" lang="es-ES" sz="28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:</a:t>
            </a:r>
            <a:r>
              <a:rPr b="1" lang="es-ES" sz="2800" spc="-1" strike="noStrike" u="sng">
                <a:solidFill>
                  <a:srgbClr val="333399"/>
                </a:solidFill>
                <a:uFillTx/>
                <a:latin typeface="Gill Sans"/>
                <a:ea typeface="小塚ゴシック Pr6N 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Alimentación, panadería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Economatos (expendios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Actividades Auxiliares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Mantenimiento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COLABORACIÓN CON EMPRESAS PRIVADAS</a:t>
            </a:r>
            <a:r>
              <a:rPr b="1" lang="es-ES_tradnl" sz="28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Producción en régimen de colaboración extern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000000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Trabajos manufactureros  y de montaje de diversas especialidades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 algn="ctr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3" marL="117792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PRODUCCIÓN PROPIA</a:t>
            </a:r>
            <a:r>
              <a:rPr b="1" lang="es-ES" sz="2800" spc="-1" strike="noStrike" u="sng">
                <a:solidFill>
                  <a:srgbClr val="d60093"/>
                </a:solidFill>
                <a:uFillTx/>
                <a:latin typeface="Gill Sans"/>
                <a:ea typeface="小塚ゴシック Pr6N 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roducción a riesgo y ventura del Organismo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Especialidades tradicionales (metal, confección o artes gráficas) y actuales (inyección de plástico, por ejemplo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 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Encomiendas de gestión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B53092C3-995B-4590-AFCF-897774E24309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2468160" y="690840"/>
            <a:ext cx="4965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5.- Servicios Penitenciari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493560" y="1303200"/>
            <a:ext cx="891864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Gestión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completa y/o parcial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Gestión centralizada de la adquisición de suministros y servicios, aprovechando las economías de escala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Derechos laborales plenos (hasta 1997 eran actividades gratificadas, no laborales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Aplicación de gestión ERP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Encomiendas de gestión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Márgenes comerciales diferenciado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Supresión total del dinero de curso legal y de las tarjetas de valor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48C2EF04-A230-435B-9E45-C6B9EFADBCFB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2830680" y="690840"/>
            <a:ext cx="4233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6.- Producción extern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-477720" y="1071720"/>
            <a:ext cx="98899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4" marL="151596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APORTACIÓN DEL ORGANISMO AUTÓNOMO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uesta a disposición de trabajadores en horario laboral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Relación laboral directa con los internos trabajador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Aportación de instalaciones básicas y edificio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revención de RR LL: (evaluación de equipos e instalaciones y, entre otros, aportación de Equipos de protección individual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Fiscalización y control de estas actividade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APORTACIÓN DE LA EMPRESA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Medios materiales y recursos humanos.</a:t>
            </a:r>
            <a:r>
              <a:rPr b="1" lang="es-ES_tradnl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 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Solvencia técnica y económica (incluyendo avales y seguros)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Gestión de calidad y responsabilidad medio ambiental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Pagos mensuales conforme a lo acordado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buClr>
                <a:srgbClr val="d60093"/>
              </a:buClr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d60093"/>
                </a:solidFill>
                <a:latin typeface="Gill Sans"/>
                <a:ea typeface="小塚ゴシック Pr6N EL"/>
              </a:rPr>
              <a:t>FORMALIZACIÓN DE LA RELACIÓN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Formalización de la relación conforme a las condiciones generales de colaboración con empresas establecidas por el Organismo Autónomo (Convenios, protocolos, etc). 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Marcador de número de diapositiva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fld id="{9726480A-17BF-4479-9C8B-9387DF9D9732}" type="slidenum">
              <a:rPr b="0" lang="en-US" sz="12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2948760" y="690840"/>
            <a:ext cx="39945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800" spc="-1" strike="noStrike">
                <a:solidFill>
                  <a:srgbClr val="1f04c4"/>
                </a:solidFill>
                <a:latin typeface="Gill Sans"/>
              </a:rPr>
              <a:t>7.- Producción Propi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52360"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-257040" y="1303200"/>
            <a:ext cx="966924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i="1" lang="es-ES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El Organismo aporta</a:t>
            </a:r>
            <a:r>
              <a:rPr b="1" lang="es-ES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todos los medios materiales y personales que requiere la actividad y establece los precios de venta de los productos que se fabrican. Medio propio de la Administración General del Estado. Además, asume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*La prevención de riesgos laborales de los interno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*La gestión de la calidad. Certificaciones ISO 9000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*La gestión de todo tipo de residuos y la responsabilidad medio ambiental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-</a:t>
            </a:r>
            <a:r>
              <a:rPr b="1" i="1" lang="es-ES_tradnl" sz="2100" spc="-1" strike="noStrike" u="sng">
                <a:solidFill>
                  <a:srgbClr val="000000"/>
                </a:solidFill>
                <a:uFillTx/>
                <a:latin typeface="Gill Sans"/>
                <a:ea typeface="小塚ゴシック Pr6N EL"/>
              </a:rPr>
              <a:t>Las empresas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 que realizan encargos a estas actividades están obligadas a: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*En su caso, realizar pagos anticipado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*Formalizar los pedidos conforme a lo exigido por el Organismo Autónomo en sus normas de gestión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*Abonar las facturas en los plazos y forma establecidos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*Retirar los productos terminados mensualmente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lvl="4" marL="1515960" indent="-168120">
              <a:lnSpc>
                <a:spcPct val="100000"/>
              </a:lnSpc>
              <a:tabLst>
                <a:tab algn="l" pos="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manuel</cp:lastModifiedBy>
  <dcterms:modified xsi:type="dcterms:W3CDTF">2013-11-14T22:15:31Z</dcterms:modified>
  <cp:revision>22</cp:revision>
  <dc:subject/>
  <dc:title>Titulo de la presentación -Subtítulo de la presentación-</dc:title>
</cp:coreProperties>
</file>