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dt" idx="1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Img"/>
          </p:nvPr>
        </p:nvSpPr>
        <p:spPr>
          <a:xfrm>
            <a:off x="1377720" y="634680"/>
            <a:ext cx="3932280" cy="294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body"/>
          </p:nvPr>
        </p:nvSpPr>
        <p:spPr>
          <a:xfrm>
            <a:off x="372960" y="3743280"/>
            <a:ext cx="6059520" cy="5454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ftr" idx="16"/>
          </p:nvPr>
        </p:nvSpPr>
        <p:spPr>
          <a:xfrm>
            <a:off x="-3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 type="sldNum" idx="17"/>
          </p:nvPr>
        </p:nvSpPr>
        <p:spPr>
          <a:xfrm>
            <a:off x="38541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AFB4-0E7D-4E8B-BDB4-01F0214880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78080" y="635040"/>
            <a:ext cx="3932280" cy="29494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372960" y="3743280"/>
            <a:ext cx="6059520" cy="54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AD98-D4EB-4CE9-A5BC-9AA825E1ADB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78080" y="635040"/>
            <a:ext cx="3932280" cy="29494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372960" y="3743280"/>
            <a:ext cx="6059520" cy="5454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34 cou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9C90-C144-4684-A56F-26CFB0977EE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78080" y="635040"/>
            <a:ext cx="3932280" cy="29494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372960" y="3743280"/>
            <a:ext cx="6059520" cy="5454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34 cou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9E69-CA25-46B9-BA94-C413AC3F403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378080" y="635040"/>
            <a:ext cx="3932280" cy="29494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372960" y="3743280"/>
            <a:ext cx="6059520" cy="5454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34 cou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DACF-7A31-4FC5-BC71-C96BEBF6A4A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378080" y="635040"/>
            <a:ext cx="3932280" cy="29494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372960" y="3743280"/>
            <a:ext cx="6059520" cy="5454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34 cou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4C31-6564-43B4-84F4-C8D61A25433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8080" y="635040"/>
            <a:ext cx="3932280" cy="29494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372960" y="3743280"/>
            <a:ext cx="6059520" cy="54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15DA-EB2B-4B63-871B-BE2C8EB9EFD1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378080" y="635040"/>
            <a:ext cx="3932280" cy="29494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372960" y="3743280"/>
            <a:ext cx="6059520" cy="5454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34 cou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6A09-3BA6-47A2-BC9B-01BB09E9137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378080" y="635040"/>
            <a:ext cx="3932280" cy="29494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372960" y="3743280"/>
            <a:ext cx="6059520" cy="5454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34 cou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8E92-68E8-4304-8F8C-DAEEC0349BB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378080" y="635040"/>
            <a:ext cx="3932280" cy="29494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372960" y="3743280"/>
            <a:ext cx="6059520" cy="5454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34 cou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5C39-D498-4733-88F1-1EC36644CA1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78080" y="635040"/>
            <a:ext cx="3932280" cy="29494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372960" y="3743280"/>
            <a:ext cx="6059520" cy="5454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. La presente guía se concentra en los esfuerzos de las distintas administraciones tributarias nacionales para mostrar a los contribuyentes cómo pagar sus impuestos y concienciarles acerca de la importancia de este gesto, todo ello vinculado, en gran medida, a la dimensión social del gasto público y la asignación equitativa de los recursos públic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Estudios recientes, incluidos los de la OCDE, reflejan un vínculo directo entre la ética fiscal y la percepción de los ciudadanos tanto en materia tributaria como acerca de la calidad del gasto público. En otras palabras, se aprecia una mayor predisposición a pagar impuestos entre aquellos segmentos sociales que perciben una mayor calidad de los servicios públicos prestados (OCDE/CEPAL, 2011). Esta situación de escasa ética fiscal no sólo debilita los sentimientos de pertenencia a un proyecto social común, sino que pone de manifiesto la existencia de un círculo vicioso en virtud del que la evasión fiscal o la negativa a pagar más impuestos se justifica bajo el pretexto de que el Estado no cumple su parte del contrato social, lo que conduce al mismo tiempo a que los servicios no puedan mejorar por ser insuficientes los ingresos, de ahí que los servicios se deterioren, degeneren y el ciclo se perpetú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7C50-2315-4F3B-8B30-FE4155A3336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78080" y="635040"/>
            <a:ext cx="3932280" cy="29494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372960" y="3743280"/>
            <a:ext cx="6059520" cy="5454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34 cou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DF88-E6C7-48A6-B49F-6CDE2574541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78080" y="635040"/>
            <a:ext cx="3932280" cy="29494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372960" y="3743280"/>
            <a:ext cx="6059520" cy="5454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34 cou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40F5-8E01-4D06-9DD6-7AF0612AC10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78080" y="635040"/>
            <a:ext cx="3932280" cy="29494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72960" y="3743280"/>
            <a:ext cx="6059520" cy="5454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34 cou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5470-D3C5-44B9-9BAA-AB3F3210BD6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4C95-67B5-40BB-9649-F760248C8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8218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" y="3965760"/>
            <a:ext cx="8218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F7DB-F1FB-4030-8BA3-5B57ED37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928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DB6D-72FB-4F3A-B29B-62717EF83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6840" y="160128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5320" y="160128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000" y="396576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6840" y="396576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5320" y="396576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35DF-0E73-47B3-9FE9-91C12E06A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29E3-22E2-480B-AB86-20612197C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68000" y="1601280"/>
            <a:ext cx="82184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83E0-C2A0-4581-9B1D-FF4A4B30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82184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0C32-3E46-4F4A-BAEC-0972FC1A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95CC-6293-41C1-8AB9-1663F7BB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335C-A0BF-4A84-8CDA-142F0F48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79640" y="237960"/>
            <a:ext cx="741672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17F4-1911-4705-B1C5-CCBC2C06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00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6DBC-5D76-480A-A333-1EC6D45B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000" y="1601280"/>
            <a:ext cx="82184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B92C-DC8D-4BE5-A5C5-567836F1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928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1E47-26C1-497F-8C0D-5D18769A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000" y="3965760"/>
            <a:ext cx="8218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527B-366B-47FD-9B2D-CEB4B990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8218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000" y="3965760"/>
            <a:ext cx="8218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EABF-708C-4CF1-B28B-68FA74E5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800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928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5D24-1E6E-462C-8E54-A0D08D73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46840" y="160128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5320" y="160128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8000" y="396576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46840" y="396576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5320" y="396576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C515-23AA-4DE6-9915-1E8D979CC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F927D-2C2F-48CF-B939-D210B5E9C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8000" y="1601280"/>
            <a:ext cx="82184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AE9C3-672B-4C3F-8872-086528EC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82184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C8AD4-B14A-44A5-B02D-D012A4E5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FF403-EC67-49AB-84CC-4AC7BB6D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07D87-6FA3-4406-93D5-777ADF9D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82184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4A0A-25D1-41A8-B7FF-824E625A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079640" y="237960"/>
            <a:ext cx="741672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ED4D9-F74D-45B7-AC41-4B67B19B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00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2F87A-B639-4E91-A67D-B0730C29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928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1719A-186B-4F9A-8B93-30184562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000" y="3965760"/>
            <a:ext cx="8218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54494-F77B-4A90-8198-F620BF6F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8218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000" y="3965760"/>
            <a:ext cx="8218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3C74B-7BC3-459B-A973-3F84241B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800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928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5AB1E-DCBB-4523-96A8-2018F9C4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46840" y="160128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5320" y="160128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8000" y="396576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46840" y="396576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5320" y="396576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C26C4-C855-4B4A-9678-121B06D9E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68000" y="1601280"/>
            <a:ext cx="82184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82184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BB9A-3285-4346-B72B-8117025A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079640" y="237960"/>
            <a:ext cx="741672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800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928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8000" y="3965760"/>
            <a:ext cx="8218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8218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000" y="3965760"/>
            <a:ext cx="8218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800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928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46840" y="160128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5320" y="160128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8000" y="396576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46840" y="396576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5320" y="396576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9EE94D-03F8-417D-A24E-EB94569C8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82CF-191F-4378-A761-A82C8509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68000" y="1601280"/>
            <a:ext cx="82184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6704C0-CC15-4A4A-9799-04A5807A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82184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0E7143-3BAA-448F-867A-DC1C8346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87A02E-9BDB-4B25-802F-C9F34BA3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622F46-B9BF-4D42-88D4-BB582C1B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079640" y="237960"/>
            <a:ext cx="741672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3AAE0C-8B1E-46AF-BC39-6F1EA28E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800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88E927-43FA-4384-A2EF-855AEF98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928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F4C40F-BA74-4E7E-B471-FD43CAD2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8000" y="3965760"/>
            <a:ext cx="8218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D6AD30-FFE9-4E6A-83C7-18385053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8218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8000" y="3965760"/>
            <a:ext cx="8218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7891D2-51A9-49CF-9452-ED057E32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800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928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5B3518-3397-42D9-AA95-4A2EF7973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79640" y="237960"/>
            <a:ext cx="741672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8352-C326-41DF-A2E1-25A9F5E5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46840" y="160128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5320" y="160128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8000" y="396576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46840" y="396576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5320" y="396576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E3A162-764D-49D8-93C8-7EC2FD50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4EEF-2CF7-447D-BDDD-B079C8FD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928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B97F-69DA-42E6-A006-606E435A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" y="3965760"/>
            <a:ext cx="8218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E05E-B28E-4089-92ED-F2A21B44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4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PPT_fondslid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2727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4b78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7172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27272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32B5-E00E-44B7-A20D-D95B45F54808}" type="datetime">
              <a:rPr b="0" lang="en-US" sz="1400" spc="-1" strike="noStrike">
                <a:solidFill>
                  <a:srgbClr val="727272"/>
                </a:solidFill>
                <a:latin typeface="Georgi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5580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96000" y="6244920"/>
            <a:ext cx="1114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27272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D1C1-712E-43A2-98DE-E06D41E353AB}" type="slidenum">
              <a:rPr b="0" lang="en-US" sz="1400" spc="-1" strike="noStrike">
                <a:solidFill>
                  <a:srgbClr val="727272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1" descr="OECD_10cm.png"/>
          <p:cNvPicPr/>
          <p:nvPr/>
        </p:nvPicPr>
        <p:blipFill>
          <a:blip r:embed="rId3"/>
          <a:stretch/>
        </p:blipFill>
        <p:spPr>
          <a:xfrm>
            <a:off x="468360" y="6172200"/>
            <a:ext cx="582480" cy="560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 8" descr=""/>
          <p:cNvPicPr/>
          <p:nvPr/>
        </p:nvPicPr>
        <p:blipFill>
          <a:blip r:embed="rId2"/>
          <a:stretch/>
        </p:blipFill>
        <p:spPr>
          <a:xfrm>
            <a:off x="8193240" y="5327640"/>
            <a:ext cx="950760" cy="15303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0"/>
          <p:cNvSpPr/>
          <p:nvPr/>
        </p:nvSpPr>
        <p:spPr>
          <a:xfrm>
            <a:off x="503280" y="1306440"/>
            <a:ext cx="8155080" cy="360"/>
          </a:xfrm>
          <a:prstGeom prst="rect">
            <a:avLst/>
          </a:prstGeom>
          <a:noFill/>
          <a:ln w="6480">
            <a:solidFill>
              <a:srgbClr val="7272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 7" descr=""/>
          <p:cNvPicPr/>
          <p:nvPr/>
        </p:nvPicPr>
        <p:blipFill>
          <a:blip r:embed="rId3"/>
          <a:stretch/>
        </p:blipFill>
        <p:spPr>
          <a:xfrm>
            <a:off x="500040" y="287280"/>
            <a:ext cx="458640" cy="954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68000" y="1601280"/>
            <a:ext cx="82184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spcBef>
                <a:spcPts val="763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2" marL="1144440" indent="-230040"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3" marL="1601640" indent="-230040">
              <a:spcBef>
                <a:spcPts val="763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4" marL="2058840" indent="-230040">
              <a:spcBef>
                <a:spcPts val="763"/>
              </a:spcBef>
              <a:buClr>
                <a:srgbClr val="72727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5" marL="2058840" indent="-230040">
              <a:spcBef>
                <a:spcPts val="763"/>
              </a:spcBef>
              <a:buClr>
                <a:srgbClr val="72727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6" marL="2058840" indent="-230040">
              <a:spcBef>
                <a:spcPts val="763"/>
              </a:spcBef>
              <a:buClr>
                <a:srgbClr val="72727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03200" y="6411600"/>
            <a:ext cx="900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272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E752-7537-4DAE-BFBD-8EE5F0775CA1}" type="datetime">
              <a:rPr b="0" lang="en-US" sz="1000" spc="-1" strike="noStrike">
                <a:solidFill>
                  <a:srgbClr val="727272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368360" y="6411600"/>
            <a:ext cx="4680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640720" y="6411600"/>
            <a:ext cx="341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5BCE-168D-460D-BE7C-3DE5BF4EBC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8" descr="PPT_fondcouv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Logo_ENG.png"/>
          <p:cNvPicPr/>
          <p:nvPr/>
        </p:nvPicPr>
        <p:blipFill>
          <a:blip r:embed="rId3"/>
          <a:stretch/>
        </p:blipFill>
        <p:spPr>
          <a:xfrm>
            <a:off x="0" y="0"/>
            <a:ext cx="3762360" cy="11034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2727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4b78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250560" y="6244920"/>
            <a:ext cx="4043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27272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B249-EF5F-4E11-B065-414C1F5F6FEE}" type="datetime">
              <a:rPr b="0" lang="en-US" sz="1400" spc="-1" strike="noStrike">
                <a:solidFill>
                  <a:srgbClr val="727272"/>
                </a:solidFill>
                <a:latin typeface="Georgi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455580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27272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3753-A974-4C7D-8846-754729E01411}" type="slidenum">
              <a:rPr b="0" lang="en-US" sz="1400" spc="-1" strike="noStrike">
                <a:solidFill>
                  <a:srgbClr val="727272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2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Image 12" descr=""/>
          <p:cNvPicPr/>
          <p:nvPr/>
        </p:nvPicPr>
        <p:blipFill>
          <a:blip r:embed="rId2"/>
          <a:stretch/>
        </p:blipFill>
        <p:spPr>
          <a:xfrm>
            <a:off x="6516720" y="2629080"/>
            <a:ext cx="2627280" cy="4228920"/>
          </a:xfrm>
          <a:prstGeom prst="rect">
            <a:avLst/>
          </a:prstGeom>
          <a:ln w="0">
            <a:noFill/>
          </a:ln>
        </p:spPr>
      </p:pic>
      <p:pic>
        <p:nvPicPr>
          <p:cNvPr id="131" name="Image 10" descr=""/>
          <p:cNvPicPr/>
          <p:nvPr/>
        </p:nvPicPr>
        <p:blipFill>
          <a:blip r:embed="rId3"/>
          <a:stretch/>
        </p:blipFill>
        <p:spPr>
          <a:xfrm>
            <a:off x="0" y="0"/>
            <a:ext cx="2627280" cy="4230720"/>
          </a:xfrm>
          <a:prstGeom prst="rect">
            <a:avLst/>
          </a:prstGeom>
          <a:ln w="0">
            <a:noFill/>
          </a:ln>
        </p:spPr>
      </p:pic>
      <p:pic>
        <p:nvPicPr>
          <p:cNvPr id="132" name="Image 11" descr=""/>
          <p:cNvPicPr/>
          <p:nvPr/>
        </p:nvPicPr>
        <p:blipFill>
          <a:blip r:embed="rId4"/>
          <a:stretch/>
        </p:blipFill>
        <p:spPr>
          <a:xfrm>
            <a:off x="511200" y="431640"/>
            <a:ext cx="692280" cy="1440000"/>
          </a:xfrm>
          <a:prstGeom prst="rect">
            <a:avLst/>
          </a:prstGeom>
          <a:ln w="0">
            <a:noFill/>
          </a:ln>
        </p:spPr>
      </p:pic>
      <p:pic>
        <p:nvPicPr>
          <p:cNvPr id="133" name="Image 13" descr=""/>
          <p:cNvPicPr/>
          <p:nvPr/>
        </p:nvPicPr>
        <p:blipFill>
          <a:blip r:embed="rId5"/>
          <a:stretch/>
        </p:blipFill>
        <p:spPr>
          <a:xfrm>
            <a:off x="7164360" y="6054840"/>
            <a:ext cx="1741680" cy="5792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468000" y="1601280"/>
            <a:ext cx="82184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spcBef>
                <a:spcPts val="763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2" marL="1144440" indent="-230040"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3" marL="1601640" indent="-230040">
              <a:spcBef>
                <a:spcPts val="763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4" marL="2058840" indent="-230040">
              <a:spcBef>
                <a:spcPts val="763"/>
              </a:spcBef>
              <a:buClr>
                <a:srgbClr val="72727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5" marL="2058840" indent="-230040">
              <a:spcBef>
                <a:spcPts val="763"/>
              </a:spcBef>
              <a:buClr>
                <a:srgbClr val="72727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6" marL="2058840" indent="-230040">
              <a:spcBef>
                <a:spcPts val="763"/>
              </a:spcBef>
              <a:buClr>
                <a:srgbClr val="72727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03200" y="6411600"/>
            <a:ext cx="900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6775-2BDD-4E98-826E-059DE9079F21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1368360" y="6411600"/>
            <a:ext cx="4680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72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Image 6" descr=""/>
          <p:cNvPicPr/>
          <p:nvPr/>
        </p:nvPicPr>
        <p:blipFill>
          <a:blip r:embed="rId2"/>
          <a:stretch/>
        </p:blipFill>
        <p:spPr>
          <a:xfrm>
            <a:off x="8193240" y="5327640"/>
            <a:ext cx="950760" cy="1530360"/>
          </a:xfrm>
          <a:prstGeom prst="rect">
            <a:avLst/>
          </a:prstGeom>
          <a:ln w="0">
            <a:noFill/>
          </a:ln>
        </p:spPr>
      </p:pic>
      <p:pic>
        <p:nvPicPr>
          <p:cNvPr id="175" name="Image 7" descr=""/>
          <p:cNvPicPr/>
          <p:nvPr/>
        </p:nvPicPr>
        <p:blipFill>
          <a:blip r:embed="rId3"/>
          <a:stretch/>
        </p:blipFill>
        <p:spPr>
          <a:xfrm>
            <a:off x="579600" y="468360"/>
            <a:ext cx="691920" cy="14396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468000" y="1601280"/>
            <a:ext cx="82184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spcBef>
                <a:spcPts val="763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2" marL="1144440" indent="-230040"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3" marL="1601640" indent="-230040">
              <a:spcBef>
                <a:spcPts val="763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4" marL="2058840" indent="-230040">
              <a:spcBef>
                <a:spcPts val="763"/>
              </a:spcBef>
              <a:buClr>
                <a:srgbClr val="72727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5" marL="2058840" indent="-230040">
              <a:spcBef>
                <a:spcPts val="763"/>
              </a:spcBef>
              <a:buClr>
                <a:srgbClr val="72727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6" marL="2058840" indent="-230040">
              <a:spcBef>
                <a:spcPts val="763"/>
              </a:spcBef>
              <a:buClr>
                <a:srgbClr val="72727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2"/>
          </p:nvPr>
        </p:nvSpPr>
        <p:spPr>
          <a:xfrm>
            <a:off x="403200" y="6411600"/>
            <a:ext cx="900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FC72-86E3-4FF5-98FC-3ED3C9793533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3"/>
          </p:nvPr>
        </p:nvSpPr>
        <p:spPr>
          <a:xfrm>
            <a:off x="1368360" y="6411600"/>
            <a:ext cx="4680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4"/>
          </p:nvPr>
        </p:nvSpPr>
        <p:spPr>
          <a:xfrm>
            <a:off x="8640720" y="6411600"/>
            <a:ext cx="341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DC58-6DBA-421D-B780-76E0E2B92244}" type="slidenum">
              <a:rPr b="0" lang="en-US" sz="1000" spc="-1" strike="noStrike">
                <a:solidFill>
                  <a:srgbClr val="006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76000" y="1819080"/>
            <a:ext cx="649908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b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BUILDING TAX CULTURE, COMPLIANCE AND CITIZENSHIP</a:t>
            </a:r>
            <a:br>
              <a:rPr sz="3600"/>
            </a:br>
            <a:br>
              <a:rPr sz="36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GLOBAL SOURCE BOOK ON TAXPAYER EDUCATION</a:t>
            </a:r>
            <a:endParaRPr b="0" lang="en-US" sz="2800" spc="-1" strike="noStrike">
              <a:solidFill>
                <a:srgbClr val="7272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539280" y="184464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7272"/>
                </a:solidFill>
                <a:latin typeface="Calibri"/>
              </a:rPr>
              <a:t>Tax in cyberspace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Resource optimisation through ICT use. e.g. </a:t>
            </a:r>
            <a:r>
              <a:rPr b="0" i="1" lang="en-GB" sz="2000" spc="-1" strike="noStrike">
                <a:solidFill>
                  <a:srgbClr val="727272"/>
                </a:solidFill>
                <a:latin typeface="Calibri"/>
              </a:rPr>
              <a:t>El Salvador, Chile, Uruguay 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7272"/>
                </a:solidFill>
                <a:latin typeface="Calibri"/>
              </a:rPr>
              <a:t>Tax at the games room and on TV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tax can be explained through interactive play spaces, theatre, video games, and soap operas on television . E.g. </a:t>
            </a:r>
            <a:r>
              <a:rPr b="0" i="1" lang="en-GB" sz="2000" spc="-1" strike="noStrike">
                <a:solidFill>
                  <a:srgbClr val="727272"/>
                </a:solidFill>
                <a:latin typeface="Calibri"/>
              </a:rPr>
              <a:t>Malaysia, Nigeria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7272"/>
                </a:solidFill>
                <a:latin typeface="Calibri"/>
              </a:rPr>
              <a:t>Celebrating tax: tax days and festivals 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Bangladesh celebrates National Income Tax Day 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Guatemala’s annual citizen culture festival “Strength Lies in Numbers”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Rwanda’s Taxpayer’s Day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27272"/>
                </a:solidFill>
                <a:latin typeface="Arial"/>
              </a:rPr>
              <a:t>2. Global Source Book on Taxpayer Education </a:t>
            </a:r>
            <a:br>
              <a:rPr sz="2400"/>
            </a:br>
            <a:r>
              <a:rPr b="0" lang="fr-FR" sz="2400" spc="-1" strike="noStrike">
                <a:solidFill>
                  <a:srgbClr val="727272"/>
                </a:solidFill>
                <a:latin typeface="Arial"/>
              </a:rPr>
              <a:t>a range of approaches</a:t>
            </a:r>
            <a:endParaRPr b="0" lang="en-US" sz="24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8640720" y="6411960"/>
            <a:ext cx="341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AA31-9D1A-475C-8C9A-C351D010A107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68000" y="184464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27272"/>
                </a:solidFill>
                <a:latin typeface="Calibri"/>
              </a:rPr>
              <a:t>Solid partnerships -</a:t>
            </a:r>
            <a:r>
              <a:rPr b="1" lang="en-GB" sz="2000" spc="-1" strike="noStrike">
                <a:solidFill>
                  <a:srgbClr val="727272"/>
                </a:solidFill>
                <a:latin typeface="Calibri"/>
              </a:rPr>
              <a:t> domestically, regionally and even internationally: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long-term, sustainable cultural change requires building solid alliances with the education sector , on condition of identification of common goals.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In Latin America alone, nine countries have included tax education in their school syllabi</a:t>
            </a:r>
            <a:r>
              <a:rPr b="0" lang="fr-FR" sz="2000" spc="-1" strike="noStrike">
                <a:solidFill>
                  <a:srgbClr val="727272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Other useful partners can be business and civil society (Jamaica, Rwanda, Brasil)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27272"/>
                </a:solidFill>
                <a:latin typeface="Calibri"/>
              </a:rPr>
              <a:t>Tax Champions - </a:t>
            </a:r>
            <a:r>
              <a:rPr b="1" lang="en-GB" sz="2000" spc="-1" strike="noStrike">
                <a:solidFill>
                  <a:srgbClr val="727272"/>
                </a:solidFill>
                <a:latin typeface="Calibri"/>
              </a:rPr>
              <a:t>High-level political commitment and participation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7272"/>
                </a:solidFill>
                <a:latin typeface="Calibri"/>
              </a:rPr>
              <a:t>Promote cross-country learning – ATAF , CIAT, IOTA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27272"/>
                </a:solidFill>
                <a:latin typeface="Arial"/>
              </a:rPr>
              <a:t>2. Global Source Book on Taxpayer Education </a:t>
            </a:r>
            <a:br>
              <a:rPr sz="2400"/>
            </a:br>
            <a:r>
              <a:rPr b="0" lang="fr-FR" sz="2400" spc="-1" strike="noStrike">
                <a:solidFill>
                  <a:srgbClr val="727272"/>
                </a:solidFill>
                <a:latin typeface="Arial"/>
              </a:rPr>
              <a:t>Keys to success?</a:t>
            </a:r>
            <a:endParaRPr b="0" lang="en-US" sz="24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8640720" y="6411960"/>
            <a:ext cx="341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1674-A831-4F3F-A4C9-3EC16CE5E68C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68000" y="162864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Limited time, financial and human resources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ICT’s might bring new sorts of problems: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27272"/>
                </a:solidFill>
                <a:latin typeface="Calibri"/>
              </a:rPr>
              <a:t>Nobody else will provide taxpayer education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27272"/>
                </a:solidFill>
                <a:latin typeface="Calibri"/>
              </a:rPr>
              <a:t>Little ‘hard’ evidence of success or impact evaluations, how to measure behavioural change?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27272"/>
                </a:solidFill>
                <a:latin typeface="Calibri"/>
              </a:rPr>
              <a:t>What is the role for development co-operation?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27272"/>
                </a:solidFill>
                <a:latin typeface="Calibri"/>
              </a:rPr>
              <a:t>How to make revenue-expenditure linkages ‘concrete’?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27272"/>
                </a:solidFill>
                <a:latin typeface="Arial"/>
              </a:rPr>
              <a:t>2. Global Source Book on Taxpayer Education </a:t>
            </a:r>
            <a:br>
              <a:rPr sz="2400"/>
            </a:br>
            <a:r>
              <a:rPr b="0" lang="fr-FR" sz="2400" spc="-1" strike="noStrike">
                <a:solidFill>
                  <a:srgbClr val="727272"/>
                </a:solidFill>
                <a:latin typeface="Arial"/>
              </a:rPr>
              <a:t>Obstacles and Challenges for the future?</a:t>
            </a:r>
            <a:endParaRPr b="0" lang="en-US" sz="24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8640720" y="6411960"/>
            <a:ext cx="341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08E9-998D-4898-83EF-C2CCEA3EEC5C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68000" y="162864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27272"/>
                </a:solidFill>
                <a:latin typeface="Calibri"/>
              </a:rPr>
              <a:t>South Africa – Mobile Tax Units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27272"/>
                </a:solidFill>
                <a:latin typeface="Calibri"/>
              </a:rPr>
              <a:t>Mozambique – Annual campaign and simplified tax for small taxpayers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27272"/>
                </a:solidFill>
                <a:latin typeface="Calibri"/>
              </a:rPr>
              <a:t>Rwanda _ Taxpayer day, tax advisory councils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27272"/>
                </a:solidFill>
                <a:latin typeface="Calibri"/>
              </a:rPr>
              <a:t>Morocco – taxpayer education at school through theatre, media campaigns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27272"/>
                </a:solidFill>
                <a:latin typeface="Calibri"/>
              </a:rPr>
              <a:t>Korea – tax classes for small businesses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27272"/>
                </a:solidFill>
                <a:latin typeface="Arial"/>
              </a:rPr>
              <a:t>2. Global Source Book on Taxpayer Education </a:t>
            </a:r>
            <a:br>
              <a:rPr sz="2400"/>
            </a:br>
            <a:r>
              <a:rPr b="0" lang="fr-FR" sz="2400" spc="-1" strike="noStrike">
                <a:solidFill>
                  <a:srgbClr val="727272"/>
                </a:solidFill>
                <a:latin typeface="Arial"/>
              </a:rPr>
              <a:t>Some examples</a:t>
            </a:r>
            <a:endParaRPr b="0" lang="en-US" sz="24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8640720" y="6411960"/>
            <a:ext cx="341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5B2A-336C-4A21-8976-AF6C26E766AC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Arial"/>
              </a:rPr>
              <a:t>Structure</a:t>
            </a: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8000" y="1773360"/>
            <a:ext cx="849636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27272"/>
                </a:solidFill>
                <a:latin typeface="Calibri"/>
              </a:rPr>
              <a:t>Background and context: </a:t>
            </a:r>
            <a:endParaRPr b="0" lang="en-US" sz="2800" spc="-1" strike="noStrike">
              <a:solidFill>
                <a:srgbClr val="727272"/>
              </a:solidFill>
              <a:latin typeface="Georgia"/>
            </a:endParaRPr>
          </a:p>
          <a:p>
            <a:pPr lvl="1" marL="857160" indent="-45720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27272"/>
                </a:solidFill>
                <a:latin typeface="Calibri"/>
              </a:rPr>
              <a:t>The OECD and the Task Force on Tax and Development?</a:t>
            </a: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  <a:p>
            <a:pPr lvl="1" marL="857160" indent="-45720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27272"/>
                </a:solidFill>
                <a:latin typeface="Calibri"/>
              </a:rPr>
              <a:t>Why does the OECD work on taxpayer education?</a:t>
            </a: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27272"/>
                </a:solidFill>
                <a:latin typeface="Calibri"/>
              </a:rPr>
              <a:t>The global source book on taxpayer education:</a:t>
            </a:r>
            <a:endParaRPr b="0" lang="en-US" sz="2800" spc="-1" strike="noStrike">
              <a:solidFill>
                <a:srgbClr val="727272"/>
              </a:solidFill>
              <a:latin typeface="Georgia"/>
            </a:endParaRPr>
          </a:p>
          <a:p>
            <a:pPr lvl="1" marL="857160" indent="-45720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27272"/>
                </a:solidFill>
                <a:latin typeface="Calibri"/>
              </a:rPr>
              <a:t>Content</a:t>
            </a: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  <a:p>
            <a:pPr lvl="1" marL="857160" indent="-45720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27272"/>
                </a:solidFill>
                <a:latin typeface="Calibri"/>
              </a:rPr>
              <a:t>Lessons learnt</a:t>
            </a: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7272"/>
              </a:solidFill>
              <a:latin typeface="Georgia"/>
            </a:endParaRPr>
          </a:p>
          <a:p>
            <a:pPr lvl="1" marL="857160" indent="-45720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27" name="Slide Number Placeholder 2"/>
          <p:cNvSpPr/>
          <p:nvPr/>
        </p:nvSpPr>
        <p:spPr>
          <a:xfrm>
            <a:off x="8640720" y="6411960"/>
            <a:ext cx="341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D26D-7CBB-41FC-A66A-B53AE9FD18B9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68000" y="170352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5656"/>
                </a:solidFill>
                <a:latin typeface="Calibri"/>
              </a:rPr>
              <a:t>= </a:t>
            </a:r>
            <a:r>
              <a:rPr b="0" lang="en-US" sz="2400" spc="-1" strike="noStrike">
                <a:solidFill>
                  <a:srgbClr val="727272"/>
                </a:solidFill>
                <a:latin typeface="Calibri"/>
              </a:rPr>
              <a:t> </a:t>
            </a:r>
            <a:r>
              <a:rPr b="1" lang="en-US" sz="2400" spc="-1" strike="noStrike">
                <a:solidFill>
                  <a:srgbClr val="727272"/>
                </a:solidFill>
                <a:latin typeface="Calibri"/>
              </a:rPr>
              <a:t>promote public policies </a:t>
            </a:r>
            <a:r>
              <a:rPr b="0" lang="en-US" sz="2400" spc="-1" strike="noStrike">
                <a:solidFill>
                  <a:srgbClr val="727272"/>
                </a:solidFill>
                <a:latin typeface="Calibri"/>
              </a:rPr>
              <a:t>that will improve the economic and social well-being of people around the world.</a:t>
            </a: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7272"/>
                </a:solidFill>
                <a:latin typeface="Calibri"/>
              </a:rPr>
              <a:t>= forum in which governments can work together to </a:t>
            </a:r>
            <a:r>
              <a:rPr b="1" lang="en-US" sz="2400" spc="-1" strike="noStrike">
                <a:solidFill>
                  <a:srgbClr val="727272"/>
                </a:solidFill>
                <a:latin typeface="Calibri"/>
              </a:rPr>
              <a:t>share experiences</a:t>
            </a:r>
            <a:r>
              <a:rPr b="0" lang="en-US" sz="2400" spc="-1" strike="noStrike">
                <a:solidFill>
                  <a:srgbClr val="727272"/>
                </a:solidFill>
                <a:latin typeface="Calibri"/>
              </a:rPr>
              <a:t> and seek solutions to common problems, e.g. peer review mechanisms.</a:t>
            </a: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7272"/>
                </a:solidFill>
                <a:latin typeface="Calibri"/>
              </a:rPr>
              <a:t>set </a:t>
            </a:r>
            <a:r>
              <a:rPr b="1" lang="en-US" sz="2400" spc="-1" strike="noStrike">
                <a:solidFill>
                  <a:srgbClr val="727272"/>
                </a:solidFill>
                <a:latin typeface="Calibri"/>
              </a:rPr>
              <a:t>international standards </a:t>
            </a:r>
            <a:r>
              <a:rPr b="0" lang="en-US" sz="2400" spc="-1" strike="noStrike">
                <a:solidFill>
                  <a:srgbClr val="727272"/>
                </a:solidFill>
                <a:latin typeface="Calibri"/>
              </a:rPr>
              <a:t>on a wide range of issues, from agriculture and tax to the safety of chemicals.</a:t>
            </a: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27272"/>
                </a:solidFill>
                <a:latin typeface="Arial"/>
              </a:rPr>
              <a:t>1. Background and context: </a:t>
            </a:r>
            <a:r>
              <a:rPr b="0" lang="fr-FR" sz="2400" spc="-1" strike="noStrike">
                <a:solidFill>
                  <a:srgbClr val="727272"/>
                </a:solidFill>
                <a:latin typeface="Arial"/>
              </a:rPr>
              <a:t>The Organisation for Economic Co-operation and Development (OECD)</a:t>
            </a:r>
            <a:endParaRPr b="0" lang="en-US" sz="24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8640720" y="6411960"/>
            <a:ext cx="341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1959-8206-4191-9AA5-814031A02733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68000" y="155736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7272"/>
                </a:solidFill>
                <a:latin typeface="Calibri"/>
              </a:rPr>
              <a:t>Creation: 2010</a:t>
            </a: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  <a:p>
            <a:pPr marL="324000" indent="-32400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  <a:p>
            <a:pPr marL="324000" indent="-32400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7272"/>
                </a:solidFill>
                <a:latin typeface="Calibri"/>
              </a:rPr>
              <a:t>Flexible membership from OECD countries; developing countries; international and regional organisations; civil society; business</a:t>
            </a: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  <a:p>
            <a:pPr marL="324000" indent="-32400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  <a:p>
            <a:pPr marL="324000" indent="-32400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7272"/>
                </a:solidFill>
                <a:latin typeface="Calibri"/>
              </a:rPr>
              <a:t>Objective is to create an enhanced enabling environment to assist developing countries collect taxes effectively and fairly.</a:t>
            </a: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  <a:p>
            <a:pPr marL="324000" indent="-32400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  <a:p>
            <a:pPr marL="324000" indent="-32400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7272"/>
                </a:solidFill>
                <a:latin typeface="Calibri"/>
              </a:rPr>
              <a:t>Bi-annual workplan proposed by the Task Force and agreed by OECD committees, including work on state-building, taxation and capacity building </a:t>
            </a: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  <a:p>
            <a:pPr marL="324000" indent="-324000"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27272"/>
                </a:solidFill>
                <a:latin typeface="Arial"/>
              </a:rPr>
              <a:t>1. Background and context: </a:t>
            </a:r>
            <a:br>
              <a:rPr sz="2400"/>
            </a:br>
            <a:r>
              <a:rPr b="1" lang="fr-FR" sz="2400" spc="-1" strike="noStrike">
                <a:solidFill>
                  <a:srgbClr val="727272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727272"/>
                </a:solidFill>
                <a:latin typeface="Arial"/>
              </a:rPr>
              <a:t>The OECD Task Force on Tax and Development</a:t>
            </a:r>
            <a:endParaRPr b="0" lang="en-US" sz="24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8640720" y="6411960"/>
            <a:ext cx="341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6488-1282-419A-B15D-11C31348C5DC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23360" y="148428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Calibri"/>
              </a:rPr>
              <a:t>= Many Countries will not Raise the Tax Needed to Meet the Millennium Development Goals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Some  countries (including half of sub Saharan Africa countries) raise less than 17% of GDP in tax revenues, the minimum level considered by the UN as necessary to achieve the MDGs.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27272"/>
                </a:solidFill>
                <a:latin typeface="Arial"/>
              </a:rPr>
              <a:t>1. Background and context: </a:t>
            </a:r>
            <a:br>
              <a:rPr sz="2400"/>
            </a:br>
            <a:r>
              <a:rPr b="1" lang="fr-FR" sz="2400" spc="-1" strike="noStrike">
                <a:solidFill>
                  <a:srgbClr val="727272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727272"/>
                </a:solidFill>
                <a:latin typeface="Arial"/>
              </a:rPr>
              <a:t>Why</a:t>
            </a:r>
            <a:r>
              <a:rPr b="1" lang="fr-FR" sz="2400" spc="-1" strike="noStrike">
                <a:solidFill>
                  <a:srgbClr val="727272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727272"/>
                </a:solidFill>
                <a:latin typeface="Arial"/>
              </a:rPr>
              <a:t>Tax and Development?</a:t>
            </a:r>
            <a:endParaRPr b="0" lang="en-US" sz="24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8640720" y="6411960"/>
            <a:ext cx="341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5F59-25E9-4D1D-B26D-C29250C7846C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8" descr=""/>
          <p:cNvPicPr/>
          <p:nvPr/>
        </p:nvPicPr>
        <p:blipFill>
          <a:blip r:embed="rId1"/>
          <a:stretch/>
        </p:blipFill>
        <p:spPr>
          <a:xfrm>
            <a:off x="1763640" y="3716280"/>
            <a:ext cx="554508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94920" y="170028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Examines the attitudes and perceptions of citizens in developed and developing countries to taxation and tax evasion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727272"/>
                </a:solidFill>
                <a:latin typeface="Calibri"/>
              </a:rPr>
              <a:t>Based on </a:t>
            </a:r>
            <a:r>
              <a:rPr b="0" lang="en-GB" sz="1600" spc="-1" strike="noStrike">
                <a:solidFill>
                  <a:srgbClr val="727272"/>
                </a:solidFill>
                <a:latin typeface="Calibri"/>
              </a:rPr>
              <a:t>World Values Survey, Afrobarometer, Asiabarometer and Latinobarometro data</a:t>
            </a:r>
            <a:endParaRPr b="0" lang="en-US" sz="16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Attitudes towards taxation are shaped by factors beyond enforcement and the probability of being caught for tax evasion. 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7272"/>
                </a:solidFill>
                <a:latin typeface="Calibri"/>
              </a:rPr>
              <a:t>Socio-economic factors (education, gender, income, employment, age, and religious beliefs) influence tax morale. </a:t>
            </a:r>
            <a:endParaRPr b="0" lang="en-US" sz="16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7272"/>
                </a:solidFill>
                <a:latin typeface="Calibri"/>
              </a:rPr>
              <a:t>Institutional factors, such as trust in government and satisfaction with public services and the functioning of democracy</a:t>
            </a:r>
            <a:endParaRPr b="0" lang="en-US" sz="1600" spc="-1" strike="noStrike">
              <a:solidFill>
                <a:srgbClr val="727272"/>
              </a:solidFill>
              <a:latin typeface="Georgia"/>
            </a:endParaRPr>
          </a:p>
          <a:p>
            <a:pPr lvl="4"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27272"/>
                </a:solidFill>
                <a:latin typeface="Calibri"/>
              </a:rPr>
              <a:t>Link between Tax Morale and tax compliance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27272"/>
                </a:solidFill>
                <a:latin typeface="Calibri"/>
              </a:rPr>
              <a:t>Task Force </a:t>
            </a:r>
            <a:r>
              <a:rPr b="1" lang="en-GB" sz="2000" spc="-1" strike="noStrike">
                <a:solidFill>
                  <a:srgbClr val="727272"/>
                </a:solidFill>
                <a:latin typeface="Calibri"/>
              </a:rPr>
              <a:t>requested to compile and disseminate effective practices in taxpayer education leading to the preparation of a source book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27272"/>
                </a:solidFill>
                <a:latin typeface="Arial"/>
              </a:rPr>
              <a:t>1. Background and context: </a:t>
            </a:r>
            <a:br>
              <a:rPr sz="2400"/>
            </a:br>
            <a:r>
              <a:rPr b="0" lang="fr-FR" sz="2400" spc="-1" strike="noStrike">
                <a:solidFill>
                  <a:srgbClr val="727272"/>
                </a:solidFill>
                <a:latin typeface="Arial"/>
              </a:rPr>
              <a:t>2012 OECD report « What drives tax morale? »</a:t>
            </a:r>
            <a:endParaRPr b="0" lang="en-US" sz="24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8640720" y="6411960"/>
            <a:ext cx="341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99C0-0D52-4668-93A8-3A268F5677F9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23360" y="148428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28 different innovative country approaches to taxpayer education :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5 – page chapters including objectives of programme, focus on specific initiative, impact, lessons learnt.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27272"/>
                </a:solidFill>
                <a:latin typeface="Arial"/>
              </a:rPr>
              <a:t>2. Global Source Book on Taxpayer Education </a:t>
            </a:r>
            <a:br>
              <a:rPr sz="2400"/>
            </a:br>
            <a:r>
              <a:rPr b="0" lang="fr-FR" sz="2400" spc="-1" strike="noStrike">
                <a:solidFill>
                  <a:srgbClr val="727272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8640720" y="6411960"/>
            <a:ext cx="341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CA3F-6B8B-4A2D-B509-C2358AA34E6E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403280" y="1916280"/>
          <a:ext cx="6048360" cy="2863800"/>
        </p:xfrm>
        <a:graphic>
          <a:graphicData uri="http://schemas.openxmlformats.org/drawingml/2006/table">
            <a:tbl>
              <a:tblPr/>
              <a:tblGrid>
                <a:gridCol w="2210040"/>
                <a:gridCol w="2100240"/>
                <a:gridCol w="1738080"/>
              </a:tblGrid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Banglade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Jamaï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Nig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Bhu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Keny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P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Bras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Ko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Rwa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Burun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Leba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Seneg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Ch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Malay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Singap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Colomb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Mauriti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South Af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Costa</a:t>
                      </a: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Mex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Tur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El</a:t>
                      </a: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Salv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Moroc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Urugu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Esto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Mozamb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Zamb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Guatema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68000" y="162864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Taxpayer education to: 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Strengthen the state-citizen relationship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27272"/>
                </a:solidFill>
                <a:latin typeface="Calibri"/>
              </a:rPr>
              <a:t>Address the informal sector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Promote voluntary compliance and social cohesion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27272"/>
                </a:solidFill>
                <a:latin typeface="Calibri"/>
              </a:rPr>
              <a:t>Leading to a transformation of the tax authorities and linking tax compliance to citizenship and values of cohesive democratic societies 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27272"/>
                </a:solidFill>
                <a:latin typeface="Calibri"/>
              </a:rPr>
              <a:t>2013 OECD study on « Aid Modalities for Strengthening Tax Systems » confirms taxpayer education as  an effective mechanism to rebuild trust and stimulate  citizen participaiotn in the public debate.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27272"/>
                </a:solidFill>
                <a:latin typeface="Arial"/>
              </a:rPr>
              <a:t>2. Global Source Book on Taxpayer Education </a:t>
            </a:r>
            <a:br>
              <a:rPr sz="2400"/>
            </a:br>
            <a:r>
              <a:rPr b="0" lang="fr-FR" sz="2400" spc="-1" strike="noStrike">
                <a:solidFill>
                  <a:srgbClr val="727272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8640720" y="6411960"/>
            <a:ext cx="341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C8FB-B1E3-4012-B38A-DB7D5CC3B1D3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539280" y="184464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7272"/>
                </a:solidFill>
                <a:latin typeface="Calibri"/>
              </a:rPr>
              <a:t>Raising awareness and making life easier</a:t>
            </a: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Raise public’s awareness of new tax laws and methods of filing, to answer the public’s inquiries and to make life easier for taxpayers. e.g. </a:t>
            </a:r>
            <a:r>
              <a:rPr b="0" i="1" lang="en-GB" sz="2000" spc="-1" strike="noStrike">
                <a:solidFill>
                  <a:srgbClr val="727272"/>
                </a:solidFill>
                <a:latin typeface="Calibri"/>
              </a:rPr>
              <a:t>Lebanon, Zambia, South Africa, Korea 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7272"/>
                </a:solidFill>
                <a:latin typeface="Calibri"/>
              </a:rPr>
              <a:t>Tackling the informal sector: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Broadening the tax base to reduce informality and non-payment of tax. e.g. persuade small traders to register for value added tax (</a:t>
            </a:r>
            <a:r>
              <a:rPr b="0" i="1" lang="en-GB" sz="2000" spc="-1" strike="noStrike">
                <a:solidFill>
                  <a:srgbClr val="727272"/>
                </a:solidFill>
                <a:latin typeface="Calibri"/>
              </a:rPr>
              <a:t>Burundi</a:t>
            </a: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) or get into the habit of asking for official receipts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7272"/>
                </a:solidFill>
                <a:latin typeface="Calibri"/>
              </a:rPr>
              <a:t>Reaching the next generation;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27272"/>
                </a:solidFill>
                <a:latin typeface="Calibri"/>
              </a:rPr>
              <a:t>Insertion of taxpayer educaiton in school and university curricula. e.g. </a:t>
            </a:r>
            <a:r>
              <a:rPr b="0" i="1" lang="fr-FR" sz="2000" spc="-1" strike="noStrike">
                <a:solidFill>
                  <a:srgbClr val="727272"/>
                </a:solidFill>
                <a:latin typeface="Calibri"/>
              </a:rPr>
              <a:t>Costa Rica, El Salvador, Morocco, Mexico, Brasil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27272"/>
                </a:solidFill>
                <a:latin typeface="Arial"/>
              </a:rPr>
              <a:t>2. Global Source Book on Taxpayer Education </a:t>
            </a:r>
            <a:br>
              <a:rPr sz="2400"/>
            </a:br>
            <a:r>
              <a:rPr b="0" lang="fr-FR" sz="2400" spc="-1" strike="noStrike">
                <a:solidFill>
                  <a:srgbClr val="727272"/>
                </a:solidFill>
                <a:latin typeface="Arial"/>
              </a:rPr>
              <a:t>a range of themes</a:t>
            </a:r>
            <a:endParaRPr b="0" lang="en-US" sz="24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8640720" y="6411960"/>
            <a:ext cx="341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ABF6-1D2E-40AE-AD5B-43A9F1206E79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0:33:07Z</dcterms:created>
  <dc:creator>innamorato_c</dc:creator>
  <dc:description/>
  <dc:language>en-US</dc:language>
  <cp:lastModifiedBy>DE PAEPE Gregory</cp:lastModifiedBy>
  <cp:lastPrinted>2013-10-16T14:53:19Z</cp:lastPrinted>
  <dcterms:modified xsi:type="dcterms:W3CDTF">2014-10-23T13:16:38Z</dcterms:modified>
  <cp:revision>634</cp:revision>
  <dc:subject/>
  <dc:title>2013-07 BEPS R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mment">
    <vt:lpwstr/>
  </property>
  <property fmtid="{D5CDD505-2E9C-101B-9397-08002B2CF9AE}" pid="3" name="Content">
    <vt:lpwstr/>
  </property>
  <property fmtid="{D5CDD505-2E9C-101B-9397-08002B2CF9AE}" pid="4" name="ContentType">
    <vt:lpwstr>Document</vt:lpwstr>
  </property>
  <property fmtid="{D5CDD505-2E9C-101B-9397-08002B2CF9AE}" pid="5" name="Date">
    <vt:lpwstr/>
  </property>
  <property fmtid="{D5CDD505-2E9C-101B-9397-08002B2CF9AE}" pid="6" name="Outreach">
    <vt:lpwstr/>
  </property>
  <property fmtid="{D5CDD505-2E9C-101B-9397-08002B2CF9AE}" pid="7" name="Who">
    <vt:lpwstr/>
  </property>
</Properties>
</file>