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377720" y="634680"/>
            <a:ext cx="3932280" cy="294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6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7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D6D2-6E18-4E80-9D00-B1820E5E2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3229-90B9-466E-98E4-0A7E2D7F2E1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61B6-05C1-46DD-908A-28519392B79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7EF4-0E21-491D-BFDA-4FC8B660A40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9E60-4DEF-496A-AC6D-4795EABAF9C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CE91-C4BE-4CE3-89A1-AE27DA807F1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7A8E-BD34-4156-AF93-A922931BAEF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F374-AFEC-4C15-960E-54F62B7A81E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C6FA-C66F-45BA-8584-31FA1F792EC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7507-F604-4CE5-8DAE-AE49AEDE9B3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. La presente guía se concentra en los esfuerzos de las distintas administraciones tributarias nacionales para mostrar a los contribuyentes cómo pagar sus impuestos y concienciarles acerca de la importancia de este gesto, todo ello vinculado, en gran medida, a la dimensión social del gasto público y la asignación equitativa de l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studios recientes, incluidos los de la OCDE, reflejan un vínculo directo entre la ética fiscal y la percepción de los ciudadanos tanto en materia tributaria como acerca de la calidad del gasto público. En otras palabras, se aprecia una mayor predisposición a pagar impuestos entre aquellos segmentos sociales que perciben una mayor calidad de los servicios públicos prestados (OCDE/CEPAL, 2011). Esta situación de escasa ética fiscal no sólo debilita los sentimientos de pertenencia a un proyecto social común, sino que pone de manifiesto la existencia de un círculo vicioso en virtud del que la evasión fiscal o la negativa a pagar más impuestos se justifica bajo el pretexto de que el Estado no cumple su parte del contrato social, lo que conduce al mismo tiempo a que los servicios no puedan mejorar por ser insuficientes los ingresos, de ahí que los servicios se deterioren, degeneren y el ciclo se perpetú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AEA0-7A47-42A2-A47A-2C8678C96EC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3087-F1DE-4D14-AE79-263F33F5970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96AB-2F8D-43C4-B3DF-23CB99D572E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8080" y="635040"/>
            <a:ext cx="3932280" cy="29494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72960" y="3743280"/>
            <a:ext cx="6059520" cy="5454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4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770C-03DA-4A5D-B020-D2100C5F395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D998-5760-49C2-895C-22F3F3D4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015-ADAD-4AF4-869C-2141D9DB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F11-0DC7-409F-9DD3-27952CF2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684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00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684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314-A26B-42C0-B56D-56CC4505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F087-7697-49D4-9064-D2485DF3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9172-A6A2-4BE0-B29F-556319E0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C43F-DC1C-497B-BB2D-77EA5CB3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7AB8-7EC6-41ED-9809-FAA3CEC6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296B-A7D1-450B-A8FB-BAAACCBE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79640" y="237960"/>
            <a:ext cx="741672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70E1-9BA3-4F93-B421-6C072B82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DE83-3CCA-4778-BC10-DB28E344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8A3C-48D3-41AF-8231-7052C56E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681C-519E-43CF-8FE3-45E721A6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FA59-81AB-4FDD-B3C8-E532D831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DE6E-8A13-4FE3-BC72-B1E83C18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D6F5-E4F1-4E89-9574-6EE15093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684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532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00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684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532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282F-C639-4533-B35B-548A5BE2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1E140-0577-4EED-9232-E9607400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4B259-1311-4649-962D-47A0DE59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D6C7A-D857-4449-80D0-8DB96F07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E2A1D-B8F9-4F3B-BBA6-CFA66E2F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EDA2-4255-4D20-BF26-05A8FEA4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82F-6A0E-4E68-876C-8DCE5D68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79640" y="237960"/>
            <a:ext cx="741672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C57EE-ADBC-49AA-AF46-CA10FE49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258FC-E71E-4F3C-AC28-F9791181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FD3C2-E249-4480-824D-66A44E0B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5C676-E4B2-4617-95B0-FAB9B002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A043D-5750-4D23-958C-8355AD9B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8C65D-8CD4-479D-8CAA-A3D2B16D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4684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532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800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4684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532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D9CEA-66D5-41B5-88DE-BCBF8961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AB03-4F57-4F37-B418-E9740E71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079640" y="237960"/>
            <a:ext cx="741672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4684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532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00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4684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532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D6658D-BDCF-43B3-A33E-3ACD9095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82AD-8701-4D90-A478-529E378E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FEEE1A-4E96-43D6-8E44-8112EE0C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0DE063-F1C1-4B03-810D-9310EC7F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01D5E-6E87-4ABC-B581-1035F292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145887-4C74-429A-9D30-14437C4E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079640" y="237960"/>
            <a:ext cx="741672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67DB66-E2CC-4E90-9EF0-1AAAB138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A07B20-8A67-401B-9AAC-80C3CE86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36148-45CA-4D90-A8C1-F850F5F1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8E9DB6-0328-4BEB-BDB5-51EE5282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968AD0-256F-4718-BA38-E46FF6FF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DE0EA0-225A-4601-8F7D-43B59DBE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79640" y="237960"/>
            <a:ext cx="741672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DE8-D535-4C40-8221-C93F0415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4684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5320" y="160128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800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4684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5320" y="3965760"/>
            <a:ext cx="2646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1EEA3C-6109-4588-A66D-C007EBBC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C2B-6F9E-49ED-AD9D-BBDA3198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96576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B47-B893-4C2F-8999-FEC06135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601280"/>
            <a:ext cx="4010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" y="3965760"/>
            <a:ext cx="8218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B50-34F2-4F99-9839-7FE1A299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4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PPT_fondslid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4b78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172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72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C3EB-414B-4B5A-AE73-6467163CF35F}" type="datetime">
              <a:rPr b="0" lang="en-US" sz="1400" spc="-1" strike="noStrike">
                <a:solidFill>
                  <a:srgbClr val="727272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558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000" y="6244920"/>
            <a:ext cx="1114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72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9713-5DA9-4D37-B0E5-66677F8B3AAF}" type="slidenum">
              <a:rPr b="0" lang="en-US" sz="1400" spc="-1" strike="noStrike">
                <a:solidFill>
                  <a:srgbClr val="727272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OECD_10cm.png"/>
          <p:cNvPicPr/>
          <p:nvPr/>
        </p:nvPicPr>
        <p:blipFill>
          <a:blip r:embed="rId3"/>
          <a:stretch/>
        </p:blipFill>
        <p:spPr>
          <a:xfrm>
            <a:off x="468360" y="6172200"/>
            <a:ext cx="58248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8" descr=""/>
          <p:cNvPicPr/>
          <p:nvPr/>
        </p:nvPicPr>
        <p:blipFill>
          <a:blip r:embed="rId2"/>
          <a:stretch/>
        </p:blipFill>
        <p:spPr>
          <a:xfrm>
            <a:off x="8193240" y="5327640"/>
            <a:ext cx="950760" cy="1530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0"/>
          <p:cNvSpPr/>
          <p:nvPr/>
        </p:nvSpPr>
        <p:spPr>
          <a:xfrm>
            <a:off x="503280" y="1306440"/>
            <a:ext cx="8155080" cy="360"/>
          </a:xfrm>
          <a:prstGeom prst="rect">
            <a:avLst/>
          </a:prstGeom>
          <a:noFill/>
          <a:ln w="6480">
            <a:solidFill>
              <a:srgbClr val="7272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7" descr=""/>
          <p:cNvPicPr/>
          <p:nvPr/>
        </p:nvPicPr>
        <p:blipFill>
          <a:blip r:embed="rId3"/>
          <a:stretch/>
        </p:blipFill>
        <p:spPr>
          <a:xfrm>
            <a:off x="500040" y="287280"/>
            <a:ext cx="458640" cy="954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spcBef>
                <a:spcPts val="763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2" marL="1144440" indent="-230040"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3" marL="1601640" indent="-230040">
              <a:spcBef>
                <a:spcPts val="763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4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5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6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03200" y="6411600"/>
            <a:ext cx="900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272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2D07-6741-4101-ACE3-503B68DB7BCA}" type="datetime">
              <a:rPr b="0" lang="en-US" sz="1000" spc="-1" strike="noStrike">
                <a:solidFill>
                  <a:srgbClr val="727272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368360" y="6411600"/>
            <a:ext cx="4680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40720" y="6411600"/>
            <a:ext cx="341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E127-2733-4C4C-91BD-C7D7A4540C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PPT_fondcouv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Logo_ENG.png"/>
          <p:cNvPicPr/>
          <p:nvPr/>
        </p:nvPicPr>
        <p:blipFill>
          <a:blip r:embed="rId3"/>
          <a:stretch/>
        </p:blipFill>
        <p:spPr>
          <a:xfrm>
            <a:off x="0" y="0"/>
            <a:ext cx="3762360" cy="1103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4b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4b7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4b78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b78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4b78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250560" y="6244920"/>
            <a:ext cx="4043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72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5DCE-13D7-4D37-91B8-380E80AE5B21}" type="datetime">
              <a:rPr b="0" lang="en-US" sz="1400" spc="-1" strike="noStrike">
                <a:solidFill>
                  <a:srgbClr val="727272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5558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72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9B10-CC2E-4CC5-9C68-7C9811CED3AC}" type="slidenum">
              <a:rPr b="0" lang="en-US" sz="1400" spc="-1" strike="noStrike">
                <a:solidFill>
                  <a:srgbClr val="727272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2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mage 12" descr=""/>
          <p:cNvPicPr/>
          <p:nvPr/>
        </p:nvPicPr>
        <p:blipFill>
          <a:blip r:embed="rId2"/>
          <a:stretch/>
        </p:blipFill>
        <p:spPr>
          <a:xfrm>
            <a:off x="6516720" y="2629080"/>
            <a:ext cx="2627280" cy="4228920"/>
          </a:xfrm>
          <a:prstGeom prst="rect">
            <a:avLst/>
          </a:prstGeom>
          <a:ln w="0">
            <a:noFill/>
          </a:ln>
        </p:spPr>
      </p:pic>
      <p:pic>
        <p:nvPicPr>
          <p:cNvPr id="131" name="Image 10" descr=""/>
          <p:cNvPicPr/>
          <p:nvPr/>
        </p:nvPicPr>
        <p:blipFill>
          <a:blip r:embed="rId3"/>
          <a:stretch/>
        </p:blipFill>
        <p:spPr>
          <a:xfrm>
            <a:off x="0" y="0"/>
            <a:ext cx="2627280" cy="4230720"/>
          </a:xfrm>
          <a:prstGeom prst="rect">
            <a:avLst/>
          </a:prstGeom>
          <a:ln w="0">
            <a:noFill/>
          </a:ln>
        </p:spPr>
      </p:pic>
      <p:pic>
        <p:nvPicPr>
          <p:cNvPr id="132" name="Image 11" descr=""/>
          <p:cNvPicPr/>
          <p:nvPr/>
        </p:nvPicPr>
        <p:blipFill>
          <a:blip r:embed="rId4"/>
          <a:stretch/>
        </p:blipFill>
        <p:spPr>
          <a:xfrm>
            <a:off x="511200" y="431640"/>
            <a:ext cx="692280" cy="1440000"/>
          </a:xfrm>
          <a:prstGeom prst="rect">
            <a:avLst/>
          </a:prstGeom>
          <a:ln w="0">
            <a:noFill/>
          </a:ln>
        </p:spPr>
      </p:pic>
      <p:pic>
        <p:nvPicPr>
          <p:cNvPr id="133" name="Image 13" descr=""/>
          <p:cNvPicPr/>
          <p:nvPr/>
        </p:nvPicPr>
        <p:blipFill>
          <a:blip r:embed="rId5"/>
          <a:stretch/>
        </p:blipFill>
        <p:spPr>
          <a:xfrm>
            <a:off x="7164360" y="6054840"/>
            <a:ext cx="1741680" cy="5792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spcBef>
                <a:spcPts val="763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2" marL="1144440" indent="-230040"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3" marL="1601640" indent="-230040">
              <a:spcBef>
                <a:spcPts val="763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4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5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6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03200" y="6411600"/>
            <a:ext cx="900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8775-1463-449C-816F-210198D1925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368360" y="6411600"/>
            <a:ext cx="4680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72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Image 6" descr=""/>
          <p:cNvPicPr/>
          <p:nvPr/>
        </p:nvPicPr>
        <p:blipFill>
          <a:blip r:embed="rId2"/>
          <a:stretch/>
        </p:blipFill>
        <p:spPr>
          <a:xfrm>
            <a:off x="8193240" y="5327640"/>
            <a:ext cx="950760" cy="1530360"/>
          </a:xfrm>
          <a:prstGeom prst="rect">
            <a:avLst/>
          </a:prstGeom>
          <a:ln w="0">
            <a:noFill/>
          </a:ln>
        </p:spPr>
      </p:pic>
      <p:pic>
        <p:nvPicPr>
          <p:cNvPr id="175" name="Image 7" descr=""/>
          <p:cNvPicPr/>
          <p:nvPr/>
        </p:nvPicPr>
        <p:blipFill>
          <a:blip r:embed="rId3"/>
          <a:stretch/>
        </p:blipFill>
        <p:spPr>
          <a:xfrm>
            <a:off x="579600" y="468360"/>
            <a:ext cx="691920" cy="1439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468000" y="16012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spcBef>
                <a:spcPts val="763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2" marL="1144440" indent="-230040"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3" marL="1601640" indent="-230040">
              <a:spcBef>
                <a:spcPts val="763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4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5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  <a:p>
            <a:pPr lvl="6" marL="2058840" indent="-230040">
              <a:spcBef>
                <a:spcPts val="763"/>
              </a:spcBef>
              <a:buClr>
                <a:srgbClr val="7272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2"/>
          </p:nvPr>
        </p:nvSpPr>
        <p:spPr>
          <a:xfrm>
            <a:off x="403200" y="6411600"/>
            <a:ext cx="900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163E-3D78-43A5-8ECA-D5A75219A6F6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3"/>
          </p:nvPr>
        </p:nvSpPr>
        <p:spPr>
          <a:xfrm>
            <a:off x="1368360" y="6411600"/>
            <a:ext cx="4680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4"/>
          </p:nvPr>
        </p:nvSpPr>
        <p:spPr>
          <a:xfrm>
            <a:off x="8640720" y="6411600"/>
            <a:ext cx="341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5271-B8EC-412E-999D-D26131F70FAC}" type="slidenum">
              <a:rPr b="0" lang="en-US" sz="1000" spc="-1" strike="noStrike">
                <a:solidFill>
                  <a:srgbClr val="006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76000" y="1819080"/>
            <a:ext cx="649908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b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UILDING TAX CULTURE, COMPLIANCE AND CITIZENSHIP</a:t>
            </a:r>
            <a:br>
              <a:rPr sz="3600"/>
            </a:br>
            <a:br>
              <a:rPr sz="36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GLOBAL SOURCE BOOK ON TAXPAYER EDUCATION</a:t>
            </a:r>
            <a:endParaRPr b="0" lang="en-US" sz="2800" spc="-1" strike="noStrike">
              <a:solidFill>
                <a:srgbClr val="7272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39280" y="18446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Tax in cyberspace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Resource optimisation through ICT use. e.g. </a:t>
            </a:r>
            <a:r>
              <a:rPr b="0" i="1" lang="en-GB" sz="2000" spc="-1" strike="noStrike">
                <a:solidFill>
                  <a:srgbClr val="727272"/>
                </a:solidFill>
                <a:latin typeface="Calibri"/>
              </a:rPr>
              <a:t>El Salvador, Chile, Uruguay 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Tax at the games room and on TV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tax can be explained through interactive play spaces, theatre, video games, and soap operas on television . E.g. </a:t>
            </a:r>
            <a:r>
              <a:rPr b="0" i="1" lang="en-GB" sz="2000" spc="-1" strike="noStrike">
                <a:solidFill>
                  <a:srgbClr val="727272"/>
                </a:solidFill>
                <a:latin typeface="Calibri"/>
              </a:rPr>
              <a:t>Malaysia, Nigeria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Celebrating tax: tax days and festivals 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Bangladesh celebrates National Income Tax Day 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Guatemala’s annual citizen culture festival “Strength Lies in Numbers”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Rwanda’s Taxpayer’s Day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2. Global Source Book on Taxpayer Education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a range of approaches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5652-8AE2-4F9D-8014-999FFD4E032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68000" y="18446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27272"/>
                </a:solidFill>
                <a:latin typeface="Calibri"/>
              </a:rPr>
              <a:t>Solid partnerships -</a:t>
            </a: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 domestically, regionally and even internationally: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long-term, sustainable cultural change requires building solid alliances with the education sector , on condition of identification of common goals.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In Latin America alone, nine countries have included tax education in their school syllabi</a:t>
            </a: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Other useful partners can be business and civil society (Jamaica, Rwanda, Brasil)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27272"/>
                </a:solidFill>
                <a:latin typeface="Calibri"/>
              </a:rPr>
              <a:t>Tax Champions - </a:t>
            </a: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High-level political commitment and participation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Promote cross-country learning – ATAF , CIAT, IOTA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2. Global Source Book on Taxpayer Education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Keys to success?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4843-2F5A-46FD-B71C-8097B29960D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68000" y="16286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Limited time, financial and human resource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ICT’s might bring new sorts of problems: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Nobody else will provide taxpayer education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Little ‘hard’ evidence of success or impact evaluations, how to measure behavioural change?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What is the role for development co-operation?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How to make revenue-expenditure linkages ‘concrete’?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2. Global Source Book on Taxpayer Education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Obstacles and Challenges for the future?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CE25-4729-4774-B3AF-D461FE49C64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68000" y="16286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South Africa – Mobile Tax Unit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Mozambique – Annual campaign and simplified tax for small taxpayer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Rwanda _ Taxpayer day, tax advisory council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Morocco – taxpayer education at school through theatre, media campaign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Korea – tax classes for small businesse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5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2. Global Source Book on Taxpayer Education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Some examples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7B80-CA48-4482-9B2E-4DBC55355AF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8000" y="1773360"/>
            <a:ext cx="8496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27272"/>
                </a:solidFill>
                <a:latin typeface="Calibri"/>
              </a:rPr>
              <a:t>Background and context: </a:t>
            </a:r>
            <a:endParaRPr b="0" lang="en-US" sz="2800" spc="-1" strike="noStrike">
              <a:solidFill>
                <a:srgbClr val="727272"/>
              </a:solidFill>
              <a:latin typeface="Georgia"/>
            </a:endParaRPr>
          </a:p>
          <a:p>
            <a:pPr lvl="1" marL="857160" indent="-45720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27272"/>
                </a:solidFill>
                <a:latin typeface="Calibri"/>
              </a:rPr>
              <a:t>The OECD and the Task Force on Tax and Development?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lvl="1" marL="857160" indent="-45720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27272"/>
                </a:solidFill>
                <a:latin typeface="Calibri"/>
              </a:rPr>
              <a:t>Why does the OECD work on taxpayer education?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27272"/>
                </a:solidFill>
                <a:latin typeface="Calibri"/>
              </a:rPr>
              <a:t>The global source book on taxpayer education:</a:t>
            </a:r>
            <a:endParaRPr b="0" lang="en-US" sz="2800" spc="-1" strike="noStrike">
              <a:solidFill>
                <a:srgbClr val="727272"/>
              </a:solidFill>
              <a:latin typeface="Georgia"/>
            </a:endParaRPr>
          </a:p>
          <a:p>
            <a:pPr lvl="1" marL="857160" indent="-45720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27272"/>
                </a:solidFill>
                <a:latin typeface="Calibri"/>
              </a:rPr>
              <a:t>Content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lvl="1" marL="857160" indent="-45720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27272"/>
                </a:solidFill>
                <a:latin typeface="Calibri"/>
              </a:rPr>
              <a:t>Lessons learnt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7272"/>
              </a:solidFill>
              <a:latin typeface="Georgia"/>
            </a:endParaRPr>
          </a:p>
          <a:p>
            <a:pPr lvl="1" marL="857160" indent="-45720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27" name="Slide Number Placeholder 2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39E8-165E-419A-A967-D95547A766D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68000" y="170352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5656"/>
                </a:solidFill>
                <a:latin typeface="Calibri"/>
              </a:rPr>
              <a:t>= </a:t>
            </a: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 </a:t>
            </a:r>
            <a:r>
              <a:rPr b="1" lang="en-US" sz="2400" spc="-1" strike="noStrike">
                <a:solidFill>
                  <a:srgbClr val="727272"/>
                </a:solidFill>
                <a:latin typeface="Calibri"/>
              </a:rPr>
              <a:t>promote public policies </a:t>
            </a: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that will improve the economic and social well-being of people around the world.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= forum in which governments can work together to </a:t>
            </a:r>
            <a:r>
              <a:rPr b="1" lang="en-US" sz="2400" spc="-1" strike="noStrike">
                <a:solidFill>
                  <a:srgbClr val="727272"/>
                </a:solidFill>
                <a:latin typeface="Calibri"/>
              </a:rPr>
              <a:t>share experiences</a:t>
            </a: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 and seek solutions to common problems, e.g. peer review mechanisms.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set </a:t>
            </a:r>
            <a:r>
              <a:rPr b="1" lang="en-US" sz="2400" spc="-1" strike="noStrike">
                <a:solidFill>
                  <a:srgbClr val="727272"/>
                </a:solidFill>
                <a:latin typeface="Calibri"/>
              </a:rPr>
              <a:t>international standards </a:t>
            </a: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on a wide range of issues, from agriculture and tax to the safety of chemicals.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1. Background and context: </a:t>
            </a: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The Organisation for Economic Co-operation and Development (OECD)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676B-0FF0-432E-AF30-82B8D21A362B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68000" y="155736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Creation: 2010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24000" indent="-3240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24000" indent="-3240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Flexible membership from OECD countries; developing countries; international and regional organisations; civil society; business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24000" indent="-3240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24000" indent="-3240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7272"/>
                </a:solidFill>
                <a:latin typeface="Calibri"/>
              </a:rPr>
              <a:t>Objective is to create an enhanced enabling environment to assist developing countries collect taxes effectively and fairly.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24000" indent="-3240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24000" indent="-32400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Calibri"/>
              </a:rPr>
              <a:t>Bi-annual workplan proposed by the Task Force and agreed by OECD committees, including work on state-building, taxation and capacity building </a:t>
            </a: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24000" indent="-324000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1. Background and context: </a:t>
            </a:r>
            <a:br>
              <a:rPr sz="2400"/>
            </a:b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The OECD Task Force on Tax and Development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E13E-2FAC-4714-835B-A391E0C1060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23360" y="148428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Calibri"/>
              </a:rPr>
              <a:t>= Many Countries will not Raise the Tax Needed to Meet the Millennium Development Goal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Some  countries (including half of sub Saharan Africa countries) raise less than 17% of GDP in tax revenues, the minimum level considered by the UN as necessary to achieve the MDGs.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1. Background and context: </a:t>
            </a:r>
            <a:br>
              <a:rPr sz="2400"/>
            </a:b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Why</a:t>
            </a: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Tax and Development?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2CD7-4AD1-45E7-B6B2-D61B66426D1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1"/>
          <a:stretch/>
        </p:blipFill>
        <p:spPr>
          <a:xfrm>
            <a:off x="1763640" y="3716280"/>
            <a:ext cx="55450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94920" y="17002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Examines the attitudes and perceptions of citizens in developed and developing countries to taxation and tax evasion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727272"/>
                </a:solidFill>
                <a:latin typeface="Calibri"/>
              </a:rPr>
              <a:t>Based on </a:t>
            </a:r>
            <a:r>
              <a:rPr b="0" lang="en-GB" sz="1600" spc="-1" strike="noStrike">
                <a:solidFill>
                  <a:srgbClr val="727272"/>
                </a:solidFill>
                <a:latin typeface="Calibri"/>
              </a:rPr>
              <a:t>World Values Survey, Afrobarometer, Asiabarometer and Latinobarometro data</a:t>
            </a:r>
            <a:endParaRPr b="0" lang="en-US" sz="16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Attitudes towards taxation are shaped by factors beyond enforcement and the probability of being caught for tax evasion. 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7272"/>
                </a:solidFill>
                <a:latin typeface="Calibri"/>
              </a:rPr>
              <a:t>Socio-economic factors (education, gender, income, employment, age, and religious beliefs) influence tax morale. </a:t>
            </a:r>
            <a:endParaRPr b="0" lang="en-US" sz="16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7272"/>
                </a:solidFill>
                <a:latin typeface="Calibri"/>
              </a:rPr>
              <a:t>Institutional factors, such as trust in government and satisfaction with public services and the functioning of democracy</a:t>
            </a:r>
            <a:endParaRPr b="0" lang="en-US" sz="1600" spc="-1" strike="noStrike">
              <a:solidFill>
                <a:srgbClr val="727272"/>
              </a:solidFill>
              <a:latin typeface="Georgia"/>
            </a:endParaRPr>
          </a:p>
          <a:p>
            <a:pPr lvl="4"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Link between Tax Morale and tax compliance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27272"/>
                </a:solidFill>
                <a:latin typeface="Calibri"/>
              </a:rPr>
              <a:t>Task Force </a:t>
            </a: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requested to compile and disseminate effective practices in taxpayer education leading to the preparation of a source book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1. Background and context: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2012 OECD report « What drives tax morale? »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7310-00B3-4728-A26C-E4957CE85A1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23360" y="148428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28 different innovative country approaches to taxpayer education :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5 – page chapters including objectives of programme, focus on specific initiative, impact, lessons learnt.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2. Global Source Book on Taxpayer Education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ED0D-3501-4D87-9209-7F9D7FD2B6E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403280" y="1916280"/>
          <a:ext cx="6048360" cy="2863800"/>
        </p:xfrm>
        <a:graphic>
          <a:graphicData uri="http://schemas.openxmlformats.org/drawingml/2006/table">
            <a:tbl>
              <a:tblPr/>
              <a:tblGrid>
                <a:gridCol w="2210040"/>
                <a:gridCol w="2100240"/>
                <a:gridCol w="1738080"/>
              </a:tblGrid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Jamaï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Bhu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Keny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P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Bras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Ko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Rwa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Buru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Leb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Sene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Malay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Singap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Colo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Maurit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Costa</a:t>
                      </a: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Mex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Tur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El</a:t>
                      </a: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Salv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Moroc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Urugu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Esto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Mozamb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Z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27272"/>
                          </a:solidFill>
                          <a:latin typeface="Calibri"/>
                        </a:rPr>
                        <a:t>Guatema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68000" y="16286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Taxpayer education to: 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Strengthen the state-citizen relationship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Address the informal sector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Promote voluntary compliance and social cohesion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Leading to a transformation of the tax authorities and linking tax compliance to citizenship and values of cohesive democratic societies 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2013 OECD study on « Aid Modalities for Strengthening Tax Systems » confirms taxpayer education as  an effective mechanism to rebuild trust and stimulate  citizen participaiotn in the public debate.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2. Global Source Book on Taxpayer Education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AD42-644F-47D2-8CC6-503EF157576A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539280" y="18446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Raising awareness and making life easier</a:t>
            </a: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Raise public’s awareness of new tax laws and methods of filing, to answer the public’s inquiries and to make life easier for taxpayers. e.g. </a:t>
            </a:r>
            <a:r>
              <a:rPr b="0" i="1" lang="en-GB" sz="2000" spc="-1" strike="noStrike">
                <a:solidFill>
                  <a:srgbClr val="727272"/>
                </a:solidFill>
                <a:latin typeface="Calibri"/>
              </a:rPr>
              <a:t>Lebanon, Zambia, South Africa, Korea 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Tackling the informal sector: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Broadening the tax base to reduce informality and non-payment of tax. e.g. persuade small traders to register for value added tax (</a:t>
            </a:r>
            <a:r>
              <a:rPr b="0" i="1" lang="en-GB" sz="2000" spc="-1" strike="noStrike">
                <a:solidFill>
                  <a:srgbClr val="727272"/>
                </a:solidFill>
                <a:latin typeface="Calibri"/>
              </a:rPr>
              <a:t>Burundi</a:t>
            </a:r>
            <a:r>
              <a:rPr b="0" lang="en-GB" sz="2000" spc="-1" strike="noStrike">
                <a:solidFill>
                  <a:srgbClr val="727272"/>
                </a:solidFill>
                <a:latin typeface="Calibri"/>
              </a:rPr>
              <a:t>) or get into the habit of asking for official receipts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7272"/>
                </a:solidFill>
                <a:latin typeface="Calibri"/>
              </a:rPr>
              <a:t>Reaching the next generation;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lvl="1" marL="741240" indent="-284040">
              <a:lnSpc>
                <a:spcPct val="100000"/>
              </a:lnSpc>
              <a:spcBef>
                <a:spcPts val="675"/>
              </a:spcBef>
              <a:buClr>
                <a:srgbClr val="7272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27272"/>
                </a:solidFill>
                <a:latin typeface="Calibri"/>
              </a:rPr>
              <a:t>Insertion of taxpayer educaiton in school and university curricula. e.g. </a:t>
            </a:r>
            <a:r>
              <a:rPr b="0" i="1" lang="fr-FR" sz="2000" spc="-1" strike="noStrike">
                <a:solidFill>
                  <a:srgbClr val="727272"/>
                </a:solidFill>
                <a:latin typeface="Calibri"/>
              </a:rPr>
              <a:t>Costa Rica, El Salvador, Morocco, Mexico, Brasil</a:t>
            </a: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  <a:p>
            <a:pPr marL="341280" indent="-341280">
              <a:lnSpc>
                <a:spcPct val="100000"/>
              </a:lnSpc>
              <a:spcBef>
                <a:spcPts val="763"/>
              </a:spcBef>
              <a:buClr>
                <a:srgbClr val="7272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7272"/>
              </a:solidFill>
              <a:latin typeface="Georgi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79640" y="2379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27272"/>
                </a:solidFill>
                <a:latin typeface="Arial"/>
              </a:rPr>
              <a:t>2. Global Source Book on Taxpayer Education </a:t>
            </a:r>
            <a:br>
              <a:rPr sz="2400"/>
            </a:br>
            <a:r>
              <a:rPr b="0" lang="fr-FR" sz="2400" spc="-1" strike="noStrike">
                <a:solidFill>
                  <a:srgbClr val="727272"/>
                </a:solidFill>
                <a:latin typeface="Arial"/>
              </a:rPr>
              <a:t>a range of themes</a:t>
            </a: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8640720" y="6411960"/>
            <a:ext cx="34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15DE-25C8-4E6C-A6EE-331816577CC3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0:33:07Z</dcterms:created>
  <dc:creator>innamorato_c</dc:creator>
  <dc:description/>
  <dc:language>en-US</dc:language>
  <cp:lastModifiedBy>DE PAEPE Gregory</cp:lastModifiedBy>
  <cp:lastPrinted>2013-10-16T14:53:19Z</cp:lastPrinted>
  <dcterms:modified xsi:type="dcterms:W3CDTF">2014-10-23T13:16:38Z</dcterms:modified>
  <cp:revision>634</cp:revision>
  <dc:subject/>
  <dc:title>2013-07 BEPS R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mment">
    <vt:lpwstr/>
  </property>
  <property fmtid="{D5CDD505-2E9C-101B-9397-08002B2CF9AE}" pid="3" name="Content">
    <vt:lpwstr/>
  </property>
  <property fmtid="{D5CDD505-2E9C-101B-9397-08002B2CF9AE}" pid="4" name="ContentType">
    <vt:lpwstr>Document</vt:lpwstr>
  </property>
  <property fmtid="{D5CDD505-2E9C-101B-9397-08002B2CF9AE}" pid="5" name="Date">
    <vt:lpwstr/>
  </property>
  <property fmtid="{D5CDD505-2E9C-101B-9397-08002B2CF9AE}" pid="6" name="Outreach">
    <vt:lpwstr/>
  </property>
  <property fmtid="{D5CDD505-2E9C-101B-9397-08002B2CF9AE}" pid="7" name="Who">
    <vt:lpwstr/>
  </property>
</Properties>
</file>