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34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38"/>
          </p:nvPr>
        </p:nvSpPr>
        <p:spPr>
          <a:xfrm>
            <a:off x="3955680" y="-360"/>
            <a:ext cx="3027240" cy="290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Img"/>
          </p:nvPr>
        </p:nvSpPr>
        <p:spPr>
          <a:xfrm>
            <a:off x="1649160" y="409320"/>
            <a:ext cx="3686040" cy="27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9"/>
          </p:nvPr>
        </p:nvSpPr>
        <p:spPr>
          <a:xfrm>
            <a:off x="-36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 type="sldNum" idx="40"/>
          </p:nvPr>
        </p:nvSpPr>
        <p:spPr>
          <a:xfrm>
            <a:off x="395568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4E6A-1B6B-4C90-854A-1627B974489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77CF-941E-41B2-8E74-BB8AFE24C2F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92E4-1370-4983-9768-5AA56471790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2F5A-71BF-4D93-8948-DEC47BF38E8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-learning 1 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ecial de 1 dí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s profesores capacitados en curso presencial (junto con alumnos) y 1 profesor capacitado en Curso de Expertos en Factura Electrónica, dictado a funcionarios del S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7D5C-DE21-4291-A2DC-37BD7AD8751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37CD-4DAA-483F-AD97-C0D9BAC731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8E51-57FB-47E0-ACCD-2573CB33C21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6F65-0FCE-4551-8831-ECA1C9C8059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F2BD-9E54-439C-8D41-7C92B1AC810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BC2C-C434-4F5C-8834-52F1C19DBA8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58CF-024C-45EA-B406-7440C48A2DC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convenio de cooperación en educación fiscal, permite implementar distintas acciones tendientes a incentivar en los alumnos no solo el conocimiento tributario, sino que distintos aspectos relacionados a la educación fiscal, como la ciudadanía responsable (derechos y deberes), rol social del impuesto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toma como base la experiencia de Brasil, y se adapta programa a la realidad Chilena. Se focaliza atención en temas: 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Implementación de Facturas electrónica, Inicio de Actividades, Timbraje de Documentos, Llenado de Libros de Compra y venta, Declaraciones de IVA, Actualizaciones y llenado de Formular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venios externos: se gestionan estos convenios con la finalidad de asegurar la atención de contribuyentes (MIPYME) Municipalidad de Santiago ya confirmó 150 emprendedores para entregarles asist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alumnos convocados realizaron como prerrequisito, E-Learning, cuyo resultado sirvió para elegir a los 46 alumnos que forman parte del pilo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 consultas sin respuesta citan al contribuyente en otra ocas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C6E1-240F-432D-8F1E-0D7E7D6D902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-learning como pre requisito para participar del piloto, convocatoria se extendió a todos los alumnos interes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ciparon 630 alum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os 630 alumnos que participaron en el E-Learning, se escogió a los 46 mejores puntajes que participaron luego en una capacitación presencial, en dependencias del S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5687-6A4E-4BCD-881E-94EE2D77E4F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 es la capacitación presencial a 46 alumnos que fueron los mejores del e-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93C-2558-42FF-A583-A24C645B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315-7115-490F-A470-22E671C8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8FB2A-5A63-4493-B5E6-F3260318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6FD8D-14BB-49EE-9F82-613A91AF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5A3EA-C3AB-471E-B58C-4BA64FA9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2441A-4AAD-4B28-B529-A1163E0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02C30-49B0-4C5E-9743-FAE36D9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5C6DD-6E45-45C9-A33C-C2712E07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BC0B7-A2B3-4796-9184-27EFCC7A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75EDC-085F-479B-94AB-40A47369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D29A3-9DE0-43CF-932C-9FFAE5D3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6D259-3191-4956-8127-BC05D242D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212-30A1-4BFC-896B-46F201FE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5D915-BC3B-404A-96A9-ED8DEBB8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E30B-1635-431D-A01F-03C4A51C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6A760-140B-4808-8083-3823EBBB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74B7F-FFAE-44F7-9B13-4D38BF49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98409-C1DB-4312-AA84-D246E549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6C9ED-8732-4468-ADD1-16CF674C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96BE5-0F83-4E28-8B6B-4D88BED0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8F425-1647-47F8-BD19-1212D20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9BC9D-3B8F-4832-BBEC-CD91068C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89400-3F32-4C62-A428-C04486F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6CF-C8FF-4AEF-805A-28315372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C7C82-EA54-4288-A393-74C502C74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8680C-E030-421F-BED3-129AC92C94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D2D983-59EA-4794-88B1-18E98A3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A95CFD-7190-4458-9516-23D2F127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B33720-ACA7-4975-BA6A-CDAF319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20D4B3-04F2-4A53-8D96-57CDA711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26B8B4-F85B-4797-984C-1DBB877D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5A304-7560-49F0-AC0C-26D5375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ACE08-5860-4ED8-B682-B8F6E9ED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2A8E8F-3BF4-4BF1-A9E3-3168384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3F2-064C-4314-BE27-AF70338B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BD6CD9-1A57-4377-AA04-0C1A6DC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B2ACBB-BAAA-4F4F-9CE5-B134662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DED15-52D4-4A8C-AD0A-C68E75218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B777C9-F2B4-4349-9CE5-03C6BE7B8F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E7423E-21C7-4673-97F8-7075681F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D98220-23DF-472E-AC77-5BB4140A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EA1361-B3E2-4C26-A758-3931435F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C2C5D7-6ED2-45EB-AB79-C7454162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9C7000-BB2D-4B94-92A2-9E2B9D73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36EE04-8A5B-4816-8B6F-15089C1F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97AB-3B31-4EF4-9BEF-9B1E1BCF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7B28EF-9E3B-468D-BB07-B6C17CE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FDED7A-3196-4DFB-917E-E745D0E8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80C8AC-C3EF-4FE0-858B-B8DD764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B891C9-FE2E-42DC-B6B4-E3F3E28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B43818-BCEF-4B50-B0D0-BF1F763CE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B7051-1AE0-4B51-B9F3-E53B60771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650AE-AB47-48D0-9599-F9F34457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59ED7-CB65-401A-879F-CD3CCF14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8C4BD-58D1-4ECB-A7DC-B0B70CD0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ABC97-1BF5-41ED-8A31-66DB00B3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725E-313E-4DCD-8947-9515178B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9278F-03AE-4CED-9D61-EA9AF7CF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C199D-5228-428A-910C-7BE035F2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EB489-32B4-4FBC-9DE5-F54D1E97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BEA05-F3A2-44BA-B9C8-3F4410F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7E38F-4242-4C9D-A8E6-8FA7C0A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F6AB6-AC1C-4BDA-B2FE-9EB271B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7FBD3-24A9-47AB-BCE3-924F36A65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0A594F-5D85-42CB-9164-079A1E61B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067C84-4FA0-44CD-B0A1-C0C307FD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5BAA9D-8D55-4068-A356-0025902D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1366-8213-44A8-B096-F8026629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30873A-458B-457D-A407-4BC8769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40FEAF-7BB5-48DE-836E-FE28C7C0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E14BBA-F3DE-40CA-B902-405AAFBB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A83321-BD51-4A99-81B1-DBCD47A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DEFD53-0CBB-477D-80B8-63135BA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AFDA9F-FA50-41E1-B907-4272AB36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BC7292-6190-47D8-B85F-1FBDFF49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1DD1B1-BA1D-4DBF-A2DC-D773DB8A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2E13C1-74FC-412A-B315-C6800C056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A7A912-70C7-4B20-BEF4-20A22E091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3B95-4000-41C4-B895-7F2CF964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9BB397-92A6-4387-B108-8ED642C2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9F1ABD-BE6B-48A0-8F15-9FA159B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5379F6-3057-4795-9E2D-10ED6C0B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A8E412-84B6-4DFA-B30E-06AF5B58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D0F343-3891-476C-A3B8-1EE58660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C3DC61-901E-434E-A4B7-19CA83E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98D90F-3286-454F-A29B-536FEE2A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3F1A50-6375-470C-B123-6200CB8A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BB6AF7-3B4B-4A93-BC9F-F08DF4A4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B0DB63-621E-4A99-98C5-F39BC46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8A77-7544-4E9A-AA6C-81DE3B79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E5C2B5-FEA0-431E-99B8-AF1EB4AA8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42BD-D7FD-45DD-B0B9-DC883BF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84D-EA63-4EBC-8784-2974AC8A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2BB-9A2B-4BE8-BBE7-B3C3B6CD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2AA6-D43C-4273-B996-BCF8A56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EB45-40AC-4904-92D0-A019DD6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EFDC-A351-4628-9A15-E009C5BF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2CD8-B72D-40D4-ABEC-4B099E5B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708F2-01F3-41ED-AD95-767538A5A0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402EB-9DD4-48E3-84D9-FC2D9E64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C5775-BD22-4D8F-8F10-2332D880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F217C-4F81-4875-98FC-D441FD55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79B26-6E53-4F8A-9BB0-89D9DD04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6CF-573A-464B-9CA2-9D754D50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55BDD-B834-4F5C-8533-049AD929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54469-5A3C-40D5-8638-525585D0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1CD74-0B50-4B58-BC45-C6BCA50E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0706D-97A0-4C53-8B57-65E47653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E2E4A-C63F-4E9F-A4B5-0A52E988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F5B6A-10F6-445B-B029-AA5479FC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0F07C-ED51-40BF-BD6A-808B7C63B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E24C3-DC0F-488A-889D-420D35787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DBC86-4467-40F0-AD12-2089029F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39258-2B62-4997-9C4E-3D30757F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3E5-6CCB-4A1C-BCF9-31A71982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32DD5-590C-423B-9162-67ADCD0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4B2F4-F3C8-42FB-8913-C48BACA2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80447-84CD-460A-9323-50ECA791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5B22D-D018-445C-8A56-1E76558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FF2F1-B1D9-4347-B673-919ED1D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E126E-7CAC-479E-960B-CC90503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C185F-91DB-4805-97D1-A3235D8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47BE9-32DC-467D-ACAD-3A4BD7D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C476B-F1A8-4B61-8D04-6A2D3713D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4D4C76-27E2-48F9-BEC8-6365458A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801-87F5-4B3A-80E8-105ABC6A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05A31-02DE-4A74-A1AF-C44495FC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7212D-3EB6-4C45-AC71-2532641C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2E034-8EC0-4A3D-B87F-AEE88C0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042F8B-27AC-42D7-84B7-572DCBB1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9C5B2D-DB3B-40C0-8543-B6E737C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B178B-613D-48B3-9392-E9CC175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726123-4E49-4BD4-8104-7F37F45A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01062E-C9A1-4FF7-B0A8-9AE1A09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7F3D6-6530-4EFF-BA6D-9457C8B3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9346B-ECBC-4018-9E00-086419C0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BF6-A320-4C3B-BB97-FE257530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9233B-A820-4C77-9429-8C44C72D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B3C6E-2AC7-47F1-845B-24D12F4D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667BE5-20C8-4FFD-BA48-0B0315F3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012C4-95C8-4DC1-BBFC-1ECB100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1237A9-196B-4EBD-A56C-65C7FD8A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AE759-5942-4D18-80F6-F809614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2DA08-5B14-4E24-98C4-F1AD8CF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B66F2-C6B5-40D8-8F61-C0BBAC0F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0EC009-B78B-4F2E-94CF-211D31C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9E386-4ADB-4EFF-9D2A-3396DA2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C10-BE65-44DD-BA8A-BD4677B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677FD5-0073-4078-9046-A6D1B6A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4965D-200F-4CF2-A7AE-2BCE3684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489C4-9DA6-46A1-BC61-B4C80473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A34FF-6194-4C4E-83BC-1A794D8A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2840A2-9ED2-440E-AED9-D4911A2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DEA672-B914-4B2B-8846-49E0B600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8D19A-79C9-4EA2-995C-EBC5C4FC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9751AA-1137-4217-85F9-24F128ED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741B23-A5C2-40E9-BDAD-D74EAA8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B00F5-84F4-41BD-BD48-E246AD5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E60-E960-4EB2-880F-59A56AA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43324A-FBEF-4449-AC5C-3DB6508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1EB368-3777-49F5-A8A5-A0D7D01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554057-1E3A-4696-A3CF-803BA09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D331B0-F508-4AB0-B576-8EE9CD67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940C5-E066-4E45-93C1-5C553EE7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64D79-6C40-43D9-BE91-BA619239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7CA87-E5CA-4E63-B30A-5F377CC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2D52AC-42AB-440B-8485-B86D8B8F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2796CD-5D22-440D-9E31-B0E01E94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99A142-4BAB-417B-97FC-6B262155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A5B-881F-492B-A6B4-83D2AA8A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1C2639-40D1-402A-B666-2D76A56F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1B7B04-3D1E-41FF-9486-244B4274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244CAF-D3D0-4948-9404-B28A917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6AB22D-0E2B-4F1A-8A4F-33EA0AE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A8E762-7F2D-4CF7-991C-B737ABDA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7E7BF-CB50-4C01-8B57-D8625B31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FCBEDC-5F82-4E34-A570-A936D102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F49C5-505A-400A-A4A3-4873A725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7858A-05E2-4D73-8951-81F1798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5FBDE-0DBE-4426-8F99-391DD02C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8F51-432F-477B-9B8F-C537273B7D84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D03-9952-4A55-88BA-E589191F0D2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94A9-04F5-4F46-86DC-B7F9455F630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EC78-1B37-4F43-8D82-AFFB1F47A22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AA4E-2694-41B3-A242-250E52AC7A7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FCC2-AFA3-4DC2-9416-2D9BFC81BF7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FEF-94E3-40C3-BC62-E60051E1B7E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13E4-23DC-4471-B086-A8A4369CDD3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8DF-E71A-441D-B672-DC97730B38E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DD89-27AE-44D6-8095-EEE1B6DC4C5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C870-1AC9-4580-903B-FD499DFEA96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4EB5-8A75-4726-8B6E-78B339B1B8B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F096-363C-41E0-825F-FE07213471F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42E-C712-4CEB-A4D1-E059FD50B60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E73C-18AA-4F4C-9956-1D7DAAD7F548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C12A-B590-4AAA-9471-5F057F5DAAE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1B2B-157A-43A2-8BEF-63B721F29A5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2AFA-C48E-41E8-A3A8-DDB59964B27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E5C-91D6-4287-89A3-A1AA98F05D48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84B4-84F4-4FBB-BE9D-2554FCFE89C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E249-C0C5-4E61-BF09-B739360E450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58A-A58D-475A-B052-613DD4D6437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29E-F1D4-43E0-A823-14AC6AEDFA4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578D-3C16-42BC-A463-DDF83909151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220B-7A4E-4206-8FBB-24DFF7898A42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3DB-C392-49B4-9A1C-DA88783F0C6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FA92-DB3A-4960-A3F7-1245B7DFD268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54D0-9478-4D13-9D7E-B04DC0BB75A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5E5C-44AD-4E27-9205-6B856214CA11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D115-D8BC-4D17-8015-1DF07693073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2 Subtítulo"/>
          <p:cNvSpPr/>
          <p:nvPr/>
        </p:nvSpPr>
        <p:spPr>
          <a:xfrm>
            <a:off x="108000" y="63104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Imagen 4" descr="cid:image002.png@01CFCC37.FA37C420"/>
          <p:cNvPicPr/>
          <p:nvPr/>
        </p:nvPicPr>
        <p:blipFill>
          <a:blip r:embed="rId2"/>
          <a:stretch/>
        </p:blipFill>
        <p:spPr>
          <a:xfrm>
            <a:off x="682560" y="5522760"/>
            <a:ext cx="3673440" cy="8445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616" name="Rectángulo 1"/>
          <p:cNvSpPr/>
          <p:nvPr/>
        </p:nvSpPr>
        <p:spPr>
          <a:xfrm>
            <a:off x="390600" y="549360"/>
            <a:ext cx="83516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ller Internacional sobre mejores prácticas de Educación Fiscal en la Unión Europea y América Lat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México D.F., del 21 al 24 de octubre de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Imagen 1" descr=""/>
          <p:cNvPicPr/>
          <p:nvPr/>
        </p:nvPicPr>
        <p:blipFill>
          <a:blip r:embed="rId3"/>
          <a:stretch/>
        </p:blipFill>
        <p:spPr>
          <a:xfrm>
            <a:off x="6804000" y="5522760"/>
            <a:ext cx="167652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B0F-EF55-449A-B341-391B448D10C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ángulo 3"/>
          <p:cNvSpPr/>
          <p:nvPr/>
        </p:nvSpPr>
        <p:spPr>
          <a:xfrm>
            <a:off x="585720" y="928800"/>
            <a:ext cx="845028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grama CAPACITACIÓN NAF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Módulo 3: Tipos de Docume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Aspectos Generales de la Factur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Fundamentos, Sistema de Mercado y Gratuito, operación y flu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Factibilidad, Inscripción, Configuración del PC en Sistema Gratu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aboratorio: Emisión Práctica de Documentos, IECV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Imagen 1" descr=""/>
          <p:cNvPicPr/>
          <p:nvPr/>
        </p:nvPicPr>
        <p:blipFill>
          <a:blip r:embed="rId1"/>
          <a:stretch/>
        </p:blipFill>
        <p:spPr>
          <a:xfrm>
            <a:off x="3139920" y="73080"/>
            <a:ext cx="286416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5643-58A9-445A-8ADE-8BC8CEF6CE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4 CuadroTexto"/>
          <p:cNvSpPr/>
          <p:nvPr/>
        </p:nvSpPr>
        <p:spPr>
          <a:xfrm>
            <a:off x="1073160" y="116064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2060"/>
                </a:solidFill>
                <a:latin typeface="Arial"/>
              </a:rPr>
              <a:t>Hitos relevantes del P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Imagen 1" descr=""/>
          <p:cNvPicPr/>
          <p:nvPr/>
        </p:nvPicPr>
        <p:blipFill>
          <a:blip r:embed="rId1"/>
          <a:stretch/>
        </p:blipFill>
        <p:spPr>
          <a:xfrm>
            <a:off x="6886440" y="3882960"/>
            <a:ext cx="2232000" cy="2975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3" name="Imagen 2" descr=""/>
          <p:cNvPicPr/>
          <p:nvPr/>
        </p:nvPicPr>
        <p:blipFill>
          <a:blip r:embed="rId2"/>
          <a:stretch/>
        </p:blipFill>
        <p:spPr>
          <a:xfrm>
            <a:off x="4716360" y="5232240"/>
            <a:ext cx="2170080" cy="1625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4" name="Imagen 3" descr=""/>
          <p:cNvPicPr/>
          <p:nvPr/>
        </p:nvPicPr>
        <p:blipFill>
          <a:blip r:embed="rId3"/>
          <a:stretch/>
        </p:blipFill>
        <p:spPr>
          <a:xfrm>
            <a:off x="5702400" y="1268280"/>
            <a:ext cx="3441600" cy="2581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665" name=""/>
          <p:cNvGraphicFramePr/>
          <p:nvPr/>
        </p:nvGraphicFramePr>
        <p:xfrm>
          <a:off x="108000" y="1052640"/>
          <a:ext cx="5359320" cy="1682640"/>
        </p:xfrm>
        <a:graphic>
          <a:graphicData uri="http://schemas.openxmlformats.org/drawingml/2006/table">
            <a:tbl>
              <a:tblPr/>
              <a:tblGrid>
                <a:gridCol w="3168720"/>
                <a:gridCol w="1261800"/>
                <a:gridCol w="928800"/>
              </a:tblGrid>
              <a:tr h="3078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Resumen NAF AI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s Capacitados E-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s Capacitados Pres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en el S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ores Capaci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108000" y="2924280"/>
          <a:ext cx="5359320" cy="1657080"/>
        </p:xfrm>
        <a:graphic>
          <a:graphicData uri="http://schemas.openxmlformats.org/drawingml/2006/table">
            <a:tbl>
              <a:tblPr/>
              <a:tblGrid>
                <a:gridCol w="3465360"/>
                <a:gridCol w="1893960"/>
              </a:tblGrid>
              <a:tr h="4237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ntribuy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tend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nscr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ado al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1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ércoles y sáb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667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826920" y="4797360"/>
          <a:ext cx="4535640" cy="160668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Mensual (I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ación, Inicio de actividades y escoger Actividad comer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uración Electró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o de g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67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3 Imagen" descr="ivo_etiqueta_transparente.gif"/>
          <p:cNvPicPr/>
          <p:nvPr/>
        </p:nvPicPr>
        <p:blipFill>
          <a:blip r:embed="rId3"/>
          <a:stretch/>
        </p:blipFill>
        <p:spPr>
          <a:xfrm>
            <a:off x="4859280" y="1316160"/>
            <a:ext cx="340056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F935-6AEC-46A3-B69A-8D73D1695ED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0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pic>
        <p:nvPicPr>
          <p:cNvPr id="622" name="Imagen 11" descr=""/>
          <p:cNvPicPr/>
          <p:nvPr/>
        </p:nvPicPr>
        <p:blipFill>
          <a:blip r:embed="rId3"/>
          <a:stretch/>
        </p:blipFill>
        <p:spPr>
          <a:xfrm>
            <a:off x="7380360" y="3807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7"/>
          <p:cNvSpPr/>
          <p:nvPr/>
        </p:nvSpPr>
        <p:spPr>
          <a:xfrm>
            <a:off x="471600" y="1054080"/>
            <a:ext cx="8001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d2d8a"/>
                </a:solidFill>
                <a:latin typeface="Arial"/>
                <a:ea typeface="Calibri"/>
              </a:rPr>
              <a:t>Panel III: Educación Fiscal en el ámbito Universitario- Experiencias de responsab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Los Núcleos de Apoyo Contable y Fiscal (NAF) a Contribuyentes MIPYME en Ch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Imagen 1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1862280" cy="98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7F7-7194-4A7A-9796-628E2BD839C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7" name="8 CuadroTexto"/>
          <p:cNvSpPr/>
          <p:nvPr/>
        </p:nvSpPr>
        <p:spPr>
          <a:xfrm>
            <a:off x="2343240" y="10638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ducación Fiscal – Contexto 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7"/>
          <p:cNvSpPr/>
          <p:nvPr/>
        </p:nvSpPr>
        <p:spPr>
          <a:xfrm>
            <a:off x="692280" y="1598760"/>
            <a:ext cx="80010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Dentro de la misión del S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        </a:t>
            </a: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“…</a:t>
            </a: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Proveer a los contribuyentes de servicios de excelencia,    potenciando la generación de nuevos productos y servicios con el objetivo de facilitar el cumplimiento tributario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Reforma Tributa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54061"/>
                </a:solidFill>
                <a:latin typeface="Tahoma"/>
                <a:ea typeface="Tahoma"/>
              </a:rPr>
              <a:t>Entrega como rol la asistencia a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n 8" descr=""/>
          <p:cNvPicPr/>
          <p:nvPr/>
        </p:nvPicPr>
        <p:blipFill>
          <a:blip r:embed="rId3"/>
          <a:stretch/>
        </p:blipFill>
        <p:spPr>
          <a:xfrm>
            <a:off x="6195960" y="5621400"/>
            <a:ext cx="167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C816-A2D4-42BD-96F4-46F6555593F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pic>
        <p:nvPicPr>
          <p:cNvPr id="633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34" name="2 Rectángulo"/>
          <p:cNvSpPr/>
          <p:nvPr/>
        </p:nvSpPr>
        <p:spPr>
          <a:xfrm>
            <a:off x="858960" y="1557360"/>
            <a:ext cx="725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8c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El SII busca reducir los costos de cumplimiento tributario de los contribuyentes y facilitar los trámites durante todo el Ciclo de Vida Tributaria de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0" descr=""/>
          <p:cNvPicPr/>
          <p:nvPr/>
        </p:nvPicPr>
        <p:blipFill>
          <a:blip r:embed="rId3"/>
          <a:stretch/>
        </p:blipFill>
        <p:spPr>
          <a:xfrm>
            <a:off x="266760" y="3041640"/>
            <a:ext cx="8609040" cy="1657440"/>
          </a:xfrm>
          <a:prstGeom prst="rect">
            <a:avLst/>
          </a:prstGeom>
          <a:ln w="0">
            <a:noFill/>
          </a:ln>
        </p:spPr>
      </p:pic>
      <p:pic>
        <p:nvPicPr>
          <p:cNvPr id="636" name="Imagen 9" descr=""/>
          <p:cNvPicPr/>
          <p:nvPr/>
        </p:nvPicPr>
        <p:blipFill>
          <a:blip r:embed="rId4"/>
          <a:stretch/>
        </p:blipFill>
        <p:spPr>
          <a:xfrm>
            <a:off x="6156360" y="5637240"/>
            <a:ext cx="2179440" cy="976320"/>
          </a:xfrm>
          <a:prstGeom prst="rect">
            <a:avLst/>
          </a:prstGeom>
          <a:ln w="0">
            <a:noFill/>
          </a:ln>
        </p:spPr>
      </p:pic>
      <p:sp>
        <p:nvSpPr>
          <p:cNvPr id="637" name="8 CuadroTexto"/>
          <p:cNvSpPr/>
          <p:nvPr/>
        </p:nvSpPr>
        <p:spPr>
          <a:xfrm>
            <a:off x="2146320" y="82224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ducación Fiscal – Contexto 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33FE-0898-4B8E-882F-5C09F37E9C8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pic>
        <p:nvPicPr>
          <p:cNvPr id="640" name="1 Imagen" descr=""/>
          <p:cNvPicPr/>
          <p:nvPr/>
        </p:nvPicPr>
        <p:blipFill>
          <a:blip r:embed="rId2"/>
          <a:stretch/>
        </p:blipFill>
        <p:spPr>
          <a:xfrm>
            <a:off x="3568680" y="558972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41" name="2 Rectángulo"/>
          <p:cNvSpPr/>
          <p:nvPr/>
        </p:nvSpPr>
        <p:spPr>
          <a:xfrm>
            <a:off x="822240" y="1557360"/>
            <a:ext cx="72500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8c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Atender y dar asistencia técnica a pequeños contribuyentes para poder conocer sobre aspectos generales del sistema gratuito de factura electrónica del SII, completar sus obligaciones, trámites, actuaciones y pago de impuestos ante el fisco chile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El NAF atenderá a pequeños contribuyentes y personas de escasos recursos que no puedan pagar una atención profesional de maner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Imagen 9" descr=""/>
          <p:cNvPicPr/>
          <p:nvPr/>
        </p:nvPicPr>
        <p:blipFill>
          <a:blip r:embed="rId3"/>
          <a:stretch/>
        </p:blipFill>
        <p:spPr>
          <a:xfrm>
            <a:off x="6156360" y="5637240"/>
            <a:ext cx="2179440" cy="976320"/>
          </a:xfrm>
          <a:prstGeom prst="rect">
            <a:avLst/>
          </a:prstGeom>
          <a:ln w="0">
            <a:noFill/>
          </a:ln>
        </p:spPr>
      </p:pic>
      <p:sp>
        <p:nvSpPr>
          <p:cNvPr id="643" name="8 CuadroTexto"/>
          <p:cNvSpPr/>
          <p:nvPr/>
        </p:nvSpPr>
        <p:spPr>
          <a:xfrm>
            <a:off x="2902320" y="8222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NAF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790-D6AC-4D1F-86CB-4691F13D0BE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Diagrama 2" descr=""/>
          <p:cNvPicPr/>
          <p:nvPr/>
        </p:nvPicPr>
        <p:blipFill>
          <a:blip r:embed="rId1"/>
          <a:stretch/>
        </p:blipFill>
        <p:spPr>
          <a:xfrm>
            <a:off x="268200" y="1195560"/>
            <a:ext cx="8094600" cy="4625640"/>
          </a:xfrm>
          <a:prstGeom prst="rect">
            <a:avLst/>
          </a:prstGeom>
          <a:ln w="0">
            <a:noFill/>
          </a:ln>
        </p:spPr>
      </p:pic>
      <p:sp>
        <p:nvSpPr>
          <p:cNvPr id="646" name="Rectángulo 5"/>
          <p:cNvSpPr/>
          <p:nvPr/>
        </p:nvSpPr>
        <p:spPr>
          <a:xfrm>
            <a:off x="32400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b0f0"/>
                </a:solidFill>
                <a:latin typeface="Arial"/>
              </a:rPr>
              <a:t>Proceso de puesta en marcha NA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ángulo 1"/>
          <p:cNvSpPr/>
          <p:nvPr/>
        </p:nvSpPr>
        <p:spPr>
          <a:xfrm>
            <a:off x="2780280" y="7351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b050"/>
                </a:solidFill>
                <a:latin typeface="Arial"/>
              </a:rPr>
              <a:t>El NAF en C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B00-DD37-4247-8FF1-D40A12208F4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ángulo 3"/>
          <p:cNvSpPr/>
          <p:nvPr/>
        </p:nvSpPr>
        <p:spPr>
          <a:xfrm>
            <a:off x="468360" y="760320"/>
            <a:ext cx="844848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ESTRATEGIA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Alianza Educativa con Instituto AIEP- de la Universidad Andrés B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Generación de “Convenio de cooperación en Educación Fis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Adaptación y Programación del NAF-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Infraestructura (Universidad Andrés Bello – AIEP): sala acondicionada para atención de público (4 equipos P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onvenios externos: emprendedores Municipalidad de Santiago, CONUPIA. Se siguen acciones con Fosis, Sercotec, ProPYME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onvocatoria de alumnos carrera de Contador Auditor, realización de E-Learning y elección de los mejores alum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apacitación Presencial en el SII (630 alum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Piloto (4 meses): Inauguración, evaluación y seguimiento, estadísticas, citación de contribuyentes, seguimiento de respuestas, supervisión de profe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Imagen 1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2908440" cy="59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6973-BC9E-4636-948E-44610023664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ángulo 1"/>
          <p:cNvSpPr/>
          <p:nvPr/>
        </p:nvSpPr>
        <p:spPr>
          <a:xfrm>
            <a:off x="458640" y="1700280"/>
            <a:ext cx="871236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APACITACIÓN E-LEARNING, 3 UN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NIDAD 1: “</a:t>
            </a: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Estado, Tributación y Ciudadanía”. Conocer y formarse una opinión crítica sobre los conceptos de Estado y Tributación, y cómo estos nos ayudan a desarrollar una sociedad más ordenada y justa para 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UNIDAD 2:  "La Administración Pública Y tu Profesión", cuyo objetivo es conocer las principales Funciones de la Administración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UNIDAD 3:  "Facturación Electrónica" cuyo objetivo es reconocer los actores y procesos que intervienen en la nueva Ley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Imagen 1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2908440" cy="59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12D-7CB6-40AE-8A76-CE38BE61F97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ángulo 3"/>
          <p:cNvSpPr/>
          <p:nvPr/>
        </p:nvSpPr>
        <p:spPr>
          <a:xfrm>
            <a:off x="585720" y="928800"/>
            <a:ext cx="84502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grama CAPACITACIÓN PRESENCIAL NAF, 3 módulos, mejores alumnos del E Learning (46 alumn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Módulo 1: La Educación Fiscal y tu prof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iudadanía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¿Qué es la educación fis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os tres ejes que fundamentan la educación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Rol social del im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a ética profesional y tu compromiso ciudad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Módulo 2: Factur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Nueva Ley 20.727 de 2014 (Factura Electrónica Univer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avegación y ayuda para la facturación electrónica en el sitio Web del S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nformación de ayuda y asistenc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Preguntas Frecuentes, Contáctenos, Guías de Ayuda, Mesa de Ayuda y Videos Educativos sobre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Imagen 1" descr=""/>
          <p:cNvPicPr/>
          <p:nvPr/>
        </p:nvPicPr>
        <p:blipFill>
          <a:blip r:embed="rId1"/>
          <a:stretch/>
        </p:blipFill>
        <p:spPr>
          <a:xfrm>
            <a:off x="3139920" y="73080"/>
            <a:ext cx="286416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Ricardo Antonio Pizarro Alfaro</cp:lastModifiedBy>
  <cp:lastPrinted>2013-05-15T01:14:53Z</cp:lastPrinted>
  <dcterms:modified xsi:type="dcterms:W3CDTF">2014-10-22T12:39:48Z</dcterms:modified>
  <cp:revision>560</cp:revision>
  <dc:subject/>
  <dc:title>Cuenta Pública 2010 SII</dc:title>
</cp:coreProperties>
</file>