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8C2-3E1F-495A-B56F-A96D54675A7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8DC8-1C4A-4745-93CA-78AC1837CD8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518B-295C-4E33-A63A-9BF1134B336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BFD5-1C3D-4190-83BE-DDC1EC8A33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1 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ecial de 1 d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s profesores capacitados en curso presencial (junto con alumnos) y 1 profesor capacitado en Curso de Expertos en Factura Electrónica, dictado a funcionarios del S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3618-426A-48E7-A4B5-E4407A5D6D7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1652-A1BA-4D0C-9CE3-990C100B3AC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E95-4CC8-4ACC-8F3A-055A01AC3E8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BAE-4B46-4679-8552-E70E74547E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8861-3413-4410-91F8-11BA3B18C4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DA75-E725-4DCF-8709-32B889B2CAD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90A-8A6C-40CB-838C-8FCD903FB5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convenio de cooperación en educación fiscal, permite implementar distintas acciones tendientes a incentivar en los alumnos no solo el conocimiento tributario, sino que distintos aspectos relacionados a la educación fiscal, como la ciudadanía responsable (derechos y deberes), rol social del impuesto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toma como base la experiencia de Brasil, y se adapta programa a la realidad Chilena. Se focaliza atención en temas: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Implementación de Facturas electrónica, Inicio de Actividades, Timbraje de Documentos, Llenado de Libros de Compra y venta, Declaraciones de IVA, Actualizaciones y llenado de Formular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nios externos: se gestionan estos convenios con la finalidad de asegurar la atención de contribuyentes (MIPYME) Municipalidad de Santiago ya confirmó 150 emprendedores para entregarles asist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alumnos convocados realizaron como prerrequisito, E-Learning, cuyo resultado sirvió para elegir a los 46 alumnos que forman parte del pilo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 consultas sin respuesta citan al contribuyente en otra ocas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46D2-AD47-41D0-8534-5979F58A1C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-learning como pre requisito para participar del piloto, convocatoria se extendió a todos los alumnos interes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on 630 alum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os 630 alumnos que participaron en el E-Learning, se escogió a los 46 mejores puntajes que participaron luego en una capacitación presencial, en dependencias del S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8823-728A-4E96-9292-34D9DADE92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 es la capacitación presencial a 46 alumnos que fueron los mejores del e-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2DC-2D9C-4467-8B3E-3CF3CF98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92B-D12F-4335-8F66-FD4B65E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B20A5-D4A4-47B1-8509-18F9A1C9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D9C34-2427-4FFD-BC6E-B52FB68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D1A5C-921C-427E-954B-37E3FA88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2DC5E-6A74-462C-9176-BBEEC2A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10FE9-6781-40AA-9747-AF251C3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C5B64-DF3C-4F0E-9C98-8AD31BE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E45D4-2373-466B-8854-02F7493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8DAFA-0815-4778-9849-970789F3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76A6F-A884-4BD4-9E25-CF3417E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DCCE8-BED6-4002-A62A-FA1F7D518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16E-283F-4E8A-B1FF-67875D67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6CB0B-E6A6-41B1-9655-8302AD27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D4916-140D-4506-8349-EAFB1ABC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AE6E3-B653-46FE-BD0E-7905003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25F8-F7F2-4431-8FFE-519DD5CA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3EEA3-3D0E-4715-88F0-338D7167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E35D9-E7BD-4127-9F50-D985F78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C489F-8933-44AF-8F42-98B29E6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F6C05-A6EC-4E22-80FE-05DF2AA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5FC22-E2FF-4A54-97B5-17279BF4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5E129-6654-4ED4-8740-8A026D6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A08-636A-4B80-B7F5-ACEA666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B104A-39B2-455D-A675-4132E4154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9711B-3A93-44D8-8CBF-1D6E87A3E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AD84FB-904F-4366-B01C-18FB6B0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63ACA-F60D-46EC-BB62-0218EE69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FDF671-B7CF-48DE-ADAE-B6EEEF8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B1E1BF-3CCE-4E9C-9DDC-2315794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A38A3D-5FCF-4846-BBDD-51FDD871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573DF2-BC0E-4614-9B6C-734F6ED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1C16B-2A02-4E6F-BAFB-58566140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A51D76-1837-4686-A846-204D2208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2B4-33E6-4AE2-84A4-F59E80BA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E8FCC4-3CC3-4387-9531-0801EFA1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C53578-5C12-43A8-9341-5E45144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666EE-13C0-46A7-8D00-6F5A89F5B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BDAF32-ACFC-476E-9B1B-D2F3F21F8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0979F-4A78-4FEA-9927-849427D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6D729E-ED01-42C2-8941-4865CFE4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61D2AB-CA44-42C6-8659-4CCD4AC8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65659E-01AC-46B5-8752-E9EADD99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828FB-93EA-4AC5-8E6A-8A89F9EE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A55002-9828-47B4-BC0A-089E35B3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BDF-723D-4399-A0F1-230788D7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EC7943-CAD3-4760-949F-F04FA80F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0475A9-D157-47A4-9F95-AE0257AA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5D11E4-1B14-4BD1-8DEF-DF3C229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16B93A-89A3-413D-BF50-E5EA09E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BE53BF-D1DB-4C64-8D07-B6853F879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3BE7-A6C8-47D5-A2B6-FEDCA8EF9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1DCA-BE70-4464-AB78-1F534E8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940C-0329-4E39-92B6-E9399A4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B303-4225-4CDC-9FCD-A85BE19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2FFA-77BA-4ED3-8DC0-F50C05B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B86-5AE5-4EB6-9E52-5D12D28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5887-8CDB-4258-8C6A-E0A12B1B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14C24-AA34-4283-A7D8-46E8B5A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95509-3C07-46B6-AE0B-5D4F5B68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75C6-617E-42E2-8ECB-EA682D1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2E729-60F9-43D1-8792-70D61D6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B19BF-627E-49CE-B729-5D06AC1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D39E-532C-4CCB-8C1A-977E5C0756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DFF37F-D6A1-43FE-B31A-AAA7BE73C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E32F28-A4C1-407A-A182-72B6578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7CF2F1-6EEE-4C54-89DC-A72CC13A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E87-60F4-43AA-8C82-13C359C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1E8DA1-D679-4708-ACD7-7015C5D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684316-726D-4D77-B2E2-0807CA79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A185B-07B5-42A9-898D-8E474BF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652548-F369-4290-B9A0-F272DC27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DF7DD9-A14A-4F7E-A930-AD177A7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86188F-DFA5-4561-89CF-2225EA67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B03DA7-6C26-4783-B6F9-B7B5B40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9C808A-309C-44FC-9CCD-2119B3F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045A6D-5730-46D9-8074-770B01F19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5D5A7B-8FCA-4337-B73A-CF17C2DC3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C36F-48CE-4793-B0F7-9EE5C7D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70BD78-3920-40CB-A522-D04E9F7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1FA887-3836-4B7B-9AA7-3E0EAEDF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C5C0F7-E730-4179-820D-73BEC8FB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85A689-C6FB-439C-82AF-97DAEF35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A4A21-142B-4045-B395-2CEF81DA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1D5DCB-6B74-4757-9B81-47FBCB0C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F76A21-AB8F-428D-AFE1-625CF73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0068B-9136-4397-83BE-D7F84F6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53565A-DD4F-44C9-B742-DCA93ABD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7909C5-1601-475F-8C14-40BE5BB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5503-9EFD-4EB0-973C-AEBFC58B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671B97-7D1D-477E-885C-D01E51110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5146-3969-48C5-AB33-1B4F40E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5F6-F331-417B-8C04-821A2AB8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13B5-6989-4C71-A9D8-C5092A2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1544-A334-4F6A-AACF-8E7B324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A06-AB99-4E62-858E-A4E1642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8090-D3C8-466C-A08B-98834C1D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902-CF50-4FCB-B2A3-D89BBBA2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522EB-21B0-4DF0-B4A7-0ED6C1229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01C25-5098-490E-86F3-C1885216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170B5-4323-4E5B-8077-785D1B2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F82B4-5B6F-4052-B780-D15DC2E0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FFF33-AB5E-4641-9AC3-51D356ED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489-156C-4CA2-8C95-E7573BE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A68FF-C49B-43D9-AC57-65D7863F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EFE00-EFBF-4E9A-B9A7-342C6F43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D286B-55E0-4304-BC34-7C8A1D7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525F9-63A7-4D13-89E7-8500ABF6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8F966-2773-493E-81F8-6E2520F4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00CB4-0B6D-43B9-96DB-69CD7DA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6147A-E066-45ED-9A8E-67C1954C98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2DB64-876F-4AE1-86F3-7B237D95E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59290-4BDC-459F-94BA-1387B9ED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B0CA5-9371-4CE5-8985-B14BF28F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844-9D48-4C7E-9D0C-08A72A5B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2051E-B45F-4E0F-9FAF-35A250CA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B921A-7B92-4238-B1DE-16117B9B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EEDEA-8E16-451C-8DDD-F217BBFA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F01CC-7582-4BA4-88BD-58F03AD6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4764D-01CA-43B3-8AFD-36D87D7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6857E-48F3-4AEA-8CEC-C50390C0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0B1AD-1738-4395-9565-D82DFA76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42F68-1698-47B2-9335-F9CD52B9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74449-DA3F-48B1-992E-D84A40622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A4373-E425-4D00-B6B6-A66AAB84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938-421F-42B6-8E41-C976E7C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6B3CF9-FB4F-4839-B6AF-65CAA06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E18299-8D4B-4DF1-946F-3A472EA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33580-8CD4-4495-9F5C-92531163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1B83D-646D-47A0-905E-2D129EDF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D5DEB-B651-4A88-96E0-3BE4CD4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61B89-BD81-4FE6-9AC8-A1EDF20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41562-6E12-4E10-B7B1-5D05907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9E3D1E-A2E3-490B-9618-1DFEA6C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66D677-F002-414C-8F0E-6318FA3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484AEE-21A3-4997-8CCC-3AE27DBF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1F6-54F8-42BF-A9B6-5AD3D82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A776E-CCE8-4FFF-BCCC-F90F13A5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317EB-A2D2-4198-BA89-62F72F48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9414A-B7C9-4447-A097-8381667D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3184B-36DD-4467-8DB2-E16462D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EFD1F-19D6-45A9-A762-D729D35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AA776-532A-47D0-8EC6-D3E3B93A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36F88-A232-4B59-AB86-9467D555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2635E-5A31-48F0-8548-783A5D9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1E0E7-2653-4002-99D7-C061E33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50383-3330-4BFD-898B-B9F02CE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DA1-265C-458A-B81A-17BEC9A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68E46-5974-41D5-AC6E-DAE6854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7B9375-E668-4B15-AE77-117C51F4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BC1B36-BE0F-4806-B651-8073404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0D522-AC56-4D6E-B91A-260F8E4F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8B184-2932-4734-BF2F-460A5409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C77E3B-A17B-497E-91D5-A76D16F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DAB578-32F4-402B-993F-C5B2A91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FE2283-E5B0-45D8-B1ED-719AF1B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92E8B6-0B28-486E-9D33-709D42D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7421B-5EFB-4808-A87D-AB7EC72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4C5-AE8A-4FEE-9D31-2AC5682A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347D27-09FD-4A1B-B8AF-CAB5789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EE62F9-8BFF-4AF2-B18B-C799C92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21B1F9-DC74-4EB3-927C-F4B7A159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BE9BAD-D5C8-46B5-ADDD-C1CB5FF3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ED602-B376-49D8-9E8C-3D209425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E87F75-9EA1-4DA5-BA95-ABE683EE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22EF96-DF3A-437E-A653-F858844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EDA402-6F77-4A28-B535-74F2F7FA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AF2DCB-36C0-497A-B07F-14C24F92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2FFB0F-E9B7-4F4D-86FF-514A166E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816-0EEC-45C5-832B-1B16BD3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EB73D-1215-40A7-B27C-BE62F61F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3ABACD-6E2B-4F35-8BCE-26BF250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CA3D4-473A-41CB-9B98-76B4B65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8C7C1-8931-4DC0-A0AF-813E34B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961118-6251-4831-9E64-2FC332D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A6E68-A72D-46BA-A4DF-DD8C4CA0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F8CB0D-3A78-4380-8559-EC2A96FF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92BBC-3BD5-454E-A189-807D9373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3F758-4AE1-4782-9E27-DA130EC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C5F31-EA07-415D-A368-0CC8CA2B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697-9DC4-4EA5-BE54-C305FFD424EE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28F-E627-4E17-9EC0-B1B3582984F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D22-6921-409F-91F6-9F0E42E7C47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11D-A999-424A-8C7B-F48E37916F9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200B-5E81-4E53-8EF5-D8E6BDE95CF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A689-DC37-4541-B2E6-1F1984019D3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F09-5604-4128-A856-B96E9CBE83C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FDA6-8CD5-4C8D-9DA1-409DC78B08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8C7C-271A-4AAF-AE6B-D496ED8A6D7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F9E5-03A3-4DCA-840B-8B0F509776F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B34-0715-4302-B6C5-845B22A2AB9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416-C1BC-4160-B664-9A408C4B75E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23D4-76FC-45E0-A064-BEC16C2102C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D23-E429-4165-B8FF-0058F9EAFA4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209-E186-4C94-A0EF-71C0DB117155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4D9-7F57-49D0-AE73-5A09B86234E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A07-8292-40B5-88FA-7CA86B959B6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1EB-02DE-4F08-BE57-704007EC0C3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D2D-A4F7-4163-8AC9-483B2A08336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0277-077B-44AD-934C-2DEF1B6CDB6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EC1-CA27-4AC4-B4BA-DD67F870FAF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FFD-F064-4D2E-8619-F891B28920D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88B-5282-4293-B57C-A7EA931F9125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514-F55F-404E-BDF3-1AB4A8AA7BF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116D-5BE3-4F81-8A5B-8BF5BA8C48C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EA8F-FE82-4678-A51C-11080398E7F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F133-9CB9-46B8-ABCB-F288EF4E2F5B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B03-F3F7-47B7-AAD3-73432248FEC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EBE-D14E-4EA0-8F04-7C7204B5B69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054-8CEA-4152-983E-5D2AA8F0B32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Imagen 4" descr="cid:image002.png@01CFCC37.FA37C420"/>
          <p:cNvPicPr/>
          <p:nvPr/>
        </p:nvPicPr>
        <p:blipFill>
          <a:blip r:embed="rId2"/>
          <a:stretch/>
        </p:blipFill>
        <p:spPr>
          <a:xfrm>
            <a:off x="682560" y="5522760"/>
            <a:ext cx="3673440" cy="8445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616" name="Rectángulo 1"/>
          <p:cNvSpPr/>
          <p:nvPr/>
        </p:nvSpPr>
        <p:spPr>
          <a:xfrm>
            <a:off x="390600" y="549360"/>
            <a:ext cx="8351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sobre mejores prácticas de Educación Fiscal en la Unión Europea y América Lat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México D.F., del 21 al 24 de octubre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6804000" y="5522760"/>
            <a:ext cx="16765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43E6-04B3-4765-83B9-E88469AC6B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ángulo 3"/>
          <p:cNvSpPr/>
          <p:nvPr/>
        </p:nvSpPr>
        <p:spPr>
          <a:xfrm>
            <a:off x="585720" y="928800"/>
            <a:ext cx="845028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NA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3: Tipos de Docume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Aspectos Generales de la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undamentos, Sistema de Mercado y Gratuito, operación y flu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Factibilidad, Inscripción, Configuración del PC en Sistema Grat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boratorio: Emisión Práctica de Documentos, IECV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DE66-00D8-4831-A8F1-A04D3C31D63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4 CuadroTexto"/>
          <p:cNvSpPr/>
          <p:nvPr/>
        </p:nvSpPr>
        <p:spPr>
          <a:xfrm>
            <a:off x="1073160" y="116064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2060"/>
                </a:solidFill>
                <a:latin typeface="Arial"/>
              </a:rPr>
              <a:t>Hitos relevantes del P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Imagen 1" descr=""/>
          <p:cNvPicPr/>
          <p:nvPr/>
        </p:nvPicPr>
        <p:blipFill>
          <a:blip r:embed="rId1"/>
          <a:stretch/>
        </p:blipFill>
        <p:spPr>
          <a:xfrm>
            <a:off x="6886440" y="3882960"/>
            <a:ext cx="2232000" cy="297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3" name="Imagen 2" descr=""/>
          <p:cNvPicPr/>
          <p:nvPr/>
        </p:nvPicPr>
        <p:blipFill>
          <a:blip r:embed="rId2"/>
          <a:stretch/>
        </p:blipFill>
        <p:spPr>
          <a:xfrm>
            <a:off x="4716360" y="5232240"/>
            <a:ext cx="2170080" cy="1625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4" name="Imagen 3" descr=""/>
          <p:cNvPicPr/>
          <p:nvPr/>
        </p:nvPicPr>
        <p:blipFill>
          <a:blip r:embed="rId3"/>
          <a:stretch/>
        </p:blipFill>
        <p:spPr>
          <a:xfrm>
            <a:off x="5702400" y="1268280"/>
            <a:ext cx="3441600" cy="2581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665" name=""/>
          <p:cNvGraphicFramePr/>
          <p:nvPr/>
        </p:nvGraphicFramePr>
        <p:xfrm>
          <a:off x="108000" y="1052640"/>
          <a:ext cx="5359320" cy="1682640"/>
        </p:xfrm>
        <a:graphic>
          <a:graphicData uri="http://schemas.openxmlformats.org/drawingml/2006/table">
            <a:tbl>
              <a:tblPr/>
              <a:tblGrid>
                <a:gridCol w="3168720"/>
                <a:gridCol w="1261800"/>
                <a:gridCol w="928800"/>
              </a:tblGrid>
              <a:tr h="3078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Resumen NAF AI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E-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s Capacitados Pres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8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en el S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es Capaci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108000" y="2924280"/>
          <a:ext cx="5359320" cy="1657080"/>
        </p:xfrm>
        <a:graphic>
          <a:graphicData uri="http://schemas.openxmlformats.org/drawingml/2006/table">
            <a:tbl>
              <a:tblPr/>
              <a:tblGrid>
                <a:gridCol w="3465360"/>
                <a:gridCol w="1893960"/>
              </a:tblGrid>
              <a:tr h="4237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y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tend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scr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ado al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1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 y sáb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sp>
        <p:nvSpPr>
          <p:cNvPr id="667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826920" y="4797360"/>
          <a:ext cx="4535640" cy="1606680"/>
        </p:xfrm>
        <a:graphic>
          <a:graphicData uri="http://schemas.openxmlformats.org/drawingml/2006/table">
            <a:tbl>
              <a:tblPr/>
              <a:tblGrid>
                <a:gridCol w="4535640"/>
              </a:tblGrid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Mensual (I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ación, Inicio de actividades y escoger Actividad comer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5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ción Electró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ino de g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7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872F-E557-4B6A-81B8-598EF988C1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pic>
        <p:nvPicPr>
          <p:cNvPr id="622" name="Imagen 11" descr=""/>
          <p:cNvPicPr/>
          <p:nvPr/>
        </p:nvPicPr>
        <p:blipFill>
          <a:blip r:embed="rId3"/>
          <a:stretch/>
        </p:blipFill>
        <p:spPr>
          <a:xfrm>
            <a:off x="7380360" y="3807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471600" y="1054080"/>
            <a:ext cx="8001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d2d8a"/>
                </a:solidFill>
                <a:latin typeface="Arial"/>
                <a:ea typeface="Calibri"/>
              </a:rPr>
              <a:t>Panel III: Educación Fiscal en el ámbito Universitario- Experiencias de responsab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Los Núcleos de Apoyo Contable y Fiscal (NAF) a Contribuyentes MIPYME en C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Imagen 1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2C5-70F8-478E-9631-008C0647E20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7" name="8 CuadroTexto"/>
          <p:cNvSpPr/>
          <p:nvPr/>
        </p:nvSpPr>
        <p:spPr>
          <a:xfrm>
            <a:off x="2343240" y="10638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7"/>
          <p:cNvSpPr/>
          <p:nvPr/>
        </p:nvSpPr>
        <p:spPr>
          <a:xfrm>
            <a:off x="692280" y="1598760"/>
            <a:ext cx="80010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Dentro de la misión del S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        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“…</a:t>
            </a: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Proveer a los contribuyentes de servicios de excelencia,    potenciando la generación de nuevos productos y servicios con el objetivo de facilitar el cumplimiento tributario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Reforma Tributa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54061"/>
                </a:solidFill>
                <a:latin typeface="Tahoma"/>
                <a:ea typeface="Tahoma"/>
              </a:rPr>
              <a:t>Entrega como rol la asistencia a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n 8" descr=""/>
          <p:cNvPicPr/>
          <p:nvPr/>
        </p:nvPicPr>
        <p:blipFill>
          <a:blip r:embed="rId3"/>
          <a:stretch/>
        </p:blipFill>
        <p:spPr>
          <a:xfrm>
            <a:off x="6195960" y="5621400"/>
            <a:ext cx="1676520" cy="85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269-F589-4C87-BEBA-B44E7E66EE0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33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34" name="2 Rectángulo"/>
          <p:cNvSpPr/>
          <p:nvPr/>
        </p:nvSpPr>
        <p:spPr>
          <a:xfrm>
            <a:off x="858960" y="1557360"/>
            <a:ext cx="725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SII busca reducir los costos de cumplimiento tributario de los contribuyentes y facilitar los trámites durante todo el Ciclo de Vida Tributaria del Contribuy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"/>
          <p:cNvPicPr/>
          <p:nvPr/>
        </p:nvPicPr>
        <p:blipFill>
          <a:blip r:embed="rId3"/>
          <a:stretch/>
        </p:blipFill>
        <p:spPr>
          <a:xfrm>
            <a:off x="266760" y="3041640"/>
            <a:ext cx="8609040" cy="1657440"/>
          </a:xfrm>
          <a:prstGeom prst="rect">
            <a:avLst/>
          </a:prstGeom>
          <a:ln w="0">
            <a:noFill/>
          </a:ln>
        </p:spPr>
      </p:pic>
      <p:pic>
        <p:nvPicPr>
          <p:cNvPr id="636" name="Imagen 9" descr=""/>
          <p:cNvPicPr/>
          <p:nvPr/>
        </p:nvPicPr>
        <p:blipFill>
          <a:blip r:embed="rId4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37" name="8 CuadroTexto"/>
          <p:cNvSpPr/>
          <p:nvPr/>
        </p:nvSpPr>
        <p:spPr>
          <a:xfrm>
            <a:off x="2146320" y="82224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ducación Fiscal – Contexto 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67F-B22F-4A5D-9099-9BC4006E8B6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pic>
        <p:nvPicPr>
          <p:cNvPr id="640" name="1 Imagen" descr=""/>
          <p:cNvPicPr/>
          <p:nvPr/>
        </p:nvPicPr>
        <p:blipFill>
          <a:blip r:embed="rId2"/>
          <a:stretch/>
        </p:blipFill>
        <p:spPr>
          <a:xfrm>
            <a:off x="3568680" y="558972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41" name="2 Rectángulo"/>
          <p:cNvSpPr/>
          <p:nvPr/>
        </p:nvSpPr>
        <p:spPr>
          <a:xfrm>
            <a:off x="822240" y="1557360"/>
            <a:ext cx="72500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8c2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tender y dar asistencia técnica a pequeños contribuyentes para poder conocer sobre aspectos generales del sistema gratuito de factura electrónica del SII, completar sus obligaciones, trámites, actuaciones y pago de impuestos ante el fisco chile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54061"/>
                </a:solidFill>
                <a:latin typeface="Tahoma"/>
                <a:ea typeface="Tahoma"/>
              </a:rPr>
              <a:t>El NAF atenderá a pequeños contribuyentes y personas de escasos recursos que no puedan pagar una atención profesional de maner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Imagen 9" descr=""/>
          <p:cNvPicPr/>
          <p:nvPr/>
        </p:nvPicPr>
        <p:blipFill>
          <a:blip r:embed="rId3"/>
          <a:stretch/>
        </p:blipFill>
        <p:spPr>
          <a:xfrm>
            <a:off x="6156360" y="5637240"/>
            <a:ext cx="2179440" cy="976320"/>
          </a:xfrm>
          <a:prstGeom prst="rect">
            <a:avLst/>
          </a:prstGeom>
          <a:ln w="0">
            <a:noFill/>
          </a:ln>
        </p:spPr>
      </p:pic>
      <p:sp>
        <p:nvSpPr>
          <p:cNvPr id="643" name="8 CuadroTexto"/>
          <p:cNvSpPr/>
          <p:nvPr/>
        </p:nvSpPr>
        <p:spPr>
          <a:xfrm>
            <a:off x="2902320" y="8222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NAF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933-2A4E-4BA4-97F0-FCBE047CFB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Diagrama 2" descr=""/>
          <p:cNvPicPr/>
          <p:nvPr/>
        </p:nvPicPr>
        <p:blipFill>
          <a:blip r:embed="rId1"/>
          <a:stretch/>
        </p:blipFill>
        <p:spPr>
          <a:xfrm>
            <a:off x="268200" y="1195560"/>
            <a:ext cx="8094600" cy="4625640"/>
          </a:xfrm>
          <a:prstGeom prst="rect">
            <a:avLst/>
          </a:prstGeom>
          <a:ln w="0">
            <a:noFill/>
          </a:ln>
        </p:spPr>
      </p:pic>
      <p:sp>
        <p:nvSpPr>
          <p:cNvPr id="646" name="Rectángulo 5"/>
          <p:cNvSpPr/>
          <p:nvPr/>
        </p:nvSpPr>
        <p:spPr>
          <a:xfrm>
            <a:off x="32400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f0"/>
                </a:solidFill>
                <a:latin typeface="Arial"/>
              </a:rPr>
              <a:t>Proceso de puesta en marcha NA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ángulo 1"/>
          <p:cNvSpPr/>
          <p:nvPr/>
        </p:nvSpPr>
        <p:spPr>
          <a:xfrm>
            <a:off x="2780280" y="7351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50"/>
                </a:solidFill>
                <a:latin typeface="Arial"/>
              </a:rPr>
              <a:t>El NAF en C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85D8-D3AA-4FE3-AE13-ECDB55B811B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ángulo 3"/>
          <p:cNvSpPr/>
          <p:nvPr/>
        </p:nvSpPr>
        <p:spPr>
          <a:xfrm>
            <a:off x="468360" y="760320"/>
            <a:ext cx="844848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ESTRATEGIA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lianza Educativa con Instituto AIEP- de la Universidad Andrés B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Generación de “Convenio de cooperación en Educación Fis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Adaptación y Programación del NAF-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Infraestructura (Universidad Andrés Bello – AIEP): sala acondicionada para atención de público (4 equipos P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enios externos: emprendedores Municipalidad de Santiago, CONUPIA. Se siguen acciones con Fosis, Sercotec, ProPYME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nvocatoria de alumnos carrera de Contador Auditor, realización de E-Learning y elección de los mejores alum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apacitación Presencial en el SII (630 alum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Piloto (4 meses): Inauguración, evaluación y seguimiento, estadísticas, citación de contribuyentes, seguimiento de respuestas, supervisión de profe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Imagen 1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08440" cy="59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1C7A-11E9-458B-A43E-A35F00AD0B9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ángulo 1"/>
          <p:cNvSpPr/>
          <p:nvPr/>
        </p:nvSpPr>
        <p:spPr>
          <a:xfrm>
            <a:off x="458640" y="1700280"/>
            <a:ext cx="871236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PACITACIÓN E-LEARNING, 3 UN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NIDAD 1: “</a:t>
            </a: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Estado, Tributación y Ciudadanía”. Conocer y formarse una opinión crítica sobre los conceptos de Estado y Tributación, y cómo estos nos ayudan a desarrollar una sociedad más ordenada y justa para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2:  "La Administración Pública Y tu Profesión", cuyo objetivo es conocer las principales Funciones de la Administrac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UNIDAD 3:  "Facturación Electrónica" cuyo objetivo es reconocer los actores y procesos que intervienen en la nueva Ley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Imagen 1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2908440" cy="59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212-4511-4C11-BDBA-FF6E966E80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ángulo 3"/>
          <p:cNvSpPr/>
          <p:nvPr/>
        </p:nvSpPr>
        <p:spPr>
          <a:xfrm>
            <a:off x="585720" y="928800"/>
            <a:ext cx="84502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grama CAPACITACIÓN PRESENCIAL NAF, 3 módulos, mejores alumnos del E Learning (46 alumn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Módulo 1: La Educación Fiscal y tu prof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iudadanía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¿Qué es la educación fis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os tres ejes que fundamentan la educación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Rol social del impu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La ética profesional y tu compromis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Módulo 2: Factur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Nueva Ley 20.727 de 2014 (Factura Electrónica Univer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avegación y ayuda para la facturación electrónica en el sitio Web del S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nformación de ayuda y asiste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Preguntas Frecuentes, Contáctenos, Guías de Ayuda, Mesa de Ayuda y Videos Educativos sobre 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Imagen 1" descr=""/>
          <p:cNvPicPr/>
          <p:nvPr/>
        </p:nvPicPr>
        <p:blipFill>
          <a:blip r:embed="rId1"/>
          <a:stretch/>
        </p:blipFill>
        <p:spPr>
          <a:xfrm>
            <a:off x="3139920" y="73080"/>
            <a:ext cx="286416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Ricardo Antonio Pizarro Alfaro</cp:lastModifiedBy>
  <cp:lastPrinted>2013-05-15T01:14:53Z</cp:lastPrinted>
  <dcterms:modified xsi:type="dcterms:W3CDTF">2014-10-22T12:39:48Z</dcterms:modified>
  <cp:revision>560</cp:revision>
  <dc:subject/>
  <dc:title>Cuenta Pública 2010 SII</dc:title>
</cp:coreProperties>
</file>