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dt" idx="16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1A1D6-3084-4AAE-A19F-B67DFFAE94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9D210-F946-470E-926D-A8A74FDA9D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4EA54-4457-4125-A319-43C9B3340B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EA520-0922-4461-8F5B-B8A32D34CD1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BC420-D3E9-433E-8CFB-65F9734929C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187B4-D9AE-4F2E-A054-3DCC587078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5C8E6-9594-4336-A767-BA104AE823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C01DA-7C7C-4E5B-98D3-0F95EE3EB2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82BC2-C980-4E49-A609-094A739509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68CE4-FA2C-44FF-B1E3-A187812EADE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3C6D5-5421-41BA-BE2E-C382F9789D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35F51-6AE3-4E67-9061-F4E716A0FF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CBB02-6E09-4D56-BCC6-6796AEA398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398-CA9E-44B1-8EF3-78AD1C44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31F-EFA3-4712-ADE6-DCF5A31D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298-0B3B-4EFE-BF4C-0E5D5956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5E2-EB40-4589-AE07-556FB80D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B433-6FF0-4482-ADEE-B762E6C5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16C1-1218-479A-886F-CD6A0D31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2C77-1B45-4078-BAEB-76178731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8302-275A-42EA-895A-DA56EB39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7C2F-A008-4BA4-AD2A-7904CFEC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0AD4-60D2-40B6-8CD3-2ACB2C43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F242-F184-47FD-BBCF-2412C6BD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776-F9C0-4BD0-A185-62DF533D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2C67-4641-4B9E-95E5-FB96658D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123F-C750-4481-9885-2500328B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41BF-AE47-40E5-97C5-31A26724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E57D-E3AA-4935-8A03-510EFAAF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26FE-9476-4A35-8615-C513223D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B80D4-0ACD-4430-9284-3EB4F7FE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585CA-2A37-457C-AC5A-7F69E2C8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E135-29B8-400C-8941-B12FE194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67872-964B-4955-8653-36D5D419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7372-7AEB-430E-82F2-DC5E491E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D27-2A6E-424C-85E9-81FF0987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9208-8A34-4294-8C37-C2A0883E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13A33-D453-4BCB-9ACA-3E753A6B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8651-0EC7-4900-B972-8ECF2B89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689E9-E1B3-454E-93D8-BB589089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AC2BF-ADC9-4236-9DBE-CC441DC9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7246D-0C64-40A1-B819-22FC1E55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70931-A80E-4AA0-9F23-B8B2F996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2E3BC-EDBA-432C-82CB-D1C784DE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1EEAC-2866-4B4A-AA3E-DBDBB027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A92BD-744D-4C77-8C22-1067B932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663-7014-428C-B707-F76BCFBD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F774E-107A-44B5-93E1-F5C83214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C4C83-65C1-4A93-B03D-2A265D76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18462-3F7A-493F-BBDE-62DBD955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67EA9-0621-4A49-8204-1F4CD1CA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700FE-F4A5-47CF-AFBB-C8FB831D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3E764-EF65-4E3E-ADE8-2C5F052B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6BE8E-A95D-494D-82C5-CD4F9A01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2ED2E-00A4-4FEE-AAF5-66709357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F0603-A22E-4491-B6E2-3FD9DFBB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1353B-C353-4A4C-80DA-8F54EB12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896-6132-49F4-AC7F-C572753D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BB8CC-0576-4787-BAE9-A8404CA4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6C054-DFE7-4576-8973-49046A75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2618D-6A0E-43F7-8715-77544487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4F722-720B-4DF0-87E1-FA9C3CBB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DACA4-5278-4656-8CB6-0CF33853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EAF9E-D027-460E-8524-83FFE0B6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886AC-E608-4679-861F-CBB01C8A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1497B-00C2-43FF-8596-E5B2B8CB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6B9C5-88E2-4245-AA0B-52547ABB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F2967-770B-4C15-828F-0894AE65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B7E-B5CA-4CD8-85DA-0F48234D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75EE3-1432-40E7-BF5B-21C11EE8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309-9F21-4782-8EDD-6E6F6960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1D5-78FA-481C-88C3-6B51C38C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4AB-F802-4EF3-9640-12968FC0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1" name="Freeform 6"/>
            <p:cNvSpPr/>
            <p:nvPr/>
          </p:nvSpPr>
          <p:spPr>
            <a:xfrm>
              <a:off x="-9360" y="4424400"/>
              <a:ext cx="504720" cy="31449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959080" y="6659280"/>
            <a:ext cx="754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1400" y="6659280"/>
            <a:ext cx="50976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103880" y="6659280"/>
            <a:ext cx="5648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32D0FF-16A1-47E3-A022-7050026093A8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9360" y="-9360"/>
              <a:ext cx="952200" cy="628200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959080" y="6659280"/>
            <a:ext cx="754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1400" y="6659280"/>
            <a:ext cx="50976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03880" y="6659280"/>
            <a:ext cx="5648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2CD426-1AAB-4C03-AB93-2E828FBBEA29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105" name="Freeform 6"/>
            <p:cNvSpPr/>
            <p:nvPr/>
          </p:nvSpPr>
          <p:spPr>
            <a:xfrm>
              <a:off x="-9360" y="4424400"/>
              <a:ext cx="504720" cy="31449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531720" y="871560"/>
            <a:ext cx="5050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7439040" y="3181320"/>
            <a:ext cx="5032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959080" y="6659280"/>
            <a:ext cx="754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1400" y="6659280"/>
            <a:ext cx="50976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7103880" y="6659280"/>
            <a:ext cx="5648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1B626A-D1E3-4D6F-A53C-529C0E57294A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159" name="Freeform 6"/>
            <p:cNvSpPr/>
            <p:nvPr/>
          </p:nvSpPr>
          <p:spPr>
            <a:xfrm>
              <a:off x="-9360" y="4424400"/>
              <a:ext cx="504720" cy="31449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31720" y="871560"/>
            <a:ext cx="5050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7439040" y="3181320"/>
            <a:ext cx="5032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959080" y="6659280"/>
            <a:ext cx="754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1400" y="6659280"/>
            <a:ext cx="50976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7103880" y="6659280"/>
            <a:ext cx="5648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9ED24C-B78E-443C-BA39-0360B83F6E39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213" name="Freeform 6"/>
            <p:cNvSpPr/>
            <p:nvPr/>
          </p:nvSpPr>
          <p:spPr>
            <a:xfrm>
              <a:off x="-9360" y="4424400"/>
              <a:ext cx="504720" cy="31449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8D0B6A-F4BC-4004-AC64-C3EFE74E3339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360" y="250920"/>
            <a:ext cx="9429840" cy="1944720"/>
          </a:xfrm>
          <a:prstGeom prst="rect">
            <a:avLst/>
          </a:prstGeom>
          <a:noFill/>
          <a:ln w="0">
            <a:noFill/>
          </a:ln>
        </p:spPr>
        <p:txBody>
          <a:bodyPr t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MÉXICO – EL SALVADOR EUROsociAL II – FIIAPP </a:t>
            </a:r>
            <a:br>
              <a:rPr sz="2000"/>
            </a:b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F</a:t>
            </a:r>
            <a:r>
              <a:rPr b="0" lang="es-ES_tradnl" sz="2000" spc="-1" strike="noStrike">
                <a:solidFill>
                  <a:srgbClr val="90c226"/>
                </a:solidFill>
                <a:latin typeface="Trebuchet MS"/>
              </a:rPr>
              <a:t>ortalecimiento de los Programas de Educación</a:t>
            </a: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 Fiscal</a:t>
            </a:r>
            <a:br>
              <a:rPr sz="2000"/>
            </a:b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Taller internacional sobre mejores</a:t>
            </a:r>
            <a:r>
              <a:rPr b="1" lang="pt-BR" sz="2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pt-BR" sz="2400" spc="-1" strike="noStrike" u="sng">
                <a:solidFill>
                  <a:srgbClr val="90c226"/>
                </a:solidFill>
                <a:uFillTx/>
                <a:latin typeface="Trebuchet MS"/>
              </a:rPr>
              <a:t>prácticas</a:t>
            </a: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 de Educación Fiscal e</a:t>
            </a:r>
            <a:r>
              <a:rPr b="0" lang="pt-BR" sz="2000" spc="-1" strike="noStrike">
                <a:solidFill>
                  <a:srgbClr val="eaf6d1"/>
                </a:solidFill>
                <a:latin typeface="Trebuchet MS"/>
              </a:rPr>
              <a:t>n la Unión </a:t>
            </a: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Europea y América Latina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-360" y="2340000"/>
            <a:ext cx="907092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Práctica de Educación Fiscal en América Latin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Brasil, Brasília - D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6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'La ciudad constitucional: Capital de la República'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Prof. Marcelo Arno Nerling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Universidade de São Paulo - US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mnerling@usp.b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21-24/10/201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México – D.F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31640" y="395280"/>
            <a:ext cx="9071280" cy="1171440"/>
          </a:xfrm>
          <a:prstGeom prst="rect">
            <a:avLst/>
          </a:prstGeom>
          <a:noFill/>
          <a:ln w="0">
            <a:noFill/>
          </a:ln>
        </p:spPr>
        <p:txBody>
          <a:bodyPr tIns="5544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Un dia de programación</a:t>
            </a:r>
            <a:br>
              <a:rPr sz="2200"/>
            </a:b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La ciudad constitucional 2014</a:t>
            </a:r>
            <a:br>
              <a:rPr sz="2200"/>
            </a:b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Ejemplo II - 09/09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-36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marL="378000" indent="-378000"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09:20 – Auditório CGU - V Seminário USP-CGU – 'Archivos, control e prevención de la corrupción' – Secretario Ejecutivo Sr. Carlo Higin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0" algn="ctr">
              <a:lnSpc>
                <a:spcPct val="8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-378000"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09:40 - Observatório de despesa publica – Coordinador del Observatório Sr. Henrique Roch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0" algn="ctr">
              <a:lnSpc>
                <a:spcPct val="8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0:00 - El control interno e el papel de la CGU en el aperfeiçoamento de los programas governamentais –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0" algn="ctr"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-378000"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Director de planeamiento de la Secretaria Federal de Controle Interno da CGU: Ronald da Silva Balb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0" algn="ctr"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2124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90c226"/>
                </a:solidFill>
                <a:latin typeface="Trebuchet MS"/>
              </a:rPr>
              <a:t>Ejemplo Día II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-360" y="1332000"/>
            <a:ext cx="9070920" cy="5379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1h10 – Secretaria da Transparência e Prevenção da Corrupção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Diretor da Secretaria da Transparência e Prevenção da Corrupção (STPC) – Diretoria de Promoción de la Integridad, Acuerdos y Cooperación Internacional: Hamilton Fernando Cota Cruz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1h55 – Acceso a la información y archivos públicos – El archivo como condición de eficácia del derecho fundamental de acceso a la información - Analista de la CGU: Marcos Lindenmayer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1:30 – Pregunta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2:00 – Almuerzo Restaurante CG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pt-BR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-360" y="1042920"/>
            <a:ext cx="9070920" cy="56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5:00 – IV Seminário USP – UnB – El derecho de la calle y de las instituciones em uma ciudad constitucional – Professor, Ex-Rector de la Universidad de Brasília (UnB) – Dr. José Geraldo de Sousa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6:00 – VII Seminário USP – Ministério da Saú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6:00 - Cordenación de Enfermidades Cronicas no Transmisibles del Ministerio de la Salud - Sra. Taís Porto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6:15 Programa Academia da la Salud  - Departamiento de Lesiones y Enfermidad  no Transmisibles – Sra. Valdeth Santo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6:30 – La cógestión como un dispositivo para intersectorial – Sra. Denise Bueno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6:45 - El papel de lo sector salud en el enfrentamiento de la violência y de los accidentes  - Sra. Eneida Paiva Eneida Paiv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7:00 – Plan Juventud Viva  - Sra. Sabrina Faria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3900" spc="-1" strike="noStrike">
                <a:solidFill>
                  <a:srgbClr val="90c226"/>
                </a:solidFill>
                <a:latin typeface="Trebuchet MS"/>
              </a:rPr>
              <a:t>Muchas gracias!</a:t>
            </a:r>
            <a:br>
              <a:rPr sz="3900"/>
            </a:b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9" name="Espaço Reservado para Conteúdo 9" descr=""/>
          <p:cNvPicPr/>
          <p:nvPr/>
        </p:nvPicPr>
        <p:blipFill>
          <a:blip r:embed="rId1"/>
          <a:stretch/>
        </p:blipFill>
        <p:spPr>
          <a:xfrm>
            <a:off x="1800360" y="2340000"/>
            <a:ext cx="5703840" cy="4638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file:///C:/Users/Prof.%20Dr.%20Marcelo/Pictures/Cidade%20constitucional/Foto%20A%20cidade%20constitucional%20-%20Capital%20da%20Rep%C3%BAblica%20-%20RicardoMazucato-%202009.jpg"/>
          <p:cNvPicPr/>
          <p:nvPr/>
        </p:nvPicPr>
        <p:blipFill>
          <a:blip r:embed=""/>
          <a:stretch/>
        </p:blipFill>
        <p:spPr>
          <a:xfrm>
            <a:off x="2592360" y="1324080"/>
            <a:ext cx="612000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2920" y="290160"/>
            <a:ext cx="9070920" cy="1282680"/>
          </a:xfrm>
          <a:prstGeom prst="rect">
            <a:avLst/>
          </a:prstGeom>
          <a:noFill/>
          <a:ln w="0">
            <a:noFill/>
          </a:ln>
        </p:spPr>
        <p:txBody>
          <a:bodyPr tIns="5868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400" spc="-1" strike="noStrike">
                <a:solidFill>
                  <a:srgbClr val="90c226"/>
                </a:solidFill>
                <a:latin typeface="Trebuchet MS"/>
              </a:rPr>
              <a:t>'Ciudad constitucional' – Valores, memória institucional y gestión del conocimiento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-360" y="1373040"/>
            <a:ext cx="9070920" cy="578016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ctr">
            <a:noAutofit/>
          </a:bodyPr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'Cohesión social'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Hacer '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puente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' entre el Estado y la ciudadaní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s-ES_tradnl" sz="2000" spc="-1" strike="noStrike">
                <a:solidFill>
                  <a:srgbClr val="404040"/>
                </a:solidFill>
                <a:latin typeface="Trebuchet MS"/>
              </a:rPr>
              <a:t>Sociedad civil - </a:t>
            </a:r>
            <a:r>
              <a:rPr b="1" lang="es-ES_tradnl" sz="2000" spc="-1" strike="noStrike">
                <a:solidFill>
                  <a:srgbClr val="404040"/>
                </a:solidFill>
                <a:latin typeface="Trebuchet MS"/>
              </a:rPr>
              <a:t>universidad</a:t>
            </a:r>
            <a:r>
              <a:rPr b="0" lang="es-ES_tradnl" sz="2000" spc="-1" strike="noStrike">
                <a:solidFill>
                  <a:srgbClr val="404040"/>
                </a:solidFill>
                <a:latin typeface="Trebuchet MS"/>
              </a:rPr>
              <a:t> X Sociedad polític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s-ES_tradnl" sz="2000" spc="-1" strike="noStrike">
                <a:solidFill>
                  <a:srgbClr val="404040"/>
                </a:solidFill>
                <a:latin typeface="Trebuchet MS"/>
              </a:rPr>
              <a:t>Desarrollo de la personalidad, </a:t>
            </a:r>
            <a:r>
              <a:rPr b="1" lang="es-ES_tradnl" sz="2000" spc="-1" strike="noStrike">
                <a:solidFill>
                  <a:srgbClr val="404040"/>
                </a:solidFill>
                <a:latin typeface="Trebuchet MS"/>
              </a:rPr>
              <a:t>preparo </a:t>
            </a:r>
            <a:r>
              <a:rPr b="0" lang="es-ES_tradnl" sz="2000" spc="-1" strike="noStrike">
                <a:solidFill>
                  <a:srgbClr val="404040"/>
                </a:solidFill>
                <a:latin typeface="Trebuchet MS"/>
              </a:rPr>
              <a:t>de la </a:t>
            </a:r>
            <a:r>
              <a:rPr b="1" lang="es-ES_tradnl" sz="2000" spc="-1" strike="noStrike">
                <a:solidFill>
                  <a:srgbClr val="404040"/>
                </a:solidFill>
                <a:latin typeface="Trebuchet MS"/>
              </a:rPr>
              <a:t>ciudadanía</a:t>
            </a:r>
            <a:r>
              <a:rPr b="0" lang="es-ES_tradnl" sz="2000" spc="-1" strike="noStrike">
                <a:solidFill>
                  <a:srgbClr val="404040"/>
                </a:solidFill>
                <a:latin typeface="Trebuchet MS"/>
              </a:rPr>
              <a:t>, mundo del trabaj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Impulsar la iniciativa 'Ciudad Constitucional'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Pressupuesto por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programa;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Reformas institucionales y culturale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Informar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, para que todos conoscam;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educar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, para que todos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pratiquem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” (García, Lobo, 2010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5544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Ejes estricturantes de la 'ciudad constitucional' – Curso </a:t>
            </a: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de una </a:t>
            </a: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Licenciatura en Gestión de Políticas Públicas 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-360" y="1332000"/>
            <a:ext cx="907092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73800" bIns="0" anchor="ctr">
            <a:noAutofit/>
          </a:bodyPr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Uno que 'lee mucho y anda mucho, ve y sabe mucho' (Cervantes) de las 'ciudades invisibles', (Calvino) de las 'ciudades constitucinales' (Nerling), se tiene 'voluntad de Constitución'. (Hess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Extensión, Investigación (</a:t>
            </a:r>
            <a:r>
              <a:rPr b="1" i="1" lang="pt-BR" sz="2000" spc="-1" strike="noStrike">
                <a:solidFill>
                  <a:srgbClr val="404040"/>
                </a:solidFill>
                <a:latin typeface="Trebuchet MS"/>
              </a:rPr>
              <a:t>práxis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), Enseñanza – Autonomí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Cognición –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Actitud 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-Teoría y práxi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Andragogía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- Educación para la liberta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2007 – 2011 – Extensió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2009 – Investigació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2011-2014 – Docencia – Proyecto Político Pedagógico – Titulación – Licenciatura en GPP – Curso – 06 créditos – 60 h.a. + 20 h.t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5544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Metodología y formato</a:t>
            </a:r>
            <a:br>
              <a:rPr sz="2200"/>
            </a:b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La experiencia del Ciudad Constitucional en Brasil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-360" y="1528560"/>
            <a:ext cx="9070920" cy="546876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Puente entre la administracion fiscal y educaciona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Cooperación técnica - USP-ENAP-ESAF-RFB-EUROsociA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Viaje de estudio a la Capital de la República -Curso 06 C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(SP-BSB 1.200 Km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Ciudad Constitucional: Edital; Contenido (descripción de la asignatura); Programa; Metodología docente y cronograma (Semana de la patria)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Poderes, entes, entidades, instituciones; su cultura, el a</a:t>
            </a:r>
            <a:r>
              <a:rPr b="0" lang="es-ES_tradnl" sz="2200" spc="-1" strike="noStrike">
                <a:solidFill>
                  <a:srgbClr val="404040"/>
                </a:solidFill>
                <a:latin typeface="Trebuchet MS"/>
              </a:rPr>
              <a:t>uditorio, el sonido, la luz (economicidad)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s-ES_tradnl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0" lang="es-ES_tradnl" sz="2200" spc="-1" strike="noStrike" u="sng">
                <a:solidFill>
                  <a:srgbClr val="404040"/>
                </a:solidFill>
                <a:uFillTx/>
                <a:latin typeface="Trebuchet MS"/>
              </a:rPr>
              <a:t>Recursos humanos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s-ES_tradnl" sz="2200" spc="-1" strike="noStrike">
                <a:solidFill>
                  <a:srgbClr val="404040"/>
                </a:solidFill>
                <a:latin typeface="Trebuchet MS"/>
              </a:rPr>
              <a:t>- '</a:t>
            </a:r>
            <a:r>
              <a:rPr b="0" lang="es-ES_tradnl" sz="2200" spc="-1" strike="noStrike" u="sng">
                <a:solidFill>
                  <a:srgbClr val="404040"/>
                </a:solidFill>
                <a:uFillTx/>
                <a:latin typeface="Trebuchet MS"/>
              </a:rPr>
              <a:t>Programas</a:t>
            </a:r>
            <a:r>
              <a:rPr b="0" lang="es-ES_tradnl" sz="2200" spc="-1" strike="noStrike">
                <a:solidFill>
                  <a:srgbClr val="404040"/>
                </a:solidFill>
                <a:latin typeface="Trebuchet MS"/>
              </a:rPr>
              <a:t>' y 'Proyectos'; Planiamiento; Pressupuest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5544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Estrategias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1528560"/>
            <a:ext cx="9070920" cy="5468760"/>
          </a:xfrm>
          <a:prstGeom prst="rect">
            <a:avLst/>
          </a:prstGeom>
          <a:noFill/>
          <a:ln w="0">
            <a:noFill/>
          </a:ln>
        </p:spPr>
        <p:txBody>
          <a:bodyPr lIns="0" rIns="0" tIns="62280" bIns="0" anchor="ctr">
            <a:noAutofit/>
          </a:bodyPr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 u="sng">
                <a:solidFill>
                  <a:srgbClr val="404040"/>
                </a:solidFill>
                <a:uFillTx/>
                <a:latin typeface="Trebuchet MS"/>
              </a:rPr>
              <a:t>Salir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de las aulas tradicionales, fuera </a:t>
            </a:r>
            <a:r>
              <a:rPr b="0" lang="pt-BR" sz="2000" spc="-1" strike="noStrike" u="sng">
                <a:solidFill>
                  <a:srgbClr val="404040"/>
                </a:solidFill>
                <a:uFillTx/>
                <a:latin typeface="Trebuchet MS"/>
              </a:rPr>
              <a:t>de las paredes del clase/aula y las paredes de la universidad: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Enseñanza, libertad y autonomia: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Actitu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Gestión del conocimient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Puentes entre el Estado y la ciudadaní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Contenidos y sus metologías: Taller; Resolución de problemas;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Seminário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; Jornadas Virtuales (Investigación - EaD); Estudio de caso; Juri discutible;Workshop (ANASTASIOU, ALVES, 2009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El espacio público enseña..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Investigar en el local de trabayo los 'programas' de politicas públicas, informando para que todos conoscam y educando para que todos pratiquem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 u="sng">
                <a:solidFill>
                  <a:srgbClr val="404040"/>
                </a:solidFill>
                <a:uFillTx/>
                <a:latin typeface="Trebuchet MS"/>
              </a:rPr>
              <a:t>Programas y proyectos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que són desafíos nacionales y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prioridades – control del gasto y arrecaudación - PNE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tIns="2124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90c226"/>
                </a:solidFill>
                <a:latin typeface="Trebuchet MS"/>
              </a:rPr>
              <a:t>Ciudad constitucional en construcción...</a:t>
            </a:r>
            <a:br>
              <a:rPr sz="2400"/>
            </a:br>
            <a:r>
              <a:rPr b="0" lang="pt-BR" sz="2400" spc="-1" strike="noStrike">
                <a:solidFill>
                  <a:srgbClr val="90c226"/>
                </a:solidFill>
                <a:latin typeface="Trebuchet MS"/>
              </a:rPr>
              <a:t>2006-2014...VIII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2" name="Espaço Reservado para Conteúdo 1" descr=""/>
          <p:cNvPicPr/>
          <p:nvPr/>
        </p:nvPicPr>
        <p:blipFill>
          <a:blip r:embed="rId1"/>
          <a:stretch/>
        </p:blipFill>
        <p:spPr>
          <a:xfrm>
            <a:off x="503280" y="1768320"/>
            <a:ext cx="4425840" cy="43513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4" name="Picture 4" descr="file:///C:/Users/Prof.%20Dr.%20Marcelo/Pictures/Cidade%20constitucional/A%20cidade%20constitucional%202009%20-%20Foto%20RicardoMazucato.jpg"/>
          <p:cNvPicPr/>
          <p:nvPr/>
        </p:nvPicPr>
        <p:blipFill>
          <a:blip r:embed=""/>
          <a:stretch/>
        </p:blipFill>
        <p:spPr>
          <a:xfrm>
            <a:off x="720720" y="1800360"/>
            <a:ext cx="4140360" cy="4319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5219640" y="1800360"/>
            <a:ext cx="431964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36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1800" spc="-1" strike="noStrike">
                <a:solidFill>
                  <a:srgbClr val="90c226"/>
                </a:solidFill>
                <a:latin typeface="Trebuchet MS"/>
              </a:rPr>
              <a:t>El eje educación fiscal</a:t>
            </a:r>
            <a:br>
              <a:rPr sz="1800"/>
            </a:br>
            <a:r>
              <a:rPr b="1" lang="en-US" sz="1800" spc="-1" strike="noStrike">
                <a:solidFill>
                  <a:srgbClr val="90c226"/>
                </a:solidFill>
                <a:latin typeface="Trebuchet MS"/>
              </a:rPr>
              <a:t>La ciudad constitucional 2014</a:t>
            </a:r>
            <a:br>
              <a:rPr sz="1800"/>
            </a:br>
            <a:r>
              <a:rPr b="1" lang="en-US" sz="1800" spc="-1" strike="noStrike">
                <a:solidFill>
                  <a:srgbClr val="90c226"/>
                </a:solidFill>
                <a:latin typeface="Trebuchet MS"/>
              </a:rPr>
              <a:t>Ejemple I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90c226"/>
                </a:solidFill>
                <a:latin typeface="Trebuchet MS"/>
              </a:rPr>
              <a:t>08/09 e 11/09 – 12 horas extensión certificación ESAF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-360" y="1814040"/>
            <a:ext cx="907092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8h30 -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A cooperação técnica internacional 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- Educación Fiscal y cohesión social – ESAF; USP; Representante da Oficina EUROsociAL II; FIIAPP; El Salvador; Hondura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Representantes da Oficina EUROsociAL – FIIAPP (Fundación Internacional y Para Iberoamérica de Administración y Políticas Públicas ; Representante de Honduras – David Jerezano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Representante de El Salvador – Wendy Magari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Directora General da ESAF: Raimunda Ferreira de Almeid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Representante de la Unión Europa: Asier Luzuriag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Coordenador da disciplina </a:t>
            </a:r>
            <a:r>
              <a:rPr b="0" i="1" lang="pt-BR" sz="2000" spc="-1" strike="noStrike">
                <a:solidFill>
                  <a:srgbClr val="404040"/>
                </a:solidFill>
                <a:latin typeface="Trebuchet MS"/>
              </a:rPr>
              <a:t>A Cidade Constitucional e a Capital da República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: Prof. Dr. Marcelo Arno Nerling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Responsável pela disciplina </a:t>
            </a:r>
            <a:r>
              <a:rPr b="0" i="1" lang="pt-BR" sz="2000" spc="-1" strike="noStrike">
                <a:solidFill>
                  <a:srgbClr val="404040"/>
                </a:solidFill>
                <a:latin typeface="Trebuchet MS"/>
              </a:rPr>
              <a:t>A Cidade Constitucional e a Capital da República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: Prof. Dr. Douglas Roque Andrad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958680"/>
          </a:xfrm>
          <a:prstGeom prst="rect">
            <a:avLst/>
          </a:prstGeom>
          <a:noFill/>
          <a:ln w="0">
            <a:noFill/>
          </a:ln>
        </p:spPr>
        <p:txBody>
          <a:bodyPr tIns="2124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90c226"/>
                </a:solidFill>
                <a:latin typeface="Trebuchet MS"/>
              </a:rPr>
              <a:t>Eje educación fiscal y sostenibilidad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-360" y="1544400"/>
            <a:ext cx="9070920" cy="5707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0:00 – IV Seminário USP-ESAF – Sustentabilidade Ambiental  - Director de Cooperación Técnica de ESAF: Sr. Paulo Mauger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0:30 – Educación en la ESAF: Sra. Lucíola Maurício de Arrud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1:00 -  – EaD em El Sitio Virtual de la ESAF – Sr. Halisson Palmeira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1:15 Pregunta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1:45 - Almuerz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4:30 – ENA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9:30 – Programa Nacional de Educação Fiscal do Brasil – PNEF: Educación Fiscal y el preparo de la ciudadanía  - Gerente del Programa Nacional de Educación Fiscal do Brasil: Sr. Ronaldo Iune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20:25 – Administração tributária e educacional: exemplos de aproximação pela Receita Federal do Brasil – RFB  - Coordenador de Educación Fiscal y Memória Institucional de la RFB: Sr. Antonio Henrique Lindemberg Baltazar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Sexto dia –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3200" spc="-1" strike="noStrike">
                <a:solidFill>
                  <a:srgbClr val="90c226"/>
                </a:solidFill>
                <a:latin typeface="Trebuchet MS"/>
              </a:rPr>
              <a:t>Eje educación fiscal y sostenibilidad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1800" spc="-1" strike="noStrike">
                <a:solidFill>
                  <a:srgbClr val="404040"/>
                </a:solidFill>
                <a:latin typeface="Trebuchet MS"/>
              </a:rPr>
              <a:t>11/09/2014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Trebuchet MS"/>
              </a:rPr>
              <a:t>9:00 – VI Visita aos Vitrais da Sede, espelho da Federação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Trebuchet MS"/>
              </a:rPr>
              <a:t>10:35 – I Seminário USP – Caixa Federal – Programa Caixa Melhores Práticas em Gestão Local  - Consultor da Caixa - Sr. Gustavo Ribeiro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Trebuchet MS"/>
              </a:rPr>
              <a:t>11:30 – II Seminário USP – Banco Central – Educação Fiscal y financiera para la ciudadanía – Cordinador del Programa - Sr. Silvio Carlos Arduini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20:54:16Z</dcterms:created>
  <dc:creator>Marcelo Arno Nerling</dc:creator>
  <dc:description/>
  <dc:language>en-US</dc:language>
  <cp:lastModifiedBy>Bernardo Sanchez</cp:lastModifiedBy>
  <cp:lastPrinted>2014-10-19T21:01:41Z</cp:lastPrinted>
  <dcterms:modified xsi:type="dcterms:W3CDTF">2014-10-23T12:49:12Z</dcterms:modified>
  <cp:revision>33</cp:revision>
  <dc:subject/>
  <dc:title>MÉXICO – EL SALVADOR EUROsociAL II – FIIAPP  Fortalecimiento de los Programas de Educación Fiscal Taller internacional sobre mejores prácticas de Educación Fiscal en la Unión Europea y América Latina</dc:title>
</cp:coreProperties>
</file>