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16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98344-5E3F-45B3-BA4D-350A878CDC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88663-68D3-4905-ABC8-8325387B53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3638D-2306-40C7-B11A-F1FD90D5D5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FB2A1-FCE1-4BB2-BD49-EF246DBEF6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D568D-71FB-4001-9147-F76A219C35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E54FC-6F39-4196-9349-69C11CD9A1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97ED1-FF57-414B-9422-7F5602ADDA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5EAC8-82C1-4D46-A1CF-60711C6ECA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7C89A-5E4F-4D31-BAE0-9192C873FC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16A8E-873B-4115-BC85-8461325A46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0FDC1-3EDB-444A-8C37-C6A5CBB096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C1131-09A2-4D2D-8836-76D68407D5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EF1E0-B81D-422A-8EDC-0B4405C8BC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6FE-B81C-4ACE-A6CC-AE3FF4E8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6DC-CAD9-4384-9201-BB394979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E01-05BD-4E3B-BAFB-23507C06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570-94D4-4BEA-8751-8F2981CF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0CD3-C80C-460B-84C8-BC96442C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0C8F-15BF-429D-BA09-6103B4AF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6B4E-1805-48C4-9B38-318465CC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7863-8232-4DD0-B8A8-57C8D71F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B976-CF9A-4C7D-A857-2BBBAFAC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D41-D772-4324-8A55-D8DB4862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F12E-6241-45B7-98D8-D5C319F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121-84B6-45FB-8630-B103F729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0CA4-70C9-4FB3-AA15-91AE0E9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F294-BD57-46E8-AF0D-A6E95603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44DF-05C6-4ADD-8907-98360CA6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3907-FB2C-4E9F-B2CE-ABA25BED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FC08-5C62-4574-856B-5EBA6B0B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3D10-34F4-49CA-84BB-A7D52609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76308-41D9-4006-9333-BFA541CB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0593-B225-4E33-A74F-A26A33F8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F4BF-2676-43B8-9283-70454B87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898E-A223-4602-B801-E0308B5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CE1-00B5-4B1F-BBA4-3D3B6E4A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06B2-1663-447D-AA3F-485F7BD5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93CA-3EC4-41F9-A66E-1FFD04B5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7F06-195C-4B12-91F1-8CC4CC0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3EFD-0866-4143-807A-723EB5FA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F52D-30B2-4A86-8CDE-6DB64B41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E706-AE74-4781-8CE7-FAE70DCF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7A88-EEFE-4155-B188-FC191E6B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D80A-685E-4CD3-A9F5-09AEE052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035D-4AB8-4CF1-B79B-F3F3837B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F1FB0-BC51-4D6F-8716-D2DFC839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3E3-6BB2-4C18-9140-F5575E92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29A3-FF69-4073-836F-7780BC27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F6F2-5BDC-4F7B-B20A-B656C1C6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39C38-92CD-4C8B-BA72-5E39296E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0F6D-C541-4F50-9FA6-7875A0A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D291-CD65-410F-947C-7C18702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9E75-B8B9-473D-8FA4-6D1D2DE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C118-8E14-4748-ADD7-141E1AD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CC146-10DC-4C78-8433-9E5767BC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BD50-E91B-4FEF-8AC0-A60E0730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CF2D1-0499-4FF1-B918-E6E223DA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5C1-DB25-4FC3-A968-E7E8D65A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B08B4-C998-4AA2-B225-38FB1D34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6F780-0B49-4A2E-A0E2-C3065B15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7D3DA-BB79-436D-859F-C80B6363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8497-0619-4CD4-9D2D-2CE47A94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D2F57-71B2-4C57-92A1-29F33F78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CC1BE-F263-4637-9CBB-C4E8513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B2171-E956-4B5D-A8DD-4A2E6FC3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65C90-C340-45BE-B394-74C292C7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4806A-5C28-463C-AA32-D36120F4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6D1E3-7976-44C5-8665-041E2F39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1400" y="671400"/>
            <a:ext cx="69976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68A-8E2D-495A-B99E-4C8B97E8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3732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403240" y="238140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140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03732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403240" y="4616280"/>
            <a:ext cx="22528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F103-B11E-4674-8178-12795E28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49B-DA8E-4DD3-8732-F8CF786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7000" y="461628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263-9953-4E6D-85B7-1D269A1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7000" y="2381400"/>
            <a:ext cx="341460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4616280"/>
            <a:ext cx="6997680" cy="20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5D8-696D-45F3-9C95-7B23CDDE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9CD7CA-21F5-498D-B7EF-16057B674B6E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9360" y="-9360"/>
              <a:ext cx="952200" cy="628200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338BAC-D045-4804-B387-7562953D842D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05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A1A45B-37D9-422A-AE80-20B41D4BEA08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159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31720" y="871560"/>
            <a:ext cx="505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7439040" y="3181320"/>
            <a:ext cx="503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959080" y="6659280"/>
            <a:ext cx="7542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1400" y="6659280"/>
            <a:ext cx="50976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103880" y="6659280"/>
            <a:ext cx="5648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B80AB4-9FE4-4745-AD6B-C3913323AD9A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9360" y="-9360"/>
            <a:ext cx="10109160" cy="7578720"/>
            <a:chOff x="-9360" y="-9360"/>
            <a:chExt cx="10109160" cy="7578720"/>
          </a:xfrm>
        </p:grpSpPr>
        <p:sp>
          <p:nvSpPr>
            <p:cNvPr id="213" name="Freeform 6"/>
            <p:cNvSpPr/>
            <p:nvPr/>
          </p:nvSpPr>
          <p:spPr>
            <a:xfrm>
              <a:off x="-9360" y="4424400"/>
              <a:ext cx="504720" cy="31449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656320" y="4601880"/>
              <a:ext cx="4433760" cy="2957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764840" y="0"/>
              <a:ext cx="1342800" cy="7560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7598160" y="0"/>
              <a:ext cx="2501640" cy="75693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944120" y="-9360"/>
              <a:ext cx="2146320" cy="75693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7318440" y="4321440"/>
              <a:ext cx="2770200" cy="32385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728120" y="-9360"/>
              <a:ext cx="2361960" cy="75693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9145800" y="-9360"/>
              <a:ext cx="944280" cy="75693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904600" y="-9360"/>
              <a:ext cx="1176120" cy="75693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885520" y="5394600"/>
              <a:ext cx="1206360" cy="21654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9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817560" indent="-31428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258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76364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4" marL="2266920" indent="-25092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5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6" marL="2266920" indent="-250920">
              <a:spcBef>
                <a:spcPts val="1100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97D58F-B6D9-41B8-B2FA-751159354A2A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360" y="250920"/>
            <a:ext cx="9429840" cy="1944720"/>
          </a:xfrm>
          <a:prstGeom prst="rect">
            <a:avLst/>
          </a:prstGeom>
          <a:noFill/>
          <a:ln w="0">
            <a:noFill/>
          </a:ln>
        </p:spPr>
        <p:txBody>
          <a:bodyPr t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MÉXICO – EL SALVADOR EUROsociAL II – FIIAPP </a:t>
            </a:r>
            <a:br>
              <a:rPr sz="2000"/>
            </a:b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F</a:t>
            </a:r>
            <a:r>
              <a:rPr b="0" lang="es-ES_tradnl" sz="2000" spc="-1" strike="noStrike">
                <a:solidFill>
                  <a:srgbClr val="90c226"/>
                </a:solidFill>
                <a:latin typeface="Trebuchet MS"/>
              </a:rPr>
              <a:t>ortalecimiento de los Programas de Educación</a:t>
            </a: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 Fiscal</a:t>
            </a:r>
            <a:br>
              <a:rPr sz="2000"/>
            </a:b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Taller internacional sobre mejores</a:t>
            </a:r>
            <a:r>
              <a:rPr b="1" lang="pt-BR" sz="2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pt-BR" sz="2400" spc="-1" strike="noStrike" u="sng">
                <a:solidFill>
                  <a:srgbClr val="90c226"/>
                </a:solidFill>
                <a:uFillTx/>
                <a:latin typeface="Trebuchet MS"/>
              </a:rPr>
              <a:t>prácticas</a:t>
            </a: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 de Educación Fiscal e</a:t>
            </a:r>
            <a:r>
              <a:rPr b="0" lang="pt-BR" sz="2000" spc="-1" strike="noStrike">
                <a:solidFill>
                  <a:srgbClr val="eaf6d1"/>
                </a:solidFill>
                <a:latin typeface="Trebuchet MS"/>
              </a:rPr>
              <a:t>n la Unión </a:t>
            </a:r>
            <a:r>
              <a:rPr b="0" lang="pt-BR" sz="2000" spc="-1" strike="noStrike">
                <a:solidFill>
                  <a:srgbClr val="90c226"/>
                </a:solidFill>
                <a:latin typeface="Trebuchet MS"/>
              </a:rPr>
              <a:t>Europea y América Latina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-360" y="2340000"/>
            <a:ext cx="907092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Práctica de Educación Fiscal en América Latin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Brasil, Brasília - D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6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'La ciudad constitucional: Capital de la República'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Prof. Marcelo Arno Nerling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Universidade de São Paulo - US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mnerling@usp.b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1-24/10/201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México – D.F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6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31640" y="395280"/>
            <a:ext cx="9071280" cy="117144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Un dia de programación</a:t>
            </a:r>
            <a:br>
              <a:rPr sz="2200"/>
            </a:b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La ciudad constitucional 2014</a:t>
            </a:r>
            <a:br>
              <a:rPr sz="2200"/>
            </a:b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Ejemplo II - 09/09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-36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marL="378000" indent="-378000"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09:20 – Auditório CGU - V Seminário USP-CGU – 'Archivos, control e prevención de la corrupción' – Secretario Ejecutivo Sr. Carlo Higin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-378000"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09:40 - Observatório de despesa publica – Coordinador del Observatório Sr. Henrique Roch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0:00 - El control interno e el papel de la CGU en el aperfeiçoamento de los programas governamentais –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-378000"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Director de planeamiento de la Secretaria Federal de Controle Interno da CGU: Ronald da Silva Balb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78000" indent="0" algn="ctr"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2124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Ejemplo Día II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-360" y="1332000"/>
            <a:ext cx="9070920" cy="537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1h10 – Secretaria da Transparência e Prevenção da Corrupção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Diretor da Secretaria da Transparência e Prevenção da Corrupção (STPC) – Diretoria de Promoción de la Integridad, Acuerdos y Cooperación Internacional: Hamilton Fernando Cota Cruz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1h55 – Acceso a la información y archivos públicos – El archivo como condición de eficácia del derecho fundamental de acceso a la información - Analista de la CGU: Marcos Lindenmayer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1:30 – Pregunt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2:00 – Almuerzo Restaurante CG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pt-BR" sz="3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-360" y="1042920"/>
            <a:ext cx="9070920" cy="56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5:00 – IV Seminário USP – UnB – El derecho de la calle y de las instituciones em uma ciudad constitucional – Professor, Ex-Rector de la Universidad de Brasília (UnB) – Dr. José Geraldo de Sousa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00 – VII Seminário USP – Ministério da Saú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00 - Cordenación de Enfermidades Cronicas no Transmisibles del Ministerio de la Salud - Sra. Taís Port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15 Programa Academia da la Salud  - Departamiento de Lesiones y Enfermidad  no Transmisibles – Sra. Valdeth Santo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30 – La cógestión como un dispositivo para intersectorial – Sra. Denise Bueno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6:45 - El papel de lo sector salud en el enfrentamiento de la violência y de los accidentes  - Sra. Eneida Paiva Eneida Paiv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Trebuchet MS"/>
              </a:rPr>
              <a:t>17:00 – Plan Juventud Viva  - Sra. Sabrina Faria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3900" spc="-1" strike="noStrike">
                <a:solidFill>
                  <a:srgbClr val="90c226"/>
                </a:solidFill>
                <a:latin typeface="Trebuchet MS"/>
              </a:rPr>
              <a:t>Muchas gracias!</a:t>
            </a:r>
            <a:br>
              <a:rPr sz="3900"/>
            </a:br>
            <a:endParaRPr b="0" lang="en-US" sz="3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9" name="Espaço Reservado para Conteúdo 9" descr=""/>
          <p:cNvPicPr/>
          <p:nvPr/>
        </p:nvPicPr>
        <p:blipFill>
          <a:blip r:embed="rId1"/>
          <a:stretch/>
        </p:blipFill>
        <p:spPr>
          <a:xfrm>
            <a:off x="1800360" y="2340000"/>
            <a:ext cx="5703840" cy="4638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file:///C:/Users/Prof.%20Dr.%20Marcelo/Pictures/Cidade%20constitucional/Foto%20A%20cidade%20constitucional%20-%20Capital%20da%20Rep%C3%BAblica%20-%20RicardoMazucato-%202009.jpg"/>
          <p:cNvPicPr/>
          <p:nvPr/>
        </p:nvPicPr>
        <p:blipFill>
          <a:blip r:embed=""/>
          <a:stretch/>
        </p:blipFill>
        <p:spPr>
          <a:xfrm>
            <a:off x="2592360" y="1324080"/>
            <a:ext cx="612000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2920" y="290160"/>
            <a:ext cx="9070920" cy="1282680"/>
          </a:xfrm>
          <a:prstGeom prst="rect">
            <a:avLst/>
          </a:prstGeom>
          <a:noFill/>
          <a:ln w="0">
            <a:noFill/>
          </a:ln>
        </p:spPr>
        <p:txBody>
          <a:bodyPr tIns="5868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400" spc="-1" strike="noStrike">
                <a:solidFill>
                  <a:srgbClr val="90c226"/>
                </a:solidFill>
                <a:latin typeface="Trebuchet MS"/>
              </a:rPr>
              <a:t>'Ciudad constitucional' – Valores, memória institucional y gestión del conocimiento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-360" y="1373040"/>
            <a:ext cx="907092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ctr">
            <a:noAutofit/>
          </a:bodyPr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'Cohesión social'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Hacer '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uente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' entre el Estado y la ciudadaní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Sociedad civil - </a:t>
            </a:r>
            <a:r>
              <a:rPr b="1" lang="es-ES_tradnl" sz="2000" spc="-1" strike="noStrike">
                <a:solidFill>
                  <a:srgbClr val="404040"/>
                </a:solidFill>
                <a:latin typeface="Trebuchet MS"/>
              </a:rPr>
              <a:t>universidad</a:t>
            </a: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 X Sociedad polític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Desarrollo de la personalidad, </a:t>
            </a:r>
            <a:r>
              <a:rPr b="1" lang="es-ES_tradnl" sz="2000" spc="-1" strike="noStrike">
                <a:solidFill>
                  <a:srgbClr val="404040"/>
                </a:solidFill>
                <a:latin typeface="Trebuchet MS"/>
              </a:rPr>
              <a:t>preparo </a:t>
            </a: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de la </a:t>
            </a:r>
            <a:r>
              <a:rPr b="1" lang="es-ES_tradnl" sz="2000" spc="-1" strike="noStrike">
                <a:solidFill>
                  <a:srgbClr val="404040"/>
                </a:solidFill>
                <a:latin typeface="Trebuchet MS"/>
              </a:rPr>
              <a:t>ciudadanía</a:t>
            </a:r>
            <a:r>
              <a:rPr b="0" lang="es-ES_tradnl" sz="2000" spc="-1" strike="noStrike">
                <a:solidFill>
                  <a:srgbClr val="404040"/>
                </a:solidFill>
                <a:latin typeface="Trebuchet MS"/>
              </a:rPr>
              <a:t>, mundo del trabaj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Impulsar la iniciativa 'Ciudad Constitucional'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Pressupuesto por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rograma;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Reformas institucionales y cultural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Informar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, para que todos conoscam;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educar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, para que todos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ratiquem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” (García, Lobo, 2010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Ejes estricturantes de la 'ciudad constitucional' – Curso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de una </a:t>
            </a: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Licenciatura en Gestión de Políticas Públicas 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-360" y="1332000"/>
            <a:ext cx="907092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73800" bIns="0" anchor="ctr">
            <a:noAutofit/>
          </a:bodyPr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Uno que 'lee mucho y anda mucho, ve y sabe mucho' (Cervantes) de las 'ciudades invisibles', (Calvino) de las 'ciudades constitucinales' (Nerling), se tiene 'voluntad de Constitución'. (Hess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Extensión, Investigación (</a:t>
            </a:r>
            <a:r>
              <a:rPr b="1" i="1" lang="pt-BR" sz="2000" spc="-1" strike="noStrike">
                <a:solidFill>
                  <a:srgbClr val="404040"/>
                </a:solidFill>
                <a:latin typeface="Trebuchet MS"/>
              </a:rPr>
              <a:t>práxis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), Enseñanza – Autonomí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Cognición –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ctitud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-Teoría y práxi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ndragogía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- Educación para la liberta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07 – 2011 – Extensió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09 – Investigació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11-2014 – Docencia – Proyecto Político Pedagógico – Titulación – Licenciatura en GPP – Curso – 06 créditos – 60 h.a. + 20 h.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Metodología y formato</a:t>
            </a:r>
            <a:br>
              <a:rPr sz="2200"/>
            </a:b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La experiencia del Ciudad Constitucional en Brasil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-36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Puente entre la administracion fiscal y educaciona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Cooperación técnica - USP-ENAP-ESAF-RFB-EUROsociA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Viaje de estudio a la Capital de la República -Curso 06 C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(SP-BSB 1.200 K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7000"/>
              </a:lnSpc>
              <a:spcBef>
                <a:spcPts val="11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Ciudad Constitucional: Edital; Contenido (descripción de la asignatura); Programa; Metodología docente y cronograma (Semana de la patria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Trebuchet MS"/>
              </a:rPr>
              <a:t>Poderes, entes, entidades, instituciones; su cultura, el a</a:t>
            </a: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uditorio, el sonido, la luz (economicidad)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es-ES_tradnl" sz="2200" spc="-1" strike="noStrike" u="sng">
                <a:solidFill>
                  <a:srgbClr val="404040"/>
                </a:solidFill>
                <a:uFillTx/>
                <a:latin typeface="Trebuchet MS"/>
              </a:rPr>
              <a:t>Recursos humano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77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- '</a:t>
            </a:r>
            <a:r>
              <a:rPr b="0" lang="es-ES_tradnl" sz="2200" spc="-1" strike="noStrike" u="sng">
                <a:solidFill>
                  <a:srgbClr val="404040"/>
                </a:solidFill>
                <a:uFillTx/>
                <a:latin typeface="Trebuchet MS"/>
              </a:rPr>
              <a:t>Programas</a:t>
            </a:r>
            <a:r>
              <a:rPr b="0" lang="es-ES_tradnl" sz="2200" spc="-1" strike="noStrike">
                <a:solidFill>
                  <a:srgbClr val="404040"/>
                </a:solidFill>
                <a:latin typeface="Trebuchet MS"/>
              </a:rPr>
              <a:t>' y 'Proyectos'; Planiamiento; Pressupues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5544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2200" spc="-1" strike="noStrike">
                <a:solidFill>
                  <a:srgbClr val="90c226"/>
                </a:solidFill>
                <a:latin typeface="Trebuchet MS"/>
              </a:rPr>
              <a:t>Estrategias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-360" y="1528560"/>
            <a:ext cx="9070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62280" bIns="0" anchor="ctr">
            <a:noAutofit/>
          </a:bodyPr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 u="sng">
                <a:solidFill>
                  <a:srgbClr val="404040"/>
                </a:solidFill>
                <a:uFillTx/>
                <a:latin typeface="Trebuchet MS"/>
              </a:rPr>
              <a:t>Salir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de las aulas tradicionales, fuera </a:t>
            </a:r>
            <a:r>
              <a:rPr b="0" lang="pt-BR" sz="2000" spc="-1" strike="noStrike" u="sng">
                <a:solidFill>
                  <a:srgbClr val="404040"/>
                </a:solidFill>
                <a:uFillTx/>
                <a:latin typeface="Trebuchet MS"/>
              </a:rPr>
              <a:t>de las paredes del clase/aula y las paredes de la universidad: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Enseñanza, libertad y autonomia: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ctitu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Gestión del conocimient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uentes entre el Estado y la ciudadaní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Contenidos y sus metologías: Taller; Resolución de problemas;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Seminário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; Jornadas Virtuales (Investigación - EaD); Estudio de caso; Juri discutible;Workshop (ANASTASIOU, ALVES, 2009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El espacio público enseña.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Investigar en el local de trabayo los 'programas' de politicas públicas, informando para que todos conoscam y educando para que todos pratiquem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 u="sng">
                <a:solidFill>
                  <a:srgbClr val="404040"/>
                </a:solidFill>
                <a:uFillTx/>
                <a:latin typeface="Trebuchet MS"/>
              </a:rPr>
              <a:t>Programas y proyectos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 que són desafíos nacionales y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prioridades – control del gasto y arrecaudación - PN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tIns="2124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Ciudad constitucional en construcción...</a:t>
            </a:r>
            <a:br>
              <a:rPr sz="2400"/>
            </a:b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2006-2014...VIII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Espaço Reservado para Conteúdo 1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4425840" cy="4351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4" descr="file:///C:/Users/Prof.%20Dr.%20Marcelo/Pictures/Cidade%20constitucional/A%20cidade%20constitucional%202009%20-%20Foto%20RicardoMazucato.jpg"/>
          <p:cNvPicPr/>
          <p:nvPr/>
        </p:nvPicPr>
        <p:blipFill>
          <a:blip r:embed=""/>
          <a:stretch/>
        </p:blipFill>
        <p:spPr>
          <a:xfrm>
            <a:off x="720720" y="1800360"/>
            <a:ext cx="4140360" cy="4319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31964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tIns="360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El eje educación fiscal</a:t>
            </a:r>
            <a:br>
              <a:rPr sz="1800"/>
            </a:b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La ciudad constitucional 2014</a:t>
            </a:r>
            <a:br>
              <a:rPr sz="1800"/>
            </a:b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Ejemple I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90c226"/>
                </a:solidFill>
                <a:latin typeface="Trebuchet MS"/>
              </a:rPr>
              <a:t>08/09 e 11/09 – 12 horas extensión certificación ESAF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-360" y="1814040"/>
            <a:ext cx="907092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8h30 - 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A cooperação técnica internacional 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- Educación Fiscal y cohesión social – ESAF; USP; Representante da Oficina EUROsociAL II; FIIAPP; El Salvador; Hondur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presentantes da Oficina EUROsociAL – FIIAPP (Fundación Internacional y Para Iberoamérica de Administración y Políticas Públicas ; Representante de Honduras – David Jerezano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presentante de El Salvador – Wendy Magari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Directora General da ESAF: Raimunda Ferreira de Almeid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presentante de la Unión Europa: Asier Luzuriag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Coordenador da disciplina </a:t>
            </a:r>
            <a:r>
              <a:rPr b="0" i="1" lang="pt-BR" sz="2000" spc="-1" strike="noStrike">
                <a:solidFill>
                  <a:srgbClr val="404040"/>
                </a:solidFill>
                <a:latin typeface="Trebuchet MS"/>
              </a:rPr>
              <a:t>A Cidade Constitucional e a Capital da República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: Prof. Dr. Marcelo Arno Nerling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Responsável pela disciplina </a:t>
            </a:r>
            <a:r>
              <a:rPr b="0" i="1" lang="pt-BR" sz="2000" spc="-1" strike="noStrike">
                <a:solidFill>
                  <a:srgbClr val="404040"/>
                </a:solidFill>
                <a:latin typeface="Trebuchet MS"/>
              </a:rPr>
              <a:t>A Cidade Constitucional e a Capital da República</a:t>
            </a: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: Prof. Dr. Douglas Roque Andrad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958680"/>
          </a:xfrm>
          <a:prstGeom prst="rect">
            <a:avLst/>
          </a:prstGeom>
          <a:noFill/>
          <a:ln w="0">
            <a:noFill/>
          </a:ln>
        </p:spPr>
        <p:txBody>
          <a:bodyPr tIns="2124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400" spc="-1" strike="noStrike">
                <a:solidFill>
                  <a:srgbClr val="90c226"/>
                </a:solidFill>
                <a:latin typeface="Trebuchet MS"/>
              </a:rPr>
              <a:t>Eje educación fiscal y sostenibilidad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-360" y="1544400"/>
            <a:ext cx="9070920" cy="5707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0:00 – IV Seminário USP-ESAF – Sustentabilidade Ambiental  - Director de Cooperación Técnica de ESAF: Sr. Paulo Mauge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0:30 – Educación en la ESAF: Sra. Lucíola Maurício de Arrud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1:00 -  – EaD em El Sitio Virtual de la ESAF – Sr. Halisson Palmeira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1:15 Pregunta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1:45 - Almuerz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4:30 – EN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19:30 – Programa Nacional de Educação Fiscal do Brasil – PNEF: Educación Fiscal y el preparo de la ciudadanía  - Gerente del Programa Nacional de Educación Fiscal do Brasil: Sr. Ronaldo Iune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Trebuchet MS"/>
              </a:rPr>
              <a:t>20:25 – Administração tributária e educacional: exemplos de aproximação pela Receita Federal do Brasil – RFB  - Coordenador de Educación Fiscal y Memória Institucional de la RFB: Sr. Antonio Henrique Lindemberg Baltaza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Sexto dia –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400" y="671400"/>
            <a:ext cx="69976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t-BR" sz="3200" spc="-1" strike="noStrike">
                <a:solidFill>
                  <a:srgbClr val="90c226"/>
                </a:solidFill>
                <a:latin typeface="Trebuchet MS"/>
              </a:rPr>
              <a:t>Eje educación fiscal y sostenibilidad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71400" y="2381400"/>
            <a:ext cx="69976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Trebuchet MS"/>
              </a:rPr>
              <a:t>11/09/201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Trebuchet MS"/>
              </a:rPr>
              <a:t>9:00 – VI Visita aos Vitrais da Sede, espelho da Federação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Trebuchet MS"/>
              </a:rPr>
              <a:t>10:35 – I Seminário USP – Caixa Federal – Programa Caixa Melhores Práticas em Gestão Local  - Consultor da Caixa - Sr. Gustavo Ribeiro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Trebuchet MS"/>
              </a:rPr>
              <a:t>11:30 – II Seminário USP – Banco Central – Educação Fiscal y financiera para la ciudadanía – Cordinador del Programa - Sr. Silvio Carlos Arduini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1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20:54:16Z</dcterms:created>
  <dc:creator>Marcelo Arno Nerling</dc:creator>
  <dc:description/>
  <dc:language>en-US</dc:language>
  <cp:lastModifiedBy>Bernardo Sanchez</cp:lastModifiedBy>
  <cp:lastPrinted>2014-10-19T21:01:41Z</cp:lastPrinted>
  <dcterms:modified xsi:type="dcterms:W3CDTF">2014-10-23T12:49:12Z</dcterms:modified>
  <cp:revision>33</cp:revision>
  <dc:subject/>
  <dc:title>MÉXICO – EL SALVADOR EUROsociAL II – FIIAPP  Fortalecimiento de los Programas de Educación Fiscal Taller internacional sobre mejores prácticas de Educación Fiscal en la Unión Europea y América Latina</dc:title>
</cp:coreProperties>
</file>