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907588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2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711000" y="739440"/>
            <a:ext cx="534348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3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4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A93C-4567-41D5-B58E-00FCA453572C}" type="slidenum">
              <a:rPr b="0" lang="fr-FR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711360" y="739800"/>
            <a:ext cx="5343480" cy="3700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6E39-645F-4AE2-A4CD-3E657270BA4B}" type="slidenum">
              <a:rPr b="0" lang="fr-FR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711360" y="739800"/>
            <a:ext cx="5343480" cy="37004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A1F8-83FE-4226-9684-BFE0A54B92A4}" type="slidenum">
              <a:rPr b="0" lang="fr-FR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56645-BAED-4AD0-834E-CD4FC67AA9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919E7-804C-4753-A820-9D2AEDA485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3D34-AAC3-4C7E-80DA-881C85DD8A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76C84-BA7A-45FA-A25B-673AE18CD4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ED6DA-9CB8-4835-AF3B-B1960CCB95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91153-D851-491A-A513-433E87081C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11527-0660-4CD8-BA57-143264C138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7566F-15D5-4472-A4BA-0DEB6CE451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4C6A2-0C55-4173-95F1-ABD0FAAFEB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2EFA-49B9-4542-B760-24F2163D64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5737-55FA-4E81-964B-C42D5A3C7D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FD2A6-0AE2-4BC0-BBAC-625630FAEBD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36520"/>
            <a:ext cx="891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2963520"/>
            <a:ext cx="9906120" cy="16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0" y="6523200"/>
            <a:ext cx="9906120" cy="374400"/>
          </a:xfrm>
          <a:prstGeom prst="rect">
            <a:avLst/>
          </a:prstGeom>
          <a:ln w="0">
            <a:noFill/>
          </a:ln>
        </p:spPr>
      </p:pic>
      <p:sp>
        <p:nvSpPr>
          <p:cNvPr id="38" name="Line 2"/>
          <p:cNvSpPr/>
          <p:nvPr/>
        </p:nvSpPr>
        <p:spPr>
          <a:xfrm flipV="1">
            <a:off x="483480" y="1293840"/>
            <a:ext cx="89377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C9DA-F97D-4F41-B050-47357404E4CC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3429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lvl="1" marL="546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  <a:p>
            <a:pPr lvl="2" marL="841320" indent="-168120">
              <a:buClr>
                <a:srgbClr val="a7aaab"/>
              </a:buClr>
              <a:buFont typeface="Gill Sans M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  <a:p>
            <a:pPr lvl="3" marL="1177920" indent="-168120">
              <a:buClr>
                <a:srgbClr val="a7aaab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  <a:p>
            <a:pPr lvl="4" marL="1514520" indent="-168480">
              <a:buClr>
                <a:srgbClr val="a7aaab"/>
              </a:buClr>
              <a:buFont typeface="Gill Sans MT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  <a:p>
            <a:pPr lvl="5" marL="1514520" indent="-168480">
              <a:spcBef>
                <a:spcPts val="45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  <a:p>
            <a:pPr lvl="6" marL="1514520" indent="-168480">
              <a:spcBef>
                <a:spcPts val="45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0" y="5616720"/>
            <a:ext cx="9906120" cy="12412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219240" y="5729400"/>
            <a:ext cx="9296280" cy="984240"/>
          </a:xfrm>
          <a:prstGeom prst="rect">
            <a:avLst/>
          </a:prstGeom>
          <a:ln w="0">
            <a:noFill/>
          </a:ln>
        </p:spPr>
      </p:pic>
      <p:sp>
        <p:nvSpPr>
          <p:cNvPr id="126" name="Line 4"/>
          <p:cNvSpPr/>
          <p:nvPr/>
        </p:nvSpPr>
        <p:spPr>
          <a:xfrm flipV="1">
            <a:off x="-720" y="5624640"/>
            <a:ext cx="9906120" cy="144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2349360"/>
            <a:ext cx="9906120" cy="22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urso de Inducción a la Orientación y Asistencia a las mujeres víctimas de violencia usuarias del CAPRODEM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8B44-A2B2-4774-8EAC-36AF85A7B5F5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93560" y="1495440"/>
            <a:ext cx="891864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4f18"/>
                </a:solidFill>
                <a:latin typeface="Gill Sans"/>
                <a:ea typeface="ＭＳ Ｐゴシック"/>
              </a:rPr>
              <a:t>Las mujeres víctimas de violencia doméstica no dejan a su pareja porque no quieren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FALSO.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No siempre pueden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Hay mujeres víctimas de violencia que sufren dependencia económica o incluso emocional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Si no cuentan con redes de apoyo familiares o sociales, les es mas difícil dejar el hogar o denunciar al agresor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El tener hijos(as) las puede echar para atrás por miedo a no poder salir adelante solas con ellos(as) o a perder su custodia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La baja autoestima, como consecuencia de la violencia, puede ser un obstáculo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6F00-127D-4F13-8907-4B8F170DE194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93560" y="1495440"/>
            <a:ext cx="891864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1" name="Image 1" descr=""/>
          <p:cNvPicPr/>
          <p:nvPr/>
        </p:nvPicPr>
        <p:blipFill>
          <a:blip r:embed="rId1"/>
          <a:stretch/>
        </p:blipFill>
        <p:spPr>
          <a:xfrm>
            <a:off x="2489040" y="1473120"/>
            <a:ext cx="4915080" cy="3899160"/>
          </a:xfrm>
          <a:prstGeom prst="rect">
            <a:avLst/>
          </a:prstGeom>
          <a:ln w="0">
            <a:noFill/>
          </a:ln>
        </p:spPr>
      </p:pic>
      <p:sp>
        <p:nvSpPr>
          <p:cNvPr id="152" name="ZoneTexte 2"/>
          <p:cNvSpPr/>
          <p:nvPr/>
        </p:nvSpPr>
        <p:spPr>
          <a:xfrm>
            <a:off x="3334320" y="6070680"/>
            <a:ext cx="637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nte: Ministerio Público, </a:t>
            </a:r>
            <a:r>
              <a:rPr b="0" i="1" lang="fr-F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énero, Justicia y Derechos humanos. Manual de Capacitación</a:t>
            </a:r>
            <a:r>
              <a:rPr b="0" lang="fr-F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onduras, 2011.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EDF1-9CEA-454A-A54F-3461DC97A21F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493560" y="1495440"/>
            <a:ext cx="891864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4f18"/>
                </a:solidFill>
                <a:latin typeface="Gill Sans"/>
                <a:ea typeface="ＭＳ Ｐゴシック"/>
              </a:rPr>
              <a:t>Una mujer empoderada tiene mas probabilidades de denunciar a su agresor/abusador y seguir el proceso hasta ver sus derechos reconocidos y protegidos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VERDADERO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Una mujer que conoce y comprende sus derechos ve su autoestima fortalezida, lo que le permite actuar para hacer valer sus derechos y no renunciar a ellos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C2C3-E166-446F-9C71-C78688069CB3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493560" y="1495440"/>
            <a:ext cx="891864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4f18"/>
                </a:solidFill>
                <a:latin typeface="Gill Sans"/>
                <a:ea typeface="ＭＳ Ｐゴシック"/>
              </a:rPr>
              <a:t>La violencia en el seno de la pareja es un asunto privado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FALS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Cualquier tipo de violencia contra las mujeres afecta a la sociedad en general. La protección y defensa de los derechos de las mujeres es responsabilidad de todos(as)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El principio de no violencia contra las mujeres forma parte de los estandares internacionales de Derechos Humanos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La violencia doméstica está sancionada en Honduras, como en muchos otros países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64C7-4603-4682-BC5D-A047074C6664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493560" y="1495440"/>
            <a:ext cx="891864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e4aff"/>
                </a:solidFill>
                <a:latin typeface="Gill Sans"/>
                <a:ea typeface="ＭＳ Ｐゴシック"/>
              </a:rPr>
              <a:t>Legislación especial en Hondura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Gill Sans"/>
              </a:rPr>
              <a:t>Ley contra la violencia doméstica</a:t>
            </a:r>
            <a:r>
              <a:rPr b="1" lang="fr-FR" sz="2200" spc="-1" strike="noStrike">
                <a:solidFill>
                  <a:srgbClr val="000000"/>
                </a:solidFill>
                <a:latin typeface="Gill Sans"/>
              </a:rPr>
              <a:t> (1997, 2005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"/>
              </a:rPr>
              <a:t>Regula la aplicación de sanciones y la adopción de medidas para proteger la integridad física, psicológica patrimonial y sexual de la mujer contra cualquier forma de violencia por parte de su pareja (en sentido amplio), y establece un conjunto de derechos procesales para la mujer víctima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ine la violencia doméstica como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todo patrón de conducta asociado a una situación de ejercicio desigual de poder que se manifiesta en el uso de la violencia física, psicológica, patrimonial y/o económica y sexual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9FAB-70F1-4C7C-B490-D3903575863C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493560" y="1495440"/>
            <a:ext cx="891864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endo la desigualdad de poder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toda conducta dirigida a afectar, comprometer o limitar el libre desenvolvimiento de la personalidad de la mujer por razones de género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nsidera como forma de 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Violencia física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: 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Toda acción u omisión que produce un daño o menoscabo a la integridad corporal de la mujer, no tipificada como delito en el Código Penal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sicológica: 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Toda acción u omisión cuyo propósito sea degradar o controlar las acciones, comportamientos, creencias y decisiones de la mujer, por medio de la intimidación, manipulación, amenaza directa o indirecta, humillación, aislamiento, encierro o cualquier otra conducta u omisión que implique un perjuicio en el desarrollo integral o la autodeterminación de la mujer, o que ocasione daño emocional, disminuya la autoestima</a:t>
            </a:r>
            <a:r>
              <a:rPr b="0" lang="fr-FR" sz="2000" spc="-1" strike="noStrike">
                <a:solidFill>
                  <a:srgbClr val="000000"/>
                </a:solidFill>
                <a:latin typeface="Gill San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88EF-2AC9-49CA-BA6D-4D2289CD6A36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493560" y="1495440"/>
            <a:ext cx="891864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336600" indent="12060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perjudique o perturbe el sano desarrollo de la mujer, ejerciendo actos en descrédito de la mujer o menosprecio al valor personal o dignidad, tratos humillantes o vejatorios, vigilancia, aislamiento, insultos, el chantaje, degradación, ridiculizar, manipular, explotar o amenazar con el alejamiento de los(as) hijos(as), entre otras;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336600" indent="12060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xual: 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Toda conducta que entrañe amenaza o intimidación que afecte la integridad o la autodeterminación sexual de la mujer, tal como las relaciones sexuales no deseadas, la negación a anticoncepción y protección, entre otras, siempre que dichas acciones no se encuentren tipificadas como delito en el Código Penal;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atrimonial y/o económica: 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Todo acto u omisión que implica pérdida, transformación, negación, sustracción, destrucción, retención de objetos, documentos personales, bien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F6A3-4817-4695-9C1C-1882488B65A4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88880" y="1484280"/>
            <a:ext cx="891864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muebles e inmuebles, valores, derechos o recursos económicos destinados a 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satisfacer las necesidades de la mujer o del grupo familiar, incluyendo el 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menoscabo, reducción o negación que afecten los ingresos de la mujer o el 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incumplimiento de obligaciones alimentarias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"/>
              </a:rPr>
              <a:t>Código penal - Artículos 179 ss. Sobre Violencia intrafamilia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Gill Sans"/>
              </a:rPr>
              <a:t>Artículo 179 A.- Quien emplee fuerza, intimidación o haga objeto de persecución a un cónyuge o ex-cónyuge, a la persona con quien conviva o haya mantenido una relación concubinaria o a aquélla quien haya procreado un hijo, con la finalidad de causarle daño físico o emocional o para dañar su bienes, será sancionado con reclusión de uno (1) a tres (3) años, sin perjuicio de la pena que corresponda a la lesiones o daños causados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336600" indent="12060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225C-BD32-4FF1-ADEE-95D196E50BA3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488880" y="1484280"/>
            <a:ext cx="891864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"/>
              </a:rPr>
              <a:t>Código penal - Libro II, Título II: Delitos contra la libertad e integridad física, psicológica y sexual de las persona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"/>
              </a:rPr>
              <a:t>Artículo 140.- Delito de violació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"/>
              </a:rPr>
              <a:t>Artículo 141.-Actos de lujurí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"/>
              </a:rPr>
              <a:t>Artículo 142.-Estupr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"/>
              </a:rPr>
              <a:t>Artículo 143.-Delito de incest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"/>
              </a:rPr>
              <a:t>Artículo 144.- Rapt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"/>
              </a:rPr>
              <a:t>Artículo 147. A.- Hostigamiento sexua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"/>
              </a:rPr>
              <a:t>Artíclo 148 ss..- Delitos de explotación sexual y comercial: proxenetismo, trata de personas ect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336600" indent="12060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200" spc="-1" strike="noStrike">
                <a:solidFill>
                  <a:srgbClr val="0e4aff"/>
                </a:solidFill>
                <a:latin typeface="Gill Sans"/>
                <a:ea typeface="ＭＳ Ｐゴシック"/>
              </a:rPr>
              <a:t>Estadisticas desagregados por tipos de acto de violencia</a:t>
            </a:r>
            <a:endParaRPr b="0" lang="en-US" sz="22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88520" y="1341360"/>
            <a:ext cx="8913960" cy="5183280"/>
          </a:xfrm>
          <a:prstGeom prst="rect">
            <a:avLst/>
          </a:prstGeom>
          <a:noFill/>
          <a:ln w="0">
            <a:noFill/>
          </a:ln>
        </p:spPr>
        <p:txBody>
          <a:bodyPr lIns="67320" rIns="67320" tIns="33840" bIns="33840" anchor="t">
            <a:normAutofit fontScale="99000"/>
          </a:bodyPr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33"/>
                </a:solidFill>
                <a:latin typeface="Gill Sans MT"/>
              </a:rPr>
              <a:t>Delitos contra la libertad sexual y la honestidad ingresados en los Tribunales de sentencia entre enero y junio del 2012: </a:t>
            </a:r>
            <a:r>
              <a:rPr b="0" lang="fr-FR" sz="1800" spc="-1" strike="noStrike" u="sng">
                <a:solidFill>
                  <a:srgbClr val="333333"/>
                </a:solidFill>
                <a:uFillTx/>
                <a:latin typeface="Gill Sans MT"/>
              </a:rPr>
              <a:t>170</a:t>
            </a: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 (total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Violación (113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Actos de Lujuria (55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Estupro : (1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Incesto : (0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Explotación Sexual (1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Hostigamiento Sexual (0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Trata de Persona (0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Rapto (0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Proxenetismo (0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33"/>
                </a:solidFill>
                <a:latin typeface="Gill Sans MT"/>
              </a:rPr>
              <a:t>Delitos contra la mujer ingresados en los Tribunales de sentencia entre enero y junio del 2012: </a:t>
            </a:r>
            <a:r>
              <a:rPr b="0" lang="fr-FR" sz="1800" spc="-1" strike="noStrike" u="sng">
                <a:solidFill>
                  <a:srgbClr val="333333"/>
                </a:solidFill>
                <a:uFillTx/>
                <a:latin typeface="Gill Sans MT"/>
              </a:rPr>
              <a:t>108</a:t>
            </a: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 (total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Violencia Intafamiliar (85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Homicidios (14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Asesinatos (6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Gill Sans MT"/>
              </a:rPr>
              <a:t>Parricidios (3)</a:t>
            </a:r>
            <a:endParaRPr b="0" lang="en-US" sz="18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Gill Sans MT"/>
            </a:endParaRPr>
          </a:p>
          <a:p>
            <a:pPr marL="249480" indent="-2494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uente: </a:t>
            </a:r>
            <a:r>
              <a:rPr b="0" lang="fr-FR" sz="1200" spc="-1" strike="noStrike">
                <a:solidFill>
                  <a:srgbClr val="333333"/>
                </a:solidFill>
                <a:latin typeface="Times New Roman"/>
                <a:ea typeface="Arial"/>
              </a:rPr>
              <a:t>Unidad de Estadística del CEDIJ</a:t>
            </a:r>
            <a:endParaRPr b="0" lang="en-US" sz="12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1CCA-F63C-4B41-82F3-787AA5828346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9004-547C-4787-A76F-E4D11B6F1A87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493560" y="1495440"/>
            <a:ext cx="89186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1aff"/>
                </a:solidFill>
                <a:latin typeface="Gill Sans"/>
                <a:ea typeface="ＭＳ Ｐゴシック"/>
              </a:rPr>
              <a:t>MODULO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1aff"/>
                </a:solidFill>
                <a:latin typeface="Gill Sans"/>
                <a:ea typeface="ＭＳ Ｐゴシック"/>
              </a:rPr>
              <a:t>¿Qué es la violencia contra las mujeres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Gill Sans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"/>
          <p:cNvGrpSpPr/>
          <p:nvPr/>
        </p:nvGrpSpPr>
        <p:grpSpPr>
          <a:xfrm>
            <a:off x="3386160" y="3792960"/>
            <a:ext cx="3146760" cy="198000"/>
            <a:chOff x="3386160" y="3792960"/>
            <a:chExt cx="3146760" cy="198000"/>
          </a:xfrm>
        </p:grpSpPr>
        <p:sp>
          <p:nvSpPr>
            <p:cNvPr id="171" name="Rectangle 2"/>
            <p:cNvSpPr/>
            <p:nvPr/>
          </p:nvSpPr>
          <p:spPr>
            <a:xfrm>
              <a:off x="3533040" y="3792960"/>
              <a:ext cx="113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07173"/>
                  </a:solidFill>
                  <a:latin typeface="Gill Sans"/>
                  <a:ea typeface="ＭＳ Ｐゴシック"/>
                </a:rPr>
                <a:t>Organizado por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2" name="Rectangle 3"/>
            <p:cNvSpPr/>
            <p:nvPr/>
          </p:nvSpPr>
          <p:spPr>
            <a:xfrm>
              <a:off x="3386160" y="3849480"/>
              <a:ext cx="96480" cy="88920"/>
            </a:xfrm>
            <a:prstGeom prst="rect">
              <a:avLst/>
            </a:prstGeom>
            <a:solidFill>
              <a:srgbClr val="d90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3" name="Line 4"/>
            <p:cNvSpPr/>
            <p:nvPr/>
          </p:nvSpPr>
          <p:spPr>
            <a:xfrm>
              <a:off x="3387600" y="3990960"/>
              <a:ext cx="3145320" cy="0"/>
            </a:xfrm>
            <a:prstGeom prst="line">
              <a:avLst/>
            </a:prstGeom>
            <a:ln w="12600">
              <a:solidFill>
                <a:srgbClr val="7071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74" name="Rectangle 18"/>
          <p:cNvSpPr/>
          <p:nvPr/>
        </p:nvSpPr>
        <p:spPr>
          <a:xfrm>
            <a:off x="3252960" y="4138560"/>
            <a:ext cx="15904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 u="sng">
                <a:solidFill>
                  <a:srgbClr val="7f7f7f"/>
                </a:solidFill>
                <a:uFillTx/>
                <a:latin typeface="Gill Sans"/>
              </a:rPr>
              <a:t>Socio Operativo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3081240" y="5445000"/>
            <a:ext cx="15908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 u="sng">
                <a:solidFill>
                  <a:srgbClr val="7f7f7f"/>
                </a:solidFill>
                <a:uFillTx/>
                <a:latin typeface="Gill Sans"/>
              </a:rPr>
              <a:t>Colabora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6" name="Image 4" descr="logo PJ.png"/>
          <p:cNvPicPr/>
          <p:nvPr/>
        </p:nvPicPr>
        <p:blipFill>
          <a:blip r:embed="rId1"/>
          <a:stretch/>
        </p:blipFill>
        <p:spPr>
          <a:xfrm>
            <a:off x="3513240" y="5805360"/>
            <a:ext cx="1160280" cy="719280"/>
          </a:xfrm>
          <a:prstGeom prst="rect">
            <a:avLst/>
          </a:prstGeom>
          <a:ln w="0">
            <a:noFill/>
          </a:ln>
        </p:spPr>
      </p:pic>
      <p:pic>
        <p:nvPicPr>
          <p:cNvPr id="177" name="Image 1" descr="IDLO%20Logo%20blue%20on%20white.jpg"/>
          <p:cNvPicPr/>
          <p:nvPr/>
        </p:nvPicPr>
        <p:blipFill>
          <a:blip r:embed="rId2"/>
          <a:stretch/>
        </p:blipFill>
        <p:spPr>
          <a:xfrm>
            <a:off x="3513240" y="4508640"/>
            <a:ext cx="1066680" cy="901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070A-E7FD-4CE1-8790-9A08517EBE73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493560" y="1495440"/>
            <a:ext cx="89186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4aff"/>
                </a:solidFill>
                <a:latin typeface="Gill Sans"/>
                <a:ea typeface="ＭＳ Ｐゴシック"/>
              </a:rPr>
              <a:t>Defini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Todo acto que resulte o pueda resultar en un daño o sufrimiento físico, sexual o psicológico para la mujer, incluyendo las amenazas de tales actos, la coacción o la privación arbitraria de la libertad, tanto si se producen en la vida pública o privada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Artículo 1 de la Declaración de la ONU sobre la Eliminación de la Violencia contra la mujer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"/>
              </a:rPr>
              <a:t>Cualquier acción o conducta, basada en su género, que cause muerte, daño o sufrimiento físico, sexual o psicológico a la mujer, tanto en el ámbito público como en el privado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Artículo 1 de la Convención </a:t>
            </a:r>
            <a:r>
              <a:rPr b="0" lang="es-ES_tradnl" sz="1600" spc="-1" strike="noStrike">
                <a:solidFill>
                  <a:srgbClr val="000000"/>
                </a:solidFill>
                <a:latin typeface="Gill Sans"/>
              </a:rPr>
              <a:t>Interamericana para Prevenir, Sancionar y Erradicar la Violencia contra la Mujer.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EB96-C0D2-4150-B8A7-4D44F1DC3301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493560" y="1495440"/>
            <a:ext cx="89186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Gill Sans"/>
                <a:ea typeface="ＭＳ Ｐゴシック"/>
              </a:rPr>
              <a:t>Formas de la violenc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4f18"/>
                </a:solidFill>
                <a:latin typeface="Gill Sans"/>
                <a:ea typeface="ＭＳ Ｐゴシック"/>
              </a:rPr>
              <a:t>Según el índole de los actos de violencia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Violencia </a:t>
            </a:r>
            <a:r>
              <a:rPr b="0" i="1" lang="en-US" sz="21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física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Violencia </a:t>
            </a:r>
            <a:r>
              <a:rPr b="0" i="1" lang="en-US" sz="21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sexua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Violencia </a:t>
            </a:r>
            <a:r>
              <a:rPr b="0" i="1" lang="en-US" sz="21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psicológica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Violencia </a:t>
            </a:r>
            <a:r>
              <a:rPr b="0" i="1" lang="en-US" sz="21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patrimonial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4f18"/>
                </a:solidFill>
                <a:latin typeface="Gill Sans"/>
                <a:ea typeface="ＭＳ Ｐゴシック"/>
              </a:rPr>
              <a:t>Según su escenario, la relación con el agresor/abusador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Gill Sans"/>
                <a:ea typeface="ＭＳ Ｐゴシック"/>
              </a:rPr>
              <a:t>Violencia</a:t>
            </a:r>
            <a:r>
              <a:rPr b="0" i="1" lang="en-US" sz="2100" spc="-1" strike="noStrike">
                <a:solidFill>
                  <a:srgbClr val="0d0d0d"/>
                </a:solidFill>
                <a:latin typeface="Gill Sans"/>
                <a:ea typeface="ＭＳ Ｐゴシック"/>
              </a:rPr>
              <a:t> doméstica</a:t>
            </a:r>
            <a:r>
              <a:rPr b="0" lang="en-US" sz="2100" spc="-1" strike="noStrike">
                <a:solidFill>
                  <a:srgbClr val="0d0d0d"/>
                </a:solidFill>
                <a:latin typeface="Gill Sans"/>
                <a:ea typeface="ＭＳ Ｐゴシック"/>
              </a:rPr>
              <a:t>: ámbito doméstico, relación de pareja, ex-pareja, ect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Gill Sans"/>
                <a:ea typeface="ＭＳ Ｐゴシック"/>
              </a:rPr>
              <a:t>Violencia</a:t>
            </a:r>
            <a:r>
              <a:rPr b="0" i="1" lang="en-US" sz="2100" spc="-1" strike="noStrike">
                <a:solidFill>
                  <a:srgbClr val="0d0d0d"/>
                </a:solidFill>
                <a:latin typeface="Gill Sans"/>
                <a:ea typeface="ＭＳ Ｐゴシック"/>
              </a:rPr>
              <a:t> intrafamiliar: </a:t>
            </a:r>
            <a:r>
              <a:rPr b="0" lang="en-US" sz="2100" spc="-1" strike="noStrike">
                <a:solidFill>
                  <a:srgbClr val="0d0d0d"/>
                </a:solidFill>
                <a:latin typeface="Gill Sans"/>
                <a:ea typeface="ＭＳ Ｐゴシック"/>
              </a:rPr>
              <a:t>contexto de las relaciones familiares (en el caso de la mujer la violencia puede se perpetratado por los hijos, los suegros, ect.)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Gill Sans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8604-8D9C-45E2-886F-C6F802D67C54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493560" y="1495440"/>
            <a:ext cx="89186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4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Gill Sans"/>
                <a:ea typeface="ＭＳ Ｐゴシック"/>
              </a:rPr>
              <a:t>Violencia</a:t>
            </a:r>
            <a:r>
              <a:rPr b="0" i="1" lang="en-US" sz="2100" spc="-1" strike="noStrike">
                <a:solidFill>
                  <a:srgbClr val="0d0d0d"/>
                </a:solidFill>
                <a:latin typeface="Gill Sans"/>
                <a:ea typeface="ＭＳ Ｐゴシック"/>
              </a:rPr>
              <a:t> en el escenario de la comunidad</a:t>
            </a:r>
            <a:r>
              <a:rPr b="0" lang="en-US" sz="2100" spc="-1" strike="noStrike">
                <a:solidFill>
                  <a:srgbClr val="0d0d0d"/>
                </a:solidFill>
                <a:latin typeface="Gill Sans"/>
                <a:ea typeface="ＭＳ Ｐゴシック"/>
              </a:rPr>
              <a:t>: ámbito de la comunidad, perpetrada por cualquier persona, puede ser en el lugar del trabajo, puede incluir forma de trata de personas (explotación sexual, económica/laboral) ect.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Gill Sans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DA86-DCF2-494A-A0FD-BC0654068743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493560" y="1495440"/>
            <a:ext cx="89186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Gill Sans"/>
                <a:ea typeface="ＭＳ Ｐゴシック"/>
              </a:rPr>
              <a:t>Quizz: ¿Mito o realidad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4f18"/>
                </a:solidFill>
                <a:latin typeface="Gill Sans"/>
                <a:ea typeface="ＭＳ Ｐゴシック"/>
              </a:rPr>
              <a:t>La violencia es un problema de clases sociales bajas y poblaciones marginales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FALSO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La violencia contra las mujeres se produce en todas las clases sociales, sin distinción de factores sociales, económicos, educativos o culturales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Sin embargo, las mujeres víctimas de violencia de menores recursos económicos son más vulnerables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Gill Sans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C45D-7F08-4B6A-8543-7B0238033721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488880" y="1484280"/>
            <a:ext cx="89186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4f18"/>
                </a:solidFill>
                <a:latin typeface="Gill Sans"/>
                <a:ea typeface="ＭＳ Ｐゴシック"/>
              </a:rPr>
              <a:t>El problema de la violencia doméstica está muy exagerado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FALSO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Entre enero y agosto de 2013, la Fiscalía Especial de la Mujer del Ministerio Público registró en Tegucigalpa 1.387 denuncias (entre las distintas instituciones habilitadas a recibir denuncias), y se impusieron 895 sanciones por violencia doméstica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ZoneTexte 3"/>
          <p:cNvSpPr/>
          <p:nvPr/>
        </p:nvSpPr>
        <p:spPr>
          <a:xfrm>
            <a:off x="3944880" y="4149720"/>
            <a:ext cx="554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nte: Ministerio Público, Unidad Técnica de Reforma Penal, Área de Violencia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8880" y="4724280"/>
            <a:ext cx="89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Entre enero y septiembre de 2013, ingresaron en el Juzgado de letras contra la violencia doméstica 4.082 casos de violencia doméstica hacia la mujer (496 hacia el hombre)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ZoneTexte 3"/>
          <p:cNvSpPr/>
          <p:nvPr/>
        </p:nvSpPr>
        <p:spPr>
          <a:xfrm>
            <a:off x="4016520" y="5732640"/>
            <a:ext cx="554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nte: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nidad de Estadística del CEDIJ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6C99-2301-423B-9130-CA1B8B18A8D8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493560" y="1495440"/>
            <a:ext cx="89186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4f18"/>
                </a:solidFill>
                <a:latin typeface="Gill Sans"/>
                <a:ea typeface="ＭＳ Ｐゴシック"/>
              </a:rPr>
              <a:t>El consumo de alcohol y drogas son causas de los actos de violencia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FALSO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No son causas de la violencia sino factores de riesgo. Por ejemplo, el consumo de alcohol o drogas puede incidir en el aumento del grado o de la frecuencia de los actos de violencia por parte del agresor/abusador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numéro de diapositive 3"/>
          <p:cNvSpPr/>
          <p:nvPr/>
        </p:nvSpPr>
        <p:spPr>
          <a:xfrm>
            <a:off x="4832280" y="655812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320" rIns="6732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05E3-C77F-4C1C-ACE6-885DC83503E1}" type="slidenum">
              <a:rPr b="0" lang="en-US" sz="1200" spc="-1" strike="noStrike">
                <a:solidFill>
                  <a:srgbClr val="0d4c92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493560" y="1495440"/>
            <a:ext cx="89186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4f18"/>
                </a:solidFill>
                <a:latin typeface="Gill Sans"/>
                <a:ea typeface="ＭＳ Ｐゴシック"/>
              </a:rPr>
              <a:t>Los hijos(as) de una mujer víctima de violencia presentan mas problemas emocionales, de conducta, que los(as) que viven en ambientes libres de violencia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VERDADER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Los niños(as) necesitan un ámbito libre de violencia para su desarrollo.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El hecho de que vivan en un contexto de violencia no significa necesariamente que se vayan a convertir en personas violentas, pero sí, les afecta y genera trastornos de conducta por imitación, o como expresión o consecuencia de un malestar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Bénédicte Lucas</cp:lastModifiedBy>
  <cp:lastPrinted>2012-11-22T11:09:56Z</cp:lastPrinted>
  <dcterms:modified xsi:type="dcterms:W3CDTF">2013-12-05T16:14:20Z</dcterms:modified>
  <cp:revision>218</cp:revision>
  <dc:subject/>
  <dc:title>Titulo de la presentación -Subtítulo de la presentación-</dc:title>
</cp:coreProperties>
</file>