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2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11000" y="739440"/>
            <a:ext cx="53434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4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51B9-2039-4C1A-B4F6-6C7C139AF863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D76C-B89C-4E09-A299-FE39BC12145A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53B-A4D4-4E7B-8CAC-BD8C437AB079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6B21-D0AB-4898-AF83-C2FB3461C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CA53-6F55-4547-91F1-E34E2309C6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0D6D-DA11-4DD2-8FD8-A22783DEA9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E2BC-3D27-45C0-AF3D-3D599FE054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E6E0-634B-41CB-A334-7651F4D6BF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FDA4-884B-44CA-A198-E338E1D03A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B998-291A-469D-81E8-4549837CE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79E2-7981-4C2E-B0C8-7103E53E8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8B9F-6987-4D2A-9134-940BA293EF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0D78-FBF2-44B8-ADF5-86BD6E2802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4F26-953C-401B-9527-EBD44455D5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E59F-1B10-4D99-8C49-10189E2558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3520"/>
            <a:ext cx="9906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F713-D39C-4CD1-95A6-CB52288AA8A3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lvl="1" marL="546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4" marL="1514520" indent="-16848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5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6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990612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urso de Inducción a la Orientación y Asistencia a las mujeres víctimas de violencia usuarias del CAPRODE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4031-E97E-4139-A216-79C8BB24BDB7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s mujeres víctimas de violencia doméstica no dejan a su pareja porque no quieren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.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No siempre puede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Hay mujeres víctimas de violencia que sufren dependencia económica o incluso emocional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i no cuentan con redes de apoyo familiares o sociales, les es mas difícil dejar el hogar o denunciar al agreso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tener hijos(as) las puede echar para atrás por miedo a no poder salir adelante solas con ellos(as) o a perder su custodi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baja autoestima, como consecuencia de la violencia, puede ser un obstáculo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A4F8-8B4C-4FA0-88A4-BD65CB9C1B23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1" name="Image 1" descr=""/>
          <p:cNvPicPr/>
          <p:nvPr/>
        </p:nvPicPr>
        <p:blipFill>
          <a:blip r:embed="rId1"/>
          <a:stretch/>
        </p:blipFill>
        <p:spPr>
          <a:xfrm>
            <a:off x="2489040" y="1473120"/>
            <a:ext cx="4915080" cy="389916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2"/>
          <p:cNvSpPr/>
          <p:nvPr/>
        </p:nvSpPr>
        <p:spPr>
          <a:xfrm>
            <a:off x="3334320" y="6070680"/>
            <a:ext cx="637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Ministerio Público, </a:t>
            </a:r>
            <a:r>
              <a:rPr b="0" i="1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nero, Justicia y Derechos humanos. Manual de Capacitación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nduras, 2011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E39-6BD4-4646-BDB8-74F5405C8AD1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Una mujer empoderada tiene mas probabilidades de denunciar a su agresor/abusador y seguir el proceso hasta ver sus derechos reconocidos y protegidos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ERDADER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Una mujer que conoce y comprende sus derechos ve su autoestima fortalezida, lo que le permite actuar para hacer valer sus derechos y no renunciar a ello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D981-9A51-4BB7-9FF3-9D81E1D3E6EE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 violencia en el seno de la pareja es un asunto privad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ualquier tipo de violencia contra las mujeres afecta a la sociedad en general. La protección y defensa de los derechos de las mujeres es responsabilidad de todos(as)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principio de no violencia contra las mujeres forma parte de los estandares internacionales de Derechos Humano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violencia doméstica está sancionada en Honduras, como en muchos otros país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F581-105E-4468-8510-39BFEDB59DFF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Legislación especial en Hondura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ill Sans"/>
              </a:rPr>
              <a:t>Ley contra la violencia doméstica</a:t>
            </a:r>
            <a:r>
              <a:rPr b="1" lang="fr-FR" sz="2200" spc="-1" strike="noStrike">
                <a:solidFill>
                  <a:srgbClr val="000000"/>
                </a:solidFill>
                <a:latin typeface="Gill Sans"/>
              </a:rPr>
              <a:t> (1997, 2005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</a:rPr>
              <a:t>Regula la aplicación de sanciones y la adopción de medidas para proteger la integridad física, psicológica patrimonial y sexual de la mujer contra cualquier forma de violencia por parte de su pareja (en sentido amplio), y establece un conjunto de derechos procesales para la mujer víctim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e la violencia doméstica com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do patrón de conducta asociado a una situación de ejercicio desigual de poder que se manifiesta en el uso de la violencia física, psicológica, patrimonial y/o económica y sexu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7D6-0182-45B4-B0F1-AC37E4BA9A9E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endo la desigualdad de poder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oda conducta dirigida a afectar, comprometer o limitar el libre desenvolvimiento de la personalidad de la mujer por razones de géner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sidera como forma de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iolencia física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acción u omisión que produce un daño o menoscabo a la integridad corporal de la mujer, no tipificada como delito en el Código Penal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sicológica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acción u omisión cuyo propósito sea degradar o controlar las acciones, comportamientos, creencias y decisiones de la mujer, por medio de la intimidación, manipulación, amenaza directa o indirecta, humillación, aislamiento, encierro o cualquier otra conducta u omisión que implique un perjuicio en el desarrollo integral o la autodeterminación de la mujer, o que ocasione daño emocional, disminuya la autoestima</a:t>
            </a: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1A4-A9A2-45B3-B010-04058868833E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erjudique o perturbe el sano desarrollo de la mujer, ejerciendo actos en descrédito de la mujer o menosprecio al valor personal o dignidad, tratos humillantes o vejatorios, vigilancia, aislamiento, insultos, el chantaje, degradación, ridiculizar, manipular, explotar o amenazar con el alejamiento de los(as) hijos(as), entre otras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xual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conducta que entrañe amenaza o intimidación que afecte la integridad o la autodeterminación sexual de la mujer, tal como las relaciones sexuales no deseadas, la negación a anticoncepción y protección, entre otras, siempre que dichas acciones no se encuentren tipificadas como delito en el Código Penal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rimonial y/o económica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o acto u omisión que implica pérdida, transformación, negación, sustracción, destrucción, retención de objetos, documentos personales, bi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3155-33FE-43F9-B3A8-689D4BE1DF3F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88880" y="148428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muebles e inmuebles, valores, derechos o recursos económicos destinados a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satisfacer las necesidades de la mujer o del grupo familiar, incluyendo el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menoscabo, reducción o negación que afecten los ingresos de la mujer o el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incumplimiento de obligaciones alimentaria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ódigo penal - Artículos 179 ss. Sobre Violencia intrafamili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Artículo 179 A.- Quien emplee fuerza, intimidación o haga objeto de persecución a un cónyuge o ex-cónyuge, a la persona con quien conviva o haya mantenido una relación concubinaria o a aquélla quien haya procreado un hijo, con la finalidad de causarle daño físico o emocional o para dañar su bienes, será sancionado con reclusión de uno (1) a tres (3) años, sin perjuicio de la pena que corresponda a la lesiones o daños causado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093-2DB4-4753-813E-88C1C20DE8D1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88880" y="148428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ódigo penal - Libro II, Título II: Delitos contra la libertad e integridad física, psicológica y sexual de las person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0.- Delito de viola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1.-Actos de lujurí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2.-Estup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3.-Delito de inces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4.- Rap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7. A.- Hostigamiento sexu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lo 148 ss..- Delitos de explotación sexual y comercial: proxenetismo, trata de personas ect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2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Estadisticas desagregados por tipos de acto de violencia</a:t>
            </a:r>
            <a:endParaRPr b="0" lang="en-US" sz="22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8520" y="1341360"/>
            <a:ext cx="8913960" cy="518328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>
            <a:normAutofit fontScale="99000"/>
          </a:bodyPr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Gill Sans MT"/>
              </a:rPr>
              <a:t>Delitos contra la libertad sexual y la honestidad ingresados en los Tribunales de sentencia entre enero y junio del 2012: </a:t>
            </a:r>
            <a:r>
              <a:rPr b="0" lang="fr-FR" sz="1800" spc="-1" strike="noStrike" u="sng">
                <a:solidFill>
                  <a:srgbClr val="333333"/>
                </a:solidFill>
                <a:uFillTx/>
                <a:latin typeface="Gill Sans MT"/>
              </a:rPr>
              <a:t>170</a:t>
            </a: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 (total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Violación (113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Actos de Lujuria (55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Estupro : (1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Incesto :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Explotación Sexual (1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Hostigamiento Sexual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Trata de Persona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Rapto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Proxenetismo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Gill Sans MT"/>
              </a:rPr>
              <a:t>Delitos contra la mujer ingresados en los Tribunales de sentencia entre enero y junio del 2012: </a:t>
            </a:r>
            <a:r>
              <a:rPr b="0" lang="fr-FR" sz="1800" spc="-1" strike="noStrike" u="sng">
                <a:solidFill>
                  <a:srgbClr val="333333"/>
                </a:solidFill>
                <a:uFillTx/>
                <a:latin typeface="Gill Sans MT"/>
              </a:rPr>
              <a:t>108</a:t>
            </a: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 (total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Violencia Intafamiliar (85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Homicidios (14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Asesinatos (6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Parricidios (3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uente: </a:t>
            </a:r>
            <a:r>
              <a:rPr b="0" lang="fr-FR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Unidad de Estadística del CEDIJ</a:t>
            </a:r>
            <a:endParaRPr b="0" lang="en-US" sz="1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EDE-F796-4C92-B4DD-8F3454F2CD59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7FA3-223F-4810-9E06-FA8D89C2BE2B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MODULO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¿Qué es la violencia contra las mujer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3386160" y="3792960"/>
            <a:ext cx="3146760" cy="198000"/>
            <a:chOff x="3386160" y="3792960"/>
            <a:chExt cx="3146760" cy="198000"/>
          </a:xfrm>
        </p:grpSpPr>
        <p:sp>
          <p:nvSpPr>
            <p:cNvPr id="171" name="Rectangle 2"/>
            <p:cNvSpPr/>
            <p:nvPr/>
          </p:nvSpPr>
          <p:spPr>
            <a:xfrm>
              <a:off x="3533040" y="37929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07173"/>
                  </a:solidFill>
                  <a:latin typeface="Gill Sans"/>
                  <a:ea typeface="ＭＳ Ｐゴシック"/>
                </a:rPr>
                <a:t>Organizado por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2" name="Rectangle 3"/>
            <p:cNvSpPr/>
            <p:nvPr/>
          </p:nvSpPr>
          <p:spPr>
            <a:xfrm>
              <a:off x="3386160" y="3849480"/>
              <a:ext cx="96480" cy="88920"/>
            </a:xfrm>
            <a:prstGeom prst="rect">
              <a:avLst/>
            </a:prstGeom>
            <a:solidFill>
              <a:srgbClr val="d90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3" name="Line 4"/>
            <p:cNvSpPr/>
            <p:nvPr/>
          </p:nvSpPr>
          <p:spPr>
            <a:xfrm>
              <a:off x="3387600" y="3990960"/>
              <a:ext cx="3145320" cy="0"/>
            </a:xfrm>
            <a:prstGeom prst="line">
              <a:avLst/>
            </a:prstGeom>
            <a:ln w="12600">
              <a:solidFill>
                <a:srgbClr val="7071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4" name="Rectangle 18"/>
          <p:cNvSpPr/>
          <p:nvPr/>
        </p:nvSpPr>
        <p:spPr>
          <a:xfrm>
            <a:off x="3252960" y="4138560"/>
            <a:ext cx="1590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Socio Operativo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081240" y="5445000"/>
            <a:ext cx="1590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Colabora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6" name="Image 4" descr="logo PJ.png"/>
          <p:cNvPicPr/>
          <p:nvPr/>
        </p:nvPicPr>
        <p:blipFill>
          <a:blip r:embed="rId1"/>
          <a:stretch/>
        </p:blipFill>
        <p:spPr>
          <a:xfrm>
            <a:off x="3513240" y="5805360"/>
            <a:ext cx="1160280" cy="71928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" descr="IDLO%20Logo%20blue%20on%20white.jpg"/>
          <p:cNvPicPr/>
          <p:nvPr/>
        </p:nvPicPr>
        <p:blipFill>
          <a:blip r:embed="rId2"/>
          <a:stretch/>
        </p:blipFill>
        <p:spPr>
          <a:xfrm>
            <a:off x="3513240" y="4508640"/>
            <a:ext cx="106668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47A-50D2-42F3-A52C-FBFD82DFF634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Todo acto que resulte o pueda resultar en un daño o sufrimiento físico, sexual o psicológico para la mujer, incluyendo las amenazas de tales actos, la coacción o la privación arbitraria de la libertad, tanto si se producen en la vida pública o privada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Artículo 1 de la Declaración de la ONU sobre la Eliminación de la Violencia contra la mujer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ualquier acción o conducta, basada en su género, que cause muerte, daño o sufrimiento físico, sexual o psicológico a la mujer, tanto en el ámbito público como en el privad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Artículo 1 de la Convención </a:t>
            </a:r>
            <a:r>
              <a:rPr b="0" lang="es-ES_tradnl" sz="1600" spc="-1" strike="noStrike">
                <a:solidFill>
                  <a:srgbClr val="000000"/>
                </a:solidFill>
                <a:latin typeface="Gill Sans"/>
              </a:rPr>
              <a:t>Interamericana para Prevenir, Sancionar y Erradicar la Violencia contra la Mujer.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62BA-BECE-42DB-9464-E179FD3C9F57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Formas de la viol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Según el índole de los actos de violencia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ísica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xua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sicológica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trimonia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Según su escenario, la relación con el agresor/abusador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doméstica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: ámbito doméstico, relación de pareja, ex-pareja, ect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intrafamiliar: 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contexto de las relaciones familiares (en el caso de la mujer la violencia puede se perpetratado por los hijos, los suegros, ect.)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6AD7-9E09-43CF-9067-BDE215C9FA8B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en el escenario de la comunidad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: ámbito de la comunidad, perpetrada por cualquier persona, puede ser en el lugar del trabajo, puede incluir forma de trata de personas (explotación sexual, económica/laboral) ect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B55-ED50-40C4-8348-A63B4DC359BD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Quizz: ¿Mito o realida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 violencia es un problema de clases sociales bajas y poblaciones margina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violencia contra las mujeres se produce en todas las clases sociales, sin distinción de factores sociales, económicos, educativos o cultura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in embargo, las mujeres víctimas de violencia de menores recursos económicos son más vulnerab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120C-A5FF-4615-BEDD-084253BF2892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88880" y="1484280"/>
            <a:ext cx="8918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El problema de la violencia doméstica está muy exagerad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ntre enero y agosto de 2013, la Fiscalía Especial de la Mujer del Ministerio Público registró en Tegucigalpa 1.387 denuncias (entre las distintas instituciones habilitadas a recibir denuncias), y se impusieron 895 sanciones por violencia doméstic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ZoneTexte 3"/>
          <p:cNvSpPr/>
          <p:nvPr/>
        </p:nvSpPr>
        <p:spPr>
          <a:xfrm>
            <a:off x="3944880" y="41497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Ministerio Público, Unidad Técnica de Reforma Penal, Área de Violenci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8880" y="472428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ntre enero y septiembre de 2013, ingresaron en el Juzgado de letras contra la violencia doméstica 4.082 casos de violencia doméstica hacia la mujer (496 hacia el hombre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4016520" y="5732640"/>
            <a:ext cx="55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dad de Estadística del CEDIJ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26D9-7AF3-47DB-AF0F-33132B97563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El consumo de alcohol y drogas son causas de los actos de violenci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No son causas de la violencia sino factores de riesgo. Por ejemplo, el consumo de alcohol o drogas puede incidir en el aumento del grado o de la frecuencia de los actos de violencia por parte del agresor/abusado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D404-AFE9-40EC-9558-C223BA900AF9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os hijos(as) de una mujer víctima de violencia presentan mas problemas emocionales, de conducta, que los(as) que viven en ambientes libres de violenci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ERDADE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os niños(as) necesitan un ámbito libre de violencia para su desarrollo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hecho de que vivan en un contexto de violencia no significa necesariamente que se vayan a convertir en personas violentas, pero sí, les afecta y genera trastornos de conducta por imitación, o como expresión o consecuencia de un malesta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énédicte Lucas</cp:lastModifiedBy>
  <cp:lastPrinted>2012-11-22T11:09:56Z</cp:lastPrinted>
  <dcterms:modified xsi:type="dcterms:W3CDTF">2013-12-05T16:14:20Z</dcterms:modified>
  <cp:revision>218</cp:revision>
  <dc:subject/>
  <dc:title>Titulo de la presentación -Subtítulo de la presentación-</dc:title>
</cp:coreProperties>
</file>