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907588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11D3-08B4-4E74-BD25-8F25F42AF8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FB78-FCEB-4771-9EFD-F455CE74DA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68AE-8D94-466C-AEB2-BA3C0A65B2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260D-4E67-4CB0-90EF-7125C8EED6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8B46-C2AA-4E3B-9479-34E364FAC0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89B7-5D48-466C-B244-9E83A73586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0A1D-381F-40E9-9615-73D29D6D24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770E-F002-4933-BAA3-462ECEB578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1037-967F-40E8-974D-2F9DF72BFB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6B53-9E48-43E9-9029-E28B1D5656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4330-5A55-42E3-987B-475E0FFD9E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1735-36E5-4092-B961-A92D8E30AB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2963520"/>
            <a:ext cx="990612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6523200"/>
            <a:ext cx="9906120" cy="3744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483480" y="1293840"/>
            <a:ext cx="89377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394C-FE53-4E7C-B762-874F6F62EE5A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lvl="1" marL="546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2" marL="841320" indent="-16812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3" marL="1177920" indent="-16812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4" marL="1514520" indent="-16848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5" marL="1514520" indent="-168480">
              <a:spcBef>
                <a:spcPts val="45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6" marL="1514520" indent="-168480">
              <a:spcBef>
                <a:spcPts val="45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0" y="5616720"/>
            <a:ext cx="9906120" cy="12412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219240" y="5729400"/>
            <a:ext cx="9296280" cy="98424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V="1">
            <a:off x="-720" y="5624640"/>
            <a:ext cx="990612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349360"/>
            <a:ext cx="9906120" cy="22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apacitación en orientación, asistencia y protección de las mujeres migrantes, transfronterizas y refugiadas víctimas de violencia en Upala.</a:t>
            </a:r>
            <a:br>
              <a:rPr sz="4400"/>
            </a:b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-Bénédicte Lucas-</a:t>
            </a:r>
            <a:endParaRPr b="0" lang="en-US" sz="35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EA7B-037C-47BF-80D6-011902484096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4aff"/>
                </a:solidFill>
                <a:latin typeface="Gill Sans"/>
                <a:ea typeface="ＭＳ Ｐゴシック"/>
              </a:rPr>
              <a:t>Objetivo del proyecto marco de la capacit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1aff"/>
                </a:solidFill>
                <a:latin typeface="Gill Sans"/>
                <a:ea typeface="ＭＳ Ｐゴシック"/>
              </a:rPr>
              <a:t>Mejorar el acceso a la justicia de las mujeres migrantes, transfronterizas y refugiadas víctimas de violencia en el Cantón de Upala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6600"/>
                </a:solidFill>
                <a:latin typeface="Gill Sans"/>
              </a:rPr>
              <a:t> </a:t>
            </a:r>
            <a:r>
              <a:rPr b="1" lang="en-US" sz="2100" spc="-1" strike="noStrike">
                <a:solidFill>
                  <a:srgbClr val="3366ff"/>
                </a:solidFill>
                <a:latin typeface="Gill Sans"/>
                <a:ea typeface="ＭＳ Ｐゴシック"/>
              </a:rPr>
              <a:t>Objetivo general de la capacitación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Ser capaz de orientar, asistir y proteger a las mujeres </a:t>
            </a:r>
            <a:r>
              <a:rPr b="1" lang="fr-FR" sz="18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migrantes, transfronterizas y refugiadas víctimas de violencia en el Cantón de Upal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6F16-68E6-45CC-AC45-C214EEDBDED5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6600"/>
                </a:solidFill>
                <a:latin typeface="Gill Sans"/>
              </a:rPr>
              <a:t> </a:t>
            </a:r>
            <a:r>
              <a:rPr b="1" lang="en-US" sz="2100" spc="-1" strike="noStrike">
                <a:solidFill>
                  <a:srgbClr val="3366ff"/>
                </a:solidFill>
                <a:latin typeface="Gill Sans"/>
                <a:ea typeface="ＭＳ Ｐゴシック"/>
              </a:rPr>
              <a:t>Objetivos específicos de la capacitación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r capaz de </a:t>
            </a:r>
            <a:r>
              <a:rPr b="1" lang="fr-FR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identificar y evaluar una situación de riesg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r capaz de tomar las medidas adecuadas para la efectividad de los derechos de las muje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r capaz de coordinar acciones con otras instituciones públicas o organizaciones de la sociedad civi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r capaz de activar un dispositivo de emergencia cuando la situación lo requi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ff4f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1"/>
          <p:cNvGrpSpPr/>
          <p:nvPr/>
        </p:nvGrpSpPr>
        <p:grpSpPr>
          <a:xfrm>
            <a:off x="3386160" y="3792960"/>
            <a:ext cx="3146760" cy="198000"/>
            <a:chOff x="3386160" y="3792960"/>
            <a:chExt cx="3146760" cy="198000"/>
          </a:xfrm>
        </p:grpSpPr>
        <p:sp>
          <p:nvSpPr>
            <p:cNvPr id="126" name="Rectangle 2"/>
            <p:cNvSpPr/>
            <p:nvPr/>
          </p:nvSpPr>
          <p:spPr>
            <a:xfrm>
              <a:off x="3533040" y="3792960"/>
              <a:ext cx="113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07173"/>
                  </a:solidFill>
                  <a:latin typeface="Gill Sans"/>
                  <a:ea typeface="ＭＳ Ｐゴシック"/>
                </a:rPr>
                <a:t>Organizado por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7" name="Rectangle 3"/>
            <p:cNvSpPr/>
            <p:nvPr/>
          </p:nvSpPr>
          <p:spPr>
            <a:xfrm>
              <a:off x="3386160" y="3849480"/>
              <a:ext cx="96480" cy="88920"/>
            </a:xfrm>
            <a:prstGeom prst="rect">
              <a:avLst/>
            </a:prstGeom>
            <a:solidFill>
              <a:srgbClr val="d90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8" name="Line 4"/>
            <p:cNvSpPr/>
            <p:nvPr/>
          </p:nvSpPr>
          <p:spPr>
            <a:xfrm>
              <a:off x="3387600" y="3990960"/>
              <a:ext cx="3145320" cy="0"/>
            </a:xfrm>
            <a:prstGeom prst="line">
              <a:avLst/>
            </a:prstGeom>
            <a:ln w="12600">
              <a:solidFill>
                <a:srgbClr val="7071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129" name="Picture 17" descr="LOGO RGB"/>
          <p:cNvPicPr/>
          <p:nvPr/>
        </p:nvPicPr>
        <p:blipFill>
          <a:blip r:embed="rId1"/>
          <a:srcRect l="1290" t="0" r="0" b="0"/>
          <a:stretch/>
        </p:blipFill>
        <p:spPr>
          <a:xfrm>
            <a:off x="3362400" y="4441680"/>
            <a:ext cx="3346200" cy="911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8"/>
          <p:cNvSpPr/>
          <p:nvPr/>
        </p:nvSpPr>
        <p:spPr>
          <a:xfrm>
            <a:off x="3252960" y="4138560"/>
            <a:ext cx="15904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7f7f7f"/>
                </a:solidFill>
                <a:uFillTx/>
                <a:latin typeface="Gill Sans"/>
              </a:rPr>
              <a:t>Socio Operativo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énédicte Lucas</cp:lastModifiedBy>
  <cp:lastPrinted>2012-11-22T11:09:56Z</cp:lastPrinted>
  <dcterms:modified xsi:type="dcterms:W3CDTF">2013-09-29T23:04:25Z</dcterms:modified>
  <cp:revision>139</cp:revision>
  <dc:subject/>
  <dc:title>Titulo de la presentación -Subtítulo de la presentación-</dc:title>
</cp:coreProperties>
</file>