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sldIdLst>
    <p:sldId id="256" r:id="rId43"/>
    <p:sldId id="257" r:id="rId44"/>
    <p:sldId id="258" r:id="rId45"/>
    <p:sldId id="259" r:id="rId46"/>
    <p:sldId id="260" r:id="rId47"/>
    <p:sldId id="261" r:id="rId48"/>
    <p:sldId id="26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AA0ACCC-5FD4-4412-8839-3FAC35C05F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3AEC37-93D4-4C68-9F2E-55439D2785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69A0D81-1348-4A61-B143-EBBDD2F7A3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54C384-5156-4A75-9A94-3ADA3C3283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6EEE9F-490E-49A7-88FC-DB73EAC0E7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922C47-9A20-4F55-B734-8CEB89C7AB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2E770D-09FC-483D-9F2F-CAC5CE6FB5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3691E54-DE43-4BA2-9942-8FE87B4F4E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9F0BEB9-7832-4D97-96E4-87AD7C841AA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E0C8E56-F540-4B5C-A04F-A105A8935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1EEA6A-315E-454F-9D5E-0C2C24C0115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213EB98-3462-4580-91C4-F81B6509F90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06C94E-8DF9-43E4-A1BC-0E33AB7FD4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1769AC-306F-4D71-955D-5CF7BCDB68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C7A006-5C5D-4668-B033-711E0D4EA91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88C0BC2-C376-417E-85C7-A416C0E4C37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18519D-875F-4D38-AFCA-A7C66EC29D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5C2829-7FD3-4D37-B47B-23F3233763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4CF53DB-19F6-464B-95FB-1315074DC2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1C59122-C06F-469B-8B10-10C48A2613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1581F18-7B5A-4CFF-86EE-58ED605167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A678828-8B93-4ACE-87CF-FDD2D9D765F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244DB1E-CCEE-48BC-91D1-08932D03A2D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8C4F1F-AFCE-4C80-B105-C9516A6DAF1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B6432D-AB60-405A-9070-F42DEA1ABE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3B10898-1FF3-4844-8FA5-BDF1F0D7607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F4D9E28-2419-4F1E-A572-20E94ACD694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A4ACF2-6D52-4E32-9894-0033061347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583FC2-9DC4-47C6-869D-7BDBCB1DB23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495978-7DD6-4C5A-88C5-9798DA1348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6A3BC0-1775-44C0-9356-ABCB5B333E8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C00B1FE-88ED-4C03-83D7-1F4C0174A07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F084E1F-167B-4958-946D-D2C94157E67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4B24E80-6AB5-4A5B-BD08-8AAD666984E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3F76A93-7437-444B-86FE-3D30DA2C868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E16258B-013F-4AFA-A9C0-5791C4E70FE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93116A8-C819-488E-92E7-8437C265110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61F80B-A64D-4CD7-9FAD-42DD45C4CF3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7E5F859-8A2D-4881-B5CE-42176C50B26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77CC46F-E9B3-42B4-8263-A8128C4525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78B769C-7243-48FF-8FD2-07692E7BB8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04F5C5-7289-4A6D-9CAC-52E03199A34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9A62BA-A0EE-4BA0-BDB9-44997C7681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C759EE-81D0-454C-B389-D80BAE84E17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47DE0DA-BC35-4DD1-B230-FE232BD54CD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42955D1-0900-475F-8959-445A48E8B2E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AF1E04B-E263-4483-B2D1-3A2484CB789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699A872-47F8-4B1A-A551-DE072286BB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B28A280-033A-4F0E-9C78-9EDCC348EF0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7508960-A18D-4702-9622-4909CA0C241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B241FD7-D77A-4164-855A-917E491839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3BD7B9-EBC0-4BB9-915E-4F73F1B6C2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C4CF0C-945F-4C75-946C-8A5347404C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BC6603F-ECCE-4597-8BBB-2A5EAD29AAA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6720AD-AFA8-4EA6-8BE1-9684902037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40E0C0A-EFBF-473C-869A-EEEA712C10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6EBF95-DB3A-4F1E-B85B-CC3B20A7E5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282C3E4-96BD-4B10-97A5-8CD0C8B21A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5E83C16-0E17-4B63-B2CB-FF8132A18BF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D06FB44-6A5E-490E-B810-BB8484F1B32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6C3884-C47B-472A-8FC1-04753026710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81F1EE-07C1-4BCF-BE5A-9819F56F57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3AE147-5953-4F03-B4DB-31554B123B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04A2E0-D5C2-4C2D-BF88-060D94D4B47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5BA69F-4F6C-48E4-9F2B-FB598D651AD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326697-6AFB-4F0B-8078-B506AE33C3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EDA58A-0449-48C1-B75D-A656A99680F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08CC67-01C1-45F9-B9B8-2629B11ECEB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CCB317-AAF3-47AE-B6A7-3EB10180437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5A3C77-E537-4955-8F2D-755611171C2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F182C2-B05B-43AF-B2E4-4575F8E98CE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9C3A34-44F2-4315-9EBC-11B6B8D5798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CFF29D-154C-4C87-B4EA-D3F684EB2AC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CC3201A-0949-40C2-8F3A-200C6F85C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C1D70C-2C32-4CE4-A58A-840A962B2AA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61FF8A-04DD-4CAC-8ABE-47A44A5BF94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EDFFC1-70D7-43BB-9745-F4A24B65768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79C00F2-2C80-4AB4-84FB-105C2E81BC9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DB7792-FDC3-4091-B181-3DA9FD32D91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0FD236C-722E-438A-B75C-549BDFDEE2C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EA0540D-5973-469C-B6FD-C8B2DE412C9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C6BD48D-8B46-40CC-A877-D26B7C04945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827DE66-7A75-4CEE-BE3C-BC0695211B2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E8A4CD-79E3-406B-A4AF-989AB5EB51D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63CE3BD-5393-4927-A8EE-DD996B534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FC2143-49C7-48AC-8830-D8BAC7CA146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760DC83-E632-4F7B-A920-B8040A0749A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A36957B-2A7E-43A6-B41F-3FA8C35338F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723A2BF-EB5F-4A2D-8DB8-5185876D612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2A5B7D7-1B95-4373-ABEF-F3A7B632AB9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5C7B629-CB10-4021-8CC0-5948EF50DEB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F9F98BF-FB9D-4E22-B13A-C7F18780D8F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076D227-F061-48B1-8486-AFFF8EBB4D5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5576CA-0F0A-4FA0-8357-DF6C8386B7B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7D1C01D-217D-43A6-A977-58CD178A68A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3F66E27-C0E1-47C5-BD0E-97CEECAB9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250D1-239C-4E6F-8150-29DD2448862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FCCDC28-462B-4D26-A134-2F4C3DED29B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F5C65A0-5091-4D36-ADB8-9C580809F59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4F305E7-C9F0-4094-94E4-D25C00F72EA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D95B62-D073-4DC0-BE33-1C1DAAF34A3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B5FDD8-14A8-4752-8894-58D39427777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8F3077-DC15-40C5-B2FA-479402B159D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F36FF8-5AED-4F56-A14D-13C21E1A36D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9D85B6-08E3-479A-943D-06CFCC3A9C7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066DCA-4F54-45AC-9074-D5DEDA40FCF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11C976-54DA-43EC-8F74-17D24CA28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2FEE74-9430-44D1-B544-56F6E18811D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8C0FAF-9C87-4E95-B9CA-FD84C8CBB19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FF8A9E-C842-4DA3-AAAE-D5D3BBA0B4A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542DC7-F40E-4880-92AD-BFA4D8A6382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7A2E92-898A-4660-8C4A-BADE60F9367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C8B82E-1B01-456F-BE05-FF7432539A3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B09AB1C-4304-405B-BC6C-F2C73E7F941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76EBA31-77EA-4D80-82F7-F0A6406028F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087E131-860E-49FF-AD92-9368736DBD3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4CE486B-5821-4E31-952D-89E2B4DB0BB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D081721-0866-4610-A5A0-6B74733F04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D9B82-6E8A-4BD9-B06B-05A8BA0C223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E3CB1FB-D6EA-4363-AFE7-BAD041DB81C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939565D-191A-4AA8-BFA2-A3204FC91AA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AD15284-A28B-4B4D-8AE6-1F978761650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8E21978-1C9E-49E0-9CC3-E05DC832B58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FF750D3-C694-4C53-830D-BF728159163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5866F76-4D1E-4ADB-8DBC-E7DD3BCB845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652765D-09E0-4CA8-B6EA-4B7087AC9D9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4918400-75A5-40FF-A0FF-10EB41385D7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CE5B08C-0AF9-4100-BB80-41999F093C1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E72A7C4-74C1-4CB6-B097-C34CF515DB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3D777-E28D-477C-AB5C-44F09F79CBB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E85E387-6AEC-41F5-BFC8-7F06680A526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9CD030C-8981-47A1-8636-1DAF3C876FC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31F4A3B-D56C-420B-A847-AA2C70C104B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6B92FA7-F363-44E3-8442-CCE09F735B5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19E65F1-30DF-4F7E-899A-E7AE2CA6EB8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C8FC247-F107-4F8F-97A5-C27774A2481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6E04596-C89A-4110-A002-2C1E731E85D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4FBFBE8-0A64-46FE-9FAC-A065FFD10FE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7F89A0D-A720-463E-A2FE-38878E44F4D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DEF6CFE-2ACE-4A00-8E39-C3F1A926C7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E191B4-DD28-4209-B237-8F4234F48E5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811BAE9-3483-49D6-8F28-CB6F33AA0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4903C5E-681D-4AC4-AA42-2907FD0930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06F04E8-9855-45D0-BFBD-5C93061CFC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603C7C9-9D65-4EF7-89D8-4985049EB7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9644C51-3707-4BF1-A475-B2154E62AB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74DF270-B447-4EEC-9ED7-606530BE1A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DF55E44-7A9F-44F8-B4AD-A9E4FB0019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F39263-8373-4E6E-8AE6-177B6224FA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B49CA5D-ECF9-4DDA-868A-643E9A853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5F9E82B-0FB5-4838-B62C-053AE7E670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8604FD-70CD-4516-8419-B2FC57C2690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8E6698D-21D0-40C7-A316-3253A2D52D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52C577D-E0C8-4A8C-8203-A2F8214448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0D3CAD1-75E6-4E57-996E-291B72B900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6D6780E-CEA9-4515-9CC5-C30744D409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7C005E8-E611-453F-8FDD-EF0DFB1563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DA21DFA-314A-4C65-B2A1-FED2D1EB4D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E40B8C2-3927-402E-9D99-6A8962AD56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B913A99-ED77-4599-B0E4-6AD2EAAE7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2D9AD79-E781-42F1-A75D-846A5B6EB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4D115EF-013B-4FC0-BE44-87CF8A273D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3506FBF-3471-419D-96B5-4AFED5E009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A827ACF-BA86-460A-A7B8-C84334EC12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F49169C-2392-4E67-B8D4-7A8C354F91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D0BB4CA-2991-42F9-8B57-8D91D8821F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5E058F7-E57B-4007-B21D-1980DE7B14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2102603-D65A-4624-9F89-024513C2B5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05E923E-F0EA-47CD-A9B4-DD92EDFD4C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7E604CC-E7E1-4382-AE1E-6E749408BD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B97DAD2-3EBE-4FCD-9874-9E10F96908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C6391ED-E0C2-450E-9DE1-9950586457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6C7F202-8ADE-4C81-964D-4F191A14B8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37AFE3E-4548-4F49-A5E3-94E0CCD06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37503DC-4061-441B-850A-3DED1D4871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0846A5A-26E6-478D-9899-782FF7218F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0E5C115-4321-4362-BB94-7B504962C7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23207B5-4441-4686-9ECE-FD025734ECC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88C80EF-8552-4514-835A-CE6F073995F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E504E51-6FAB-4D2D-A9CF-A34E219334E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143A91A-9B9C-472B-B675-7A3DFB1AD4F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B8BCD9F-00A9-4F04-84F6-25F978F152F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699B00F-49BA-4A5E-827B-FA0126FC81A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B7D2252-171B-4A63-BFF5-45A99A2804D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544D8CC-8F9C-4CAA-941E-B9A6292AD8B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68B2F1D-2C58-4256-8FB7-E2547202D26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6843C44-C068-4E63-9776-D9F9861125D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4976D05-A994-4DE0-81E2-7BFDB053F55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B299EBC-C5C5-4F89-B3FD-8756DE1368B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20CF3419-BFD6-45C6-A5C1-81BE6838CF6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BB12F19-B501-4946-A33E-A61DF133559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5E14C7E-F089-4A48-B063-AD50C6D828E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A3045E9-6A34-406F-8F76-D316EA854F5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1D0CAC2-E0FC-4A1B-97BC-B03722A9C8E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E61A173-9DF2-45C5-835C-388DAB12630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4C35DD5-3984-4C5A-B902-01C24CEB36F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F3D458A-2AFB-45DC-AB94-753BD42CAAD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E7FC2BD-4290-481C-A32D-7AF15D60467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E0111BB-CD2D-4B4A-826F-81670C6CA50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4BC6DCC-0ADF-4CA5-A4CB-6A08A673544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486DAD8-0CF3-40C5-A740-52BBC034EBA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B708232-B32D-463B-8649-A0686654B8A2}"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6C30D54-AE38-4814-8BBD-6701E5A6A3A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D579F13-411C-4B62-B2B0-592D8F6E2C75}"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4F4DF87-A7B1-4773-9DFF-66F017C8282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FDAA4F0-70B8-4F6D-92BA-A6458915B5B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CA9DE21-AB57-4574-86C2-7531917BCFE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255EE02-C93E-4950-B880-6B457EA29C7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721B05F-7279-485E-BF49-90DF5F206E2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1D7C035-467B-4411-8F7F-6114E43740C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163E9F9-6A77-41A2-A5C1-FD702682094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B66D1EE-9B24-442E-BBF3-93428A47D24D}"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970CB51-C49B-4460-9540-E8FC4C47968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5F0E062-9127-4A77-ABCF-46B14EBA0C6A}"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E2D67A4-DE9D-4A45-B27B-7814383B7BE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5C38760-2F3B-4D9E-94AE-107089C7EF9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94E5F13-0A1A-46E3-8971-A1FE2E44EB4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30CDBA5-6690-4640-A220-0B3782CA484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380DEC3-AC9C-4111-8BDA-D8B60CF236D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597BDC4-BE04-4A00-AD21-FD3E98F76C2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8A8E736-1A8D-4062-8CAC-8A1851606D8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1C25570-147B-4CD9-B003-B248C2341AE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D71E4DA-C340-4DA5-ADA0-A6442D5ED45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8146B4D-5432-4E77-9D81-5D0E4C87F2C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14AE791-1A96-4808-A87A-CA484226282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A90D82E-DA8B-4395-B2B5-E2FBD9B9417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759FAFC-8FA2-4E24-B7C3-544DE4BAF8B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6EA99F8-9BAF-4035-BA21-2BCE5641336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6138903-78CF-4597-B192-997014FCEB5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4F995B5-8454-4447-82E0-426DDA64BB1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E70D9BE-1A18-4F7B-B0A4-31F4D04242D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8E6D42A-EF6E-4854-9503-A87B3CE6A0A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88801A2-D621-4B61-BAF2-F8B8670D232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8E5E9D4-D7A0-4CFF-A7BC-6516DF3200F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BB57282-59C9-4151-8A22-3C1E87F3E6E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6ABB46E-5E24-4AA4-8891-7F3BF37264C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36F06EB-4C0F-4CD3-A031-39535D1B8E90}"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46A21FC3-83A6-4DD9-B53F-45D4EB606D3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619F6A0-055E-4807-BBF8-214C5744E42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5BA0B11-6742-47F8-9C26-D6079206AA3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4A523B6-D92B-4FE1-B790-D92F20B06C2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240505D-FEE7-42A6-9557-409D9391D8B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4AB01066-37AA-4695-B5F5-69F596B16A6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2F3EE84-72F8-466D-9115-EF0AB7E03EE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FE31F4A-0B35-486B-A1F4-96F9CC72098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9AA0B80-80D8-4368-B171-9178EBB062A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85C5E8F-D744-452A-8E7E-10B797ABE95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517BEE18-A5FF-429C-90E9-D96B187E52E9}"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E523C50F-6D0D-4C9A-8573-781F0F76B35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F80BF53-B3A3-4A4C-8CCC-7FAD97D171D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79FD9AC-74B7-4B52-9F39-9DE4170F74B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2412A5D-0E45-4F07-BFF1-1BA85438374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12C89D8-0CCC-4623-90F2-037BF6DA62D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D6B80A1-CBD9-4D09-A513-86D56F2A631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863E846-049E-44AD-AA66-21092CAB739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9B58A22-FFD5-40B6-B24A-BA506B83379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26C888B-A3AC-481A-B9FF-64D9B8A799B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6BD0F17-707C-4488-822D-CE64A3DEB4F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91866FD-5B31-4445-8BF6-5B45436FACC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5F1433DC-136E-4793-B2C5-937AEA4E604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767EAF1B-53E9-4A66-8C08-E5DE55EBD39A}"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A4DD52A-A0CF-4BC7-9163-8DD23F6936C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C49518C-415F-4BDE-AC11-343F10922F4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80EF800-E005-435F-BD30-E9ED57DC02A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C42C1CC-550F-43E0-BD05-A5B944F1F91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2E1712D-1C18-4178-9D40-97A57D48225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8E7546D-0C94-4440-B808-E0E60474F87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0D6FA14-86DF-48DA-907B-373381B8AB8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793A9F4-A902-4509-B721-DBE11B6D227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10B1C02-7BCE-412E-95E2-BFC97B49AD6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56C5B659-1CCC-4B41-B17B-6A845FC4A2E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452C81ED-3C21-4DA5-BAD9-D833AB66207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F7622C7-3C7E-47EB-97AF-8B32BA7E5DA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B8D84982-0081-402A-9AC3-BBF2B9281385}"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88E35B73-CFD3-4CEA-A14E-C1A8834FFFC8}"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1516AEDF-4F2A-4818-8B0D-EDBFEC3152F1}"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CAEBD0CA-E7C9-4CAC-BD08-21DFA298B08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F8D9B39-6C09-4759-839B-6C7145984302}"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D8229BE-CBA5-4F13-AA29-0DED342A9C8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9E37463-5A1B-4E6A-9E78-B75748C4F174}"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683CC02F-5607-45F0-B17F-D8E511E3E658}"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0939BE5-C505-4628-A43D-5308ED5CFE2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9077EE31-C586-41B7-BC95-C8A4A62343C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5B880A5E-3E7C-45F2-BB42-589C81EF3712}"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D881D137-7D44-41AD-A4C6-A30581A387BB}"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F608BF5A-7B30-4FDA-8499-5EEA1276CAB4}"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C956C882-221D-4C8D-AED8-2E274F5A5FAE}"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A737BC8C-74C7-40DF-A8F3-D47439C0A6DF}"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9D4689C0-E855-4624-8BDE-BE9B493E0E08}"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F57AD965-A399-4015-B843-4CA5BAAB0E2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78EEF5B4-B101-44ED-AA86-EB34A6E2951D}"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CFB227D-30EF-41FF-9DD8-343392DF3D5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5DC9C0C-6ABA-464E-BF05-5680F222E7C1}"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BEEBB21-0F18-4075-83B2-779B8188C558}"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95367601-E55D-40AB-90F8-C45C2C05C65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C386D711-02E1-421B-8DD8-3F4945F6BA14}"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AF9FB7ED-7BE6-4290-8C6B-A795BF352616}"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6A564706-0CB2-4A3E-BA88-D4454C303C37}"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4A8BD55F-27B6-45DF-9229-46C4CB92C86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75766C0-D580-49AB-9F7D-4EC94A9AE225}"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736D9BDE-6302-4B93-A212-92CD1327937C}"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1C51DEAA-F2B1-4A4F-B51C-4AE974AF720E}"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DB6C1C9F-2A0C-46C3-B1B2-D976EFB19604}"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9B2ED42-5128-4F44-8FAA-00D4B506482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7B94A91-438C-417E-A410-D4CA5D8A3409}"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2923580C-4183-4C8E-A04A-80F56F0D59D5}"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9D06E737-6B0C-4549-97AE-43FAF6550F1E}"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08DF8F82-361C-4C5C-93FB-A68FD3A20F12}"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9133BB80-3FF8-435D-9338-D54F3F27ADDA}"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5B85F57D-6FE0-4229-BAD0-696B75EE4970}"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80959A8D-8EE5-44C5-9E09-D0D2A4B79C5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AB14047D-A825-46DC-BCD1-ABFF45C57F9C}"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D8B5C28A-8363-417D-80BA-3109656B13E6}"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D8E30697-29F0-42C8-BFE5-CFA718BD368D}"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FDCBCD2-FBDF-4002-9F83-30013FDCAAFF}"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DD2B6343-AEF9-4E1C-86D7-FBE55BC4CA9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BE4797D0-96F6-4117-9534-093D01BEC67B}"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A7FFB50-2E60-4FBD-AFB0-DB5BA45C7B19}"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EDE345C5-9CE4-4F63-95C6-CD28A4B3E65E}"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F50BCA64-7998-47F2-8DCA-F0C0FF21CA95}"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3BAA3319-003F-4515-869E-8DBB935CFBDD}"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A2E759A8-21E4-484E-B996-4B413599D05B}"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FBB6CB0-02CE-4461-8EE1-07DF0A7E8E18}"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602761D-1AB6-44D5-A163-80856B49BC4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F853288E-7247-45CE-9DAE-8F8D53D706A3}"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249B82AB-E767-4CCE-80CB-6C4045758E6F}"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A686CEC5-589E-4AC1-A12B-8486BC9F19A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6D648610-C296-44D3-8779-87777AEA09F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8110184-3B34-4DF6-9C4B-C3F8F0979E1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7A60795-89C5-4874-8881-6A66CB56EEB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93D84405-7070-4E69-A0A0-514233728949}"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331468C2-6FF6-49B1-845A-97AA8C56B6CE}"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155DA9C7-7574-4E88-B2CE-957D997007C3}"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FDE66E32-82E6-48B1-96B9-E4C17299D424}"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CAF935D9-BE2D-4215-B589-DB033C0A1EB2}"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BED3C4DE-DAF7-43E5-9D4E-29E4C2CCE608}"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5DBD7303-1D92-4EC2-AFB0-212E78900C5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887FA9D5-D585-481F-9336-14FBAA8447C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7999DDC-5A99-4FD1-A599-D75768F7B6E7}"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20E7947B-9FCC-42B6-8393-59D4962B8AF9}"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CE03283B-E656-40CF-8B74-8E1C48D6045E}"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C698CE75-EFF5-42F6-B2EE-727707A75CE6}"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A5AFCFE1-B07E-4F66-BC73-1C83CC2A7AA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7A1DA1D3-0E3B-4AE7-8F1A-A52177C7E726}"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464DF9C6-6ED3-4AC1-9048-CACFEEA88B37}"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6B4B7825-5504-4D7A-9576-70600579368C}"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6634E60E-679A-4C29-BFA4-9DBB308B470F}"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273579A6-37CA-4531-92A2-1D93FC00A6E6}"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E9F75D82-FAA5-4E94-8340-72B6040D541D}"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35960DE3-24D3-4D06-9CBB-7A844BCD6695}"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637F0026-3EA4-41FB-826D-7DF72248F05F}"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4A62879A-3891-420D-8F26-7D8C470C7BA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9FEFC40-5560-47E0-9589-60C9B23731BF}"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7739F7A-E354-4FA9-B800-8836918C7C3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0876A451-5D73-4FC3-BB71-5B57C602A7EA}"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7F8EF364-19F0-494D-B457-275AD24A8D01}"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9D117020-B7F7-4FBB-A598-B00C9A365942}"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061FEC14-74A9-4970-BBD8-D125047F46EC}"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5421E419-C4E4-480B-B6EA-69FAA7985528}"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7D04D4FD-0188-4343-B5B8-6BB88E30A9B6}"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9AA3FCD-E2D6-4A1A-A32D-E58EE2E9331F}"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346ADEA4-705F-444D-A107-57A815BFA1CE}"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EAD958C3-FB88-42EB-9CE0-5BAD38E35883}"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3E73A6D3-5647-4645-9E54-414484C363D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52673F3C-C1A8-4425-BAC9-BEDDADCA3F61}"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FA009FD9-00A2-4A10-B4F9-D14C7C59666F}"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31E16852-60D7-4D8C-B092-EBB09FF44D99}"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F2C93825-8D64-41F5-8FCC-20898A18F12C}"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439408E5-18CD-402B-9D23-4050442A87D5}"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08A85AEE-8AD2-4F02-9593-9EFBECDE77E7}"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858FDA4-F231-4150-A544-21938080FF91}"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BA2502E9-228E-4EB6-BCB2-D24ACDA4467B}"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7CE7DAD3-6179-4C22-A72A-2162F5A20FBF}"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B9EDC6A-0667-49E4-966A-15AEB15E264A}"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D76354B1-B397-4EBA-9E41-3DDBAFC34A84}"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A45973E-F6D0-4FA2-9393-E4A993B1D670}"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6CF1FED-C0DA-430D-8B0D-6A30753311E4}"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09095FA8-9859-4556-AF2C-095C1CCD1C3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AA897389-0C75-4EC1-B8A3-C263709C226C}"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DE084A05-A722-4992-BF97-04050878A07F}"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39F584CB-6BA4-433A-ACD6-183F642D99A4}"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FF7382DF-EC97-4FAC-9538-5737D0074D93}"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D04458A-7753-4C59-98BB-388CD50EDD8F}"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67AD4FD4-82C8-4B0E-8635-946ABFE872A3}"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1FA2981-C31D-47BE-8624-52DDA371A5D0}"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0ACDBEDD-72DF-4EEC-88B9-E8C1645F0B43}"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F2E782A-F286-442E-8E1E-B1A3F3804727}"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05A3BBF7-AAD9-42E0-A801-75A44CDBF7D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D5EF321-E729-4A26-B620-F431E26AB07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557512F3-9DC5-4149-9FF7-F87219851A6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4342B9E1-D507-4597-AF77-B8CB6DBC8038}"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8F925AE4-1D81-4827-8732-92749792DDB7}"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ACA370A3-196E-41DD-82B2-7740980A9D44}"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5A6CB841-70B4-4E17-A1AA-A1F8436697DB}"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45049234-BE8A-4C95-98CD-B3D8DB13CF28}"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928A27E5-FEF7-4364-AE52-B2A4E008FD94}"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A7CBF164-8E47-4C15-A34D-9CB7F4EA56A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DC13490-6AE6-40F6-8328-D0BC5BA77DE1}"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9D9393FA-D73C-400E-9EFF-B81799A02C83}"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4623294F-96A1-4ACD-B144-BF72A4E7AB29}"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28C06A57-D881-45FC-AC1B-B874F0B10A79}"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578FD310-E544-468C-AEF6-378288395A27}"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27BAF1-87E4-4C5C-BDC6-534FFFC96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6D1905D0-67F3-4201-9C10-89CB7A9D4114}"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E9F91117-067B-4C15-904B-A6C55FC96A5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7DE53F79-D77C-4263-9F26-CBB0D9563140}"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CFA58-0617-488E-8755-E49DF114B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F1003-54C0-41AB-9D60-5D7C919C4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4BEE1-07B6-47E2-9EC1-1726AB81E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18E31-3342-491F-8790-873406217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E56ED-E6EA-40BD-AA4D-CDBA5B8AC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4F9DF-5618-4A42-AAED-9EDC00699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95FA5-499B-41D5-92E8-A555C33EE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094F4-0BC5-476E-9B26-228DDA8CE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10D4D0-F1F2-463E-A3D8-E55EC4668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9B8ED-F6F7-402C-B8C6-52EE57E8C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84530B-3F5D-49A3-A2F2-6DDCE778EB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44F4A8-7E09-4DD8-A99D-B3163072CC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18A53C-C832-43D8-9230-173321BA7C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2C98C9-2F58-4865-84F8-6A7A74BA93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C12410-5421-4C77-B301-5136683487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283239-8DCF-443C-AD58-9A24F6FACA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33C628-E358-438D-B316-A3C2B7E1E8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244CFA-E847-4343-B4EB-754DDA420F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D9B2A8-7D3E-44DB-93F0-DEADE1801A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16AEDC-413E-46BF-AEAB-6CE11A4C4E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630A1C-EDFA-4A8E-8D69-74312AA60A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965A26-9210-4753-A344-B5BBD8943B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3C346F-826C-42D3-AF2A-D125E0F835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C9DFC4-04EA-4F82-972D-93B349A755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E5E835-1CAD-4917-AEAA-70304CC1CE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E35704-1207-46BB-9A51-B2FA70E1CB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AB847F-452D-4066-B1BF-49884524FA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4C7A94-66B7-44EB-A620-4A2FAC8A01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603273-3D8D-4E0A-9794-E47E1E880A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E0EC6F-651C-481C-B55E-0FAD909C9D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E18268-F0D0-4B25-97CF-8ADFB4353E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AC5687-BEAB-4ECC-A356-6423016398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1B384D-662B-4942-9788-C51F2F28C2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2EBAAB-1E5D-4094-A5CC-8193FE062C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194AF6-6DDB-49FF-ACBA-80B0B2FAF5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FA2E4E-2DFA-4780-A606-AF2360970B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B33EB5-C3EA-42F4-BF00-DF695B37286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080392-E172-44DC-AE63-4D7D26177F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0A0C46-9207-4A24-914D-AC14AC8B94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273352A-C92C-4D18-8DE5-A8DF83CCF5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BF31EA-A789-43C1-BA69-CBBC12C200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B1CD56-AF47-434C-AF8F-27F2D7B8E9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5386AB-6A7B-4BCA-A64E-46F99B4F3F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D5C828-90F0-49A8-8AC4-ABD434ED28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743F46-809A-4A1A-8278-9D38A3FE21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DF1A68-45C6-43D7-AE93-8A88E3FAE7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73545A-EEFD-45DC-8A36-92B893AFF67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73803E-08CD-4047-8400-773EB61E5EA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4C2107B-3E84-46D0-9E48-D757FAC0DB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25D53E-F519-4083-982B-FDFE60D86F18}"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4.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4.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4.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4.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4.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4.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4.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4.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4.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4"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405"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F9786-E9D2-416E-8645-25370B9F4D2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21743-10F4-4F85-A482-D45C568F6A6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49"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97F80-D2ED-4753-B733-C5059948693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3"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882F3-83F9-4303-9544-B4E6BBAE340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94"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DF3BF-0F8F-4EB7-87BE-CA1224411E5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38"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77819-59D0-495C-9695-802F60E3F9B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539"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2F3B4-762B-4EFC-B7C2-2A1EC8881B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3"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11EA3-00B9-4443-B0F3-C3B8EF3F6DE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27"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65CF2-CF16-4B31-92CB-0BC9FA9242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1"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91200-08DB-4E17-9E15-141F9AFA93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5"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ACBCF-6418-4E13-A072-8D5A717744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59"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FD44A-B191-4962-A56C-8B197F824D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3"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B9468-183E-4160-B52A-E2C35F0B9B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9F2BD-63B1-4996-B970-B7929D7B8E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44" name="Picture 15" descr="LOGO"/>
          <p:cNvPicPr/>
          <p:nvPr/>
        </p:nvPicPr>
        <p:blipFill>
          <a:blip r:embed="rId2"/>
          <a:stretch/>
        </p:blipFill>
        <p:spPr>
          <a:xfrm>
            <a:off x="7093080" y="2421000"/>
            <a:ext cx="2158920" cy="1950840"/>
          </a:xfrm>
          <a:prstGeom prst="rect">
            <a:avLst/>
          </a:prstGeom>
          <a:ln w="0">
            <a:noFill/>
          </a:ln>
        </p:spPr>
      </p:pic>
      <p:sp>
        <p:nvSpPr>
          <p:cNvPr id="8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46"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6ED0D-0151-4EBA-BD0E-58627B4A16F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847"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8"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0AB0D-E25B-4B6B-A697-806AD807744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88" name="Picture 15" descr="LOGO"/>
          <p:cNvPicPr/>
          <p:nvPr/>
        </p:nvPicPr>
        <p:blipFill>
          <a:blip r:embed="rId2"/>
          <a:stretch/>
        </p:blipFill>
        <p:spPr>
          <a:xfrm>
            <a:off x="7093080" y="2421000"/>
            <a:ext cx="2158920" cy="1950840"/>
          </a:xfrm>
          <a:prstGeom prst="rect">
            <a:avLst/>
          </a:prstGeom>
          <a:ln w="0">
            <a:noFill/>
          </a:ln>
        </p:spPr>
      </p:pic>
      <p:sp>
        <p:nvSpPr>
          <p:cNvPr id="8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90"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839B5-3E75-4FC0-A0B9-E9C414C4A1F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891"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2"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B319C-4795-4F7F-B3E4-86609C1256B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32" name="Picture 15" descr="LOGO"/>
          <p:cNvPicPr/>
          <p:nvPr/>
        </p:nvPicPr>
        <p:blipFill>
          <a:blip r:embed="rId2"/>
          <a:stretch/>
        </p:blipFill>
        <p:spPr>
          <a:xfrm>
            <a:off x="7093080" y="2421000"/>
            <a:ext cx="2158920" cy="1950840"/>
          </a:xfrm>
          <a:prstGeom prst="rect">
            <a:avLst/>
          </a:prstGeom>
          <a:ln w="0">
            <a:noFill/>
          </a:ln>
        </p:spPr>
      </p:pic>
      <p:sp>
        <p:nvSpPr>
          <p:cNvPr id="9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34"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6AC75-390C-45F7-9699-113916D35204}"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935"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6"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BADEB-908C-4EA8-981C-90D628FE8C4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76" name="Picture 15" descr="LOGO"/>
          <p:cNvPicPr/>
          <p:nvPr/>
        </p:nvPicPr>
        <p:blipFill>
          <a:blip r:embed="rId2"/>
          <a:stretch/>
        </p:blipFill>
        <p:spPr>
          <a:xfrm>
            <a:off x="7093080" y="2421000"/>
            <a:ext cx="2158920" cy="1950840"/>
          </a:xfrm>
          <a:prstGeom prst="rect">
            <a:avLst/>
          </a:prstGeom>
          <a:ln w="0">
            <a:noFill/>
          </a:ln>
        </p:spPr>
      </p:pic>
      <p:sp>
        <p:nvSpPr>
          <p:cNvPr id="9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78"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F0556-85AF-4376-9502-6D6E4ACB09D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979"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0"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9BAA3-E597-4A4D-BE3A-E08CAF22DC7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20" name="Picture 15" descr="LOGO"/>
          <p:cNvPicPr/>
          <p:nvPr/>
        </p:nvPicPr>
        <p:blipFill>
          <a:blip r:embed="rId2"/>
          <a:stretch/>
        </p:blipFill>
        <p:spPr>
          <a:xfrm>
            <a:off x="7093080" y="2421000"/>
            <a:ext cx="2158920" cy="1950840"/>
          </a:xfrm>
          <a:prstGeom prst="rect">
            <a:avLst/>
          </a:prstGeom>
          <a:ln w="0">
            <a:noFill/>
          </a:ln>
        </p:spPr>
      </p:pic>
      <p:sp>
        <p:nvSpPr>
          <p:cNvPr id="10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22"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23492-4D8D-431C-B027-B3C205DAABB0}"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023"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4"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2A357-EB4D-4C9F-BC35-5D744CC6680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64" name="Picture 15" descr="LOGO"/>
          <p:cNvPicPr/>
          <p:nvPr/>
        </p:nvPicPr>
        <p:blipFill>
          <a:blip r:embed="rId2"/>
          <a:stretch/>
        </p:blipFill>
        <p:spPr>
          <a:xfrm>
            <a:off x="7093080" y="2421000"/>
            <a:ext cx="2158920" cy="1950840"/>
          </a:xfrm>
          <a:prstGeom prst="rect">
            <a:avLst/>
          </a:prstGeom>
          <a:ln w="0">
            <a:noFill/>
          </a:ln>
        </p:spPr>
      </p:pic>
      <p:sp>
        <p:nvSpPr>
          <p:cNvPr id="10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66"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EC739-233B-437A-835F-AB8409148BD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067"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8"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3196D-476E-486F-A173-25E4899254E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8" name="Picture 15" descr="LOGO"/>
          <p:cNvPicPr/>
          <p:nvPr/>
        </p:nvPicPr>
        <p:blipFill>
          <a:blip r:embed="rId2"/>
          <a:stretch/>
        </p:blipFill>
        <p:spPr>
          <a:xfrm>
            <a:off x="7093080" y="2421000"/>
            <a:ext cx="2158920" cy="1950840"/>
          </a:xfrm>
          <a:prstGeom prst="rect">
            <a:avLst/>
          </a:prstGeom>
          <a:ln w="0">
            <a:noFill/>
          </a:ln>
        </p:spPr>
      </p:pic>
      <p:sp>
        <p:nvSpPr>
          <p:cNvPr id="1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10"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E0FF7-C587-406A-8AD1-B13E6CF1718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111"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2"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AD25E-24BE-4603-8FCB-6CA21EA9EE6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2" name="Picture 15" descr="LOGO"/>
          <p:cNvPicPr/>
          <p:nvPr/>
        </p:nvPicPr>
        <p:blipFill>
          <a:blip r:embed="rId2"/>
          <a:stretch/>
        </p:blipFill>
        <p:spPr>
          <a:xfrm>
            <a:off x="7093080" y="2421000"/>
            <a:ext cx="2158920" cy="1950840"/>
          </a:xfrm>
          <a:prstGeom prst="rect">
            <a:avLst/>
          </a:prstGeom>
          <a:ln w="0">
            <a:noFill/>
          </a:ln>
        </p:spPr>
      </p:pic>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4"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CB6DA-5482-4CD8-B659-8BE31EFB7BE8}"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155"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6"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DA350-2168-4910-AC27-11E93DA2BC8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6" name="Picture 15" descr="LOGO"/>
          <p:cNvPicPr/>
          <p:nvPr/>
        </p:nvPicPr>
        <p:blipFill>
          <a:blip r:embed="rId2"/>
          <a:stretch/>
        </p:blipFill>
        <p:spPr>
          <a:xfrm>
            <a:off x="7093080" y="2421000"/>
            <a:ext cx="2158920" cy="1950840"/>
          </a:xfrm>
          <a:prstGeom prst="rect">
            <a:avLst/>
          </a:prstGeom>
          <a:ln w="0">
            <a:noFill/>
          </a:ln>
        </p:spPr>
      </p:pic>
      <p:sp>
        <p:nvSpPr>
          <p:cNvPr id="11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8"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5D3D3-768D-4C8B-87F8-C19A619CA4E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199"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0"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33E2F-A05D-4273-BAD0-8EFA6124286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0" name="Picture 15" descr="LOGO"/>
          <p:cNvPicPr/>
          <p:nvPr/>
        </p:nvPicPr>
        <p:blipFill>
          <a:blip r:embed="rId2"/>
          <a:stretch/>
        </p:blipFill>
        <p:spPr>
          <a:xfrm>
            <a:off x="7093080" y="2421000"/>
            <a:ext cx="2158920" cy="1950840"/>
          </a:xfrm>
          <a:prstGeom prst="rect">
            <a:avLst/>
          </a:prstGeom>
          <a:ln w="0">
            <a:noFill/>
          </a:ln>
        </p:spPr>
      </p:pic>
      <p:sp>
        <p:nvSpPr>
          <p:cNvPr id="12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2"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4E64A-FF12-4024-95DF-AF59DC41740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43"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4"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C0C0C-FCE6-49E3-B867-7A2F0D6F2EE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84" name="Picture 15" descr="LOGO"/>
          <p:cNvPicPr/>
          <p:nvPr/>
        </p:nvPicPr>
        <p:blipFill>
          <a:blip r:embed="rId2"/>
          <a:stretch/>
        </p:blipFill>
        <p:spPr>
          <a:xfrm>
            <a:off x="7093080" y="2421000"/>
            <a:ext cx="2158920" cy="1950840"/>
          </a:xfrm>
          <a:prstGeom prst="rect">
            <a:avLst/>
          </a:prstGeom>
          <a:ln w="0">
            <a:noFill/>
          </a:ln>
        </p:spPr>
      </p:pic>
      <p:sp>
        <p:nvSpPr>
          <p:cNvPr id="1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86"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0C2CD-6C3C-4962-8074-8FF9044527B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87"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AA2C7-9F00-4095-9F28-16D7E03570D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28" name="Picture 15" descr="LOGO"/>
          <p:cNvPicPr/>
          <p:nvPr/>
        </p:nvPicPr>
        <p:blipFill>
          <a:blip r:embed="rId2"/>
          <a:stretch/>
        </p:blipFill>
        <p:spPr>
          <a:xfrm>
            <a:off x="7093080" y="2421000"/>
            <a:ext cx="2158920" cy="1950840"/>
          </a:xfrm>
          <a:prstGeom prst="rect">
            <a:avLst/>
          </a:prstGeom>
          <a:ln w="0">
            <a:noFill/>
          </a:ln>
        </p:spPr>
      </p:pic>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30"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13B3B-87B3-4BF0-B00D-06867FE6936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331"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2"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4FD75-56F8-44DF-B698-3F1A8026CED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3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73" name="Picture 15" descr="LOGO"/>
          <p:cNvPicPr/>
          <p:nvPr/>
        </p:nvPicPr>
        <p:blipFill>
          <a:blip r:embed="rId2"/>
          <a:stretch/>
        </p:blipFill>
        <p:spPr>
          <a:xfrm>
            <a:off x="7093080" y="2421000"/>
            <a:ext cx="2158920" cy="1950840"/>
          </a:xfrm>
          <a:prstGeom prst="rect">
            <a:avLst/>
          </a:prstGeom>
          <a:ln w="0">
            <a:noFill/>
          </a:ln>
        </p:spPr>
      </p:pic>
      <p:sp>
        <p:nvSpPr>
          <p:cNvPr id="1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75" name="PlaceHolder 2"/>
          <p:cNvSpPr>
            <a:spLocks noGrp="1"/>
          </p:cNvSpPr>
          <p:nvPr>
            <p:ph type="dt" idx="7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454E5-EF37-4E3C-94BA-6B549639524C}"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376" name="PlaceHolder 3"/>
          <p:cNvSpPr>
            <a:spLocks noGrp="1"/>
          </p:cNvSpPr>
          <p:nvPr>
            <p:ph type="ftr" idx="7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7" name="PlaceHolder 4"/>
          <p:cNvSpPr>
            <a:spLocks noGrp="1"/>
          </p:cNvSpPr>
          <p:nvPr>
            <p:ph type="sldNum" idx="7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F4EDB-C74E-44B6-8A04-6B995550098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17" name="Picture 15" descr="LOGO"/>
          <p:cNvPicPr/>
          <p:nvPr/>
        </p:nvPicPr>
        <p:blipFill>
          <a:blip r:embed="rId2"/>
          <a:stretch/>
        </p:blipFill>
        <p:spPr>
          <a:xfrm>
            <a:off x="7093080" y="2421000"/>
            <a:ext cx="2158920" cy="1950840"/>
          </a:xfrm>
          <a:prstGeom prst="rect">
            <a:avLst/>
          </a:prstGeom>
          <a:ln w="0">
            <a:noFill/>
          </a:ln>
        </p:spPr>
      </p:pic>
      <p:sp>
        <p:nvSpPr>
          <p:cNvPr id="14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19" name="PlaceHolder 2"/>
          <p:cNvSpPr>
            <a:spLocks noGrp="1"/>
          </p:cNvSpPr>
          <p:nvPr>
            <p:ph type="dt" idx="8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EE398-180F-4CD8-9201-80741F77AFB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420"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PlaceHolder 4"/>
          <p:cNvSpPr>
            <a:spLocks noGrp="1"/>
          </p:cNvSpPr>
          <p:nvPr>
            <p:ph type="sldNum" idx="8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86301-3FEF-4332-8494-D432FE4DB85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61" name="Picture 15" descr="LOGO"/>
          <p:cNvPicPr/>
          <p:nvPr/>
        </p:nvPicPr>
        <p:blipFill>
          <a:blip r:embed="rId2"/>
          <a:stretch/>
        </p:blipFill>
        <p:spPr>
          <a:xfrm>
            <a:off x="7093080" y="2421000"/>
            <a:ext cx="2158920" cy="1950840"/>
          </a:xfrm>
          <a:prstGeom prst="rect">
            <a:avLst/>
          </a:prstGeom>
          <a:ln w="0">
            <a:noFill/>
          </a:ln>
        </p:spPr>
      </p:pic>
      <p:sp>
        <p:nvSpPr>
          <p:cNvPr id="1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463" name="PlaceHolder 2"/>
          <p:cNvSpPr>
            <a:spLocks noGrp="1"/>
          </p:cNvSpPr>
          <p:nvPr>
            <p:ph type="dt" idx="8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247A7-404B-44D3-8407-48F87D6AABB5}"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464" name="PlaceHolder 3"/>
          <p:cNvSpPr>
            <a:spLocks noGrp="1"/>
          </p:cNvSpPr>
          <p:nvPr>
            <p:ph type="ftr" idx="8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5" name="PlaceHolder 4"/>
          <p:cNvSpPr>
            <a:spLocks noGrp="1"/>
          </p:cNvSpPr>
          <p:nvPr>
            <p:ph type="sldNum" idx="8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EC4F8-70B0-4FF8-BB58-966E234DE78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05" name="Picture 15" descr="LOGO"/>
          <p:cNvPicPr/>
          <p:nvPr/>
        </p:nvPicPr>
        <p:blipFill>
          <a:blip r:embed="rId2"/>
          <a:stretch/>
        </p:blipFill>
        <p:spPr>
          <a:xfrm>
            <a:off x="7093080" y="2421000"/>
            <a:ext cx="2158920" cy="1950840"/>
          </a:xfrm>
          <a:prstGeom prst="rect">
            <a:avLst/>
          </a:prstGeom>
          <a:ln w="0">
            <a:noFill/>
          </a:ln>
        </p:spPr>
      </p:pic>
      <p:sp>
        <p:nvSpPr>
          <p:cNvPr id="15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07" name="PlaceHolder 2"/>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340EE-62B5-4A69-AA36-92D78F027145}"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508"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9" name="PlaceHolder 4"/>
          <p:cNvSpPr>
            <a:spLocks noGrp="1"/>
          </p:cNvSpPr>
          <p:nvPr>
            <p:ph type="sldNum" idx="8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52842-7AB1-436E-9369-8499F512980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49" name="Picture 15" descr="LOGO"/>
          <p:cNvPicPr/>
          <p:nvPr/>
        </p:nvPicPr>
        <p:blipFill>
          <a:blip r:embed="rId2"/>
          <a:stretch/>
        </p:blipFill>
        <p:spPr>
          <a:xfrm>
            <a:off x="7093080" y="2421000"/>
            <a:ext cx="2158920" cy="1950840"/>
          </a:xfrm>
          <a:prstGeom prst="rect">
            <a:avLst/>
          </a:prstGeom>
          <a:ln w="0">
            <a:noFill/>
          </a:ln>
        </p:spPr>
      </p:pic>
      <p:sp>
        <p:nvSpPr>
          <p:cNvPr id="15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51" name="PlaceHolder 2"/>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66119-316E-4BF9-861B-92E55ABD2F4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552"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53" name="PlaceHolder 4"/>
          <p:cNvSpPr>
            <a:spLocks noGrp="1"/>
          </p:cNvSpPr>
          <p:nvPr>
            <p:ph type="sldNum" idx="9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30B27-138D-4E9F-874D-C685C92AD15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593" name="Picture 15" descr="LOGO"/>
          <p:cNvPicPr/>
          <p:nvPr/>
        </p:nvPicPr>
        <p:blipFill>
          <a:blip r:embed="rId2"/>
          <a:stretch/>
        </p:blipFill>
        <p:spPr>
          <a:xfrm>
            <a:off x="7093080" y="2421000"/>
            <a:ext cx="2158920" cy="1950840"/>
          </a:xfrm>
          <a:prstGeom prst="rect">
            <a:avLst/>
          </a:prstGeom>
          <a:ln w="0">
            <a:noFill/>
          </a:ln>
        </p:spPr>
      </p:pic>
      <p:sp>
        <p:nvSpPr>
          <p:cNvPr id="15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595" name="PlaceHolder 2"/>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FCB19-83EF-4676-AD97-3C04621D5A2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596"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7" name="PlaceHolder 4"/>
          <p:cNvSpPr>
            <a:spLocks noGrp="1"/>
          </p:cNvSpPr>
          <p:nvPr>
            <p:ph type="sldNum" idx="9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A59C8-7A4D-4B20-8504-173CEA6F8C4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37" name="Picture 15" descr="LOGO"/>
          <p:cNvPicPr/>
          <p:nvPr/>
        </p:nvPicPr>
        <p:blipFill>
          <a:blip r:embed="rId2"/>
          <a:stretch/>
        </p:blipFill>
        <p:spPr>
          <a:xfrm>
            <a:off x="7093080" y="2421000"/>
            <a:ext cx="2158920" cy="1950840"/>
          </a:xfrm>
          <a:prstGeom prst="rect">
            <a:avLst/>
          </a:prstGeom>
          <a:ln w="0">
            <a:noFill/>
          </a:ln>
        </p:spPr>
      </p:pic>
      <p:sp>
        <p:nvSpPr>
          <p:cNvPr id="16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39" name="PlaceHolder 2"/>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3296A-787E-41AE-8960-FDB588EAEF02}"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640" name="PlaceHolder 3"/>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1" name="PlaceHolder 4"/>
          <p:cNvSpPr>
            <a:spLocks noGrp="1"/>
          </p:cNvSpPr>
          <p:nvPr>
            <p:ph type="sldNum" idx="9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426AA-71CA-40B7-81F8-7A9EF1268DD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81" name="Picture 15" descr="LOGO"/>
          <p:cNvPicPr/>
          <p:nvPr/>
        </p:nvPicPr>
        <p:blipFill>
          <a:blip r:embed="rId2"/>
          <a:stretch/>
        </p:blipFill>
        <p:spPr>
          <a:xfrm>
            <a:off x="7093080" y="2421000"/>
            <a:ext cx="2158920" cy="1950840"/>
          </a:xfrm>
          <a:prstGeom prst="rect">
            <a:avLst/>
          </a:prstGeom>
          <a:ln w="0">
            <a:noFill/>
          </a:ln>
        </p:spPr>
      </p:pic>
      <p:sp>
        <p:nvSpPr>
          <p:cNvPr id="16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683" name="PlaceHolder 2"/>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7A43D-8A3F-4DAB-8C99-846844685874}"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684" name="PlaceHolder 3"/>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5" name="PlaceHolder 4"/>
          <p:cNvSpPr>
            <a:spLocks noGrp="1"/>
          </p:cNvSpPr>
          <p:nvPr>
            <p:ph type="sldNum" idx="10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C3FA0-9E4B-40EC-A91F-71CF97A6D8E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136" name="Picture 12" descr="LOGO"/>
          <p:cNvPicPr/>
          <p:nvPr/>
        </p:nvPicPr>
        <p:blipFill>
          <a:blip r:embed="rId2"/>
          <a:stretch/>
        </p:blipFill>
        <p:spPr>
          <a:xfrm>
            <a:off x="7093080" y="2421000"/>
            <a:ext cx="2158920" cy="195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25" name="Picture 15" descr="LOGO"/>
          <p:cNvPicPr/>
          <p:nvPr/>
        </p:nvPicPr>
        <p:blipFill>
          <a:blip r:embed="rId2"/>
          <a:stretch/>
        </p:blipFill>
        <p:spPr>
          <a:xfrm>
            <a:off x="7093080" y="2421000"/>
            <a:ext cx="2158920" cy="1950840"/>
          </a:xfrm>
          <a:prstGeom prst="rect">
            <a:avLst/>
          </a:prstGeom>
          <a:ln w="0">
            <a:noFill/>
          </a:ln>
        </p:spPr>
      </p:pic>
      <p:sp>
        <p:nvSpPr>
          <p:cNvPr id="17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27" name="PlaceHolder 2"/>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34022-DCC6-4854-B9CC-380F4A54CFE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728" name="PlaceHolder 3"/>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29" name="PlaceHolder 4"/>
          <p:cNvSpPr>
            <a:spLocks noGrp="1"/>
          </p:cNvSpPr>
          <p:nvPr>
            <p:ph type="sldNum" idx="10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EFE46-9349-4998-A509-FC55491F2DE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69" name="Picture 15" descr="LOGO"/>
          <p:cNvPicPr/>
          <p:nvPr/>
        </p:nvPicPr>
        <p:blipFill>
          <a:blip r:embed="rId2"/>
          <a:stretch/>
        </p:blipFill>
        <p:spPr>
          <a:xfrm>
            <a:off x="7093080" y="2421000"/>
            <a:ext cx="2158920" cy="1950840"/>
          </a:xfrm>
          <a:prstGeom prst="rect">
            <a:avLst/>
          </a:prstGeom>
          <a:ln w="0">
            <a:noFill/>
          </a:ln>
        </p:spPr>
      </p:pic>
      <p:sp>
        <p:nvSpPr>
          <p:cNvPr id="17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771" name="PlaceHolder 2"/>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AD8EA-E951-49DF-8868-D0C1A370C396}"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772" name="PlaceHolder 3"/>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3" name="PlaceHolder 4"/>
          <p:cNvSpPr>
            <a:spLocks noGrp="1"/>
          </p:cNvSpPr>
          <p:nvPr>
            <p:ph type="sldNum" idx="10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D56F7-54AD-4CF4-B05C-55D57E489A5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5" name="Picture 1" descr=""/>
          <p:cNvPicPr/>
          <p:nvPr/>
        </p:nvPicPr>
        <p:blipFill>
          <a:blip r:embed="rId2"/>
          <a:stretch/>
        </p:blipFill>
        <p:spPr>
          <a:xfrm>
            <a:off x="647640" y="3452760"/>
            <a:ext cx="803160" cy="585720"/>
          </a:xfrm>
          <a:prstGeom prst="rect">
            <a:avLst/>
          </a:prstGeom>
          <a:ln w="0">
            <a:noFill/>
          </a:ln>
        </p:spPr>
      </p:pic>
      <p:sp>
        <p:nvSpPr>
          <p:cNvPr id="17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8" name="Picture 11" descr="letras"/>
          <p:cNvPicPr/>
          <p:nvPr/>
        </p:nvPicPr>
        <p:blipFill>
          <a:blip r:embed="rId3"/>
          <a:stretch/>
        </p:blipFill>
        <p:spPr>
          <a:xfrm>
            <a:off x="1619280" y="3525840"/>
            <a:ext cx="1131840" cy="334800"/>
          </a:xfrm>
          <a:prstGeom prst="rect">
            <a:avLst/>
          </a:prstGeom>
          <a:ln w="0">
            <a:noFill/>
          </a:ln>
        </p:spPr>
      </p:pic>
      <p:sp>
        <p:nvSpPr>
          <p:cNvPr id="179"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90796-8304-4E55-B8D0-D67F6229054C}"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80"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1E1F6-917D-4DDF-97C2-CCE27434897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1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0" name="Picture 1" descr=""/>
          <p:cNvPicPr/>
          <p:nvPr/>
        </p:nvPicPr>
        <p:blipFill>
          <a:blip r:embed="rId2"/>
          <a:stretch/>
        </p:blipFill>
        <p:spPr>
          <a:xfrm>
            <a:off x="647640" y="3452760"/>
            <a:ext cx="803160" cy="585720"/>
          </a:xfrm>
          <a:prstGeom prst="rect">
            <a:avLst/>
          </a:prstGeom>
          <a:ln w="0">
            <a:noFill/>
          </a:ln>
        </p:spPr>
      </p:pic>
      <p:pic>
        <p:nvPicPr>
          <p:cNvPr id="221" name="Picture 1" descr=""/>
          <p:cNvPicPr/>
          <p:nvPr/>
        </p:nvPicPr>
        <p:blipFill>
          <a:blip r:embed="rId3"/>
          <a:stretch/>
        </p:blipFill>
        <p:spPr>
          <a:xfrm>
            <a:off x="1677960" y="3452760"/>
            <a:ext cx="1031760" cy="419040"/>
          </a:xfrm>
          <a:prstGeom prst="rect">
            <a:avLst/>
          </a:prstGeom>
          <a:ln w="0">
            <a:noFill/>
          </a:ln>
        </p:spPr>
      </p:pic>
      <p:sp>
        <p:nvSpPr>
          <p:cNvPr id="22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A0ABB-CC59-4643-9FB5-F488C495709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2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C6219-5C4C-40E6-80DD-BD9A479BAE2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5" name="Picture 1" descr=""/>
          <p:cNvPicPr/>
          <p:nvPr/>
        </p:nvPicPr>
        <p:blipFill>
          <a:blip r:embed="rId2"/>
          <a:stretch/>
        </p:blipFill>
        <p:spPr>
          <a:xfrm>
            <a:off x="647640" y="3452760"/>
            <a:ext cx="803160" cy="585720"/>
          </a:xfrm>
          <a:prstGeom prst="rect">
            <a:avLst/>
          </a:prstGeom>
          <a:ln w="0">
            <a:noFill/>
          </a:ln>
        </p:spPr>
      </p:pic>
      <p:pic>
        <p:nvPicPr>
          <p:cNvPr id="266" name="Picture 1" descr=""/>
          <p:cNvPicPr/>
          <p:nvPr/>
        </p:nvPicPr>
        <p:blipFill>
          <a:blip r:embed="rId3"/>
          <a:stretch/>
        </p:blipFill>
        <p:spPr>
          <a:xfrm>
            <a:off x="1677960" y="3452760"/>
            <a:ext cx="1031760" cy="419040"/>
          </a:xfrm>
          <a:prstGeom prst="rect">
            <a:avLst/>
          </a:prstGeom>
          <a:ln w="0">
            <a:noFill/>
          </a:ln>
        </p:spPr>
      </p:pic>
      <p:sp>
        <p:nvSpPr>
          <p:cNvPr id="267"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EA5F0-9B9C-4642-A370-6A62282B429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70"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ACE4F-6532-4AFA-AAB5-DC4568DC760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308"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310" name="Picture 1" descr=""/>
          <p:cNvPicPr/>
          <p:nvPr/>
        </p:nvPicPr>
        <p:blipFill>
          <a:blip r:embed="rId2"/>
          <a:stretch/>
        </p:blipFill>
        <p:spPr>
          <a:xfrm>
            <a:off x="647640" y="3452760"/>
            <a:ext cx="803160" cy="585720"/>
          </a:xfrm>
          <a:prstGeom prst="rect">
            <a:avLst/>
          </a:prstGeom>
          <a:ln w="0">
            <a:noFill/>
          </a:ln>
        </p:spPr>
      </p:pic>
      <p:pic>
        <p:nvPicPr>
          <p:cNvPr id="311" name="Picture 1" descr=""/>
          <p:cNvPicPr/>
          <p:nvPr/>
        </p:nvPicPr>
        <p:blipFill>
          <a:blip r:embed="rId3"/>
          <a:stretch/>
        </p:blipFill>
        <p:spPr>
          <a:xfrm>
            <a:off x="1677960" y="3452760"/>
            <a:ext cx="1031760" cy="419040"/>
          </a:xfrm>
          <a:prstGeom prst="rect">
            <a:avLst/>
          </a:prstGeom>
          <a:ln w="0">
            <a:noFill/>
          </a:ln>
        </p:spPr>
      </p:pic>
      <p:sp>
        <p:nvSpPr>
          <p:cNvPr id="31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932E5-E27D-4291-838C-FD1A92E2E79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15"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89F6F-A380-48AF-81A9-EE44C3E9335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59"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F59B4-2E56-48FA-AE43-0CDE7CFDBFD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60"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3E427-EBFD-482B-B783-A30C9B18FA5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1557360"/>
            <a:ext cx="8686800" cy="9367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3200" spc="-1" strike="noStrike">
                <a:solidFill>
                  <a:srgbClr val="ffffff"/>
                </a:solidFill>
                <a:latin typeface="Verdana"/>
              </a:rPr>
              <a:t>EUROSOCIAL II</a:t>
            </a:r>
            <a:br>
              <a:rPr sz="3200"/>
            </a:br>
            <a:r>
              <a:rPr b="1" lang="es-ES_tradnl" sz="3200" spc="-1" strike="noStrike">
                <a:solidFill>
                  <a:srgbClr val="ffffff"/>
                </a:solidFill>
                <a:latin typeface="Verdana"/>
              </a:rPr>
              <a:t>Programa para la Cohesión Social en América Latina</a:t>
            </a:r>
            <a:br>
              <a:rPr sz="3200"/>
            </a:br>
            <a:endParaRPr b="0" lang="en-US" sz="3200" spc="-1" strike="noStrike">
              <a:solidFill>
                <a:srgbClr val="ffffff"/>
              </a:solidFill>
              <a:latin typeface="Calibri"/>
            </a:endParaRPr>
          </a:p>
        </p:txBody>
      </p:sp>
      <p:sp>
        <p:nvSpPr>
          <p:cNvPr id="1811" name="PlaceHolder 2"/>
          <p:cNvSpPr>
            <a:spLocks noGrp="1"/>
          </p:cNvSpPr>
          <p:nvPr>
            <p:ph type="subTitle"/>
          </p:nvPr>
        </p:nvSpPr>
        <p:spPr>
          <a:xfrm>
            <a:off x="2843280" y="3827160"/>
            <a:ext cx="5929200" cy="609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Protocolo de actuación para la reducción de barreras de acceso a la Justicia</a:t>
            </a:r>
            <a:endParaRPr b="0" lang="en-US" sz="2400" spc="-1" strike="noStrike">
              <a:solidFill>
                <a:srgbClr val="ffffff"/>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Año 2013 </a:t>
            </a:r>
            <a:endParaRPr b="0" lang="en-US" sz="24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Que es Eurosocial?</a:t>
            </a:r>
            <a:endParaRPr b="0" lang="en-US" sz="2400" spc="-1" strike="noStrike">
              <a:solidFill>
                <a:srgbClr val="006cb7"/>
              </a:solidFill>
              <a:latin typeface="Verdana"/>
            </a:endParaRPr>
          </a:p>
        </p:txBody>
      </p:sp>
      <p:sp>
        <p:nvSpPr>
          <p:cNvPr id="1813"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urosocial II es una iniciativa de cooperación técnica de la Comisión Europea. Un programa regional para promover la cohesión social en América Latina. En particular, apoya políticas públicas nacionales dirigidas a mejorar los niveles de cohesión social y fortalecer las instituciones que llevan a cabo dichas política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sta de diez ámbitos de actuación: salud, Educación, Políticas sociales, Políticas de empleo, Finanzas Públicas, Institucionalidad Democrática, Diálogo Social, Descentralización, Justicia y Seguridad Ciudadana.</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ámbito de justicia persigue la promoción de las Reglas de Brasilia. El objetivo general consiste en </a:t>
            </a:r>
            <a:r>
              <a:rPr b="1" lang="es-ES" sz="1800" spc="-1" strike="noStrike">
                <a:solidFill>
                  <a:srgbClr val="595959"/>
                </a:solidFill>
                <a:latin typeface="Calibri"/>
              </a:rPr>
              <a:t>reducir, de manera efectiva, las barreras al acceso a la Justicia y ampliar la cobertura de la justicia estatal en favor de grupos de población vulnerables.</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alcanzar ese objetivo general se previó, entre otras, una actividad que apunta a la </a:t>
            </a:r>
            <a:r>
              <a:rPr b="1" lang="es-ES" sz="1800" spc="-1" strike="noStrike">
                <a:solidFill>
                  <a:srgbClr val="595959"/>
                </a:solidFill>
                <a:latin typeface="Calibri"/>
              </a:rPr>
              <a:t>implementación de protocolos nacionales de buenas prácticas para reducir las barreras de acceso a la justicia</a:t>
            </a:r>
            <a:r>
              <a:rPr b="0" lang="es-ES" sz="1800" spc="-1" strike="noStrike">
                <a:solidFill>
                  <a:srgbClr val="595959"/>
                </a:solidFill>
                <a:latin typeface="Calibri"/>
              </a:rPr>
              <a:t>.</a:t>
            </a: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4"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B360B-01E6-442D-846F-FC219F5F921E}"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5"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17"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identificó la barrera sociocultural como una  barrera de acceso a la Justicia de la población adulto mayor.</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l marco del proceso modernizador del sector Justicia en Chile, que ha sido impulsado por los distintos gobiernos, han surgido diversas iniciativas vinculadas al acceso a la justicia en poblaciones vulnerables, entre las cuales destaca la consagración legal del sistema de asistencia jurídico gratu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atención a la función que las Corporaciones cumplen, ellas tienen una natural cercanía con las poblaciones vulnerables con requerimientos del sistema de Justicia en las distintas materias y debido a su gran cobertura en el territorio nacional, se ha decidido incorporarlas como actores claves para su participación en el proyecto, en las distintas líneas de su ejecu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18"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C5CE3-EB7F-496C-8353-85F93E02744F}"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19"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Contexto</a:t>
            </a:r>
            <a:endParaRPr b="0" lang="en-US" sz="2400" spc="-1" strike="noStrike">
              <a:solidFill>
                <a:srgbClr val="006cb7"/>
              </a:solidFill>
              <a:latin typeface="Verdana"/>
            </a:endParaRPr>
          </a:p>
        </p:txBody>
      </p:sp>
      <p:sp>
        <p:nvSpPr>
          <p:cNvPr id="1821" name=""/>
          <p:cNvSpPr txBox="1"/>
          <p:nvPr/>
        </p:nvSpPr>
        <p:spPr>
          <a:xfrm>
            <a:off x="407520" y="692280"/>
            <a:ext cx="8031240" cy="547344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Según datos aportados por el Servicio Nacional del adulto mayor (SENAMA) para el 2050 se espera que la población mundial mayor de 65 años se triplique respecto a la actualidad, estimando que en américa latina, 1 de cada 4 personas tendrá más de 60 años.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hile comparte esta tendencial mundial, hoy existen 2,6 millones de chilenos mayores de 60 años y la esperanza de vida ha aumentado considerablemente.</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contexto, las políticas públicas deben apuntar a lograr que la población tenga un envejecimiento positivo. Es así como a partir de la década de los 90 es un área prioritaria y en el año 2002 se crea el SENAMA, lo cual permite una mayor visibilidad del envejecimiento y la vejez, tanto en el ámbito público como el privado, así como la creación de programas específicos dirigidos a este grupo etari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n este sentido, unos de los desafíos más importantes que enfrenta nuestro país a nivel político, social y económico es aquel generado por los cambios demográficos, siendo el más relevante el envejecimiento acelerado de la población.</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22"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D1DC8-6A45-4CD0-9E0E-55CEC2A65FAA}"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3"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Proyecto</a:t>
            </a:r>
            <a:endParaRPr b="0" lang="en-US" sz="2400" spc="-1" strike="noStrike">
              <a:solidFill>
                <a:srgbClr val="006cb7"/>
              </a:solidFill>
              <a:latin typeface="Verdana"/>
            </a:endParaRPr>
          </a:p>
        </p:txBody>
      </p:sp>
      <p:sp>
        <p:nvSpPr>
          <p:cNvPr id="1825"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El Ministerio de Justicia se propuso, a partir de la ejecución del proyecto de Eurosocial, fortalecer la oferta pública de acceso a la justicia, especialmente la reducción de la barrera sociocultural, dirigida ala población vulnerable del adulto mayor de la sociedad chilena.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Para cumplir con este propósito:</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1.-Se capacitará en temáticas relativas a la atención de adultos mayores y especialmente en atención jurídica, a profesionales que brindan atención actualmente en los Centros Jurídicos de las Corporaciones de Asistencia Judicial, quienes en conjunto con los equipos de los centros, además de prestar los servicios de atención, realizarán actividades con la comunidad, promoviendo y difundiendo los servicios especializados para el adulto mayor. </a:t>
            </a: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2.- Contaremos con la asesoría de expertos internacionales de la Unión Europea o de países latinoamericanos, que permitirán al Gobierno contar con recursos humanos y técnicos, que colaboren con el desarrollo de esta política pública, a fin de generar este gran cambio cultural en la comunidad.</a:t>
            </a:r>
            <a:endParaRPr b="0" lang="en-US" sz="1800" spc="-1" strike="noStrike">
              <a:solidFill>
                <a:srgbClr val="595959"/>
              </a:solidFill>
              <a:latin typeface="Calibri"/>
            </a:endParaRPr>
          </a:p>
        </p:txBody>
      </p:sp>
      <p:sp>
        <p:nvSpPr>
          <p:cNvPr id="1826"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515B3-1EE4-4117-9275-1E66C1BDA39A}"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27"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title"/>
          </p:nvPr>
        </p:nvSpPr>
        <p:spPr>
          <a:xfrm>
            <a:off x="39240" y="-360"/>
            <a:ext cx="8164440" cy="684360"/>
          </a:xfrm>
          <a:prstGeom prst="rect">
            <a:avLst/>
          </a:prstGeom>
          <a:noFill/>
          <a:ln w="0">
            <a:noFill/>
          </a:ln>
        </p:spPr>
        <p:txBody>
          <a:bodyPr anchor="t">
            <a:no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s-ES" sz="2400" spc="-1" strike="noStrike">
                <a:solidFill>
                  <a:srgbClr val="006cb7"/>
                </a:solidFill>
                <a:latin typeface="Verdana"/>
                <a:ea typeface="ヒラギノ角ゴ Pro W3"/>
              </a:rPr>
              <a:t>Objetivos</a:t>
            </a:r>
            <a:endParaRPr b="0" lang="en-US" sz="2400" spc="-1" strike="noStrike">
              <a:solidFill>
                <a:srgbClr val="006cb7"/>
              </a:solidFill>
              <a:latin typeface="Verdana"/>
            </a:endParaRPr>
          </a:p>
        </p:txBody>
      </p:sp>
      <p:sp>
        <p:nvSpPr>
          <p:cNvPr id="1829" name=""/>
          <p:cNvSpPr txBox="1"/>
          <p:nvPr/>
        </p:nvSpPr>
        <p:spPr>
          <a:xfrm>
            <a:off x="407520" y="692280"/>
            <a:ext cx="8031240" cy="547344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ordinación interinstitucional: Entre SENAMA, las Corporaciones de Asistencia Judicial y el Ministerio de Justicia, a través de las Mesas de trabajo; el traspaso de información y experiencias comparadas; la difusión y educación acerca del acceso a la justicia en la población adulto mayor; la capacitación de los operadores del sistema gratuito de asistencia jurídica; y, la realización de protocolos, servirán como insumo para la formulación de nuevas políticas públicas en materia de acceso de justicia en grupos vulnerables.</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Difusión en la atención para el adulto mayor: Contar con una política de difusión y educación adecuada es esencial si se quiere permitir que la población adulto mayor incorpore y asimile la atención en el sistema de justicia, específicamente en las Corporaciones de Asistencia Judicial como un servicio preferencial y de calidad.</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Calibri"/>
              </a:rPr>
              <a:t>Contar con un Protocolo de atención para adultos mayores que acceden a los servicios brindados por los centros jurídicos de los Corporaciones de Asistencia Judicial.</a:t>
            </a:r>
            <a:endParaRPr b="0" lang="en-US" sz="1800" spc="-1" strike="noStrike">
              <a:solidFill>
                <a:srgbClr val="595959"/>
              </a:solidFill>
              <a:latin typeface="Calibri"/>
            </a:endParaRPr>
          </a:p>
          <a:p>
            <a:pPr algn="just">
              <a:spcBef>
                <a:spcPts val="451"/>
              </a:spcBef>
              <a:buClr>
                <a:srgbClr val="595959"/>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
        <p:nvSpPr>
          <p:cNvPr id="1830"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11176-027C-4013-B96D-8586B24C0B46}"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
        <p:nvSpPr>
          <p:cNvPr id="1831" name="Footer Placeholder 10"/>
          <p:cNvSpPr/>
          <p:nvPr/>
        </p:nvSpPr>
        <p:spPr>
          <a:xfrm>
            <a:off x="19080" y="6527880"/>
            <a:ext cx="28954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Verdana"/>
              </a:rPr>
              <a:t>Gobierno de Chile | Ministerio de Justicia</a:t>
            </a:r>
            <a:endParaRPr b="0" lang="en-US" sz="9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Fabiola</cp:lastModifiedBy>
  <cp:lastPrinted>2011-09-01T18:54:59Z</cp:lastPrinted>
  <dcterms:modified xsi:type="dcterms:W3CDTF">2013-01-23T20:09:36Z</dcterms:modified>
  <cp:revision>271</cp:revision>
  <dc:subject/>
  <dc:title>Slide 1</dc:title>
</cp:coreProperties>
</file>