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41.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484.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492.xml.rels" ContentType="application/vnd.openxmlformats-package.relationships+xml"/>
  <Override PartName="/ppt/slideLayouts/_rels/slideLayout487.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485.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77.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39.xml.rels" ContentType="application/vnd.openxmlformats-package.relationships+xml"/>
  <Override PartName="/ppt/slideLayouts/_rels/slideLayout486.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376.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390.xml.rels" ContentType="application/vnd.openxmlformats-package.relationships+xml"/>
  <Override PartName="/ppt/slideLayouts/_rels/slideLayout41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461.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483.xml.rels" ContentType="application/vnd.openxmlformats-package.relationships+xml"/>
  <Override PartName="/ppt/slideLayouts/_rels/slideLayout478.xml.rels" ContentType="application/vnd.openxmlformats-package.relationships+xml"/>
  <Override PartName="/ppt/slideLayouts/_rels/slideLayout365.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69.xml.rels" ContentType="application/vnd.openxmlformats-package.relationships+xml"/>
  <Override PartName="/ppt/slideLayouts/_rels/slideLayout475.xml.rels" ContentType="application/vnd.openxmlformats-package.relationships+xml"/>
  <Override PartName="/ppt/slideLayouts/_rels/slideLayout480.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50.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02.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297.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4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488.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460.xml" ContentType="application/vnd.openxmlformats-officedocument.presentationml.slideLayout+xml"/>
  <Override PartName="/ppt/slideLayouts/slideLayout461.xml" ContentType="application/vnd.openxmlformats-officedocument.presentationml.slideLayout+xml"/>
  <Override PartName="/ppt/slideLayouts/slideLayout462.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66.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0.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452.xml" ContentType="application/vnd.openxmlformats-officedocument.presentationml.slideLayout+xml"/>
  <Override PartName="/ppt/slideLayouts/slideLayout450.xml" ContentType="application/vnd.openxmlformats-officedocument.presentationml.slideLayout+xml"/>
  <Override PartName="/ppt/slideLayouts/slideLayout440.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51.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484.xml" ContentType="application/vnd.openxmlformats-officedocument.presentationml.slideLayout+xml"/>
  <Override PartName="/ppt/slideLayouts/slideLayout78.xml" ContentType="application/vnd.openxmlformats-officedocument.presentationml.slideLayout+xml"/>
  <Override PartName="/ppt/slideLayouts/slideLayout389.xml" ContentType="application/vnd.openxmlformats-officedocument.presentationml.slideLayout+xml"/>
  <Override PartName="/ppt/slideLayouts/slideLayout48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422.xml" ContentType="application/vnd.openxmlformats-officedocument.presentationml.slideLayout+xml"/>
  <Override PartName="/ppt/slideLayouts/slideLayout421.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96.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00.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487.xml" ContentType="application/vnd.openxmlformats-officedocument.presentationml.slideLayout+xml"/>
  <Override PartName="/ppt/slideLayouts/slideLayout382.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486.xml" ContentType="application/vnd.openxmlformats-officedocument.presentationml.slideLayout+xml"/>
  <Override PartName="/ppt/slideLayouts/slideLayout381.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380.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13.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Lst>
  <p:sldIdLst>
    <p:sldId id="256" r:id="rId43"/>
    <p:sldId id="257" r:id="rId44"/>
    <p:sldId id="258" r:id="rId45"/>
    <p:sldId id="259" r:id="rId46"/>
    <p:sldId id="260" r:id="rId47"/>
    <p:sldId id="261" r:id="rId48"/>
    <p:sldId id="26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 Target="slides/slide1.xml"/><Relationship Id="rId44" Type="http://schemas.openxmlformats.org/officeDocument/2006/relationships/slide" Target="slides/slide2.xml"/><Relationship Id="rId45" Type="http://schemas.openxmlformats.org/officeDocument/2006/relationships/slide" Target="slides/slide3.xml"/><Relationship Id="rId46" Type="http://schemas.openxmlformats.org/officeDocument/2006/relationships/slide" Target="slides/slide4.xml"/><Relationship Id="rId47" Type="http://schemas.openxmlformats.org/officeDocument/2006/relationships/slide" Target="slides/slide5.xml"/><Relationship Id="rId48" Type="http://schemas.openxmlformats.org/officeDocument/2006/relationships/slide" Target="slides/slide6.xml"/><Relationship Id="rId49" Type="http://schemas.openxmlformats.org/officeDocument/2006/relationships/slide" Target="slides/slide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FAB6187-E205-41C4-8B66-54FB7370A1C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5E1B293-0334-4BE6-B54B-D4366EAA32B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B471E37-426F-4C70-9BA6-3DE4DD34AEC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38F9E27-1300-4D61-A925-4CB028FD649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6E12BFD-1FDE-4FDB-8D79-623E9E04DCA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2371BF9-6675-438B-8BC2-540567DA363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6E655E5-3C35-46A4-AB86-69C933DEA0C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944CA87-25EA-47F9-8BBF-878632FA741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EDF59B1-8338-4216-853E-A50487D8037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344195B-4D1F-4FFA-8AEA-5BAE183ACA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7F1EB90-CD8D-46FB-9CD9-6DF0256F530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F3BF19D-8225-4D0E-9B9B-0124807A353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58F63C4-C642-45B1-A457-815932EF68B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804DAB2-1C5C-4250-9996-57DB4B54EFF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0B35EE8-C014-45E1-965C-4EEA7604970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05056A3-A2E4-4774-923D-5407BA74398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05E2107-2D63-45FA-B90C-AD90C161ADD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78A8B4F-5342-4AE6-9627-8A58135A046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87046D1-B00D-40A3-A0D3-C5F77906C3A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B364803-A318-4DF7-B936-8B216FFF95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E50692F-47E0-425C-A04A-ED821685775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9A485BC-60E0-4C11-842D-AC0134F8002E}"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3D943E0-8975-4F10-8855-CADAE923ADA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78A86FD-137D-4CD9-A1FC-B49FA8B0FC3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F2E110D-CF48-4474-8F08-63784E5FF8E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2735967-7A49-42A2-BE43-ACA7BBD64A4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6ADD3B0-37EC-4661-9903-4EA91F7BC93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F7322B5-8870-4EF5-B5F3-8DEFD1DA6B0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96F2DB4-519F-4AC3-B366-539BBC61964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A9BD24E-F368-4624-B0E2-D80FDA0E7C7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2A1023F-10B9-4E05-BDB4-01789C2ECE7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03EE357-8F40-49D4-9A19-67856906802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BFECD289-7BC4-4D05-9E07-D161AE0EA15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9B430D3-11E6-42C7-8FCA-3559E980F070}"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EBC24B9F-BC22-4A11-8F47-163E42313DA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241FC33-AB54-4DF5-8530-3FE6547AF44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DDB7AE6-7F93-4B8E-B7BD-0AFF39A27AD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6033F43-498C-4EE4-A1BE-5081BA4D64E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8014669-4795-4B07-9DD2-22C910F6E9D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A63D371-06D2-42F4-A8F0-5823ED5CE5D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5D8F2B2-60CA-4F3E-84EA-D8E428481B2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0FBB91-5001-4F3C-B2C6-654827A8B5F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031A185-CE89-4E58-A38A-91B07ED24DD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2D5263B-40C8-4C31-B572-781C76F2D9D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37A8556-D505-4D9F-96CC-E9B82184C59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BE2D79B3-E960-495A-98EF-D0AEE08DE7F1}"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CF1C5CBF-8124-4EEF-95B0-A3509E63A25A}"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FC42B940-F803-4BC2-8A44-2A5FC830C3D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B716FCA-3E46-482B-A0FF-9C7698BE54C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2775228-0D59-40A7-8A21-BB80BF5EC81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D659E8E-E772-4998-A9DC-47085453449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84C7F43-5236-43AE-A327-C1BC4A41293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1B6895-78A9-4FE6-9EFE-3F34080787C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8C60748-058A-4297-8F0D-E0570AC45EC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33FC58B-FB5C-4E29-B9C0-147D65BA834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F90A7E2-9275-4C40-8D19-47F54B4FC41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EF76787-DE9E-4F3C-BBBC-CF6D0BBA8E3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EE883CE-6AEA-46EF-A9A4-FD11C2741A4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AEB26E9F-D2DD-479E-BB29-084C01CDB54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780E449A-1184-4F78-B5A0-2436CE63EEC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5F412C9-A30A-445B-B0C7-216B918F913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00E154-542D-41B2-8FE5-E1400E4FDDD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D0DAB9-A76F-4248-B581-A14185EBBD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2573D4-DABC-43AC-B9C0-4F7FE7012B44}"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1F80394-AA49-431D-A911-240551058D2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DC95EC-81A7-4C8B-BE76-F2B832F776A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86E28C-13E4-4FF5-B046-D8A1B1DCABF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99A3D0-13A3-485B-B262-7E91A93A5D1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D449D9-47BF-4121-980B-BD943533C50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0C7346-3A7C-4D1D-A241-265A1F6F843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F14E001-CEA9-4577-A494-7D833807469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DD08151-C9A6-40C7-8A2B-8CFC788E0B9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D78E6B6-349C-45D3-AC0C-6887C3339D81}"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B47C722D-BC64-48F0-B65F-9ACE25E284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BA3AB7-3EED-44EE-9B93-59F2AA061B41}"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4112DA8-18D2-4BF4-9355-C62BF75D815E}"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99F68AB-42B4-4E7C-BF80-31313528D6BD}"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ABEBD1E-436B-433D-9EF2-C6987A75B813}"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6EF0DBE-F480-4EF6-BA03-2CA75A690E2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7"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2B197D5-E7A5-46BF-9A06-DF32B640E0D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A3B65CC-2B63-4D28-BDDD-41C21234F800}"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9722CF7-0D44-4E56-AF2E-B227B1E4364C}"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DCFC8E2-37C9-4240-9180-F58FDDFFD5C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8DE8490-8C86-4754-BA7D-A7694434A6A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7D29A3A-F499-4DFD-95E5-B7808D9E7F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6CBE33-3A2A-470B-A5B6-B65CE37A7081}"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4770BD7-4FC0-4C52-A654-B0ADB9FD5278}"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B3C2ABEE-B6CE-4C66-8DEC-3FFD4B1BB60F}"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87097D1-A8D7-45F1-AC5B-0AD1D081E660}"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BD6B0AA-ADE1-4F95-944E-B1F7DC4EB4E0}"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216CFD5-AC8F-44B1-B461-B477030F5FB8}"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F37214A-3489-45F0-9CE6-F20A9308E0EE}"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C2FD2D0-D92F-4C17-BF3B-C29F905AE070}"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C6A6F49-F2BF-4F6E-8085-1F843E6E91E0}"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E17A946-0E25-46BA-B48B-49B9AFAD2049}"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49893F7-0645-42D6-A130-5C0D8B0D84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C23D28-74D2-416E-B70D-91EDBCD49EF4}"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DC48DD2-16B2-438E-AF51-3CDBD042C932}"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088E9B9D-2282-42F4-B77C-78011D97A15D}"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99D65041-FD86-479C-ABDC-9D3A70877728}"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7DAEF0B-3123-436B-B230-C62C6F67E65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0FF891B-F3BB-4294-9BE1-B983AE08AFFD}"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697BAF2-23E2-4095-A944-A81A43225A3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C155D85-EB0E-47BA-9A2E-092DF8D3B6E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231E4D6-EB4E-4BD6-98F0-23AE0101F948}"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5"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069B9AB-D41A-4EAA-93F8-21DCC4254DB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AB9A13-BCAB-4AA8-9987-18C98420A5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14E7B0-21D0-4622-A9D1-F713F745500E}"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015E6B-9104-48E7-8982-97B2E80EEB77}"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20ED5B-D7B0-4505-AB2B-1F47EEADE62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C802AC1-31CA-45F1-B2FB-E7EF5D84BBF9}"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4A395AD-A178-46F9-9C7C-8280BFF3754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52B2AB7-3586-4992-9D23-A664DE3E4E3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5103277B-460D-4920-8FDA-3FB81A5F7DFC}"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41AAE816-2229-465B-8EED-297A674630BD}"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AB22735E-E734-4AC1-83CD-271A848DC31C}"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1ED2C33E-D1BC-45DA-BB16-D070832C27BB}"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C5608633-37E3-4F06-8C13-964D60E0DD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B9E148-751D-4A6A-955B-E01D5854FF12}"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6AC13BE1-0107-4872-8483-2009A4149383}"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33330413-4CD9-41B3-89F5-EB8C03D89DD2}"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9FDA4C66-9F06-42C6-9BB9-838EB4DCCD15}"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7F1E4083-9D60-4107-B2C4-87BD64FBA429}"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D247A510-0B6F-429F-AC34-EB3104103971}"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1E20FB88-2CB8-4392-B17D-07BBD45424F4}"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D3A002C7-1AD7-4EF9-865B-5BDBEF13690C}"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0AD70191-5059-42AF-9D26-8180EB1B016A}"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531019E3-07EC-4B42-B99D-463E80E6C5AE}"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73202B4E-DDB1-4C3B-B5ED-E78B7B6F80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64F469-9F8D-406C-B864-0DD735AC9F5A}"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3AE29675-B282-47BE-8404-C93089DB5D9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2057006A-283A-4004-A7CB-7936AFE77515}"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257059C3-8AF2-452C-B6EA-9D63A554C0F9}"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4AC1A76A-EE4D-4631-BE6B-1EB2F05CAD1F}"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FF81ABA-93C6-4A5D-8686-3695A013989B}"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4C36F7A-A269-4965-80F1-E4FDEE387CB5}"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E175B29B-F3FA-4CE0-B07C-647244FBBEB2}"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9F75F971-7EA4-44B7-B98C-570D747BCBAE}"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74605758-AF5A-4BAE-B784-A3572C13B980}"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A022C945-3887-46AB-A19E-99CA5B389F0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0FCED00-C1E8-48D3-AB9A-CB0288ED8EAF}"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C389428E-D6C4-4C06-9569-1B841AB70A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6C77458A-A370-4B1B-A983-1C077B053E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9E474594-E41F-4732-9B8C-9DE1100BB3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B0296D5D-F5BA-45BC-85F4-5320708F4B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BD6F7764-7B32-47BF-8E5E-5475643B96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6FCDDAB6-9A7E-4A5F-A242-6B77ED3B05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A636F14-ECCB-4BAE-ABF7-AEA81711D7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D1EF0FE-6D2B-4DB3-ABBE-2A2C9AF795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4482ED10-B66C-47DF-9F45-CEB6790728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75DCD4F8-4E1F-4E1F-9EEF-67FD877DE88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6C204A6-34DD-4DE4-B2FC-AEA83C0AE47D}"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F91E7ADB-B8E8-4DBB-8064-E4168506E2B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689E0656-3036-4B13-A891-C6A45E62528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97F9AE26-DC46-4E5F-BEE8-65AF06B86B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C141D021-EBF4-442B-8C22-ABB380E5A8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890E0ADD-1D0B-49E2-8FEF-128A6CAD74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423048A0-D431-4A3B-B1B0-C37DBF69D8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1"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5839C7DD-30B4-428E-A9F0-2E94CBB80D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7E106DCA-B164-425B-AD57-ACA9AB3C95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9B0C33EC-34E2-42F3-8EE0-D6382EF7CA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2D862A38-0113-4991-B7D9-A6F8A2C4C0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CE5B994A-E9CF-465C-820F-47A0A351E1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9BBCABEE-E744-4BF8-BA00-3C74CF4C275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17D40075-1991-41A8-8977-D2524AC5F0F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01723376-C8E3-4CEC-BCA9-841E837DED7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E9220ED9-C8F2-4487-8A38-1C77FD5D26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5C9923C3-41FB-4C89-A9CF-4CC6FE7782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69C8DEB2-1EEA-4724-9521-711DC5ADEA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4007AED3-39F8-40F6-AF0D-E98C0EBB9D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5"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0C8D1CE3-0591-48CA-93EE-EA52C3F6F2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5FF00253-CA56-4D74-A405-56303BD795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BEC13945-31F1-406E-B585-DA2600FF28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D2F99FED-AEE0-4314-A39C-B36A85C159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FCB0EE7B-46A9-438D-8F8A-C927182A09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B8FA8187-20EA-46DE-AD1A-462D97CCD18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C134D302-F5B1-4419-9C16-D85CA19408D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4A35BA56-9AAD-4F80-8558-CE891E786802}"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44510103-3153-4632-A18B-20FBCAB30386}"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721C24C3-FA37-46E6-AB72-621BCE4CA1A8}"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481283D9-3497-4BE7-9DF6-3D2FC1B2FF7C}"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C526585D-B4CA-4CFA-AC67-EBD0F214E876}"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9"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D656B048-1152-4F91-8B16-E5B26DAB3F61}"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3C5F04C0-8EE5-49A0-B62C-24FC8A3C4BEF}"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391C2721-213B-4EC7-BD87-3EBA5752881D}"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5DDA385F-8F74-4525-BD24-CA7FF88F0493}"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18D9C5A8-E839-4674-8EFC-B9F18D47C37B}"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EBAFBEAD-B85E-4283-A984-6EB8FB3C60E2}"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C18722F3-2906-4087-B1D4-3A7A9BE85E9F}"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EDFC9839-F38C-4356-BAFD-832E904DE264}"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C661C668-F613-48D2-AEA6-E4A5E51446DC}"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75BB8A68-D99E-42D4-B8C5-D11D2F3CA485}"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565A59DE-B022-4952-AA99-57E7871F1E44}"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AFF4B4A9-FED9-4837-9316-A0E76569DC2B}"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68344519-BEC2-46C9-A51D-83DC8B2668A1}"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D7553A7F-EE6E-496C-859F-47CE22D34306}"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78E8B647-C08C-4D24-8C78-7E961CB50E9F}"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FE7334AC-DD77-434E-9897-3DB732EDC9D1}"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A8EFE19E-8980-4E25-A666-AC46DAD7EF1B}"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8AB2B5E6-91C8-4B91-BA74-4958AC7E8E46}"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EE720A47-5D90-40BB-90B5-EC737302F371}"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5BCC41AB-CF31-487A-84C8-2779DD065F20}"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2AFD91CD-92FE-4D1C-AE10-46A7D234568A}"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ADC46C72-A02F-4112-9F11-28DCB34A78E2}"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0BE32F22-68F2-4AA8-923A-32D6FBBD3532}"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A2B6CCE2-F3A6-41C9-9F53-D193072897B5}"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49EEDC1F-CF1A-490B-B4CD-D5B7EB02442E}"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FF79C258-3689-4E1A-82AB-27F19855D9B2}"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301DB640-D2BB-4E7C-87E0-CCDC1C682623}"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79F7C66F-E080-4797-A9BE-6B7C37E7B7E1}"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81371D3D-CFBC-4DEF-9B28-5C13E17B5E07}"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80FDA466-CFDC-4D55-BFD3-CA93DF8C8487}"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6931366A-9D4D-4559-97FE-8D9972F2AEAA}"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0636DDCA-994B-405A-A655-A048F96F8A9D}"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EC3F6BB7-4BEF-4609-964B-1CA2F2A79E42}"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0B608C78-323C-4258-90BD-3B25C51E8070}"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2DF65704-8C1A-4FB2-95D4-D57A9BFBCE32}"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F90E052C-C017-462D-95C9-37A765A9B5E0}"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1"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833F0262-C936-4425-AADD-23B45CC98718}"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750D05D1-6FCE-4E69-9938-E56F5E6AD984}"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F7DF581A-B39D-4A1A-93D0-6ACC1B1BC4B4}"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3F10385A-0A36-48D7-9296-C80E840A103B}"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C9223A21-3F1C-4EF0-A6D9-5E90626D4C03}"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F0549679-C685-4C65-AA5C-617DBDCA53C0}"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30A0095A-A481-476E-A0FE-08B2ED0FA57D}"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7EB63AF1-9E1A-48F3-B5B8-342BBA8978AC}"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1355D180-7F65-493B-B466-EFA925E672C4}"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9DA123C3-AF57-4F85-95A3-3682638A97E3}"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2FBD9D13-3DBE-4038-A290-95A5485D024A}"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49B5E953-2583-488F-B7CA-96033EEB030F}"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03BCE350-9156-4ECF-B0E5-D61ADB933C5B}"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B580CE15-FD99-40FD-8153-107E0865FBD8}"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30E6F79E-76F3-4404-8F61-588990B496A4}"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A469F821-133E-4899-A8A3-5167F993D781}"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4E956814-EAA8-4F24-BF35-B7B070268E9E}"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5119D06E-FC01-4E92-86BF-058A553E4C30}"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E7A1B352-D480-4A86-B915-8DBC5FD2A2C8}"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A2F00DBF-E03D-4D46-B4B3-8B4375225C5C}"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94CC41A2-5852-497B-B247-65519E7DFC4F}"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78E417FF-8913-4CD2-B95F-723EA44820CC}"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42476735-2A68-4086-B0CD-3CDCC1DABE7B}"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BFE4DAC0-D717-4192-9856-5C19BD57A9ED}"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9"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9B78EC4F-4203-4FBB-A081-7FE5C745DAC0}"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3DB66C01-D5A8-40B3-A6B8-D12E6A9CBF5C}"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96FB7A24-2786-4BC0-B00E-B32654369906}"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1B26680B-26B7-4861-A64C-42E311E788F8}"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B2846656-056F-4725-8BB8-29E520B09783}"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B27D2312-C3F0-446B-A949-0721E054CE2A}"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A2B7B7C0-FB14-4EA5-9D59-4B5182A5E29A}"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65F30ABD-EF15-47D6-9F31-66B35B680307}"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995D7474-6A11-4CCF-BA95-7082304572EA}"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0E87800B-1AB6-4FB8-8CD1-4E4C13576AE9}"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D55F6CE1-75F0-4E1A-82CB-CC98FE303814}"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50C828B3-BCE1-47AE-A68F-1B5EE450FC22}"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3"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5623790A-550D-42CE-93E0-1978F318BF78}"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D323BA9F-A3D1-4585-B2E4-51FBC92A8709}"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C4B6658B-2C19-44D5-9A50-CECC4CDE148C}"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B03E3A47-DE3E-4769-AED5-4C36C731DB94}"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C1C2232F-1773-4332-90D2-5AB77B7AD034}"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D0B890B2-1EB5-4D9B-BC01-8F983466ACA5}"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538465EB-128F-4BE4-A5C8-F6204E503FF4}"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BF5E1AFF-5E69-442F-9496-58B0D35822C1}"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531FF161-519C-4785-ACA3-688C19B03EDA}"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365A5DA5-A19B-4BCE-912B-83E66B3DA803}"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91966594-F9F9-4DE2-A70A-30AC854972DA}"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B24C83B6-0111-4044-912D-E439372CB506}"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7"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D5B0080E-1931-4D9F-A4B3-F9FE0BE72CBE}"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EA7ED945-608C-4931-8383-39D1937F3A93}"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E21ECBCE-05E3-4E5F-B17B-A78A08C8A802}"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2036DB09-6C7C-4FF2-AF3A-C44EA947EFB6}"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40EB4BDB-D21E-4C40-B223-9D9E5D0CC82D}"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999BDEBE-6CFD-4485-8741-4A9118F0F32A}"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7C26FDA5-F107-4B32-B3DF-9128AFCBDE33}"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6"/>
          </p:nvPr>
        </p:nvSpPr>
        <p:spPr/>
        <p:txBody>
          <a:bodyPr/>
          <a:p>
            <a:fld id="{4B7A1FF8-73B6-4CEA-9458-210B505FD5CD}"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C01AE004-0510-4AC2-87BC-8FCECA6A9D67}"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49BC0BFE-06EF-4B49-82E5-E5561606E21B}"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5E195935-39B1-4978-8C6E-EEB443CCBE16}"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59E5C096-F114-4BC0-927E-72B46D4F0641}"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2"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2ADD5C92-6B2E-4504-8399-19B96ABD2610}"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326D74D4-0395-41A1-9FC9-591EB1AA21C8}"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72C1E3FD-0B52-4181-B619-71983B265BBD}"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9D87CE64-706C-4E83-9EF2-496EF6F7736F}"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1620FA64-5359-4D9D-9CE1-903E91FA21CB}"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6"/>
          </p:nvPr>
        </p:nvSpPr>
        <p:spPr/>
        <p:txBody>
          <a:bodyPr/>
          <a:p>
            <a:fld id="{91C392C7-FC09-49A1-A10E-5587A1784F14}"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6"/>
          </p:nvPr>
        </p:nvSpPr>
        <p:spPr/>
        <p:txBody>
          <a:bodyPr/>
          <a:p>
            <a:fld id="{8A0395D2-F9E4-4121-97FA-39147876DA3A}"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8"/>
          </p:nvPr>
        </p:nvSpPr>
        <p:spPr/>
        <p:txBody>
          <a:bodyPr/>
          <a:p>
            <a:r>
              <a:t>Footer</a:t>
            </a:r>
          </a:p>
        </p:txBody>
      </p:sp>
      <p:sp>
        <p:nvSpPr>
          <p:cNvPr id="3" name="PlaceHolder 2"/>
          <p:cNvSpPr>
            <a:spLocks noGrp="1"/>
          </p:cNvSpPr>
          <p:nvPr>
            <p:ph type="sldNum" idx="79"/>
          </p:nvPr>
        </p:nvSpPr>
        <p:spPr/>
        <p:txBody>
          <a:bodyPr/>
          <a:p>
            <a:fld id="{4BB80AD0-FEEB-42B3-A1B1-069796F3DF21}"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AD3062A3-B273-4511-9C03-D66E33C3FCAB}"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E6563DD7-6215-48C6-A4DE-C3D5DD7E359B}"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3C8047F1-B0C9-4EEC-8422-ED659893BFB8}"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B6062E0F-4E01-467C-99C8-35ED162BB295}"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6"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3C1A7ADA-7FE4-4625-98E8-742EC7F4776C}"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CA467EB8-16FE-4EE9-BF0C-421CEF7B29BE}"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41E257C4-AE3A-4EC7-BF47-DE3B5D35B3CE}"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0F9ED34F-5767-4C05-9358-38E607899DA4}"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AEE19CEC-D755-4B3B-8BC3-B4CAE3B10524}"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8"/>
          </p:nvPr>
        </p:nvSpPr>
        <p:spPr/>
        <p:txBody>
          <a:bodyPr/>
          <a:p>
            <a:r>
              <a:t>Footer</a:t>
            </a:r>
          </a:p>
        </p:txBody>
      </p:sp>
      <p:sp>
        <p:nvSpPr>
          <p:cNvPr id="8" name="PlaceHolder 7"/>
          <p:cNvSpPr>
            <a:spLocks noGrp="1"/>
          </p:cNvSpPr>
          <p:nvPr>
            <p:ph type="sldNum" idx="79"/>
          </p:nvPr>
        </p:nvSpPr>
        <p:spPr/>
        <p:txBody>
          <a:bodyPr/>
          <a:p>
            <a:fld id="{259394A8-9AF2-475E-B086-EB327C293E58}" type="slidenum">
              <a:t>&lt;#&gt;</a:t>
            </a:fld>
          </a:p>
        </p:txBody>
      </p:sp>
      <p:sp>
        <p:nvSpPr>
          <p:cNvPr id="9" name="PlaceHolder 8"/>
          <p:cNvSpPr>
            <a:spLocks noGrp="1"/>
          </p:cNvSpPr>
          <p:nvPr>
            <p:ph type="dt" idx="77"/>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8"/>
          </p:nvPr>
        </p:nvSpPr>
        <p:spPr/>
        <p:txBody>
          <a:bodyPr/>
          <a:p>
            <a:r>
              <a:t>Footer</a:t>
            </a:r>
          </a:p>
        </p:txBody>
      </p:sp>
      <p:sp>
        <p:nvSpPr>
          <p:cNvPr id="10" name="PlaceHolder 9"/>
          <p:cNvSpPr>
            <a:spLocks noGrp="1"/>
          </p:cNvSpPr>
          <p:nvPr>
            <p:ph type="sldNum" idx="79"/>
          </p:nvPr>
        </p:nvSpPr>
        <p:spPr/>
        <p:txBody>
          <a:bodyPr/>
          <a:p>
            <a:fld id="{3D8BBF07-18E2-4ED3-B720-EA187F0BAECE}" type="slidenum">
              <a:t>&lt;#&gt;</a:t>
            </a:fld>
          </a:p>
        </p:txBody>
      </p:sp>
      <p:sp>
        <p:nvSpPr>
          <p:cNvPr id="11" name="PlaceHolder 10"/>
          <p:cNvSpPr>
            <a:spLocks noGrp="1"/>
          </p:cNvSpPr>
          <p:nvPr>
            <p:ph type="dt" idx="77"/>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82"/>
          </p:nvPr>
        </p:nvSpPr>
        <p:spPr/>
        <p:txBody>
          <a:bodyPr/>
          <a:p>
            <a:fld id="{F794F114-265F-4C75-ABF9-3D9156868C48}" type="slidenum">
              <a:t>&lt;#&gt;</a:t>
            </a:fld>
          </a:p>
        </p:txBody>
      </p:sp>
      <p:sp>
        <p:nvSpPr>
          <p:cNvPr id="4" name="PlaceHolder 3"/>
          <p:cNvSpPr>
            <a:spLocks noGrp="1"/>
          </p:cNvSpPr>
          <p:nvPr>
            <p:ph type="dt" idx="80"/>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4FB5483F-D495-42EE-B310-CFDAAE69DD76}"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6D3CB7D2-B837-488A-95D4-E72359658272}"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1C52CE41-26FE-441E-83FE-F3CB03A51522}"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2EF03909-CB51-465C-BEAA-AC515B9739E9}"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0"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E232352F-5EBB-4EAC-993B-070B18AE9B83}"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8CE5C608-E3DD-44CC-9EB3-D1B9DBB84B2A}"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8B281133-955D-45CB-8403-C396A1D5FE3A}"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98E7D1F0-4191-4BE2-9957-559166D8C5F3}"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20742246-A94F-4126-A46D-14DD9A4156C5}"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82"/>
          </p:nvPr>
        </p:nvSpPr>
        <p:spPr/>
        <p:txBody>
          <a:bodyPr/>
          <a:p>
            <a:fld id="{956CA6AC-8E98-4801-BEFF-4D257B34A0FA}" type="slidenum">
              <a:t>&lt;#&gt;</a:t>
            </a:fld>
          </a:p>
        </p:txBody>
      </p:sp>
      <p:sp>
        <p:nvSpPr>
          <p:cNvPr id="9" name="PlaceHolder 8"/>
          <p:cNvSpPr>
            <a:spLocks noGrp="1"/>
          </p:cNvSpPr>
          <p:nvPr>
            <p:ph type="dt" idx="80"/>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82"/>
          </p:nvPr>
        </p:nvSpPr>
        <p:spPr/>
        <p:txBody>
          <a:bodyPr/>
          <a:p>
            <a:fld id="{C672C3E6-B819-41D6-A726-9A4EB99DEBEE}" type="slidenum">
              <a:t>&lt;#&gt;</a:t>
            </a:fld>
          </a:p>
        </p:txBody>
      </p:sp>
      <p:sp>
        <p:nvSpPr>
          <p:cNvPr id="11" name="PlaceHolder 10"/>
          <p:cNvSpPr>
            <a:spLocks noGrp="1"/>
          </p:cNvSpPr>
          <p:nvPr>
            <p:ph type="dt" idx="80"/>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4"/>
          </p:nvPr>
        </p:nvSpPr>
        <p:spPr/>
        <p:txBody>
          <a:bodyPr/>
          <a:p>
            <a:r>
              <a:t>Footer</a:t>
            </a:r>
          </a:p>
        </p:txBody>
      </p:sp>
      <p:sp>
        <p:nvSpPr>
          <p:cNvPr id="3" name="PlaceHolder 2"/>
          <p:cNvSpPr>
            <a:spLocks noGrp="1"/>
          </p:cNvSpPr>
          <p:nvPr>
            <p:ph type="sldNum" idx="85"/>
          </p:nvPr>
        </p:nvSpPr>
        <p:spPr/>
        <p:txBody>
          <a:bodyPr/>
          <a:p>
            <a:fld id="{496534B7-633F-4793-B73D-2160B521DCEF}"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BEBA091B-9FD4-4F95-9BCF-E6C390DD490B}"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4CEB8C1B-7A7A-4009-BBAA-CECD78B96302}"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A6EE5EDA-DFB3-422D-901B-7E3970A9730C}"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81673C0F-A313-405B-B60E-55DECBCE84B0}"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855DAA0B-F479-4A44-A629-A28D675767CA}"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C4D1FC59-A82A-4A15-B697-569146675103}"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695340D1-73F4-4F23-969B-E2697B216667}"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A3BBA976-8C62-48FB-BC7A-00D200558465}"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3B865F03-98DC-4348-AB5A-4B7DDEF6ECE6}"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4"/>
          </p:nvPr>
        </p:nvSpPr>
        <p:spPr/>
        <p:txBody>
          <a:bodyPr/>
          <a:p>
            <a:r>
              <a:t>Footer</a:t>
            </a:r>
          </a:p>
        </p:txBody>
      </p:sp>
      <p:sp>
        <p:nvSpPr>
          <p:cNvPr id="8" name="PlaceHolder 7"/>
          <p:cNvSpPr>
            <a:spLocks noGrp="1"/>
          </p:cNvSpPr>
          <p:nvPr>
            <p:ph type="sldNum" idx="85"/>
          </p:nvPr>
        </p:nvSpPr>
        <p:spPr/>
        <p:txBody>
          <a:bodyPr/>
          <a:p>
            <a:fld id="{98FD3001-65CB-4F04-B36A-C80BC8AA038A}" type="slidenum">
              <a:t>&lt;#&gt;</a:t>
            </a:fld>
          </a:p>
        </p:txBody>
      </p:sp>
      <p:sp>
        <p:nvSpPr>
          <p:cNvPr id="9" name="PlaceHolder 8"/>
          <p:cNvSpPr>
            <a:spLocks noGrp="1"/>
          </p:cNvSpPr>
          <p:nvPr>
            <p:ph type="dt" idx="83"/>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4"/>
          </p:nvPr>
        </p:nvSpPr>
        <p:spPr/>
        <p:txBody>
          <a:bodyPr/>
          <a:p>
            <a:r>
              <a:t>Footer</a:t>
            </a:r>
          </a:p>
        </p:txBody>
      </p:sp>
      <p:sp>
        <p:nvSpPr>
          <p:cNvPr id="10" name="PlaceHolder 9"/>
          <p:cNvSpPr>
            <a:spLocks noGrp="1"/>
          </p:cNvSpPr>
          <p:nvPr>
            <p:ph type="sldNum" idx="85"/>
          </p:nvPr>
        </p:nvSpPr>
        <p:spPr/>
        <p:txBody>
          <a:bodyPr/>
          <a:p>
            <a:fld id="{5D11470D-C06D-46B3-BE51-00D791EB76AC}" type="slidenum">
              <a:t>&lt;#&gt;</a:t>
            </a:fld>
          </a:p>
        </p:txBody>
      </p:sp>
      <p:sp>
        <p:nvSpPr>
          <p:cNvPr id="11" name="PlaceHolder 10"/>
          <p:cNvSpPr>
            <a:spLocks noGrp="1"/>
          </p:cNvSpPr>
          <p:nvPr>
            <p:ph type="dt" idx="83"/>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8"/>
          </p:nvPr>
        </p:nvSpPr>
        <p:spPr/>
        <p:txBody>
          <a:bodyPr/>
          <a:p>
            <a:fld id="{7C112E05-7B2C-4856-B153-436192882942}" type="slidenum">
              <a:t>&lt;#&gt;</a:t>
            </a:fld>
          </a:p>
        </p:txBody>
      </p:sp>
      <p:sp>
        <p:nvSpPr>
          <p:cNvPr id="4" name="PlaceHolder 3"/>
          <p:cNvSpPr>
            <a:spLocks noGrp="1"/>
          </p:cNvSpPr>
          <p:nvPr>
            <p:ph type="dt" idx="8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7DF8996D-677E-4C01-9BA9-B9A3A034D59A}"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01C3BAF0-0F48-4AB5-85D5-B28690A21787}"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676AFD99-F5A2-477A-A030-44808A027126}"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99DD23F1-EE43-4178-A549-8D826A792E53}"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8"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7342D71E-E330-4127-AAD2-DC3F71B9FE68}"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7101202A-FFD0-4A94-89D7-3623F71FF238}"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2A23D2D7-52A5-4CF5-8DB3-972B11D26EE0}"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3AACBABE-09B9-4C87-AF26-792B28696DF1}"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17E8BC31-4A7A-4E07-A6B3-643529027CA5}"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8"/>
          </p:nvPr>
        </p:nvSpPr>
        <p:spPr/>
        <p:txBody>
          <a:bodyPr/>
          <a:p>
            <a:fld id="{515053DB-AE80-4EE5-9904-924DF1E4B49F}" type="slidenum">
              <a:t>&lt;#&gt;</a:t>
            </a:fld>
          </a:p>
        </p:txBody>
      </p:sp>
      <p:sp>
        <p:nvSpPr>
          <p:cNvPr id="9" name="PlaceHolder 8"/>
          <p:cNvSpPr>
            <a:spLocks noGrp="1"/>
          </p:cNvSpPr>
          <p:nvPr>
            <p:ph type="dt" idx="8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8"/>
          </p:nvPr>
        </p:nvSpPr>
        <p:spPr/>
        <p:txBody>
          <a:bodyPr/>
          <a:p>
            <a:fld id="{C0A50D1A-55C6-4F75-A053-411E574DF31C}" type="slidenum">
              <a:t>&lt;#&gt;</a:t>
            </a:fld>
          </a:p>
        </p:txBody>
      </p:sp>
      <p:sp>
        <p:nvSpPr>
          <p:cNvPr id="11" name="PlaceHolder 10"/>
          <p:cNvSpPr>
            <a:spLocks noGrp="1"/>
          </p:cNvSpPr>
          <p:nvPr>
            <p:ph type="dt" idx="86"/>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0"/>
          </p:nvPr>
        </p:nvSpPr>
        <p:spPr/>
        <p:txBody>
          <a:bodyPr/>
          <a:p>
            <a:r>
              <a:t>Footer</a:t>
            </a:r>
          </a:p>
        </p:txBody>
      </p:sp>
      <p:sp>
        <p:nvSpPr>
          <p:cNvPr id="3" name="PlaceHolder 2"/>
          <p:cNvSpPr>
            <a:spLocks noGrp="1"/>
          </p:cNvSpPr>
          <p:nvPr>
            <p:ph type="sldNum" idx="91"/>
          </p:nvPr>
        </p:nvSpPr>
        <p:spPr/>
        <p:txBody>
          <a:bodyPr/>
          <a:p>
            <a:fld id="{C0082388-F5DB-423E-935C-03A6BAFB2BC6}"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47C82FE6-D124-4D92-9DF2-D31FD73E001E}"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D1ABFD2D-1547-44F2-A2D0-1C29EBA67FF9}"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9B4423B6-8128-48D0-9011-54289224A442}"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013DD74B-C469-409B-AC24-3446A777E3F3}"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2"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7BB215AA-503C-4CA5-9016-94FBDA0FF204}"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FE3CA00D-1A6D-4968-B0D2-7A80D974CC56}"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EED31B84-D3B2-4906-9304-EB74B13952B0}"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8EB43912-1B96-453E-B798-70805296E89D}"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16E5EB65-DE43-4975-97F0-8ED32F0FC785}"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90"/>
          </p:nvPr>
        </p:nvSpPr>
        <p:spPr/>
        <p:txBody>
          <a:bodyPr/>
          <a:p>
            <a:r>
              <a:t>Footer</a:t>
            </a:r>
          </a:p>
        </p:txBody>
      </p:sp>
      <p:sp>
        <p:nvSpPr>
          <p:cNvPr id="8" name="PlaceHolder 7"/>
          <p:cNvSpPr>
            <a:spLocks noGrp="1"/>
          </p:cNvSpPr>
          <p:nvPr>
            <p:ph type="sldNum" idx="91"/>
          </p:nvPr>
        </p:nvSpPr>
        <p:spPr/>
        <p:txBody>
          <a:bodyPr/>
          <a:p>
            <a:fld id="{6F5EE258-B618-45A7-A4AF-6A4D0DA1FA81}" type="slidenum">
              <a:t>&lt;#&gt;</a:t>
            </a:fld>
          </a:p>
        </p:txBody>
      </p:sp>
      <p:sp>
        <p:nvSpPr>
          <p:cNvPr id="9" name="PlaceHolder 8"/>
          <p:cNvSpPr>
            <a:spLocks noGrp="1"/>
          </p:cNvSpPr>
          <p:nvPr>
            <p:ph type="dt" idx="89"/>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90"/>
          </p:nvPr>
        </p:nvSpPr>
        <p:spPr/>
        <p:txBody>
          <a:bodyPr/>
          <a:p>
            <a:r>
              <a:t>Footer</a:t>
            </a:r>
          </a:p>
        </p:txBody>
      </p:sp>
      <p:sp>
        <p:nvSpPr>
          <p:cNvPr id="10" name="PlaceHolder 9"/>
          <p:cNvSpPr>
            <a:spLocks noGrp="1"/>
          </p:cNvSpPr>
          <p:nvPr>
            <p:ph type="sldNum" idx="91"/>
          </p:nvPr>
        </p:nvSpPr>
        <p:spPr/>
        <p:txBody>
          <a:bodyPr/>
          <a:p>
            <a:fld id="{A2F5A9B8-A592-4CA1-AF27-7801F2151B83}" type="slidenum">
              <a:t>&lt;#&gt;</a:t>
            </a:fld>
          </a:p>
        </p:txBody>
      </p:sp>
      <p:sp>
        <p:nvSpPr>
          <p:cNvPr id="11" name="PlaceHolder 10"/>
          <p:cNvSpPr>
            <a:spLocks noGrp="1"/>
          </p:cNvSpPr>
          <p:nvPr>
            <p:ph type="dt" idx="89"/>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
        <p:nvSpPr>
          <p:cNvPr id="3" name="PlaceHolder 2"/>
          <p:cNvSpPr>
            <a:spLocks noGrp="1"/>
          </p:cNvSpPr>
          <p:nvPr>
            <p:ph type="sldNum" idx="94"/>
          </p:nvPr>
        </p:nvSpPr>
        <p:spPr/>
        <p:txBody>
          <a:bodyPr/>
          <a:p>
            <a:fld id="{DD81D3DD-5640-4D92-9D86-62CABF7EE665}" type="slidenum">
              <a:t>&lt;#&gt;</a:t>
            </a:fld>
          </a:p>
        </p:txBody>
      </p:sp>
      <p:sp>
        <p:nvSpPr>
          <p:cNvPr id="4" name="PlaceHolder 3"/>
          <p:cNvSpPr>
            <a:spLocks noGrp="1"/>
          </p:cNvSpPr>
          <p:nvPr>
            <p:ph type="dt" idx="92"/>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63A5D571-27DB-4F5D-8809-C3BD683E78D5}"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35E59F11-7953-435D-898A-28233647564B}"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EDF6865F-DC55-486A-8E6F-8509B177BA8D}"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FFDD1F47-8A16-49E4-9B96-74C1F880F14D}"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6"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293E50E3-61FF-427F-8178-201BA406788B}"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6C49A274-E253-4201-9302-B5A016478F48}"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539C893D-FBD6-43B8-932A-098477C0E0CE}"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A22798A1-25EA-4FFA-920C-BE0D65471EA0}"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F1B97D1C-7E52-412F-838D-C3FC1D9BE628}"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93"/>
          </p:nvPr>
        </p:nvSpPr>
        <p:spPr/>
        <p:txBody>
          <a:bodyPr/>
          <a:p>
            <a:r>
              <a:t>Footer</a:t>
            </a:r>
          </a:p>
        </p:txBody>
      </p:sp>
      <p:sp>
        <p:nvSpPr>
          <p:cNvPr id="8" name="PlaceHolder 7"/>
          <p:cNvSpPr>
            <a:spLocks noGrp="1"/>
          </p:cNvSpPr>
          <p:nvPr>
            <p:ph type="sldNum" idx="94"/>
          </p:nvPr>
        </p:nvSpPr>
        <p:spPr/>
        <p:txBody>
          <a:bodyPr/>
          <a:p>
            <a:fld id="{2C9AE7D5-9497-41C9-AB85-0FFA91B88D74}" type="slidenum">
              <a:t>&lt;#&gt;</a:t>
            </a:fld>
          </a:p>
        </p:txBody>
      </p:sp>
      <p:sp>
        <p:nvSpPr>
          <p:cNvPr id="9" name="PlaceHolder 8"/>
          <p:cNvSpPr>
            <a:spLocks noGrp="1"/>
          </p:cNvSpPr>
          <p:nvPr>
            <p:ph type="dt" idx="92"/>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93"/>
          </p:nvPr>
        </p:nvSpPr>
        <p:spPr/>
        <p:txBody>
          <a:bodyPr/>
          <a:p>
            <a:r>
              <a:t>Footer</a:t>
            </a:r>
          </a:p>
        </p:txBody>
      </p:sp>
      <p:sp>
        <p:nvSpPr>
          <p:cNvPr id="10" name="PlaceHolder 9"/>
          <p:cNvSpPr>
            <a:spLocks noGrp="1"/>
          </p:cNvSpPr>
          <p:nvPr>
            <p:ph type="sldNum" idx="94"/>
          </p:nvPr>
        </p:nvSpPr>
        <p:spPr/>
        <p:txBody>
          <a:bodyPr/>
          <a:p>
            <a:fld id="{ADBF7CE8-B5DC-40D5-9D14-BCD27BEE90F6}" type="slidenum">
              <a:t>&lt;#&gt;</a:t>
            </a:fld>
          </a:p>
        </p:txBody>
      </p:sp>
      <p:sp>
        <p:nvSpPr>
          <p:cNvPr id="11" name="PlaceHolder 10"/>
          <p:cNvSpPr>
            <a:spLocks noGrp="1"/>
          </p:cNvSpPr>
          <p:nvPr>
            <p:ph type="dt" idx="92"/>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6"/>
          </p:nvPr>
        </p:nvSpPr>
        <p:spPr/>
        <p:txBody>
          <a:bodyPr/>
          <a:p>
            <a:r>
              <a:t>Footer</a:t>
            </a:r>
          </a:p>
        </p:txBody>
      </p:sp>
      <p:sp>
        <p:nvSpPr>
          <p:cNvPr id="3" name="PlaceHolder 2"/>
          <p:cNvSpPr>
            <a:spLocks noGrp="1"/>
          </p:cNvSpPr>
          <p:nvPr>
            <p:ph type="sldNum" idx="97"/>
          </p:nvPr>
        </p:nvSpPr>
        <p:spPr/>
        <p:txBody>
          <a:bodyPr/>
          <a:p>
            <a:fld id="{1DA9AD1E-296E-4C9D-AB76-2C9ACA91F8A6}" type="slidenum">
              <a:t>&lt;#&gt;</a:t>
            </a:fld>
          </a:p>
        </p:txBody>
      </p:sp>
      <p:sp>
        <p:nvSpPr>
          <p:cNvPr id="4" name="PlaceHolder 3"/>
          <p:cNvSpPr>
            <a:spLocks noGrp="1"/>
          </p:cNvSpPr>
          <p:nvPr>
            <p:ph type="dt" idx="95"/>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FD992139-3388-4194-BE3B-C6AAA95C62D1}"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375AF2C3-E35D-4F09-A33B-E48FDE59D4C4}"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291C3996-BBE3-41F5-BBDA-528D17783192}"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7A5180C1-57D5-453A-AEF1-A070F24ABAE9}"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0"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E6FA6B39-FCBB-483B-B62E-E348651E2544}"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8DDF8349-3973-440C-83F7-73257ECD89C7}"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A7DAE6F1-9ADE-4103-A8D9-48DC9D441461}"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BB2141AF-7B91-4D2D-A016-83E8744AC4E2}"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E5ED3D31-B51E-423E-A721-4C7F5B81640E}"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96"/>
          </p:nvPr>
        </p:nvSpPr>
        <p:spPr/>
        <p:txBody>
          <a:bodyPr/>
          <a:p>
            <a:r>
              <a:t>Footer</a:t>
            </a:r>
          </a:p>
        </p:txBody>
      </p:sp>
      <p:sp>
        <p:nvSpPr>
          <p:cNvPr id="8" name="PlaceHolder 7"/>
          <p:cNvSpPr>
            <a:spLocks noGrp="1"/>
          </p:cNvSpPr>
          <p:nvPr>
            <p:ph type="sldNum" idx="97"/>
          </p:nvPr>
        </p:nvSpPr>
        <p:spPr/>
        <p:txBody>
          <a:bodyPr/>
          <a:p>
            <a:fld id="{2E8FC57E-B64F-4377-95F7-A42005D23B10}" type="slidenum">
              <a:t>&lt;#&gt;</a:t>
            </a:fld>
          </a:p>
        </p:txBody>
      </p:sp>
      <p:sp>
        <p:nvSpPr>
          <p:cNvPr id="9" name="PlaceHolder 8"/>
          <p:cNvSpPr>
            <a:spLocks noGrp="1"/>
          </p:cNvSpPr>
          <p:nvPr>
            <p:ph type="dt" idx="95"/>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96"/>
          </p:nvPr>
        </p:nvSpPr>
        <p:spPr/>
        <p:txBody>
          <a:bodyPr/>
          <a:p>
            <a:r>
              <a:t>Footer</a:t>
            </a:r>
          </a:p>
        </p:txBody>
      </p:sp>
      <p:sp>
        <p:nvSpPr>
          <p:cNvPr id="10" name="PlaceHolder 9"/>
          <p:cNvSpPr>
            <a:spLocks noGrp="1"/>
          </p:cNvSpPr>
          <p:nvPr>
            <p:ph type="sldNum" idx="97"/>
          </p:nvPr>
        </p:nvSpPr>
        <p:spPr/>
        <p:txBody>
          <a:bodyPr/>
          <a:p>
            <a:fld id="{2F4CF361-6DE1-46FD-BA08-42B15FB4C1E6}" type="slidenum">
              <a:t>&lt;#&gt;</a:t>
            </a:fld>
          </a:p>
        </p:txBody>
      </p:sp>
      <p:sp>
        <p:nvSpPr>
          <p:cNvPr id="11" name="PlaceHolder 10"/>
          <p:cNvSpPr>
            <a:spLocks noGrp="1"/>
          </p:cNvSpPr>
          <p:nvPr>
            <p:ph type="dt" idx="95"/>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sldNum" idx="100"/>
          </p:nvPr>
        </p:nvSpPr>
        <p:spPr/>
        <p:txBody>
          <a:bodyPr/>
          <a:p>
            <a:fld id="{21674BE2-C9B4-4BE1-8E86-831383175ADF}" type="slidenum">
              <a:t>&lt;#&gt;</a:t>
            </a:fld>
          </a:p>
        </p:txBody>
      </p:sp>
      <p:sp>
        <p:nvSpPr>
          <p:cNvPr id="4" name="PlaceHolder 3"/>
          <p:cNvSpPr>
            <a:spLocks noGrp="1"/>
          </p:cNvSpPr>
          <p:nvPr>
            <p:ph type="dt" idx="98"/>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C0C1DFF0-2E25-46DC-905D-0F6C8BC6FEE5}"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0488D8D7-BA70-46B4-B8CD-247A8DAF22C7}"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D07A4ACA-DB02-495C-8003-C5498D507328}"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06DCF1D3-6CB9-49C0-893D-37FF102F2F1E}"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DE6ECFCD-4542-4824-BF97-45C602326438}"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FCCE618D-1953-4FB7-8204-87FA0A387166}"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9A54CD44-0D45-497B-B0A2-F0CF65FCB530}"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7253124B-7E11-4E31-8589-431553E287C7}"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113078A0-3713-41F1-A1E3-66BC2C2C47BA}"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sldNum" idx="100"/>
          </p:nvPr>
        </p:nvSpPr>
        <p:spPr/>
        <p:txBody>
          <a:bodyPr/>
          <a:p>
            <a:fld id="{82A1F8C2-E0F9-460E-91CB-366F462905EE}" type="slidenum">
              <a:t>&lt;#&gt;</a:t>
            </a:fld>
          </a:p>
        </p:txBody>
      </p:sp>
      <p:sp>
        <p:nvSpPr>
          <p:cNvPr id="9" name="PlaceHolder 8"/>
          <p:cNvSpPr>
            <a:spLocks noGrp="1"/>
          </p:cNvSpPr>
          <p:nvPr>
            <p:ph type="dt" idx="98"/>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sldNum" idx="100"/>
          </p:nvPr>
        </p:nvSpPr>
        <p:spPr/>
        <p:txBody>
          <a:bodyPr/>
          <a:p>
            <a:fld id="{3BBE77D1-2E40-466C-9A3D-CABC2A74C0AB}" type="slidenum">
              <a:t>&lt;#&gt;</a:t>
            </a:fld>
          </a:p>
        </p:txBody>
      </p:sp>
      <p:sp>
        <p:nvSpPr>
          <p:cNvPr id="11" name="PlaceHolder 10"/>
          <p:cNvSpPr>
            <a:spLocks noGrp="1"/>
          </p:cNvSpPr>
          <p:nvPr>
            <p:ph type="dt" idx="98"/>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2"/>
          </p:nvPr>
        </p:nvSpPr>
        <p:spPr/>
        <p:txBody>
          <a:bodyPr/>
          <a:p>
            <a:r>
              <a:t>Footer</a:t>
            </a:r>
          </a:p>
        </p:txBody>
      </p:sp>
      <p:sp>
        <p:nvSpPr>
          <p:cNvPr id="3" name="PlaceHolder 2"/>
          <p:cNvSpPr>
            <a:spLocks noGrp="1"/>
          </p:cNvSpPr>
          <p:nvPr>
            <p:ph type="sldNum" idx="103"/>
          </p:nvPr>
        </p:nvSpPr>
        <p:spPr/>
        <p:txBody>
          <a:bodyPr/>
          <a:p>
            <a:fld id="{F354CC5E-41BA-481F-8460-BEE5226391A2}" type="slidenum">
              <a:t>&lt;#&gt;</a:t>
            </a:fld>
          </a:p>
        </p:txBody>
      </p:sp>
      <p:sp>
        <p:nvSpPr>
          <p:cNvPr id="4" name="PlaceHolder 3"/>
          <p:cNvSpPr>
            <a:spLocks noGrp="1"/>
          </p:cNvSpPr>
          <p:nvPr>
            <p:ph type="dt" idx="10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C4E97AFF-B080-4B22-85A3-6FB07525B7DD}"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95BFEEA9-58EC-4D45-A250-30FB974A3819}"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3D905F2E-0D32-4FC8-A42D-4CEC37D3DDF5}"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E3728BA0-478C-48BA-B78B-04DC5BA69893}"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8"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4C79A09A-C088-460C-9A30-644F0654C0B0}"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6D126D1A-5165-46F6-A51B-B50E898F3032}"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5B5C59B2-C445-49DC-999F-FE6D982470B7}"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7D067379-56F9-40F1-94F2-E0A23E2E95EA}"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81A0F02A-C5C7-4559-AFD4-907EA99358A8}"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02"/>
          </p:nvPr>
        </p:nvSpPr>
        <p:spPr/>
        <p:txBody>
          <a:bodyPr/>
          <a:p>
            <a:r>
              <a:t>Footer</a:t>
            </a:r>
          </a:p>
        </p:txBody>
      </p:sp>
      <p:sp>
        <p:nvSpPr>
          <p:cNvPr id="8" name="PlaceHolder 7"/>
          <p:cNvSpPr>
            <a:spLocks noGrp="1"/>
          </p:cNvSpPr>
          <p:nvPr>
            <p:ph type="sldNum" idx="103"/>
          </p:nvPr>
        </p:nvSpPr>
        <p:spPr/>
        <p:txBody>
          <a:bodyPr/>
          <a:p>
            <a:fld id="{8469F59A-523A-43CF-A83F-7861EA7417C5}" type="slidenum">
              <a:t>&lt;#&gt;</a:t>
            </a:fld>
          </a:p>
        </p:txBody>
      </p:sp>
      <p:sp>
        <p:nvSpPr>
          <p:cNvPr id="9" name="PlaceHolder 8"/>
          <p:cNvSpPr>
            <a:spLocks noGrp="1"/>
          </p:cNvSpPr>
          <p:nvPr>
            <p:ph type="dt" idx="10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02"/>
          </p:nvPr>
        </p:nvSpPr>
        <p:spPr/>
        <p:txBody>
          <a:bodyPr/>
          <a:p>
            <a:r>
              <a:t>Footer</a:t>
            </a:r>
          </a:p>
        </p:txBody>
      </p:sp>
      <p:sp>
        <p:nvSpPr>
          <p:cNvPr id="10" name="PlaceHolder 9"/>
          <p:cNvSpPr>
            <a:spLocks noGrp="1"/>
          </p:cNvSpPr>
          <p:nvPr>
            <p:ph type="sldNum" idx="103"/>
          </p:nvPr>
        </p:nvSpPr>
        <p:spPr/>
        <p:txBody>
          <a:bodyPr/>
          <a:p>
            <a:fld id="{2EF1E772-160B-4D4B-8A39-0DF7DC6C48E3}" type="slidenum">
              <a:t>&lt;#&gt;</a:t>
            </a:fld>
          </a:p>
        </p:txBody>
      </p:sp>
      <p:sp>
        <p:nvSpPr>
          <p:cNvPr id="11" name="PlaceHolder 10"/>
          <p:cNvSpPr>
            <a:spLocks noGrp="1"/>
          </p:cNvSpPr>
          <p:nvPr>
            <p:ph type="dt" idx="101"/>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sldNum" idx="106"/>
          </p:nvPr>
        </p:nvSpPr>
        <p:spPr/>
        <p:txBody>
          <a:bodyPr/>
          <a:p>
            <a:fld id="{BACAB536-CACF-40B4-A495-3D007C482C57}" type="slidenum">
              <a:t>&lt;#&gt;</a:t>
            </a:fld>
          </a:p>
        </p:txBody>
      </p:sp>
      <p:sp>
        <p:nvSpPr>
          <p:cNvPr id="4" name="PlaceHolder 3"/>
          <p:cNvSpPr>
            <a:spLocks noGrp="1"/>
          </p:cNvSpPr>
          <p:nvPr>
            <p:ph type="dt" idx="104"/>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BD7311F2-F3D7-452A-A134-61E114929AC8}"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B5350008-F830-4032-A7D0-C2AACFDACEDC}"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75047D0A-32A4-4265-927C-06E24F4F4FD1}"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CD433A9D-4A33-48FE-A19E-B85C344D7726}"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2"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1EC63816-FFE5-4C42-A67C-CF2AD25BD596}"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6E2689F8-4164-4719-85EB-8137873AB321}"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75ACC2CF-BE7B-445A-AC5F-FC32210C2551}"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CE1F9DD9-4ABB-4F56-8920-AAF4623CD5C0}"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C1BF12-2872-4E25-BC30-2AF16927B5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4102F739-64BC-4B9C-9931-A6EDF2C62E2F}"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sldNum" idx="106"/>
          </p:nvPr>
        </p:nvSpPr>
        <p:spPr/>
        <p:txBody>
          <a:bodyPr/>
          <a:p>
            <a:fld id="{7E37541A-F982-47DA-8851-09892201BEEA}" type="slidenum">
              <a:t>&lt;#&gt;</a:t>
            </a:fld>
          </a:p>
        </p:txBody>
      </p:sp>
      <p:sp>
        <p:nvSpPr>
          <p:cNvPr id="9" name="PlaceHolder 8"/>
          <p:cNvSpPr>
            <a:spLocks noGrp="1"/>
          </p:cNvSpPr>
          <p:nvPr>
            <p:ph type="dt" idx="104"/>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8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sldNum" idx="106"/>
          </p:nvPr>
        </p:nvSpPr>
        <p:spPr/>
        <p:txBody>
          <a:bodyPr/>
          <a:p>
            <a:fld id="{60437AA2-1680-4442-BCDC-94040AED458F}" type="slidenum">
              <a:t>&lt;#&gt;</a:t>
            </a:fld>
          </a:p>
        </p:txBody>
      </p:sp>
      <p:sp>
        <p:nvSpPr>
          <p:cNvPr id="11" name="PlaceHolder 10"/>
          <p:cNvSpPr>
            <a:spLocks noGrp="1"/>
          </p:cNvSpPr>
          <p:nvPr>
            <p:ph type="dt" idx="10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BDEC3F-A09A-42C0-AB17-32343AD174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050972-EBAF-4A04-97A9-55F666FB2C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0C92AB-958C-4D4C-900C-4E11B36A16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E30ABC-E89E-4805-9004-D333B8BE54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3CEF4D-FB82-44F3-999E-82F5BEC6AE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95443F-19F3-45F1-A415-45D65ACC63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CFAE34-B279-40FE-8D28-140742D264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7416DF-F88F-410C-81F1-73F4AAAF9E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12C785-4254-4696-B6AB-3482F051B2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20F79A-9188-4CDC-AD05-A49B7196ED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92BFAD-2B78-4073-A9C3-B875B6C7B9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3FD42CD-807E-4945-AABA-ECBBBBECDD2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9253158-86A2-48F3-AA55-B512FBFFDDB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F59D006-7265-47EE-ACD6-2E3AFBC8BBA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90CA0A2-0EF2-4D63-A8EE-C05550EBAA3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20ACEB9-60C2-4DF7-AF71-4546C26422A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C230360-839F-4A31-A46F-0F05B54D4E0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3C705C1-EE3B-4A05-B40E-520A7FB187B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A36F25A-933C-4840-9923-966146D2FC4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076CABB-4A7A-4B96-9E56-C7C8A14727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9E5ACAF-85EC-4331-8765-F73A848421F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9197631-A54B-455A-BAF0-6AD6F4B88C5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63B2672-5007-4CCD-865D-4D1A60E7DE7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E1C7AD6-4D69-4ADD-91FD-5B18B95230E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68DF4A1-5180-4658-8B12-78EBA42AC53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E7DA720-130F-4417-95A4-52CCD255D5E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C9352BA-CB15-4A36-A82F-EAE8ABD167F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0119F52-51DB-4AF9-8224-D2880DED62E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B547DD6-C2B8-4138-ACD2-3A92F6CC7E5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A1F0867-A054-4395-BE58-FD346387B66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5BEF7C2-0FAA-4C8A-A273-733CA75105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8B633FE-0BD9-45FB-8AB5-163F350933D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7987E34-2FEB-414E-8308-CFB001EE924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DAB5BD4-0368-4420-8740-9F71DCD2525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B18069B-621A-444C-8EBF-B772B6DFEA2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48C1051-28A4-489B-9F42-96AFCE13497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FD294D4-2ED4-4FA8-94BC-A8A9B5D58CD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476ADBF-3756-4BA2-877B-FD9B86027DC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EE7C78C-71CC-44CE-9391-641B6632CAF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71F3680-1897-461B-A1B4-83197A369C2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4E63EB1-830A-4EA0-8ED9-E262D52D6A6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38F001C-F548-402C-8102-B5ED2110323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0B052AA-EADD-4969-91A1-28695FA7470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2F60C96-EE4F-421C-9E12-01CD3E63A89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895837B-D53C-4340-AFAD-154B09B8DD2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EBE791F-4115-458A-9161-1199D4632F2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30B1508-47E2-4517-ABF1-88074604314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90B3951-1C7E-4193-A74A-BB5C09F7EA4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4E6D64D-7E75-4E73-BC5F-BBB2DF5773F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2487C3B-2CEC-4BB2-99EB-2FB73373126B}" type="slidenum">
              <a:t>&lt;#&gt;</a:t>
            </a:fld>
          </a:p>
        </p:txBody>
      </p:sp>
      <p:sp>
        <p:nvSpPr>
          <p:cNvPr id="6" name="PlaceHolder 5"/>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4.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4.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4.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4.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4.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4.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4.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4.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4.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4.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4.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4.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4.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4.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4.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4.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4.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4.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4.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4.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4.pn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0"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 name="Rectangle 65"/>
          <p:cNvSpPr/>
          <p:nvPr/>
        </p:nvSpPr>
        <p:spPr>
          <a:xfrm>
            <a:off x="1566720" y="3333600"/>
            <a:ext cx="126072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 name="Picture 1" descr=""/>
          <p:cNvPicPr/>
          <p:nvPr/>
        </p:nvPicPr>
        <p:blipFill>
          <a:blip r:embed="rId2"/>
          <a:stretch/>
        </p:blipFill>
        <p:spPr>
          <a:xfrm>
            <a:off x="647640" y="3452760"/>
            <a:ext cx="803160" cy="585720"/>
          </a:xfrm>
          <a:prstGeom prst="rect">
            <a:avLst/>
          </a:prstGeom>
          <a:ln w="0">
            <a:noFill/>
          </a:ln>
        </p:spPr>
      </p:pic>
      <p:pic>
        <p:nvPicPr>
          <p:cNvPr id="3" name="Picture 1" descr=""/>
          <p:cNvPicPr/>
          <p:nvPr/>
        </p:nvPicPr>
        <p:blipFill>
          <a:blip r:embed="rId3"/>
          <a:stretch/>
        </p:blipFill>
        <p:spPr>
          <a:xfrm>
            <a:off x="1677960" y="3452760"/>
            <a:ext cx="1031760" cy="419040"/>
          </a:xfrm>
          <a:prstGeom prst="rect">
            <a:avLst/>
          </a:prstGeom>
          <a:ln w="0">
            <a:noFill/>
          </a:ln>
        </p:spPr>
      </p:pic>
      <p:sp>
        <p:nvSpPr>
          <p:cNvPr id="4"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 name="Rectangle 71"/>
          <p:cNvSpPr/>
          <p:nvPr/>
        </p:nvSpPr>
        <p:spPr>
          <a:xfrm>
            <a:off x="1566720" y="0"/>
            <a:ext cx="126072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1"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03"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404" name="PlaceHolder 3"/>
          <p:cNvSpPr>
            <a:spLocks noGrp="1"/>
          </p:cNvSpPr>
          <p:nvPr>
            <p:ph type="ftr" idx="18"/>
          </p:nvPr>
        </p:nvSpPr>
        <p:spPr>
          <a:xfrm>
            <a:off x="18720" y="6527520"/>
            <a:ext cx="2895480" cy="2458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900" spc="-1" strike="noStrike">
                <a:solidFill>
                  <a:srgbClr val="898989"/>
                </a:solidFill>
                <a:latin typeface="Verdana"/>
                <a:ea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898989"/>
                </a:solidFill>
                <a:latin typeface="Verdana"/>
                <a:ea typeface="Verdana"/>
              </a:rPr>
              <a:t>Gobierno de Chile | Ministerio del Interior</a:t>
            </a: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p:txBody>
      </p:sp>
      <p:sp>
        <p:nvSpPr>
          <p:cNvPr id="405" name="PlaceHolder 4"/>
          <p:cNvSpPr>
            <a:spLocks noGrp="1"/>
          </p:cNvSpPr>
          <p:nvPr>
            <p:ph type="sldNum" idx="19"/>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0955B8-43CB-4FDF-9DBD-03FAAB3768E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3"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5"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47"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448"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DC3819-B872-4294-8BFD-206A8CE3486D}"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49" name="PlaceHolder 4"/>
          <p:cNvSpPr>
            <a:spLocks noGrp="1"/>
          </p:cNvSpPr>
          <p:nvPr>
            <p:ph type="ftr" idx="21"/>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0" name="PlaceHolder 5"/>
          <p:cNvSpPr>
            <a:spLocks noGrp="1"/>
          </p:cNvSpPr>
          <p:nvPr>
            <p:ph type="sldNum" idx="22"/>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88C819-01BC-4439-AE0E-8D29F1D1991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8"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9"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0"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92"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493"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55DABA-CD2E-4BAB-88B5-30FAE14E7520}"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94" name="PlaceHolder 4"/>
          <p:cNvSpPr>
            <a:spLocks noGrp="1"/>
          </p:cNvSpPr>
          <p:nvPr>
            <p:ph type="ftr" idx="24"/>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5" name="PlaceHolder 5"/>
          <p:cNvSpPr>
            <a:spLocks noGrp="1"/>
          </p:cNvSpPr>
          <p:nvPr>
            <p:ph type="sldNum" idx="25"/>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862A17-65EF-4059-94E4-977E3CECCA0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3"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4"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537"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538"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03924A-6661-4B9E-8C8F-B99758DCF140}"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539" name="PlaceHolder 4"/>
          <p:cNvSpPr>
            <a:spLocks noGrp="1"/>
          </p:cNvSpPr>
          <p:nvPr>
            <p:ph type="ftr" idx="27"/>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0" name="PlaceHolder 5"/>
          <p:cNvSpPr>
            <a:spLocks noGrp="1"/>
          </p:cNvSpPr>
          <p:nvPr>
            <p:ph type="sldNum" idx="28"/>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3BC651-E37B-4432-A3C8-EB299AF0408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8"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9"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0"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582"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583" name="PlaceHolder 3"/>
          <p:cNvSpPr>
            <a:spLocks noGrp="1"/>
          </p:cNvSpPr>
          <p:nvPr>
            <p:ph type="ftr" idx="29"/>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4" name="PlaceHolder 4"/>
          <p:cNvSpPr>
            <a:spLocks noGrp="1"/>
          </p:cNvSpPr>
          <p:nvPr>
            <p:ph type="sldNum" idx="30"/>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DD3BC0-3978-4F93-BE32-CE87867179C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2"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4"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626"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627" name="PlaceHolder 3"/>
          <p:cNvSpPr>
            <a:spLocks noGrp="1"/>
          </p:cNvSpPr>
          <p:nvPr>
            <p:ph type="ftr" idx="31"/>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8" name="PlaceHolder 4"/>
          <p:cNvSpPr>
            <a:spLocks noGrp="1"/>
          </p:cNvSpPr>
          <p:nvPr>
            <p:ph type="sldNum" idx="32"/>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904620-2898-464C-BBDA-2BAA0AF4146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6"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7"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8"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670"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671" name="PlaceHolder 3"/>
          <p:cNvSpPr>
            <a:spLocks noGrp="1"/>
          </p:cNvSpPr>
          <p:nvPr>
            <p:ph type="ftr" idx="33"/>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2" name="PlaceHolder 4"/>
          <p:cNvSpPr>
            <a:spLocks noGrp="1"/>
          </p:cNvSpPr>
          <p:nvPr>
            <p:ph type="sldNum" idx="34"/>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8B5574-100F-428C-AEC0-65AE4056D1B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0"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1"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2"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714"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715" name="PlaceHolder 3"/>
          <p:cNvSpPr>
            <a:spLocks noGrp="1"/>
          </p:cNvSpPr>
          <p:nvPr>
            <p:ph type="ftr" idx="35"/>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6" name="PlaceHolder 4"/>
          <p:cNvSpPr>
            <a:spLocks noGrp="1"/>
          </p:cNvSpPr>
          <p:nvPr>
            <p:ph type="sldNum" idx="36"/>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EB9A22-E96F-4A3E-A404-B64CEF00E73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4"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5"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6"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758"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759" name="PlaceHolder 3"/>
          <p:cNvSpPr>
            <a:spLocks noGrp="1"/>
          </p:cNvSpPr>
          <p:nvPr>
            <p:ph type="ftr" idx="37"/>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0" name="PlaceHolder 4"/>
          <p:cNvSpPr>
            <a:spLocks noGrp="1"/>
          </p:cNvSpPr>
          <p:nvPr>
            <p:ph type="sldNum" idx="38"/>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E0841B-7050-477D-93A7-8D0A0113545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8"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9"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0"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802"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803" name="PlaceHolder 3"/>
          <p:cNvSpPr>
            <a:spLocks noGrp="1"/>
          </p:cNvSpPr>
          <p:nvPr>
            <p:ph type="ftr" idx="39"/>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4" name="PlaceHolder 4"/>
          <p:cNvSpPr>
            <a:spLocks noGrp="1"/>
          </p:cNvSpPr>
          <p:nvPr>
            <p:ph type="sldNum" idx="40"/>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A20F26-7AD9-4C68-80F4-76530EF170A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3"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44" name="PlaceHolder 3"/>
          <p:cNvSpPr>
            <a:spLocks noGrp="1"/>
          </p:cNvSpPr>
          <p:nvPr>
            <p:ph type="ftr" idx="1"/>
          </p:nvPr>
        </p:nvSpPr>
        <p:spPr>
          <a:xfrm>
            <a:off x="18720" y="6527520"/>
            <a:ext cx="2895480" cy="2458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900" spc="-1" strike="noStrike">
                <a:solidFill>
                  <a:srgbClr val="898989"/>
                </a:solidFill>
                <a:latin typeface="Verdana"/>
                <a:ea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898989"/>
                </a:solidFill>
                <a:latin typeface="Verdana"/>
                <a:ea typeface="Verdana"/>
              </a:rPr>
              <a:t>Gobierno de Chile | Ministerio del Interior</a:t>
            </a:r>
            <a:endParaRPr b="0" lang="en-US" sz="900" spc="-1" strike="noStrike">
              <a:solidFill>
                <a:srgbClr val="000000"/>
              </a:solidFill>
              <a:latin typeface="Times New Roman"/>
            </a:endParaRPr>
          </a:p>
        </p:txBody>
      </p:sp>
      <p:sp>
        <p:nvSpPr>
          <p:cNvPr id="45" name="PlaceHolder 4"/>
          <p:cNvSpPr>
            <a:spLocks noGrp="1"/>
          </p:cNvSpPr>
          <p:nvPr>
            <p:ph type="sldNum" idx="2"/>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8C403D-A61D-4DFF-928E-E17E4FBFBCB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2"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3"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844" name="Picture 15" descr="LOGO"/>
          <p:cNvPicPr/>
          <p:nvPr/>
        </p:nvPicPr>
        <p:blipFill>
          <a:blip r:embed="rId2"/>
          <a:stretch/>
        </p:blipFill>
        <p:spPr>
          <a:xfrm>
            <a:off x="7093080" y="2421000"/>
            <a:ext cx="2158920" cy="1950840"/>
          </a:xfrm>
          <a:prstGeom prst="rect">
            <a:avLst/>
          </a:prstGeom>
          <a:ln w="0">
            <a:noFill/>
          </a:ln>
        </p:spPr>
      </p:pic>
      <p:sp>
        <p:nvSpPr>
          <p:cNvPr id="84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846" name="PlaceHolder 2"/>
          <p:cNvSpPr>
            <a:spLocks noGrp="1"/>
          </p:cNvSpPr>
          <p:nvPr>
            <p:ph type="dt" idx="4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4A5EC2-745C-4FCB-9B8F-B2DB493A8038}"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847" name="PlaceHolder 3"/>
          <p:cNvSpPr>
            <a:spLocks noGrp="1"/>
          </p:cNvSpPr>
          <p:nvPr>
            <p:ph type="ftr" idx="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8" name="PlaceHolder 4"/>
          <p:cNvSpPr>
            <a:spLocks noGrp="1"/>
          </p:cNvSpPr>
          <p:nvPr>
            <p:ph type="sldNum" idx="4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DEA9EA-19D9-46F3-832A-DE206325F1D8}"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6"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7"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888" name="Picture 15" descr="LOGO"/>
          <p:cNvPicPr/>
          <p:nvPr/>
        </p:nvPicPr>
        <p:blipFill>
          <a:blip r:embed="rId2"/>
          <a:stretch/>
        </p:blipFill>
        <p:spPr>
          <a:xfrm>
            <a:off x="7093080" y="2421000"/>
            <a:ext cx="2158920" cy="1950840"/>
          </a:xfrm>
          <a:prstGeom prst="rect">
            <a:avLst/>
          </a:prstGeom>
          <a:ln w="0">
            <a:noFill/>
          </a:ln>
        </p:spPr>
      </p:pic>
      <p:sp>
        <p:nvSpPr>
          <p:cNvPr id="88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890" name="PlaceHolder 2"/>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DF29D4-FEE9-44E1-A9C6-36B4713097D2}"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891" name="PlaceHolder 3"/>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2" name="PlaceHolder 4"/>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F97ED7-FE03-4CE5-BE7F-97CDD2B5F399}"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30"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31"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32" name="Picture 15" descr="LOGO"/>
          <p:cNvPicPr/>
          <p:nvPr/>
        </p:nvPicPr>
        <p:blipFill>
          <a:blip r:embed="rId2"/>
          <a:stretch/>
        </p:blipFill>
        <p:spPr>
          <a:xfrm>
            <a:off x="7093080" y="2421000"/>
            <a:ext cx="2158920" cy="1950840"/>
          </a:xfrm>
          <a:prstGeom prst="rect">
            <a:avLst/>
          </a:prstGeom>
          <a:ln w="0">
            <a:noFill/>
          </a:ln>
        </p:spPr>
      </p:pic>
      <p:sp>
        <p:nvSpPr>
          <p:cNvPr id="93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934" name="PlaceHolder 2"/>
          <p:cNvSpPr>
            <a:spLocks noGrp="1"/>
          </p:cNvSpPr>
          <p:nvPr>
            <p:ph type="dt" idx="4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81F524-0C22-4F48-81A1-8BB09AF815DF}"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935" name="PlaceHolder 3"/>
          <p:cNvSpPr>
            <a:spLocks noGrp="1"/>
          </p:cNvSpPr>
          <p:nvPr>
            <p:ph type="ftr" idx="4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36" name="PlaceHolder 4"/>
          <p:cNvSpPr>
            <a:spLocks noGrp="1"/>
          </p:cNvSpPr>
          <p:nvPr>
            <p:ph type="sldNum" idx="4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1E4C29-8B0C-4706-A64A-EBBCFCC12278}"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74"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75"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76" name="Picture 15" descr="LOGO"/>
          <p:cNvPicPr/>
          <p:nvPr/>
        </p:nvPicPr>
        <p:blipFill>
          <a:blip r:embed="rId2"/>
          <a:stretch/>
        </p:blipFill>
        <p:spPr>
          <a:xfrm>
            <a:off x="7093080" y="2421000"/>
            <a:ext cx="2158920" cy="1950840"/>
          </a:xfrm>
          <a:prstGeom prst="rect">
            <a:avLst/>
          </a:prstGeom>
          <a:ln w="0">
            <a:noFill/>
          </a:ln>
        </p:spPr>
      </p:pic>
      <p:sp>
        <p:nvSpPr>
          <p:cNvPr id="97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978" name="PlaceHolder 2"/>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94D5FD-696C-40BC-8D96-E3908316C66F}"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979" name="PlaceHolder 3"/>
          <p:cNvSpPr>
            <a:spLocks noGrp="1"/>
          </p:cNvSpPr>
          <p:nvPr>
            <p:ph type="ftr" idx="5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0" name="PlaceHolder 4"/>
          <p:cNvSpPr>
            <a:spLocks noGrp="1"/>
          </p:cNvSpPr>
          <p:nvPr>
            <p:ph type="sldNum" idx="5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62A598-CBC6-434B-8E60-41E652EE786F}"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18"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19"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020" name="Picture 15" descr="LOGO"/>
          <p:cNvPicPr/>
          <p:nvPr/>
        </p:nvPicPr>
        <p:blipFill>
          <a:blip r:embed="rId2"/>
          <a:stretch/>
        </p:blipFill>
        <p:spPr>
          <a:xfrm>
            <a:off x="7093080" y="2421000"/>
            <a:ext cx="2158920" cy="1950840"/>
          </a:xfrm>
          <a:prstGeom prst="rect">
            <a:avLst/>
          </a:prstGeom>
          <a:ln w="0">
            <a:noFill/>
          </a:ln>
        </p:spPr>
      </p:pic>
      <p:sp>
        <p:nvSpPr>
          <p:cNvPr id="102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022" name="PlaceHolder 2"/>
          <p:cNvSpPr>
            <a:spLocks noGrp="1"/>
          </p:cNvSpPr>
          <p:nvPr>
            <p:ph type="dt" idx="5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D6F143-728B-4A4E-B231-54545E6FCD5E}"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023" name="PlaceHolder 3"/>
          <p:cNvSpPr>
            <a:spLocks noGrp="1"/>
          </p:cNvSpPr>
          <p:nvPr>
            <p:ph type="ftr" idx="5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24" name="PlaceHolder 4"/>
          <p:cNvSpPr>
            <a:spLocks noGrp="1"/>
          </p:cNvSpPr>
          <p:nvPr>
            <p:ph type="sldNum" idx="5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F94DA4-5F23-4D15-B154-DD4331788639}"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2"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3"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064" name="Picture 15" descr="LOGO"/>
          <p:cNvPicPr/>
          <p:nvPr/>
        </p:nvPicPr>
        <p:blipFill>
          <a:blip r:embed="rId2"/>
          <a:stretch/>
        </p:blipFill>
        <p:spPr>
          <a:xfrm>
            <a:off x="7093080" y="2421000"/>
            <a:ext cx="2158920" cy="1950840"/>
          </a:xfrm>
          <a:prstGeom prst="rect">
            <a:avLst/>
          </a:prstGeom>
          <a:ln w="0">
            <a:noFill/>
          </a:ln>
        </p:spPr>
      </p:pic>
      <p:sp>
        <p:nvSpPr>
          <p:cNvPr id="106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066" name="PlaceHolder 2"/>
          <p:cNvSpPr>
            <a:spLocks noGrp="1"/>
          </p:cNvSpPr>
          <p:nvPr>
            <p:ph type="dt" idx="5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6B6BEC-549F-4628-BE5A-CE156C8E3E7E}"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067" name="PlaceHolder 3"/>
          <p:cNvSpPr>
            <a:spLocks noGrp="1"/>
          </p:cNvSpPr>
          <p:nvPr>
            <p:ph type="ftr" idx="5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8" name="PlaceHolder 4"/>
          <p:cNvSpPr>
            <a:spLocks noGrp="1"/>
          </p:cNvSpPr>
          <p:nvPr>
            <p:ph type="sldNum" idx="5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98CD78-17EE-4E8E-A889-7B647FF3A1B1}"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6"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7"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108" name="Picture 15" descr="LOGO"/>
          <p:cNvPicPr/>
          <p:nvPr/>
        </p:nvPicPr>
        <p:blipFill>
          <a:blip r:embed="rId2"/>
          <a:stretch/>
        </p:blipFill>
        <p:spPr>
          <a:xfrm>
            <a:off x="7093080" y="2421000"/>
            <a:ext cx="2158920" cy="1950840"/>
          </a:xfrm>
          <a:prstGeom prst="rect">
            <a:avLst/>
          </a:prstGeom>
          <a:ln w="0">
            <a:noFill/>
          </a:ln>
        </p:spPr>
      </p:pic>
      <p:sp>
        <p:nvSpPr>
          <p:cNvPr id="11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110" name="PlaceHolder 2"/>
          <p:cNvSpPr>
            <a:spLocks noGrp="1"/>
          </p:cNvSpPr>
          <p:nvPr>
            <p:ph type="dt" idx="5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C024D7-33E0-4091-B852-7CAD10D5E1C3}"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111" name="PlaceHolder 3"/>
          <p:cNvSpPr>
            <a:spLocks noGrp="1"/>
          </p:cNvSpPr>
          <p:nvPr>
            <p:ph type="ftr" idx="6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2" name="PlaceHolder 4"/>
          <p:cNvSpPr>
            <a:spLocks noGrp="1"/>
          </p:cNvSpPr>
          <p:nvPr>
            <p:ph type="sldNum" idx="6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DD8AFB-4872-4563-B942-5EAF4C34061F}"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50"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51"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152" name="Picture 15" descr="LOGO"/>
          <p:cNvPicPr/>
          <p:nvPr/>
        </p:nvPicPr>
        <p:blipFill>
          <a:blip r:embed="rId2"/>
          <a:stretch/>
        </p:blipFill>
        <p:spPr>
          <a:xfrm>
            <a:off x="7093080" y="2421000"/>
            <a:ext cx="2158920" cy="1950840"/>
          </a:xfrm>
          <a:prstGeom prst="rect">
            <a:avLst/>
          </a:prstGeom>
          <a:ln w="0">
            <a:noFill/>
          </a:ln>
        </p:spPr>
      </p:pic>
      <p:sp>
        <p:nvSpPr>
          <p:cNvPr id="115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154" name="PlaceHolder 2"/>
          <p:cNvSpPr>
            <a:spLocks noGrp="1"/>
          </p:cNvSpPr>
          <p:nvPr>
            <p:ph type="dt" idx="6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2BE105-255A-416C-B537-C2FFE0D09BF6}"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155" name="PlaceHolder 3"/>
          <p:cNvSpPr>
            <a:spLocks noGrp="1"/>
          </p:cNvSpPr>
          <p:nvPr>
            <p:ph type="ftr" idx="6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56" name="PlaceHolder 4"/>
          <p:cNvSpPr>
            <a:spLocks noGrp="1"/>
          </p:cNvSpPr>
          <p:nvPr>
            <p:ph type="sldNum" idx="6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9F15A0-B4F0-4E8C-822D-33240403675F}"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4"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5"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196" name="Picture 15" descr="LOGO"/>
          <p:cNvPicPr/>
          <p:nvPr/>
        </p:nvPicPr>
        <p:blipFill>
          <a:blip r:embed="rId2"/>
          <a:stretch/>
        </p:blipFill>
        <p:spPr>
          <a:xfrm>
            <a:off x="7093080" y="2421000"/>
            <a:ext cx="2158920" cy="1950840"/>
          </a:xfrm>
          <a:prstGeom prst="rect">
            <a:avLst/>
          </a:prstGeom>
          <a:ln w="0">
            <a:noFill/>
          </a:ln>
        </p:spPr>
      </p:pic>
      <p:sp>
        <p:nvSpPr>
          <p:cNvPr id="119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198" name="PlaceHolder 2"/>
          <p:cNvSpPr>
            <a:spLocks noGrp="1"/>
          </p:cNvSpPr>
          <p:nvPr>
            <p:ph type="dt" idx="6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64EA92-9FA6-4D4B-81AF-DAADB0888725}"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199" name="PlaceHolder 3"/>
          <p:cNvSpPr>
            <a:spLocks noGrp="1"/>
          </p:cNvSpPr>
          <p:nvPr>
            <p:ph type="ftr" idx="6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0" name="PlaceHolder 4"/>
          <p:cNvSpPr>
            <a:spLocks noGrp="1"/>
          </p:cNvSpPr>
          <p:nvPr>
            <p:ph type="sldNum" idx="6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14C9DA-BAED-49F0-9B33-E601A26D4503}"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8"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9"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240" name="Picture 15" descr="LOGO"/>
          <p:cNvPicPr/>
          <p:nvPr/>
        </p:nvPicPr>
        <p:blipFill>
          <a:blip r:embed="rId2"/>
          <a:stretch/>
        </p:blipFill>
        <p:spPr>
          <a:xfrm>
            <a:off x="7093080" y="2421000"/>
            <a:ext cx="2158920" cy="1950840"/>
          </a:xfrm>
          <a:prstGeom prst="rect">
            <a:avLst/>
          </a:prstGeom>
          <a:ln w="0">
            <a:noFill/>
          </a:ln>
        </p:spPr>
      </p:pic>
      <p:sp>
        <p:nvSpPr>
          <p:cNvPr id="124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242" name="PlaceHolder 2"/>
          <p:cNvSpPr>
            <a:spLocks noGrp="1"/>
          </p:cNvSpPr>
          <p:nvPr>
            <p:ph type="dt" idx="6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1D3FED-C347-48A5-8D0B-9C7C938686B5}"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243" name="PlaceHolder 3"/>
          <p:cNvSpPr>
            <a:spLocks noGrp="1"/>
          </p:cNvSpPr>
          <p:nvPr>
            <p:ph type="ftr" idx="6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4" name="PlaceHolder 4"/>
          <p:cNvSpPr>
            <a:spLocks noGrp="1"/>
          </p:cNvSpPr>
          <p:nvPr>
            <p:ph type="sldNum" idx="7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D9B7A2-934D-497C-9CE7-AD02C86F7FA2}"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7"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88" name="Group 11"/>
          <p:cNvGrpSpPr/>
          <p:nvPr/>
        </p:nvGrpSpPr>
        <p:grpSpPr>
          <a:xfrm>
            <a:off x="7153200" y="2058840"/>
            <a:ext cx="1990800" cy="2038320"/>
            <a:chOff x="7153200" y="2058840"/>
            <a:chExt cx="1990800" cy="2038320"/>
          </a:xfrm>
        </p:grpSpPr>
        <p:sp>
          <p:nvSpPr>
            <p:cNvPr id="89"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0"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1" name="Picture 1" descr=""/>
            <p:cNvPicPr/>
            <p:nvPr/>
          </p:nvPicPr>
          <p:blipFill>
            <a:blip r:embed="rId2"/>
            <a:stretch/>
          </p:blipFill>
          <p:spPr>
            <a:xfrm>
              <a:off x="7252920" y="2161800"/>
              <a:ext cx="696600" cy="508320"/>
            </a:xfrm>
            <a:prstGeom prst="rect">
              <a:avLst/>
            </a:prstGeom>
            <a:ln w="0">
              <a:noFill/>
            </a:ln>
          </p:spPr>
        </p:pic>
        <p:pic>
          <p:nvPicPr>
            <p:cNvPr id="92" name="Picture 1" descr=""/>
            <p:cNvPicPr/>
            <p:nvPr/>
          </p:nvPicPr>
          <p:blipFill>
            <a:blip r:embed="rId3"/>
            <a:stretch/>
          </p:blipFill>
          <p:spPr>
            <a:xfrm>
              <a:off x="8146080" y="2161800"/>
              <a:ext cx="896040" cy="363960"/>
            </a:xfrm>
            <a:prstGeom prst="rect">
              <a:avLst/>
            </a:prstGeom>
            <a:ln w="0">
              <a:noFill/>
            </a:ln>
          </p:spPr>
        </p:pic>
        <p:pic>
          <p:nvPicPr>
            <p:cNvPr id="93" name="Picture 1" descr=""/>
            <p:cNvPicPr/>
            <p:nvPr/>
          </p:nvPicPr>
          <p:blipFill>
            <a:blip r:embed="rId4"/>
            <a:stretch/>
          </p:blipFill>
          <p:spPr>
            <a:xfrm>
              <a:off x="8151120" y="3876480"/>
              <a:ext cx="893880" cy="153720"/>
            </a:xfrm>
            <a:prstGeom prst="rect">
              <a:avLst/>
            </a:prstGeom>
            <a:ln w="0">
              <a:noFill/>
            </a:ln>
          </p:spPr>
        </p:pic>
      </p:grpSp>
      <p:sp>
        <p:nvSpPr>
          <p:cNvPr id="94"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82"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83"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284" name="Picture 15" descr="LOGO"/>
          <p:cNvPicPr/>
          <p:nvPr/>
        </p:nvPicPr>
        <p:blipFill>
          <a:blip r:embed="rId2"/>
          <a:stretch/>
        </p:blipFill>
        <p:spPr>
          <a:xfrm>
            <a:off x="7093080" y="2421000"/>
            <a:ext cx="2158920" cy="1950840"/>
          </a:xfrm>
          <a:prstGeom prst="rect">
            <a:avLst/>
          </a:prstGeom>
          <a:ln w="0">
            <a:noFill/>
          </a:ln>
        </p:spPr>
      </p:pic>
      <p:sp>
        <p:nvSpPr>
          <p:cNvPr id="128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286" name="PlaceHolder 2"/>
          <p:cNvSpPr>
            <a:spLocks noGrp="1"/>
          </p:cNvSpPr>
          <p:nvPr>
            <p:ph type="dt" idx="7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B413E3-1B97-451F-98E7-FD2CC3C4243C}"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287" name="PlaceHolder 3"/>
          <p:cNvSpPr>
            <a:spLocks noGrp="1"/>
          </p:cNvSpPr>
          <p:nvPr>
            <p:ph type="ftr" idx="7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88" name="PlaceHolder 4"/>
          <p:cNvSpPr>
            <a:spLocks noGrp="1"/>
          </p:cNvSpPr>
          <p:nvPr>
            <p:ph type="sldNum" idx="7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A60C49-7D6B-4CC2-BE44-0276ECA73F7D}"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5"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26"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27"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328" name="Picture 15" descr="LOGO"/>
          <p:cNvPicPr/>
          <p:nvPr/>
        </p:nvPicPr>
        <p:blipFill>
          <a:blip r:embed="rId2"/>
          <a:stretch/>
        </p:blipFill>
        <p:spPr>
          <a:xfrm>
            <a:off x="7093080" y="2421000"/>
            <a:ext cx="2158920" cy="1950840"/>
          </a:xfrm>
          <a:prstGeom prst="rect">
            <a:avLst/>
          </a:prstGeom>
          <a:ln w="0">
            <a:noFill/>
          </a:ln>
        </p:spPr>
      </p:pic>
      <p:sp>
        <p:nvSpPr>
          <p:cNvPr id="132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330" name="PlaceHolder 2"/>
          <p:cNvSpPr>
            <a:spLocks noGrp="1"/>
          </p:cNvSpPr>
          <p:nvPr>
            <p:ph type="dt" idx="7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39C442-32A6-4441-905D-A28264100F6C}"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331" name="PlaceHolder 3"/>
          <p:cNvSpPr>
            <a:spLocks noGrp="1"/>
          </p:cNvSpPr>
          <p:nvPr>
            <p:ph type="ftr" idx="7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32" name="PlaceHolder 4"/>
          <p:cNvSpPr>
            <a:spLocks noGrp="1"/>
          </p:cNvSpPr>
          <p:nvPr>
            <p:ph type="sldNum" idx="7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2352CF-855F-4AD1-BCDC-6DF2C839086A}"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133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71"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72"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373" name="Picture 15" descr="LOGO"/>
          <p:cNvPicPr/>
          <p:nvPr/>
        </p:nvPicPr>
        <p:blipFill>
          <a:blip r:embed="rId2"/>
          <a:stretch/>
        </p:blipFill>
        <p:spPr>
          <a:xfrm>
            <a:off x="7093080" y="2421000"/>
            <a:ext cx="2158920" cy="1950840"/>
          </a:xfrm>
          <a:prstGeom prst="rect">
            <a:avLst/>
          </a:prstGeom>
          <a:ln w="0">
            <a:noFill/>
          </a:ln>
        </p:spPr>
      </p:pic>
      <p:sp>
        <p:nvSpPr>
          <p:cNvPr id="13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375" name="PlaceHolder 2"/>
          <p:cNvSpPr>
            <a:spLocks noGrp="1"/>
          </p:cNvSpPr>
          <p:nvPr>
            <p:ph type="dt" idx="7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C628BB-6956-4980-9662-46FB4827CF14}"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376" name="PlaceHolder 3"/>
          <p:cNvSpPr>
            <a:spLocks noGrp="1"/>
          </p:cNvSpPr>
          <p:nvPr>
            <p:ph type="ftr" idx="7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77" name="PlaceHolder 4"/>
          <p:cNvSpPr>
            <a:spLocks noGrp="1"/>
          </p:cNvSpPr>
          <p:nvPr>
            <p:ph type="sldNum" idx="7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67D8AA-C9EF-4309-8F01-D477D190EED2}"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15"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16"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417" name="Picture 15" descr="LOGO"/>
          <p:cNvPicPr/>
          <p:nvPr/>
        </p:nvPicPr>
        <p:blipFill>
          <a:blip r:embed="rId2"/>
          <a:stretch/>
        </p:blipFill>
        <p:spPr>
          <a:xfrm>
            <a:off x="7093080" y="2421000"/>
            <a:ext cx="2158920" cy="1950840"/>
          </a:xfrm>
          <a:prstGeom prst="rect">
            <a:avLst/>
          </a:prstGeom>
          <a:ln w="0">
            <a:noFill/>
          </a:ln>
        </p:spPr>
      </p:pic>
      <p:sp>
        <p:nvSpPr>
          <p:cNvPr id="141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419" name="PlaceHolder 2"/>
          <p:cNvSpPr>
            <a:spLocks noGrp="1"/>
          </p:cNvSpPr>
          <p:nvPr>
            <p:ph type="dt" idx="8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A9BA16-6781-4319-A1A4-EF695E6C5DE4}"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420" name="PlaceHolder 3"/>
          <p:cNvSpPr>
            <a:spLocks noGrp="1"/>
          </p:cNvSpPr>
          <p:nvPr>
            <p:ph type="ftr" idx="8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1" name="PlaceHolder 4"/>
          <p:cNvSpPr>
            <a:spLocks noGrp="1"/>
          </p:cNvSpPr>
          <p:nvPr>
            <p:ph type="sldNum" idx="8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EABE77-B65B-4A82-9A38-E2052400A547}"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9"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60"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461" name="Picture 15" descr="LOGO"/>
          <p:cNvPicPr/>
          <p:nvPr/>
        </p:nvPicPr>
        <p:blipFill>
          <a:blip r:embed="rId2"/>
          <a:stretch/>
        </p:blipFill>
        <p:spPr>
          <a:xfrm>
            <a:off x="7093080" y="2421000"/>
            <a:ext cx="2158920" cy="1950840"/>
          </a:xfrm>
          <a:prstGeom prst="rect">
            <a:avLst/>
          </a:prstGeom>
          <a:ln w="0">
            <a:noFill/>
          </a:ln>
        </p:spPr>
      </p:pic>
      <p:sp>
        <p:nvSpPr>
          <p:cNvPr id="146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463" name="PlaceHolder 2"/>
          <p:cNvSpPr>
            <a:spLocks noGrp="1"/>
          </p:cNvSpPr>
          <p:nvPr>
            <p:ph type="dt" idx="8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01E5EB-8F44-4A0B-9D01-C30DE961A0B8}"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464" name="PlaceHolder 3"/>
          <p:cNvSpPr>
            <a:spLocks noGrp="1"/>
          </p:cNvSpPr>
          <p:nvPr>
            <p:ph type="ftr" idx="8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65" name="PlaceHolder 4"/>
          <p:cNvSpPr>
            <a:spLocks noGrp="1"/>
          </p:cNvSpPr>
          <p:nvPr>
            <p:ph type="sldNum" idx="8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1C97F5-5683-478E-B3D3-8B34317DA622}"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2"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3"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4"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505" name="Picture 15" descr="LOGO"/>
          <p:cNvPicPr/>
          <p:nvPr/>
        </p:nvPicPr>
        <p:blipFill>
          <a:blip r:embed="rId2"/>
          <a:stretch/>
        </p:blipFill>
        <p:spPr>
          <a:xfrm>
            <a:off x="7093080" y="2421000"/>
            <a:ext cx="2158920" cy="1950840"/>
          </a:xfrm>
          <a:prstGeom prst="rect">
            <a:avLst/>
          </a:prstGeom>
          <a:ln w="0">
            <a:noFill/>
          </a:ln>
        </p:spPr>
      </p:pic>
      <p:sp>
        <p:nvSpPr>
          <p:cNvPr id="150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507" name="PlaceHolder 2"/>
          <p:cNvSpPr>
            <a:spLocks noGrp="1"/>
          </p:cNvSpPr>
          <p:nvPr>
            <p:ph type="dt" idx="8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7E919E-9513-4942-BD02-503A4EE6C2D4}"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508" name="PlaceHolder 3"/>
          <p:cNvSpPr>
            <a:spLocks noGrp="1"/>
          </p:cNvSpPr>
          <p:nvPr>
            <p:ph type="ftr" idx="8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9" name="PlaceHolder 4"/>
          <p:cNvSpPr>
            <a:spLocks noGrp="1"/>
          </p:cNvSpPr>
          <p:nvPr>
            <p:ph type="sldNum" idx="8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B3CD5C-1CDB-4AB5-84E7-CFB1AC1FD0F4}"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47"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48"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549" name="Picture 15" descr="LOGO"/>
          <p:cNvPicPr/>
          <p:nvPr/>
        </p:nvPicPr>
        <p:blipFill>
          <a:blip r:embed="rId2"/>
          <a:stretch/>
        </p:blipFill>
        <p:spPr>
          <a:xfrm>
            <a:off x="7093080" y="2421000"/>
            <a:ext cx="2158920" cy="1950840"/>
          </a:xfrm>
          <a:prstGeom prst="rect">
            <a:avLst/>
          </a:prstGeom>
          <a:ln w="0">
            <a:noFill/>
          </a:ln>
        </p:spPr>
      </p:pic>
      <p:sp>
        <p:nvSpPr>
          <p:cNvPr id="155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551" name="PlaceHolder 2"/>
          <p:cNvSpPr>
            <a:spLocks noGrp="1"/>
          </p:cNvSpPr>
          <p:nvPr>
            <p:ph type="dt" idx="8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D79E41-F400-4FD7-90EC-979CAB01EDE0}"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552" name="PlaceHolder 3"/>
          <p:cNvSpPr>
            <a:spLocks noGrp="1"/>
          </p:cNvSpPr>
          <p:nvPr>
            <p:ph type="ftr" idx="9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53" name="PlaceHolder 4"/>
          <p:cNvSpPr>
            <a:spLocks noGrp="1"/>
          </p:cNvSpPr>
          <p:nvPr>
            <p:ph type="sldNum" idx="9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B7D0EB-4681-4DD5-AC36-4F5C02F0689B}"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91"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92"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593" name="Picture 15" descr="LOGO"/>
          <p:cNvPicPr/>
          <p:nvPr/>
        </p:nvPicPr>
        <p:blipFill>
          <a:blip r:embed="rId2"/>
          <a:stretch/>
        </p:blipFill>
        <p:spPr>
          <a:xfrm>
            <a:off x="7093080" y="2421000"/>
            <a:ext cx="2158920" cy="1950840"/>
          </a:xfrm>
          <a:prstGeom prst="rect">
            <a:avLst/>
          </a:prstGeom>
          <a:ln w="0">
            <a:noFill/>
          </a:ln>
        </p:spPr>
      </p:pic>
      <p:sp>
        <p:nvSpPr>
          <p:cNvPr id="159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595" name="PlaceHolder 2"/>
          <p:cNvSpPr>
            <a:spLocks noGrp="1"/>
          </p:cNvSpPr>
          <p:nvPr>
            <p:ph type="dt" idx="9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EE5317-80A6-41B3-AB94-536359A09A85}"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596" name="PlaceHolder 3"/>
          <p:cNvSpPr>
            <a:spLocks noGrp="1"/>
          </p:cNvSpPr>
          <p:nvPr>
            <p:ph type="ftr" idx="9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97" name="PlaceHolder 4"/>
          <p:cNvSpPr>
            <a:spLocks noGrp="1"/>
          </p:cNvSpPr>
          <p:nvPr>
            <p:ph type="sldNum" idx="9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F77127-6DDF-4458-BF1A-DF6B5821CF3B}"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5"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6"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37" name="Picture 15" descr="LOGO"/>
          <p:cNvPicPr/>
          <p:nvPr/>
        </p:nvPicPr>
        <p:blipFill>
          <a:blip r:embed="rId2"/>
          <a:stretch/>
        </p:blipFill>
        <p:spPr>
          <a:xfrm>
            <a:off x="7093080" y="2421000"/>
            <a:ext cx="2158920" cy="1950840"/>
          </a:xfrm>
          <a:prstGeom prst="rect">
            <a:avLst/>
          </a:prstGeom>
          <a:ln w="0">
            <a:noFill/>
          </a:ln>
        </p:spPr>
      </p:pic>
      <p:sp>
        <p:nvSpPr>
          <p:cNvPr id="163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639" name="PlaceHolder 2"/>
          <p:cNvSpPr>
            <a:spLocks noGrp="1"/>
          </p:cNvSpPr>
          <p:nvPr>
            <p:ph type="dt" idx="9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44F8A2-A153-4B5B-903F-5CF13F26D6BA}"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640" name="PlaceHolder 3"/>
          <p:cNvSpPr>
            <a:spLocks noGrp="1"/>
          </p:cNvSpPr>
          <p:nvPr>
            <p:ph type="ftr" idx="9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1" name="PlaceHolder 4"/>
          <p:cNvSpPr>
            <a:spLocks noGrp="1"/>
          </p:cNvSpPr>
          <p:nvPr>
            <p:ph type="sldNum" idx="9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1D46BD-1690-4A9D-810D-D189C07C9710}"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9"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80"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81" name="Picture 15" descr="LOGO"/>
          <p:cNvPicPr/>
          <p:nvPr/>
        </p:nvPicPr>
        <p:blipFill>
          <a:blip r:embed="rId2"/>
          <a:stretch/>
        </p:blipFill>
        <p:spPr>
          <a:xfrm>
            <a:off x="7093080" y="2421000"/>
            <a:ext cx="2158920" cy="1950840"/>
          </a:xfrm>
          <a:prstGeom prst="rect">
            <a:avLst/>
          </a:prstGeom>
          <a:ln w="0">
            <a:noFill/>
          </a:ln>
        </p:spPr>
      </p:pic>
      <p:sp>
        <p:nvSpPr>
          <p:cNvPr id="168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683" name="PlaceHolder 2"/>
          <p:cNvSpPr>
            <a:spLocks noGrp="1"/>
          </p:cNvSpPr>
          <p:nvPr>
            <p:ph type="dt" idx="9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740449-3636-447F-BBB9-2D1C31C046BB}"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684" name="PlaceHolder 3"/>
          <p:cNvSpPr>
            <a:spLocks noGrp="1"/>
          </p:cNvSpPr>
          <p:nvPr>
            <p:ph type="ftr" idx="9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85" name="PlaceHolder 4"/>
          <p:cNvSpPr>
            <a:spLocks noGrp="1"/>
          </p:cNvSpPr>
          <p:nvPr>
            <p:ph type="sldNum" idx="10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2C519B-88C1-421B-B8C2-2E25F69FA2B4}"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3"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pic>
        <p:nvPicPr>
          <p:cNvPr id="136" name="Picture 12" descr="LOGO"/>
          <p:cNvPicPr/>
          <p:nvPr/>
        </p:nvPicPr>
        <p:blipFill>
          <a:blip r:embed="rId2"/>
          <a:stretch/>
        </p:blipFill>
        <p:spPr>
          <a:xfrm>
            <a:off x="7093080" y="2421000"/>
            <a:ext cx="2158920" cy="1950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23"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24"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725" name="Picture 15" descr="LOGO"/>
          <p:cNvPicPr/>
          <p:nvPr/>
        </p:nvPicPr>
        <p:blipFill>
          <a:blip r:embed="rId2"/>
          <a:stretch/>
        </p:blipFill>
        <p:spPr>
          <a:xfrm>
            <a:off x="7093080" y="2421000"/>
            <a:ext cx="2158920" cy="1950840"/>
          </a:xfrm>
          <a:prstGeom prst="rect">
            <a:avLst/>
          </a:prstGeom>
          <a:ln w="0">
            <a:noFill/>
          </a:ln>
        </p:spPr>
      </p:pic>
      <p:sp>
        <p:nvSpPr>
          <p:cNvPr id="172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727" name="PlaceHolder 2"/>
          <p:cNvSpPr>
            <a:spLocks noGrp="1"/>
          </p:cNvSpPr>
          <p:nvPr>
            <p:ph type="dt" idx="10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36D1E4-EAD2-4AED-BCA3-A59AC173F7D4}"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728" name="PlaceHolder 3"/>
          <p:cNvSpPr>
            <a:spLocks noGrp="1"/>
          </p:cNvSpPr>
          <p:nvPr>
            <p:ph type="ftr" idx="10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29" name="PlaceHolder 4"/>
          <p:cNvSpPr>
            <a:spLocks noGrp="1"/>
          </p:cNvSpPr>
          <p:nvPr>
            <p:ph type="sldNum" idx="10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E07F51-1D30-424E-879C-19151C5FFF86}"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7"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8"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769" name="Picture 15" descr="LOGO"/>
          <p:cNvPicPr/>
          <p:nvPr/>
        </p:nvPicPr>
        <p:blipFill>
          <a:blip r:embed="rId2"/>
          <a:stretch/>
        </p:blipFill>
        <p:spPr>
          <a:xfrm>
            <a:off x="7093080" y="2421000"/>
            <a:ext cx="2158920" cy="1950840"/>
          </a:xfrm>
          <a:prstGeom prst="rect">
            <a:avLst/>
          </a:prstGeom>
          <a:ln w="0">
            <a:noFill/>
          </a:ln>
        </p:spPr>
      </p:pic>
      <p:sp>
        <p:nvSpPr>
          <p:cNvPr id="177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771" name="PlaceHolder 2"/>
          <p:cNvSpPr>
            <a:spLocks noGrp="1"/>
          </p:cNvSpPr>
          <p:nvPr>
            <p:ph type="dt" idx="10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7C2BBC-3744-4A90-9B2C-AAEDAC7ECF9A}"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772" name="PlaceHolder 3"/>
          <p:cNvSpPr>
            <a:spLocks noGrp="1"/>
          </p:cNvSpPr>
          <p:nvPr>
            <p:ph type="ftr" idx="10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73" name="PlaceHolder 4"/>
          <p:cNvSpPr>
            <a:spLocks noGrp="1"/>
          </p:cNvSpPr>
          <p:nvPr>
            <p:ph type="sldNum" idx="10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B97A4E-AA22-49D8-9A89-E4A02DD65F0D}"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173"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Rectangle 65"/>
          <p:cNvSpPr/>
          <p:nvPr/>
        </p:nvSpPr>
        <p:spPr>
          <a:xfrm>
            <a:off x="1566720" y="3333600"/>
            <a:ext cx="126072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75" name="Picture 1" descr=""/>
          <p:cNvPicPr/>
          <p:nvPr/>
        </p:nvPicPr>
        <p:blipFill>
          <a:blip r:embed="rId2"/>
          <a:stretch/>
        </p:blipFill>
        <p:spPr>
          <a:xfrm>
            <a:off x="647640" y="3452760"/>
            <a:ext cx="803160" cy="585720"/>
          </a:xfrm>
          <a:prstGeom prst="rect">
            <a:avLst/>
          </a:prstGeom>
          <a:ln w="0">
            <a:noFill/>
          </a:ln>
        </p:spPr>
      </p:pic>
      <p:sp>
        <p:nvSpPr>
          <p:cNvPr id="176"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7" name="Rectangle 71"/>
          <p:cNvSpPr/>
          <p:nvPr/>
        </p:nvSpPr>
        <p:spPr>
          <a:xfrm>
            <a:off x="1566720" y="0"/>
            <a:ext cx="126072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78" name="Picture 11" descr="letras"/>
          <p:cNvPicPr/>
          <p:nvPr/>
        </p:nvPicPr>
        <p:blipFill>
          <a:blip r:embed="rId3"/>
          <a:stretch/>
        </p:blipFill>
        <p:spPr>
          <a:xfrm>
            <a:off x="1619280" y="3525840"/>
            <a:ext cx="1131840" cy="334800"/>
          </a:xfrm>
          <a:prstGeom prst="rect">
            <a:avLst/>
          </a:prstGeom>
          <a:ln w="0">
            <a:noFill/>
          </a:ln>
        </p:spPr>
      </p:pic>
      <p:sp>
        <p:nvSpPr>
          <p:cNvPr id="179" name="PlaceHolder 1"/>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096CC2-0E91-473A-AD2C-349F8C080378}"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80" name="PlaceHolder 2"/>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1"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EDDB29-4214-48E3-9533-29048071FDF0}"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218"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9" name="Rectangle 65"/>
          <p:cNvSpPr/>
          <p:nvPr/>
        </p:nvSpPr>
        <p:spPr>
          <a:xfrm>
            <a:off x="1566720" y="3333600"/>
            <a:ext cx="126072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20" name="Picture 1" descr=""/>
          <p:cNvPicPr/>
          <p:nvPr/>
        </p:nvPicPr>
        <p:blipFill>
          <a:blip r:embed="rId2"/>
          <a:stretch/>
        </p:blipFill>
        <p:spPr>
          <a:xfrm>
            <a:off x="647640" y="3452760"/>
            <a:ext cx="803160" cy="585720"/>
          </a:xfrm>
          <a:prstGeom prst="rect">
            <a:avLst/>
          </a:prstGeom>
          <a:ln w="0">
            <a:noFill/>
          </a:ln>
        </p:spPr>
      </p:pic>
      <p:pic>
        <p:nvPicPr>
          <p:cNvPr id="221" name="Picture 1" descr=""/>
          <p:cNvPicPr/>
          <p:nvPr/>
        </p:nvPicPr>
        <p:blipFill>
          <a:blip r:embed="rId3"/>
          <a:stretch/>
        </p:blipFill>
        <p:spPr>
          <a:xfrm>
            <a:off x="1677960" y="3452760"/>
            <a:ext cx="1031760" cy="419040"/>
          </a:xfrm>
          <a:prstGeom prst="rect">
            <a:avLst/>
          </a:prstGeom>
          <a:ln w="0">
            <a:noFill/>
          </a:ln>
        </p:spPr>
      </p:pic>
      <p:sp>
        <p:nvSpPr>
          <p:cNvPr id="222"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71"/>
          <p:cNvSpPr/>
          <p:nvPr/>
        </p:nvSpPr>
        <p:spPr>
          <a:xfrm>
            <a:off x="1566720" y="0"/>
            <a:ext cx="126072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PlaceHolder 1"/>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10CF76-D65A-4288-948A-E2F25750E694}"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25" name="PlaceHolder 2"/>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6" name="PlaceHolder 3"/>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F9934D-1A8C-44B0-9FFF-428EBE70E352}"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263"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Rectangle 65"/>
          <p:cNvSpPr/>
          <p:nvPr/>
        </p:nvSpPr>
        <p:spPr>
          <a:xfrm>
            <a:off x="1566720" y="3333600"/>
            <a:ext cx="126072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65" name="Picture 1" descr=""/>
          <p:cNvPicPr/>
          <p:nvPr/>
        </p:nvPicPr>
        <p:blipFill>
          <a:blip r:embed="rId2"/>
          <a:stretch/>
        </p:blipFill>
        <p:spPr>
          <a:xfrm>
            <a:off x="647640" y="3452760"/>
            <a:ext cx="803160" cy="585720"/>
          </a:xfrm>
          <a:prstGeom prst="rect">
            <a:avLst/>
          </a:prstGeom>
          <a:ln w="0">
            <a:noFill/>
          </a:ln>
        </p:spPr>
      </p:pic>
      <p:pic>
        <p:nvPicPr>
          <p:cNvPr id="266" name="Picture 1" descr=""/>
          <p:cNvPicPr/>
          <p:nvPr/>
        </p:nvPicPr>
        <p:blipFill>
          <a:blip r:embed="rId3"/>
          <a:stretch/>
        </p:blipFill>
        <p:spPr>
          <a:xfrm>
            <a:off x="1677960" y="3452760"/>
            <a:ext cx="1031760" cy="419040"/>
          </a:xfrm>
          <a:prstGeom prst="rect">
            <a:avLst/>
          </a:prstGeom>
          <a:ln w="0">
            <a:noFill/>
          </a:ln>
        </p:spPr>
      </p:pic>
      <p:sp>
        <p:nvSpPr>
          <p:cNvPr id="267"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8" name="Rectangle 71"/>
          <p:cNvSpPr/>
          <p:nvPr/>
        </p:nvSpPr>
        <p:spPr>
          <a:xfrm>
            <a:off x="1566720" y="0"/>
            <a:ext cx="126072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9" name="PlaceHolder 1"/>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E7714A-0147-4659-8E7F-65B6BF4CC5FC}"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70" name="PlaceHolder 2"/>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1" name="PlaceHolder 3"/>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467AE2-42D9-4542-8200-019CDADA71CC}"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308"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9" name="Rectangle 65"/>
          <p:cNvSpPr/>
          <p:nvPr/>
        </p:nvSpPr>
        <p:spPr>
          <a:xfrm>
            <a:off x="1566720" y="3333600"/>
            <a:ext cx="126072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310" name="Picture 1" descr=""/>
          <p:cNvPicPr/>
          <p:nvPr/>
        </p:nvPicPr>
        <p:blipFill>
          <a:blip r:embed="rId2"/>
          <a:stretch/>
        </p:blipFill>
        <p:spPr>
          <a:xfrm>
            <a:off x="647640" y="3452760"/>
            <a:ext cx="803160" cy="585720"/>
          </a:xfrm>
          <a:prstGeom prst="rect">
            <a:avLst/>
          </a:prstGeom>
          <a:ln w="0">
            <a:noFill/>
          </a:ln>
        </p:spPr>
      </p:pic>
      <p:pic>
        <p:nvPicPr>
          <p:cNvPr id="311" name="Picture 1" descr=""/>
          <p:cNvPicPr/>
          <p:nvPr/>
        </p:nvPicPr>
        <p:blipFill>
          <a:blip r:embed="rId3"/>
          <a:stretch/>
        </p:blipFill>
        <p:spPr>
          <a:xfrm>
            <a:off x="1677960" y="3452760"/>
            <a:ext cx="1031760" cy="419040"/>
          </a:xfrm>
          <a:prstGeom prst="rect">
            <a:avLst/>
          </a:prstGeom>
          <a:ln w="0">
            <a:noFill/>
          </a:ln>
        </p:spPr>
      </p:pic>
      <p:sp>
        <p:nvSpPr>
          <p:cNvPr id="312"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3" name="Rectangle 71"/>
          <p:cNvSpPr/>
          <p:nvPr/>
        </p:nvSpPr>
        <p:spPr>
          <a:xfrm>
            <a:off x="1566720" y="0"/>
            <a:ext cx="126072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4" name="PlaceHolder 1"/>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BC55CA-B91E-4401-8DFD-BDB009191C54}"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315" name="PlaceHolder 2"/>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6" name="PlaceHolder 3"/>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52331B-8138-4B34-A4D7-020D5AE72026}"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4"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5"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6"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358"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359"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69B745-A177-49C6-B0ED-D89A130BD5B8}"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360" name="PlaceHolder 4"/>
          <p:cNvSpPr>
            <a:spLocks noGrp="1"/>
          </p:cNvSpPr>
          <p:nvPr>
            <p:ph type="ftr" idx="16"/>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1" name="PlaceHolder 5"/>
          <p:cNvSpPr>
            <a:spLocks noGrp="1"/>
          </p:cNvSpPr>
          <p:nvPr>
            <p:ph type="sldNum" idx="17"/>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ED1A3F-211F-46B5-B481-05614C5C98D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1557360"/>
            <a:ext cx="8686800" cy="93672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3200" spc="-1" strike="noStrike">
                <a:solidFill>
                  <a:srgbClr val="ffffff"/>
                </a:solidFill>
                <a:latin typeface="Verdana"/>
              </a:rPr>
              <a:t>EUROSOCIAL II</a:t>
            </a:r>
            <a:br>
              <a:rPr sz="3200"/>
            </a:br>
            <a:r>
              <a:rPr b="1" lang="es-ES_tradnl" sz="3200" spc="-1" strike="noStrike">
                <a:solidFill>
                  <a:srgbClr val="ffffff"/>
                </a:solidFill>
                <a:latin typeface="Verdana"/>
              </a:rPr>
              <a:t>Programa para la Cohesión Social en América Latina</a:t>
            </a:r>
            <a:br>
              <a:rPr sz="3200"/>
            </a:br>
            <a:endParaRPr b="0" lang="en-US" sz="3200" spc="-1" strike="noStrike">
              <a:solidFill>
                <a:srgbClr val="ffffff"/>
              </a:solidFill>
              <a:latin typeface="Calibri"/>
            </a:endParaRPr>
          </a:p>
        </p:txBody>
      </p:sp>
      <p:sp>
        <p:nvSpPr>
          <p:cNvPr id="1811" name="PlaceHolder 2"/>
          <p:cNvSpPr>
            <a:spLocks noGrp="1"/>
          </p:cNvSpPr>
          <p:nvPr>
            <p:ph type="subTitle"/>
          </p:nvPr>
        </p:nvSpPr>
        <p:spPr>
          <a:xfrm>
            <a:off x="2843280" y="3827160"/>
            <a:ext cx="5929200" cy="60948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ffffff"/>
                </a:solidFill>
                <a:latin typeface="Verdana"/>
              </a:rPr>
              <a:t>Protocolo de actuación para la reducción de barreras de acceso a la Justicia</a:t>
            </a:r>
            <a:endParaRPr b="0" lang="en-US" sz="2400" spc="-1" strike="noStrike">
              <a:solidFill>
                <a:srgbClr val="ffffff"/>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ffffff"/>
                </a:solidFill>
                <a:latin typeface="Verdana"/>
              </a:rPr>
              <a:t>Año 2013 </a:t>
            </a:r>
            <a:endParaRPr b="0" lang="en-US" sz="2400" spc="-1" strike="noStrike">
              <a:solidFill>
                <a:srgbClr val="ffffff"/>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PlaceHolder 1"/>
          <p:cNvSpPr>
            <a:spLocks noGrp="1"/>
          </p:cNvSpPr>
          <p:nvPr>
            <p:ph type="title"/>
          </p:nvPr>
        </p:nvSpPr>
        <p:spPr>
          <a:xfrm>
            <a:off x="39240" y="-360"/>
            <a:ext cx="8164440" cy="684360"/>
          </a:xfrm>
          <a:prstGeom prst="rect">
            <a:avLst/>
          </a:prstGeom>
          <a:noFill/>
          <a:ln w="0">
            <a:noFill/>
          </a:ln>
        </p:spPr>
        <p:txBody>
          <a:bodyPr anchor="t">
            <a:no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1" lang="es-ES" sz="2400" spc="-1" strike="noStrike">
                <a:solidFill>
                  <a:srgbClr val="006cb7"/>
                </a:solidFill>
                <a:latin typeface="Verdana"/>
                <a:ea typeface="ヒラギノ角ゴ Pro W3"/>
              </a:rPr>
              <a:t>¿Que es Eurosocial?</a:t>
            </a:r>
            <a:endParaRPr b="0" lang="en-US" sz="2400" spc="-1" strike="noStrike">
              <a:solidFill>
                <a:srgbClr val="006cb7"/>
              </a:solidFill>
              <a:latin typeface="Verdana"/>
            </a:endParaRPr>
          </a:p>
        </p:txBody>
      </p:sp>
      <p:sp>
        <p:nvSpPr>
          <p:cNvPr id="1813" name=""/>
          <p:cNvSpPr txBox="1"/>
          <p:nvPr/>
        </p:nvSpPr>
        <p:spPr>
          <a:xfrm>
            <a:off x="407520" y="692280"/>
            <a:ext cx="8031240" cy="5473440"/>
          </a:xfrm>
          <a:prstGeom prst="rect">
            <a:avLst/>
          </a:prstGeom>
          <a:noFill/>
          <a:ln w="0">
            <a:noFill/>
          </a:ln>
        </p:spPr>
        <p:txBody>
          <a:bodyPr anchor="t">
            <a:normAutofit/>
          </a:bodyPr>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Eurosocial II es una iniciativa de cooperación técnica de la Comisión Europea. Un programa regional para promover la cohesión social en América Latina. En particular, apoya políticas públicas nacionales dirigidas a mejorar los niveles de cohesión social y fortalecer las instituciones que llevan a cabo dichas políticas.</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Consta de diez ámbitos de actuación: salud, Educación, Políticas sociales, Políticas de empleo, Finanzas Públicas, Institucionalidad Democrática, Diálogo Social, Descentralización, Justicia y Seguridad Ciudadana.</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El ámbito de justicia persigue la promoción de las Reglas de Brasilia. El objetivo general consiste en </a:t>
            </a:r>
            <a:r>
              <a:rPr b="1" lang="es-ES" sz="1800" spc="-1" strike="noStrike">
                <a:solidFill>
                  <a:srgbClr val="595959"/>
                </a:solidFill>
                <a:latin typeface="Calibri"/>
              </a:rPr>
              <a:t>reducir, de manera efectiva, las barreras al acceso a la Justicia y ampliar la cobertura de la justicia estatal en favor de grupos de población vulnerables.</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Para alcanzar ese objetivo general se previó, entre otras, una actividad que apunta a la </a:t>
            </a:r>
            <a:r>
              <a:rPr b="1" lang="es-ES" sz="1800" spc="-1" strike="noStrike">
                <a:solidFill>
                  <a:srgbClr val="595959"/>
                </a:solidFill>
                <a:latin typeface="Calibri"/>
              </a:rPr>
              <a:t>implementación de protocolos nacionales de buenas prácticas para reducir las barreras de acceso a la justicia</a:t>
            </a:r>
            <a:r>
              <a:rPr b="0" lang="es-ES" sz="1800" spc="-1" strike="noStrike">
                <a:solidFill>
                  <a:srgbClr val="595959"/>
                </a:solidFill>
                <a:latin typeface="Calibri"/>
              </a:rPr>
              <a:t>.</a:t>
            </a:r>
            <a:endParaRPr b="0" lang="en-US" sz="1800" spc="-1" strike="noStrike">
              <a:solidFill>
                <a:srgbClr val="595959"/>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p:txBody>
      </p:sp>
      <p:sp>
        <p:nvSpPr>
          <p:cNvPr id="1814" name="Slide Number Placeholder 9"/>
          <p:cNvSpPr/>
          <p:nvPr/>
        </p:nvSpPr>
        <p:spPr>
          <a:xfrm>
            <a:off x="6183360" y="6527880"/>
            <a:ext cx="2133720" cy="193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6EE0CD-3D52-451E-9921-1331047A275A}" type="slidenum">
              <a:rPr b="0" lang="en-US" sz="1000" spc="-1" strike="noStrike">
                <a:solidFill>
                  <a:srgbClr val="898989"/>
                </a:solidFill>
                <a:latin typeface="Verdana"/>
              </a:rPr>
              <a:t>&lt;number&gt;</a:t>
            </a:fld>
            <a:endParaRPr b="0" lang="en-US" sz="1000" spc="-1" strike="noStrike">
              <a:solidFill>
                <a:srgbClr val="ffffff"/>
              </a:solidFill>
              <a:latin typeface="Arial"/>
            </a:endParaRPr>
          </a:p>
        </p:txBody>
      </p:sp>
      <p:sp>
        <p:nvSpPr>
          <p:cNvPr id="1815" name="Footer Placeholder 10"/>
          <p:cNvSpPr/>
          <p:nvPr/>
        </p:nvSpPr>
        <p:spPr>
          <a:xfrm>
            <a:off x="19080" y="6527880"/>
            <a:ext cx="289548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Verdana"/>
              </a:rPr>
              <a:t>Gobierno de Chile | Ministerio de Justicia</a:t>
            </a:r>
            <a:endParaRPr b="0" lang="en-US" sz="9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PlaceHolder 1"/>
          <p:cNvSpPr>
            <a:spLocks noGrp="1"/>
          </p:cNvSpPr>
          <p:nvPr>
            <p:ph type="title"/>
          </p:nvPr>
        </p:nvSpPr>
        <p:spPr>
          <a:xfrm>
            <a:off x="39240" y="-360"/>
            <a:ext cx="8164440" cy="684360"/>
          </a:xfrm>
          <a:prstGeom prst="rect">
            <a:avLst/>
          </a:prstGeom>
          <a:noFill/>
          <a:ln w="0">
            <a:noFill/>
          </a:ln>
        </p:spPr>
        <p:txBody>
          <a:bodyPr anchor="t">
            <a:no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1" lang="es-ES" sz="2400" spc="-1" strike="noStrike">
                <a:solidFill>
                  <a:srgbClr val="006cb7"/>
                </a:solidFill>
                <a:latin typeface="Verdana"/>
                <a:ea typeface="ヒラギノ角ゴ Pro W3"/>
              </a:rPr>
              <a:t>Contexto</a:t>
            </a:r>
            <a:endParaRPr b="0" lang="en-US" sz="2400" spc="-1" strike="noStrike">
              <a:solidFill>
                <a:srgbClr val="006cb7"/>
              </a:solidFill>
              <a:latin typeface="Verdana"/>
            </a:endParaRPr>
          </a:p>
        </p:txBody>
      </p:sp>
      <p:sp>
        <p:nvSpPr>
          <p:cNvPr id="1817" name=""/>
          <p:cNvSpPr txBox="1"/>
          <p:nvPr/>
        </p:nvSpPr>
        <p:spPr>
          <a:xfrm>
            <a:off x="407520" y="692280"/>
            <a:ext cx="8031240" cy="5473440"/>
          </a:xfrm>
          <a:prstGeom prst="rect">
            <a:avLst/>
          </a:prstGeom>
          <a:noFill/>
          <a:ln w="0">
            <a:noFill/>
          </a:ln>
        </p:spPr>
        <p:txBody>
          <a:bodyPr anchor="t">
            <a:normAutofit/>
          </a:bodyPr>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CHILE identificó la barrera sociocultural como una  barrera de acceso a la Justicia de la población adulto mayor.</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En el marco del proceso modernizador del sector Justicia en Chile, que ha sido impulsado por los distintos gobiernos, han surgido diversas iniciativas vinculadas al acceso a la justicia en poblaciones vulnerables, entre las cuales destaca la consagración legal del sistema de asistencia jurídico gratuito.</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En atención a la función que las Corporaciones cumplen, ellas tienen una natural cercanía con las poblaciones vulnerables con requerimientos del sistema de Justicia en las distintas materias y debido a su gran cobertura en el territorio nacional, se ha decidido incorporarlas como actores claves para su participación en el proyecto, en las distintas líneas de su ejecución.</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 </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p:txBody>
      </p:sp>
      <p:sp>
        <p:nvSpPr>
          <p:cNvPr id="1818" name="Slide Number Placeholder 9"/>
          <p:cNvSpPr/>
          <p:nvPr/>
        </p:nvSpPr>
        <p:spPr>
          <a:xfrm>
            <a:off x="6183360" y="6527880"/>
            <a:ext cx="2133720" cy="193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A9B0AA-2FF0-4408-8A1A-DF19279073F2}" type="slidenum">
              <a:rPr b="0" lang="en-US" sz="1000" spc="-1" strike="noStrike">
                <a:solidFill>
                  <a:srgbClr val="898989"/>
                </a:solidFill>
                <a:latin typeface="Verdana"/>
              </a:rPr>
              <a:t>&lt;number&gt;</a:t>
            </a:fld>
            <a:endParaRPr b="0" lang="en-US" sz="1000" spc="-1" strike="noStrike">
              <a:solidFill>
                <a:srgbClr val="ffffff"/>
              </a:solidFill>
              <a:latin typeface="Arial"/>
            </a:endParaRPr>
          </a:p>
        </p:txBody>
      </p:sp>
      <p:sp>
        <p:nvSpPr>
          <p:cNvPr id="1819" name="Footer Placeholder 10"/>
          <p:cNvSpPr/>
          <p:nvPr/>
        </p:nvSpPr>
        <p:spPr>
          <a:xfrm>
            <a:off x="19080" y="6527880"/>
            <a:ext cx="289548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Verdana"/>
              </a:rPr>
              <a:t>Gobierno de Chile | Ministerio de Justicia</a:t>
            </a:r>
            <a:endParaRPr b="0" lang="en-US" sz="9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title"/>
          </p:nvPr>
        </p:nvSpPr>
        <p:spPr>
          <a:xfrm>
            <a:off x="39240" y="-360"/>
            <a:ext cx="8164440" cy="684360"/>
          </a:xfrm>
          <a:prstGeom prst="rect">
            <a:avLst/>
          </a:prstGeom>
          <a:noFill/>
          <a:ln w="0">
            <a:noFill/>
          </a:ln>
        </p:spPr>
        <p:txBody>
          <a:bodyPr anchor="t">
            <a:no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1" lang="es-ES" sz="2400" spc="-1" strike="noStrike">
                <a:solidFill>
                  <a:srgbClr val="006cb7"/>
                </a:solidFill>
                <a:latin typeface="Verdana"/>
                <a:ea typeface="ヒラギノ角ゴ Pro W3"/>
              </a:rPr>
              <a:t>Contexto</a:t>
            </a:r>
            <a:endParaRPr b="0" lang="en-US" sz="2400" spc="-1" strike="noStrike">
              <a:solidFill>
                <a:srgbClr val="006cb7"/>
              </a:solidFill>
              <a:latin typeface="Verdana"/>
            </a:endParaRPr>
          </a:p>
        </p:txBody>
      </p:sp>
      <p:sp>
        <p:nvSpPr>
          <p:cNvPr id="1821" name=""/>
          <p:cNvSpPr txBox="1"/>
          <p:nvPr/>
        </p:nvSpPr>
        <p:spPr>
          <a:xfrm>
            <a:off x="407520" y="692280"/>
            <a:ext cx="8031240" cy="5473440"/>
          </a:xfrm>
          <a:prstGeom prst="rect">
            <a:avLst/>
          </a:prstGeom>
          <a:noFill/>
          <a:ln w="0">
            <a:noFill/>
          </a:ln>
        </p:spPr>
        <p:txBody>
          <a:bodyPr anchor="t">
            <a:normAutofit/>
          </a:bodyPr>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Según datos aportados por el Servicio Nacional del adulto mayor (SENAMA) para el 2050 se espera que la población mundial mayor de 65 años se triplique respecto a la actualidad, estimando que en américa latina, 1 de cada 4 personas tendrá más de 60 años. </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Chile comparte esta tendencial mundial, hoy existen 2,6 millones de chilenos mayores de 60 años y la esperanza de vida ha aumentado considerablemente.</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 </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En este contexto, las políticas públicas deben apuntar a lograr que la población tenga un envejecimiento positivo. Es así como a partir de la década de los 90 es un área prioritaria y en el año 2002 se crea el SENAMA, lo cual permite una mayor visibilidad del envejecimiento y la vejez, tanto en el ámbito público como el privado, así como la creación de programas específicos dirigidos a este grupo etario.</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 </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En este sentido, unos de los desafíos más importantes que enfrenta nuestro país a nivel político, social y económico es aquel generado por los cambios demográficos, siendo el más relevante el envejecimiento acelerado de la población.</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p:txBody>
      </p:sp>
      <p:sp>
        <p:nvSpPr>
          <p:cNvPr id="1822" name="Slide Number Placeholder 9"/>
          <p:cNvSpPr/>
          <p:nvPr/>
        </p:nvSpPr>
        <p:spPr>
          <a:xfrm>
            <a:off x="6183360" y="6527880"/>
            <a:ext cx="2133720" cy="193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374296-3AA6-4676-97B4-1CC089A4DC23}" type="slidenum">
              <a:rPr b="0" lang="en-US" sz="1000" spc="-1" strike="noStrike">
                <a:solidFill>
                  <a:srgbClr val="898989"/>
                </a:solidFill>
                <a:latin typeface="Verdana"/>
              </a:rPr>
              <a:t>&lt;number&gt;</a:t>
            </a:fld>
            <a:endParaRPr b="0" lang="en-US" sz="1000" spc="-1" strike="noStrike">
              <a:solidFill>
                <a:srgbClr val="ffffff"/>
              </a:solidFill>
              <a:latin typeface="Arial"/>
            </a:endParaRPr>
          </a:p>
        </p:txBody>
      </p:sp>
      <p:sp>
        <p:nvSpPr>
          <p:cNvPr id="1823" name="Footer Placeholder 10"/>
          <p:cNvSpPr/>
          <p:nvPr/>
        </p:nvSpPr>
        <p:spPr>
          <a:xfrm>
            <a:off x="19080" y="6527880"/>
            <a:ext cx="289548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Verdana"/>
              </a:rPr>
              <a:t>Gobierno de Chile | Ministerio de Justicia</a:t>
            </a:r>
            <a:endParaRPr b="0" lang="en-US" sz="9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PlaceHolder 1"/>
          <p:cNvSpPr>
            <a:spLocks noGrp="1"/>
          </p:cNvSpPr>
          <p:nvPr>
            <p:ph type="title"/>
          </p:nvPr>
        </p:nvSpPr>
        <p:spPr>
          <a:xfrm>
            <a:off x="39240" y="-360"/>
            <a:ext cx="8164440" cy="684360"/>
          </a:xfrm>
          <a:prstGeom prst="rect">
            <a:avLst/>
          </a:prstGeom>
          <a:noFill/>
          <a:ln w="0">
            <a:noFill/>
          </a:ln>
        </p:spPr>
        <p:txBody>
          <a:bodyPr anchor="t">
            <a:no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1" lang="es-ES" sz="2400" spc="-1" strike="noStrike">
                <a:solidFill>
                  <a:srgbClr val="006cb7"/>
                </a:solidFill>
                <a:latin typeface="Verdana"/>
                <a:ea typeface="ヒラギノ角ゴ Pro W3"/>
              </a:rPr>
              <a:t>Proyecto</a:t>
            </a:r>
            <a:endParaRPr b="0" lang="en-US" sz="2400" spc="-1" strike="noStrike">
              <a:solidFill>
                <a:srgbClr val="006cb7"/>
              </a:solidFill>
              <a:latin typeface="Verdana"/>
            </a:endParaRPr>
          </a:p>
        </p:txBody>
      </p:sp>
      <p:sp>
        <p:nvSpPr>
          <p:cNvPr id="1825" name=""/>
          <p:cNvSpPr txBox="1"/>
          <p:nvPr/>
        </p:nvSpPr>
        <p:spPr>
          <a:xfrm>
            <a:off x="407520" y="692280"/>
            <a:ext cx="8031240" cy="547344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El Ministerio de Justicia se propuso, a partir de la ejecución del proyecto de Eurosocial, fortalecer la oferta pública de acceso a la justicia, especialmente la reducción de la barrera sociocultural, dirigida ala población vulnerable del adulto mayor de la sociedad chilena. </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Para cumplir con este propósito:</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1.-Se capacitará en temáticas relativas a la atención de adultos mayores y especialmente en atención jurídica, a profesionales que brindan atención actualmente en los Centros Jurídicos de las Corporaciones de Asistencia Judicial, quienes en conjunto con los equipos de los centros, además de prestar los servicios de atención, realizarán actividades con la comunidad, promoviendo y difundiendo los servicios especializados para el adulto mayor. </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2.- Contaremos con la asesoría de expertos internacionales de la Unión Europea o de países latinoamericanos, que permitirán al Gobierno contar con recursos humanos y técnicos, que colaboren con el desarrollo de esta política pública, a fin de generar este gran cambio cultural en la comunidad.</a:t>
            </a:r>
            <a:endParaRPr b="0" lang="en-US" sz="1800" spc="-1" strike="noStrike">
              <a:solidFill>
                <a:srgbClr val="595959"/>
              </a:solidFill>
              <a:latin typeface="Calibri"/>
            </a:endParaRPr>
          </a:p>
        </p:txBody>
      </p:sp>
      <p:sp>
        <p:nvSpPr>
          <p:cNvPr id="1826" name="Slide Number Placeholder 9"/>
          <p:cNvSpPr/>
          <p:nvPr/>
        </p:nvSpPr>
        <p:spPr>
          <a:xfrm>
            <a:off x="6183360" y="6527880"/>
            <a:ext cx="2133720" cy="193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9089FF-3CF8-4DB5-8326-8CBA67495DD6}" type="slidenum">
              <a:rPr b="0" lang="en-US" sz="1000" spc="-1" strike="noStrike">
                <a:solidFill>
                  <a:srgbClr val="898989"/>
                </a:solidFill>
                <a:latin typeface="Verdana"/>
              </a:rPr>
              <a:t>&lt;number&gt;</a:t>
            </a:fld>
            <a:endParaRPr b="0" lang="en-US" sz="1000" spc="-1" strike="noStrike">
              <a:solidFill>
                <a:srgbClr val="ffffff"/>
              </a:solidFill>
              <a:latin typeface="Arial"/>
            </a:endParaRPr>
          </a:p>
        </p:txBody>
      </p:sp>
      <p:sp>
        <p:nvSpPr>
          <p:cNvPr id="1827" name="Footer Placeholder 10"/>
          <p:cNvSpPr/>
          <p:nvPr/>
        </p:nvSpPr>
        <p:spPr>
          <a:xfrm>
            <a:off x="19080" y="6527880"/>
            <a:ext cx="289548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Verdana"/>
              </a:rPr>
              <a:t>Gobierno de Chile | Ministerio de Justicia</a:t>
            </a:r>
            <a:endParaRPr b="0" lang="en-US" sz="9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PlaceHolder 1"/>
          <p:cNvSpPr>
            <a:spLocks noGrp="1"/>
          </p:cNvSpPr>
          <p:nvPr>
            <p:ph type="title"/>
          </p:nvPr>
        </p:nvSpPr>
        <p:spPr>
          <a:xfrm>
            <a:off x="39240" y="-360"/>
            <a:ext cx="8164440" cy="684360"/>
          </a:xfrm>
          <a:prstGeom prst="rect">
            <a:avLst/>
          </a:prstGeom>
          <a:noFill/>
          <a:ln w="0">
            <a:noFill/>
          </a:ln>
        </p:spPr>
        <p:txBody>
          <a:bodyPr anchor="t">
            <a:no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1" lang="es-ES" sz="2400" spc="-1" strike="noStrike">
                <a:solidFill>
                  <a:srgbClr val="006cb7"/>
                </a:solidFill>
                <a:latin typeface="Verdana"/>
                <a:ea typeface="ヒラギノ角ゴ Pro W3"/>
              </a:rPr>
              <a:t>Objetivos</a:t>
            </a:r>
            <a:endParaRPr b="0" lang="en-US" sz="2400" spc="-1" strike="noStrike">
              <a:solidFill>
                <a:srgbClr val="006cb7"/>
              </a:solidFill>
              <a:latin typeface="Verdana"/>
            </a:endParaRPr>
          </a:p>
        </p:txBody>
      </p:sp>
      <p:sp>
        <p:nvSpPr>
          <p:cNvPr id="1829" name=""/>
          <p:cNvSpPr txBox="1"/>
          <p:nvPr/>
        </p:nvSpPr>
        <p:spPr>
          <a:xfrm>
            <a:off x="407520" y="692280"/>
            <a:ext cx="8031240" cy="547344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buClr>
                <a:srgbClr val="595959"/>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Coordinación interinstitucional: Entre SENAMA, las Corporaciones de Asistencia Judicial y el Ministerio de Justicia, a través de las Mesas de trabajo; el traspaso de información y experiencias comparadas; la difusión y educación acerca del acceso a la justicia en la población adulto mayor; la capacitación de los operadores del sistema gratuito de asistencia jurídica; y, la realización de protocolos, servirán como insumo para la formulación de nuevas políticas públicas en materia de acceso de justicia en grupos vulnerables.</a:t>
            </a:r>
            <a:endParaRPr b="0" lang="en-US" sz="1800" spc="-1" strike="noStrike">
              <a:solidFill>
                <a:srgbClr val="595959"/>
              </a:solidFill>
              <a:latin typeface="Calibri"/>
            </a:endParaRPr>
          </a:p>
          <a:p>
            <a:pPr algn="just">
              <a:spcBef>
                <a:spcPts val="451"/>
              </a:spcBef>
              <a:buClr>
                <a:srgbClr val="595959"/>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buClr>
                <a:srgbClr val="595959"/>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Difusión en la atención para el adulto mayor: Contar con una política de difusión y educación adecuada es esencial si se quiere permitir que la población adulto mayor incorpore y asimile la atención en el sistema de justicia, específicamente en las Corporaciones de Asistencia Judicial como un servicio preferencial y de calidad.</a:t>
            </a:r>
            <a:endParaRPr b="0" lang="en-US" sz="1800" spc="-1" strike="noStrike">
              <a:solidFill>
                <a:srgbClr val="595959"/>
              </a:solidFill>
              <a:latin typeface="Calibri"/>
            </a:endParaRPr>
          </a:p>
          <a:p>
            <a:pPr algn="just">
              <a:spcBef>
                <a:spcPts val="451"/>
              </a:spcBef>
              <a:buClr>
                <a:srgbClr val="595959"/>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buClr>
                <a:srgbClr val="595959"/>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Contar con un Protocolo de atención para adultos mayores que acceden a los servicios brindados por los centros jurídicos de los Corporaciones de Asistencia Judicial.</a:t>
            </a:r>
            <a:endParaRPr b="0" lang="en-US" sz="1800" spc="-1" strike="noStrike">
              <a:solidFill>
                <a:srgbClr val="595959"/>
              </a:solidFill>
              <a:latin typeface="Calibri"/>
            </a:endParaRPr>
          </a:p>
          <a:p>
            <a:pPr algn="just">
              <a:spcBef>
                <a:spcPts val="451"/>
              </a:spcBef>
              <a:buClr>
                <a:srgbClr val="595959"/>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p:txBody>
      </p:sp>
      <p:sp>
        <p:nvSpPr>
          <p:cNvPr id="1830" name="Slide Number Placeholder 9"/>
          <p:cNvSpPr/>
          <p:nvPr/>
        </p:nvSpPr>
        <p:spPr>
          <a:xfrm>
            <a:off x="6183360" y="6527880"/>
            <a:ext cx="2133720" cy="193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5CA0BF-A09A-44A2-B49E-409642C6DF75}" type="slidenum">
              <a:rPr b="0" lang="en-US" sz="1000" spc="-1" strike="noStrike">
                <a:solidFill>
                  <a:srgbClr val="898989"/>
                </a:solidFill>
                <a:latin typeface="Verdana"/>
              </a:rPr>
              <a:t>&lt;number&gt;</a:t>
            </a:fld>
            <a:endParaRPr b="0" lang="en-US" sz="1000" spc="-1" strike="noStrike">
              <a:solidFill>
                <a:srgbClr val="ffffff"/>
              </a:solidFill>
              <a:latin typeface="Arial"/>
            </a:endParaRPr>
          </a:p>
        </p:txBody>
      </p:sp>
      <p:sp>
        <p:nvSpPr>
          <p:cNvPr id="1831" name="Footer Placeholder 10"/>
          <p:cNvSpPr/>
          <p:nvPr/>
        </p:nvSpPr>
        <p:spPr>
          <a:xfrm>
            <a:off x="19080" y="6527880"/>
            <a:ext cx="289548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Verdana"/>
              </a:rPr>
              <a:t>Gobierno de Chile | Ministerio de Justicia</a:t>
            </a:r>
            <a:endParaRPr b="0" lang="en-US" sz="9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PlaceHolder 1"/>
          <p:cNvSpPr>
            <a:spLocks noGrp="1"/>
          </p:cNvSpPr>
          <p:nvPr>
            <p:ph type="title"/>
          </p:nvPr>
        </p:nvSpPr>
        <p:spPr>
          <a:xfrm>
            <a:off x="685800" y="2339640"/>
            <a:ext cx="77724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200" spc="-1" strike="noStrike">
                <a:solidFill>
                  <a:srgbClr val="ffffff"/>
                </a:solidFill>
                <a:latin typeface="Verdana"/>
              </a:rPr>
              <a:t>Gracias.</a:t>
            </a:r>
            <a:endParaRPr b="1" lang="en-US" sz="9200" spc="-1" strike="noStrike">
              <a:solidFill>
                <a:srgbClr val="000000"/>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7T19:44:20Z</dcterms:created>
  <dc:creator>Executive Director</dc:creator>
  <dc:description/>
  <dc:language>en-US</dc:language>
  <cp:lastModifiedBy>Fabiola</cp:lastModifiedBy>
  <cp:lastPrinted>2011-09-01T18:54:59Z</cp:lastPrinted>
  <dcterms:modified xsi:type="dcterms:W3CDTF">2013-01-23T20:09:36Z</dcterms:modified>
  <cp:revision>271</cp:revision>
  <dc:subject/>
  <dc:title>Slide 1</dc:title>
</cp:coreProperties>
</file>