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notesMasterIdLst>
    <p:notesMasterId r:id="rId55"/>
  </p:notes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notesMaster" Target="notesMasters/notesMaster1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dt" idx="13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BD1B7-E5BD-4B8F-9B02-933884E0B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 type="ftr" idx="13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 type="sldNum" idx="13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546F0-4BDF-4325-B695-27462EB87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CF1A6-80C0-4EF9-BA26-C5F069B02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7FC0B-0E9B-41F2-BA10-5B876DD84A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D80E-3D60-458D-AC30-CB43F2739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7E07-B6B6-4CC1-913F-4C2007BAB2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5493-7FD4-412C-8B67-366B3E2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F55D-9E89-44F2-A848-5DA13DF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32E3-EAB9-4980-BEFA-A268C8C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0880-C67A-4842-8532-DB39DAB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D006-02DF-4006-B1DC-D46642F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C075E-E298-4850-938C-AE9BCC0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225F-D0CA-4272-8231-1B0A680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71FD-9E2F-40BD-A217-2F278ADE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80BC-91FD-459C-BA76-5BA94C9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509A0-0826-4D25-A2CB-F20988F4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CF38-7784-47C4-B8AC-372DC116B7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B0FD-B9FA-45C2-A3F3-C0A8D66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9503-D16A-41F1-93A8-44C5223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CC61A-2CAA-4FD3-B06D-E3839F9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16DF-9503-4A8D-B669-5A163556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C1B9-FCDF-4707-BC6C-7C2FFC42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1E39-B84E-484C-8BEE-C9D9BE52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4127-FC39-4474-8AFA-35E37D1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B11B9-4429-439B-A1E2-4AE52F4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E3DEB-3FB0-4D58-B177-E3F8D782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D9422-548C-41B6-BB0D-E9793285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1265-9621-48BD-8BD0-C766C16601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043A-0D80-48F3-9BF7-0F8707D4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412CE-05D1-456C-8B29-13646007679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FEAF7-1A34-4A7D-9DBD-18FBABEFE1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22425-5DCE-4FC2-936B-5B4D1DD569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76F64-794A-4C94-907A-96F34D0766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2E37F-A00F-4F10-82E8-14601792148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86C01-4434-4B07-A89C-879BE490218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EC783-E59D-4DE0-8D0B-4F731FFA32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E871C-407A-4348-B4C6-4D5C9FFE762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EE4E5-099E-486B-80B6-362FDC6D6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74CE7-E864-4E8C-864A-1D9436FA2C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1C272-3001-495C-9B87-88248E23FD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2ACDA-1D77-41FE-98A8-B2255AFACA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CC352-9319-4063-8EBE-AE21A19BF5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DE884D-A8B5-48B9-8800-C948BD245A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DF034-018B-4A2A-9153-8798B0A365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0EB29-F952-4D25-B50F-E8A369753E6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F237CF-B77C-4907-A88D-8433B98A08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3DCDC7-CD2F-4B77-91F2-174A7B7D423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57C67B-AE42-4AB8-A057-8E8E7ADEB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593BD-682D-4529-A115-8ED2BF2C5A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18804-253A-414E-8A51-4177396329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7FA72D-6E7C-4431-B060-F07020213B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4981D1-9C46-4ECA-BA80-0E223F7E2C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8DC6D-F32F-4C03-9444-16A3B587BF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FADE-9540-4010-8AA9-6C429F045B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CBEA-C136-46BE-B32F-C0AC74CD8A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195D7-206A-4746-A9EC-FC7EA18E7E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801D-5044-4BF8-BDD5-362BB079B2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257C-7B6A-4A96-8963-A1D8DB9781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87DB-B6D5-4FD9-8543-487C4DD077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F542B-5DAF-49F2-8D47-71C9A55188F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B2DCF-A895-4B0E-862D-7137668905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E0C5-1839-44CD-9CF3-708841C08B2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D20DA-66A4-4509-9A1E-0861732ECA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980A-976F-464C-B500-60D76FDDCD1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5DC1-6F39-43D5-B939-6652AD202B0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0F00D-634C-4847-81D1-5828A228055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BDFCB-4BED-4A0E-8F12-228064F508C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431810-5364-4C70-91B3-7B5AEDB94C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2C0A3-0A4A-43DE-BCA7-F17B40F169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BF5C6-3CFE-4DDC-B862-BCA19E15820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D3749-F632-487C-9E04-711BA318C7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0B5483-70D2-4C7C-B0C5-6FF58F1906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EC8DA-9EC8-4F1A-977C-B0F1DAB48A3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0972D-7FB7-437E-A227-2443BCF619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C4437-AD27-4A09-9694-3C840614C87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DB35C-ECF9-478C-90C2-BE0ECC6668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F7013-8225-44DD-8E15-2D749414C81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A8191-4423-48F7-A6E8-A8CE60659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C3974-4406-49B6-8EDF-6ADB67957C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BB21A-1080-4576-BC60-0ECCBD337C2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2EDFB-14CC-49D0-B3E8-99FC8E14FF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183AC-3B32-4F40-B5BA-28294957D3B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741AB-76BB-4D0D-BE4F-622533C3A87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9AAC8-1258-4558-8380-2963807AEC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F3E27-7C94-4084-A348-F8F2680719A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A3D58-BBB7-444A-98E7-E59F386A42C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A4B6B-717A-4B8F-87B4-A993096A042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F57EE-679C-4EE5-8EC8-8E0D41DB4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37EA6-8685-456C-8B6E-FC82322090A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F0B35-12DE-4102-AF72-FC858FBBA1F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7D7EA-CAAF-4AD4-9AA2-F6712B9A24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8D725-A327-4A1E-8E04-EF3B31C244F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94CAE-0A35-4837-91C3-E15B5EC05D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0B53-727E-48B5-A115-D16EBCD31F0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FD01E-775C-4E69-A02E-43DCAA228AD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5E961-7A44-464A-BB6E-39B2B97D0DE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5481D-4A54-42AE-8490-4D6754923E0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42F5-9A8E-45FE-B2CF-794372101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1D3E7-D1E0-4142-A0E6-F60EFA2EB8D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7EEB3-9A5F-4D81-82A2-71E01EC671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166DA-5526-46B8-9534-E7306EE71BF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B311-F617-43E8-8206-3B365EE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9B880-9D68-4C19-9724-C5EAF5E9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54C7-E3A3-4248-B1CB-4EFDC164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B7803-3336-4148-8672-B29E418B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E1BFA-F7CE-44DF-A54A-44D35ED4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E4241-F048-4F5E-B9D1-4B1906CF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7A175-4DB2-4EB7-819C-A83ABE3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7CBC-A6BE-4AEB-9A4D-1C3A49EFE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7ECF-0F61-43E6-B1F1-810B8050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5F568-6C9A-4646-B58F-8E7A2CA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A7E80-E6F4-4D53-BDCE-B7ABDED4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63609-A3DE-4364-B68F-308E603B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56F59-A2BF-4AFC-BFDA-9BA355F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90BF6-5090-4900-ACE4-B704BB6A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7BE19-9880-4203-9C91-46462A3A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BAA43-C805-40F8-9E64-430DF2A8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9BCD6-4375-49F0-A100-774B9B8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9940F-B85E-45E6-86BB-84420018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FA5F4-C20D-4112-9BCC-0B0A0DF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72FEF-86F6-4C90-8A6B-A430517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14D9C-2F9C-47F8-BB50-921D753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D9C4B-B115-4C28-82BC-1A502D9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DDEB3-1917-44AE-9C63-290AB66F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71F82-CCAC-4687-AFD5-2C6DF882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47647-D485-4915-897F-B8437DFD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659A2-F8BB-4E23-9B84-60916310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ADB09-4B0B-4876-84BE-558F3423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1E9EC-75F1-479C-ABF8-E20EA05E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003DC-B71C-44E3-9799-99FBABC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114DD-3D53-476D-8E08-C4CAF6D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2768D-DEC5-458F-95DD-3CC3D62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A7D74-FD62-44B3-8023-F08D1CE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0877B-5D08-4696-B00C-5FF8FAD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A9098-E795-4DA8-B26D-A920B2F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80949-17E5-4E8A-9037-03C8B4D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79BF2-768C-4E6C-86C6-B9277F45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7AE62-B59A-4476-9D49-CBE03C0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910CB-0BCB-43E7-8DF0-C07733D0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00E0D-8F4B-43FC-AF86-29E8EF8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44CD4-3963-48AF-86FE-BF9B0136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7FE04-BFB0-49BE-8803-1A8C050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8591F-0573-47C4-9857-3D1B0E1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8782F-FBC6-4C44-AE3D-F01088F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348E5-52F7-4123-9955-8A0E3F7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21895-9B9E-46CC-B1BA-1AE4042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75C10-DCBA-44E5-981E-26E8F4A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699A9-54B0-4534-8B61-B0A8049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2A588-A299-4DB0-BA6E-C567BB46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57123-E677-484D-B871-5B2A4B54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F3158-85F2-4DBF-B487-1E4D0B58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09EBF-697D-4157-8D73-CF79F178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9EA8D-FAE7-439D-B15D-F4B9FFC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3D755-5B06-4132-940F-C6C45627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24C9B-C22E-46F0-AD61-F409DE3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19B1F-6404-43C9-B1AD-B02EAF5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C50D4-0B96-4ADA-83E7-6F92147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415FA-2585-4A86-BCBB-BE6EC9C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ED149-FDAE-4287-948D-307BDC5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7E77E-73A3-41B0-B6DA-7E9C880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4E339-00DC-40F0-BA42-A52E7449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4C23D-6E20-4930-8CB4-44445EEA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2E91A-37AC-4A00-A145-6BE1F64C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C4F69-8228-4062-AE09-DD0B0677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ABD79-4E96-4382-8AAF-E966B3DB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D3E2A-52A5-4BAC-935E-AC4AF93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357C3-0488-4F9A-A0CA-53F0188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A348F-01DA-41DF-B381-5AF6D12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00FB3-3AC8-437C-99A8-5C90B468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1457C-6E84-43F6-A584-6A80B8D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F9478-5A25-4F67-9509-05C769B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15DA5-8455-49DE-963A-3C8AE8A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DDFF0-8F2D-4337-BFD0-F77A17A5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788F3-4092-4234-B398-754111AF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43659-909E-48AE-9A26-B8D21C65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77CF8-C602-4B01-B4F9-AA6285F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9FC40-45A8-4D5F-8BB6-9560DFD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B7833-5981-4EDE-BFED-B7B84868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5C332-3F1B-4FE4-BB6D-4EB7F44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F7740-53C3-4101-801A-D81EDC6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6FD02-CDDB-459D-8070-2EAD164C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DF097-26D6-4F87-A8FA-193E1944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98A7D-6060-43C7-8DDD-8230A49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A1797-38D5-4B47-B136-5AD59E0B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C5C36-A1FB-47D3-9521-7079EE7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DB298-A197-4BC3-8FD6-D7970C0D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A092E-2248-442D-9D2F-55C6DBBB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DDF9E-D333-4DDB-992C-3316494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A0E17-E527-4233-84AD-F99C085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A1BE6-779A-4572-8971-DEDE44C8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5248B-F471-4720-86B7-CF72442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6DC99-D871-405D-A441-A701D18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5199A-5D8D-4530-A3DE-CC005163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647D1B-16CF-4FD2-B160-496140B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EB4DD-ADEE-4CDF-A9C4-9A8AFED9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C4E31-F456-4B44-9275-BA4B01B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19D29-8C94-4BA0-AC05-98DB914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1516B-453D-43A5-B623-AA294DE9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9E68F-3B48-4391-B8AB-5316971E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22F9B-7122-450D-B9BF-7315ADC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0E0FB-ED56-4533-AED3-BAABE895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65AB7-0479-4CE7-9BFF-D66752EC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17293-EE88-4E50-A240-717396D3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2B789-3F69-493F-A7A0-D44C31A3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EB94E-379B-4160-8F04-CCEF3CA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A1A78A-8C85-49FF-AF56-D793602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15F95-0422-4595-B718-4203971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F0299-0AD6-4874-BC24-8B830D5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F9B6F-CCD4-4B7E-A634-5751A269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569E-8048-4A63-A681-6F9C98527C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9978E-E0BC-4FCF-A3B7-F7512232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F5210-6CBB-47CF-A26B-BD142DF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95476-E109-4046-ADDE-2CE9AF93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C60B3-3664-4249-9BCA-990D6BF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5B4BC-9405-451C-AA00-DC25BEB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DA2E3-D90F-453E-BE5C-F58DFDA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711B3-A864-4CFC-A672-33C989C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501AD-097F-4A0A-8778-8A9E0B1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8A238-0972-4737-977D-BF75027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733A5-5ECF-4A19-9CCE-0787D2E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0A45A-35DB-49D3-8A8A-A100ACB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D3507-2A18-4F6D-BA50-079570B1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0EA57-6551-4AAC-B75B-3B8C0EF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CD7C8-305D-424A-9F51-41CB309B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5D5A6-1095-44F4-BDBF-0C4E01E9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D0803-C3E8-4927-8430-01018CC4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2D10F-7D2D-4888-B841-5D65217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CF200-1875-4A2A-8C6C-AC4811B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D400A-0A46-434D-9471-FFEF223C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6735E-0EBA-47A9-BE49-DC89C31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ACC555-647B-49BA-B568-1AC22FE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59840-C55A-48E1-84ED-EF721F6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7276F-F7BF-46AD-87FA-D46E9CE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DAA91-A5AC-41AD-96F0-893BF16C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39063-4860-4FC1-98FF-C2E792CE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C8E26-341B-4B85-AB39-665A403D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13D63-000B-4EE1-8F13-82FC866F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70C18-16DB-4316-8CB8-3FCC76C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BE6F3-9287-4A29-BC8E-EB1AAD1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3E55D-00EF-4733-B9C2-BBBA044A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A511A-E808-4709-91CA-E5E81FB0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8E020-5E69-4163-A104-3078A325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5CCF6-D59A-48C9-AE55-44FF11C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BB71B-8439-4BF6-AC4F-E857D070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FEF7A2-B198-4462-B9AD-1A61BC67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E536B-2029-40B1-A589-3D126FC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7CE802-A4FD-458A-95D1-359E0BF0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394BA-85C1-4EC9-AF09-F6288B76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7E850-1123-4771-AA06-1BE5ABA0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C8292-1CE7-45C5-A23F-ABC47CA0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7212A-1CB8-4E56-85E9-0C5D321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51A055-1CE5-40B1-AEF4-4AE8286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1466A-C55C-4B75-AD8B-C9404F5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340B7-4B1C-4DD6-848D-A74EFBB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465259-8317-4BD6-8C40-D41C11A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926F4F-5751-4DF3-852E-1D9A8F5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625EE5-88C6-429C-A776-1E65F77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C6670-8B35-4AB7-AB65-7F754BC5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76FF9D-60CB-4A61-A569-1FCF32FE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80CC6-7693-483A-AAED-C458EE38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7124F5-ED4B-424A-B5C4-446540E4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D09248-58F9-4C1F-AF45-ED397B8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879C95-327D-4B45-A899-2AD1F03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746E2B-3BF1-4927-900B-DC29863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0E2A89-7C94-40BE-B25F-EE679920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778FF6-D99D-445C-BA90-178B3D8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47F34-128D-49C0-A3CD-36DB0FB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1D963E-9018-4276-B78B-7B7F856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25E861-32CD-475A-9ABD-44ED50B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2AE92C-F675-41C8-ACE0-6B75349C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1DA7C-453E-4F5B-8086-6C8CC0CE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DF87C-668F-487C-B0E0-D2EF4CCE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777DFB-133C-4E74-83A1-0B24CA9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A7EA43-E73E-4B13-B86B-7D7DDB9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590F2B-3051-4AE5-9CF2-3DD621C7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F3D5D6-5E31-454B-BE51-7894191B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BF69B-B1DD-44D6-911A-D91A3E15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126BC-2E98-443D-9F9D-8978FE9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07B420-D7B1-44F2-90A8-4125905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54EF59-A8A3-4E84-A5E3-2F1BBC7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354945-285A-436E-AD2F-86B5BBAB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5E8624-AFDA-4F3B-AE1E-16D716D5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076C9F-305E-4A17-98E0-8E23CB8F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C49DAD-DBF5-4677-8406-74D24D5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B7B3A4-EA0F-4CC9-AB3D-6BE06ADC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F0B5C2-70CE-47E4-AE54-5584031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26EDC5-9236-4053-A6BC-0693AF4C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097C6-2D26-473D-A093-D315E2C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9B1FF5-64A4-473C-A66B-1BBD8F0C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A1A622-8E12-4591-945F-8761DBA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1CA7C5-7D58-4299-8D59-1C74E0A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D0A165-A222-482D-B31B-807B368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11D8B4-13CF-4D5F-BF30-7B9F1CC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2EAC60-FF27-4AC3-A6BF-62EAC0C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A12971-F4BE-4562-B5D5-CC2002AF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5853C0-F70A-4AB2-B326-3DC0DA65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B1CEA8-AA71-437A-A27A-B876268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E6E00F-ED58-4AF2-8351-60614B9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E250F7-EEEE-494A-8B4F-BC7E4A6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AE9766-9894-45D0-85B6-630C12F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25137C-F670-4DB4-9226-F81BF7B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E02271-A598-4140-B163-E29E942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4AC08-EEBE-4DF0-8FDC-483CB0B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6C6BE-D3A3-47B0-B3D1-C0FB4EC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C813CA-7106-4026-8C8A-CFFABB9F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0C199B-6EFF-4E65-9D90-7E59A73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79D01F-19EB-4142-8B84-86287334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EFA1BD-0870-434C-9C61-BC2DDC9B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BB3ADA-0BF9-42B7-859D-49E94D21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7A50B7-C98B-46CB-8EC8-0D67506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D29C-DF7D-4A9D-9733-96D38E3D7D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B7CFD4-C23D-4BC9-ADC6-9FAC08B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AE3992-D9A4-4D93-804C-32DB30F2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7BDBF1-AA33-40EE-B36F-B7780BC2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5ACB30-36CD-4653-ACE9-1008D6A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547009-98AE-4D8E-B727-FE1AE63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9D1DB8-34C4-4DB7-B9C9-21A07BF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83AC69-9E65-42B5-B7E2-A99AAB42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CEE29-1358-42FE-A007-4709014E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5D20F-614C-417C-91E1-F1E96151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BB9A71-CB26-4D3E-BBBA-CC57369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B142FA-1E30-4A8C-8D14-5250DCE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5EF627-D715-485B-95CE-E6FC0BA5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660DAF-BF10-4A94-933C-D1F643B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1DE2EF-AF0F-43FB-93EC-65E7B6A8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C392A7-948E-42C3-985B-C81133C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D888DB-C6AF-4627-B895-F2E6B5D7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4979D5-0767-445B-9CAE-56FA4DB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D53921-09D3-41AA-B338-DDA9F23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819A1D-5620-42A1-B5C4-A36807D3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E5BDD-C036-4787-9692-E37155B0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50B68D-EF5E-4508-9FC3-7183A3E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E93CBB-2B2C-4DA7-9B26-39EB88CC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FC46E1-395B-426D-AF30-16B1A93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CB3FD-2E61-4710-AD1F-02390B75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97496E-F57B-4F52-A122-CABDAF78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41F88E-09F8-4332-96C7-A30ED92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D34864-36AF-43CC-985B-CA341C7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24F6BC-8F00-41B2-BA57-61A2E9E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69B863-3F0D-489D-AFA9-4BD799D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43EEF5-1E17-4C0B-B453-504F51D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5D48A4-BBC3-440C-9C27-3F9E888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715BB0-E2FD-4A95-8CBC-967EA91F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413530-E0EB-40B1-8677-6D932D70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DAE26C-DFF1-496E-98A3-28FBB0D4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77709B-C9E4-410F-B43B-163F8772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B51231-1E29-4901-BF5B-CEB7C330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1B5752-4E8E-4524-9955-DF1D0306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4F3E8B-12C8-474C-BBD9-0A83AE9A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815004-9D99-48CB-ABFB-32AA713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ACDECB-D8C9-4A0C-B315-9C43E8C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ACF3B8-0040-4B16-9B26-EA62A6B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65B796-DA7E-41AC-8280-C42EFF0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767D67-11FD-4BB0-8152-EABC3B0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CB8C18-9A1B-4142-B5EF-DAA0B032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1EB5C0-E339-4E73-8707-72BCEFCB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638EC-61C6-4144-8061-5D63464E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529B25-497B-4094-B652-E66116D8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9B082A-85B5-4EF0-ADB5-0200843D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55C7C2-9D57-4508-A658-E8F21C6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A6B201-E9EE-4976-A982-A43E08B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A45D01-49A8-40D1-AED6-4B0978E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B33EA-BFEF-4511-B58C-A77C304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CFB326-1F87-44F2-964E-219D9BCF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3C51A1-A89E-40E0-B182-96C9CF4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22F147-9CA9-404A-B3F4-CA777E1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4D0047-59EC-4FA2-8EF8-BCF76F38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73E9CA-F703-43F1-92D8-C8DCEDE0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2302D1-3869-4E39-AD59-726F63AD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8FD75E-8C8C-4291-AFAE-FC647AAC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22BD27-E542-45A3-A9E2-B5AFEF4B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7D0798-A9EC-47DD-99C5-749326F8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20644B-A25A-465A-B31D-074E8C5F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A4E9A7-7348-49C8-98EF-8D5342D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734925-6175-4D5F-A402-2FE1090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1B96FD-3FB5-4A03-9436-D442342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ABB35F-C399-4E15-8A1D-CA280D4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9B8F0A-7579-4A3B-99B9-00A4F0D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E876B8-88AE-4CBE-AF6A-245801CF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6B611D-68C4-416A-A3DA-30FF3010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4D8C8F-A791-4564-B56F-FD13CE30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D62B4C-80A8-49AD-B681-5FECD4A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92DA16-FB67-49F5-9E89-8CFF29C2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188AA8-C27B-4B43-9A2C-C8795D2E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D48816-2458-4C1F-BD43-EA7A542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790784-8234-43CF-9638-D99A383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5AC547-D85D-4ADF-9156-D3F479E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EA0FFA-AF9A-48C1-9C37-FCF12A4B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0B0C6F-098A-44C1-BE28-63071E4D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9A496D-61BB-4B40-BDDB-4F66A56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10F003-BA17-4147-A907-6D6D0274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7C8A88-CE47-4196-860C-296C4F8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84953C-2983-4EEF-B70B-281B0B65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C30391-B307-47D7-B0B1-599CA12D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60E202-49F9-4EBC-95F2-B83CAD40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1452BF-69C0-4696-99EC-D841E328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E5FF19-42E7-49BF-A7BB-F79ADC1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086449-931A-4531-BA42-22F1AA71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D9DD46-4992-456B-B012-7FBA3AA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A2A68C-2CB9-4B25-9188-0A63C90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FDE9D4-46B2-426F-AE79-83A94E50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7CEEF-66DF-4E50-9A2F-D57DF93DD23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45FFEF-4760-4140-A2CC-137EA4DD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74D1EC-1BB5-4FDF-976F-588CEFE7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8582D7-13FA-4723-8D87-1AF50C0B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31609A-3348-4A08-807A-FD500BD0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A7B0AB-A4C1-44E6-97C4-3D6EA5A0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C8F505-959A-42A0-9F0E-678DB81A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9F4557-1E0F-424F-B47B-EFEBAB3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EE83DE-AB3B-48AC-B06A-B2F8789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F0AD60-E528-4376-A82C-F3FA359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EEC9ED-7C3A-45F5-9F3A-1A06D6A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691B-AB4B-428D-94C7-6794AAC264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CB250-BD33-4512-B0CC-FD048495BB4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5AC505-0F94-488A-8757-FEC36BE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1701AE-D075-4E16-8E06-EA671EF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34267A-528C-48AB-8B20-632D7EC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93115F-4CC9-4981-9E9E-5345B20A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4D648D-D757-4046-BC06-8FBC7763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8D716F-2CF8-427F-AC8E-8E69D055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5C84BB-254C-4B6E-B677-571F02C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8923E1-5840-4977-9548-79D229EE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E946C0-7CED-487E-ADE5-A3AB013A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A8F140-4A99-4A26-8E88-7CC221D9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5FE81-5B2D-45C7-98EE-6E76DF9DC4DF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262AE9-4F7F-402B-982F-2CC32F2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9EA03E-C2B8-46D0-891C-9682E51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74CD13-4F0E-4EB8-A7D0-4CA8972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C9BF98-5F04-493C-9CC1-448BD72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91E3B4-BECE-45EB-8B6F-9E9B399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B07B49-A154-4E77-B2EE-F126F380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986788-9EFC-42C2-A78E-60875B1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A244A2-F423-4EC3-A2C0-813B8783812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948809-7CEB-41A5-A2F1-6A93EB9EB079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E1B536-B8AE-46C5-BAD4-E4F03A4A28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60A3D-62B7-4F78-9030-6D17069BC5F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37F5979-80F5-4A20-814F-EC7CEE123AF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54C7988-7B91-4A36-8B9F-2B52737E19B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19A446D-E3B1-466F-ACC0-987FC43C5A6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FE7AE7D-EB1A-4743-B44C-3171A2DB782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6529D5-834D-48D7-99DE-60CD08892A5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D4E23C0-9DC0-41F4-8A18-C20C851D5DC3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8E49253-22F8-4D1E-A7D3-CD36B59968F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0920D24-3C09-4CC0-8F5B-9E0E1668230D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094E0E7-467C-4852-8980-7BB19923D32B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21E44BF-EEE8-4CA7-A73D-F0E2510C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4CD37-31BE-4322-90E9-4BEB5CDF1C92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F07D55B-63B3-4F0E-BE6E-AA09183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E9CF39B-4264-48FA-9A27-0E9AC5D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4477A62-FACA-482C-AAF4-61AF6CB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8465BC2-4F82-4A0E-80E9-49AC15D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041FC06-8B91-430C-9A7E-1A207F0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C598C87-A73B-4B42-8E61-EB2FE88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B70EB86-3665-4CE0-992B-A523E87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CCD3CFA-DE2C-4F55-83AD-7B0852C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AD7219C-2BB2-43CE-858D-E537A313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D5C87EB-185B-43CC-8700-D71CC37F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5C0E4-C369-42E9-988C-B74523087D55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7F55A4B-195A-4A20-A477-322F02A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CEC540C-C13A-4BD6-820F-AAD64768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CF00704-3662-43FF-8C19-DBE6FF96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A367FB2-A6E9-4158-AEEE-63F3CCC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F5B8701-4878-4AB2-8A01-2985C097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1CF9D09-D707-45E6-82E4-35F83A3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4CB1E5F-12F8-41DC-A505-62C2B81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87277D8-5CD0-486B-8582-BB0EFF5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3AA6A8-8CD4-40D3-A567-B338241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5593C47-3140-44BA-B42E-9A1A8AA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A0852-3D83-4782-8C37-BA7BFA8A5D01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0560E21-3E58-4A47-925E-6A8535D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751337A-79CB-4471-A46C-A6DF6E48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72B238E-3C63-48CF-9A43-87E9DBCA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84DC4AD-5892-44BA-A08F-EA225A93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0277F1B-30F4-4898-B768-DEF52B2C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8299011-58E1-4535-802B-0C75235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873BD10-1B67-42DF-A0D7-1B65723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51A710-D70C-4CEB-83DC-DA347F4F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9416C12-5842-4137-A11C-4A937AD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C606953-C9DE-4467-BDCC-53C86FE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868BB-A1BE-4CD8-82F6-BA01ECCC1D12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EB24AB6-6C9E-42B1-8911-898CBB2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1BD8CE7-F884-4567-BED1-31B5DD7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C6C6ADE-FAAB-40B5-8157-CFACD4F8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08AF36A-37AA-498F-A8F9-77800D48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4182971-5AE7-4ED9-B432-B9EB6B11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F7C5E8D-034C-46FE-BD3A-4ACFCFA0B85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9A78AE9-12BC-4E22-849E-A4041E1D26C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907F24C-2ECD-49F9-B217-3C42B72657D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98F5FCE-D9E9-4899-9D23-3D1A8DD5C5C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765A9E0-338A-4F45-AFAB-9D6EF8FB64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EF77A-84BE-46EF-AEFA-59EB45261B4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2C5BDD8-7E71-476F-A7C9-2787FB96AB4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6D93AB4-062D-4E94-809C-7C04DE25910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42532CD-E147-4633-8247-910BAA20BA6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4450031-01C0-47A5-8068-D4BD2F06066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315A887-5829-47AB-B22F-FEF6D3FAD23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2EF04B5-663D-4D18-AD20-EF164479CCE1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0076FA4-6A68-4B0C-8EC8-5AF54850027C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234A60-60CD-47CA-A1F0-3B35D6E4869D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9B2382-90BE-4B3D-AEDA-1F9E6AC1522A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733BF8-40C5-4D2E-84AB-BF420D157FE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A6493-BD76-4EC0-B89C-1BFAD127FA75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550192-599A-41B4-A61C-B05EF43C995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F114FD-F97E-4698-868F-9FF4C77F6302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25EEE6-7D30-4188-9DC3-ABC3273DBBB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E400CF-CFF8-463A-BF78-46D4A494013A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89B511-69C5-4FCD-818D-BE22356F6B0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333966-41EA-4347-85AB-F1617D898C5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E74700-99CC-45F7-8681-BFCAC95A93E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E4B3C5-74B8-4798-B2D9-91D6643B58E1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D8C887-6423-421C-84B7-DF938EB99F0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B4C4F92-F11D-4D14-8D59-1F25FEBF28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3B9B-F4CA-4450-86BE-A67ABCB6D4D4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CF6F37B-306A-4A99-BBE2-CEA4484F1727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8383C93-CF73-4E46-A0C4-22A2478EAC4B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7B28145-B5CD-4396-8DCD-D2F95D93EA1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89F9C97-C2C4-4371-8012-A7600629B652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EF8B078-3A44-4851-B411-30B194B9DC1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5363040-99D8-493A-97DE-33409C15E6C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2458C2F-C348-4A2E-A97E-861FE36CD8C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B9A9CC8-8B3B-49B9-A087-A5DADE42E32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B5A6159-AB0A-41DC-BF4F-72C425628F98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98A38CE-444F-424A-94CF-098FE379F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09C9-D862-49E6-AAE1-AA1F5E0A55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089D-92A2-4935-A38B-3395DE57873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7D847B1-B7A4-4226-99C6-96207440639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1C251FC-C30B-4915-B739-C775CA2BB5A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227F2E5-3A4F-4560-AAE5-71E42D61010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BBB4B86-3545-4630-A383-07507F441E4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8D9E709-537F-426A-AEF4-4DC29E5A9ED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F5EAF0D-2B9B-4DA4-9832-1C18DA9B65A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E6106A8-2BF4-4FCF-9D1C-3D599F698B6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5F7441B-D22D-4335-8644-F3C1E6C1103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ABB0E36-A051-487D-AE2D-EA3A67CD363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3290B98-E4A4-4D98-9E14-DAE38C95C6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601B3-F8D4-45FC-862D-4E071C9D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D2AE2DC-3128-4957-98DC-8F3AEB177F1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57C968A-9724-40F0-986B-86F0DAE4A0F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4CAF600-A6B4-42A5-A1FD-3BAC1C0CCF9C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9BE9C2-2775-4466-BB83-D31F6C4D7A1E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99F254A-C352-4A96-8EF5-21CE9BEF24CB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7B1E86-E927-4D54-AE15-9477E916F88B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688E28-71C7-442A-894F-666C547F1967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FB2A84-F30D-4DDF-A050-D100643630BE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8383B2-A251-48F2-959B-7B8EFCE23338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93EE6A-1C3D-4209-83A1-7F1854E403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44666-BEF5-46FC-9FF3-38DEE7B8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0EDB7D-C2D1-4107-B641-75D119739BC2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93D0D8-6585-418C-8263-DCF05CB2A2AB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CE3C1B-D04F-4DDD-883F-EBFB8A868089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C5FECC-53DB-4461-8636-EC1668C72B0C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83F2D2-8628-41E6-82D9-5992AC9E8433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EDD6992-4CBB-4A7C-BDDB-BD61308017AE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34EB69E-03BA-4FC1-8689-29BEA0BF5F3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DC0D2C4-B5B9-454F-BDE1-14E2AF85D8D5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565783F-6CC8-47BB-A6F8-C7ABF72682C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B1AF813-52BF-4536-BB9E-8F14A92854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E0FD7-9D0E-4D03-B2E3-40A24A76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0F29A40-A0D8-4E78-AD76-86B115DCD37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247CE8-7FFB-4C72-943A-1BC007A686B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C95642C-2314-47DF-B8A4-4C93D08458F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C66DBC1-B205-405D-B5BA-8C9312ECE190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883596F-5A3E-4249-A9B2-F57E2E7D7DD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AE6FA24-1F7D-4E12-A538-01FE7EC46824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FF211F0-6CC5-4595-BA8F-EF63632ED5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62965-8489-49DC-8695-F2C2047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AAA32-51E9-43C7-B552-8D5EA7F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CD3A5-3451-4B98-9739-839D05CC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64AD8-B5DE-42C4-94E2-9B510F0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1CEBA-B884-48CD-AD5B-FB15F70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CC236-1F7D-4B18-839D-8350CAA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ACEA-FD3C-4422-952B-4DF09527C2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D3A40-4212-4E90-A02D-3E7229C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53170C-B50E-48AC-98AD-082E2206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9D5D3-3B15-4963-A589-93B726B5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62D2-6C62-46E3-B1AA-21161B4402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6368-7BE0-4377-9864-E1F19F6041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9FFF-4DC0-4379-845B-37A18BA7DB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9D6F-3A71-47A4-8E70-951B1A9F89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24D3-F171-474F-A78C-8B9AFA0DA3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6BE5-878F-4D8E-A4BC-78CEAC0BBB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B89D-E676-4AC1-AE45-AF623192C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D680-26EF-48DA-8D8E-5438B31183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31E3-866C-443E-BE18-22C8164CE5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2E13-39FF-47F9-BA96-1E4014FA66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E96B-D1CF-4AAF-82D0-6DED17E7942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A5F4-5600-47FC-B052-D482DF4A84A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6217-1017-47BE-A0B5-E51BCA660F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9BEF-8996-48FE-8459-A74CA80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26F7-9C7D-4E94-9032-61B65D4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0E8F-8270-496A-8F13-520BDD52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DD2B-6CCB-43AC-A05B-2DAC07D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09DA-7843-46A8-8677-97B7B4C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0D18-AB1A-4455-A8AE-7827305B39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C014-6644-49BC-89BE-FC1F57F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5EF6-8FD5-4A80-8969-2579D081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3E72-51C8-4E19-8634-10C4AAF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50DA-8350-4BAD-B102-3C2821B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D2D4-B966-4371-AA2B-59407E2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06DB-E136-4943-9B5D-6F94E2E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4B01-76A4-4448-BF84-DA64A490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0470-E78A-42A6-B613-B951180B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589F1-107B-444C-A902-D33DEE0C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E047-1992-4A0D-9E5D-2D4CF52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77C09-7739-49BA-9D8E-7031A1B1F0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2533B-4935-4A6E-AE09-A0853D1922F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BCF59-359D-45F3-821E-10C0205ECC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75EE2-8744-40CB-9D32-08FA6CD33C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D1F30-AE47-46D9-8C2C-828FEA6059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61AC3-5D99-4A20-B914-519ED044D4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82C08-D459-4AA2-80BD-F1C6B92B44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E20BE-9C44-479E-9767-CB089DB64D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EF444-1F6F-4042-B78C-FAAFB0F781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19FF3-BADA-4CC1-85C7-421AED85EDC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812C1-16D0-4263-888D-10B7C03709A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19C69-E077-4B3F-A0C4-41C84349FA0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B46A6-BBFE-40C5-B074-28B235DBB86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00883-3221-4D65-A686-4B62D11D156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0F5CC-ECFA-4FD4-AE79-91B8B57320C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82945-2C95-4BF3-90C6-20FFEEECCC2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7DE39-2ACA-4340-946A-CD25A918ACF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0FD8B-00FC-42D3-A1BA-CCFACD7B3F8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156F2-FD5D-40C6-B8B3-80F0FE64E0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2697B-6C3E-4C4E-ACB6-9A9DCE0C63F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57E98-4BC3-4039-8801-A3B254FCD46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F1AB5-9530-4EA8-825D-1B9697DE8B6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1C2A6-9216-4431-B776-0F6D243F6C1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1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58DD6-3531-49E4-923F-1FF60C73C8F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CDC39-CC28-4BBE-8EC8-8EA6E262D31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55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9D90E-4957-4ABD-915D-B51FCF0F50D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C8362-85B0-4013-A1E8-B96469BFE7E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9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23AFF-2BDE-45E1-AB90-FB07FE18BCC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19EEC-6F64-41F0-84EB-4D0599086D9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43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C17A1-CA0B-4258-801B-9625E25F928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EAA77-97E0-44AC-B1FB-9DCE9BB4262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8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9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7E14A-7336-4807-A888-83524B15E179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3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4" name="Picture 11" descr="letras"/>
          <p:cNvPicPr/>
          <p:nvPr/>
        </p:nvPicPr>
        <p:blipFill>
          <a:blip r:embed="rId3"/>
          <a:stretch/>
        </p:blipFill>
        <p:spPr>
          <a:xfrm>
            <a:off x="1619280" y="3525840"/>
            <a:ext cx="1131840" cy="33480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882C8-4917-4719-A1FC-715430ADF822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5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76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AD3A4-8549-42F1-9D40-B9B5548DB151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1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23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4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FE94E-869A-44AA-9B9A-7880215E8BA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7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B9DD2-E3F4-40FC-A434-33E40CA8887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60C20-8844-48A4-8433-CDF65398DEF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5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78F39-0E3E-489A-B396-D9261AD59CE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AC025-5E56-4780-B98D-60C2B7E93CB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09918-85E6-419E-8659-C31079FB60D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C3097-CBD6-400B-BD26-D4A6FA440A0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2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CACDE-2CE4-43D4-98C4-C1D4FB1457F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76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9D76A-F454-4914-9CD1-406CEE3D557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2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0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75325-43EA-4AE6-91E3-439D91432D3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64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E922F-8FF1-473F-97AB-C36424BF92C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08" name="Picture 15" descr="LOGO"/>
          <p:cNvPicPr/>
          <p:nvPr/>
        </p:nvPicPr>
        <p:blipFill>
          <a:blip r:embed="rId2"/>
          <a:stretch/>
        </p:blipFill>
        <p:spPr>
          <a:xfrm>
            <a:off x="7093080" y="2421000"/>
            <a:ext cx="2158920" cy="1950840"/>
          </a:xfrm>
          <a:prstGeom prst="rect">
            <a:avLst/>
          </a:prstGeom>
          <a:ln w="0">
            <a:noFill/>
          </a:ln>
        </p:spPr>
      </p:pic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obierno de Chile | Ministerio del 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A4860-30EE-4F77-84A4-1A894227234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D8D91-2C65-4E9C-BF5A-C4B19140B84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 type="ftr" idx="110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 type="sldNum" idx="111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21CDC-CEDC-4C62-A015-DC34B8CEED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ftr" idx="112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sldNum" idx="113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28BDE-6236-4010-AC76-1326E74C4C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48E9-FDA5-4374-9EEA-44DAFE24596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ftr" idx="11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 type="sldNum" idx="11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77980-CFB5-429E-9C4D-314E6EBAE2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4A4B8-1965-4240-B676-1B17F486BA6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 type="ftr" idx="1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 type="sldNum" idx="1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B566-059D-4673-9851-93049FE49A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0BD24-97D4-4AB5-96F8-FDE12971DC4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 type="ftr" idx="1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 type="sldNum" idx="1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9962A-1042-4B63-AD8E-2EE0B2AADE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ftr" idx="12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sldNum" idx="12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CB61E-2D14-4315-A724-8673979804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ftr" idx="12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sldNum" idx="12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4C2DA-640C-4306-8D7C-F742069034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3F808-F1A2-4382-B888-36740EADA1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 type="ftr" idx="1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 type="sldNum" idx="1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43709-E6D7-478B-AB24-8E43296343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6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7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8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 type="ftr" idx="1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 type="sldNum" idx="1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832B3-ADF1-4E86-BEAE-D0485DEC2C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0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1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2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ftr" idx="1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sldNum" idx="1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F66B8-F46A-4738-9EC8-E82F499FB2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4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5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6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 type="ftr" idx="1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 type="sldNum" idx="1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332D3-75C6-4902-A625-77BDF02044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EA965-032C-4EE5-BBBD-490F56CB51D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4190C-0EAF-4EED-8B77-9F225EEF4A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4A893-CCC4-43FF-B703-F1B48499BD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4BC3E-B24C-4341-8146-8D3B1024E7E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E8630-C510-47C1-987C-451B4552FD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F5C3E-D10E-4B96-9E58-CC4A1BC89E3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73F4D-2257-4DFF-A7F8-E804FB5CCC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ajta.cl/" TargetMode="External"/><Relationship Id="rId3" Type="http://schemas.openxmlformats.org/officeDocument/2006/relationships/hyperlink" Target="http://www.cajta.cl/" TargetMode="External"/><Relationship Id="rId4" Type="http://schemas.openxmlformats.org/officeDocument/2006/relationships/hyperlink" Target="http://www.cajta.cl/" TargetMode="External"/><Relationship Id="rId5" Type="http://schemas.openxmlformats.org/officeDocument/2006/relationships/hyperlink" Target="http://www.cajbiobio.cl/" TargetMode="External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6840" y="1484280"/>
            <a:ext cx="8002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SUPERAR LAS BARRERAS DE ACCESO A LA JUSTICIA DE LOS ADULTOS MAYORES EN CHILE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rograma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EUROsociAL II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2013</a:t>
            </a:r>
            <a:br>
              <a:rPr sz="3200"/>
            </a:br>
            <a:br>
              <a:rPr sz="600"/>
            </a:br>
            <a:br>
              <a:rPr sz="3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A379E-1346-4A53-B4B5-8D060A047B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Verdana"/>
              </a:rPr>
              <a:t>Gracias.</a:t>
            </a:r>
            <a:endParaRPr b="1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8D981-A8D3-48CF-98B2-C291CDCFC5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db4144"/>
                </a:solidFill>
                <a:latin typeface="Calibri"/>
              </a:rPr>
              <a:t>Objetivo del Plan de Acció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Que el sistema judicial cuente con medios más eficaces par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restar asistencia jurídica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a las personas que se encuentren en condiciones desfavorecidas centrando la actuación en la </a:t>
            </a:r>
            <a:r>
              <a:rPr b="1" lang="es-ES" sz="2800" spc="-1" strike="noStrike">
                <a:solidFill>
                  <a:srgbClr val="db4144"/>
                </a:solidFill>
                <a:latin typeface="Calibri"/>
              </a:rPr>
              <a:t>población adulta mayor </a:t>
            </a:r>
            <a:r>
              <a:rPr b="1" lang="es-ES" sz="2800" spc="-1" strike="noStrike">
                <a:solidFill>
                  <a:srgbClr val="595959"/>
                </a:solidFill>
                <a:latin typeface="Calibri"/>
              </a:rPr>
              <a:t>de Chile en su contacto con las Corporaciones de Asistencia Judicial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Footer Placeholder 10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Verdana"/>
              </a:rPr>
              <a:t>Gobierno de Chile | Ministerio de Justici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8" name="Slide Number Placeholder 9"/>
          <p:cNvSpPr/>
          <p:nvPr/>
        </p:nvSpPr>
        <p:spPr>
          <a:xfrm>
            <a:off x="618336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BA6FC-6448-439A-8D73-A2F0CC761D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9" name=""/>
          <p:cNvSpPr txBox="1"/>
          <p:nvPr/>
        </p:nvSpPr>
        <p:spPr>
          <a:xfrm>
            <a:off x="151920" y="765000"/>
            <a:ext cx="834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c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350" name="13 Imagen" descr="mapa.JPG"/>
          <p:cNvPicPr/>
          <p:nvPr/>
        </p:nvPicPr>
        <p:blipFill>
          <a:blip r:embed="rId1"/>
          <a:stretch/>
        </p:blipFill>
        <p:spPr>
          <a:xfrm>
            <a:off x="395280" y="549360"/>
            <a:ext cx="1403280" cy="6027480"/>
          </a:xfrm>
          <a:prstGeom prst="rect">
            <a:avLst/>
          </a:prstGeom>
          <a:ln w="0">
            <a:noFill/>
          </a:ln>
        </p:spPr>
      </p:pic>
      <p:cxnSp>
        <p:nvCxnSpPr>
          <p:cNvPr id="2351" name="21 Conector recto de flecha"/>
          <p:cNvCxnSpPr/>
          <p:nvPr/>
        </p:nvCxnSpPr>
        <p:spPr>
          <a:xfrm>
            <a:off x="1186920" y="764640"/>
            <a:ext cx="1297800" cy="28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2" name="26 Conector recto de flecha"/>
          <p:cNvCxnSpPr/>
          <p:nvPr/>
        </p:nvCxnSpPr>
        <p:spPr>
          <a:xfrm flipV="1">
            <a:off x="1186920" y="1051920"/>
            <a:ext cx="1297800" cy="432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3" name="28 Conector recto de flecha"/>
          <p:cNvCxnSpPr/>
          <p:nvPr/>
        </p:nvCxnSpPr>
        <p:spPr>
          <a:xfrm>
            <a:off x="1187280" y="2133720"/>
            <a:ext cx="133272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4" name="30 Conector recto de flecha"/>
          <p:cNvCxnSpPr/>
          <p:nvPr/>
        </p:nvCxnSpPr>
        <p:spPr>
          <a:xfrm>
            <a:off x="1042920" y="2636640"/>
            <a:ext cx="14421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5" name="32 Conector recto de flecha"/>
          <p:cNvCxnSpPr/>
          <p:nvPr/>
        </p:nvCxnSpPr>
        <p:spPr>
          <a:xfrm flipV="1">
            <a:off x="1042920" y="2636280"/>
            <a:ext cx="1442160" cy="216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6" name="34 Conector recto de flecha"/>
          <p:cNvCxnSpPr/>
          <p:nvPr/>
        </p:nvCxnSpPr>
        <p:spPr>
          <a:xfrm>
            <a:off x="1042920" y="3068280"/>
            <a:ext cx="144216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7" name="41 Conector recto de flecha"/>
          <p:cNvCxnSpPr/>
          <p:nvPr/>
        </p:nvCxnSpPr>
        <p:spPr>
          <a:xfrm>
            <a:off x="1042920" y="3213000"/>
            <a:ext cx="1442160" cy="504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8" name="43 Conector recto de flecha"/>
          <p:cNvCxnSpPr/>
          <p:nvPr/>
        </p:nvCxnSpPr>
        <p:spPr>
          <a:xfrm>
            <a:off x="899640" y="3357720"/>
            <a:ext cx="1585080" cy="358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9" name="45 Conector recto de flecha"/>
          <p:cNvCxnSpPr/>
          <p:nvPr/>
        </p:nvCxnSpPr>
        <p:spPr>
          <a:xfrm>
            <a:off x="899640" y="3860640"/>
            <a:ext cx="1585080" cy="136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0" name="47 Conector recto de flecha"/>
          <p:cNvCxnSpPr/>
          <p:nvPr/>
        </p:nvCxnSpPr>
        <p:spPr>
          <a:xfrm>
            <a:off x="863640" y="4076640"/>
            <a:ext cx="1621440" cy="11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1" name="51 Conector recto de flecha"/>
          <p:cNvCxnSpPr/>
          <p:nvPr/>
        </p:nvCxnSpPr>
        <p:spPr>
          <a:xfrm>
            <a:off x="863640" y="4976640"/>
            <a:ext cx="1621440" cy="253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2" name="57 Conector recto de flecha"/>
          <p:cNvCxnSpPr/>
          <p:nvPr/>
        </p:nvCxnSpPr>
        <p:spPr>
          <a:xfrm flipV="1">
            <a:off x="899640" y="3716280"/>
            <a:ext cx="1585080" cy="216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3" name="63 Conector recto de flecha"/>
          <p:cNvCxnSpPr/>
          <p:nvPr/>
        </p:nvCxnSpPr>
        <p:spPr>
          <a:xfrm>
            <a:off x="1186920" y="1052280"/>
            <a:ext cx="1297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4" name="55 Conector recto de flecha"/>
          <p:cNvCxnSpPr/>
          <p:nvPr/>
        </p:nvCxnSpPr>
        <p:spPr>
          <a:xfrm>
            <a:off x="863640" y="3573360"/>
            <a:ext cx="1621440" cy="1656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5" name="59 Conector recto de flecha"/>
          <p:cNvCxnSpPr/>
          <p:nvPr/>
        </p:nvCxnSpPr>
        <p:spPr>
          <a:xfrm>
            <a:off x="863640" y="4292640"/>
            <a:ext cx="162144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6" name="Rectangle 2"/>
          <p:cNvSpPr/>
          <p:nvPr/>
        </p:nvSpPr>
        <p:spPr>
          <a:xfrm>
            <a:off x="2254320" y="765000"/>
            <a:ext cx="63370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s regiones de Tarapacá y Antofagasta (I, II y XV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jta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 Valparaíso (III, IV y V regiones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www.cajval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Metropolitana (regiones: Metropolitana, VI, VII, y  XII)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 www.cajmetr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</a:rPr>
              <a:t>Corporación de Asistencia Judicial de la Región del Biobío (VIII, IX, XIV, X y XI regiones).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ajbiobio.cl</a:t>
            </a:r>
            <a:r>
              <a:rPr b="0" lang="es-ES_tradnl" sz="2400" spc="-1" strike="noStrike" u="sng">
                <a:solidFill>
                  <a:srgbClr val="ef4144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262080" indent="-262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9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Cobertura Territorial de las CAJ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237960" y="1052640"/>
          <a:ext cx="8668080" cy="5205240"/>
        </p:xfrm>
        <a:graphic>
          <a:graphicData uri="http://schemas.openxmlformats.org/drawingml/2006/table">
            <a:tbl>
              <a:tblPr/>
              <a:tblGrid>
                <a:gridCol w="1179720"/>
                <a:gridCol w="1008000"/>
                <a:gridCol w="934920"/>
                <a:gridCol w="865440"/>
                <a:gridCol w="792000"/>
                <a:gridCol w="1079640"/>
                <a:gridCol w="792000"/>
                <a:gridCol w="936720"/>
                <a:gridCol w="1079640"/>
              </a:tblGrid>
              <a:tr h="283320">
                <a:tc gridSpan="9"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BERTURA TERRITORIAL  DE LAS CORPORACIONES DE ASISTENCIA JUDICIAL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Regione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fíjo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nsultorios  Móvile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mediación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entros Víctima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Oficinas de Defensa Laboral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N° Comunas Atendidas 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comunas*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4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% cobertura territorio nacional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ica y Parinaco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arapacá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ntofagast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4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tacam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Coquimb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Valparaís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O´Higgin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u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Bíobí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4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raucan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Rí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Los Lago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Aisé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agallane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7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Metropolitana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8280" rIns="828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2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Total nacion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4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28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346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8280" rIns="828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CL" sz="1600" spc="-1" strike="noStrike">
                          <a:solidFill>
                            <a:srgbClr val="244062"/>
                          </a:solidFill>
                          <a:latin typeface="Calibri"/>
                        </a:rPr>
                        <a:t>95%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366092"/>
                      </a:solidFill>
                    </a:lnL>
                    <a:lnR w="2880">
                      <a:solidFill>
                        <a:srgbClr val="366092"/>
                      </a:solidFill>
                    </a:lnR>
                    <a:lnT w="2880">
                      <a:solidFill>
                        <a:srgbClr val="366092"/>
                      </a:solidFill>
                    </a:lnT>
                    <a:lnB w="2880">
                      <a:solidFill>
                        <a:srgbClr val="3660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2"/>
          <p:cNvSpPr/>
          <p:nvPr/>
        </p:nvSpPr>
        <p:spPr>
          <a:xfrm>
            <a:off x="990720" y="0"/>
            <a:ext cx="703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db4144"/>
                </a:solidFill>
                <a:latin typeface="Calibri"/>
              </a:rPr>
              <a:t>LÍNEAS DE ACCIÓ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2" name="Rectangle 3"/>
          <p:cNvSpPr/>
          <p:nvPr/>
        </p:nvSpPr>
        <p:spPr>
          <a:xfrm>
            <a:off x="395280" y="1197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Orientación e información en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Solución colaborativa de conflict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atrocinio en juici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Apoyo psicosociojurídico a víctimas de delitos violentos</a:t>
            </a:r>
            <a:r>
              <a:rPr b="0" i="1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866880" indent="-514440" algn="just">
              <a:lnSpc>
                <a:spcPct val="120000"/>
              </a:lnSpc>
              <a:spcBef>
                <a:spcPts val="75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3000" spc="-1" strike="noStrike">
                <a:solidFill>
                  <a:srgbClr val="595959"/>
                </a:solidFill>
                <a:latin typeface="Calibri"/>
                <a:ea typeface="ヒラギノ角ゴ Pro W3"/>
              </a:rPr>
              <a:t>Prevención de conflictos y promoción de derechos.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Protocolo de Asistencia Jurídica Especializada para los Adultos Mayore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Reuniones de coordinación intersectorial: Ministerio de Justicia de Chile, Corporaciones de Asistencia Judicial, Ministerio de Desarrollo Social, Servicio Nacional del Adulto May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de sensibilización con los actores públicos relevantes y los operadores, a través de los talleres de detección de barreras de acceso a la justicia de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esas de trabajo intersectorial, nacional y reg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Misión para la elaboración del Protocolo, asistencia técnica europea y loc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4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Operadores jurídicos capacitados para la asistencia jurídica especializada al adulto mayor vulnerable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isita de estudio de funcionarios públicos para conocer experiencias de implementación de sistemas de atención dirigidas a los adultos mayor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urso de capacitación on line y presencial a más de 100 funcionarios del sistema público de asistencia jurídica gratuit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431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3. Campaña de difusión del Protocolo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Lanzamiento del Protocolo a nivel regional y nacional, suscrito por las autoridades del sector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Socialización del Protocolo entre autoridade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31240" indent="-44316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Difusión y visibilización del Protocolo en portales web y materialmente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6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Acciones y Resultado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595959"/>
                </a:solidFill>
                <a:latin typeface="Calibri"/>
              </a:rPr>
              <a:t>Fortalecimiento de la cooperación intersectoria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Otorgamiento de becas a funcionarios de la asistencia jurídica en gerontología social.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Seminarios sobre acceso a la justicia y adultos mayore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Transferencia de recursos entre el Servicio Nacional del Adulto Mayor y las Corporaciones de Asistencia Judicial que permitirá dotar de un abogado especialista en cada región del país.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8" name="3 Rectángulo"/>
          <p:cNvSpPr/>
          <p:nvPr/>
        </p:nvSpPr>
        <p:spPr>
          <a:xfrm>
            <a:off x="250920" y="404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db4144"/>
                </a:solidFill>
                <a:latin typeface="Arial"/>
              </a:rPr>
              <a:t>Resultados no esperado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1. Pasantía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xperiencia de atención especializada. 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Iniciativas de la sociedad civil y la judicatura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Protocolo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Escasas referencias normativas y reglamentarias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Creciente importancia a nivel nacional e internacion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595959"/>
                </a:solidFill>
                <a:latin typeface="Calibri"/>
              </a:rPr>
              <a:t>2. Capacitación y especialización de operadores jurídicos.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-457200" algn="just"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200" spc="-1" strike="noStrike">
                <a:solidFill>
                  <a:srgbClr val="595959"/>
                </a:solidFill>
                <a:latin typeface="Calibri"/>
              </a:rPr>
              <a:t>Valoración de la formación on line y presencial.</a:t>
            </a: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  <a:p>
            <a:pPr lvl="1" marL="857160" indent="0" algn="just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0" name="3 Rectángulo"/>
          <p:cNvSpPr/>
          <p:nvPr/>
        </p:nvSpPr>
        <p:spPr>
          <a:xfrm>
            <a:off x="250920" y="4046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db4144"/>
                </a:solidFill>
                <a:latin typeface="Arial"/>
              </a:rPr>
              <a:t>Valoración de la Metodologí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Karina</cp:lastModifiedBy>
  <cp:lastPrinted>2013-07-08T21:32:56Z</cp:lastPrinted>
  <dcterms:modified xsi:type="dcterms:W3CDTF">2013-11-18T14:03:47Z</dcterms:modified>
  <cp:revision>78</cp:revision>
  <dc:subject/>
  <dc:title>Slide 1</dc:title>
</cp:coreProperties>
</file>