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</p:sldMasterIdLst>
  <p:notesMasterIdLst>
    <p:notesMasterId r:id="rId55"/>
  </p:notesMasterIdLst>
  <p:sldIdLst>
    <p:sldId id="256" r:id="rId56"/>
    <p:sldId id="257" r:id="rId57"/>
    <p:sldId id="258" r:id="rId58"/>
    <p:sldId id="259" r:id="rId59"/>
    <p:sldId id="260" r:id="rId60"/>
    <p:sldId id="261" r:id="rId61"/>
    <p:sldId id="262" r:id="rId62"/>
    <p:sldId id="263" r:id="rId63"/>
    <p:sldId id="264" r:id="rId64"/>
    <p:sldId id="265" r:id="rId6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notesMaster" Target="notesMasters/notesMaster1.xml"/><Relationship Id="rId56" Type="http://schemas.openxmlformats.org/officeDocument/2006/relationships/slide" Target="slides/slide1.xml"/><Relationship Id="rId57" Type="http://schemas.openxmlformats.org/officeDocument/2006/relationships/slide" Target="slides/slide2.xml"/><Relationship Id="rId58" Type="http://schemas.openxmlformats.org/officeDocument/2006/relationships/slide" Target="slides/slide3.xml"/><Relationship Id="rId59" Type="http://schemas.openxmlformats.org/officeDocument/2006/relationships/slide" Target="slides/slide4.xml"/><Relationship Id="rId60" Type="http://schemas.openxmlformats.org/officeDocument/2006/relationships/slide" Target="slides/slide5.xml"/><Relationship Id="rId61" Type="http://schemas.openxmlformats.org/officeDocument/2006/relationships/slide" Target="slides/slide6.xml"/><Relationship Id="rId62" Type="http://schemas.openxmlformats.org/officeDocument/2006/relationships/slide" Target="slides/slide7.xml"/><Relationship Id="rId63" Type="http://schemas.openxmlformats.org/officeDocument/2006/relationships/slide" Target="slides/slide8.xml"/><Relationship Id="rId64" Type="http://schemas.openxmlformats.org/officeDocument/2006/relationships/slide" Target="slides/slide9.xml"/><Relationship Id="rId65" Type="http://schemas.openxmlformats.org/officeDocument/2006/relationships/slide" Target="slides/slide1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dt" idx="13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5CDBD-1476-4BDE-A7E3-FC5C0C83A2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PlaceHolder 5"/>
          <p:cNvSpPr>
            <a:spLocks noGrp="1"/>
          </p:cNvSpPr>
          <p:nvPr>
            <p:ph type="ftr" idx="13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6"/>
          <p:cNvSpPr>
            <a:spLocks noGrp="1"/>
          </p:cNvSpPr>
          <p:nvPr>
            <p:ph type="sldNum" idx="13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25FB4-6F16-4B95-99FF-A375628DB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C85EB-1A71-4542-981A-5AAE61996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5A47E-AF0F-40B0-9B6D-A698A0B1016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21C8-5119-4D14-B767-F668F1229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6EC77-AA51-4620-88B6-8B0FEC7B365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63359-2A88-4D21-B92C-C5C6EF3D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C0D4E-2820-493F-A256-7C9DC570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E0150-4CB7-428A-90E5-43D02DFE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6B300-A8F9-4F07-9D45-41D4ACF3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89E0A-7125-4796-888B-93842182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B6AB3-BCE7-4EA0-B210-473FC830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B9FF5-B903-49EE-AA26-8F908CCD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F0E89-625B-47FB-87C7-1F89750D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B641D-8FDA-4B4D-9D3B-22D46EB6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D823A-8486-4754-BC60-6FE76ABA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21496-7E71-4E2F-AEC7-72C4A499A1C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5E6A6-B427-4E26-8D3A-B223901E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3E6EA-A922-4FD4-955B-36536402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EC39C-8F6E-4E8E-834B-7841EE3F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AACEC-3A17-4DB8-9B73-B5A3C92E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3D57E-769B-4703-A337-F5C3DD34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35EC8-B4F3-4759-B7F4-3E6928DF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1C2A8-9603-4E44-96F9-D39FDF8C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6357F-F084-4A60-9EAB-281FAD9C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412DB-8C2F-4063-B089-5C2BC741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2DB22-18AF-400F-92A4-2A932B7B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B4F7-4416-4F75-92C2-D351A59F312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4C752-FB05-446D-B8AA-DA3B78EE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D93C2-4FB2-4548-BC5A-432FDB928AE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E28ED5-06D6-4A16-A7F2-769E068C966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7CBEFA-142E-4B03-B203-7FCBA0E6098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3CD891-600F-4D53-B9A8-D8D22778891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CD5808-DAD6-4BDC-9C2A-CD348ED91F1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0C2103-DA30-4213-98BE-87275B5A149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257864-48EA-4000-A9B3-8A66E4A3F38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0B8910-A74E-4466-9C68-31F0B7FF087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B9FF6E-7A87-4001-BD7D-FD7E5687F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10D97-3D8E-4DF1-AC59-9CD315E9551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6A8D96-E3BB-40BB-8EBF-5A68EA8720A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119699-EA7A-4C89-A045-5E0D3ACF76F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CD981C-9E84-4C65-B463-B30EA3BE38B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2C993A-BCE2-4FFD-8AD4-DF6763297F7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4A2B13-2F78-4A33-8D2E-DFD337604C4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363123-FA18-4EFA-9417-7F6366A86DC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E5FE06-253C-4F6F-99EA-297A6EFCC37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AFFD6C-6DA8-4B5F-A629-F52259DDB41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A0B427-CD01-482C-B25A-58296E4B67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29C904-F0DB-4A79-8F07-3DE38098FEE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898991-6A28-4547-BC77-08407B0B152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2DDD44-9A14-4767-A525-FD58EAEE454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3CD316-E682-4C81-B6DC-89BB6C00A4C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967D08-EC1E-4766-91D8-E8A190CADEE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76827-4E8A-45F6-A7F9-34F5DB6CFDE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85767-0C61-4656-B99A-CFE3333ED76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0E55C-7DAA-4429-BE30-E5E8FDF40A8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EA9D1-810A-4F7E-8475-4B693016CA0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58BF0-AF1E-48C6-905A-7DDC7BF529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EC74B-573E-435A-B651-AA3283C2554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5B37C-BDD5-4415-98EB-C1E281B0D3B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2A1D1-16D3-4249-B151-F63DA2BC76E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4F02C-D89C-4581-BF75-F74154CC5AD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10BFF-C4CB-4014-946C-E06A9720525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EA514-3292-4C8E-9BCB-6E2D93E0F68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21073-DB0E-4A6E-88C4-9B3B1283EA9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BE9399-B067-44A3-BF13-7B62850CD1E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77E61A-88FA-48C8-BD30-48F61C9A693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52D929-3D68-4E0C-B6AE-F73B875E9C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39F308-3DF7-4CC1-B455-14A62AC20CE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94AC7A-862D-438F-AA21-0FBFE9FA60E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8DE3E1-C945-4AFC-A440-31038C26EAC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DF9B05-699E-491A-87FE-362DABECF5E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4BFC34-9460-4282-A2DE-FF6F86F0E14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98B327-C5BE-401B-8D3E-9C445A5395B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4E4654-6D8E-436C-9EA1-8D262CA122F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008C60-8CC5-4333-A729-CFB30AD2EE5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4AECA9-CB9C-41B1-93E0-B27300B6650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E61CF-C77F-480F-A28C-F1DED7F110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74DC5-D0F4-4AD4-86DD-895925A3AF5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B1240-343A-4A56-971D-E9B9C790324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A5ACA-26F0-419E-A11D-8DBF1F4B29B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68F7C-C093-45D9-9646-B32527B9215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52D10-D81F-4206-A54F-ED8EDB0592A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4D416-62D5-4D3A-BF8C-A7F56AF06C3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43FE1-1AD4-42C3-B47E-B632BE1437D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27AB8-A8CA-4024-A7D0-C137894FDCC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B9ECB-971E-46E7-AD32-D25120F2AED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15F02-73ED-4581-9B15-F379D3A151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D079D-1D52-4486-BD05-16733A45A71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B94B5-E950-4EE4-AAB6-E5B0A07DFBD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83967-07F5-4535-AA9C-D1C446494D5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013E1-0C12-42D0-9247-1B3F801ADDA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F7718-DC47-4D61-B975-59EAAE62176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4ECE2-2E55-4ADB-B367-B64500AA9D4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9563B-1213-4B34-99BE-D38D4D9FF55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B7C0D-AC2D-4742-93E0-48B7B9EDCBA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314B3-5862-4F36-BC29-0F6C69E4B85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17298-FEE6-4F94-B435-D498CC5937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E4887-9317-4045-AD5A-77681ACAAC7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04015-297A-4EEB-8F93-4154F185C94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88099-5E23-4D0F-80D9-141DDF3940E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81A49-483E-459C-A356-FC1F00BC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9A702-8D05-4AE3-AAB1-B8D324CD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67C2D-8EC8-485E-806A-AA140FAC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C27BA-E6ED-4D90-8983-DA8308FB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DB08D-D7DB-4EBD-A952-8C1331DA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5C6AD-8C80-4B7C-AFF2-1B42275A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09E29-93A9-4101-A575-97D3BEA3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FE34-5E36-4D27-A6EA-8403A2BFC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C81FF-D54E-4623-B59F-BDE2E067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10326-BB72-405B-96AD-11308A10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58D1D-8BC2-4BAE-BD7E-037DEC7A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85A72-32DD-4916-A9D8-F8091151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EF08C-D60B-4430-85AC-3984ACE6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BA783-166C-4966-8714-56420FEB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383ED-D039-41CD-B5BA-494CCA35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78062-1324-4209-8AB9-0E1C81F3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BF4AD-9308-44DF-82E6-D900E6E1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7C15D-2A35-477D-846B-015CE7B2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AA3F5-5660-4965-87AD-40D5923B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EF17B-D003-419E-B693-7C0B7FA7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13B0D-5236-48E7-BCF7-F96FCF23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0F354-A58D-4475-8AF0-4CD99F9B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6BCE7-2971-49F0-866F-6EF6F599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E9FB4-BA43-464A-94E1-D20E92BE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FC33A-59CE-4157-840A-84984500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3656F-99A2-4A5C-BAB1-51F73D35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33AB9-24F4-48AA-8EEE-FCF17264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1B576-E1E6-4EC6-8208-D13C653C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24BEF-5EAA-45D7-8C49-44B1437D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07158-5237-4F23-BEEA-234D39A6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31C47-9BE6-4C6C-9795-83E87EA4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1D6488-C727-47BC-86E1-CDE35BF1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14F64-69D2-4A10-950C-EC4E7057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2ED0E-4ABF-49E4-91BF-59EC1D13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B02A9-008F-4AFB-BFA4-0182472A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788054-D913-4E17-ACB9-65F1F3A4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8602F-F528-43BC-A212-20C46727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29DB6-7CFA-4FA1-B5D3-141E132D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ECA78-A621-41ED-9010-18E7A03C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F19829-357B-4B8E-8D7F-859F5FD5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FB7032-ED76-4AB3-B2BB-67607270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E5E7E5-90A8-414B-9707-6C1D7718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9A6F9-28DC-4448-8743-DC385BC5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C7D5C4-9C35-48A9-BD43-7C8A2BB9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FD7728-F948-4FA0-8D80-BAC05B1C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4CFD16-8FAE-48E6-8CAC-328E0C13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E8777-4345-494B-A008-FA536969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11939-6966-4C1E-8B32-0D85E10E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FCBC6-D14D-4934-8703-F65A3B19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0528D7-8497-4181-B179-D6C9B902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CAB5AA-AF72-48C0-AE36-E2F97BF1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F17BD3-888F-4B64-8904-26660346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9E795-E598-4D52-8F26-D2F4720E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5DC05E-7A2E-47FB-AF62-69205101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507501-DB4F-415B-B7F9-70CB0123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6E20EE-5062-4FAC-A9BC-7D7EE95D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79851-709F-4DFD-B5EC-CE32F84B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18AEF5-01F2-4DA6-94B4-E2441197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AC1A5-E5D5-48E2-ACCD-5E593284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7B8E03-D1B4-47E0-B873-5E9DA7BB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756BC-C578-4749-9B58-24E2A0A0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0DDA61-D8FC-487B-9343-BF5C4020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42984-218B-4D97-8579-251DC2D0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3A8ED8-598D-4720-8DD4-21D5DC9B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C8BB00-D43D-42A7-8ECE-C080041C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0B9E08-F311-4275-9638-45634DE1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642AF-A794-4917-9A2B-B2A82FE4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B83427-E57A-4ABF-B282-1CA20D20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6CA6A4-A11A-4E64-93A6-664380D9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B414C6-52EE-4F97-8D22-F20D7897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3D3A06-59FD-4396-A81A-4BB48B74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655CA-557D-4B6F-BF4F-91F0E89A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84297-160C-4869-AA56-47A43D70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C36C5D-F6CF-4E4E-B5F3-6C68BDBC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BB1F01-ED2F-4E14-AF8B-E10A6B08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283300-5343-494B-9ACC-083411A3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4DDC8-B82F-4A8A-BEDF-808BB073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EBF1DD-636D-4EFF-A427-19D7F767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0611B3-D6C8-40F8-9283-2228A927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80B2CD-3C13-43A4-83EA-376B328B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0F326A-B48A-4C92-9D19-7C80E0D8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811241-5B64-4030-816D-00838806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701D8-FB82-40C0-A080-B28DA8BB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F5BAF3-56BF-4CC5-9140-5974E297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0DB013-E114-4372-A67C-DA9FA032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8D9352-F379-4C1D-8945-ED85D81E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5FCC0B-17C9-433D-B4A2-0A1F54BF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0FF752-4DDD-4EC9-A47E-6F347DEA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0E59F0-0C07-482F-A37D-A6CA42FC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1A3A21-E0A9-48B7-9282-5497FC3A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67D882-6746-4794-B1FD-F9788313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1BAF3C-117E-4D60-85D5-85FEE3AF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7BB4B4-F3C1-4497-9F48-4AB8927C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88634C-E29E-4119-BC93-5AB5E92D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A5B173-2409-4806-B670-D036443B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F317D8-8C89-4D18-8F15-130AEB3B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1A0A53-AC5B-45B1-9699-9554EDF6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4F29AC-BB0C-4DED-A44B-3DF71393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F514A1-95F3-4802-9C63-FC5F998C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C73868-D049-44A6-9F35-C83D945F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52E1DF-1D0E-4E00-A3AB-C34B7E5D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104D0A-B403-4FB8-BE11-106D090B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5D282E-F3A4-41C2-A1E9-7C928EF3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AF5E06-40F8-423D-9408-7EF819C3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C5CB42-09DA-4528-AB90-084554D7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566355-347E-4367-865D-444A3264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B6F48B-A6D8-49FC-AA2D-95CDFAE2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C01FED-87A8-4F65-8691-103370EA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64D0B-CDC1-47B2-BE33-430851CBFB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9F33DE-CE71-4D8E-A871-A452D799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C31069-906A-4093-8FC8-26254085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BCD5EC-B3AF-4292-A8B9-64BBE7F0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74DCC2-DE56-42AC-941C-A87F108A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1C3070-1492-4F2C-B693-D019D250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F65089-F45D-426D-A36F-9536823C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722FF-7698-4741-92A7-06D3DE3D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367ABC-7F57-48CB-85C2-585ABB4E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366142-6A08-4A78-8548-B80B0CEC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C0044B-157D-42EB-87E7-450B4EFA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7AA416-BE73-4D13-970C-5503BCCC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1FC214-9322-4168-85A8-EDC50BE9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97C963-80ED-4A9C-AD8C-26ED2CCB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59CF78-6DE8-4F40-95C5-B017BC4F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4236EB-ADEB-489C-98B1-3A7570F6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0252E7-DD6A-419E-9FC6-F1FCFD16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4C7468-7E5F-4110-A76A-9E867744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082FB7-2DD9-4600-B6CE-C5A3E467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594A02-0AD1-484A-94B0-892572B8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92B597-C2A1-4F2D-A932-65EC20AC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013EDE-95D6-4B8A-8CDC-033B62CC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09E03F-5235-4A36-990C-06726555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9E375B-B3CE-4DBD-A8EB-E7600C08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178143-29ED-4C2E-B6E9-FCFFB349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2653C1-689A-45A5-8275-A687CF5E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E9D1C6-99AA-46CC-9298-03F336F0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6452AA-528A-4717-9A54-6B677DAD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F5E065-343E-4C82-9F34-2B453DD1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B68243-C762-4F15-96A0-45815A83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FA9401-4817-4921-B706-A892E8A4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69A7FF-09D6-488A-B8C6-70A898A8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A8A58F-215E-455E-B36B-120B808E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DB1B22-BD40-4C8E-AD48-99075778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A6C688-9EEB-4AB7-9C03-7C846B94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7E6998-D918-4F75-959D-62C6F185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2712B2-C341-4652-B50C-78715EC5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45E1D8-6DCA-47DB-A790-4FA4FB60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43B065-6220-4C5F-BDCF-0D5C0862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CDD149-4962-4247-9223-3EE4AD03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070F03-6868-476F-A29F-378DB6E7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182445-074A-4D13-8054-57648EBD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84E21B-D9E3-4D87-819A-D0DA6A6E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5709E4-F536-4DE1-8AE3-1BAEAE2E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8410F3-9D7E-4383-907D-D5832DCC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845076-291E-49CD-A0B4-86B1712A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527423-65BE-476E-A47B-E66E99ED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417E65-2C2A-4E7F-9202-FDD65AB1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5DE914-A44E-4EEE-80F6-09FDE2E2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C6CF3B-65C8-4199-82EF-5BC94E1A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DCD9CE-335C-4E5C-B1E2-7ED2BC1D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0177BC-2977-449D-80DA-F9D3C8C5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14FEB9-F3AB-4EF5-BF19-BD0B8C40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61DE5C-C195-4350-B0A9-C4A45003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6A86B5-8704-4A64-8E7E-48E9DC39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B95479-19A1-452E-B7FE-DFEB3382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B0D645-D196-49D5-8B0D-7FD023DC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CC32D6-7049-407C-A44F-1EEA567D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98EE5D-AFC4-459F-BCF4-DC973621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A371DD-5B2F-4D39-85D7-B58689C9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EDBA94-4609-4EB8-85D0-19AAFEFB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46E462-B6C2-4393-AE8F-E9934AE3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39BD9C-815F-4FFB-85F8-5C5E8FA1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6FB514-96BE-4282-9E10-1DFB1584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DFCFB1-C032-44BF-8104-AE659505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4F187D-6812-4727-995E-252BA523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965B20-1738-4BC1-A416-52A983FF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2F1E20-B763-44EA-A9F7-E9C51FE5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15028B-35B5-488A-8784-756C52B2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A05365-7F0D-4058-9DFF-85CAF79B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ED0CF4-6E53-486D-9028-3B0964D5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9AE1EF-D899-4083-B27C-3D216C5F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E99585-6F01-4A4B-AFEB-C601E041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28BFD2-41DD-4D3F-86DB-C7B0B3A0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F82559-D15F-478D-918D-E32CAC8D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CD181F-8BF6-4940-B226-DF080AB3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B1BCB9-1A17-4402-9212-749B5549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0A0196-7E3A-4CFF-BD8F-2051BC18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9E7FF7-6C6B-46A2-A33D-63978077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90715F-356F-4801-99A0-409C2C63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10AC0A-C901-4C08-BFDB-17DF41F7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E5EC61-2C54-463A-8924-AB67B8BB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07AA75-67C3-402A-AE61-62DA395C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137359-3B37-4253-A32A-88D09404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4D4015-8D9E-4796-BA7C-68D9227B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267F9B-6962-4123-888E-C3D56FAA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4F3092-6574-4F71-8789-2D522231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8A3FA4-54FF-43BD-A519-D846DD01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BC747C-50D4-45A0-9BA4-198507CA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131FED-7E53-436D-8940-CFBA05F0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87CB3A-CC07-4EE0-BDE6-109DC1AE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1259C1-CBF4-48FD-8994-8E817132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D9665E-180A-4519-9BB2-BE4C0A04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F3A2C5-FD69-49CC-B9C0-B3986E75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BC4BF0-DFA8-4CBF-973D-8C1446C5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883697-8B91-4607-BB71-2F14D513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29B26B-066A-42DF-BBA1-DE3F6B21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C98506-A87C-4A60-8989-65C4FEFF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F766BE-6105-4A77-8F83-A4CAA64C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7AC011-38D3-4456-B2FF-05157588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66E15A-4163-481A-8B1A-FAD411EF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F7B16-3FB8-4348-BF0D-8EBF0505DB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899711-A8BB-4406-B21C-658D624C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3A4089-77AE-4D08-BFC0-1A539611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FA7985-60F2-4F2E-97CD-E8BB42F8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0BE762-8EA1-4BF1-87D8-B1219B4B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6C4F3D-37C3-4DEA-87D9-48C08101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A94996-2749-4672-82EA-E34062F3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020797-5CDA-4B60-BC64-F296B2E1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5D4010-8682-4F24-A805-5DC01FFE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1BAD37-E8C6-4E27-BEF0-89461E6B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7B744B-70FE-4118-A2F6-18AD00B2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80FF52-A396-4163-9C9F-09417103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6B6C04-7965-4B2E-AE1D-47C95CA3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C1E9C0-B3F5-43F7-85BF-5B41DBF7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B7EE12-0418-4292-B3EA-E8C38F1D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C945E6-D82B-46AC-8712-62D57A3C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2D2ECC-B5DE-49CE-A5DD-43A4A8E1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E8C6DE-4BD8-4E15-8259-13AF4AC3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B7B71B-7A56-488B-8EB5-E7C6413B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C76795-1361-495D-A49E-2CB8FE4F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47057E-77BF-4F8E-A6C7-4737BAEF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A06B32-966C-41CB-ADD9-C07D8B84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49ABF2-7B5A-47D2-97D9-F1A17FBE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900B0A-F636-4AE3-83D9-F327A37D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FCCD5E-E5C4-4FFD-8321-F2B710F0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2E3AAA-ED62-4F6B-8096-9F8229DB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BEE339-1045-4E2D-9ED6-551C7868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5B952C-A401-429B-A4A4-59A07E36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CCC174-5BB4-4AFF-8D6F-524865D1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76DF62-0BB4-4C7D-822A-F14ED1D8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D19D63-3293-478A-9954-3C3EEB88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05DA41-1B0A-4F34-8AD9-8FAA7CC9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BB1F59-A162-4479-A5CC-EB398F59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C11A31-20C0-47BF-BE8A-B4E961AB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EB2911-54E9-4ABE-A629-467BBF2F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3A82BD-EAC0-4206-9C2E-8F4D7909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9659BD-9CDC-46BB-A4BC-4F41855B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4060C6-5E88-45F2-9B3A-D612585C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780EA6-8184-45DB-8ACB-64840C2A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F4544E-0F98-433C-99D8-814BE1F7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42BD44-09AA-4F92-AEE2-50683B4F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58340E-F0C0-44B8-BF0A-4F0CE018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98A125-DCEF-4A1A-A581-64898C2C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4DAD95-E03F-4E7B-9295-5E485482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66F6EA-57C7-42C0-B7A9-B6D598A4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25857E-E15C-4681-B4B9-93D65131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749AF1-2451-4FFF-931C-E8572FEA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B71225-A2B7-441B-B011-5FC67ED8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A48268-6DF9-4E27-B146-73886E41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E6191A-F0E7-4591-A94B-E98176C7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46C1AC-06EE-4B46-8B32-D76D24C0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13F611-A569-4DDC-9A4E-88027C0F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021D63-FCEC-4838-8504-3C270172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920881-0754-42E7-BE07-658681F5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F894B4-FF72-4CC4-A8EC-074D8C66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937BAA-3EBC-4640-B673-F9DEA308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651EE5-BE1C-4E7E-97A5-2FCD1508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C56213-0A91-4366-9F02-F51158AC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98A62E-3F7C-4EFF-84E6-451087A8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635BD05-3FDF-4DF7-89DE-19D63C46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BF85B9-55DE-4439-BECB-100C38AC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22CD59-53E9-4CC7-A717-66636445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2CDA8F-68F1-4F40-B99B-7F4122D2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3DBE5C-A684-433E-8F66-8AA8CBB5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95AC37-727C-497E-9A51-ACAEC224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ADEC0B-AFC0-424E-B10B-8D561791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40A8B4-93AC-4ADA-A466-DA75D30B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D18675-F409-4DC5-AD53-FF56B79F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1035FF-792B-4C52-9FEE-D18A7A98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6567CD-A979-4068-AAB1-E804FB06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0A68DA-89C2-4250-9F56-6EA13DB6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9CB250-50BB-46C9-AC08-939A73FB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680C78-6D3B-4C82-9E98-DC437C33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7DB3E3-4C99-4D8E-99FC-B28DF2C7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B70B66-2A87-4B25-9EA3-345148B0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C934B4-D84F-4DF8-8CA4-8B091B03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355C81C-72E9-4A0A-9400-81CF17BC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D25701-95D5-423B-99E0-D8FE54B9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4D1999-7288-44B3-8A35-E128198F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0E9C1C-5283-4599-9ACC-0A29E584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838025-020C-4B7A-9097-15617009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B27020-8235-4A80-94FD-B9FDAAE4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D37DEFF-CEEB-4606-B949-1D5200B4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3EAC54-81B7-4795-844C-1A45B28D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B13A7E-F5AC-48C5-BA7D-18BFE312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C64936-7B93-4926-9343-CA722905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6AF109-6C1F-4A84-95B3-152C15E1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AB48D2-C63A-4E34-820A-0710EA7E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0B59923-FF70-4BBD-9238-4EE727B8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4FA91B-3369-46E9-B92C-A3CD3E2E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7EE3802-0AF4-4071-8C06-96D878D3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A2252-00C6-4FFF-B060-C705B88238DD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8CAD1C-A8B9-4035-A1AC-D0F8C637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C32F1F-B1A8-4138-BB2B-3EE418ED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3E1146-0F2E-40F7-9237-360B8A4A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1B92F7-513E-470A-BECD-0DAE88E2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50EC80-8A25-4575-9218-08277C81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522B21-AF1A-44B8-8867-E05FBABD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BE4313-C209-46B3-B054-AD091246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55DCB2-5EE4-4C75-A2C4-9BAF7810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A449F8-5DAF-46D7-823B-5F95D67F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1CD9E5-C42F-4273-897A-96286A2B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C8B9F-83AF-42FD-8A65-4840E1D06D7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3A1C2-4605-45EA-9B35-700F939F82F5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A1C70B-A13F-4E4E-B2BA-A450CD47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CE28A1-5F23-41AE-B8A9-578EACEC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0F5338-2240-402B-AD7B-4CFAD3D4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352EE4-7F4E-4DE6-8EC0-E01BB8B3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B5DA22A-08EB-48FF-9189-56612D22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85AB74-CAF8-42B1-9CF2-0E788267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F185D42-918A-416A-9DC5-587616D1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E25CD7-5A43-4221-B0D1-BF35AC6E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B33C29A-086C-40C2-A87B-CEF31ED6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EA80DF2-3A4E-49A8-8697-13F2BB69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CC415-65DA-431D-B63A-437B50B26CE4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E137652-39E4-4428-9C5E-3A269E85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5290A9C-D9F5-4C86-B60E-C743F1DA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8A40649-9F4E-4F5D-BD31-2F70E41B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12881D-F344-4817-8989-44241E77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ADE9A8B-AA36-4380-86DC-8BEB4797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CB48A5-7E4E-498A-85FB-7A6D608E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F0C0D1-4DF3-4AE4-9485-99CB6B67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7243C23-35A8-4361-8017-E99CEAED18E5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13CC227-4C5A-4674-BB72-776D116E4DF4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9A29646-54A5-4DD9-B844-A12F57D7554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B082F-EFF2-4426-AAF5-1114D5B76C2B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78049F7-DA95-43AA-980F-4DF12193F712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C3C2A1E-CE4A-4E6E-93C9-EE77559F9052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D1FD584-07F7-4795-B287-18E67B51A452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011D54C-58FF-4BF8-89BD-4229A1974028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D85D08C-09D6-4CD3-9DBD-91D4192D3EF0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3EB9EB2-0640-4FB2-82ED-02B7F1F8A49F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DE498B1-7800-4D72-AAEB-CD08228A26A0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1EF4925-A0E6-40CF-B709-1BC00DA8E714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7BC9DCC-D14E-431D-9719-0D63A7FBE56E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5F4BC2B-CA3F-4ED3-89BA-0946DFD1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AFB04-09EE-4720-8913-89F9DEF1A9C5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237324A-C8DD-4B28-8F78-BED6DF1E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27830B0-9567-4CB1-A80D-04CECA3B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438D31A-9767-451A-82DC-D93C3A47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935AAB4-7A16-4ED8-9CAA-96320F80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5794544-59DF-4289-9D0D-C063F13E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FB8D63E-C1E0-471E-B520-8AEF159D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6B1CB1B-1C0A-497B-B106-48D6992F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CD5D23A-3F8D-4195-B2A2-95C49D1C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2C4D1E4-1215-452F-BD5A-80C2922A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590FA85-C2D4-481E-A538-8B5DA7DE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1A640-A289-41E8-86A1-3C71A3445A88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C372B33-2AC4-490C-B08E-EC2A387C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3DA1B0B-CAB9-438E-B538-C0DA89D3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062B523-D961-441A-B08F-0038C975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1EF25E4-B246-41BD-924E-D6947DE4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EEBEB58-88EC-41C1-BA13-1DAC4385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ACB1476-E47D-459E-88E2-36258BE2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8DE575C-5821-4F86-B975-4D3C3244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59F262E-CE5B-40D0-8DAC-7014D463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A37E694-32A7-4288-9E60-4734F162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33C4EF9-382D-45F6-932E-A9E9526D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979C3-F9B8-49EC-949A-7CDE5B6A8255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DAF8CF6-70B9-41DE-BE26-CAF6F330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CD8487E-85EB-4623-8DBC-1476B841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886A017-6039-48F3-8034-189A2B46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42E2A32-9F7F-41E1-8C05-5FDD1003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60B1BFF-2291-47BD-81E5-26E47A7E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CB5AF1C-DF40-4328-AFF6-F9963F71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3AFA6F9-D586-4370-A2E7-CB316C4C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0EC3346-9DC8-4BA6-B08D-4BC7E9FB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103F488-81E7-467D-B5A9-865F3F2B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D25B66A-338A-49BF-BE4D-9F01EF0F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5C07A-1F0B-46D9-BC4A-8DF5785C62C0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27BD883-B3D1-447A-BA6B-6A142E33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671FB62-2368-402A-851A-42DCADFF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D5C89A8-B68B-40C6-8072-8A52276C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923D91B-5287-4022-BFA2-9DC126A0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E998167-711D-434A-9C2A-CB3679B4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836F626-E1FA-44BA-BB1A-5F6E9EA4133B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613B959-2A47-4C1D-9953-3FEB2FBADE73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05140E6-8DBA-4BB0-98B2-42DA86D0CE26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B4DF3BC-BE46-4187-9C5C-AAA7BA13BE80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D9AEF90-DA60-4A0C-BEB8-205A6938DC8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52F98-86EE-480E-8297-2B10235E688B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B842CFD-B5FB-490F-884C-0C29DBBE1516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02D6D20-11AE-4576-8080-11116C74783C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BE0C9B0-6FDF-4E30-94E1-E385D9306FB4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A27CD30-D027-4A73-B581-44462DE755E1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D20F033-8F2A-4CD0-BF04-CFF2280E093B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357A4E9-0BD3-4CB2-B4D5-01B8A3EE5859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2F7BE4A-6ECD-4C28-9B31-550725577E77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10B262A-91DC-43FF-9F1F-26892F50ADD1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D65E511-48D6-4DB1-8C3B-1DE5354A0C29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5539820-AC34-4673-A610-852E74B81FC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938BD-B17C-49B7-BF96-21CAFEDE2869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3A244A0-4899-4A8B-9323-F47BE9278853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FE84F4-C177-47B6-B940-133FC1A38548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863A44C-50E0-42B7-BC80-8F202EBA138A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35D146D-CB14-4ACA-87C4-B25C1FD28E06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02EAF00-EF54-4636-A62A-314BC6542465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3F752CD-419A-4F5F-8585-C63F7A3AFEA2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6573409-DFE6-4EB7-8E84-2CCA07D96E8C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F167674-3C16-40BF-8D3F-C7D6C94CC595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6A204F1-A6BC-4F3A-8F84-2FDA30D24D42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38BDF6B-63F2-4215-A187-52FC91823CE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102F7-0CCC-43B0-8E07-73134E2573BC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4D3872B-789E-4292-91ED-A21A1EDB4E15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1B3C277-A7D9-4CFE-A969-4A31E28A438F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EF12AA9-7137-4EC6-9B8C-B246D03328CF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CB5BCAF-7805-45CE-891E-8376C90805EF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E4C885D-0DA6-46A2-95D9-9D42D222CED5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2D02ED4-5AF4-4531-913B-44B1B6BA8741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381C4B4-8E9E-4552-B3AA-C182E286D3C6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D670F52-DC41-4F17-9878-F8BA08387128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CC8F989-9FE7-4B07-A087-851F2B8F400D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C1B0F99-2518-4C42-86EA-95FDBCF5A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AE95-4D81-4DC0-BBE9-41588A0B22D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8307D-FAF5-4B1B-8091-31FAEADE0549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DD75223-4184-4635-9F30-8B5D0096B35E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1399FA2-6BE7-4B83-80E0-D7C947ABA487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0195A4A-9A45-484F-A5D0-A7FC4DF2360B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907A115-ED35-4B2B-8830-0478DC7F423C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7DC5EAD-5AC7-482C-8E01-42C0610FC3A2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BB47496-5A0F-4CA6-8149-86F55D249C8F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111F2AB-3C6A-4FCD-A0D3-217AB2EDC858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F382643-579B-49CF-9EC8-A69A057603A1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D92DCDB-E517-42D5-9720-9444A13345F6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42B9E61-5C76-4A56-ABCD-B21B942DACC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90F554-8300-4725-8F8D-54B0A6EF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C3E9C05-2A38-4252-B692-77E43EC746C0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1D05F04-E952-491F-9CF5-5DDCA757313B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58CF319-0332-461B-9CC0-A12032312F64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E665DB7-1804-4651-A117-E82A0413083A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8F7286F-AB87-4542-B8B5-A5AA9B70214D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4FD6C51-A3F5-4366-BC7E-127D6636728B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CDED600-B2B7-4CA5-9D08-3634669C5497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2416B5C-5ABE-4698-998A-5AC4F99CCD5C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6D3F4F1-EB4A-4063-88F6-D736F514CB79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90CFB3F-37F4-421E-9316-89BA5F30CBB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4E6B68-0E13-4C9E-A90A-5C9004FD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1675ABA-9832-4AB5-AEE1-A012005F5063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B7B7CC0-DA55-433F-B7D0-415597F26EDF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1649CBE-52ED-4384-B38E-ED9DC02F77B3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E1B24ED-739B-41FB-9C0E-80BB9F236B74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C7FE760-F2D3-4882-B55B-F5B0B1555817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7D53A4A-FFFE-46CF-BC81-5F0D71241381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935F02A-1FB9-42AA-8533-15D346D775E4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1C49A5E-9541-4E4B-897A-25ABBA0F9F1E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DD3ACDF-8556-40E8-838E-BC8E5B78E4CF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25C48C0-948C-4B6D-89A7-0BB27F24C15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7E6A21-2B50-4AF4-ACBE-E96F28D1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9C2E0CC-3E12-42D1-8882-8DEECBD13995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C7DB30E-3790-4207-A544-B319900AD76A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5EB5DFC-5870-4015-B7FF-71BF1052ED21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5109A0A-F828-4CD4-92BE-3A6AEC9BFFD3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7FCF91E-0586-4698-9174-E172191FA03B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2859CCD-F3A4-403C-9D32-84F3CDE3D4E9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F0410C8-04CE-4749-95AC-BBCA31B3EE9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D5B0C-B6A7-4485-A36F-2614148A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4C49C1-A25D-4507-8911-774D4D15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2DAEF7-58B1-484C-A409-FC90BD17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D72064-5013-4796-B715-1E9D53DE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1F015F-6172-46FA-9AFB-3ABD16D7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C7B0FB-21BB-4D8F-BF30-417E2E9F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C0B9-4976-4BBB-B495-3CD2A969680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A17CAF-F6BD-43CB-B14B-2FF11135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16856B-504B-44DB-AB55-A61E4281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FAA268-3B18-4041-982C-9C519DDE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03CAD-EC84-4564-8401-93400788D79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3B72E-8B59-4CBB-BE1A-34B7B449B62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26CB2-E79E-41A3-BA91-94A2FA9F7CC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BC706-2057-4E4E-84C7-431E71277DB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F8DF1-EE9A-4660-B8CE-C3430021CDE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AD6D0-4B96-4DB9-931C-BC18D2E5E28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EF48A-1E9E-48A0-9C9F-B3F49098C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71C8D-6923-4A21-905A-F5D7F4A578E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4BA0D-96DE-46A7-924B-3D697C22355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5B129-B8C0-4E07-A00E-B72F73000DB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415BF-AB9F-4956-B38A-07409C71AA3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42350-50FD-412F-8FBD-F3C9FE3E3D4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4DCB9-C2CE-4560-ADEB-27AF56989C2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D2C64-0954-4817-B386-A4D64247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0C39D-808B-488F-B4E0-7E6123DC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4C820-E4E6-43BE-B524-D0A12294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0F730-2C99-458C-9D49-40CE5F7B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C0E8F-1164-4687-8F17-F7893385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6193-F4D8-4265-ABCD-4274877350F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144AE-29FC-424A-B411-D7D2E3EB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97458-A6C4-43BB-8FDA-A3FD2159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704FE-62E4-4145-A725-1FD8FA62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77837-3EFD-4706-B1F1-49CF958E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420E5-9617-44DE-9A6D-3E66B5EE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824BF-D2F3-4F12-B960-0B883D24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31B4B-3557-4E32-AD2E-6F7279F8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FA699-91CC-407A-9A70-B0D4AB0F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69B3E-E5AA-483D-B036-D2F6E5F4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36DCC-DA06-4EB2-9A29-C35A4960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28495-82F4-4B66-B55B-0B888F453B7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81350-BC98-4AF0-B4BE-B63C021C689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1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1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F22B6-FC5D-4C37-B8EA-FF490E2A4E8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225B1-A00A-4E77-A57A-F4F4274A5B8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188EC-AFAD-4DA2-8B94-E9ABF7FC0EE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2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2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18C70-DA02-4234-A57B-F014421E9A6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25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6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EE7B3-6777-4EAB-A55B-696B5BE640F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E2817-E7A9-43CE-8CB4-3AB179DBE96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ftr" idx="2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3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6697B-2F08-4BA0-B620-7386D197346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2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03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996DF-FEC1-4083-A47B-DD9EFF1AA43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7A2A1-F4FC-4C1C-8766-FF881CEE965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47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C3EC0-731A-40EF-9EA5-400DF3B54C9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DEC8D-C3E7-4F8D-9154-152FFCEFD88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9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0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91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95A4F-1F84-4C2F-81B9-7D904B6352C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A6B1A-76B2-447B-BCC9-99F7444442F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2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3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35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1B3AB-396E-4899-93D5-C069F69E34A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F87AD-DC9A-43E4-8DCC-BA6E8B2804E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79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58127-55BA-42C8-AD7F-192AC9314D5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73D99-993B-4C28-88AA-EB49CB52A96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2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23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95538-3E5C-4CCC-8A41-39F3113A5F4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A267C-8EF9-439D-9E4E-80BF6620FF7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67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C7CFA-84D6-4A04-9459-807447FBF4F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73232-46D6-4CAA-A2C2-ED4D464B74D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9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0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11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5368E-9062-4C4D-9672-C916C23218F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6771E-07A3-4F20-86C4-D6867332334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3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55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93336-C7BD-472D-AFB4-B8D70A94786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A547B-2E7C-4DBF-A320-D51567774EF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99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914D6-6AA4-4C70-9C89-AD2369B757A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525CF-BF75-4167-A735-5E24D404602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43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60D30-48B7-44E0-A36D-94DF1E5F151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7EAC7-0220-45D7-800B-B2B788596AE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5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86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sp>
        <p:nvSpPr>
          <p:cNvPr id="1187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8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89" name="Picture 11" descr="letras"/>
          <p:cNvPicPr/>
          <p:nvPr/>
        </p:nvPicPr>
        <p:blipFill>
          <a:blip r:embed="rId3"/>
          <a:stretch/>
        </p:blipFill>
        <p:spPr>
          <a:xfrm>
            <a:off x="1619280" y="3525840"/>
            <a:ext cx="1131840" cy="334800"/>
          </a:xfrm>
          <a:prstGeom prst="rect">
            <a:avLst/>
          </a:prstGeom>
          <a:ln w="0">
            <a:noFill/>
          </a:ln>
        </p:spPr>
      </p:pic>
      <p:sp>
        <p:nvSpPr>
          <p:cNvPr id="1190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A2454-8670-402D-BA92-5469666588DC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0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31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3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34" name="Picture 11" descr="letras"/>
          <p:cNvPicPr/>
          <p:nvPr/>
        </p:nvPicPr>
        <p:blipFill>
          <a:blip r:embed="rId3"/>
          <a:stretch/>
        </p:blipFill>
        <p:spPr>
          <a:xfrm>
            <a:off x="1619280" y="3525840"/>
            <a:ext cx="1131840" cy="334800"/>
          </a:xfrm>
          <a:prstGeom prst="rect">
            <a:avLst/>
          </a:prstGeom>
          <a:ln w="0">
            <a:noFill/>
          </a:ln>
        </p:spPr>
      </p:pic>
      <p:sp>
        <p:nvSpPr>
          <p:cNvPr id="1235" name="PlaceHolder 1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81C1B-BE97-4206-BF77-78C0E690F90C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5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76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277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F13CE-858D-4D18-9CC7-82F24ADE75B7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21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322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323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4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6317B-FC0E-43B8-9A53-FD1DF8DA326E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67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E4717-4D9E-4E90-9EC7-345DFB23E8E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0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1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12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C034D-31BB-47DD-A616-CAAAE651A8F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4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56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FD6A9-DAB1-4E20-A08A-9E3D0FFBCAD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8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9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00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416E8-5676-438B-90FF-C1440B49A74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2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3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44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BE09C-1B14-4814-81EF-E98E6734B8B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6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7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88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84FCA-E14A-492D-9D94-672637CE704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0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1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32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8ACB2-3CDB-40F9-9552-610ABC70CE4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4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5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76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FD871-1EFC-464B-A548-ED4170F7933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2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8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9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20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0EA5D-F4B2-4B9A-A633-293005E79B2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2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3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64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9164D-25E6-4633-BD94-610D055823A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6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7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08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1AA35-0D14-45D3-910C-9CEA4433F9D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0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1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2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4AD01-EB24-4CFA-BE91-88AF1E5442C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 type="ftr" idx="110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 type="sldNum" idx="111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174F8-0D4E-4366-88D9-719CF8F0076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 type="ftr" idx="112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 type="sldNum" idx="113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152AD-55A8-4812-9448-19C48D7BA60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CA885-867F-4409-B063-1A630314B5B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ftr" idx="115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6" name="PlaceHolder 5"/>
          <p:cNvSpPr>
            <a:spLocks noGrp="1"/>
          </p:cNvSpPr>
          <p:nvPr>
            <p:ph type="sldNum" idx="116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3812E-DF1C-46BF-B4C4-FB3F7A8F113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4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5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6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FA406-A4DE-4B73-ABBE-82AB65D46FF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 type="ftr" idx="118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 type="sldNum" idx="119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9D88E-8CDB-4A08-9D70-FFEC7013B7A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6A033-3901-4CAF-95D8-2C16521CFBC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 type="ftr" idx="12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 type="sldNum" idx="12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642F4-65A6-404D-AD9E-9CBC18994DD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4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5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6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 type="ftr" idx="12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0" name="PlaceHolder 4"/>
          <p:cNvSpPr>
            <a:spLocks noGrp="1"/>
          </p:cNvSpPr>
          <p:nvPr>
            <p:ph type="sldNum" idx="12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D1583-779F-4218-A180-ED3E24CDDF8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8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9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0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ftr" idx="125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sldNum" idx="126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13DEB-C343-4743-9501-9C9DB158A03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56AB4-1D3B-4CCE-8F1E-FFC01FB77D9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 type="ftr" idx="12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 type="sldNum" idx="12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8F668-41F6-4E4C-8EBB-8C8CE34AD00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6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7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8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 type="ftr" idx="12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 type="sldNum" idx="13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8598D-97CE-43AD-9AD8-54801EA8775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0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1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2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 type="ftr" idx="13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 type="sldNum" idx="13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E1C9C-5EE2-42F1-B1C7-2E0CB5298D1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4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5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6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 type="ftr" idx="13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 type="sldNum" idx="13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177AC-D3F0-4DD3-9F36-8C388970845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5F10B-DFEF-4233-8D1C-355544C8B8E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6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7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9DB60-FC24-4654-859F-8121399F96F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8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9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30AD6-97B6-4F6D-95B3-6E4B43E5CD5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4A7D4-C01E-4174-9E6B-A7EA49C3FAE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B8CEF-F715-4CB6-96F7-413FDD34630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D8DB4-D95B-4DD6-8D99-F24152EB187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9CBE3-535F-4745-8DFA-EC7DE411E69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cajta.cl/" TargetMode="External"/><Relationship Id="rId3" Type="http://schemas.openxmlformats.org/officeDocument/2006/relationships/hyperlink" Target="http://www.cajta.cl/" TargetMode="External"/><Relationship Id="rId4" Type="http://schemas.openxmlformats.org/officeDocument/2006/relationships/hyperlink" Target="http://www.cajta.cl/" TargetMode="External"/><Relationship Id="rId5" Type="http://schemas.openxmlformats.org/officeDocument/2006/relationships/hyperlink" Target="http://www.cajbiobio.cl/" TargetMode="External"/><Relationship Id="rId6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6840" y="1484280"/>
            <a:ext cx="80024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SUPERAR LAS BARRERAS DE ACCESO A LA JUSTICIA DE LOS ADULTOS MAYORES EN CHILE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Programa 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EUROsociAL II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2013</a:t>
            </a:r>
            <a:br>
              <a:rPr sz="3200"/>
            </a:br>
            <a:br>
              <a:rPr sz="600"/>
            </a:br>
            <a:br>
              <a:rPr sz="3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388F0-2EB0-41CA-8000-75614B2CC65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200" spc="-1" strike="noStrike">
                <a:solidFill>
                  <a:srgbClr val="ffffff"/>
                </a:solidFill>
                <a:latin typeface="Verdana"/>
              </a:rPr>
              <a:t>Gracias.</a:t>
            </a:r>
            <a:endParaRPr b="1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409D4-C581-4057-805E-64754C51968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db4144"/>
                </a:solidFill>
                <a:latin typeface="Calibri"/>
              </a:rPr>
              <a:t>Objetivo del Plan de Acció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595959"/>
                </a:solidFill>
                <a:latin typeface="Calibri"/>
              </a:rPr>
              <a:t>Que el sistema judicial cuente con medios más eficaces para </a:t>
            </a:r>
            <a:r>
              <a:rPr b="1" lang="es-ES" sz="2800" spc="-1" strike="noStrike">
                <a:solidFill>
                  <a:srgbClr val="db4144"/>
                </a:solidFill>
                <a:latin typeface="Calibri"/>
              </a:rPr>
              <a:t>prestar asistencia jurídica </a:t>
            </a:r>
            <a:r>
              <a:rPr b="1" lang="es-ES" sz="2800" spc="-1" strike="noStrike">
                <a:solidFill>
                  <a:srgbClr val="595959"/>
                </a:solidFill>
                <a:latin typeface="Calibri"/>
              </a:rPr>
              <a:t>a las personas que se encuentren en condiciones desfavorecidas centrando la actuación en la </a:t>
            </a:r>
            <a:r>
              <a:rPr b="1" lang="es-ES" sz="2800" spc="-1" strike="noStrike">
                <a:solidFill>
                  <a:srgbClr val="db4144"/>
                </a:solidFill>
                <a:latin typeface="Calibri"/>
              </a:rPr>
              <a:t>población adulta mayor </a:t>
            </a:r>
            <a:r>
              <a:rPr b="1" lang="es-ES" sz="2800" spc="-1" strike="noStrike">
                <a:solidFill>
                  <a:srgbClr val="595959"/>
                </a:solidFill>
                <a:latin typeface="Calibri"/>
              </a:rPr>
              <a:t>de Chile en su contacto con las Corporaciones de Asistencia Judicial.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Footer Placeholder 10"/>
          <p:cNvSpPr/>
          <p:nvPr/>
        </p:nvSpPr>
        <p:spPr>
          <a:xfrm>
            <a:off x="19080" y="6527880"/>
            <a:ext cx="2895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Verdana"/>
              </a:rPr>
              <a:t>Gobierno de Chile | Ministerio de Justicia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8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EC9FF-9685-40C5-A18C-7F6F2E15329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9" name=""/>
          <p:cNvSpPr txBox="1"/>
          <p:nvPr/>
        </p:nvSpPr>
        <p:spPr>
          <a:xfrm>
            <a:off x="151920" y="765000"/>
            <a:ext cx="83487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2350" name="13 Imagen" descr="mapa.JPG"/>
          <p:cNvPicPr/>
          <p:nvPr/>
        </p:nvPicPr>
        <p:blipFill>
          <a:blip r:embed="rId1"/>
          <a:stretch/>
        </p:blipFill>
        <p:spPr>
          <a:xfrm>
            <a:off x="395280" y="549360"/>
            <a:ext cx="1403280" cy="6027480"/>
          </a:xfrm>
          <a:prstGeom prst="rect">
            <a:avLst/>
          </a:prstGeom>
          <a:ln w="0">
            <a:noFill/>
          </a:ln>
        </p:spPr>
      </p:pic>
      <p:cxnSp>
        <p:nvCxnSpPr>
          <p:cNvPr id="2351" name="21 Conector recto de flecha"/>
          <p:cNvCxnSpPr/>
          <p:nvPr/>
        </p:nvCxnSpPr>
        <p:spPr>
          <a:xfrm>
            <a:off x="1186920" y="764640"/>
            <a:ext cx="1297800" cy="288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2" name="26 Conector recto de flecha"/>
          <p:cNvCxnSpPr/>
          <p:nvPr/>
        </p:nvCxnSpPr>
        <p:spPr>
          <a:xfrm flipV="1">
            <a:off x="1186920" y="1051920"/>
            <a:ext cx="1297800" cy="432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3" name="28 Conector recto de flecha"/>
          <p:cNvCxnSpPr/>
          <p:nvPr/>
        </p:nvCxnSpPr>
        <p:spPr>
          <a:xfrm>
            <a:off x="1187280" y="2133720"/>
            <a:ext cx="133272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4" name="30 Conector recto de flecha"/>
          <p:cNvCxnSpPr/>
          <p:nvPr/>
        </p:nvCxnSpPr>
        <p:spPr>
          <a:xfrm>
            <a:off x="1042920" y="2636640"/>
            <a:ext cx="14421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5" name="32 Conector recto de flecha"/>
          <p:cNvCxnSpPr/>
          <p:nvPr/>
        </p:nvCxnSpPr>
        <p:spPr>
          <a:xfrm flipV="1">
            <a:off x="1042920" y="2636280"/>
            <a:ext cx="1442160" cy="21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6" name="34 Conector recto de flecha"/>
          <p:cNvCxnSpPr/>
          <p:nvPr/>
        </p:nvCxnSpPr>
        <p:spPr>
          <a:xfrm>
            <a:off x="1042920" y="3068280"/>
            <a:ext cx="1442160" cy="648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7" name="41 Conector recto de flecha"/>
          <p:cNvCxnSpPr/>
          <p:nvPr/>
        </p:nvCxnSpPr>
        <p:spPr>
          <a:xfrm>
            <a:off x="1042920" y="3213000"/>
            <a:ext cx="144216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8" name="43 Conector recto de flecha"/>
          <p:cNvCxnSpPr/>
          <p:nvPr/>
        </p:nvCxnSpPr>
        <p:spPr>
          <a:xfrm>
            <a:off x="899640" y="3357720"/>
            <a:ext cx="1585080" cy="358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9" name="45 Conector recto de flecha"/>
          <p:cNvCxnSpPr/>
          <p:nvPr/>
        </p:nvCxnSpPr>
        <p:spPr>
          <a:xfrm>
            <a:off x="899640" y="3860640"/>
            <a:ext cx="1585080" cy="1369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0" name="47 Conector recto de flecha"/>
          <p:cNvCxnSpPr/>
          <p:nvPr/>
        </p:nvCxnSpPr>
        <p:spPr>
          <a:xfrm>
            <a:off x="863640" y="4076640"/>
            <a:ext cx="1621440" cy="1153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1" name="51 Conector recto de flecha"/>
          <p:cNvCxnSpPr/>
          <p:nvPr/>
        </p:nvCxnSpPr>
        <p:spPr>
          <a:xfrm>
            <a:off x="863640" y="4976640"/>
            <a:ext cx="1621440" cy="253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2" name="57 Conector recto de flecha"/>
          <p:cNvCxnSpPr/>
          <p:nvPr/>
        </p:nvCxnSpPr>
        <p:spPr>
          <a:xfrm flipV="1">
            <a:off x="899640" y="3716280"/>
            <a:ext cx="1585080" cy="216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3" name="63 Conector recto de flecha"/>
          <p:cNvCxnSpPr/>
          <p:nvPr/>
        </p:nvCxnSpPr>
        <p:spPr>
          <a:xfrm>
            <a:off x="1186920" y="1052280"/>
            <a:ext cx="12978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4" name="55 Conector recto de flecha"/>
          <p:cNvCxnSpPr/>
          <p:nvPr/>
        </p:nvCxnSpPr>
        <p:spPr>
          <a:xfrm>
            <a:off x="863640" y="3573360"/>
            <a:ext cx="1621440" cy="1656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5" name="59 Conector recto de flecha"/>
          <p:cNvCxnSpPr/>
          <p:nvPr/>
        </p:nvCxnSpPr>
        <p:spPr>
          <a:xfrm>
            <a:off x="863640" y="4292640"/>
            <a:ext cx="1621440" cy="937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6" name="Rectangle 2"/>
          <p:cNvSpPr/>
          <p:nvPr/>
        </p:nvSpPr>
        <p:spPr>
          <a:xfrm>
            <a:off x="2254320" y="765000"/>
            <a:ext cx="6337080" cy="52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</a:rPr>
              <a:t>Corporación de Asistencia Judicial de las regiones de Tarapacá y Antofagasta (I, II y XV regiones).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ajta.cl</a:t>
            </a:r>
            <a:r>
              <a:rPr b="0" lang="es-ES_tradnl" sz="2400" spc="-1" strike="noStrike" u="sng">
                <a:solidFill>
                  <a:srgbClr val="ef4144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</a:rPr>
              <a:t>Corporación de Asistencia Judicial de la Región de Valparaíso (III, IV y V regiones)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 www.cajval.cl</a:t>
            </a:r>
            <a:r>
              <a:rPr b="0" lang="es-ES_tradnl" sz="2400" spc="-1" strike="noStrike" u="sng">
                <a:solidFill>
                  <a:srgbClr val="ef4144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</a:rPr>
              <a:t>Corporación de Asistencia Judicial de la Región Metropolitana (regiones: Metropolitana, VI, VII, y  XII)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 www.cajmetro.cl</a:t>
            </a:r>
            <a:r>
              <a:rPr b="0" lang="es-ES_tradnl" sz="2400" spc="-1" strike="noStrike" u="sng">
                <a:solidFill>
                  <a:srgbClr val="ef4144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</a:rPr>
              <a:t>Corporación de Asistencia Judicial de la Región del Biobío (VIII, IX, XIV, X y XI regiones).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cajbiobio.cl</a:t>
            </a:r>
            <a:r>
              <a:rPr b="0" lang="es-ES_tradnl" sz="2400" spc="-1" strike="noStrike" u="sng">
                <a:solidFill>
                  <a:srgbClr val="ef4144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68" name="Rectangle 3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69" name="Rectangle 2"/>
          <p:cNvSpPr/>
          <p:nvPr/>
        </p:nvSpPr>
        <p:spPr>
          <a:xfrm>
            <a:off x="990720" y="0"/>
            <a:ext cx="70372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db4144"/>
                </a:solidFill>
                <a:latin typeface="Calibri"/>
              </a:rPr>
              <a:t>Cobertura Territorial de las CAJ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370" name=""/>
          <p:cNvGraphicFramePr/>
          <p:nvPr/>
        </p:nvGraphicFramePr>
        <p:xfrm>
          <a:off x="237960" y="1052640"/>
          <a:ext cx="8668080" cy="5205240"/>
        </p:xfrm>
        <a:graphic>
          <a:graphicData uri="http://schemas.openxmlformats.org/drawingml/2006/table">
            <a:tbl>
              <a:tblPr/>
              <a:tblGrid>
                <a:gridCol w="1179720"/>
                <a:gridCol w="1008000"/>
                <a:gridCol w="934920"/>
                <a:gridCol w="865440"/>
                <a:gridCol w="792000"/>
                <a:gridCol w="1079640"/>
                <a:gridCol w="792000"/>
                <a:gridCol w="936720"/>
                <a:gridCol w="1079640"/>
              </a:tblGrid>
              <a:tr h="283320">
                <a:tc gridSpan="9"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BERTURA TERRITORIAL  DE LAS CORPORACIONES DE ASISTENCIA JUDICIAL 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Regiones 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Consultorios fíjo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Consultorios  Móvile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Centros mediación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Centros Víctima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Oficinas de Defensa Laboral 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Comunas Atendidas 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Total comunas*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% cobertura territorio nacional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Arica y Parinacot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Tarapacá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Antofagast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4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Atacam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Coquimbo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Valparaíso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O´Higgin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Maul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Bíobío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5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Araucaní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Los Río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Los Lago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Aisén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Magallane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7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Metropolitana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6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100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Total nacional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4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2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46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95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Rectangle 2"/>
          <p:cNvSpPr/>
          <p:nvPr/>
        </p:nvSpPr>
        <p:spPr>
          <a:xfrm>
            <a:off x="990720" y="0"/>
            <a:ext cx="70372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db4144"/>
                </a:solidFill>
                <a:latin typeface="Calibri"/>
              </a:rPr>
              <a:t>LÍNEAS DE ACCIÓ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72" name="Rectangle 3"/>
          <p:cNvSpPr/>
          <p:nvPr/>
        </p:nvSpPr>
        <p:spPr>
          <a:xfrm>
            <a:off x="395280" y="119700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66880" indent="-514440" algn="just">
              <a:lnSpc>
                <a:spcPct val="120000"/>
              </a:lnSpc>
              <a:spcBef>
                <a:spcPts val="75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Orientación e información en derechos.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866880" indent="-514440" algn="just">
              <a:lnSpc>
                <a:spcPct val="120000"/>
              </a:lnSpc>
              <a:spcBef>
                <a:spcPts val="75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Solución colaborativa de conflictos.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866880" indent="-514440" algn="just">
              <a:lnSpc>
                <a:spcPct val="120000"/>
              </a:lnSpc>
              <a:spcBef>
                <a:spcPts val="75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Patrocinio en juicios.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866880" indent="-514440" algn="just">
              <a:lnSpc>
                <a:spcPct val="120000"/>
              </a:lnSpc>
              <a:spcBef>
                <a:spcPts val="75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Apoyo psicosociojurídico a víctimas de delitos violentos</a:t>
            </a:r>
            <a:r>
              <a:rPr b="0" i="1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.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866880" indent="-514440" algn="just">
              <a:lnSpc>
                <a:spcPct val="120000"/>
              </a:lnSpc>
              <a:spcBef>
                <a:spcPts val="75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Prevención de conflictos y promoción de derechos.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Protocolo de Asistencia Jurídica Especializada para los Adultos Mayores.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Reuniones de coordinación intersectorial: Ministerio de Justicia de Chile, Corporaciones de Asistencia Judicial, Ministerio de Desarrollo Social, Servicio Nacional del Adulto Mayor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Misión de sensibilización con los actores públicos relevantes y los operadores, a través de los talleres de detección de barreras de acceso a la justicia de los adultos mayores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Mesas de trabajo intersectorial, nacional y regional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Misión para la elaboración del Protocolo, asistencia técnica europea y local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74" name="3 Rectángulo"/>
          <p:cNvSpPr/>
          <p:nvPr/>
        </p:nvSpPr>
        <p:spPr>
          <a:xfrm>
            <a:off x="250920" y="40464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db4144"/>
                </a:solidFill>
                <a:latin typeface="Arial"/>
              </a:rPr>
              <a:t>Acciones y Resultado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2. Operadores jurídicos capacitados para la asistencia jurídica especializada al adulto mayor vulnerable.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31240" indent="-44316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Visita de estudio de funcionarios públicos para conocer experiencias de implementación de sistemas de atención dirigidas a los adultos mayores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31240" indent="-44316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Curso de capacitación on line y presencial a más de 100 funcionarios del sistema público de asistencia jurídica gratuita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marL="4431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4431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3. Campaña de difusión del Protocolo.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31240" indent="-44316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Lanzamiento del Protocolo a nivel regional y nacional, suscrito por las autoridades del sector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31240" indent="-44316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Socialización del Protocolo entre autoridades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31240" indent="-44316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Difusión y visibilización del Protocolo en portales web y materialmente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76" name="3 Rectángulo"/>
          <p:cNvSpPr/>
          <p:nvPr/>
        </p:nvSpPr>
        <p:spPr>
          <a:xfrm>
            <a:off x="250920" y="40464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db4144"/>
                </a:solidFill>
                <a:latin typeface="Arial"/>
              </a:rPr>
              <a:t>Acciones y Resultado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595959"/>
                </a:solidFill>
                <a:latin typeface="Calibri"/>
              </a:rPr>
              <a:t>Fortalecimiento de la cooperación intersectoria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595959"/>
                </a:solidFill>
                <a:latin typeface="Calibri"/>
              </a:rPr>
              <a:t>Otorgamiento de becas a funcionarios de la asistencia jurídica en gerontología social.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595959"/>
                </a:solidFill>
                <a:latin typeface="Calibri"/>
              </a:rPr>
              <a:t>Seminarios sobre acceso a la justicia y adultos mayores.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595959"/>
                </a:solidFill>
                <a:latin typeface="Calibri"/>
              </a:rPr>
              <a:t>Transferencia de recursos entre el Servicio Nacional del Adulto Mayor y las Corporaciones de Asistencia Judicial que permitirá dotar de un abogado especialista en cada región del país.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0" algn="just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78" name="3 Rectángulo"/>
          <p:cNvSpPr/>
          <p:nvPr/>
        </p:nvSpPr>
        <p:spPr>
          <a:xfrm>
            <a:off x="250920" y="40464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db4144"/>
                </a:solidFill>
                <a:latin typeface="Arial"/>
              </a:rPr>
              <a:t>Resultados no esperados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1. Pasantía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Experiencia de atención especializada. 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Iniciativas de la sociedad civil y la judicatura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2. Protocolo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Escasas referencias normativas y reglamentarias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Creciente importancia a nivel nacional e internacional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2. Capacitación y especialización de operadores jurídicos.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Valoración de la formación on line y presencial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0" algn="just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0" algn="just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80" name="3 Rectángulo"/>
          <p:cNvSpPr/>
          <p:nvPr/>
        </p:nvSpPr>
        <p:spPr>
          <a:xfrm>
            <a:off x="250920" y="40464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db4144"/>
                </a:solidFill>
                <a:latin typeface="Arial"/>
              </a:rPr>
              <a:t>Valoración de la Metodologí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9:44:20Z</dcterms:created>
  <dc:creator>Executive Director</dc:creator>
  <dc:description/>
  <dc:language>en-US</dc:language>
  <cp:lastModifiedBy>Karina</cp:lastModifiedBy>
  <cp:lastPrinted>2013-07-08T21:32:56Z</cp:lastPrinted>
  <dcterms:modified xsi:type="dcterms:W3CDTF">2013-11-18T14:03:47Z</dcterms:modified>
  <cp:revision>78</cp:revision>
  <dc:subject/>
  <dc:title>Slide 1</dc:title>
</cp:coreProperties>
</file>