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31475-7280-44E8-AB1A-26598F9E52C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3 Marcador de número de diapositiva"/>
          <p:cNvSpPr/>
          <p:nvPr/>
        </p:nvSpPr>
        <p:spPr>
          <a:xfrm>
            <a:off x="384984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646FE-C89C-4754-938C-0E6D88FD5F3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B55F-C486-47C5-9D4C-E63906D46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4E48-9A08-4C10-B6CB-14AA3327B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F0A0-8A8E-4437-9308-4B31CEA89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C87F-3098-47AA-89FE-EE6A6C668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CA5D-9876-4718-97BC-03404D45D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7766-EF07-4D74-B32C-DD33F1B36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C8B0-87FE-4A7B-815B-BD8C6A4E4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8C66-470A-4E72-AE15-E6E76C196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6841-3E26-4D9A-8D67-BB2999C4F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9572-7D6A-4DE3-882F-51FD0D20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9EC9-2D8B-4ACB-A3E4-B6155E2F1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4695-28C9-410B-9A35-2BCE7F8BB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3E478-AF4B-4C6B-BD68-C86FAB79222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0" y="0"/>
            <a:ext cx="9144000" cy="1724400"/>
          </a:xfrm>
          <a:prstGeom prst="rect">
            <a:avLst/>
          </a:prstGeom>
          <a:solidFill>
            <a:srgbClr val="d2d2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SPECTOS DEL MARCO SOCIOPOLÍTICO QUE INFLUYEN EN EL MODELO DEL CES DE ESPAÑ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2 CuadroTexto"/>
          <p:cNvSpPr/>
          <p:nvPr/>
        </p:nvSpPr>
        <p:spPr>
          <a:xfrm>
            <a:off x="179280" y="1628640"/>
            <a:ext cx="8713800" cy="47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Marco constitucional que potencia el papel de los agentes sociales y la participación social (reconocimiento agentes sociales, libertad sindical, negociación colectiva, participación, Estado Social y Democrático de Derecho / 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Sin mandato constitucional directo de creación del C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Consolidación de agentes sociales representativos (concentración de representatividad), autónomos, con reconocimiento mutuo y práctica de negociación bipartita y triparti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Desde la transición a la democracia, una evolución sociopolítica en la que la concertación social ha tenido un papel relevantes, aunque irregular / 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Relación con consolidación democracia, estructuración del sistema de relaciones laborales, situación socioeconó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Diálogo social bipartito y tripartito /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 Mayor continuidad del bipartito, estructura y cobertura de la negociación colectiva, dificultades en el diálogo social tripartito en torno a reformas laborales y de Seguridad Social (con alternativa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Proyección del diálogo social en distintos ámbitos: concertación social, participación institucional en el ámbito sociolaboral y en otros ámbitos. Diversidad de ámbitos territoriales / 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El CES como diálogo social institucionaliz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0" y="0"/>
            <a:ext cx="9144000" cy="1099800"/>
          </a:xfrm>
          <a:prstGeom prst="rect">
            <a:avLst/>
          </a:prstGeom>
          <a:solidFill>
            <a:srgbClr val="d2d2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ÓRGANOS DE PARTICIPACIÓN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1 CuadroTexto"/>
          <p:cNvSpPr/>
          <p:nvPr/>
        </p:nvSpPr>
        <p:spPr>
          <a:xfrm>
            <a:off x="426960" y="1125360"/>
            <a:ext cx="86155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2 CuadroTexto"/>
          <p:cNvSpPr/>
          <p:nvPr/>
        </p:nvSpPr>
        <p:spPr>
          <a:xfrm>
            <a:off x="544680" y="988920"/>
            <a:ext cx="8380080" cy="55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Observatorio de la Igualdad de Oportunidades entre Mujeres y Hombr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Asociaciones de mujeres / ONGs de muje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onsejo Estatal de Personas Mayor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Asociaciones de personas mayo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omité Consultivo del Sistema de Autonomía y Atención a la Dependenci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Organizaciones empresariales / sindica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onsejo de la Juventu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Asociaciones de jóvenes / secciones de jóvenes de otras organizaciones asociati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onsejo de Consumidores y usuari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Asociaciones de consumidor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onsejo del Trabajo Autónom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Asociaciones de trabajadores autónomos / organizaciones empresariales / sindica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onsejo Estatal de Responsabilidad Social de las Empres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Organizaciones empresariales / sindicatos / organizaciones con representatividad e interés en 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onsejo Consultivo de la Agencia de Consumo, Seguridad Alimentaria y Nutrició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Asociaciones de consumidores / organizaciones empresariales / colegios profesiona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0" y="0"/>
            <a:ext cx="9144000" cy="1099800"/>
          </a:xfrm>
          <a:prstGeom prst="rect">
            <a:avLst/>
          </a:prstGeom>
          <a:solidFill>
            <a:srgbClr val="d2d2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ÓRGANOS DE PARTICIPACIÓN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1 CuadroTexto"/>
          <p:cNvSpPr/>
          <p:nvPr/>
        </p:nvSpPr>
        <p:spPr>
          <a:xfrm>
            <a:off x="426960" y="1125360"/>
            <a:ext cx="86155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2 CuadroTexto"/>
          <p:cNvSpPr/>
          <p:nvPr/>
        </p:nvSpPr>
        <p:spPr>
          <a:xfrm>
            <a:off x="544680" y="1087560"/>
            <a:ext cx="838008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onsejo Consultivo de la Agencia de Protección de Da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Asociaciones de consumi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omisión Nacional de Seguridad y Salud en el Traba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Organizaciones empresariales / sindica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onsejo para la Sostenibilidad, Innovación y Calidad de la Edificació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Organizaciones empresariales / sindicatos / colegios profesion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onsejo Rector de la Agencia Española del Medica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Organizaciones empresariales / sindicatos / Asociaciones de consumi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onsejo Superior Estadís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Organizaciones empresariales / sindicatos / asociaciones de consumidores / univers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onsejo Superior de Tráf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Organizaciones empresariales / sindicatos / O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Observatorios Industr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Organizaciones empresariales / sindica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onsejo Escolar del Estad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Asociaciones de Familia / representantes de alumnos / organizaciones de mujeres / organizaciones empresariales / sindica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0" y="0"/>
            <a:ext cx="9144000" cy="1465560"/>
          </a:xfrm>
          <a:prstGeom prst="rect">
            <a:avLst/>
          </a:prstGeom>
          <a:solidFill>
            <a:srgbClr val="d2d2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PARTICIPACIÓN DE AGENTES SOCIALES EN ÓRGANOS ADMINISTR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1 CuadroTexto"/>
          <p:cNvSpPr/>
          <p:nvPr/>
        </p:nvSpPr>
        <p:spPr>
          <a:xfrm>
            <a:off x="426960" y="1125360"/>
            <a:ext cx="86155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2 CuadroTexto"/>
          <p:cNvSpPr/>
          <p:nvPr/>
        </p:nvSpPr>
        <p:spPr>
          <a:xfrm>
            <a:off x="573120" y="1844640"/>
            <a:ext cx="762804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Instituto Nacional de la Seguridad Social (IN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Instituto de Mayores y Servicios Sociales (IMSERS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Mutualidad de Funcionarios Civiles del Estado (MUFA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Instituto Social de la Marina (IS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Instituto Nacional de Seguridad e Higiene en el Trabajo (INSH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Fondo de Garantía Salarial (FOGAS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onsejo General de Formación Profesional (CGF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onsejo General de la Función Públic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Servicio Público de Empleo Estatal (SPE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0" y="0"/>
            <a:ext cx="9144000" cy="1358640"/>
          </a:xfrm>
          <a:prstGeom prst="rect">
            <a:avLst/>
          </a:prstGeom>
          <a:solidFill>
            <a:srgbClr val="d2d2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L MODELO DEL CES DE ESPAÑ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2 CuadroTexto"/>
          <p:cNvSpPr/>
          <p:nvPr/>
        </p:nvSpPr>
        <p:spPr>
          <a:xfrm>
            <a:off x="179280" y="1332000"/>
            <a:ext cx="8856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Times New Roman"/>
              </a:rPr>
              <a:t>Tener presente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distintas posibilidades de modelos de CES: consultivo y ámbito de concertación social; relación con ejecutivo y con legislativo; con y sin presencia del Gobierno; interlocutores sociales, agentes socioeconómicos, sociedad civil organizada; materias laborales y materias socioeconómicas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Regulación por L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Consultivo del Gobier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Organismo institucional público y autónom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Con interlocutores sociales y agentes socioeconómic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Sin presencia del Gobierno, aunque con expertos designados por é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Materias socioeconómicas y labor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Dictámenes de proyectos de ley, informes socioeconómicos y laborales generales       (Memoria) y específic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Actuación a petición del Gobierno y por propia iniciativa (inform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Times New Roman"/>
              </a:rPr>
              <a:t>Tener presente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distribución de espacios entre concertación social y 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Times New Roman"/>
              </a:rPr>
              <a:t>Tener presente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otros ámbitos de participación institucio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0" y="0"/>
            <a:ext cx="9144000" cy="1770120"/>
          </a:xfrm>
          <a:prstGeom prst="rect">
            <a:avLst/>
          </a:prstGeom>
          <a:solidFill>
            <a:srgbClr val="d2d2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SPECTOS DE LA ORGANIZACIÓN Y FUNCIONAMIENTO DEL CES MÁS INFLUIDOS POR EL MODELO DE CONSEJO (AUTONOMÍA Y COMPOSI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2 CuadroTexto"/>
          <p:cNvSpPr/>
          <p:nvPr/>
        </p:nvSpPr>
        <p:spPr>
          <a:xfrm>
            <a:off x="324000" y="2060640"/>
            <a:ext cx="8496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Autonomía orgánica: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definición legal; designación de Consejeros, Presidencia y Secretaría General; elaboración de Reglam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58920"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Autonomía funcional: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capacidad de elaboración de informes; órganos internos de gobierno; estructura técnica propia; asignaciones económicas a organizaciones representad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58920"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Autonomía presupuestaria: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asignación específica en Ley de Presupues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Relación entre 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estructura técnica y órganos internos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en el proceso de elaboración de informes y dictámenes / Áreas de Estudios, Documentación; comparecenc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Proyección externa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de la actividad del CES: comunicación, relaciones internacio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0" y="0"/>
            <a:ext cx="9144000" cy="1404360"/>
          </a:xfrm>
          <a:prstGeom prst="rect">
            <a:avLst/>
          </a:prstGeom>
          <a:solidFill>
            <a:srgbClr val="d2d2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ORGANIGRAMA CONSEJO ECONÓMICO Y SOCIAL DE ESPAÑ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 Imagen" descr=" "/>
          <p:cNvPicPr/>
          <p:nvPr/>
        </p:nvPicPr>
        <p:blipFill>
          <a:blip r:embed="rId1"/>
          <a:stretch/>
        </p:blipFill>
        <p:spPr>
          <a:xfrm>
            <a:off x="934920" y="1413000"/>
            <a:ext cx="72741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0" y="0"/>
            <a:ext cx="9144000" cy="1937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ROYECCIÓN DE LAS FUNCIONES DE LOS ÓRGANOS DEL CES EN LA ACTIVIDAD DEL CONSE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2666880" y="1676520"/>
            <a:ext cx="2286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39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stitu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2666880" y="2286000"/>
            <a:ext cx="2286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cu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2666880" y="2895480"/>
            <a:ext cx="2286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Área Estud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2685960" y="4070520"/>
            <a:ext cx="2286000" cy="133416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Web Publicaciones  Jornadas y Present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2685960" y="5832360"/>
            <a:ext cx="2286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tern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304920" y="2971800"/>
            <a:ext cx="17524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er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6172200" y="2895480"/>
            <a:ext cx="2209680" cy="368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mis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6248520" y="4343400"/>
            <a:ext cx="2209680" cy="368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. Perman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6248520" y="5638680"/>
            <a:ext cx="2209680" cy="368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le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21"/>
          <p:cNvSpPr/>
          <p:nvPr/>
        </p:nvSpPr>
        <p:spPr>
          <a:xfrm>
            <a:off x="3505320" y="990720"/>
            <a:ext cx="220968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esid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2"/>
          <p:cNvSpPr/>
          <p:nvPr/>
        </p:nvSpPr>
        <p:spPr>
          <a:xfrm>
            <a:off x="228600" y="990720"/>
            <a:ext cx="23623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cretaría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23"/>
          <p:cNvSpPr/>
          <p:nvPr/>
        </p:nvSpPr>
        <p:spPr>
          <a:xfrm>
            <a:off x="6629400" y="990720"/>
            <a:ext cx="22096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sej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24"/>
          <p:cNvSpPr/>
          <p:nvPr/>
        </p:nvSpPr>
        <p:spPr>
          <a:xfrm>
            <a:off x="4952880" y="30481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25"/>
          <p:cNvSpPr/>
          <p:nvPr/>
        </p:nvSpPr>
        <p:spPr>
          <a:xfrm>
            <a:off x="5029200" y="2514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26"/>
          <p:cNvSpPr/>
          <p:nvPr/>
        </p:nvSpPr>
        <p:spPr>
          <a:xfrm>
            <a:off x="5638680" y="2514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27"/>
          <p:cNvSpPr/>
          <p:nvPr/>
        </p:nvSpPr>
        <p:spPr>
          <a:xfrm>
            <a:off x="4952880" y="182880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29"/>
          <p:cNvSpPr/>
          <p:nvPr/>
        </p:nvSpPr>
        <p:spPr>
          <a:xfrm flipH="1">
            <a:off x="5028840" y="32004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30"/>
          <p:cNvSpPr/>
          <p:nvPr/>
        </p:nvSpPr>
        <p:spPr>
          <a:xfrm>
            <a:off x="4784760" y="3470400"/>
            <a:ext cx="1158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1"/>
          <p:cNvSpPr/>
          <p:nvPr/>
        </p:nvSpPr>
        <p:spPr>
          <a:xfrm>
            <a:off x="4800600" y="3478320"/>
            <a:ext cx="1676520" cy="3682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esid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32"/>
          <p:cNvSpPr/>
          <p:nvPr/>
        </p:nvSpPr>
        <p:spPr>
          <a:xfrm>
            <a:off x="7543800" y="1828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33"/>
          <p:cNvSpPr/>
          <p:nvPr/>
        </p:nvSpPr>
        <p:spPr>
          <a:xfrm flipH="1">
            <a:off x="2514240" y="31240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34"/>
          <p:cNvSpPr/>
          <p:nvPr/>
        </p:nvSpPr>
        <p:spPr>
          <a:xfrm>
            <a:off x="2514600" y="31240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35"/>
          <p:cNvSpPr/>
          <p:nvPr/>
        </p:nvSpPr>
        <p:spPr>
          <a:xfrm flipH="1">
            <a:off x="2362320" y="2514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36"/>
          <p:cNvSpPr/>
          <p:nvPr/>
        </p:nvSpPr>
        <p:spPr>
          <a:xfrm>
            <a:off x="2362320" y="25146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37"/>
          <p:cNvSpPr/>
          <p:nvPr/>
        </p:nvSpPr>
        <p:spPr>
          <a:xfrm flipH="1">
            <a:off x="2209680" y="1905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38"/>
          <p:cNvSpPr/>
          <p:nvPr/>
        </p:nvSpPr>
        <p:spPr>
          <a:xfrm>
            <a:off x="2209680" y="1905120"/>
            <a:ext cx="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39"/>
          <p:cNvSpPr/>
          <p:nvPr/>
        </p:nvSpPr>
        <p:spPr>
          <a:xfrm>
            <a:off x="7010280" y="3505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0"/>
          <p:cNvSpPr/>
          <p:nvPr/>
        </p:nvSpPr>
        <p:spPr>
          <a:xfrm>
            <a:off x="7010280" y="4876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1"/>
          <p:cNvSpPr/>
          <p:nvPr/>
        </p:nvSpPr>
        <p:spPr>
          <a:xfrm>
            <a:off x="7718400" y="3801960"/>
            <a:ext cx="663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42"/>
          <p:cNvSpPr/>
          <p:nvPr/>
        </p:nvSpPr>
        <p:spPr>
          <a:xfrm>
            <a:off x="7315200" y="37339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mparec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43"/>
          <p:cNvSpPr/>
          <p:nvPr/>
        </p:nvSpPr>
        <p:spPr>
          <a:xfrm flipH="1">
            <a:off x="7086240" y="3886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44"/>
          <p:cNvSpPr/>
          <p:nvPr/>
        </p:nvSpPr>
        <p:spPr>
          <a:xfrm>
            <a:off x="2685960" y="4070520"/>
            <a:ext cx="2286000" cy="3682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munic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22"/>
          <p:cNvSpPr/>
          <p:nvPr/>
        </p:nvSpPr>
        <p:spPr>
          <a:xfrm>
            <a:off x="-19080" y="6491160"/>
            <a:ext cx="2685960" cy="3373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ructura Técn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21"/>
          <p:cNvSpPr/>
          <p:nvPr/>
        </p:nvSpPr>
        <p:spPr>
          <a:xfrm>
            <a:off x="3132000" y="6488280"/>
            <a:ext cx="2727360" cy="337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resid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23"/>
          <p:cNvSpPr/>
          <p:nvPr/>
        </p:nvSpPr>
        <p:spPr>
          <a:xfrm>
            <a:off x="6292800" y="6485040"/>
            <a:ext cx="285120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Organismos Inter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0" y="0"/>
            <a:ext cx="9144000" cy="1404360"/>
          </a:xfrm>
          <a:prstGeom prst="rect">
            <a:avLst/>
          </a:prstGeom>
          <a:solidFill>
            <a:srgbClr val="d2d2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PROCESO DE ELABORACIÓN DE DICTÁMENES E INFOR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2 Objeto"/>
          <p:cNvGraphicFramePr/>
          <p:nvPr/>
        </p:nvGraphicFramePr>
        <p:xfrm>
          <a:off x="95400" y="1628640"/>
          <a:ext cx="9048600" cy="501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2 Objeto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400" y="1628640"/>
                    <a:ext cx="9048600" cy="50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0" y="0"/>
            <a:ext cx="9144000" cy="1099800"/>
          </a:xfrm>
          <a:prstGeom prst="rect">
            <a:avLst/>
          </a:prstGeom>
          <a:solidFill>
            <a:srgbClr val="d2d2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REPRESENTATIVIDAD Y PARTICIP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1 CuadroTexto"/>
          <p:cNvSpPr/>
          <p:nvPr/>
        </p:nvSpPr>
        <p:spPr>
          <a:xfrm>
            <a:off x="426960" y="1125360"/>
            <a:ext cx="8615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MODALIDADES DE PARTICIP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Representación de intereses / Participación en Organismos Públ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Organizaciones de promoción de derechos e intereses / Agentes Socioeconómicos / Generales y Específ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2 CuadroTexto"/>
          <p:cNvSpPr/>
          <p:nvPr/>
        </p:nvSpPr>
        <p:spPr>
          <a:xfrm>
            <a:off x="539640" y="4869000"/>
            <a:ext cx="7761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PROCEDIMIENTOS DE MEDICIÓN DE LA REPRESENTATIV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Certificación de resultados elector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Certificación de afili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Acreditación de activ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4 CuadroTexto"/>
          <p:cNvSpPr/>
          <p:nvPr/>
        </p:nvSpPr>
        <p:spPr>
          <a:xfrm>
            <a:off x="426960" y="2708280"/>
            <a:ext cx="8615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RITERIOS DE REPRESENTATIVIDAD DE ORGANIZACIONES SO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Times New Roman"/>
              </a:rPr>
              <a:t>Electoral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Times New Roman"/>
              </a:rPr>
              <a:t>Asociativ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Times New Roman"/>
              </a:rPr>
              <a:t>Organización y Activ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Directa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    Afiliación 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Estruc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Indirecta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Presupue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Activ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Impla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0" y="0"/>
            <a:ext cx="9144000" cy="1099800"/>
          </a:xfrm>
          <a:prstGeom prst="rect">
            <a:avLst/>
          </a:prstGeom>
          <a:solidFill>
            <a:srgbClr val="d2d2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ÓRGANOS DE PARTICIPACIÓN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1 CuadroTexto"/>
          <p:cNvSpPr/>
          <p:nvPr/>
        </p:nvSpPr>
        <p:spPr>
          <a:xfrm>
            <a:off x="426960" y="1125360"/>
            <a:ext cx="86155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3 CuadroTexto"/>
          <p:cNvSpPr/>
          <p:nvPr/>
        </p:nvSpPr>
        <p:spPr>
          <a:xfrm>
            <a:off x="539640" y="1149480"/>
            <a:ext cx="8202600" cy="54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onsejo Nacional del Clim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ONG medioambientales / organizaciones empresariales / sindica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onsejo Asesor del Medio Ambie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ONG medioambientales/organizaciones empresariales/sindica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onsejo Estatal para el Patrimonio Natural y la Biodiversida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ONGs medioambientales / organizaciones empresariales / sindicatos/organizaciones profesionales agrarias / asociaciones de consumidores y usuar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onsejo Agrari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Organizaciones profesionales agrar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omité Consultivo del Sector Pesqu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Corporaciones del sector pesquero / organizaciones empresariales / sindica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onsejo Nacional del Agu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ONGs ecologistas / asociaciones de gestión y defensa del agua / organizaciones empresariales / sindicatos / organizaciones profesionales agrar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onsejo de Cooperación al Desarroll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ONGs / organizaciones empresariales / sindicatos / organizaciones de economía so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0" y="0"/>
            <a:ext cx="9144000" cy="1099800"/>
          </a:xfrm>
          <a:prstGeom prst="rect">
            <a:avLst/>
          </a:prstGeom>
          <a:solidFill>
            <a:srgbClr val="d2d2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ÓRGANOS DE PARTICIPACIÓN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1 CuadroTexto"/>
          <p:cNvSpPr/>
          <p:nvPr/>
        </p:nvSpPr>
        <p:spPr>
          <a:xfrm>
            <a:off x="426960" y="1125360"/>
            <a:ext cx="86155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3 CuadroTexto"/>
          <p:cNvSpPr/>
          <p:nvPr/>
        </p:nvSpPr>
        <p:spPr>
          <a:xfrm>
            <a:off x="485640" y="1197000"/>
            <a:ext cx="8263080" cy="53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onsejo para la Promoción de la Igualdad de Trato y no Discriminación por origen Racial o Étnic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Organizaciones y asociaciones de promoción de la igualdad / organizaciones empresariales / sindicatos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omisión para el Diálogo Civil con la Plataforma del Tercer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onsejo Estatal de ONGs de Acción So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ONGs de acción soci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Foro para la Integración Social de los Inmigrant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Asociaciones de inmigrantes / ONGs / organizaciones empresariales / sindica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onsejo y Observatorio Estatal de Famili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ONGs / asociaciones de familias /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onsejo de Participación de la Muj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Asociaciones de mujeres / organizaciones empresariales / sindica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Observatorio de Violencia sobre la Muj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Asociaciones de mujeres / ONGs / organizaciones empresariales / sindicatos / asociaciones de consumi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8T15:57:41Z</dcterms:created>
  <dc:creator>ces</dc:creator>
  <dc:description/>
  <dc:language>en-US</dc:language>
  <cp:lastModifiedBy>ces</cp:lastModifiedBy>
  <cp:lastPrinted>2014-04-22T07:55:12Z</cp:lastPrinted>
  <dcterms:modified xsi:type="dcterms:W3CDTF">2014-04-22T07:58:45Z</dcterms:modified>
  <cp:revision>23</cp:revision>
  <dc:subject/>
  <dc:title>Presentación de PowerPoint</dc:title>
</cp:coreProperties>
</file>