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3">
  <dgm:title val=""/>
  <dgm:desc val=""/>
  <dgm:catLst>
    <dgm:cat type="accent1" pri="11300"/>
  </dgm:catLst>
  <dgm:styleLbl name="node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shade val="80000"/>
      </a:schemeClr>
      <a:schemeClr val="accent1">
        <a:tint val="7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/>
    <dgm:txEffectClrLst/>
  </dgm:styleLbl>
  <dgm:styleLbl name="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9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8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C743713-E720-4D4B-ADFE-4DE599E488E1}" type="doc">
      <dgm:prSet loTypeId="urn:microsoft.com/office/officeart/2005/8/layout/hierarchy4" loCatId="relationship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es-ES"/>
        </a:p>
      </dgm:t>
    </dgm:pt>
    <dgm:pt modelId="{25FF8EFC-FA5F-4289-9A5A-CFFA7CA27A2E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94BCC713-5650-4D7F-B620-D8A186AFAA88}" type="parTrans" cxnId="{E885801F-4CE4-4F62-9A5F-4F5FA0C451A2}">
      <dgm:prSet/>
      <dgm:spPr/>
      <dgm:t>
        <a:bodyPr/>
        <a:lstStyle/>
        <a:p>
          <a:endParaRPr lang="es-ES"/>
        </a:p>
      </dgm:t>
    </dgm:pt>
    <dgm:pt modelId="{5203C673-18F0-4701-A485-5A04F6479281}" type="sibTrans" cxnId="{E885801F-4CE4-4F62-9A5F-4F5FA0C451A2}">
      <dgm:prSet/>
      <dgm:spPr/>
      <dgm:t>
        <a:bodyPr/>
        <a:lstStyle/>
        <a:p>
          <a:endParaRPr lang="es-ES"/>
        </a:p>
      </dgm:t>
    </dgm:pt>
    <dgm:pt modelId="{F11B7C53-50EB-40C9-8652-C5A2BAAE994B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E831D18B-867B-467C-A24D-88BDB43B000F}" type="parTrans" cxnId="{F11BC62A-6ABB-4787-9BD8-557343CD4B8F}">
      <dgm:prSet/>
      <dgm:spPr/>
      <dgm:t>
        <a:bodyPr/>
        <a:lstStyle/>
        <a:p>
          <a:endParaRPr lang="es-ES"/>
        </a:p>
      </dgm:t>
    </dgm:pt>
    <dgm:pt modelId="{2B12DEE0-3494-48D5-B37C-D4AFF874F208}" type="sibTrans" cxnId="{F11BC62A-6ABB-4787-9BD8-557343CD4B8F}">
      <dgm:prSet/>
      <dgm:spPr/>
      <dgm:t>
        <a:bodyPr/>
        <a:lstStyle/>
        <a:p>
          <a:endParaRPr lang="es-ES"/>
        </a:p>
      </dgm:t>
    </dgm:pt>
    <dgm:pt modelId="{3D5EDF52-F0C1-42FD-A8EB-416BEB22622C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F9A95080-36BB-4223-A8EF-00DFC4A5503D}" type="parTrans" cxnId="{3F7DBD04-467C-48E8-B013-34AA6E281E37}">
      <dgm:prSet/>
      <dgm:spPr/>
      <dgm:t>
        <a:bodyPr/>
        <a:lstStyle/>
        <a:p>
          <a:endParaRPr lang="es-ES"/>
        </a:p>
      </dgm:t>
    </dgm:pt>
    <dgm:pt modelId="{6EBED94D-74FF-4515-8094-C15CB5462870}" type="sibTrans" cxnId="{3F7DBD04-467C-48E8-B013-34AA6E281E37}">
      <dgm:prSet/>
      <dgm:spPr/>
      <dgm:t>
        <a:bodyPr/>
        <a:lstStyle/>
        <a:p>
          <a:endParaRPr lang="es-ES"/>
        </a:p>
      </dgm:t>
    </dgm:pt>
    <dgm:pt modelId="{1A0DAD89-5D0A-461F-9DCF-1D8872C52414}">
      <dgm:prSet phldrT="[Texto]" custT="1"/>
      <dgm:spPr/>
      <dgm:t>
        <a:bodyPr/>
        <a:lstStyle/>
        <a:p>
          <a:r>
            <a:rPr lang="es-ES" sz="1500" b="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dirty="0">
            <a:latin typeface="Arial" pitchFamily="34" charset="0"/>
            <a:cs typeface="Arial" pitchFamily="34" charset="0"/>
          </a:endParaRPr>
        </a:p>
      </dgm:t>
    </dgm:pt>
    <dgm:pt modelId="{0F73FEB1-5491-4F04-8922-6CE3575B83B2}" type="parTrans" cxnId="{88A44B62-C5D3-4C90-A8A5-1520B8E5A281}">
      <dgm:prSet/>
      <dgm:spPr/>
      <dgm:t>
        <a:bodyPr/>
        <a:lstStyle/>
        <a:p>
          <a:endParaRPr lang="es-ES"/>
        </a:p>
      </dgm:t>
    </dgm:pt>
    <dgm:pt modelId="{22DDBCDD-8FF2-4EBA-BDFC-D362DA9E495A}" type="sibTrans" cxnId="{88A44B62-C5D3-4C90-A8A5-1520B8E5A281}">
      <dgm:prSet/>
      <dgm:spPr/>
      <dgm:t>
        <a:bodyPr/>
        <a:lstStyle/>
        <a:p>
          <a:endParaRPr lang="es-ES"/>
        </a:p>
      </dgm:t>
    </dgm:pt>
    <dgm:pt modelId="{FE9C667B-D2BC-4E9C-AE5A-D729B66017FC}">
      <dgm:prSet phldrT="[Texto]" custT="1"/>
      <dgm:spPr/>
      <dgm:t>
        <a:bodyPr/>
        <a:lstStyle/>
        <a:p>
          <a:r>
            <a:rPr lang="es-ES" sz="1800" b="1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dirty="0">
            <a:latin typeface="Arial" pitchFamily="34" charset="0"/>
            <a:cs typeface="Arial" pitchFamily="34" charset="0"/>
          </a:endParaRPr>
        </a:p>
      </dgm:t>
    </dgm:pt>
    <dgm:pt modelId="{1B6792B2-50D5-4B1C-9BDE-CED07233B6EE}" type="sibTrans" cxnId="{CDD9486D-7D9D-4C73-90F4-C590724AFE2A}">
      <dgm:prSet/>
      <dgm:spPr/>
      <dgm:t>
        <a:bodyPr/>
        <a:lstStyle/>
        <a:p>
          <a:endParaRPr lang="es-ES"/>
        </a:p>
      </dgm:t>
    </dgm:pt>
    <dgm:pt modelId="{B0BB3844-C1D8-4146-B739-3A0B6D943D58}" type="parTrans" cxnId="{CDD9486D-7D9D-4C73-90F4-C590724AFE2A}">
      <dgm:prSet/>
      <dgm:spPr/>
      <dgm:t>
        <a:bodyPr/>
        <a:lstStyle/>
        <a:p>
          <a:endParaRPr lang="es-ES"/>
        </a:p>
      </dgm:t>
    </dgm:pt>
    <dgm:pt modelId="{75178C7B-98E8-4815-947B-4452CF2CB527}" type="pres">
      <dgm:prSet presAssocID="{7C743713-E720-4D4B-ADFE-4DE599E488E1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s-ES"/>
        </a:p>
      </dgm:t>
    </dgm:pt>
    <dgm:pt modelId="{FA4FCFAE-0ABF-4785-8C40-DDF4825A1356}" type="pres">
      <dgm:prSet presAssocID="{FE9C667B-D2BC-4E9C-AE5A-D729B66017FC}" presName="vertOne" presStyleCnt="0"/>
      <dgm:spPr/>
      <dgm:t>
        <a:bodyPr/>
        <a:lstStyle/>
        <a:p>
          <a:endParaRPr lang="en-US"/>
        </a:p>
      </dgm:t>
    </dgm:pt>
    <dgm:pt modelId="{C0F04AE3-0393-47DF-A98B-DC72D707997F}" type="pres">
      <dgm:prSet presAssocID="{FE9C667B-D2BC-4E9C-AE5A-D729B66017FC}" presName="txOne" presStyleLbl="node0" presStyleIdx="0" presStyleCnt="1" custScaleY="2036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0F2AFDC9-9F6D-4FC0-9A2A-5767B175A6FD}" type="pres">
      <dgm:prSet presAssocID="{FE9C667B-D2BC-4E9C-AE5A-D729B66017FC}" presName="parTransOne" presStyleCnt="0"/>
      <dgm:spPr/>
      <dgm:t>
        <a:bodyPr/>
        <a:lstStyle/>
        <a:p>
          <a:endParaRPr lang="en-US"/>
        </a:p>
      </dgm:t>
    </dgm:pt>
    <dgm:pt modelId="{285CBB5B-1604-4DB1-B4FB-D1A4450D18B6}" type="pres">
      <dgm:prSet presAssocID="{FE9C667B-D2BC-4E9C-AE5A-D729B66017FC}" presName="horzOne" presStyleCnt="0"/>
      <dgm:spPr/>
      <dgm:t>
        <a:bodyPr/>
        <a:lstStyle/>
        <a:p>
          <a:endParaRPr lang="en-US"/>
        </a:p>
      </dgm:t>
    </dgm:pt>
    <dgm:pt modelId="{CC49DF66-2E9B-4073-9959-182161AB1119}" type="pres">
      <dgm:prSet presAssocID="{25FF8EFC-FA5F-4289-9A5A-CFFA7CA27A2E}" presName="vertTwo" presStyleCnt="0"/>
      <dgm:spPr/>
      <dgm:t>
        <a:bodyPr/>
        <a:lstStyle/>
        <a:p>
          <a:endParaRPr lang="en-US"/>
        </a:p>
      </dgm:t>
    </dgm:pt>
    <dgm:pt modelId="{67428BA2-F486-4888-9072-956B10B4133D}" type="pres">
      <dgm:prSet presAssocID="{25FF8EFC-FA5F-4289-9A5A-CFFA7CA27A2E}" presName="txTwo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DE16B30-505C-45FC-8D12-7450B3BDF07D}" type="pres">
      <dgm:prSet presAssocID="{25FF8EFC-FA5F-4289-9A5A-CFFA7CA27A2E}" presName="horzTwo" presStyleCnt="0"/>
      <dgm:spPr/>
      <dgm:t>
        <a:bodyPr/>
        <a:lstStyle/>
        <a:p>
          <a:endParaRPr lang="en-US"/>
        </a:p>
      </dgm:t>
    </dgm:pt>
    <dgm:pt modelId="{B1A2C96B-BBAC-472F-B986-7BA091445785}" type="pres">
      <dgm:prSet presAssocID="{5203C673-18F0-4701-A485-5A04F6479281}" presName="sibSpaceTwo" presStyleCnt="0"/>
      <dgm:spPr/>
      <dgm:t>
        <a:bodyPr/>
        <a:lstStyle/>
        <a:p>
          <a:endParaRPr lang="en-US"/>
        </a:p>
      </dgm:t>
    </dgm:pt>
    <dgm:pt modelId="{33F9C938-0BA4-4C64-B19A-275EF2CAA905}" type="pres">
      <dgm:prSet presAssocID="{F11B7C53-50EB-40C9-8652-C5A2BAAE994B}" presName="vertTwo" presStyleCnt="0"/>
      <dgm:spPr/>
      <dgm:t>
        <a:bodyPr/>
        <a:lstStyle/>
        <a:p>
          <a:endParaRPr lang="en-US"/>
        </a:p>
      </dgm:t>
    </dgm:pt>
    <dgm:pt modelId="{31347C97-6ACE-4F0D-A9BC-98DD4C0D173A}" type="pres">
      <dgm:prSet presAssocID="{F11B7C53-50EB-40C9-8652-C5A2BAAE994B}" presName="txTwo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D68C73C-C270-4A1F-8B85-13648AFE2CBC}" type="pres">
      <dgm:prSet presAssocID="{F11B7C53-50EB-40C9-8652-C5A2BAAE994B}" presName="horzTwo" presStyleCnt="0"/>
      <dgm:spPr/>
      <dgm:t>
        <a:bodyPr/>
        <a:lstStyle/>
        <a:p>
          <a:endParaRPr lang="en-US"/>
        </a:p>
      </dgm:t>
    </dgm:pt>
    <dgm:pt modelId="{27249D3E-40B1-48CF-B277-0E7917113D42}" type="pres">
      <dgm:prSet presAssocID="{2B12DEE0-3494-48D5-B37C-D4AFF874F208}" presName="sibSpaceTwo" presStyleCnt="0"/>
      <dgm:spPr/>
      <dgm:t>
        <a:bodyPr/>
        <a:lstStyle/>
        <a:p>
          <a:endParaRPr lang="en-US"/>
        </a:p>
      </dgm:t>
    </dgm:pt>
    <dgm:pt modelId="{123FAAEE-8584-4FC8-99B6-869ABEAA93A4}" type="pres">
      <dgm:prSet presAssocID="{3D5EDF52-F0C1-42FD-A8EB-416BEB22622C}" presName="vertTwo" presStyleCnt="0"/>
      <dgm:spPr/>
      <dgm:t>
        <a:bodyPr/>
        <a:lstStyle/>
        <a:p>
          <a:endParaRPr lang="en-US"/>
        </a:p>
      </dgm:t>
    </dgm:pt>
    <dgm:pt modelId="{A08D7CD2-AE35-44ED-A61C-6170056E3BFD}" type="pres">
      <dgm:prSet presAssocID="{3D5EDF52-F0C1-42FD-A8EB-416BEB22622C}" presName="txTwo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836A9FD-A162-4E34-BD8D-79A5132905A4}" type="pres">
      <dgm:prSet presAssocID="{3D5EDF52-F0C1-42FD-A8EB-416BEB22622C}" presName="horzTwo" presStyleCnt="0"/>
      <dgm:spPr/>
      <dgm:t>
        <a:bodyPr/>
        <a:lstStyle/>
        <a:p>
          <a:endParaRPr lang="en-US"/>
        </a:p>
      </dgm:t>
    </dgm:pt>
    <dgm:pt modelId="{8E101B5F-E877-425E-8943-F08E3E32935A}" type="pres">
      <dgm:prSet presAssocID="{6EBED94D-74FF-4515-8094-C15CB5462870}" presName="sibSpaceTwo" presStyleCnt="0"/>
      <dgm:spPr/>
      <dgm:t>
        <a:bodyPr/>
        <a:lstStyle/>
        <a:p>
          <a:endParaRPr lang="en-US"/>
        </a:p>
      </dgm:t>
    </dgm:pt>
    <dgm:pt modelId="{A80A13A2-D720-404F-A96A-3B9B1DFD0EE1}" type="pres">
      <dgm:prSet presAssocID="{1A0DAD89-5D0A-461F-9DCF-1D8872C52414}" presName="vertTwo" presStyleCnt="0"/>
      <dgm:spPr/>
      <dgm:t>
        <a:bodyPr/>
        <a:lstStyle/>
        <a:p>
          <a:endParaRPr lang="en-US"/>
        </a:p>
      </dgm:t>
    </dgm:pt>
    <dgm:pt modelId="{F5D232F3-D94D-4F1F-BE22-7B6BC6CD3E99}" type="pres">
      <dgm:prSet presAssocID="{1A0DAD89-5D0A-461F-9DCF-1D8872C52414}" presName="txTwo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B04E564-E819-4255-8FA0-B2CA26B0A16C}" type="pres">
      <dgm:prSet presAssocID="{1A0DAD89-5D0A-461F-9DCF-1D8872C52414}" presName="horzTwo" presStyleCnt="0"/>
      <dgm:spPr/>
      <dgm:t>
        <a:bodyPr/>
        <a:lstStyle/>
        <a:p>
          <a:endParaRPr lang="en-US"/>
        </a:p>
      </dgm:t>
    </dgm:pt>
  </dgm:ptLst>
  <dgm:cxnLst>
    <dgm:cxn modelId="{B361DFD6-5472-478A-B17B-6994A5B3EDFA}" type="presOf" srcId="{25FF8EFC-FA5F-4289-9A5A-CFFA7CA27A2E}" destId="{67428BA2-F486-4888-9072-956B10B4133D}" srcOrd="0" destOrd="0" presId="urn:microsoft.com/office/officeart/2005/8/layout/hierarchy4"/>
    <dgm:cxn modelId="{F11BC62A-6ABB-4787-9BD8-557343CD4B8F}" srcId="{FE9C667B-D2BC-4E9C-AE5A-D729B66017FC}" destId="{F11B7C53-50EB-40C9-8652-C5A2BAAE994B}" srcOrd="1" destOrd="0" parTransId="{E831D18B-867B-467C-A24D-88BDB43B000F}" sibTransId="{2B12DEE0-3494-48D5-B37C-D4AFF874F208}"/>
    <dgm:cxn modelId="{2AAC3FF7-EA93-4B50-8FFD-F4FCC8FE967B}" type="presOf" srcId="{7C743713-E720-4D4B-ADFE-4DE599E488E1}" destId="{75178C7B-98E8-4815-947B-4452CF2CB527}" srcOrd="0" destOrd="0" presId="urn:microsoft.com/office/officeart/2005/8/layout/hierarchy4"/>
    <dgm:cxn modelId="{CDD9486D-7D9D-4C73-90F4-C590724AFE2A}" srcId="{7C743713-E720-4D4B-ADFE-4DE599E488E1}" destId="{FE9C667B-D2BC-4E9C-AE5A-D729B66017FC}" srcOrd="0" destOrd="0" parTransId="{B0BB3844-C1D8-4146-B739-3A0B6D943D58}" sibTransId="{1B6792B2-50D5-4B1C-9BDE-CED07233B6EE}"/>
    <dgm:cxn modelId="{601ED432-340F-4639-A363-BFA029474077}" type="presOf" srcId="{3D5EDF52-F0C1-42FD-A8EB-416BEB22622C}" destId="{A08D7CD2-AE35-44ED-A61C-6170056E3BFD}" srcOrd="0" destOrd="0" presId="urn:microsoft.com/office/officeart/2005/8/layout/hierarchy4"/>
    <dgm:cxn modelId="{3F7DBD04-467C-48E8-B013-34AA6E281E37}" srcId="{FE9C667B-D2BC-4E9C-AE5A-D729B66017FC}" destId="{3D5EDF52-F0C1-42FD-A8EB-416BEB22622C}" srcOrd="2" destOrd="0" parTransId="{F9A95080-36BB-4223-A8EF-00DFC4A5503D}" sibTransId="{6EBED94D-74FF-4515-8094-C15CB5462870}"/>
    <dgm:cxn modelId="{88A44B62-C5D3-4C90-A8A5-1520B8E5A281}" srcId="{FE9C667B-D2BC-4E9C-AE5A-D729B66017FC}" destId="{1A0DAD89-5D0A-461F-9DCF-1D8872C52414}" srcOrd="3" destOrd="0" parTransId="{0F73FEB1-5491-4F04-8922-6CE3575B83B2}" sibTransId="{22DDBCDD-8FF2-4EBA-BDFC-D362DA9E495A}"/>
    <dgm:cxn modelId="{5C6EB93C-D5CC-4CD9-BD76-987D4ABC1140}" type="presOf" srcId="{1A0DAD89-5D0A-461F-9DCF-1D8872C52414}" destId="{F5D232F3-D94D-4F1F-BE22-7B6BC6CD3E99}" srcOrd="0" destOrd="0" presId="urn:microsoft.com/office/officeart/2005/8/layout/hierarchy4"/>
    <dgm:cxn modelId="{5F33BDAD-84E7-4E0B-B5CD-1B1A2A58C368}" type="presOf" srcId="{F11B7C53-50EB-40C9-8652-C5A2BAAE994B}" destId="{31347C97-6ACE-4F0D-A9BC-98DD4C0D173A}" srcOrd="0" destOrd="0" presId="urn:microsoft.com/office/officeart/2005/8/layout/hierarchy4"/>
    <dgm:cxn modelId="{E885801F-4CE4-4F62-9A5F-4F5FA0C451A2}" srcId="{FE9C667B-D2BC-4E9C-AE5A-D729B66017FC}" destId="{25FF8EFC-FA5F-4289-9A5A-CFFA7CA27A2E}" srcOrd="0" destOrd="0" parTransId="{94BCC713-5650-4D7F-B620-D8A186AFAA88}" sibTransId="{5203C673-18F0-4701-A485-5A04F6479281}"/>
    <dgm:cxn modelId="{3FD5FAF0-6B0D-48B5-9F42-2DA8010F5DC7}" type="presOf" srcId="{FE9C667B-D2BC-4E9C-AE5A-D729B66017FC}" destId="{C0F04AE3-0393-47DF-A98B-DC72D707997F}" srcOrd="0" destOrd="0" presId="urn:microsoft.com/office/officeart/2005/8/layout/hierarchy4"/>
    <dgm:cxn modelId="{FE9F9503-2ED3-4841-A73D-E5F269DE0AF4}" type="presParOf" srcId="{75178C7B-98E8-4815-947B-4452CF2CB527}" destId="{FA4FCFAE-0ABF-4785-8C40-DDF4825A1356}" srcOrd="0" destOrd="0" presId="urn:microsoft.com/office/officeart/2005/8/layout/hierarchy4"/>
    <dgm:cxn modelId="{DF8DB1B5-C191-4014-AA24-F6A151C471E8}" type="presParOf" srcId="{FA4FCFAE-0ABF-4785-8C40-DDF4825A1356}" destId="{C0F04AE3-0393-47DF-A98B-DC72D707997F}" srcOrd="0" destOrd="0" presId="urn:microsoft.com/office/officeart/2005/8/layout/hierarchy4"/>
    <dgm:cxn modelId="{3297031E-E83E-4AB1-8856-98686CF12D39}" type="presParOf" srcId="{FA4FCFAE-0ABF-4785-8C40-DDF4825A1356}" destId="{0F2AFDC9-9F6D-4FC0-9A2A-5767B175A6FD}" srcOrd="1" destOrd="0" presId="urn:microsoft.com/office/officeart/2005/8/layout/hierarchy4"/>
    <dgm:cxn modelId="{25580406-E822-4AAD-A8FF-A37F6DBD891C}" type="presParOf" srcId="{FA4FCFAE-0ABF-4785-8C40-DDF4825A1356}" destId="{285CBB5B-1604-4DB1-B4FB-D1A4450D18B6}" srcOrd="2" destOrd="0" presId="urn:microsoft.com/office/officeart/2005/8/layout/hierarchy4"/>
    <dgm:cxn modelId="{AAF85811-CC3F-4EF0-9CB2-DAD87AAEF80D}" type="presParOf" srcId="{285CBB5B-1604-4DB1-B4FB-D1A4450D18B6}" destId="{CC49DF66-2E9B-4073-9959-182161AB1119}" srcOrd="0" destOrd="0" presId="urn:microsoft.com/office/officeart/2005/8/layout/hierarchy4"/>
    <dgm:cxn modelId="{EDD33AF7-B2FC-4ABD-B954-D7436C27F5DE}" type="presParOf" srcId="{CC49DF66-2E9B-4073-9959-182161AB1119}" destId="{67428BA2-F486-4888-9072-956B10B4133D}" srcOrd="0" destOrd="0" presId="urn:microsoft.com/office/officeart/2005/8/layout/hierarchy4"/>
    <dgm:cxn modelId="{DFC51F03-9412-4808-A91C-39883810D2B5}" type="presParOf" srcId="{CC49DF66-2E9B-4073-9959-182161AB1119}" destId="{BDE16B30-505C-45FC-8D12-7450B3BDF07D}" srcOrd="1" destOrd="0" presId="urn:microsoft.com/office/officeart/2005/8/layout/hierarchy4"/>
    <dgm:cxn modelId="{30593B93-163D-4A6B-8D18-3245B8DD567B}" type="presParOf" srcId="{285CBB5B-1604-4DB1-B4FB-D1A4450D18B6}" destId="{B1A2C96B-BBAC-472F-B986-7BA091445785}" srcOrd="1" destOrd="0" presId="urn:microsoft.com/office/officeart/2005/8/layout/hierarchy4"/>
    <dgm:cxn modelId="{7F9D7E57-E60E-4F0D-9283-E8695EA65F19}" type="presParOf" srcId="{285CBB5B-1604-4DB1-B4FB-D1A4450D18B6}" destId="{33F9C938-0BA4-4C64-B19A-275EF2CAA905}" srcOrd="2" destOrd="0" presId="urn:microsoft.com/office/officeart/2005/8/layout/hierarchy4"/>
    <dgm:cxn modelId="{CEAE3484-2CCB-4208-A02E-0FBFF81CFE1E}" type="presParOf" srcId="{33F9C938-0BA4-4C64-B19A-275EF2CAA905}" destId="{31347C97-6ACE-4F0D-A9BC-98DD4C0D173A}" srcOrd="0" destOrd="0" presId="urn:microsoft.com/office/officeart/2005/8/layout/hierarchy4"/>
    <dgm:cxn modelId="{8AB5F0F6-21A3-4C12-9FCF-E2B509206573}" type="presParOf" srcId="{33F9C938-0BA4-4C64-B19A-275EF2CAA905}" destId="{6D68C73C-C270-4A1F-8B85-13648AFE2CBC}" srcOrd="1" destOrd="0" presId="urn:microsoft.com/office/officeart/2005/8/layout/hierarchy4"/>
    <dgm:cxn modelId="{0DFABCC1-BA8C-4838-A413-257CC7C2DDE9}" type="presParOf" srcId="{285CBB5B-1604-4DB1-B4FB-D1A4450D18B6}" destId="{27249D3E-40B1-48CF-B277-0E7917113D42}" srcOrd="3" destOrd="0" presId="urn:microsoft.com/office/officeart/2005/8/layout/hierarchy4"/>
    <dgm:cxn modelId="{3425B0C8-7AB8-4C38-87E7-78D80A124F76}" type="presParOf" srcId="{285CBB5B-1604-4DB1-B4FB-D1A4450D18B6}" destId="{123FAAEE-8584-4FC8-99B6-869ABEAA93A4}" srcOrd="4" destOrd="0" presId="urn:microsoft.com/office/officeart/2005/8/layout/hierarchy4"/>
    <dgm:cxn modelId="{62C2A3E3-7C72-49B4-9970-589A73FF24CB}" type="presParOf" srcId="{123FAAEE-8584-4FC8-99B6-869ABEAA93A4}" destId="{A08D7CD2-AE35-44ED-A61C-6170056E3BFD}" srcOrd="0" destOrd="0" presId="urn:microsoft.com/office/officeart/2005/8/layout/hierarchy4"/>
    <dgm:cxn modelId="{70891155-0910-4956-A3C3-8BCF626F70BC}" type="presParOf" srcId="{123FAAEE-8584-4FC8-99B6-869ABEAA93A4}" destId="{F836A9FD-A162-4E34-BD8D-79A5132905A4}" srcOrd="1" destOrd="0" presId="urn:microsoft.com/office/officeart/2005/8/layout/hierarchy4"/>
    <dgm:cxn modelId="{3A5EAF3B-350D-4B8E-BFCC-04CD20C8E258}" type="presParOf" srcId="{285CBB5B-1604-4DB1-B4FB-D1A4450D18B6}" destId="{8E101B5F-E877-425E-8943-F08E3E32935A}" srcOrd="5" destOrd="0" presId="urn:microsoft.com/office/officeart/2005/8/layout/hierarchy4"/>
    <dgm:cxn modelId="{C995BB1F-ED81-4806-93F9-A36DE921C886}" type="presParOf" srcId="{285CBB5B-1604-4DB1-B4FB-D1A4450D18B6}" destId="{A80A13A2-D720-404F-A96A-3B9B1DFD0EE1}" srcOrd="6" destOrd="0" presId="urn:microsoft.com/office/officeart/2005/8/layout/hierarchy4"/>
    <dgm:cxn modelId="{FE9BE46E-81A2-4668-883E-AA20E31BF1C7}" type="presParOf" srcId="{A80A13A2-D720-404F-A96A-3B9B1DFD0EE1}" destId="{F5D232F3-D94D-4F1F-BE22-7B6BC6CD3E99}" srcOrd="0" destOrd="0" presId="urn:microsoft.com/office/officeart/2005/8/layout/hierarchy4"/>
    <dgm:cxn modelId="{F6D78F84-37FF-4237-9F64-F2780CCE4F6A}" type="presParOf" srcId="{A80A13A2-D720-404F-A96A-3B9B1DFD0EE1}" destId="{6B04E564-E819-4255-8FA0-B2CA26B0A16C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F6938B1-30C6-480D-8417-821BB6CE89D0}" type="doc">
      <dgm:prSet loTypeId="urn:microsoft.com/office/officeart/2005/8/layout/gear1" loCatId="process" qsTypeId="urn:microsoft.com/office/officeart/2005/8/quickstyle/3d4" qsCatId="3D" csTypeId="urn:microsoft.com/office/officeart/2005/8/colors/accent1_3" csCatId="accent1" phldr="1"/>
      <dgm:spPr/>
      <dgm:t>
        <a:bodyPr/>
        <a:lstStyle/>
        <a:p>
          <a:endParaRPr lang="es-ES"/>
        </a:p>
      </dgm:t>
    </dgm:pt>
    <dgm:pt modelId="{02B4AC10-9B6F-47A0-BE7B-B559B6AECD56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A7C3C9E9-6574-4324-A0AE-F1D5FB79C134}" type="parTrans" cxnId="{417601AA-5EE9-4165-B66B-AFAF29530CF2}">
      <dgm:prSet/>
      <dgm:spPr/>
      <dgm:t>
        <a:bodyPr/>
        <a:lstStyle/>
        <a:p>
          <a:endParaRPr lang="es-ES"/>
        </a:p>
      </dgm:t>
    </dgm:pt>
    <dgm:pt modelId="{5C626B27-DA07-44C4-88DB-71A223553802}" type="sibTrans" cxnId="{417601AA-5EE9-4165-B66B-AFAF29530CF2}">
      <dgm:prSet/>
      <dgm:spPr/>
      <dgm:t>
        <a:bodyPr/>
        <a:lstStyle/>
        <a:p>
          <a:endParaRPr lang="es-ES"/>
        </a:p>
      </dgm:t>
    </dgm:pt>
    <dgm:pt modelId="{3D739F01-2C5B-49AF-B2B7-67F32CBFF6D3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10789951-E57B-4AD5-A2CF-9D689A514BF0}" type="parTrans" cxnId="{B3EC77F0-18E3-4737-9EF1-1E765AA83BDA}">
      <dgm:prSet/>
      <dgm:spPr/>
      <dgm:t>
        <a:bodyPr/>
        <a:lstStyle/>
        <a:p>
          <a:endParaRPr lang="es-ES"/>
        </a:p>
      </dgm:t>
    </dgm:pt>
    <dgm:pt modelId="{95705D18-85CE-4AC5-8269-0A23026AD7CC}" type="sibTrans" cxnId="{B3EC77F0-18E3-4737-9EF1-1E765AA83BDA}">
      <dgm:prSet/>
      <dgm:spPr/>
      <dgm:t>
        <a:bodyPr/>
        <a:lstStyle/>
        <a:p>
          <a:endParaRPr lang="es-ES"/>
        </a:p>
      </dgm:t>
    </dgm:pt>
    <dgm:pt modelId="{A2B29158-8B2C-4FDA-B11D-74CD6481C5D7}">
      <dgm:prSet phldrT="[Texto]" custT="1"/>
      <dgm:spPr/>
      <dgm:t>
        <a:bodyPr/>
        <a:lstStyle/>
        <a:p>
          <a:r>
            <a:rPr lang="es-ES" sz="900" b="1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gm:t>
    </dgm:pt>
    <dgm:pt modelId="{348B949B-CC18-48D7-9104-B50E9F567204}" type="parTrans" cxnId="{7C6B60A7-2A37-4EE9-8D32-7C7E8D7A9F9D}">
      <dgm:prSet/>
      <dgm:spPr/>
      <dgm:t>
        <a:bodyPr/>
        <a:lstStyle/>
        <a:p>
          <a:endParaRPr lang="es-ES"/>
        </a:p>
      </dgm:t>
    </dgm:pt>
    <dgm:pt modelId="{FF8EF66B-FEBB-4CCC-A5AF-CB124F0E1C83}" type="sibTrans" cxnId="{7C6B60A7-2A37-4EE9-8D32-7C7E8D7A9F9D}">
      <dgm:prSet/>
      <dgm:spPr/>
      <dgm:t>
        <a:bodyPr/>
        <a:lstStyle/>
        <a:p>
          <a:endParaRPr lang="es-ES"/>
        </a:p>
      </dgm:t>
    </dgm:pt>
    <dgm:pt modelId="{6045D2DA-8547-4B55-B892-9BB55D9B0A8A}" type="pres">
      <dgm:prSet presAssocID="{5F6938B1-30C6-480D-8417-821BB6CE89D0}" presName="composite" presStyleCnt="0">
        <dgm:presLayoutVars>
          <dgm:chMax val="3"/>
          <dgm:animLvl val="lvl"/>
          <dgm:resizeHandles val="exact"/>
        </dgm:presLayoutVars>
      </dgm:prSet>
      <dgm:spPr/>
      <dgm:t>
        <a:bodyPr/>
        <a:lstStyle/>
        <a:p>
          <a:endParaRPr lang="es-ES"/>
        </a:p>
      </dgm:t>
    </dgm:pt>
    <dgm:pt modelId="{C665188F-CF08-42F3-93B7-20F08FCB2949}" type="pres">
      <dgm:prSet presAssocID="{A2B29158-8B2C-4FDA-B11D-74CD6481C5D7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0D177CC2-CBE1-4BB4-A022-78DED4A9AC6C}" type="pres">
      <dgm:prSet presAssocID="{A2B29158-8B2C-4FDA-B11D-74CD6481C5D7}" presName="gear1srcNode" presStyleLbl="node1" presStyleIdx="0" presStyleCnt="3"/>
      <dgm:spPr/>
      <dgm:t>
        <a:bodyPr/>
        <a:lstStyle/>
        <a:p>
          <a:endParaRPr lang="es-ES"/>
        </a:p>
      </dgm:t>
    </dgm:pt>
    <dgm:pt modelId="{61A57745-9115-4DA4-BBB9-8BB5F813A316}" type="pres">
      <dgm:prSet presAssocID="{A2B29158-8B2C-4FDA-B11D-74CD6481C5D7}" presName="gear1dstNode" presStyleLbl="node1" presStyleIdx="0" presStyleCnt="3"/>
      <dgm:spPr/>
      <dgm:t>
        <a:bodyPr/>
        <a:lstStyle/>
        <a:p>
          <a:endParaRPr lang="es-ES"/>
        </a:p>
      </dgm:t>
    </dgm:pt>
    <dgm:pt modelId="{7EF510CD-C800-4DA0-A752-572593A73DA8}" type="pres">
      <dgm:prSet presAssocID="{02B4AC10-9B6F-47A0-BE7B-B559B6AECD56}" presName="gear2" presStyleLbl="node1" presStyleIdx="1" presStyleCnt="3" custScaleX="105613" custScaleY="106939" custLinFactNeighborX="919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46053A9C-15A7-4B20-873E-834A86880038}" type="pres">
      <dgm:prSet presAssocID="{02B4AC10-9B6F-47A0-BE7B-B559B6AECD56}" presName="gear2srcNode" presStyleLbl="node1" presStyleIdx="1" presStyleCnt="3"/>
      <dgm:spPr/>
      <dgm:t>
        <a:bodyPr/>
        <a:lstStyle/>
        <a:p>
          <a:endParaRPr lang="es-ES"/>
        </a:p>
      </dgm:t>
    </dgm:pt>
    <dgm:pt modelId="{3C326518-2158-4945-8E08-373FDFCF5B26}" type="pres">
      <dgm:prSet presAssocID="{02B4AC10-9B6F-47A0-BE7B-B559B6AECD56}" presName="gear2dstNode" presStyleLbl="node1" presStyleIdx="1" presStyleCnt="3"/>
      <dgm:spPr/>
      <dgm:t>
        <a:bodyPr/>
        <a:lstStyle/>
        <a:p>
          <a:endParaRPr lang="es-ES"/>
        </a:p>
      </dgm:t>
    </dgm:pt>
    <dgm:pt modelId="{10013432-0CCF-4172-BAFC-7DFEC294CCFA}" type="pres">
      <dgm:prSet presAssocID="{3D739F01-2C5B-49AF-B2B7-67F32CBFF6D3}" presName="gear3" presStyleLbl="node1" presStyleIdx="2" presStyleCnt="3"/>
      <dgm:spPr/>
      <dgm:t>
        <a:bodyPr/>
        <a:lstStyle/>
        <a:p>
          <a:endParaRPr lang="es-ES"/>
        </a:p>
      </dgm:t>
    </dgm:pt>
    <dgm:pt modelId="{04CCAADB-932E-4D7D-8ED3-1995F40CD808}" type="pres">
      <dgm:prSet presAssocID="{3D739F01-2C5B-49AF-B2B7-67F32CBFF6D3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es-ES"/>
        </a:p>
      </dgm:t>
    </dgm:pt>
    <dgm:pt modelId="{F9F68FF6-E3ED-4DAD-8BA3-CC8C659AC10E}" type="pres">
      <dgm:prSet presAssocID="{3D739F01-2C5B-49AF-B2B7-67F32CBFF6D3}" presName="gear3srcNode" presStyleLbl="node1" presStyleIdx="2" presStyleCnt="3"/>
      <dgm:spPr/>
      <dgm:t>
        <a:bodyPr/>
        <a:lstStyle/>
        <a:p>
          <a:endParaRPr lang="es-ES"/>
        </a:p>
      </dgm:t>
    </dgm:pt>
    <dgm:pt modelId="{A1A25E7C-AED4-4329-9DF0-797E5FE3E5AC}" type="pres">
      <dgm:prSet presAssocID="{3D739F01-2C5B-49AF-B2B7-67F32CBFF6D3}" presName="gear3dstNode" presStyleLbl="node1" presStyleIdx="2" presStyleCnt="3"/>
      <dgm:spPr/>
      <dgm:t>
        <a:bodyPr/>
        <a:lstStyle/>
        <a:p>
          <a:endParaRPr lang="es-ES"/>
        </a:p>
      </dgm:t>
    </dgm:pt>
    <dgm:pt modelId="{0F812DB3-AADE-445E-805C-AE07D57DC26E}" type="pres">
      <dgm:prSet presAssocID="{FF8EF66B-FEBB-4CCC-A5AF-CB124F0E1C83}" presName="connector1" presStyleLbl="sibTrans2D1" presStyleIdx="0" presStyleCnt="3"/>
      <dgm:spPr/>
      <dgm:t>
        <a:bodyPr/>
        <a:lstStyle/>
        <a:p>
          <a:endParaRPr lang="es-ES"/>
        </a:p>
      </dgm:t>
    </dgm:pt>
    <dgm:pt modelId="{56DC2FB1-5A59-4519-BC46-D5F6014E242D}" type="pres">
      <dgm:prSet presAssocID="{5C626B27-DA07-44C4-88DB-71A223553802}" presName="connector2" presStyleLbl="sibTrans2D1" presStyleIdx="1" presStyleCnt="3" custLinFactNeighborX="-876" custLinFactNeighborY="-5102"/>
      <dgm:spPr/>
      <dgm:t>
        <a:bodyPr/>
        <a:lstStyle/>
        <a:p>
          <a:endParaRPr lang="es-ES"/>
        </a:p>
      </dgm:t>
    </dgm:pt>
    <dgm:pt modelId="{C10CEA02-4A6F-4C7F-9EB9-4B746A8D65AE}" type="pres">
      <dgm:prSet presAssocID="{95705D18-85CE-4AC5-8269-0A23026AD7CC}" presName="connector3" presStyleLbl="sibTrans2D1" presStyleIdx="2" presStyleCnt="3"/>
      <dgm:spPr/>
      <dgm:t>
        <a:bodyPr/>
        <a:lstStyle/>
        <a:p>
          <a:endParaRPr lang="es-ES"/>
        </a:p>
      </dgm:t>
    </dgm:pt>
  </dgm:ptLst>
  <dgm:cxnLst>
    <dgm:cxn modelId="{BBA7B8C7-21DC-46D6-BE64-B7D408D4218E}" type="presOf" srcId="{95705D18-85CE-4AC5-8269-0A23026AD7CC}" destId="{C10CEA02-4A6F-4C7F-9EB9-4B746A8D65AE}" srcOrd="0" destOrd="0" presId="urn:microsoft.com/office/officeart/2005/8/layout/gear1"/>
    <dgm:cxn modelId="{6E6D78A3-58CB-4B41-A76B-0F27DD0944B4}" type="presOf" srcId="{5C626B27-DA07-44C4-88DB-71A223553802}" destId="{56DC2FB1-5A59-4519-BC46-D5F6014E242D}" srcOrd="0" destOrd="0" presId="urn:microsoft.com/office/officeart/2005/8/layout/gear1"/>
    <dgm:cxn modelId="{8182001A-AA2E-4D32-8E2A-8EC77F76CD29}" type="presOf" srcId="{A2B29158-8B2C-4FDA-B11D-74CD6481C5D7}" destId="{C665188F-CF08-42F3-93B7-20F08FCB2949}" srcOrd="0" destOrd="0" presId="urn:microsoft.com/office/officeart/2005/8/layout/gear1"/>
    <dgm:cxn modelId="{D5FDEA21-9459-461F-A51D-A147768288E7}" type="presOf" srcId="{3D739F01-2C5B-49AF-B2B7-67F32CBFF6D3}" destId="{10013432-0CCF-4172-BAFC-7DFEC294CCFA}" srcOrd="0" destOrd="0" presId="urn:microsoft.com/office/officeart/2005/8/layout/gear1"/>
    <dgm:cxn modelId="{8759CB29-5EA0-4F63-8038-51C0C70A79BA}" type="presOf" srcId="{A2B29158-8B2C-4FDA-B11D-74CD6481C5D7}" destId="{61A57745-9115-4DA4-BBB9-8BB5F813A316}" srcOrd="2" destOrd="0" presId="urn:microsoft.com/office/officeart/2005/8/layout/gear1"/>
    <dgm:cxn modelId="{B3EC77F0-18E3-4737-9EF1-1E765AA83BDA}" srcId="{5F6938B1-30C6-480D-8417-821BB6CE89D0}" destId="{3D739F01-2C5B-49AF-B2B7-67F32CBFF6D3}" srcOrd="2" destOrd="0" parTransId="{10789951-E57B-4AD5-A2CF-9D689A514BF0}" sibTransId="{95705D18-85CE-4AC5-8269-0A23026AD7CC}"/>
    <dgm:cxn modelId="{EA79825B-AAB1-4C64-861A-179A724F17F9}" type="presOf" srcId="{FF8EF66B-FEBB-4CCC-A5AF-CB124F0E1C83}" destId="{0F812DB3-AADE-445E-805C-AE07D57DC26E}" srcOrd="0" destOrd="0" presId="urn:microsoft.com/office/officeart/2005/8/layout/gear1"/>
    <dgm:cxn modelId="{AAF83F9B-349C-4A3C-853D-19AAB9D059DF}" type="presOf" srcId="{A2B29158-8B2C-4FDA-B11D-74CD6481C5D7}" destId="{0D177CC2-CBE1-4BB4-A022-78DED4A9AC6C}" srcOrd="1" destOrd="0" presId="urn:microsoft.com/office/officeart/2005/8/layout/gear1"/>
    <dgm:cxn modelId="{FC4837CE-6173-4588-872E-8E0FCDE71D1B}" type="presOf" srcId="{3D739F01-2C5B-49AF-B2B7-67F32CBFF6D3}" destId="{F9F68FF6-E3ED-4DAD-8BA3-CC8C659AC10E}" srcOrd="2" destOrd="0" presId="urn:microsoft.com/office/officeart/2005/8/layout/gear1"/>
    <dgm:cxn modelId="{234E78DC-1C06-4D03-8C03-E23AD06F489A}" type="presOf" srcId="{02B4AC10-9B6F-47A0-BE7B-B559B6AECD56}" destId="{7EF510CD-C800-4DA0-A752-572593A73DA8}" srcOrd="0" destOrd="0" presId="urn:microsoft.com/office/officeart/2005/8/layout/gear1"/>
    <dgm:cxn modelId="{417601AA-5EE9-4165-B66B-AFAF29530CF2}" srcId="{5F6938B1-30C6-480D-8417-821BB6CE89D0}" destId="{02B4AC10-9B6F-47A0-BE7B-B559B6AECD56}" srcOrd="1" destOrd="0" parTransId="{A7C3C9E9-6574-4324-A0AE-F1D5FB79C134}" sibTransId="{5C626B27-DA07-44C4-88DB-71A223553802}"/>
    <dgm:cxn modelId="{8BCC731E-92F9-4B9A-90B0-3B07912FD63E}" type="presOf" srcId="{5F6938B1-30C6-480D-8417-821BB6CE89D0}" destId="{6045D2DA-8547-4B55-B892-9BB55D9B0A8A}" srcOrd="0" destOrd="0" presId="urn:microsoft.com/office/officeart/2005/8/layout/gear1"/>
    <dgm:cxn modelId="{C5FF3125-DDA3-4403-9A7A-901C4A408F96}" type="presOf" srcId="{3D739F01-2C5B-49AF-B2B7-67F32CBFF6D3}" destId="{04CCAADB-932E-4D7D-8ED3-1995F40CD808}" srcOrd="1" destOrd="0" presId="urn:microsoft.com/office/officeart/2005/8/layout/gear1"/>
    <dgm:cxn modelId="{9771CF72-B6B6-47A9-89D9-49B24C7F3CD9}" type="presOf" srcId="{02B4AC10-9B6F-47A0-BE7B-B559B6AECD56}" destId="{46053A9C-15A7-4B20-873E-834A86880038}" srcOrd="1" destOrd="0" presId="urn:microsoft.com/office/officeart/2005/8/layout/gear1"/>
    <dgm:cxn modelId="{7C6B60A7-2A37-4EE9-8D32-7C7E8D7A9F9D}" srcId="{5F6938B1-30C6-480D-8417-821BB6CE89D0}" destId="{A2B29158-8B2C-4FDA-B11D-74CD6481C5D7}" srcOrd="0" destOrd="0" parTransId="{348B949B-CC18-48D7-9104-B50E9F567204}" sibTransId="{FF8EF66B-FEBB-4CCC-A5AF-CB124F0E1C83}"/>
    <dgm:cxn modelId="{50443C30-4EF7-49D4-8F58-E69D0556A941}" type="presOf" srcId="{3D739F01-2C5B-49AF-B2B7-67F32CBFF6D3}" destId="{A1A25E7C-AED4-4329-9DF0-797E5FE3E5AC}" srcOrd="3" destOrd="0" presId="urn:microsoft.com/office/officeart/2005/8/layout/gear1"/>
    <dgm:cxn modelId="{F350F6CE-BB31-4314-8113-EFEAB51B5447}" type="presOf" srcId="{02B4AC10-9B6F-47A0-BE7B-B559B6AECD56}" destId="{3C326518-2158-4945-8E08-373FDFCF5B26}" srcOrd="2" destOrd="0" presId="urn:microsoft.com/office/officeart/2005/8/layout/gear1"/>
    <dgm:cxn modelId="{4C4B172E-3B8D-4D88-8D97-A08506721142}" type="presParOf" srcId="{6045D2DA-8547-4B55-B892-9BB55D9B0A8A}" destId="{C665188F-CF08-42F3-93B7-20F08FCB2949}" srcOrd="0" destOrd="0" presId="urn:microsoft.com/office/officeart/2005/8/layout/gear1"/>
    <dgm:cxn modelId="{63A951EF-326E-4D73-95BF-428D5DC5E447}" type="presParOf" srcId="{6045D2DA-8547-4B55-B892-9BB55D9B0A8A}" destId="{0D177CC2-CBE1-4BB4-A022-78DED4A9AC6C}" srcOrd="1" destOrd="0" presId="urn:microsoft.com/office/officeart/2005/8/layout/gear1"/>
    <dgm:cxn modelId="{55B4C1D1-C3F4-4538-A6A5-653A748C3390}" type="presParOf" srcId="{6045D2DA-8547-4B55-B892-9BB55D9B0A8A}" destId="{61A57745-9115-4DA4-BBB9-8BB5F813A316}" srcOrd="2" destOrd="0" presId="urn:microsoft.com/office/officeart/2005/8/layout/gear1"/>
    <dgm:cxn modelId="{6C31FABB-5F72-49BB-AB98-78E0238E5408}" type="presParOf" srcId="{6045D2DA-8547-4B55-B892-9BB55D9B0A8A}" destId="{7EF510CD-C800-4DA0-A752-572593A73DA8}" srcOrd="3" destOrd="0" presId="urn:microsoft.com/office/officeart/2005/8/layout/gear1"/>
    <dgm:cxn modelId="{327468D1-1DA1-4FD3-87A1-AB99272B88A1}" type="presParOf" srcId="{6045D2DA-8547-4B55-B892-9BB55D9B0A8A}" destId="{46053A9C-15A7-4B20-873E-834A86880038}" srcOrd="4" destOrd="0" presId="urn:microsoft.com/office/officeart/2005/8/layout/gear1"/>
    <dgm:cxn modelId="{A3C17E1C-A57D-4143-81EB-0673D5A9284D}" type="presParOf" srcId="{6045D2DA-8547-4B55-B892-9BB55D9B0A8A}" destId="{3C326518-2158-4945-8E08-373FDFCF5B26}" srcOrd="5" destOrd="0" presId="urn:microsoft.com/office/officeart/2005/8/layout/gear1"/>
    <dgm:cxn modelId="{A7BBEB50-D15A-4AB6-A207-392C99E1D946}" type="presParOf" srcId="{6045D2DA-8547-4B55-B892-9BB55D9B0A8A}" destId="{10013432-0CCF-4172-BAFC-7DFEC294CCFA}" srcOrd="6" destOrd="0" presId="urn:microsoft.com/office/officeart/2005/8/layout/gear1"/>
    <dgm:cxn modelId="{EC390C5B-EAC6-4147-AAE9-FC1C25C8F501}" type="presParOf" srcId="{6045D2DA-8547-4B55-B892-9BB55D9B0A8A}" destId="{04CCAADB-932E-4D7D-8ED3-1995F40CD808}" srcOrd="7" destOrd="0" presId="urn:microsoft.com/office/officeart/2005/8/layout/gear1"/>
    <dgm:cxn modelId="{49C3CB2F-B997-4A9C-B764-4E710045CEAA}" type="presParOf" srcId="{6045D2DA-8547-4B55-B892-9BB55D9B0A8A}" destId="{F9F68FF6-E3ED-4DAD-8BA3-CC8C659AC10E}" srcOrd="8" destOrd="0" presId="urn:microsoft.com/office/officeart/2005/8/layout/gear1"/>
    <dgm:cxn modelId="{463C078C-BB8B-4CD6-B2FD-6E9AE6CB7267}" type="presParOf" srcId="{6045D2DA-8547-4B55-B892-9BB55D9B0A8A}" destId="{A1A25E7C-AED4-4329-9DF0-797E5FE3E5AC}" srcOrd="9" destOrd="0" presId="urn:microsoft.com/office/officeart/2005/8/layout/gear1"/>
    <dgm:cxn modelId="{4BA4C30E-2BB0-4EDE-8382-CC5377298823}" type="presParOf" srcId="{6045D2DA-8547-4B55-B892-9BB55D9B0A8A}" destId="{0F812DB3-AADE-445E-805C-AE07D57DC26E}" srcOrd="10" destOrd="0" presId="urn:microsoft.com/office/officeart/2005/8/layout/gear1"/>
    <dgm:cxn modelId="{7DB18283-13BD-4E62-BFC9-F911665D64F9}" type="presParOf" srcId="{6045D2DA-8547-4B55-B892-9BB55D9B0A8A}" destId="{56DC2FB1-5A59-4519-BC46-D5F6014E242D}" srcOrd="11" destOrd="0" presId="urn:microsoft.com/office/officeart/2005/8/layout/gear1"/>
    <dgm:cxn modelId="{1D9BA6D1-D5BA-4D0D-9CAB-0DB43DC5B06B}" type="presParOf" srcId="{6045D2DA-8547-4B55-B892-9BB55D9B0A8A}" destId="{C10CEA02-4A6F-4C7F-9EB9-4B746A8D65AE}" srcOrd="12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F04AE3-0393-47DF-A98B-DC72D707997F}">
      <dsp:nvSpPr>
        <dsp:cNvPr id="0" name=""/>
        <dsp:cNvSpPr/>
      </dsp:nvSpPr>
      <dsp:spPr>
        <a:xfrm>
          <a:off x="1301" y="1131"/>
          <a:ext cx="8048383" cy="35409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800" b="1" kern="1200" dirty="0" smtClean="0">
              <a:latin typeface="Arial" pitchFamily="34" charset="0"/>
              <a:cs typeface="Arial" pitchFamily="34" charset="0"/>
            </a:rPr>
            <a:t>ESPECÍFICOS</a:t>
          </a:r>
          <a:endParaRPr lang="es-ES" sz="1800" b="1" kern="1200" dirty="0">
            <a:latin typeface="Arial" pitchFamily="34" charset="0"/>
            <a:cs typeface="Arial" pitchFamily="34" charset="0"/>
          </a:endParaRPr>
        </a:p>
      </dsp:txBody>
      <dsp:txXfrm>
        <a:off x="1301" y="1131"/>
        <a:ext cx="8048383" cy="354093"/>
      </dsp:txXfrm>
    </dsp:sp>
    <dsp:sp modelId="{67428BA2-F486-4888-9072-956B10B4133D}">
      <dsp:nvSpPr>
        <dsp:cNvPr id="0" name=""/>
        <dsp:cNvSpPr/>
      </dsp:nvSpPr>
      <dsp:spPr>
        <a:xfrm>
          <a:off x="1301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1.- Creación de capacidades de planificación estratégica y </a:t>
          </a:r>
          <a:r>
            <a:rPr lang="es-ES" sz="1500" b="0" kern="1200" dirty="0" err="1" smtClean="0">
              <a:latin typeface="Arial" pitchFamily="34" charset="0"/>
              <a:cs typeface="Arial" pitchFamily="34" charset="0"/>
            </a:rPr>
            <a:t>presupuestación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1301" y="679276"/>
        <a:ext cx="1892846" cy="1738818"/>
      </dsp:txXfrm>
    </dsp:sp>
    <dsp:sp modelId="{31347C97-6ACE-4F0D-A9BC-98DD4C0D173A}">
      <dsp:nvSpPr>
        <dsp:cNvPr id="0" name=""/>
        <dsp:cNvSpPr/>
      </dsp:nvSpPr>
      <dsp:spPr>
        <a:xfrm>
          <a:off x="2053146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2.- Desarrollo de indicadores de desempeño para el monitoreo de políticas públicas 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2053146" y="679276"/>
        <a:ext cx="1892846" cy="1738818"/>
      </dsp:txXfrm>
    </dsp:sp>
    <dsp:sp modelId="{A08D7CD2-AE35-44ED-A61C-6170056E3BFD}">
      <dsp:nvSpPr>
        <dsp:cNvPr id="0" name=""/>
        <dsp:cNvSpPr/>
      </dsp:nvSpPr>
      <dsp:spPr>
        <a:xfrm>
          <a:off x="4104992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3.- Evaluación del diseño, implementación y desempeño de las políticas públicas (ex ante y ex post)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4104992" y="679276"/>
        <a:ext cx="1892846" cy="1738818"/>
      </dsp:txXfrm>
    </dsp:sp>
    <dsp:sp modelId="{F5D232F3-D94D-4F1F-BE22-7B6BC6CD3E99}">
      <dsp:nvSpPr>
        <dsp:cNvPr id="0" name=""/>
        <dsp:cNvSpPr/>
      </dsp:nvSpPr>
      <dsp:spPr>
        <a:xfrm>
          <a:off x="6156838" y="679276"/>
          <a:ext cx="1892846" cy="173881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15000"/>
                <a:satMod val="180000"/>
              </a:schemeClr>
            </a:gs>
            <a:gs pos="50000">
              <a:schemeClr val="accent1">
                <a:hueOff val="0"/>
                <a:satOff val="0"/>
                <a:lumOff val="0"/>
                <a:alphaOff val="0"/>
                <a:shade val="45000"/>
                <a:satMod val="170000"/>
              </a:schemeClr>
            </a:gs>
            <a:gs pos="70000">
              <a:schemeClr val="accent1">
                <a:hueOff val="0"/>
                <a:satOff val="0"/>
                <a:lumOff val="0"/>
                <a:alphaOff val="0"/>
                <a:tint val="99000"/>
                <a:shade val="65000"/>
                <a:satMod val="155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95500"/>
                <a:shade val="10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35000"/>
            </a:srgbClr>
          </a:outerShdw>
        </a:effectLst>
        <a:scene3d>
          <a:camera prst="orthographicFront"/>
          <a:lightRig rig="flat" dir="t"/>
        </a:scene3d>
        <a:sp3d prstMaterial="plastic">
          <a:bevelT w="120900" h="88900"/>
          <a:bevelB w="88900" h="31750" prst="angle"/>
        </a:sp3d>
      </dsp:spPr>
      <dsp:style>
        <a:lnRef idx="0">
          <a:scrgbClr r="0" g="0" b="0"/>
        </a:lnRef>
        <a:fillRef idx="3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1500" b="0" kern="1200" dirty="0" smtClean="0">
              <a:latin typeface="Arial" pitchFamily="34" charset="0"/>
              <a:cs typeface="Arial" pitchFamily="34" charset="0"/>
            </a:rPr>
            <a:t>4.- Fortalecimiento de los sistemas de información existentes</a:t>
          </a:r>
          <a:endParaRPr lang="es-ES" sz="1500" b="0" kern="1200" dirty="0">
            <a:latin typeface="Arial" pitchFamily="34" charset="0"/>
            <a:cs typeface="Arial" pitchFamily="34" charset="0"/>
          </a:endParaRPr>
        </a:p>
      </dsp:txBody>
      <dsp:txXfrm>
        <a:off x="6156838" y="679276"/>
        <a:ext cx="1892846" cy="173881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665188F-CF08-42F3-93B7-20F08FCB2949}">
      <dsp:nvSpPr>
        <dsp:cNvPr id="0" name=""/>
        <dsp:cNvSpPr/>
      </dsp:nvSpPr>
      <dsp:spPr>
        <a:xfrm>
          <a:off x="2539620" y="1575207"/>
          <a:ext cx="1925254" cy="1925254"/>
        </a:xfrm>
        <a:prstGeom prst="gear9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Diseño de Políticas Públicas y Gestión por Resultados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39620" y="1575207"/>
        <a:ext cx="1925254" cy="1925254"/>
      </dsp:txXfrm>
    </dsp:sp>
    <dsp:sp modelId="{7EF510CD-C800-4DA0-A752-572593A73DA8}">
      <dsp:nvSpPr>
        <dsp:cNvPr id="0" name=""/>
        <dsp:cNvSpPr/>
      </dsp:nvSpPr>
      <dsp:spPr>
        <a:xfrm>
          <a:off x="1393044" y="1071568"/>
          <a:ext cx="1478777" cy="1497343"/>
        </a:xfrm>
        <a:prstGeom prst="gear6">
          <a:avLst/>
        </a:prstGeom>
        <a:solidFill>
          <a:schemeClr val="accent1">
            <a:shade val="80000"/>
            <a:hueOff val="145725"/>
            <a:satOff val="-10503"/>
            <a:lumOff val="1503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Planificación Monitoreo y Evalu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1393044" y="1071568"/>
        <a:ext cx="1478777" cy="1497343"/>
      </dsp:txXfrm>
    </dsp:sp>
    <dsp:sp modelId="{10013432-0CCF-4172-BAFC-7DFEC294CCFA}">
      <dsp:nvSpPr>
        <dsp:cNvPr id="0" name=""/>
        <dsp:cNvSpPr/>
      </dsp:nvSpPr>
      <dsp:spPr>
        <a:xfrm rot="20700000">
          <a:off x="2203719" y="154163"/>
          <a:ext cx="1371895" cy="1371895"/>
        </a:xfrm>
        <a:prstGeom prst="gear6">
          <a:avLst/>
        </a:prstGeom>
        <a:solidFill>
          <a:schemeClr val="accent1">
            <a:shade val="80000"/>
            <a:hueOff val="291451"/>
            <a:satOff val="-21006"/>
            <a:lumOff val="30061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prstMaterial="translucentPowder">
          <a:bevelT w="127000" h="25400" prst="softRound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" tIns="11430" rIns="11430" bIns="1143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s-ES" sz="900" b="1" kern="1200" dirty="0" smtClean="0">
              <a:solidFill>
                <a:schemeClr val="tx1"/>
              </a:solidFill>
              <a:latin typeface="Arial" pitchFamily="34" charset="0"/>
              <a:cs typeface="Arial" pitchFamily="34" charset="0"/>
            </a:rPr>
            <a:t>Sistemas de Información</a:t>
          </a:r>
          <a:endParaRPr lang="es-ES" sz="900" b="1" kern="1200" dirty="0">
            <a:solidFill>
              <a:schemeClr val="tx1"/>
            </a:solidFill>
            <a:latin typeface="Arial" pitchFamily="34" charset="0"/>
            <a:cs typeface="Arial" pitchFamily="34" charset="0"/>
          </a:endParaRPr>
        </a:p>
      </dsp:txBody>
      <dsp:txXfrm>
        <a:off x="2504616" y="455060"/>
        <a:ext cx="770101" cy="770101"/>
      </dsp:txXfrm>
    </dsp:sp>
    <dsp:sp modelId="{0F812DB3-AADE-445E-805C-AE07D57DC26E}">
      <dsp:nvSpPr>
        <dsp:cNvPr id="0" name=""/>
        <dsp:cNvSpPr/>
      </dsp:nvSpPr>
      <dsp:spPr>
        <a:xfrm>
          <a:off x="2384113" y="1288913"/>
          <a:ext cx="2464325" cy="2464325"/>
        </a:xfrm>
        <a:prstGeom prst="circularArrow">
          <a:avLst>
            <a:gd name="adj1" fmla="val 4687"/>
            <a:gd name="adj2" fmla="val 299029"/>
            <a:gd name="adj3" fmla="val 2497103"/>
            <a:gd name="adj4" fmla="val 15902970"/>
            <a:gd name="adj5" fmla="val 5469"/>
          </a:avLst>
        </a:prstGeom>
        <a:solidFill>
          <a:schemeClr val="accent1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6DC2FB1-5A59-4519-BC46-D5F6014E242D}">
      <dsp:nvSpPr>
        <dsp:cNvPr id="0" name=""/>
        <dsp:cNvSpPr/>
      </dsp:nvSpPr>
      <dsp:spPr>
        <a:xfrm>
          <a:off x="1155818" y="721966"/>
          <a:ext cx="1790486" cy="1790486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chemeClr val="accent1">
            <a:shade val="90000"/>
            <a:hueOff val="145706"/>
            <a:satOff val="-10304"/>
            <a:lumOff val="13843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10CEA02-4A6F-4C7F-9EB9-4B746A8D65AE}">
      <dsp:nvSpPr>
        <dsp:cNvPr id="0" name=""/>
        <dsp:cNvSpPr/>
      </dsp:nvSpPr>
      <dsp:spPr>
        <a:xfrm>
          <a:off x="1886385" y="-143355"/>
          <a:ext cx="1930504" cy="1930504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chemeClr val="accent1">
            <a:shade val="90000"/>
            <a:hueOff val="291412"/>
            <a:satOff val="-20608"/>
            <a:lumOff val="27687"/>
            <a:alphaOff val="0"/>
          </a:schemeClr>
        </a:solidFill>
        <a:ln>
          <a:noFill/>
        </a:ln>
        <a:effectLst/>
        <a:scene3d>
          <a:camera prst="orthographicFront"/>
          <a:lightRig rig="chilly" dir="t"/>
        </a:scene3d>
        <a:sp3d z="-70000" extrusionH="1700" prstMaterial="translucentPowder">
          <a:bevelT w="25400" h="6350" prst="softRound"/>
          <a:bevelB w="0" h="0" prst="convex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4">
  <dgm:title val=""/>
  <dgm:desc val=""/>
  <dgm:catLst>
    <dgm:cat type="3D" pri="11400"/>
  </dgm:catLst>
  <dgm:scene3d>
    <a:camera prst="orthographicFront"/>
    <a:lightRig rig="threePt" dir="t"/>
  </dgm:scene3d>
  <dgm:styleLbl name="node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chilly" dir="t"/>
    </dgm:scene3d>
    <dgm:sp3d z="12700" extrusionH="12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ImgPlace1">
    <dgm:scene3d>
      <a:camera prst="orthographicFront"/>
      <a:lightRig rig="chilly" dir="t"/>
    </dgm:scene3d>
    <dgm:sp3d z="-257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chilly" dir="t"/>
    </dgm:scene3d>
    <dgm:sp3d z="-700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chilly" dir="t"/>
    </dgm:scene3d>
    <dgm:sp3d z="-25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chilly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chilly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chilly" dir="t"/>
    </dgm:scene3d>
    <dgm:sp3d prstMaterial="translucentPowder">
      <a:bevelT w="127000" h="25400" prst="softRound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/>
      <a:lightRig rig="chilly" dir="t"/>
    </dgm:scene3d>
    <dgm:sp3d z="1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chilly" dir="t"/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chilly" dir="t"/>
    </dgm:scene3d>
    <dgm:sp3d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chilly" dir="t"/>
    </dgm:scene3d>
    <dgm:sp3d prstMaterial="dkEdge">
      <a:bevelT w="1270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chilly" dir="t"/>
    </dgm:scene3d>
    <dgm:sp3d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chilly" dir="t"/>
    </dgm:scene3d>
    <dgm:sp3d z="-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chilly" dir="t"/>
    </dgm:scene3d>
    <dgm:sp3d z="12700" extrusionH="1700" prstMaterial="dkEdge">
      <a:bevelT w="25400" h="6350" prst="softRound"/>
      <a:bevelB w="0" h="0" prst="convex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chilly" dir="t"/>
    </dgm:scene3d>
    <dgm:sp3d z="-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chilly" dir="t"/>
    </dgm:scene3d>
    <dgm:sp3d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chilly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chilly" dir="t"/>
    </dgm:scene3d>
    <dgm:sp3d z="12700" extrusionH="1700" prstMaterial="translucentPowder">
      <a:bevelT w="25400" h="6350" prst="softRound"/>
      <a:bevelB w="0" h="0" prst="convex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00FE5A-646C-4FFE-A89E-FA4363980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de un comienzo, la estrategia de trabajo de AGEV se orienta a nivelar mínimamente las capacidades de evaluación en el Estado. Por ese motivo, en la actualidad se prioriza el fortalecimiento de las instituciones correspondientes a la administración central, las cuales además de su importancia para el país, presentan una situación de desventaja en relación a las empresas públicas, entes autónomos, intendenci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0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15ECC9-25EF-42C8-89F8-F439E707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9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585CA0-A4F1-4240-AE9E-E089A99D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A54CF3-08BE-4FA5-9B37-D52FD76D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CE6862-B8AA-4089-8D30-2A3FB5964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3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13020D-94CD-464F-B688-7C3BC865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4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32CC98-0B60-4449-8179-A063ED77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C9C37-9329-4F80-B2A8-F058E39DC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6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9F9ED9-DF31-490F-B8EE-FE2DFBC8E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7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2FC23-F9AE-463B-AC0D-E008820D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49640" cy="3712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8"/>
          </p:nvPr>
        </p:nvSpPr>
        <p:spPr>
          <a:xfrm>
            <a:off x="3836880" y="9406080"/>
            <a:ext cx="2933280" cy="495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FC6BE5-8832-48F3-8E73-4AE2DDCD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B30-05B9-4320-9A7F-E3979EC5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B0C-8D04-4622-BD80-2F40564A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71B-8C15-42DF-8051-4FDAC707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3B0-FFC6-4B1A-A05D-B49522A2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33CE-C6DE-4732-8DBC-F20735B0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9E9-F12F-49AF-86DD-F50EE2FC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8FA6-B3D3-49B1-8E33-139E569C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BBBE-FD92-454E-9FD0-0E122855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7F7B-0DE1-4BDE-BB34-65C39F3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48A-7FD7-4056-AE9D-1CF0311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C1E-1403-4EC7-B18F-E07A15B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CD6-ED93-42C8-ADBA-FE2F064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111-A2EC-4A6F-95CF-EA89C56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1B59-9393-4963-A056-6531A31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CDC-7A4D-4774-B37A-B92605DC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F44-CEA0-4D84-9F59-FA076F3C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813-928E-490B-84C6-6D71B27A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750-990A-4A45-ACFE-3407F44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D95-4017-4367-9C55-982C12F4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370-C172-4D56-B628-94DE7BC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040" cy="84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374-133F-43B5-86EE-C1C6986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BBE-0033-4DC3-AC2B-7DE1609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650-535A-4158-8630-454D140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782-6A6E-4498-AFB6-75191CF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70C913-C1E4-4C3B-B462-9E0A00F9C2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F232B3-D3DE-40EC-9353-BB70A9ACDD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CuadroTexto"/>
          <p:cNvSpPr/>
          <p:nvPr/>
        </p:nvSpPr>
        <p:spPr>
          <a:xfrm>
            <a:off x="3571920" y="367704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201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3 Imagen" descr="cabezal.jpg"/>
          <p:cNvPicPr/>
          <p:nvPr/>
        </p:nvPicPr>
        <p:blipFill>
          <a:blip r:embed="rId1"/>
          <a:stretch/>
        </p:blipFill>
        <p:spPr>
          <a:xfrm>
            <a:off x="0" y="0"/>
            <a:ext cx="9143640" cy="1188720"/>
          </a:xfrm>
          <a:prstGeom prst="rect">
            <a:avLst/>
          </a:prstGeom>
          <a:ln w="9525">
            <a:noFill/>
          </a:ln>
        </p:spPr>
      </p:pic>
      <p:pic>
        <p:nvPicPr>
          <p:cNvPr id="104" name="Imagen 2" descr="Logo_vc"/>
          <p:cNvPicPr/>
          <p:nvPr/>
        </p:nvPicPr>
        <p:blipFill>
          <a:blip r:embed="rId2"/>
          <a:stretch/>
        </p:blipFill>
        <p:spPr>
          <a:xfrm>
            <a:off x="3990960" y="4169880"/>
            <a:ext cx="1294920" cy="987120"/>
          </a:xfrm>
          <a:prstGeom prst="rect">
            <a:avLst/>
          </a:prstGeom>
          <a:ln w="9525">
            <a:noFill/>
          </a:ln>
        </p:spPr>
      </p:pic>
      <p:sp>
        <p:nvSpPr>
          <p:cNvPr id="105" name="7 CuadroTexto"/>
          <p:cNvSpPr/>
          <p:nvPr/>
        </p:nvSpPr>
        <p:spPr>
          <a:xfrm>
            <a:off x="3564000" y="335700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ntevi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0" y="148464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fundización de la Demanda del Urugu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Finanzas Públicas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UROsociA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169280"/>
            <a:ext cx="822924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 síntesis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74760" y="3933720"/>
            <a:ext cx="876888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s-E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914400" y="2421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s graduales hacia la GpR desde una visión integ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914400" y="321300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mentariedad de los 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950760" y="4149720"/>
            <a:ext cx="822924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concretos con grandes desafíos pendientes hacia el mejoramiento de la calidad del gasto y su impacto sobre la cohes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468360" y="2916720"/>
            <a:ext cx="81752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3 Imagen" descr="OPP_logo nuevo.JPG"/>
          <p:cNvPicPr/>
          <p:nvPr/>
        </p:nvPicPr>
        <p:blipFill>
          <a:blip r:embed="rId1"/>
          <a:stretch/>
        </p:blipFill>
        <p:spPr>
          <a:xfrm>
            <a:off x="2484360" y="333360"/>
            <a:ext cx="4314240" cy="208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288000" y="1445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La Oficina de Planeamiento y Presupuesto (OPP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ega un rol central de asesoramiento y liderazgo en la Planificación Estraté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216000" y="438876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e vienen impulsando instrumentos de gestión tendientes a la generación de un sistema de planificación, monitoreo y evaluación de políticas públ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51640" y="292500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ensar en la mejora de la calidad del gasto público es pensar en la generación de condiciones favorables hacia una gestión para resultado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Rectángulo redondeado"/>
          <p:cNvSpPr/>
          <p:nvPr/>
        </p:nvSpPr>
        <p:spPr>
          <a:xfrm>
            <a:off x="642960" y="530280"/>
            <a:ext cx="805068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84948912"/>
              </p:ext>
            </p:extLst>
          </p:nvPr>
        </p:nvGraphicFramePr>
        <p:xfrm>
          <a:off x="642960" y="3458160"/>
          <a:ext cx="8050680" cy="241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112" name="4 Grupo"/>
          <p:cNvGrpSpPr/>
          <p:nvPr/>
        </p:nvGrpSpPr>
        <p:grpSpPr>
          <a:xfrm>
            <a:off x="644040" y="1268640"/>
            <a:ext cx="8062920" cy="443880"/>
            <a:chOff x="644040" y="1268640"/>
            <a:chExt cx="8062920" cy="443880"/>
          </a:xfrm>
        </p:grpSpPr>
        <p:sp>
          <p:nvSpPr>
            <p:cNvPr id="113" name="7 Rectángulo redondeado"/>
            <p:cNvSpPr/>
            <p:nvPr/>
          </p:nvSpPr>
          <p:spPr>
            <a:xfrm>
              <a:off x="644040" y="1268640"/>
              <a:ext cx="8062920" cy="443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8 Rectángulo"/>
            <p:cNvSpPr/>
            <p:nvPr/>
          </p:nvSpPr>
          <p:spPr>
            <a:xfrm>
              <a:off x="657360" y="1281600"/>
              <a:ext cx="8036280" cy="4179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29"/>
                </a:spcAft>
              </a:pPr>
              <a:r>
                <a:rPr b="1" lang="es-ES" sz="1800" spc="-1" strike="noStrike">
                  <a:solidFill>
                    <a:schemeClr val="dk1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9 Grupo"/>
          <p:cNvGrpSpPr/>
          <p:nvPr/>
        </p:nvGrpSpPr>
        <p:grpSpPr>
          <a:xfrm>
            <a:off x="685800" y="1917000"/>
            <a:ext cx="8062200" cy="1369080"/>
            <a:chOff x="685800" y="1917000"/>
            <a:chExt cx="8062200" cy="1369080"/>
          </a:xfrm>
        </p:grpSpPr>
        <p:sp>
          <p:nvSpPr>
            <p:cNvPr id="116" name="11 Rectángulo redondeado"/>
            <p:cNvSpPr/>
            <p:nvPr/>
          </p:nvSpPr>
          <p:spPr>
            <a:xfrm>
              <a:off x="685800" y="1917000"/>
              <a:ext cx="8062200" cy="13690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672400"/>
                </a:gs>
                <a:gs pos="100000">
                  <a:srgbClr val="a63a00"/>
                </a:gs>
              </a:gsLst>
              <a:lin ang="16200000"/>
            </a:gradFill>
            <a:ln w="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rig="threePt" dir="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3">
                <a:shade val="8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3">
                <a:shade val="8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2 Rectángulo"/>
            <p:cNvSpPr/>
            <p:nvPr/>
          </p:nvSpPr>
          <p:spPr>
            <a:xfrm>
              <a:off x="727200" y="1956960"/>
              <a:ext cx="7979760" cy="12888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2da2bf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1440"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s-ES_tradnl" sz="2000" spc="-1" strike="noStrike">
                  <a:solidFill>
                    <a:schemeClr val="dk1"/>
                  </a:solidFill>
                  <a:latin typeface="Arial"/>
                </a:rPr>
                <a:t>Contribuir a la mejora en la calidad del gasto público a través del fortalecimiento de la planificación, monitoreo y evaluación de políticas gubernamentales que facilite una gestión para result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354700488"/>
              </p:ext>
            </p:extLst>
          </p:nvPr>
        </p:nvGraphicFramePr>
        <p:xfrm>
          <a:off x="1785960" y="1143000"/>
          <a:ext cx="5428800" cy="35002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19 Datos almacenados"/>
          <p:cNvSpPr/>
          <p:nvPr/>
        </p:nvSpPr>
        <p:spPr>
          <a:xfrm>
            <a:off x="642960" y="1285920"/>
            <a:ext cx="71388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SECTI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MINIST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2 Datos almacenados"/>
          <p:cNvSpPr/>
          <p:nvPr/>
        </p:nvSpPr>
        <p:spPr>
          <a:xfrm rot="10800000">
            <a:off x="7858440" y="1285920"/>
            <a:ext cx="642600" cy="450036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chemeClr val="lt1"/>
                </a:solidFill>
                <a:latin typeface="Arial"/>
              </a:rPr>
              <a:t>NIVEL TRANSVERSAL Y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O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13 Grupo"/>
          <p:cNvGrpSpPr/>
          <p:nvPr/>
        </p:nvGrpSpPr>
        <p:grpSpPr>
          <a:xfrm>
            <a:off x="3000240" y="4071960"/>
            <a:ext cx="2142720" cy="1999800"/>
            <a:chOff x="3000240" y="4071960"/>
            <a:chExt cx="2142720" cy="1999800"/>
          </a:xfrm>
        </p:grpSpPr>
        <p:sp>
          <p:nvSpPr>
            <p:cNvPr id="122" name=" 3"/>
            <p:cNvSpPr/>
            <p:nvPr/>
          </p:nvSpPr>
          <p:spPr>
            <a:xfrm>
              <a:off x="3000240" y="4071960"/>
              <a:ext cx="2142720" cy="1999800"/>
            </a:xfrm>
            <a:prstGeom prst="gear9">
              <a:avLst>
                <a:gd name="adj1" fmla="val 10000"/>
                <a:gd name="adj2" fmla="val 1763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  <a:scene3d>
              <a:camera prst="orthographicFront"/>
              <a:lightRig rig="threePt" dir="t"/>
            </a:scene3d>
            <a:sp3d prstMaterial="translucentPowder">
              <a:bevelT prst="softRound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3">
                <a:hueOff val="0"/>
                <a:satOff val="0"/>
                <a:lumOff val="0"/>
                <a:alphaOff val="0"/>
              </a:schemeClr>
            </a:fillRef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 4"/>
            <p:cNvSpPr/>
            <p:nvPr/>
          </p:nvSpPr>
          <p:spPr>
            <a:xfrm>
              <a:off x="3504960" y="4540320"/>
              <a:ext cx="128088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315"/>
                </a:spcAf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Valor de Bienes y Servicios ofrecidos a la Ciudadan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9 Datos almacenados"/>
          <p:cNvSpPr/>
          <p:nvPr/>
        </p:nvSpPr>
        <p:spPr>
          <a:xfrm rot="5400000">
            <a:off x="4286520" y="4143240"/>
            <a:ext cx="356760" cy="4071600"/>
          </a:xfrm>
          <a:prstGeom prst="flowChartOnlineStorag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1600" spc="-1" strike="noStrike">
                <a:solidFill>
                  <a:schemeClr val="lt1"/>
                </a:solidFill>
                <a:latin typeface="Arial"/>
              </a:rPr>
              <a:t>CIUDADAN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lanificación Estratégica y Presupues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95640" y="1445760"/>
            <a:ext cx="856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s innovaciones metodológicas realizadas a nivel presupuestal: vinculación de los resultados obtenidos con los recursos aplicad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CuadroTexto"/>
          <p:cNvSpPr/>
          <p:nvPr/>
        </p:nvSpPr>
        <p:spPr>
          <a:xfrm>
            <a:off x="395640" y="4182120"/>
            <a:ext cx="824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reación de condiciones favorables para un presupuesto po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9 CuadroTexto"/>
          <p:cNvSpPr/>
          <p:nvPr/>
        </p:nvSpPr>
        <p:spPr>
          <a:xfrm>
            <a:off x="395640" y="3030120"/>
            <a:ext cx="8105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poyo para la relación virtuosa entre planificación y presupues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CuadroTexto"/>
          <p:cNvSpPr/>
          <p:nvPr/>
        </p:nvSpPr>
        <p:spPr>
          <a:xfrm>
            <a:off x="395640" y="1268640"/>
            <a:ext cx="8424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tinuar la identificación de la cadena de generación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1259640" y="2031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Pro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CuadroTexto"/>
          <p:cNvSpPr/>
          <p:nvPr/>
        </p:nvSpPr>
        <p:spPr>
          <a:xfrm>
            <a:off x="1259640" y="253512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Produ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 CuadroTexto"/>
          <p:cNvSpPr/>
          <p:nvPr/>
        </p:nvSpPr>
        <p:spPr>
          <a:xfrm>
            <a:off x="1259640" y="311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Re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432000" y="3678120"/>
            <a:ext cx="83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zar en la selección y validación de indicadores que permitan realizar un monitoreo del desempeño 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1259640" y="462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Efic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125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Calid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4 CuadroTexto"/>
          <p:cNvSpPr/>
          <p:nvPr/>
        </p:nvSpPr>
        <p:spPr>
          <a:xfrm>
            <a:off x="1259640" y="5703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Efici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CuadroTexto"/>
          <p:cNvSpPr/>
          <p:nvPr/>
        </p:nvSpPr>
        <p:spPr>
          <a:xfrm>
            <a:off x="755640" y="1733760"/>
            <a:ext cx="7601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instrumentos de micro simulación del impacto de políticas públ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CuadroTexto"/>
          <p:cNvSpPr/>
          <p:nvPr/>
        </p:nvSpPr>
        <p:spPr>
          <a:xfrm>
            <a:off x="792000" y="3399480"/>
            <a:ext cx="853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ofundización de la evaluación de la Equidad Fi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desafíos a los modelos Tax-Benefi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 CuadroTexto"/>
          <p:cNvSpPr/>
          <p:nvPr/>
        </p:nvSpPr>
        <p:spPr>
          <a:xfrm>
            <a:off x="792000" y="4335480"/>
            <a:ext cx="81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mpacto conjunto de impuestos y gasto públic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 Evaluación de políticas públicas (Ex 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CuadroTexto"/>
          <p:cNvSpPr/>
          <p:nvPr/>
        </p:nvSpPr>
        <p:spPr>
          <a:xfrm>
            <a:off x="971640" y="1628640"/>
            <a:ext cx="792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r las evaluaciones de diseño, implementación y desempeño (DID) de intervenciones pú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899640" y="2853000"/>
            <a:ext cx="7786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ar las evaluaciones de impacto de políticas y/o programas públicos articuladas c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899640" y="393300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)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899640" y="4551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) Evaluacione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899640" y="5127480"/>
            <a:ext cx="69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(iii) Acuerdos de Mejo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Rectángulo redondeado"/>
          <p:cNvSpPr/>
          <p:nvPr/>
        </p:nvSpPr>
        <p:spPr>
          <a:xfrm>
            <a:off x="642960" y="530280"/>
            <a:ext cx="7857720" cy="54108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  <a:lumOff val="50000"/>
            </a:schemeClr>
          </a:solidFill>
          <a:ln>
            <a:solidFill>
              <a:srgbClr val="000000"/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4 CuadroTexto"/>
          <p:cNvSpPr/>
          <p:nvPr/>
        </p:nvSpPr>
        <p:spPr>
          <a:xfrm>
            <a:off x="241200" y="1628640"/>
            <a:ext cx="8218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decuación de los sistemas de información sectoriales para el (i) monitoreo y (ii) evaluación de políticas púb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9 CuadroTexto"/>
          <p:cNvSpPr/>
          <p:nvPr/>
        </p:nvSpPr>
        <p:spPr>
          <a:xfrm>
            <a:off x="251640" y="3390120"/>
            <a:ext cx="874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solidación de sistemas de información que sean medios de verificación válidos y confiables para el monitoreo de indicadores de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4920</TotalTime>
  <Application>LibreOffice/7.4.7.2$Linux_X86_64 LibreOffice_project/40$Build-2</Application>
  <AppVersion>15.0000</AppVersion>
  <Words>573</Words>
  <Paragraphs>74</Paragraphs>
  <Company>Minerías de Chapultepe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0:35:59Z</dcterms:created>
  <dc:creator>Jose E. Maraboto</dc:creator>
  <dc:description/>
  <dc:language>en-US</dc:language>
  <cp:lastModifiedBy>MOMO</cp:lastModifiedBy>
  <dcterms:modified xsi:type="dcterms:W3CDTF">2011-11-01T04:23:27Z</dcterms:modified>
  <cp:revision>562</cp:revision>
  <dc:subject/>
  <dc:title>Información y evaluación estratég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1</vt:r8>
  </property>
</Properties>
</file>