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AD5-FABC-472F-B657-157647CE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379-57A4-4561-A5C0-6B523F1C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C52-C163-491D-88D5-CBA82431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3E4-D333-4E51-9B68-AA2394EA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7B4-A3AD-4E14-8EEF-5CF8F236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5D9-8BD8-49F6-9C34-82EF7EE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84A-2405-4657-B442-F05F268B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2F4-69F5-49BA-AE98-E86BF3B0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723-EC7B-4056-ACD2-2E54164E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254-C2AF-4CA8-8CFF-62CF247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A31-6D23-4A18-B347-AAE84102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90A-D2C7-4C33-B2C4-4F20484B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7ADA-1666-4473-A43D-40B7CD9503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L PAPEL CONSEJOS ECONÓMICOS 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Y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SOCIALES EN LA PROMOCIÓN DEL DIÁLOGO PARA LA COHES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337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A EXPERIENCIA DEL CES ESPAÑOL Y DEL CESE EUROP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27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Pero existe un enfoque más centrado en la lucha contra las desigualdades y a favor de una sociedad más equilibrada, que interesa mucho tanto en América Latina como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42920" y="2276280"/>
            <a:ext cx="73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Según este punto de vista, la CS tiene que ver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El empleo (y el desempl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s presta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calidad de vida de la pob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sanid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2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¿Qué función cumplen los CES en materia de cohesión soc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Dada su composición y sus funciones, la cohesión social constituye un aspecto central de su ac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Una de las aportaciones se refiere a una crucial cuestión: ¿cómo se mide la 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Indicado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Desigualdad en la 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Tasa de pobreza </a:t>
            </a:r>
            <a:r>
              <a:rPr b="1" lang="es-ES" sz="2400" spc="-1" strike="noStrike" u="sng">
                <a:solidFill>
                  <a:srgbClr val="33cc33"/>
                </a:solidFill>
                <a:uFillTx/>
                <a:latin typeface="Arial"/>
              </a:rPr>
              <a:t>antes</a:t>
            </a: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 de las transferenci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Tasa de pobreza </a:t>
            </a:r>
            <a:r>
              <a:rPr b="1" lang="es-ES" sz="2400" spc="-1" strike="noStrike" u="sng">
                <a:solidFill>
                  <a:srgbClr val="33cc33"/>
                </a:solidFill>
                <a:uFillTx/>
                <a:latin typeface="Arial"/>
              </a:rPr>
              <a:t>después</a:t>
            </a: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 de las transferenci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Abandono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Desempleo de larga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490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jemplos de aportaciones de los CES en esta ma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42560" y="1916280"/>
            <a:ext cx="74898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 vivienda y la cohes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precio de la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Facilidades para el alquiler de vivie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Políticas de viviendas 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“pobreza energética (PE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488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Dictamen del CE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concepto de pobreza energ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s consecuencias de la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s políticas para combatir la 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63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Cohesión y Nuevas Tecnologías de la Información y de la Comunicación (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42920" y="2421000"/>
            <a:ext cx="712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 implantación de la banda 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Alfabetización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-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Los aspectos socio-económicos en las relaciones UE-América La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58920" y="2708280"/>
            <a:ext cx="7058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 posición del CESE europ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561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Cuestiones a considerar por los 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6920" y="2133360"/>
            <a:ext cx="7417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urbanismo como factor de cohesión (o segregación) social: la extensión de los countries y barrios cer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os servicios púb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Algunas 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42920" y="1628280"/>
            <a:ext cx="7274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aportación de los CES debe ser parte de un esfuerzo conjunto de la sociedad a favor de la cohe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política fiscal tiene una importancia crucial: la situación en América Latina y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defensa del Estado del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El Consenso de Washington y la cohe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Los consejos económicos y sociales, una creación europea con larga his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5640" y="2852640"/>
            <a:ext cx="7056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ntecedente más remoto: Francia (19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in embargo, su auge se produjo después de la II Guerr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ualmente hay CES en numerosos Estados miembros de la UE: Bélgica, Países Bajos, Italia, Franci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66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¿Cuál es su comet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5640" y="1196640"/>
            <a:ext cx="788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os CES son órganos de participación de 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sociedad civi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en materias que afectan al empleo, las condiciones sociales y la calidad de vida de los ciudad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n la  experiencias europea tienen dos características básicas, en cuanto son instit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on funciones exclusivamente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consultivas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(a petición del gobierno o por iniciativa prop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e carácter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técnic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, no político (habitualmente, los gobiernos no partici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or lo tanto, los CES no son órg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ara la concert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ara adoptar decisiones de carácter normativo (esa función le corresponde al Parlamento)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2741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99"/>
                </a:solidFill>
                <a:latin typeface="Arial"/>
              </a:rPr>
              <a:t>EL COMITÉ ECONÓMICO Y SOCIAL EUROP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58920" y="1844280"/>
            <a:ext cx="6842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Creado en el Tratado de Roma (1957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su papel fue ampliado en sucesivos tratados posteriores, sobre todo el de Lisboa (2007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el CESE tiene competencias en todas las cuestiones sociales y económicas: agricultura, industria, comercio, artesanado, empleo, ordenación del territorio, transportes, tecnologías, cohesión social, economía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99"/>
                </a:solidFill>
                <a:latin typeface="Arial"/>
              </a:rPr>
              <a:t>Compo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6360" y="2133360"/>
            <a:ext cx="6624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Están representados tre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I  Empresarios europeos (Bussiness Eur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II Trabajadores (Confederación Europea de Sindica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III Cooperativas, consumidores, agricultores, colegios profesionales, artesan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8692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99"/>
                </a:solidFill>
                <a:latin typeface="Arial"/>
              </a:rPr>
              <a:t>Compos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1042920" y="1268280"/>
          <a:ext cx="713124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68280"/>
                    <a:ext cx="713124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274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EL CONSEJO ECONÓMICO Y SOCIAL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86920" y="1557000"/>
            <a:ext cx="741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Constitución Española (1978) Creado mediante ley de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mitir dictamen (preceptivo)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nteproyectos y proyectos de normas “que regulen materias socioeconómicas y labor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Proyectos de especial trasc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mitir dictamen en los casos que facultativamente se le some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laborar estu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Composición del CES españ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1988640"/>
            <a:ext cx="7201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Total de 61 miembros compuesto por tres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1º.-Organizaciones sindicales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2º.- Organizaciones empresariales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3º.- Sector agrario (3), sector pesquero (3), consumidores (4), economía social (4), expertos independientes (6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63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¿Qué podemos entender por cohesión social (C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6920" y="2205000"/>
            <a:ext cx="7201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Según el Consejo de Europa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la capacidad que tiene una sociedad para asegurar el bienestar de todos sus miembros, minimizar sus disparidades y evitar su polariza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Pero existe una cierta diferencia en el énfasis de las p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En el marco de la Unión Europea, la política de CS tiene que ver fundamentalmente con la </a:t>
            </a:r>
            <a:r>
              <a:rPr b="1" lang="es-ES" sz="2000" spc="-1" strike="noStrike" u="sng">
                <a:solidFill>
                  <a:srgbClr val="33cc33"/>
                </a:solidFill>
                <a:uFillTx/>
                <a:latin typeface="Arial"/>
              </a:rPr>
              <a:t>desigualdad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Los Fondos Estructur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El Fondo de Coh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8:47:44Z</dcterms:created>
  <dc:creator>ucm</dc:creator>
  <dc:description/>
  <dc:language>en-US</dc:language>
  <cp:lastModifiedBy>Maria Eugenia Cebrian</cp:lastModifiedBy>
  <dcterms:modified xsi:type="dcterms:W3CDTF">2011-11-16T11:47:33Z</dcterms:modified>
  <cp:revision>51</cp:revision>
  <dc:subject/>
  <dc:title>CONSEJOS ECONÓMICOS  Y SOCIALES DE LA UE</dc:title>
</cp:coreProperties>
</file>