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2B67-611E-412E-BEF4-BC98E6C0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D53-89A9-468F-8A24-0F6D87B9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8CF-18A3-4A19-8EFC-3EA76306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848C-1FA1-41D5-98FE-C3F38D45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07D-7F60-47F8-B2F4-048D474A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C51-AE3C-4886-A1D3-F648AABA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61C-7908-4451-A568-326BCAE1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2E30-AF2C-4025-8A0E-567FF3F8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8DA-A94E-4896-A45B-8018C118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CAA-1F14-4478-BFC5-C561431A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1F0-85E5-4615-B916-2AEB3367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2903-C5F5-4840-9550-1983666D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845A-C73F-4993-91D9-345F17ED9D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63128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EL PAPEL CONSEJOS ECONÓMICOS 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Y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SOCIALES EN LA PROMOCIÓN DEL DIÁLOGO PARA LA COHES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933720"/>
            <a:ext cx="6337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LA EXPERIENCIA DEL CES ESPAÑOL Y DEL CESE EUROP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63272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Pero existe un enfoque más centrado en la lucha contra las desigualdades y a favor de una sociedad más equilibrada, que interesa mucho tanto en América Latina como en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42920" y="2276280"/>
            <a:ext cx="73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Según este punto de vista, la CS tiene que ver c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El empleo (y el desemple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s prestacion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vivi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calidad de vida de la pob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sanida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2010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¿Qué función cumplen los CES en materia de cohesión soc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484280"/>
            <a:ext cx="80661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Dada su composición y sus funciones, la cohesión social constituye un aspecto central de su activ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Una de las aportaciones se refiere a una crucial cuestión: ¿cómo se mide la C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Indicador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Desigualdad en la distribución del 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Tasa de pobreza </a:t>
            </a:r>
            <a:r>
              <a:rPr b="1" lang="es-ES" sz="2400" spc="-1" strike="noStrike" u="sng">
                <a:solidFill>
                  <a:srgbClr val="33cc33"/>
                </a:solidFill>
                <a:uFillTx/>
                <a:latin typeface="Arial"/>
              </a:rPr>
              <a:t>antes</a:t>
            </a: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 de las transferenci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Tasa de pobreza </a:t>
            </a:r>
            <a:r>
              <a:rPr b="1" lang="es-ES" sz="2400" spc="-1" strike="noStrike" u="sng">
                <a:solidFill>
                  <a:srgbClr val="33cc33"/>
                </a:solidFill>
                <a:uFillTx/>
                <a:latin typeface="Arial"/>
              </a:rPr>
              <a:t>después</a:t>
            </a: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 de las transferenci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Abandono es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Desempleo de larga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490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Ejemplos de aportaciones de los CES en esta ma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42560" y="1916280"/>
            <a:ext cx="74898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La vivienda y la cohes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El precio de la viv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Facilidades para el alquiler de vivien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Políticas de viviendas púb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7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“pobreza energética (PE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99640" y="1773360"/>
            <a:ext cx="7488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Dictamen del CE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El concepto de pobreza energé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Las consecuencias de la 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Las políticas para combatir la 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632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Cohesión y Nuevas Tecnologías de la Información y de la Comunicación (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42920" y="2421000"/>
            <a:ext cx="7129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La implantación de la banda an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Alfabetización infor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e-gobi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632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cc33"/>
                </a:solidFill>
                <a:latin typeface="Arial"/>
              </a:rPr>
              <a:t>Los aspectos socio-económicos en las relaciones UE-América Lat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58920" y="2708280"/>
            <a:ext cx="7058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La posición del CESE europ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561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cc33"/>
                </a:solidFill>
                <a:latin typeface="Arial"/>
              </a:rPr>
              <a:t>Cuestiones a considerar por los 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86920" y="2133360"/>
            <a:ext cx="74170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El urbanismo como factor de cohesión (o segregación) social: la extensión de los countries y barrios cer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cc33"/>
                </a:solidFill>
                <a:latin typeface="Arial"/>
              </a:rPr>
              <a:t>Los servicios púb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836640"/>
            <a:ext cx="7417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cc33"/>
                </a:solidFill>
                <a:latin typeface="Arial"/>
              </a:rPr>
              <a:t>Algunas conclu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42920" y="1628280"/>
            <a:ext cx="7274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aportación de los CES debe ser parte de un esfuerzo conjunto de la sociedad a favor de la cohes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política fiscal tiene una importancia crucial: la situación en América Latina y en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La defensa del Estado del Bien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El Consenso de Washington y la cohes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056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Los consejos económicos y sociales, una creación europea con larga hist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15640" y="2852640"/>
            <a:ext cx="7056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ntecedente más remoto: Francia (19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Sin embargo, su auge se produjo después de la II Guerra Mun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ctualmente hay CES en numerosos Estados miembros de la UE: Bélgica, Países Bajos, Italia, Franci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6624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¿Cuál es su comet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15640" y="1196640"/>
            <a:ext cx="788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Los CES son órganos de participación de la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sociedad civil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en materias que afectan al empleo, las condiciones sociales y la calidad de vida de los ciudad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En la  experiencias europea tienen dos características básicas, en cuanto son institu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on funciones exclusivamente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consultivas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(a petición del gobierno o por iniciativa prop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De carácter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técnico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, no político (habitualmente, los gobiernos no particip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or lo tanto, los CES no son órgan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ara la concert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ara adoptar decisiones de carácter normativo (esa función le corresponde al Parlamento)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2741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99"/>
                </a:solidFill>
                <a:latin typeface="Arial"/>
              </a:rPr>
              <a:t>EL COMITÉ ECONÓMICO Y SOCIAL EUROP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58920" y="1844280"/>
            <a:ext cx="6842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Creado en el Tratado de Roma (1957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su papel fue ampliado en sucesivos tratados posteriores, sobre todo el de Lisboa (2007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s-ES" sz="2800" spc="-1" strike="noStrike">
                <a:solidFill>
                  <a:srgbClr val="009999"/>
                </a:solidFill>
                <a:latin typeface="Arial"/>
              </a:rPr>
              <a:t>el CESE tiene competencias en todas las cuestiones sociales y económicas: agricultura, industria, comercio, artesanado, empleo, ordenación del territorio, transportes, tecnologías, cohesión social, economía,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5640" y="54936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99"/>
                </a:solidFill>
                <a:latin typeface="Arial"/>
              </a:rPr>
              <a:t>Compos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76360" y="2133360"/>
            <a:ext cx="6624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Están representados tres gru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I  Empresarios europeos (Bussiness Eur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II Trabajadores (Confederación Europea de Sindica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III Cooperativas, consumidores, agricultores, colegios profesionales, artesan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86924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99"/>
                </a:solidFill>
                <a:latin typeface="Arial"/>
              </a:rPr>
              <a:t>Composi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3"/>
          <p:cNvGraphicFramePr/>
          <p:nvPr/>
        </p:nvGraphicFramePr>
        <p:xfrm>
          <a:off x="1042920" y="1268280"/>
          <a:ext cx="7131240" cy="49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268280"/>
                    <a:ext cx="7131240" cy="49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274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EL CONSEJO ECONÓMICO Y SOCIAL DE ESPA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86920" y="1557000"/>
            <a:ext cx="7417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Constitución Española (1978) Creado mediante ley de 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Emitir dictamen (preceptivo)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Anteproyectos y proyectos de normas “que regulen materias socioeconómicas y labora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Proyectos de especial trasc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Emitir dictamen en los casos que facultativamente se le some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Elaborar estu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561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Composición del CES españ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1988640"/>
            <a:ext cx="7201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Total de 61 miembros compuesto por tres gru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1º.-Organizaciones sindicales: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2º.- Organizaciones empresariales: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3º.- Sector agrario (3), sector pesquero (3), consumidores (4), economía social (4), expertos independientes (6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632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cc33"/>
                </a:solidFill>
                <a:latin typeface="Arial"/>
              </a:rPr>
              <a:t>¿Qué podemos entender por cohesión social (CS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6920" y="2205000"/>
            <a:ext cx="7201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Según el Consejo de Europa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la capacidad que tiene una sociedad para asegurar el bienestar de todos sus miembros, minimizar sus disparidades y evitar su polarizac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Pero existe una cierta diferencia en el énfasis de las polí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En el marco de la Unión Europea, la política de CS tiene que ver fundamentalmente con la </a:t>
            </a:r>
            <a:r>
              <a:rPr b="1" lang="es-ES" sz="2000" spc="-1" strike="noStrike" u="sng">
                <a:solidFill>
                  <a:srgbClr val="33cc33"/>
                </a:solidFill>
                <a:uFillTx/>
                <a:latin typeface="Arial"/>
              </a:rPr>
              <a:t>desigualdad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Los Fondos Estructur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Arial"/>
              </a:rPr>
              <a:t>El Fondo de Coh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8:47:44Z</dcterms:created>
  <dc:creator>ucm</dc:creator>
  <dc:description/>
  <dc:language>en-US</dc:language>
  <cp:lastModifiedBy>Maria Eugenia Cebrian</cp:lastModifiedBy>
  <dcterms:modified xsi:type="dcterms:W3CDTF">2011-11-16T11:47:33Z</dcterms:modified>
  <cp:revision>51</cp:revision>
  <dc:subject/>
  <dc:title>CONSEJOS ECONÓMICOS  Y SOCIALES DE LA UE</dc:title>
</cp:coreProperties>
</file>