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28F8-8451-404F-B318-AD6D745F7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E155-89FE-4EA7-8D83-E39A9DDD7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3CD4-FAFA-4D55-8C1C-C23D0963B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7E3D4-796F-433A-8D0D-2A4C5D618EF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6EF5-5656-45A6-984F-B1CB2972A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B581-5834-4E3C-B6F8-B5DD38875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1370-F15F-48D5-B2B4-F5BBE595C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ifícil de administrar, por sus posturas ideologicas, pocos acuerdos pero importantes acuerdos, falta actitud de consenso, se privilegia intereses del sector a las demanas nacionales, asimetrias en la calidad del debate y participación,..concentrado en la secretaria tecnica escaso interes de los organos del estados, comisiones sin continuidad y proyec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AED8-3E65-4734-B79C-280276CCD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90A7-6140-4040-AB85-B80062A39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FC2-3836-4755-88D4-8C892534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CB8-4C66-4C59-9B4F-CA1BC685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92F-B7DE-418E-B27A-A171F0E9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73E-AB7B-490A-9070-BC869DA3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817-5430-44FE-A99C-D22BAE95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BD21-2A89-4CF7-89DB-97C9C254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6B7-0222-430B-9ADB-950651FD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D1D5-082A-42E4-8EB2-37BF74AA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EA3-FD94-4C6E-8FF3-AF213F09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C77-623B-4FBD-952C-D7802F89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991A-D5CA-46F4-9085-7E137835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994-F105-4A40-9977-ADFBEE5F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6C25-3786-462B-86C0-9CF604A6D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0044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Decreto Legislativo No. 286-2009, la Ley para el Establecimiento de una Visión de País y la Adopción de un Plan de Nación para Hondu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Esta</a:t>
            </a: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Ley institucionaliza el proceso de planificación del desarrollo económico, social y político del país, establecido en el Artículo 329 de la Constitución de la Re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paldados en los esfuerzos como: el Plan Maestro de Reconstrucción y Transformación Nacional (PMRTN), la Estrategia para la Reducción de la Pobreza (ERP), y Gran Dialogo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3 Rectángulo"/>
          <p:cNvSpPr/>
          <p:nvPr/>
        </p:nvSpPr>
        <p:spPr>
          <a:xfrm>
            <a:off x="762120" y="676440"/>
            <a:ext cx="71848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6600" spc="-1" strike="noStrike">
                <a:solidFill>
                  <a:srgbClr val="000000"/>
                </a:solidFill>
                <a:latin typeface="Arial"/>
                <a:ea typeface="Century Gothic"/>
              </a:rPr>
              <a:t>ANTECEDEN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4 Elipse"/>
          <p:cNvSpPr/>
          <p:nvPr/>
        </p:nvSpPr>
        <p:spPr>
          <a:xfrm>
            <a:off x="-4762440" y="1555920"/>
            <a:ext cx="3002040" cy="2641320"/>
          </a:xfrm>
          <a:prstGeom prst="ellipse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5 Forma libre"/>
          <p:cNvGrpSpPr/>
          <p:nvPr/>
        </p:nvGrpSpPr>
        <p:grpSpPr>
          <a:xfrm>
            <a:off x="3206880" y="3670200"/>
            <a:ext cx="2712960" cy="2486160"/>
            <a:chOff x="3206880" y="3670200"/>
            <a:chExt cx="2712960" cy="2486160"/>
          </a:xfrm>
        </p:grpSpPr>
        <p:pic>
          <p:nvPicPr>
            <p:cNvPr id="52" name="5 Forma libre" descr=""/>
            <p:cNvPicPr/>
            <p:nvPr/>
          </p:nvPicPr>
          <p:blipFill>
            <a:blip r:embed="rId1"/>
            <a:stretch/>
          </p:blipFill>
          <p:spPr>
            <a:xfrm>
              <a:off x="3206880" y="3670200"/>
              <a:ext cx="2712960" cy="24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260880" y="3697200"/>
              <a:ext cx="2604960" cy="23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1760" rIns="401760" tIns="369000" bIns="36900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es-HN" sz="3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Visión de País- Plan de Nación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6 Flecha izquierda"/>
          <p:cNvGrpSpPr/>
          <p:nvPr/>
        </p:nvGrpSpPr>
        <p:grpSpPr>
          <a:xfrm>
            <a:off x="901800" y="4516560"/>
            <a:ext cx="2286000" cy="787320"/>
            <a:chOff x="901800" y="4516560"/>
            <a:chExt cx="2286000" cy="787320"/>
          </a:xfrm>
        </p:grpSpPr>
        <p:pic>
          <p:nvPicPr>
            <p:cNvPr id="55" name="6 Flecha izquierda" descr=""/>
            <p:cNvPicPr/>
            <p:nvPr/>
          </p:nvPicPr>
          <p:blipFill>
            <a:blip r:embed="rId2"/>
            <a:stretch/>
          </p:blipFill>
          <p:spPr>
            <a:xfrm>
              <a:off x="901800" y="4516560"/>
              <a:ext cx="228600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10800000">
              <a:off x="954000" y="4684320"/>
              <a:ext cx="1976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7 Forma libre"/>
          <p:cNvGrpSpPr/>
          <p:nvPr/>
        </p:nvGrpSpPr>
        <p:grpSpPr>
          <a:xfrm>
            <a:off x="66600" y="4187880"/>
            <a:ext cx="1828800" cy="1444680"/>
            <a:chOff x="66600" y="4187880"/>
            <a:chExt cx="1828800" cy="1444680"/>
          </a:xfrm>
        </p:grpSpPr>
        <p:pic>
          <p:nvPicPr>
            <p:cNvPr id="58" name="7 Forma libre" descr=""/>
            <p:cNvPicPr/>
            <p:nvPr/>
          </p:nvPicPr>
          <p:blipFill>
            <a:blip r:embed="rId3"/>
            <a:stretch/>
          </p:blipFill>
          <p:spPr>
            <a:xfrm>
              <a:off x="66600" y="4187880"/>
              <a:ext cx="182880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22400" y="4221000"/>
              <a:ext cx="166500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440" rIns="73440" tIns="73440" bIns="734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Objetivos de Desarrollo del Mileni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8 Flecha izquierda"/>
          <p:cNvGrpSpPr/>
          <p:nvPr/>
        </p:nvGrpSpPr>
        <p:grpSpPr>
          <a:xfrm>
            <a:off x="1427040" y="2475000"/>
            <a:ext cx="2224080" cy="1884240"/>
            <a:chOff x="1427040" y="2475000"/>
            <a:chExt cx="2224080" cy="1884240"/>
          </a:xfrm>
        </p:grpSpPr>
        <p:pic>
          <p:nvPicPr>
            <p:cNvPr id="61" name="8 Flecha izquierda" descr=""/>
            <p:cNvPicPr/>
            <p:nvPr/>
          </p:nvPicPr>
          <p:blipFill>
            <a:blip r:embed="rId4"/>
            <a:stretch/>
          </p:blipFill>
          <p:spPr>
            <a:xfrm>
              <a:off x="1427040" y="2475000"/>
              <a:ext cx="2224080" cy="18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rot="12960000">
              <a:off x="1450440" y="3155760"/>
              <a:ext cx="2016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9 Forma libre"/>
          <p:cNvGrpSpPr/>
          <p:nvPr/>
        </p:nvGrpSpPr>
        <p:grpSpPr>
          <a:xfrm>
            <a:off x="695160" y="2066760"/>
            <a:ext cx="1951200" cy="1444680"/>
            <a:chOff x="695160" y="2066760"/>
            <a:chExt cx="1951200" cy="1444680"/>
          </a:xfrm>
        </p:grpSpPr>
        <p:pic>
          <p:nvPicPr>
            <p:cNvPr id="64" name="9 Forma libre" descr=""/>
            <p:cNvPicPr/>
            <p:nvPr/>
          </p:nvPicPr>
          <p:blipFill>
            <a:blip r:embed="rId5"/>
            <a:stretch/>
          </p:blipFill>
          <p:spPr>
            <a:xfrm>
              <a:off x="695160" y="2066760"/>
              <a:ext cx="195120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811080" y="2100240"/>
              <a:ext cx="166536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440" rIns="73440" tIns="73440" bIns="734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strategia para la Reducción de la Pobre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10 Flecha izquierda"/>
          <p:cNvGrpSpPr/>
          <p:nvPr/>
        </p:nvGrpSpPr>
        <p:grpSpPr>
          <a:xfrm>
            <a:off x="3108240" y="1335240"/>
            <a:ext cx="1378080" cy="2408040"/>
            <a:chOff x="3108240" y="1335240"/>
            <a:chExt cx="1378080" cy="2408040"/>
          </a:xfrm>
        </p:grpSpPr>
        <p:pic>
          <p:nvPicPr>
            <p:cNvPr id="67" name="10 Flecha izquierda" descr=""/>
            <p:cNvPicPr/>
            <p:nvPr/>
          </p:nvPicPr>
          <p:blipFill>
            <a:blip r:embed="rId6"/>
            <a:stretch/>
          </p:blipFill>
          <p:spPr>
            <a:xfrm>
              <a:off x="3108240" y="1335240"/>
              <a:ext cx="1378080" cy="24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 rot="15120000">
              <a:off x="2731680" y="2237760"/>
              <a:ext cx="2073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11 Forma libre"/>
          <p:cNvGrpSpPr/>
          <p:nvPr/>
        </p:nvGrpSpPr>
        <p:grpSpPr>
          <a:xfrm>
            <a:off x="2517840" y="706320"/>
            <a:ext cx="1888920" cy="1586160"/>
            <a:chOff x="2517840" y="706320"/>
            <a:chExt cx="1888920" cy="1586160"/>
          </a:xfrm>
        </p:grpSpPr>
        <p:pic>
          <p:nvPicPr>
            <p:cNvPr id="70" name="11 Forma libre" descr=""/>
            <p:cNvPicPr/>
            <p:nvPr/>
          </p:nvPicPr>
          <p:blipFill>
            <a:blip r:embed="rId7"/>
            <a:stretch/>
          </p:blipFill>
          <p:spPr>
            <a:xfrm>
              <a:off x="2517840" y="706320"/>
              <a:ext cx="188892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614680" y="789120"/>
              <a:ext cx="166680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440" rIns="73440" tIns="73440" bIns="734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lan Maestro Reconstrucción Transformación N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12 Flecha izquierda"/>
          <p:cNvGrpSpPr/>
          <p:nvPr/>
        </p:nvGrpSpPr>
        <p:grpSpPr>
          <a:xfrm>
            <a:off x="4638600" y="1335240"/>
            <a:ext cx="1378080" cy="2408040"/>
            <a:chOff x="4638600" y="1335240"/>
            <a:chExt cx="1378080" cy="2408040"/>
          </a:xfrm>
        </p:grpSpPr>
        <p:pic>
          <p:nvPicPr>
            <p:cNvPr id="73" name="12 Flecha izquierda" descr=""/>
            <p:cNvPicPr/>
            <p:nvPr/>
          </p:nvPicPr>
          <p:blipFill>
            <a:blip r:embed="rId8"/>
            <a:stretch/>
          </p:blipFill>
          <p:spPr>
            <a:xfrm>
              <a:off x="4638600" y="1335240"/>
              <a:ext cx="1378080" cy="24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rot="17280000">
              <a:off x="4321080" y="2238120"/>
              <a:ext cx="2073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13 Forma libre"/>
          <p:cNvGrpSpPr/>
          <p:nvPr/>
        </p:nvGrpSpPr>
        <p:grpSpPr>
          <a:xfrm>
            <a:off x="4784760" y="755640"/>
            <a:ext cx="1835280" cy="1444680"/>
            <a:chOff x="4784760" y="755640"/>
            <a:chExt cx="1835280" cy="1444680"/>
          </a:xfrm>
        </p:grpSpPr>
        <p:pic>
          <p:nvPicPr>
            <p:cNvPr id="76" name="13 Forma libre" descr=""/>
            <p:cNvPicPr/>
            <p:nvPr/>
          </p:nvPicPr>
          <p:blipFill>
            <a:blip r:embed="rId9"/>
            <a:stretch/>
          </p:blipFill>
          <p:spPr>
            <a:xfrm>
              <a:off x="4784760" y="755640"/>
              <a:ext cx="18352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844880" y="789120"/>
              <a:ext cx="166716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440" rIns="73440" tIns="73440" bIns="734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ialogo Plan de Paí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14 Flecha izquierda"/>
          <p:cNvGrpSpPr/>
          <p:nvPr/>
        </p:nvGrpSpPr>
        <p:grpSpPr>
          <a:xfrm>
            <a:off x="5473800" y="2475000"/>
            <a:ext cx="2225520" cy="1884240"/>
            <a:chOff x="5473800" y="2475000"/>
            <a:chExt cx="2225520" cy="1884240"/>
          </a:xfrm>
        </p:grpSpPr>
        <p:pic>
          <p:nvPicPr>
            <p:cNvPr id="79" name="14 Flecha izquierda" descr=""/>
            <p:cNvPicPr/>
            <p:nvPr/>
          </p:nvPicPr>
          <p:blipFill>
            <a:blip r:embed="rId10"/>
            <a:stretch/>
          </p:blipFill>
          <p:spPr>
            <a:xfrm>
              <a:off x="5473800" y="2475000"/>
              <a:ext cx="2225520" cy="18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 rot="19440000">
              <a:off x="5659200" y="3156120"/>
              <a:ext cx="201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15 Forma libre"/>
          <p:cNvGrpSpPr/>
          <p:nvPr/>
        </p:nvGrpSpPr>
        <p:grpSpPr>
          <a:xfrm>
            <a:off x="6711840" y="2066760"/>
            <a:ext cx="1773360" cy="1444680"/>
            <a:chOff x="6711840" y="2066760"/>
            <a:chExt cx="1773360" cy="1444680"/>
          </a:xfrm>
        </p:grpSpPr>
        <p:pic>
          <p:nvPicPr>
            <p:cNvPr id="82" name="15 Forma libre" descr=""/>
            <p:cNvPicPr/>
            <p:nvPr/>
          </p:nvPicPr>
          <p:blipFill>
            <a:blip r:embed="rId11"/>
            <a:stretch/>
          </p:blipFill>
          <p:spPr>
            <a:xfrm>
              <a:off x="6711840" y="2066760"/>
              <a:ext cx="177336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765840" y="2097000"/>
              <a:ext cx="166536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440" rIns="73440" tIns="73440" bIns="734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Planes Sectori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17 Flecha izquierda"/>
          <p:cNvGrpSpPr/>
          <p:nvPr/>
        </p:nvGrpSpPr>
        <p:grpSpPr>
          <a:xfrm>
            <a:off x="5937120" y="4516560"/>
            <a:ext cx="2292480" cy="787320"/>
            <a:chOff x="5937120" y="4516560"/>
            <a:chExt cx="2292480" cy="787320"/>
          </a:xfrm>
        </p:grpSpPr>
        <p:pic>
          <p:nvPicPr>
            <p:cNvPr id="85" name="17 Flecha izquierda" descr=""/>
            <p:cNvPicPr/>
            <p:nvPr/>
          </p:nvPicPr>
          <p:blipFill>
            <a:blip r:embed="rId12"/>
            <a:stretch/>
          </p:blipFill>
          <p:spPr>
            <a:xfrm>
              <a:off x="5937120" y="4516560"/>
              <a:ext cx="2292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195960" y="4684680"/>
              <a:ext cx="1976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18 Forma libre"/>
          <p:cNvGrpSpPr/>
          <p:nvPr/>
        </p:nvGrpSpPr>
        <p:grpSpPr>
          <a:xfrm>
            <a:off x="7254720" y="4187880"/>
            <a:ext cx="1889280" cy="1444680"/>
            <a:chOff x="7254720" y="4187880"/>
            <a:chExt cx="1889280" cy="1444680"/>
          </a:xfrm>
        </p:grpSpPr>
        <p:pic>
          <p:nvPicPr>
            <p:cNvPr id="88" name="18 Forma libre" descr=""/>
            <p:cNvPicPr/>
            <p:nvPr/>
          </p:nvPicPr>
          <p:blipFill>
            <a:blip r:embed="rId13"/>
            <a:stretch/>
          </p:blipFill>
          <p:spPr>
            <a:xfrm>
              <a:off x="7254720" y="4187880"/>
              <a:ext cx="18892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338960" y="4221000"/>
              <a:ext cx="166536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440" rIns="73440" tIns="73440" bIns="734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Gran Dialogo Nacion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-165240" y="-96840"/>
            <a:ext cx="9595080" cy="1438200"/>
          </a:xfrm>
          <a:prstGeom prst="rect">
            <a:avLst/>
          </a:prstGeom>
          <a:ln w="0">
            <a:noFill/>
          </a:ln>
        </p:spPr>
      </p:pic>
      <p:sp>
        <p:nvSpPr>
          <p:cNvPr id="91" name="68 Rectángulo"/>
          <p:cNvSpPr/>
          <p:nvPr/>
        </p:nvSpPr>
        <p:spPr>
          <a:xfrm>
            <a:off x="0" y="1143000"/>
            <a:ext cx="9144000" cy="1000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69 Rectángulo"/>
          <p:cNvSpPr/>
          <p:nvPr/>
        </p:nvSpPr>
        <p:spPr>
          <a:xfrm>
            <a:off x="0" y="2143080"/>
            <a:ext cx="9144000" cy="1000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71 Rectángulo"/>
          <p:cNvSpPr/>
          <p:nvPr/>
        </p:nvSpPr>
        <p:spPr>
          <a:xfrm>
            <a:off x="0" y="3214800"/>
            <a:ext cx="914400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72 Rectángulo"/>
          <p:cNvSpPr/>
          <p:nvPr/>
        </p:nvSpPr>
        <p:spPr>
          <a:xfrm>
            <a:off x="0" y="4429080"/>
            <a:ext cx="9144000" cy="1000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73 Rectángulo"/>
          <p:cNvSpPr/>
          <p:nvPr/>
        </p:nvSpPr>
        <p:spPr>
          <a:xfrm>
            <a:off x="0" y="5500800"/>
            <a:ext cx="9144000" cy="12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74 Rectángulo"/>
          <p:cNvSpPr/>
          <p:nvPr/>
        </p:nvSpPr>
        <p:spPr>
          <a:xfrm>
            <a:off x="0" y="1000080"/>
            <a:ext cx="914400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75 Rectángulo redondeado"/>
          <p:cNvGrpSpPr/>
          <p:nvPr/>
        </p:nvGrpSpPr>
        <p:grpSpPr>
          <a:xfrm>
            <a:off x="-55440" y="1109520"/>
            <a:ext cx="2682720" cy="968400"/>
            <a:chOff x="-55440" y="1109520"/>
            <a:chExt cx="2682720" cy="968400"/>
          </a:xfrm>
        </p:grpSpPr>
        <p:pic>
          <p:nvPicPr>
            <p:cNvPr id="98" name="75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-55440" y="1109520"/>
              <a:ext cx="26827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1400" y="1184400"/>
              <a:ext cx="24890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76 Rectángulo redondeado"/>
          <p:cNvGrpSpPr/>
          <p:nvPr/>
        </p:nvGrpSpPr>
        <p:grpSpPr>
          <a:xfrm>
            <a:off x="5943600" y="1109520"/>
            <a:ext cx="3139920" cy="968400"/>
            <a:chOff x="5943600" y="1109520"/>
            <a:chExt cx="3139920" cy="968400"/>
          </a:xfrm>
        </p:grpSpPr>
        <p:pic>
          <p:nvPicPr>
            <p:cNvPr id="101" name="76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943600" y="1109520"/>
              <a:ext cx="31399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041880" y="1184400"/>
              <a:ext cx="29466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77 Rectángulo redondeado"/>
          <p:cNvGrpSpPr/>
          <p:nvPr/>
        </p:nvGrpSpPr>
        <p:grpSpPr>
          <a:xfrm>
            <a:off x="2590920" y="1109520"/>
            <a:ext cx="3322440" cy="968400"/>
            <a:chOff x="2590920" y="1109520"/>
            <a:chExt cx="3322440" cy="968400"/>
          </a:xfrm>
        </p:grpSpPr>
        <p:pic>
          <p:nvPicPr>
            <p:cNvPr id="104" name="77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2590920" y="1109520"/>
              <a:ext cx="33224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684520" y="1184400"/>
              <a:ext cx="31320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13 CuadroTexto"/>
          <p:cNvSpPr/>
          <p:nvPr/>
        </p:nvSpPr>
        <p:spPr>
          <a:xfrm>
            <a:off x="0" y="13572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NIVEL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6 CuadroTexto"/>
          <p:cNvSpPr/>
          <p:nvPr/>
        </p:nvSpPr>
        <p:spPr>
          <a:xfrm>
            <a:off x="2643120" y="114300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ORGANIZACIÓN PARA LOS CONSEJOS DE DESARROLLO REG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7 CuadroTexto"/>
          <p:cNvSpPr/>
          <p:nvPr/>
        </p:nvSpPr>
        <p:spPr>
          <a:xfrm>
            <a:off x="6000840" y="1143000"/>
            <a:ext cx="31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INSTRUMENTOS TECNICOS DE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CONSEJOS REG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82 Rectángulo redondeado"/>
          <p:cNvGrpSpPr/>
          <p:nvPr/>
        </p:nvGrpSpPr>
        <p:grpSpPr>
          <a:xfrm>
            <a:off x="36360" y="2255760"/>
            <a:ext cx="2444760" cy="828720"/>
            <a:chOff x="36360" y="2255760"/>
            <a:chExt cx="2444760" cy="828720"/>
          </a:xfrm>
        </p:grpSpPr>
        <p:pic>
          <p:nvPicPr>
            <p:cNvPr id="110" name="82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36360" y="2255760"/>
              <a:ext cx="24447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23840" y="2320920"/>
              <a:ext cx="22701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83 Rectángulo redondeado"/>
          <p:cNvGrpSpPr/>
          <p:nvPr/>
        </p:nvGrpSpPr>
        <p:grpSpPr>
          <a:xfrm>
            <a:off x="2646360" y="2255760"/>
            <a:ext cx="1541520" cy="822240"/>
            <a:chOff x="2646360" y="2255760"/>
            <a:chExt cx="1541520" cy="822240"/>
          </a:xfrm>
        </p:grpSpPr>
        <p:pic>
          <p:nvPicPr>
            <p:cNvPr id="113" name="83 Rectángulo redondeado" descr=""/>
            <p:cNvPicPr/>
            <p:nvPr/>
          </p:nvPicPr>
          <p:blipFill>
            <a:blip r:embed="rId6"/>
            <a:stretch/>
          </p:blipFill>
          <p:spPr>
            <a:xfrm>
              <a:off x="2646360" y="2255760"/>
              <a:ext cx="154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738520" y="2320920"/>
              <a:ext cx="13586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84 Rectángulo redondeado"/>
          <p:cNvGrpSpPr/>
          <p:nvPr/>
        </p:nvGrpSpPr>
        <p:grpSpPr>
          <a:xfrm>
            <a:off x="4248000" y="2200320"/>
            <a:ext cx="1683000" cy="976320"/>
            <a:chOff x="4248000" y="2200320"/>
            <a:chExt cx="1683000" cy="976320"/>
          </a:xfrm>
        </p:grpSpPr>
        <p:pic>
          <p:nvPicPr>
            <p:cNvPr id="116" name="84 Rectángulo redondeado" descr=""/>
            <p:cNvPicPr/>
            <p:nvPr/>
          </p:nvPicPr>
          <p:blipFill>
            <a:blip r:embed="rId7"/>
            <a:stretch/>
          </p:blipFill>
          <p:spPr>
            <a:xfrm>
              <a:off x="4248000" y="2200320"/>
              <a:ext cx="168300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340160" y="2320920"/>
              <a:ext cx="15019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200" spc="-1" strike="noStrike">
                  <a:solidFill>
                    <a:srgbClr val="ffffff"/>
                  </a:solidFill>
                  <a:latin typeface="Arial"/>
                </a:rPr>
                <a:t>CONSEJO NACIONAL DE COMPETITIVIDAD E INNOVAC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85 Rectángulo redondeado"/>
          <p:cNvGrpSpPr/>
          <p:nvPr/>
        </p:nvGrpSpPr>
        <p:grpSpPr>
          <a:xfrm>
            <a:off x="6095880" y="2255760"/>
            <a:ext cx="2987640" cy="884160"/>
            <a:chOff x="6095880" y="2255760"/>
            <a:chExt cx="2987640" cy="884160"/>
          </a:xfrm>
        </p:grpSpPr>
        <p:pic>
          <p:nvPicPr>
            <p:cNvPr id="119" name="85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6095880" y="2255760"/>
              <a:ext cx="29876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184800" y="2320920"/>
              <a:ext cx="28098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VISION DE PAIS 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PLAN DE NAC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22 CuadroTexto"/>
          <p:cNvSpPr/>
          <p:nvPr/>
        </p:nvSpPr>
        <p:spPr>
          <a:xfrm>
            <a:off x="214200" y="242892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3 CuadroTexto"/>
          <p:cNvSpPr/>
          <p:nvPr/>
        </p:nvSpPr>
        <p:spPr>
          <a:xfrm>
            <a:off x="2654280" y="2263680"/>
            <a:ext cx="142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ffffff"/>
                </a:solidFill>
                <a:latin typeface="Calibri"/>
              </a:rPr>
              <a:t>CONSEJO NACIONAL DE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88 Rectángulo redondeado"/>
          <p:cNvGrpSpPr/>
          <p:nvPr/>
        </p:nvGrpSpPr>
        <p:grpSpPr>
          <a:xfrm>
            <a:off x="212760" y="3468600"/>
            <a:ext cx="2128680" cy="828720"/>
            <a:chOff x="212760" y="3468600"/>
            <a:chExt cx="2128680" cy="828720"/>
          </a:xfrm>
        </p:grpSpPr>
        <p:pic>
          <p:nvPicPr>
            <p:cNvPr id="124" name="88 Rectángulo redondeado" descr=""/>
            <p:cNvPicPr/>
            <p:nvPr/>
          </p:nvPicPr>
          <p:blipFill>
            <a:blip r:embed="rId9"/>
            <a:stretch/>
          </p:blipFill>
          <p:spPr>
            <a:xfrm>
              <a:off x="212760" y="3468600"/>
              <a:ext cx="21286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04920" y="3535200"/>
              <a:ext cx="19461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REG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90 Rectángulo redondeado"/>
          <p:cNvGrpSpPr/>
          <p:nvPr/>
        </p:nvGrpSpPr>
        <p:grpSpPr>
          <a:xfrm>
            <a:off x="6229440" y="3402000"/>
            <a:ext cx="2743200" cy="828720"/>
            <a:chOff x="6229440" y="3402000"/>
            <a:chExt cx="2743200" cy="828720"/>
          </a:xfrm>
        </p:grpSpPr>
        <p:pic>
          <p:nvPicPr>
            <p:cNvPr id="127" name="90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6229440" y="3402000"/>
              <a:ext cx="27432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321600" y="3463920"/>
              <a:ext cx="25621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600" spc="-1" strike="noStrike">
                  <a:solidFill>
                    <a:srgbClr val="ffffff"/>
                  </a:solidFill>
                  <a:latin typeface="Arial"/>
                </a:rPr>
                <a:t>PLANES REGIONALES DE DESARROL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91 Rectángulo redondeado"/>
          <p:cNvGrpSpPr/>
          <p:nvPr/>
        </p:nvGrpSpPr>
        <p:grpSpPr>
          <a:xfrm>
            <a:off x="92160" y="4541760"/>
            <a:ext cx="2449440" cy="828720"/>
            <a:chOff x="92160" y="4541760"/>
            <a:chExt cx="2449440" cy="828720"/>
          </a:xfrm>
        </p:grpSpPr>
        <p:pic>
          <p:nvPicPr>
            <p:cNvPr id="130" name="91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92160" y="4541760"/>
              <a:ext cx="24494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79280" y="4606920"/>
              <a:ext cx="22701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MUNICIP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92 Rectángulo redondeado"/>
          <p:cNvGrpSpPr/>
          <p:nvPr/>
        </p:nvGrpSpPr>
        <p:grpSpPr>
          <a:xfrm>
            <a:off x="2706840" y="4541760"/>
            <a:ext cx="3346200" cy="884160"/>
            <a:chOff x="2706840" y="4541760"/>
            <a:chExt cx="3346200" cy="884160"/>
          </a:xfrm>
        </p:grpSpPr>
        <p:pic>
          <p:nvPicPr>
            <p:cNvPr id="133" name="92 Rectángulo redondeado" descr=""/>
            <p:cNvPicPr/>
            <p:nvPr/>
          </p:nvPicPr>
          <p:blipFill>
            <a:blip r:embed="rId12"/>
            <a:stretch/>
          </p:blipFill>
          <p:spPr>
            <a:xfrm>
              <a:off x="2706840" y="4541760"/>
              <a:ext cx="33462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795760" y="4606920"/>
              <a:ext cx="31701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CONSEJOS MANCOMUNADOS(CD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93 Rectángulo redondeado"/>
          <p:cNvGrpSpPr/>
          <p:nvPr/>
        </p:nvGrpSpPr>
        <p:grpSpPr>
          <a:xfrm>
            <a:off x="6095880" y="4541760"/>
            <a:ext cx="3017880" cy="884160"/>
            <a:chOff x="6095880" y="4541760"/>
            <a:chExt cx="3017880" cy="884160"/>
          </a:xfrm>
        </p:grpSpPr>
        <p:pic>
          <p:nvPicPr>
            <p:cNvPr id="136" name="93 Rectángulo redondeado" descr=""/>
            <p:cNvPicPr/>
            <p:nvPr/>
          </p:nvPicPr>
          <p:blipFill>
            <a:blip r:embed="rId13"/>
            <a:stretch/>
          </p:blipFill>
          <p:spPr>
            <a:xfrm>
              <a:off x="6095880" y="4541760"/>
              <a:ext cx="301788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6184800" y="4606920"/>
              <a:ext cx="28098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PLANES MUNICIPALES DE DESARR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94 Rectángulo redondeado"/>
          <p:cNvGrpSpPr/>
          <p:nvPr/>
        </p:nvGrpSpPr>
        <p:grpSpPr>
          <a:xfrm>
            <a:off x="109440" y="5541840"/>
            <a:ext cx="2451240" cy="1219320"/>
            <a:chOff x="109440" y="5541840"/>
            <a:chExt cx="2451240" cy="1219320"/>
          </a:xfrm>
        </p:grpSpPr>
        <p:pic>
          <p:nvPicPr>
            <p:cNvPr id="139" name="94 Rectángulo redondeado" descr=""/>
            <p:cNvPicPr/>
            <p:nvPr/>
          </p:nvPicPr>
          <p:blipFill>
            <a:blip r:embed="rId14"/>
            <a:stretch/>
          </p:blipFill>
          <p:spPr>
            <a:xfrm>
              <a:off x="109440" y="5541840"/>
              <a:ext cx="24512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209520" y="5689440"/>
              <a:ext cx="224784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s-HN" sz="1400" spc="-1" strike="noStrike">
                  <a:solidFill>
                    <a:srgbClr val="000000"/>
                  </a:solidFill>
                  <a:latin typeface="Arial"/>
                </a:rPr>
                <a:t>Aldea, Sector, Ciudad, Área de  Manejo Especial, et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95 Rectángulo redondeado"/>
          <p:cNvGrpSpPr/>
          <p:nvPr/>
        </p:nvGrpSpPr>
        <p:grpSpPr>
          <a:xfrm>
            <a:off x="2651040" y="5614920"/>
            <a:ext cx="3348000" cy="1035000"/>
            <a:chOff x="2651040" y="5614920"/>
            <a:chExt cx="3348000" cy="1035000"/>
          </a:xfrm>
        </p:grpSpPr>
        <p:pic>
          <p:nvPicPr>
            <p:cNvPr id="142" name="95 Rectángulo redondeado" descr=""/>
            <p:cNvPicPr/>
            <p:nvPr/>
          </p:nvPicPr>
          <p:blipFill>
            <a:blip r:embed="rId15"/>
            <a:stretch/>
          </p:blipFill>
          <p:spPr>
            <a:xfrm>
              <a:off x="2651040" y="5614920"/>
              <a:ext cx="33480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51120" y="5688000"/>
              <a:ext cx="31482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000000"/>
                  </a:solidFill>
                  <a:latin typeface="Arial"/>
                </a:rPr>
                <a:t>ACTORES LOCALES ORGANIZ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96 Rectángulo redondeado"/>
          <p:cNvGrpSpPr/>
          <p:nvPr/>
        </p:nvGrpSpPr>
        <p:grpSpPr>
          <a:xfrm>
            <a:off x="6095880" y="5614920"/>
            <a:ext cx="2987640" cy="1035000"/>
            <a:chOff x="6095880" y="5614920"/>
            <a:chExt cx="2987640" cy="1035000"/>
          </a:xfrm>
        </p:grpSpPr>
        <p:pic>
          <p:nvPicPr>
            <p:cNvPr id="145" name="96 Rectángulo redondeado" descr=""/>
            <p:cNvPicPr/>
            <p:nvPr/>
          </p:nvPicPr>
          <p:blipFill>
            <a:blip r:embed="rId16"/>
            <a:stretch/>
          </p:blipFill>
          <p:spPr>
            <a:xfrm>
              <a:off x="6095880" y="5614920"/>
              <a:ext cx="298764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194520" y="5689440"/>
              <a:ext cx="278928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000000"/>
                  </a:solidFill>
                  <a:latin typeface="Arial"/>
                </a:rPr>
                <a:t>PLANES LOCALES DE DESARR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99 Conector recto"/>
          <p:cNvSpPr/>
          <p:nvPr/>
        </p:nvSpPr>
        <p:spPr>
          <a:xfrm flipV="1">
            <a:off x="4073400" y="3785760"/>
            <a:ext cx="427320" cy="3240"/>
          </a:xfrm>
          <a:prstGeom prst="line">
            <a:avLst/>
          </a:prstGeom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89 Rectángulo redondeado"/>
          <p:cNvGrpSpPr/>
          <p:nvPr/>
        </p:nvGrpSpPr>
        <p:grpSpPr>
          <a:xfrm>
            <a:off x="2444760" y="3279600"/>
            <a:ext cx="1682640" cy="1116360"/>
            <a:chOff x="2444760" y="3279600"/>
            <a:chExt cx="1682640" cy="1116360"/>
          </a:xfrm>
        </p:grpSpPr>
        <p:pic>
          <p:nvPicPr>
            <p:cNvPr id="149" name="89 Rectángulo redondeado" descr=""/>
            <p:cNvPicPr/>
            <p:nvPr/>
          </p:nvPicPr>
          <p:blipFill>
            <a:blip r:embed="rId17"/>
            <a:stretch/>
          </p:blipFill>
          <p:spPr>
            <a:xfrm>
              <a:off x="2444760" y="3279600"/>
              <a:ext cx="1682640" cy="11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43040" y="3400560"/>
              <a:ext cx="148752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400" spc="-1" strike="noStrike">
                  <a:solidFill>
                    <a:srgbClr val="ffffff"/>
                  </a:solidFill>
                  <a:latin typeface="Arial"/>
                </a:rPr>
                <a:t>CONSEJOS REGIONALES DE DESARROL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97 Rectángulo redondeado"/>
          <p:cNvGrpSpPr/>
          <p:nvPr/>
        </p:nvGrpSpPr>
        <p:grpSpPr>
          <a:xfrm>
            <a:off x="4432320" y="3328920"/>
            <a:ext cx="1633680" cy="1017720"/>
            <a:chOff x="4432320" y="3328920"/>
            <a:chExt cx="1633680" cy="1017720"/>
          </a:xfrm>
        </p:grpSpPr>
        <p:pic>
          <p:nvPicPr>
            <p:cNvPr id="152" name="97 Rectángulo redondeado" descr=""/>
            <p:cNvPicPr/>
            <p:nvPr/>
          </p:nvPicPr>
          <p:blipFill>
            <a:blip r:embed="rId18"/>
            <a:stretch/>
          </p:blipFill>
          <p:spPr>
            <a:xfrm>
              <a:off x="4432320" y="3328920"/>
              <a:ext cx="163368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43560" y="3400560"/>
              <a:ext cx="14144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200" spc="-1" strike="noStrike">
                  <a:solidFill>
                    <a:srgbClr val="ffffff"/>
                  </a:solidFill>
                  <a:latin typeface="Arial"/>
                </a:rPr>
                <a:t>Unidades Técnicas Permanente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400" spc="-1" strike="noStrike">
                <a:solidFill>
                  <a:srgbClr val="000000"/>
                </a:solidFill>
                <a:latin typeface="Arial"/>
              </a:rPr>
              <a:t>PLAN ANTICRISIS: ESTRATEGIA DE HONDURAS PARA ENFRENTAR LA CRISIS YCONSOLIDAR EL CRECIMIENTO CON EQUIDAD . El Gobierno del Presidente Porfirio Lobo Sosa se propone enfrentar el desafío de la crisis de las economías desarrolladas mediante la Consolidación de un </a:t>
            </a:r>
            <a:r>
              <a:rPr b="1" lang="es-HN" sz="1400" spc="-1" strike="noStrike">
                <a:solidFill>
                  <a:srgbClr val="000000"/>
                </a:solidFill>
                <a:latin typeface="Arial"/>
              </a:rPr>
              <a:t>GRAN ACUERDO NACIONAL </a:t>
            </a:r>
            <a:r>
              <a:rPr b="0" lang="es-HN" sz="1400" spc="-1" strike="noStrike">
                <a:solidFill>
                  <a:srgbClr val="000000"/>
                </a:solidFill>
                <a:latin typeface="Arial"/>
              </a:rPr>
              <a:t>negociado y acordado en torno a cinco ejes palpri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000000"/>
                </a:solidFill>
                <a:latin typeface="Arial"/>
              </a:rPr>
              <a:t>Un “Pacto Social” para el crecimiento, el empleo, los salarios y la productividad. </a:t>
            </a:r>
            <a:r>
              <a:rPr b="0" lang="es-HN" sz="1600" spc="-1" strike="noStrike">
                <a:solidFill>
                  <a:srgbClr val="000000"/>
                </a:solidFill>
                <a:latin typeface="Arial"/>
              </a:rPr>
              <a:t>Consiste en alcanzar un acuerdo tripartito sustantivo entre Gobierno, empresarios (incluyendo MIPYMES) y trabajadores, para construir un escenario para el crecimiento económico, del empleo, los salarios y la productiv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000000"/>
                </a:solidFill>
                <a:latin typeface="Arial"/>
              </a:rPr>
              <a:t>Un consenso político para aumentar la inversión pública y reducir el gasto del Gobierno. </a:t>
            </a:r>
            <a:r>
              <a:rPr b="0" lang="es-HN" sz="1600" spc="-1" strike="noStrike">
                <a:solidFill>
                  <a:srgbClr val="000000"/>
                </a:solidFill>
                <a:latin typeface="Arial"/>
              </a:rPr>
              <a:t>Se basa en la idea de mantener la evolución del presupuesto del sector público por debajo del crecimiento del producto, al tiempo que se logra el crecimiento de las inversiones y se reduce el gas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000000"/>
                </a:solidFill>
                <a:latin typeface="Arial"/>
              </a:rPr>
              <a:t>Un acuerdo político para racionalizar la estructura del Estado y fortalecer y hacer más eficaz su funcionamiento. </a:t>
            </a:r>
            <a:r>
              <a:rPr b="0" lang="es-HN" sz="1600" spc="-1" strike="noStrike">
                <a:solidFill>
                  <a:srgbClr val="000000"/>
                </a:solidFill>
                <a:latin typeface="Arial"/>
              </a:rPr>
              <a:t>Con este eje se pretende modificar sustancialmente cómo se organizan y funcionan las instituciones públicas, con objetivos múltiples en materia de efectividad, simplificación de trámites, transparencia, racionalización de la distribución de competencias (fusiones), reducción de costos.y mejoramiento de los servicios a las personas y las empre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000000"/>
                </a:solidFill>
                <a:latin typeface="Arial"/>
              </a:rPr>
              <a:t>Un compromiso conjunto del sector público y el sector privado para promover y apoyar la inversión en general, la Invesrsion Extranjera Directa en particular, las negociaciones comerciales y el comercio exterior (especialmente las exportaciones.</a:t>
            </a:r>
            <a:r>
              <a:rPr b="0" lang="es-HN" sz="1600" spc="-1" strike="noStrike">
                <a:solidFill>
                  <a:srgbClr val="000000"/>
                </a:solidFill>
                <a:latin typeface="Arial"/>
              </a:rPr>
              <a:t> Esto implica concluir el proceso normativo ya avanzado, dotarlo de una organización institucional, recursos técnicos, humanos y materiales y desarrollar una muy fuerte y agresiva actividad de carácter promocional y de negociación con países y bloques comerciales de todo el m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000000"/>
                </a:solidFill>
                <a:latin typeface="Arial"/>
              </a:rPr>
              <a:t>Un consenso nacional para el desarrollo social, la reducción de la pobreza y la seguridad alimentaria. </a:t>
            </a:r>
            <a:r>
              <a:rPr b="0" lang="es-HN" sz="1600" spc="-1" strike="noStrike">
                <a:solidFill>
                  <a:srgbClr val="000000"/>
                </a:solidFill>
                <a:latin typeface="Arial"/>
              </a:rPr>
              <a:t>Esto apunta a establecer metas precisas para </a:t>
            </a:r>
            <a:r>
              <a:rPr b="0" lang="es-HN" sz="1600" spc="-1" strike="noStrike" u="sng">
                <a:solidFill>
                  <a:srgbClr val="000000"/>
                </a:solidFill>
                <a:uFillTx/>
                <a:latin typeface="Arial"/>
              </a:rPr>
              <a:t>el conjunto</a:t>
            </a:r>
            <a:r>
              <a:rPr b="0" lang="es-HN" sz="1600" spc="-1" strike="noStrike">
                <a:solidFill>
                  <a:srgbClr val="000000"/>
                </a:solidFill>
                <a:latin typeface="Arial"/>
              </a:rPr>
              <a:t> de los programas; asegurar que éstos realicen la correcta focalización de los beneficiarios prioritarios y rediseñar su operación para aumentar el impacto de los programas sobre la población focalizada; mejor aprovechar los recursos administrativos, y mejorar la operación y monitoreo de la totalidad de las acciones emprendidas por el Gobier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400" spc="-1" strike="noStrike">
                <a:solidFill>
                  <a:srgbClr val="000000"/>
                </a:solidFill>
                <a:latin typeface="Arial"/>
              </a:rPr>
              <a:t>las reformas institucionales y las iniciativas legislativ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ros procesos de dia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jos nacionales de desarrollo (comisiones temporates y comites permanetes y exper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jos regionales de desarrollo (tripartito) (mesas tematicas o por nivel lo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sa de Efectividad de la Cooperación Externa al Desarrollo de Honduras (es  una instancia de diálogo, concertación y coordinación que le permitirá  a la SEPLAN, a los cooperantes y a la sociedad civil hondureña  e internacional  apropiarse, alinear, armonizar y optimizar  la cooperación  externa al desarrollo en Honduras garantizando que la AOD contribuye al combate de la pobreza, al  desarrollo humano  y a la generación de capacidades instaladas necesarias para el desarrollo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isiones tecnicas tematicas – construccion de politicas publicas (Primera infancias, proteccion social, ley fundamental de educacion) (a veces triparti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binetes sectoriales (gubernamental, 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jos tematicos . De SAN, social, etc (decretos legisl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isiones especiales (decretos ejecutivos, bajo le y de SAN, bajo ley de competitividad, bajo ley de politicas soci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41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2133720" y="790560"/>
            <a:ext cx="6248160" cy="580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cuentro de Intercambio y Programación: Construcción de Consensos para la Cohesión Soci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4419720" y="1447920"/>
            <a:ext cx="3962160" cy="307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S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57200" y="2057400"/>
            <a:ext cx="77724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ialogo Nacional ‘ Borrador de Plan Anti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ialogando con el President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OA – Presupues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ejo de Plan de Nacion y de Competit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ejos Regionales de Desarrollo (Socializaci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 POA – Presupues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57200" y="3352680"/>
            <a:ext cx="77724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cesos en construcción – Institucion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ltura y participación ciudadana - credi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33520" y="4572000"/>
            <a:ext cx="7772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rategia Regional de participación ciudadana como medio generador de gobernabilidad y descentralización de la gestión en el proceso de desarrollo y ordenamiento del territorio/ Generación de Políticas públicas Regionales para la Cohesión Social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strucción de consensos y acuerdos, apoyo al fortalecimiento institu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0" descr="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crecimientoconequidad.com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dialogopresidencial.net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plandenacion.hn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plandenacion.hn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7:10:30Z</dcterms:created>
  <dc:creator>Rene Serrano</dc:creator>
  <dc:description/>
  <dc:language>en-US</dc:language>
  <cp:lastModifiedBy>Maria Eugenia Cebrian</cp:lastModifiedBy>
  <dcterms:modified xsi:type="dcterms:W3CDTF">2011-11-21T09:16:40Z</dcterms:modified>
  <cp:revision>25</cp:revision>
  <dc:subject/>
  <dc:title>Diapositiva 1</dc:title>
</cp:coreProperties>
</file>