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ECE3-92A9-4C58-94FA-9885AF89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F38-1009-40CB-A97C-C2556A3C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3942-E455-4E2C-AE02-95DDDE45D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5C0EC-8666-4FB6-81D1-B6CFD55BB6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3B9-58F4-4406-BDEE-7E72669F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8E4-C6FF-4C72-94E2-13BEC6CBA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6BE5-0DD8-4A11-9CA7-448272DA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fícil de administrar, por sus posturas ideologicas, pocos acuerdos pero importantes acuerdos, falta actitud de consenso, se privilegia intereses del sector a las demanas nacionales, asimetrias en la calidad del debate y participación,..concentrado en la secretaria tecnica escaso interes de los organos del estados, comisiones sin continuidad y proyec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3D40-54D1-4F97-A4A9-209BB6F6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54F2-8ED5-4EA5-86F3-572F00D7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615-A60D-45D7-AD4B-218EDCCF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EB0-EA71-42E8-8BBA-8006DAE9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03E-1AB4-4B3E-B54D-D7CAD378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724-B5E9-4F9E-A8CB-761B538C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7C5-6E42-4D8C-8316-630C3F3F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B59-0BB5-4C66-B720-DEAE3497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6FE-4EDB-48CB-B2D2-2C097C5C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941-1524-4E04-8350-BD6D7C02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555-0D66-44E6-810E-BA9C4B0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F0D-E402-43DF-80D0-DFC4A1D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3B6-BD45-4202-A11E-D5E4EF0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EA5-7519-4B52-8860-CF2CFE59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EB4-5155-48C7-B094-EEA92C95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004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Decreto Legislativo No. 286-2009, la Ley para el Establecimiento de una Visión de País y la Adopción de un Plan de Nación para Hondu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sta</a:t>
            </a: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ey institucionaliza el proceso de planificación del desarrollo económico, social y político del país, establecido en el Artículo 329 de la Constitución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paldados en los esfuerzos como: el Plan Maestro de Reconstrucción y Transformación Nacional (PMRTN), la Estrategia para la Reducción de la Pobreza (ERP), y Gran Dialogo 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Rectángulo"/>
          <p:cNvSpPr/>
          <p:nvPr/>
        </p:nvSpPr>
        <p:spPr>
          <a:xfrm>
            <a:off x="762120" y="676440"/>
            <a:ext cx="7184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HN" sz="6600" spc="-1" strike="noStrike">
                <a:solidFill>
                  <a:srgbClr val="000000"/>
                </a:solidFill>
                <a:latin typeface="Arial"/>
                <a:ea typeface="Century Gothic"/>
              </a:rPr>
              <a:t>ANTECEDEN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Elipse"/>
          <p:cNvSpPr/>
          <p:nvPr/>
        </p:nvSpPr>
        <p:spPr>
          <a:xfrm>
            <a:off x="-4762440" y="1555920"/>
            <a:ext cx="3002040" cy="2641320"/>
          </a:xfrm>
          <a:prstGeom prst="ellipse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5 Forma libre"/>
          <p:cNvGrpSpPr/>
          <p:nvPr/>
        </p:nvGrpSpPr>
        <p:grpSpPr>
          <a:xfrm>
            <a:off x="3206880" y="3670200"/>
            <a:ext cx="2712960" cy="2486160"/>
            <a:chOff x="3206880" y="3670200"/>
            <a:chExt cx="2712960" cy="2486160"/>
          </a:xfrm>
        </p:grpSpPr>
        <p:pic>
          <p:nvPicPr>
            <p:cNvPr id="52" name="5 Forma libre" descr=""/>
            <p:cNvPicPr/>
            <p:nvPr/>
          </p:nvPicPr>
          <p:blipFill>
            <a:blip r:embed="rId1"/>
            <a:stretch/>
          </p:blipFill>
          <p:spPr>
            <a:xfrm>
              <a:off x="3206880" y="3670200"/>
              <a:ext cx="271296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260880" y="3697200"/>
              <a:ext cx="260496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1760" rIns="401760" tIns="369000" bIns="36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es-HN" sz="3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isión de País- Plan de Nació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6 Flecha izquierda"/>
          <p:cNvGrpSpPr/>
          <p:nvPr/>
        </p:nvGrpSpPr>
        <p:grpSpPr>
          <a:xfrm>
            <a:off x="901800" y="4516560"/>
            <a:ext cx="2286000" cy="787320"/>
            <a:chOff x="901800" y="4516560"/>
            <a:chExt cx="2286000" cy="787320"/>
          </a:xfrm>
        </p:grpSpPr>
        <p:pic>
          <p:nvPicPr>
            <p:cNvPr id="55" name="6 Flecha izquierda" descr=""/>
            <p:cNvPicPr/>
            <p:nvPr/>
          </p:nvPicPr>
          <p:blipFill>
            <a:blip r:embed="rId2"/>
            <a:stretch/>
          </p:blipFill>
          <p:spPr>
            <a:xfrm>
              <a:off x="901800" y="4516560"/>
              <a:ext cx="22860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10800000">
              <a:off x="954000" y="4684320"/>
              <a:ext cx="1976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7 Forma libre"/>
          <p:cNvGrpSpPr/>
          <p:nvPr/>
        </p:nvGrpSpPr>
        <p:grpSpPr>
          <a:xfrm>
            <a:off x="66600" y="4187880"/>
            <a:ext cx="1828800" cy="1444680"/>
            <a:chOff x="66600" y="4187880"/>
            <a:chExt cx="1828800" cy="1444680"/>
          </a:xfrm>
        </p:grpSpPr>
        <p:pic>
          <p:nvPicPr>
            <p:cNvPr id="58" name="7 Forma libre" descr=""/>
            <p:cNvPicPr/>
            <p:nvPr/>
          </p:nvPicPr>
          <p:blipFill>
            <a:blip r:embed="rId3"/>
            <a:stretch/>
          </p:blipFill>
          <p:spPr>
            <a:xfrm>
              <a:off x="66600" y="4187880"/>
              <a:ext cx="18288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22400" y="4221000"/>
              <a:ext cx="16650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Objetivos de Desarrollo del Milen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8 Flecha izquierda"/>
          <p:cNvGrpSpPr/>
          <p:nvPr/>
        </p:nvGrpSpPr>
        <p:grpSpPr>
          <a:xfrm>
            <a:off x="1427040" y="2475000"/>
            <a:ext cx="2224080" cy="1884240"/>
            <a:chOff x="1427040" y="2475000"/>
            <a:chExt cx="2224080" cy="1884240"/>
          </a:xfrm>
        </p:grpSpPr>
        <p:pic>
          <p:nvPicPr>
            <p:cNvPr id="61" name="8 Flecha izquierda" descr=""/>
            <p:cNvPicPr/>
            <p:nvPr/>
          </p:nvPicPr>
          <p:blipFill>
            <a:blip r:embed="rId4"/>
            <a:stretch/>
          </p:blipFill>
          <p:spPr>
            <a:xfrm>
              <a:off x="1427040" y="2475000"/>
              <a:ext cx="222408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2960000">
              <a:off x="1450440" y="3155760"/>
              <a:ext cx="2016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9 Forma libre"/>
          <p:cNvGrpSpPr/>
          <p:nvPr/>
        </p:nvGrpSpPr>
        <p:grpSpPr>
          <a:xfrm>
            <a:off x="695160" y="2066760"/>
            <a:ext cx="1951200" cy="1444680"/>
            <a:chOff x="695160" y="2066760"/>
            <a:chExt cx="1951200" cy="1444680"/>
          </a:xfrm>
        </p:grpSpPr>
        <p:pic>
          <p:nvPicPr>
            <p:cNvPr id="64" name="9 Forma libre" descr=""/>
            <p:cNvPicPr/>
            <p:nvPr/>
          </p:nvPicPr>
          <p:blipFill>
            <a:blip r:embed="rId5"/>
            <a:stretch/>
          </p:blipFill>
          <p:spPr>
            <a:xfrm>
              <a:off x="695160" y="2066760"/>
              <a:ext cx="19512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11080" y="2100240"/>
              <a:ext cx="1665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strategia para la Reducción de la Pobre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10 Flecha izquierda"/>
          <p:cNvGrpSpPr/>
          <p:nvPr/>
        </p:nvGrpSpPr>
        <p:grpSpPr>
          <a:xfrm>
            <a:off x="3108240" y="1335240"/>
            <a:ext cx="1378080" cy="2408040"/>
            <a:chOff x="3108240" y="1335240"/>
            <a:chExt cx="1378080" cy="2408040"/>
          </a:xfrm>
        </p:grpSpPr>
        <p:pic>
          <p:nvPicPr>
            <p:cNvPr id="67" name="10 Flecha izquierda" descr=""/>
            <p:cNvPicPr/>
            <p:nvPr/>
          </p:nvPicPr>
          <p:blipFill>
            <a:blip r:embed="rId6"/>
            <a:stretch/>
          </p:blipFill>
          <p:spPr>
            <a:xfrm>
              <a:off x="3108240" y="1335240"/>
              <a:ext cx="13780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15120000">
              <a:off x="2731680" y="2237760"/>
              <a:ext cx="2073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11 Forma libre"/>
          <p:cNvGrpSpPr/>
          <p:nvPr/>
        </p:nvGrpSpPr>
        <p:grpSpPr>
          <a:xfrm>
            <a:off x="2517840" y="706320"/>
            <a:ext cx="1888920" cy="1586160"/>
            <a:chOff x="2517840" y="706320"/>
            <a:chExt cx="1888920" cy="1586160"/>
          </a:xfrm>
        </p:grpSpPr>
        <p:pic>
          <p:nvPicPr>
            <p:cNvPr id="70" name="11 Forma libre" descr=""/>
            <p:cNvPicPr/>
            <p:nvPr/>
          </p:nvPicPr>
          <p:blipFill>
            <a:blip r:embed="rId7"/>
            <a:stretch/>
          </p:blipFill>
          <p:spPr>
            <a:xfrm>
              <a:off x="2517840" y="706320"/>
              <a:ext cx="188892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614680" y="789120"/>
              <a:ext cx="16668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n Maestro Reconstrucción Transformación 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12 Flecha izquierda"/>
          <p:cNvGrpSpPr/>
          <p:nvPr/>
        </p:nvGrpSpPr>
        <p:grpSpPr>
          <a:xfrm>
            <a:off x="4638600" y="1335240"/>
            <a:ext cx="1378080" cy="2408040"/>
            <a:chOff x="4638600" y="1335240"/>
            <a:chExt cx="1378080" cy="2408040"/>
          </a:xfrm>
        </p:grpSpPr>
        <p:pic>
          <p:nvPicPr>
            <p:cNvPr id="73" name="12 Flecha izquierda" descr=""/>
            <p:cNvPicPr/>
            <p:nvPr/>
          </p:nvPicPr>
          <p:blipFill>
            <a:blip r:embed="rId8"/>
            <a:stretch/>
          </p:blipFill>
          <p:spPr>
            <a:xfrm>
              <a:off x="4638600" y="1335240"/>
              <a:ext cx="13780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17280000">
              <a:off x="4321080" y="2238120"/>
              <a:ext cx="2073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13 Forma libre"/>
          <p:cNvGrpSpPr/>
          <p:nvPr/>
        </p:nvGrpSpPr>
        <p:grpSpPr>
          <a:xfrm>
            <a:off x="4784760" y="755640"/>
            <a:ext cx="1835280" cy="1444680"/>
            <a:chOff x="4784760" y="755640"/>
            <a:chExt cx="1835280" cy="1444680"/>
          </a:xfrm>
        </p:grpSpPr>
        <p:pic>
          <p:nvPicPr>
            <p:cNvPr id="76" name="13 Forma libre" descr=""/>
            <p:cNvPicPr/>
            <p:nvPr/>
          </p:nvPicPr>
          <p:blipFill>
            <a:blip r:embed="rId9"/>
            <a:stretch/>
          </p:blipFill>
          <p:spPr>
            <a:xfrm>
              <a:off x="4784760" y="755640"/>
              <a:ext cx="1835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844880" y="789120"/>
              <a:ext cx="166716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ialogo Plan de Paí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14 Flecha izquierda"/>
          <p:cNvGrpSpPr/>
          <p:nvPr/>
        </p:nvGrpSpPr>
        <p:grpSpPr>
          <a:xfrm>
            <a:off x="5473800" y="2475000"/>
            <a:ext cx="2225520" cy="1884240"/>
            <a:chOff x="5473800" y="2475000"/>
            <a:chExt cx="2225520" cy="1884240"/>
          </a:xfrm>
        </p:grpSpPr>
        <p:pic>
          <p:nvPicPr>
            <p:cNvPr id="79" name="14 Flecha izquierda" descr=""/>
            <p:cNvPicPr/>
            <p:nvPr/>
          </p:nvPicPr>
          <p:blipFill>
            <a:blip r:embed="rId10"/>
            <a:stretch/>
          </p:blipFill>
          <p:spPr>
            <a:xfrm>
              <a:off x="5473800" y="2475000"/>
              <a:ext cx="222552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19440000">
              <a:off x="5659200" y="3156120"/>
              <a:ext cx="201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15 Forma libre"/>
          <p:cNvGrpSpPr/>
          <p:nvPr/>
        </p:nvGrpSpPr>
        <p:grpSpPr>
          <a:xfrm>
            <a:off x="6711840" y="2066760"/>
            <a:ext cx="1773360" cy="1444680"/>
            <a:chOff x="6711840" y="2066760"/>
            <a:chExt cx="1773360" cy="1444680"/>
          </a:xfrm>
        </p:grpSpPr>
        <p:pic>
          <p:nvPicPr>
            <p:cNvPr id="82" name="15 Forma libre" descr=""/>
            <p:cNvPicPr/>
            <p:nvPr/>
          </p:nvPicPr>
          <p:blipFill>
            <a:blip r:embed="rId11"/>
            <a:stretch/>
          </p:blipFill>
          <p:spPr>
            <a:xfrm>
              <a:off x="6711840" y="2066760"/>
              <a:ext cx="17733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765840" y="2097000"/>
              <a:ext cx="1665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es Sect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17 Flecha izquierda"/>
          <p:cNvGrpSpPr/>
          <p:nvPr/>
        </p:nvGrpSpPr>
        <p:grpSpPr>
          <a:xfrm>
            <a:off x="5937120" y="4516560"/>
            <a:ext cx="2292480" cy="787320"/>
            <a:chOff x="5937120" y="4516560"/>
            <a:chExt cx="2292480" cy="787320"/>
          </a:xfrm>
        </p:grpSpPr>
        <p:pic>
          <p:nvPicPr>
            <p:cNvPr id="85" name="17 Flecha izquierda" descr=""/>
            <p:cNvPicPr/>
            <p:nvPr/>
          </p:nvPicPr>
          <p:blipFill>
            <a:blip r:embed="rId12"/>
            <a:stretch/>
          </p:blipFill>
          <p:spPr>
            <a:xfrm>
              <a:off x="5937120" y="4516560"/>
              <a:ext cx="22924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195960" y="4684680"/>
              <a:ext cx="1976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18 Forma libre"/>
          <p:cNvGrpSpPr/>
          <p:nvPr/>
        </p:nvGrpSpPr>
        <p:grpSpPr>
          <a:xfrm>
            <a:off x="7254720" y="4187880"/>
            <a:ext cx="1889280" cy="1444680"/>
            <a:chOff x="7254720" y="4187880"/>
            <a:chExt cx="1889280" cy="1444680"/>
          </a:xfrm>
        </p:grpSpPr>
        <p:pic>
          <p:nvPicPr>
            <p:cNvPr id="88" name="18 Forma libre" descr=""/>
            <p:cNvPicPr/>
            <p:nvPr/>
          </p:nvPicPr>
          <p:blipFill>
            <a:blip r:embed="rId13"/>
            <a:stretch/>
          </p:blipFill>
          <p:spPr>
            <a:xfrm>
              <a:off x="7254720" y="4187880"/>
              <a:ext cx="1889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338960" y="4221000"/>
              <a:ext cx="16653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734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Gran Dialogo Nacio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-165240" y="-96840"/>
            <a:ext cx="9595080" cy="1438200"/>
          </a:xfrm>
          <a:prstGeom prst="rect">
            <a:avLst/>
          </a:prstGeom>
          <a:ln w="0">
            <a:noFill/>
          </a:ln>
        </p:spPr>
      </p:pic>
      <p:sp>
        <p:nvSpPr>
          <p:cNvPr id="91" name="68 Rectángulo"/>
          <p:cNvSpPr/>
          <p:nvPr/>
        </p:nvSpPr>
        <p:spPr>
          <a:xfrm>
            <a:off x="0" y="114300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9 Rectángulo"/>
          <p:cNvSpPr/>
          <p:nvPr/>
        </p:nvSpPr>
        <p:spPr>
          <a:xfrm>
            <a:off x="0" y="214308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1 Rectángulo"/>
          <p:cNvSpPr/>
          <p:nvPr/>
        </p:nvSpPr>
        <p:spPr>
          <a:xfrm>
            <a:off x="0" y="3214800"/>
            <a:ext cx="91440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2 Rectángulo"/>
          <p:cNvSpPr/>
          <p:nvPr/>
        </p:nvSpPr>
        <p:spPr>
          <a:xfrm>
            <a:off x="0" y="4429080"/>
            <a:ext cx="914400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3 Rectángulo"/>
          <p:cNvSpPr/>
          <p:nvPr/>
        </p:nvSpPr>
        <p:spPr>
          <a:xfrm>
            <a:off x="0" y="5500800"/>
            <a:ext cx="914400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4 Rectángulo"/>
          <p:cNvSpPr/>
          <p:nvPr/>
        </p:nvSpPr>
        <p:spPr>
          <a:xfrm>
            <a:off x="0" y="1000080"/>
            <a:ext cx="91440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75 Rectángulo redondeado"/>
          <p:cNvGrpSpPr/>
          <p:nvPr/>
        </p:nvGrpSpPr>
        <p:grpSpPr>
          <a:xfrm>
            <a:off x="-55440" y="1109520"/>
            <a:ext cx="2682720" cy="968400"/>
            <a:chOff x="-55440" y="1109520"/>
            <a:chExt cx="2682720" cy="968400"/>
          </a:xfrm>
        </p:grpSpPr>
        <p:pic>
          <p:nvPicPr>
            <p:cNvPr id="98" name="7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-55440" y="1109520"/>
              <a:ext cx="26827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1400" y="1184400"/>
              <a:ext cx="24890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76 Rectángulo redondeado"/>
          <p:cNvGrpSpPr/>
          <p:nvPr/>
        </p:nvGrpSpPr>
        <p:grpSpPr>
          <a:xfrm>
            <a:off x="5943600" y="1109520"/>
            <a:ext cx="3139920" cy="968400"/>
            <a:chOff x="5943600" y="1109520"/>
            <a:chExt cx="3139920" cy="968400"/>
          </a:xfrm>
        </p:grpSpPr>
        <p:pic>
          <p:nvPicPr>
            <p:cNvPr id="101" name="76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943600" y="1109520"/>
              <a:ext cx="31399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41880" y="1184400"/>
              <a:ext cx="29466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77 Rectángulo redondeado"/>
          <p:cNvGrpSpPr/>
          <p:nvPr/>
        </p:nvGrpSpPr>
        <p:grpSpPr>
          <a:xfrm>
            <a:off x="2590920" y="1109520"/>
            <a:ext cx="3322440" cy="968400"/>
            <a:chOff x="2590920" y="1109520"/>
            <a:chExt cx="3322440" cy="968400"/>
          </a:xfrm>
        </p:grpSpPr>
        <p:pic>
          <p:nvPicPr>
            <p:cNvPr id="104" name="77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2590920" y="1109520"/>
              <a:ext cx="3322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84520" y="1184400"/>
              <a:ext cx="31320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CuadroTexto"/>
          <p:cNvSpPr/>
          <p:nvPr/>
        </p:nvSpPr>
        <p:spPr>
          <a:xfrm>
            <a:off x="0" y="1357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NIVEL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6 CuadroTexto"/>
          <p:cNvSpPr/>
          <p:nvPr/>
        </p:nvSpPr>
        <p:spPr>
          <a:xfrm>
            <a:off x="2643120" y="1143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ORGANIZACIÓN PARA LOS CONSEJOS DE DESARROLLO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7 CuadroTexto"/>
          <p:cNvSpPr/>
          <p:nvPr/>
        </p:nvSpPr>
        <p:spPr>
          <a:xfrm>
            <a:off x="6000840" y="114300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INSTRUMENTOS TECNICOS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CONSEJ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82 Rectángulo redondeado"/>
          <p:cNvGrpSpPr/>
          <p:nvPr/>
        </p:nvGrpSpPr>
        <p:grpSpPr>
          <a:xfrm>
            <a:off x="36360" y="2255760"/>
            <a:ext cx="2444760" cy="828720"/>
            <a:chOff x="36360" y="2255760"/>
            <a:chExt cx="2444760" cy="828720"/>
          </a:xfrm>
        </p:grpSpPr>
        <p:pic>
          <p:nvPicPr>
            <p:cNvPr id="110" name="82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36360" y="2255760"/>
              <a:ext cx="24447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23840" y="2320920"/>
              <a:ext cx="22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83 Rectángulo redondeado"/>
          <p:cNvGrpSpPr/>
          <p:nvPr/>
        </p:nvGrpSpPr>
        <p:grpSpPr>
          <a:xfrm>
            <a:off x="2646360" y="2255760"/>
            <a:ext cx="1541520" cy="822240"/>
            <a:chOff x="2646360" y="2255760"/>
            <a:chExt cx="1541520" cy="822240"/>
          </a:xfrm>
        </p:grpSpPr>
        <p:pic>
          <p:nvPicPr>
            <p:cNvPr id="113" name="83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2646360" y="2255760"/>
              <a:ext cx="154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38520" y="2320920"/>
              <a:ext cx="1358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84 Rectángulo redondeado"/>
          <p:cNvGrpSpPr/>
          <p:nvPr/>
        </p:nvGrpSpPr>
        <p:grpSpPr>
          <a:xfrm>
            <a:off x="4248000" y="2200320"/>
            <a:ext cx="1683000" cy="976320"/>
            <a:chOff x="4248000" y="2200320"/>
            <a:chExt cx="1683000" cy="976320"/>
          </a:xfrm>
        </p:grpSpPr>
        <p:pic>
          <p:nvPicPr>
            <p:cNvPr id="116" name="84 Rectángulo redondeado" descr=""/>
            <p:cNvPicPr/>
            <p:nvPr/>
          </p:nvPicPr>
          <p:blipFill>
            <a:blip r:embed="rId7"/>
            <a:stretch/>
          </p:blipFill>
          <p:spPr>
            <a:xfrm>
              <a:off x="4248000" y="2200320"/>
              <a:ext cx="1683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340160" y="2320920"/>
              <a:ext cx="1501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200" spc="-1" strike="noStrike">
                  <a:solidFill>
                    <a:srgbClr val="ffffff"/>
                  </a:solidFill>
                  <a:latin typeface="Arial"/>
                </a:rPr>
                <a:t>CONSEJO NACIONAL DE COMPETITIVIDAD E INNOVA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85 Rectángulo redondeado"/>
          <p:cNvGrpSpPr/>
          <p:nvPr/>
        </p:nvGrpSpPr>
        <p:grpSpPr>
          <a:xfrm>
            <a:off x="6095880" y="2255760"/>
            <a:ext cx="2987640" cy="884160"/>
            <a:chOff x="6095880" y="2255760"/>
            <a:chExt cx="2987640" cy="884160"/>
          </a:xfrm>
        </p:grpSpPr>
        <p:pic>
          <p:nvPicPr>
            <p:cNvPr id="119" name="85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6095880" y="2255760"/>
              <a:ext cx="29876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184800" y="2320920"/>
              <a:ext cx="2809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VISION DE PAIS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 DE NAC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22 CuadroTexto"/>
          <p:cNvSpPr/>
          <p:nvPr/>
        </p:nvSpPr>
        <p:spPr>
          <a:xfrm>
            <a:off x="214200" y="2428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Calibri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CuadroTexto"/>
          <p:cNvSpPr/>
          <p:nvPr/>
        </p:nvSpPr>
        <p:spPr>
          <a:xfrm>
            <a:off x="2654280" y="2263680"/>
            <a:ext cx="14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ffffff"/>
                </a:solidFill>
                <a:latin typeface="Calibri"/>
              </a:rPr>
              <a:t>CONSEJO NACIONAL DE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88 Rectángulo redondeado"/>
          <p:cNvGrpSpPr/>
          <p:nvPr/>
        </p:nvGrpSpPr>
        <p:grpSpPr>
          <a:xfrm>
            <a:off x="212760" y="3468600"/>
            <a:ext cx="2128680" cy="828720"/>
            <a:chOff x="212760" y="3468600"/>
            <a:chExt cx="2128680" cy="828720"/>
          </a:xfrm>
        </p:grpSpPr>
        <p:pic>
          <p:nvPicPr>
            <p:cNvPr id="124" name="88 Rectángulo redondeado" descr=""/>
            <p:cNvPicPr/>
            <p:nvPr/>
          </p:nvPicPr>
          <p:blipFill>
            <a:blip r:embed="rId9"/>
            <a:stretch/>
          </p:blipFill>
          <p:spPr>
            <a:xfrm>
              <a:off x="212760" y="3468600"/>
              <a:ext cx="21286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04920" y="3535200"/>
              <a:ext cx="1946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REG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90 Rectángulo redondeado"/>
          <p:cNvGrpSpPr/>
          <p:nvPr/>
        </p:nvGrpSpPr>
        <p:grpSpPr>
          <a:xfrm>
            <a:off x="6229440" y="3402000"/>
            <a:ext cx="2743200" cy="828720"/>
            <a:chOff x="6229440" y="3402000"/>
            <a:chExt cx="2743200" cy="828720"/>
          </a:xfrm>
        </p:grpSpPr>
        <p:pic>
          <p:nvPicPr>
            <p:cNvPr id="127" name="9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6229440" y="3402000"/>
              <a:ext cx="27432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321600" y="3463920"/>
              <a:ext cx="25621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600" spc="-1" strike="noStrike">
                  <a:solidFill>
                    <a:srgbClr val="ffffff"/>
                  </a:solidFill>
                  <a:latin typeface="Arial"/>
                </a:rPr>
                <a:t>PLANES REGIONALES DE DESARROL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91 Rectángulo redondeado"/>
          <p:cNvGrpSpPr/>
          <p:nvPr/>
        </p:nvGrpSpPr>
        <p:grpSpPr>
          <a:xfrm>
            <a:off x="92160" y="4541760"/>
            <a:ext cx="2449440" cy="828720"/>
            <a:chOff x="92160" y="4541760"/>
            <a:chExt cx="2449440" cy="828720"/>
          </a:xfrm>
        </p:grpSpPr>
        <p:pic>
          <p:nvPicPr>
            <p:cNvPr id="130" name="9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2160" y="4541760"/>
              <a:ext cx="24494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9280" y="4606920"/>
              <a:ext cx="22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MUNICIP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92 Rectángulo redondeado"/>
          <p:cNvGrpSpPr/>
          <p:nvPr/>
        </p:nvGrpSpPr>
        <p:grpSpPr>
          <a:xfrm>
            <a:off x="2706840" y="4541760"/>
            <a:ext cx="3346200" cy="884160"/>
            <a:chOff x="2706840" y="4541760"/>
            <a:chExt cx="3346200" cy="884160"/>
          </a:xfrm>
        </p:grpSpPr>
        <p:pic>
          <p:nvPicPr>
            <p:cNvPr id="133" name="92 Rectángulo redondeado" descr=""/>
            <p:cNvPicPr/>
            <p:nvPr/>
          </p:nvPicPr>
          <p:blipFill>
            <a:blip r:embed="rId12"/>
            <a:stretch/>
          </p:blipFill>
          <p:spPr>
            <a:xfrm>
              <a:off x="2706840" y="4541760"/>
              <a:ext cx="33462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795760" y="4606920"/>
              <a:ext cx="31701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CONSEJOS MANCOMUNADOS(CD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93 Rectángulo redondeado"/>
          <p:cNvGrpSpPr/>
          <p:nvPr/>
        </p:nvGrpSpPr>
        <p:grpSpPr>
          <a:xfrm>
            <a:off x="6095880" y="4541760"/>
            <a:ext cx="3017880" cy="884160"/>
            <a:chOff x="6095880" y="4541760"/>
            <a:chExt cx="3017880" cy="884160"/>
          </a:xfrm>
        </p:grpSpPr>
        <p:pic>
          <p:nvPicPr>
            <p:cNvPr id="136" name="93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6095880" y="4541760"/>
              <a:ext cx="30178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184800" y="4606920"/>
              <a:ext cx="2809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Arial"/>
                </a:rPr>
                <a:t>PLANES MUNICIPALES DE DESARR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94 Rectángulo redondeado"/>
          <p:cNvGrpSpPr/>
          <p:nvPr/>
        </p:nvGrpSpPr>
        <p:grpSpPr>
          <a:xfrm>
            <a:off x="109440" y="5541840"/>
            <a:ext cx="2451240" cy="1219320"/>
            <a:chOff x="109440" y="5541840"/>
            <a:chExt cx="2451240" cy="1219320"/>
          </a:xfrm>
        </p:grpSpPr>
        <p:pic>
          <p:nvPicPr>
            <p:cNvPr id="139" name="94 Rectángulo redondeado" descr=""/>
            <p:cNvPicPr/>
            <p:nvPr/>
          </p:nvPicPr>
          <p:blipFill>
            <a:blip r:embed="rId14"/>
            <a:stretch/>
          </p:blipFill>
          <p:spPr>
            <a:xfrm>
              <a:off x="109440" y="5541840"/>
              <a:ext cx="2451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09520" y="5689440"/>
              <a:ext cx="22478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HN" sz="1400" spc="-1" strike="noStrike">
                  <a:solidFill>
                    <a:srgbClr val="000000"/>
                  </a:solidFill>
                  <a:latin typeface="Arial"/>
                </a:rPr>
                <a:t>Aldea, Sector, Ciudad, Área de  Manejo Especial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95 Rectángulo redondeado"/>
          <p:cNvGrpSpPr/>
          <p:nvPr/>
        </p:nvGrpSpPr>
        <p:grpSpPr>
          <a:xfrm>
            <a:off x="2651040" y="5614920"/>
            <a:ext cx="3348000" cy="1035000"/>
            <a:chOff x="2651040" y="5614920"/>
            <a:chExt cx="3348000" cy="1035000"/>
          </a:xfrm>
        </p:grpSpPr>
        <p:pic>
          <p:nvPicPr>
            <p:cNvPr id="142" name="95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2651040" y="5614920"/>
              <a:ext cx="3348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51120" y="5688000"/>
              <a:ext cx="3148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ACTORES LOCALES ORGANIZ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96 Rectángulo redondeado"/>
          <p:cNvGrpSpPr/>
          <p:nvPr/>
        </p:nvGrpSpPr>
        <p:grpSpPr>
          <a:xfrm>
            <a:off x="6095880" y="5614920"/>
            <a:ext cx="2987640" cy="1035000"/>
            <a:chOff x="6095880" y="5614920"/>
            <a:chExt cx="2987640" cy="1035000"/>
          </a:xfrm>
        </p:grpSpPr>
        <p:pic>
          <p:nvPicPr>
            <p:cNvPr id="145" name="96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6095880" y="5614920"/>
              <a:ext cx="298764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94520" y="5689440"/>
              <a:ext cx="2789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000000"/>
                  </a:solidFill>
                  <a:latin typeface="Arial"/>
                </a:rPr>
                <a:t>PLANES LOCALES DE DESARR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99 Conector recto"/>
          <p:cNvSpPr/>
          <p:nvPr/>
        </p:nvSpPr>
        <p:spPr>
          <a:xfrm flipV="1">
            <a:off x="4073400" y="3785760"/>
            <a:ext cx="427320" cy="324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89 Rectángulo redondeado"/>
          <p:cNvGrpSpPr/>
          <p:nvPr/>
        </p:nvGrpSpPr>
        <p:grpSpPr>
          <a:xfrm>
            <a:off x="2444760" y="3279600"/>
            <a:ext cx="1682640" cy="1116360"/>
            <a:chOff x="2444760" y="3279600"/>
            <a:chExt cx="1682640" cy="1116360"/>
          </a:xfrm>
        </p:grpSpPr>
        <p:pic>
          <p:nvPicPr>
            <p:cNvPr id="149" name="89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444760" y="3279600"/>
              <a:ext cx="168264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43040" y="3400560"/>
              <a:ext cx="148752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400" spc="-1" strike="noStrike">
                  <a:solidFill>
                    <a:srgbClr val="ffffff"/>
                  </a:solidFill>
                  <a:latin typeface="Arial"/>
                </a:rPr>
                <a:t>CONSEJOS REGIONALES DE 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7 Rectángulo redondeado"/>
          <p:cNvGrpSpPr/>
          <p:nvPr/>
        </p:nvGrpSpPr>
        <p:grpSpPr>
          <a:xfrm>
            <a:off x="4432320" y="3328920"/>
            <a:ext cx="1633680" cy="1017720"/>
            <a:chOff x="4432320" y="3328920"/>
            <a:chExt cx="1633680" cy="1017720"/>
          </a:xfrm>
        </p:grpSpPr>
        <p:pic>
          <p:nvPicPr>
            <p:cNvPr id="152" name="97 Rectángulo redondeado" descr=""/>
            <p:cNvPicPr/>
            <p:nvPr/>
          </p:nvPicPr>
          <p:blipFill>
            <a:blip r:embed="rId18"/>
            <a:stretch/>
          </p:blipFill>
          <p:spPr>
            <a:xfrm>
              <a:off x="4432320" y="3328920"/>
              <a:ext cx="16336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43560" y="3400560"/>
              <a:ext cx="14144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200" spc="-1" strike="noStrike">
                  <a:solidFill>
                    <a:srgbClr val="ffffff"/>
                  </a:solidFill>
                  <a:latin typeface="Arial"/>
                </a:rPr>
                <a:t>Unidades Técnicas Permanent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PLAN ANTICRISIS: ESTRATEGIA DE HONDURAS PARA ENFRENTAR LA CRISIS YCONSOLIDAR EL CRECIMIENTO CON EQUIDAD . El Gobierno del Presidente Porfirio Lobo Sosa se propone enfrentar el desafío de la crisis de las economías desarrolladas mediante la Consolidación de un </a:t>
            </a:r>
            <a:r>
              <a:rPr b="1" lang="es-HN" sz="1400" spc="-1" strike="noStrike">
                <a:solidFill>
                  <a:srgbClr val="000000"/>
                </a:solidFill>
                <a:latin typeface="Arial"/>
              </a:rPr>
              <a:t>GRAN ACUERDO NACIONAL </a:t>
            </a: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negociado y acordado en torno a cinco ejes palpri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“Pacto Social” para el crecimiento, el empleo, los salarios y la productividad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Consiste en alcanzar un acuerdo tripartito sustantivo entre Gobierno, empresarios (incluyendo MIPYMES) y trabajadores, para construir un escenario para el crecimiento económico, del empleo, los salarios y la productiv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nsenso político para aumentar la inversión pública y reducir el gasto del Gobierno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Se basa en la idea de mantener la evolución del presupuesto del sector público por debajo del crecimiento del producto, al tiempo que se logra el crecimiento de las inversiones y se reduce el ga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acuerdo político para racionalizar la estructura del Estado y fortalecer y hacer más eficaz su funcionamiento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Con este eje se pretende modificar sustancialmente cómo se organizan y funcionan las instituciones públicas, con objetivos múltiples en materia de efectividad, simplificación de trámites, transparencia, racionalización de la distribución de competencias (fusiones), reducción de costos.y mejoramiento de los servicios a las personas y las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mpromiso conjunto del sector público y el sector privado para promover y apoyar la inversión en general, la Invesrsion Extranjera Directa en particular, las negociaciones comerciales y el comercio exterior (especialmente las exportaciones.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 Esto implica concluir el proceso normativo ya avanzado, dotarlo de una organización institucional, recursos técnicos, humanos y materiales y desarrollar una muy fuerte y agresiva actividad de carácter promocional y de negociación con países y bloques comerciales de todo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000000"/>
                </a:solidFill>
                <a:latin typeface="Arial"/>
              </a:rPr>
              <a:t>Un consenso nacional para el desarrollo social, la reducción de la pobreza y la seguridad alimentaria. 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Esto apunta a establecer metas precisas para </a:t>
            </a:r>
            <a:r>
              <a:rPr b="0" lang="es-HN" sz="1600" spc="-1" strike="noStrike" u="sng">
                <a:solidFill>
                  <a:srgbClr val="000000"/>
                </a:solidFill>
                <a:uFillTx/>
                <a:latin typeface="Arial"/>
              </a:rPr>
              <a:t>el conjunto</a:t>
            </a:r>
            <a:r>
              <a:rPr b="0" lang="es-HN" sz="1600" spc="-1" strike="noStrike">
                <a:solidFill>
                  <a:srgbClr val="000000"/>
                </a:solidFill>
                <a:latin typeface="Arial"/>
              </a:rPr>
              <a:t> de los programas; asegurar que éstos realicen la correcta focalización de los beneficiarios prioritarios y rediseñar su operación para aumentar el impacto de los programas sobre la población focalizada; mejor aprovechar los recursos administrativos, y mejorar la operación y monitoreo de la totalidad de las acciones emprendidas por el Gobier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000000"/>
                </a:solidFill>
                <a:latin typeface="Arial"/>
              </a:rPr>
              <a:t>las reformas institucionales y las iniciativas legislativ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os procesos de dia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nacionales de desarrollo (comisiones temporates y comites permanetes y exp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regionales de desarrollo (tripartito) (mesas tematicas o por nivel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sa de Efectividad de la Cooperación Externa al Desarrollo de Honduras (es  una instancia de diálogo, concertación y coordinación que le permitirá  a la SEPLAN, a los cooperantes y a la sociedad civil hondureña  e internacional  apropiarse, alinear, armonizar y optimizar  la cooperación  externa al desarrollo en Honduras garantizando que la AOD contribuye al combate de la pobreza, al  desarrollo humano  y a la generación de capacidades instaladas necesarias para el desarroll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iones tecnicas tematicas – construccion de politicas publicas (Primera infancias, proteccion social, ley fundamental de educacion) (a veces tripart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inetes sectoriales (gubernamental, 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jos tematicos . De SAN, social, etc (decretos legisl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isiones especiales (decretos ejecutivos, bajo le y de SAN, bajo ley de competitividad, bajo ley de politicas so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2133720" y="790560"/>
            <a:ext cx="6248160" cy="580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cuentro de Intercambio y Programación: Construcción de Consensos para la Cohesión Soci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419720" y="1447920"/>
            <a:ext cx="3962160" cy="307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S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2057400"/>
            <a:ext cx="77724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alogo Nacional ‘ Borrador de Plan Anti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alogando con el President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OA – Presupues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ejo de Plan de Nacion y de Competit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ejos Regionales de Desarrollo (Socializaci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POA – Presupues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57200" y="3352680"/>
            <a:ext cx="77724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en construcción – Institu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ltura y participación ciudadana - cred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33520" y="457200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rategia Regional de participación ciudadana como medio generador de gobernabilidad y descentralización de la gestión en el proceso de desarrollo y ordenamiento del territorio/ Generación de Políticas públicas Regionales para la Cohesión Social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cción de consensos y acuerdos, apoyo al fortalecimient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recimientoconequidad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alogopresidencial.net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landenacion.hn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landenacion.hn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7:10:30Z</dcterms:created>
  <dc:creator>Rene Serrano</dc:creator>
  <dc:description/>
  <dc:language>en-US</dc:language>
  <cp:lastModifiedBy>Maria Eugenia Cebrian</cp:lastModifiedBy>
  <dcterms:modified xsi:type="dcterms:W3CDTF">2011-11-21T09:16:40Z</dcterms:modified>
  <cp:revision>25</cp:revision>
  <dc:subject/>
  <dc:title>Diapositiva 1</dc:title>
</cp:coreProperties>
</file>