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6FB3-B3C6-40A7-A879-14D078960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15B4-8D8A-4CFB-9332-3FAA5C1933A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45B87-63FA-416B-B15B-05BDE77470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31D8F-6BC6-49B9-B7CF-BE9BA71A2A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AB3CF-19A6-4E63-907D-B22D725D25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36F4D-6AA4-477B-94BA-2C2CACF7B1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93F9-0FFF-4DDA-A0EC-1C3A8D8CCB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1E96A-4D16-420C-A80E-20E68B356D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0DF8F-6A07-4560-80E9-7B687B6B2E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73AE9-464A-40F0-9251-2CA92916DE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EA293-77CC-4962-9FB3-8DB576AED8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028E2E-D52F-4CD1-A8C1-192B4208E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39B0-6DA7-4605-B092-72E86AD1EA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E1A0AB-007C-4A0B-A480-0EC29398470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BA64E-982F-486A-9349-B1DEE45C8E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212309-4364-48D4-88FD-F9C7432484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F06B3-F978-481F-90A6-3707D9268A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6FCAF-3808-43D9-B593-0DB0EC8D99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1C3AE-BC35-4138-AB6F-3D32395795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86AEA-0C02-4CAA-B400-81BDD264ABF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067E0D-E0B7-40FD-88E9-B7EE719CD7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D796C4-3606-456A-A522-C24B273A33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4307D-2DD4-42B4-9821-22C98FE81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BCED-8EE0-4250-8898-52A53800C16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A4459-F27E-4E18-9EC3-5A0252600E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C14DA-0D2F-4881-89B1-A97709C7E43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18DE-284E-490F-AF64-71161E5178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8AB6-2D7B-4828-8ECE-E2A8FCA356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FA30-7AFD-4DA3-B133-FF98816B5C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9A0B-B5FA-4F46-B0DC-7D18390E49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0943-8835-4624-B2E9-EDDD064A1B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073E-E559-4BFD-B9BD-C25FC99E2E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8EDB-D6A6-484C-A752-F77EEFB397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44B3-BA88-4F64-803B-B28D9D5A7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015-6FF6-40AF-BD05-E0A5FFB8EE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D742-FED7-455C-B207-431211AC5A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EA3CE-9C7E-4ACC-82E9-FC731B041E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0A6E-3404-4656-85F7-6B4CBCA6623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8E20D-34F5-41C7-AA17-BE9EDD021E9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E3001-71AA-49A0-9DA1-528ED32147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1A6AB-4223-457D-A808-C82C74C84A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2A0C4-0C92-4E7D-A603-B03899F21B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FF6D0-A91C-4246-9D39-10BDD2150C4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7EA83-2680-4CF2-BE4B-B90BFCE1CE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4F874-04E2-4E50-80D8-D49A93E698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62D-7C71-47AC-A635-480F66D2444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54CEA-9CC6-4FCC-95EC-B3ED2081CAA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3D958-A88D-4C66-AAE1-88B80F070FA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2EACA-269D-4550-B33D-7FEE3000827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72320-DF9E-4976-A7E7-ADEA5415F4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36DE7-F8B0-4A9F-8AE8-78645C1E8B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097A6C-0D14-4C01-A674-3B5BA82C339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168E4-412A-4169-A539-B00F11FC73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41642-C7B0-4075-BB03-04DB476F0F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B623A-80E8-4F71-AF17-0E47D79072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469F2-B094-49E4-8F28-6EA630E1F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84E-51A9-4A57-84CD-FACCD33D0F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9A10E-4237-439B-A781-E2B23797FCA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6E974-5826-4D02-B5EC-C46841157AD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2FB2C-6729-4D41-B89E-F9979161AA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7ED7A-037D-4D7B-9420-6E029C4F29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67C81-298E-4454-A812-8DA5B137859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F031B-5B53-4707-9972-D98C2A5794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15D6A3-20CD-40AE-BB2C-E501765517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736D6-7327-497D-AA34-C3D04FF3C7C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49B5E-8712-4381-8A6A-FC81260E61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F361-A50D-4957-9F7F-9C63AFB67D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44B-2899-465F-BAFE-C5ED586DCE9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5FCC-A20D-44E5-94EE-C54E2C96B9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32E39-9515-431F-BB43-30BE58ACD6D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7C00B-5E02-4AB3-AC19-CD99B224C0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F450-0AD8-4F38-8EAF-F98680A68EB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AB6DE-CDA2-4EE5-BFE6-15680C0A0D8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7E68C-B780-4434-92B1-93FA8712AC9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1D35-61DB-45B5-86B7-97BF60DD37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5478A-65C2-48FF-A5E6-D76E111E74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F8996-1004-4443-AACB-EB9980418B8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B133C-7D0B-4143-B0C7-ADAE0E5C3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7F-AC0D-4071-A352-DA399F70820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63018-7358-4E9D-AD64-52FD7BAF99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CD982-386D-4581-B901-0CCAEBE2C95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C37B5-AA4A-432F-98D8-6138B4B70B4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DBBAB-94E7-475E-B622-C0185EFF82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3AA5E-9150-437D-8EF0-DCDED9C20B5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9E244-6974-43F3-9256-5A4AD6D9D39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A108E-61C8-42EA-B627-5ABC632A8B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3BBD5-39CF-4258-84AC-A6A0FCC9774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6B657-2233-4F6D-B75A-286EA03EA6F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A3C55-B535-4658-9EDA-578778D2B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358-7506-4DF5-B8B6-B9AD87440A1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3406F-29B4-4058-865C-A1673DA1C4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28F63-4684-4855-BECC-EA2F0913647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53FDE-5293-4C10-A092-B1786B4DCA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9D26D-1D49-4C00-AF54-837AD75A3FA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65CF9-1503-4096-BB95-EFA2D71B9FD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5BCEE-3377-455B-B5F7-4B0A1861721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BFD4F-656F-45D5-B2A5-8EEB8C36237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60C06-1904-468A-B957-3AA29E4410D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832C6-A01D-4C74-830A-01F7608ACE2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4077A-B655-4AC0-8DB4-649A0EDDF8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2E5-3DDA-4283-862D-DD995EEE6DD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15D98-D649-4A09-83D2-44842EF48B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D044B-1F66-4525-8D98-6A7CCB83D2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A2FFF-41F6-4525-8BD8-E5C8BA4B14D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E87A-11DB-4C4D-8F52-DACA820CD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F4D-CA2D-44BD-9F61-777B2A1522E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41E-FA30-4548-9CBC-31EA238A955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AF2-4CE2-4724-BD64-4735E81A31D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64F09-1B12-41B4-81F0-2597C7773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9B1-114C-4105-82DE-7E3C437AF2E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4267-97C6-4CC9-9B8F-205C9D05839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A3344-36F6-40F0-B9E8-55585944BA3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71F3-287E-465E-B11A-5F2CB4DD80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41B88-D2F2-437D-BEB4-AD6B195CCB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9FC5E-8E56-4369-A4B6-FB7F95ED349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3A2DA-3BDD-438F-9CE5-D475F0F290F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4020A-00E5-418F-8457-79828ABC9AE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9D972-40E4-47D9-AB1A-E8348882EDA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9894D-5CC6-417E-B5F8-F0AA266F076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CE582-7EF0-4785-B5B0-0A31A08F9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B21-E334-4733-9942-0CE21C81A49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B10F6-EAAD-4F10-A66B-5A1BA5BD91C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405ED4-8A36-4357-95F5-90AE625472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4B16F5-8CEF-4095-AF11-F821B89B20D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9797F3-998A-4F7A-BC37-F3EF632B5C0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ED9D8A-9EFC-462B-BFB2-6DF1328D285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1336D-FAE7-47C8-A6E1-BAB58BC092C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40413-EC40-4896-931D-123F104A7BC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E94E2-F81A-43AA-8A6C-BC5FBCED0D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CD1D0A-D252-4B69-9967-0424FF2FA36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3858BC-AEE5-4D2F-BABC-7254F85283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A048D-AF29-43F3-A506-9FA62037D41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DC8CED-3866-4CAB-B8D3-434B0300366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DC71B4-AFBB-4EF0-944F-D84360F6821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0A4C0-972C-48FC-B186-A5B7DEA4D7A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F152C-1CF0-4A76-82C4-79649B8A2D2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80FBF-EF15-44B6-B20F-384F080739F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717E9-8B8D-4EA8-BD27-1D327A7D0E0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21818-CFD3-49F0-982A-F5C431DC947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AB6A7-00C2-4899-A130-ECBB11A8E7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E27B4-3E17-49A1-8E58-C47DFA264AA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5835C-7CFB-4E81-8FB3-567D7216CA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211CF-439B-4FA4-BDB2-1AB6657C406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FA669-ED23-4FBB-94B8-0B88799B4EB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EF795-2867-4FB2-B060-FC3FC2D1B45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734C9-4D24-4EC1-AB18-379C0081A99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66714-36E9-455B-A464-E9E4A443AEB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40103-8424-492E-9583-B69F6D2FEB0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80CFA-8191-429A-A94F-A07B0FE343E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85A7E-895D-4D18-BBF6-68449433B3A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24E63-2575-474A-9218-E0C648F95E0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A37CC-FBFE-4414-B18A-A537753B0F4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20C85-C873-45A4-B4F9-E199594F8D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8199-F7B1-4520-9FB9-C5F96CC7250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02B2-BD6F-47AB-8543-F60D285F8DD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D0F2A-AE82-42CC-8A7E-46B2BFD486C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F9A6B-EBF4-4B3C-96B6-CB5A1BB242C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2BE5-6116-4421-9F71-C2DE6E3746E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124AB-E178-41FA-A579-3AB7CCCFD76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DD16F-E058-49F1-8D8B-97A589DAFE0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90C2C-2F8D-46CC-9879-75CBA4604E9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3A210-8D6D-4391-B390-CD2F108A380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4D5DF-D6DE-44E2-9F6B-390277E896E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C81C9-85D7-4F19-BDD7-5266CD1D48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F45A2-FE71-436B-A1F7-026DEFB9F59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F37464-F9B0-487D-9E59-170E929ABE8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90395-FBE3-4E78-BA0C-6B6D8C0C93F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A486B6-84F1-4D80-ACE7-AF8852049CC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26F89-FC28-4A5E-8DCD-958A16BAE31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A2E7F7-4A43-4389-BD56-7463F46771A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B2EB77-EB2A-471D-AC7C-94E1841301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197963-9C5A-44A5-8CA5-21461F6C609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5F8538-E5F5-44FF-A9E3-2176436566C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E1116D-232E-4D31-B698-32C70084FA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10C146-99B7-4615-BDEB-829AAF6116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34DBB-61DA-4F22-B2BE-D13F223C85C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0EC3FB-CB79-4DA5-9BD3-669749F9804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144D2B-4733-4FCE-8908-0D0A45E69A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C1691F-580F-4442-9BA7-39152F5B22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A5AE7D-0364-48BF-9367-ACAFEEC038F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06A1CE-DEA0-4A23-A6C9-B95619D9A5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6E9D9A-71C8-4A80-BEA5-D9347E2F052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49F89D-4721-472E-89F1-81E957578EB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65A6A6-E030-4F5F-B59F-44E114647D1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915584-8F7F-45FC-8D53-3EC97D7C4D7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8EF6C7-33ED-4171-9B37-A72BDAACC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A27F-79CD-4CEC-A7C6-E62BD6BA3F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2C83-71B5-44FC-8A61-D800734AC7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F080BF-0DDD-49B4-9C4B-EF9B43CFF92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80EF6-7F3F-45D4-B665-0DD700D4B04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9AA57-78E8-4354-A083-2A444F82ECF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56669-3453-4AB4-B07F-56AF2B7980F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C5E4C-7B8C-468A-A6CC-4C9D6259838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566B1-9BBA-40C4-B5DB-84284396F46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E1AE6-4B04-4811-B54A-C91FC89CF08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3D522-9691-4E40-8BF7-949672BF914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C00B0-7FE0-4EAE-BEBC-C99F0C3C8BD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E8A37-B812-45E4-B258-C94716B346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69391-7299-447C-A39D-D3BBF884B33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0014A-46FE-43B3-8071-D21A8BB0393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48C4C-D517-45E6-B324-CCF1E9886C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7F73B-8CBE-47F1-B9C7-5D46619DA47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0E29EA-2F94-43FF-9B5C-CA67CEE3967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90F439-4DA9-47F8-9407-7A6600D27E7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7682ED-2FFE-4039-9DE8-D6BCB057BCE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A62E37-F351-41CD-97A1-DFA9FC0FB7D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58C564-7406-4960-B807-852051DC8FB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6FBE8A-120B-4FF8-9A67-7029762CF2E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6734AB-DD83-4B01-83F3-50692A7BD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8D58-BD9B-4A05-AB6C-1A643830903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430850-DEF3-47BD-91CD-1EEB11759D1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402C8D-91F2-40A7-A311-44767B3B593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A74557-D240-4CC8-BD46-3C0AF458D73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386A10-55F2-4879-B56B-03CCD5CED5C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1EC7E9-2B34-41A8-96A0-9F07EE922AE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0E4806-D682-42F5-9EB4-C5ABB2B2520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44619D-FBF1-4773-94C2-112A7C49E3B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0BCFFA-BFC6-4552-AAF5-AC89BC7ED98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4B64BD-4C6C-4393-B25A-C69EF25E1BD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89E325-E4D4-498C-9DD4-98C7F254EC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16EF2-D1CE-45F7-9309-2FD72C3B12D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2E91CE-A826-47B8-9E09-1DC63257623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5386E5-5375-42D6-A5AA-1230463F646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710024-3B12-4925-A307-C1F10A47063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0BDC38-A9AB-4C75-A243-4D6D1CD8AAB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556469-D474-4B85-90D9-C12CB2BEB18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8C3236-DACF-40D3-A3A1-75B31B30D37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34E060-F7AE-4FFB-B9AD-66D2EB1CE1B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2D456-599A-47FB-828C-F714099DD5C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184C-4DEF-4E73-9C58-07C62F2FE88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5D195-7A1F-41A6-AC00-FD34A6A29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B4B4-2D36-49A6-BAF1-6AB0D375106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C348C-39AE-4703-B1E2-AF14C472BE2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33C9D-55D2-4647-8482-EFA5C0925B5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87E7B-7D68-40C7-AFA5-B51B27B90CE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54D41-CA65-42D7-A887-9B349F82872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48B43-BB56-4E2D-86F9-4F9F3C6569B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99A45-AFA9-4A27-91AB-1E1A64FB9FE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477DA-5082-4AE2-847D-2A52A5AEB5F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D94A1-3D3F-4932-B4E0-B020BCED1D8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2DFA4-3100-46E0-9DF0-87FFD98FF3B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BBFD72-1BE2-4736-8938-FB74F6AF9B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A3811-C926-4B32-AE06-E37DBF4E3F4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405694-8F52-4EFE-A17B-97B5E5A5CF6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982F5D-F693-40EC-BC41-0B3238137E1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DC0BBC-ED60-4DF0-A674-61565540243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574302-FACA-412E-B0AC-9B9D91D34D0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9E2692-B490-4F8E-B30D-708FE90C21F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0F81DC-2631-4E68-8FE9-03937D047C6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D8CD6D-3E5F-4606-82FA-1E16450742F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01D4D1-067F-44B9-8AD0-A88E356D898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D5DCDD-B562-4F01-8898-B035214446C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856164-9D4A-4C0B-B54B-8E2CEF5DD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F068A-F6DC-40B5-BF56-02502C1D9E8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2E5B2C-DB43-45DC-8D62-C675DA98842F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2E6-A2E8-4149-A722-E873D2A5E2F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766-D4C6-4BA2-9C25-109708AEB5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732-C56D-42A0-9C0E-6CFD5C2AA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1B37-32A7-416D-A9D7-16FDFFB264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E54-892D-4062-8282-2E5EE725EC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7DA-938B-405C-97AB-0CE69E674A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B1A-989E-402F-88D6-863F1DCB15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84D5-C081-44A9-8685-8C6A4C9B62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A88-98F0-4466-A3AC-8487B53155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2453-6E0B-4380-B612-BF1E558DF6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181D-6F36-4FB7-9DEA-7D930FC227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B423-7593-4AFA-B2E1-19B896016D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07C6-5B80-44F0-81CB-48FA1F3E6A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3806-40B9-436A-8C29-87C8DEA16D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143A-7C1D-4D00-89DD-723A6693ED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D84F6-6F77-42D6-B725-7535BA1460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98E8A-EE47-4963-B0E7-C17C88E9F1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10BE1-3D87-4E86-A9BB-D95BC61CB1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020C0-72C1-4DAF-9964-EC36467467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1005D-4AAE-4398-8374-2C1607D31F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38E96-92D4-46D3-96A4-4C4F2325EC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33747-41C7-4E95-ADB6-498CF0B37C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1C60F-9002-42BC-9EE0-BF8CB4623C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6781B-5EA3-484E-A0D3-48CA90C9E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CA7D-7874-4F8C-B0F5-0D6554E06A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04554-2494-4302-9ACB-2F074B63FD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88E1E-2293-426C-A795-84A0B8AF6C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1C74F-0E4E-4B62-960F-06DE87A88E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3668B-6C33-47A1-88A0-CFAE1334C0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12C37-B9CD-442F-8DDF-EC8802F62F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1362C-2E8E-4B36-88BF-3463FD07DF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D13C1-8D7F-49B8-B151-69996357A7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EC48C-A186-4E95-B19C-C9CE9296D4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350A5-2AC8-47DC-BAC6-37BE89A9D5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19798-C4E8-455E-B308-63F3A3D5F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55F4-47B7-4C3D-98E1-C0F6A078EB7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CEC2A-F734-4B2B-83D6-0589B12222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EF931-DD1D-4953-B9B7-5CD7A4E6D9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B6C09-B49B-4C5B-BFBB-387822D866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1C96F-BE12-4353-8203-A5DAE882AD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19C9C-FAE5-483F-851E-006271A608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7E92-1094-4457-9795-603DD4C151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96C1-C740-4221-9A91-0892F4CD80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50D9-722C-4192-A346-4B347819D9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4409-8F08-4316-B438-4516D6C84B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406F-BD31-43EC-B170-2A63E4BD7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6916-2085-4443-84D0-ECCEFBC47B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8EDD-ECAB-4F83-B616-6E6D6AB0FB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28E2-07C6-443F-8A1F-40D07752B3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AD28-7AFF-4C0E-BC41-A0008E29C5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4D97-4A7D-47F8-B39D-C7CBC41B22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6405-6B84-48D9-A7D0-4ADA0F9826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B560-827F-45C8-A64B-7E2515F6F3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5E25-822E-480E-84B4-7A94EA730D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73B0F-D605-48CD-BE88-FB5FE75F23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475BC-A580-4540-8148-EBF259748CB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8983D-7399-4FB7-8D99-06DCB8ADD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CB36C-94EC-458A-9DD7-A93F1333626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1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68AE-1FFA-4BBB-B4CE-7B8F33FB5B5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1696D-53A4-4553-8F07-4EDD19E9EC9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7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DABA4-40DF-4898-BBC8-A5F24143105F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1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C9627-95C7-430C-8A48-8C0A37178654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59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2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2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92E0F-891F-4FDC-9DF0-62E61B4E21DB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13614-25A5-466C-A30A-9B2BE357121B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4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2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2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2FD6E-232F-43E6-9CCA-FF5E660CDBE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73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77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" descr="EPD-PPT_cover_forMS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3" descr="EPD-PPT_cover-LOGO_PNG24.png"/>
          <p:cNvPicPr/>
          <p:nvPr/>
        </p:nvPicPr>
        <p:blipFill>
          <a:blip r:embed="rId6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FF5E4-A481-4290-9870-6D2533FE8766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2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3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4F81D-3E84-4B8C-89E4-A43AAC010317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ftr" idx="3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sldNum" idx="3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32460-3AD8-4FF8-A4C8-F43E2EF0F4EB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0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3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3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A7227-4856-4A6B-93FD-38978DC0333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5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5B014-EE98-43CC-B74C-2BE14F18BA1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9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ftr" idx="3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sldNum" idx="3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CAE6E-0ECB-41C3-8047-6215BF8C021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3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sldNum" idx="4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87075-23CB-46CE-950E-500B46A80B77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8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4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4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67E65-A4EF-43D1-BF8F-FC46E0E81903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ftr" idx="4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sldNum" idx="4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D0C9A-6EAB-48E9-84EC-DBF268AC036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7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ftr" idx="4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sldNum" idx="4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D2F6E-3138-4424-83D4-349E7172DDA4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1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4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4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F0015-7420-4108-91CC-69C17A8EDFE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BD658-D8CB-41B9-8360-71317D96003F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ftr" idx="4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sldNum" idx="5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2DADB-D43C-47E6-9494-B4B5ED3C2F7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8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567FD-6D85-42B0-94AA-DAE1004EC7ED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0176A-42C5-409B-ADFA-621D2E4E39BD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6FB7F-71D7-454F-B700-D7755FAF6496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231AF-9920-4D91-BF8C-4975324644D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1C77C-5641-4A34-90C9-861B29EE6AA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269640" y="4671720"/>
            <a:ext cx="868356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ENCUENTRO DE INTERCAMBIO Y PROGRAMACIÓN: CONSTRUCCIÓN DE CONSENSOS PARA LA COHESIÓN SOCIAL , ASUNCIÓN 15 – 17 DE NOVIEMBRE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ontexto de progresiva perdida de legitimidad del régi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ícil situ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de excepción y golpe militar a mediados de los años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lización y contest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vimiento Solida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glesia cató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de negociación se constituye en 1988 cuando el gobierno del General Jaruzelsky reconoce como contraparte política al Comité Cívico establecido por Solid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92348-06F7-4A73-8F85-9213F330E656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redonda se concentra en tres área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ización económica – propiedad privada, abolición del control estatal de las 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política – elecciones y nuevas estructuras institucionales (separación de poderes), calendario de tránsito hacia un sistema de plenas garantías democ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social – derechos de los trabajadores (asociación y sindicación) – ruptura del papel centr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32876-6191-40B5-9D2D-E2707C4A5248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presentantes de Solidaridad juegan un papel ambiguo en el marco de estas mesas de negociación: por un lado tratan de defender nuevas conquistas para los trabajadores, al tiempo que abren la puerta a las reformas liberalizadoras que arrinconan el papel de los actor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 tensión se pone de manifiesto tras las primeras elecciones democráticas. Dureza de los ajustes estructurales empuja a la base a manifestarse y de esta manera se rompe el equilibrio inestable entre el rol político y el rol de actor social de la oposición que había mantenido el liderazgo de Solida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sultado es la creación de una mesa de diálogo tripartita (Gobierno, Sindicatos, Empresarios), que permite articular un modelo de diálogo social permanente y más efectivo en el contexto de las políticas de transformación económicas de los años noventa (comienza a funcionar a partir de 1994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AF027-1829-4FDD-8932-3F916DF8769F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polaca de las mesas redondas durante la transición representan un modelo híbrido a medio camino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sa de diálogo po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 de pilotaje del proces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to Asamblea constit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 de concertac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 funcionamiento responde a las necesidades de una coyuntura política muy específica -  su funcionamiento pone en contradicción las estrategias de los actores y acaba por romper 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stablece una primera praxis que permite la construcción de institucionalidad en torno al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dad, sin embargo, no necesariamente significa una potenciación del diálogo social a partir de 1990. Por el contrario asistimos a un paulatino proceso de desmovilización ciudad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 – ALGUNAS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F815B-F2E9-4B07-B9BC-B7608F6D087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los años noventa se produce una desconexión efectiva entre la ciudadanía y los actores sociales, así como entre estos y las instituciones polít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reformas (muy duras) son percibidas en muchos casos como un mal necesario – al menos desde la retó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iudadanía se retira del espacio público para concentrarse en la articulación del espacio privado (paliar las consecuencias individuales del proceso de transformación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zación de practicas corporatistas (como en el caso de Polon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gresiva tecnificación de los procesos de reforma: la forma predominante de incorporación de actores sociales es a través de la movilización de expertise (nacional o internacional), mengua el carácter político del proceso – fuerte influencia de actores externos: IMF, WB, UN, NATO,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minución de la capacidad de las organizaciones sociales: movilización, recursos financieros – dificultades para transform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¿DEMOCRACIA SIN CIUDADA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4A081-E896-42B1-82AE-8C4E0C0F7D5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68840" indent="-1688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l año 1997 se produce la revitalización de los espacios de diálogo social en el marco de las políticas públ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corporación paulatina de una cultura de gobernanza: incorporación horizontal de actores frente a la integración vertical – desarrollo de experiencias piloto (de la mano de la cooperación internac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lementación de los programas comunitarios inyecta nuevas capacidades y recursos (económicos) al tercer sector en estos países. Fortalecimiento de su papel en el ciclo de la rendición de cuentas y como socio de las administraciones públicas en el marco del diseño y ejecución de las política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eminación del conocimiento y expertise en estructuras endóge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ctores sociales completan el ciclo de transformación desde el momento transicional: nuevas competencias en una sociedad abierta y pl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vos mecanismos de institucionalización de la participación de los agentes sociales en el diseño de políticas públicas – respuestas sect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GOBERNANZA, POLÍTICAS PÚBLICAS Y MECANISMOS DE PARTICIP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15F9F-AF92-474B-AE72-1388DAFFF31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 los espacios de concertación social: Comisión tripartita en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nuevos mecanismos para articular la participación de la sociedad civil en el ciclo de políticas públicas: Establecimiento del Centro de ONGs en Le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vos mecanismos de concertación y participación de actores en el marco de la reforma de políticas sociales: la experiencia de la reforma de los sistemas de educación vocacional y formación profesional en la República Che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6FA13-3443-4A81-98D1-F32153478DAC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desde la política a un modelo de articulación corpor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construido para enfrentar las huelgas de 1992 –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la articulación de un mecanismo permanente de diálogo social y concertación – se consolida institucionalmente sólo e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indicatos se disocian de su papel durante la transición política -  transformación de los sindicatos en una estructura de agregación de intereses colectivos más allá de la geometría de los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entación relativamente amplia en un contexto con gran pluralidad de organizaciones: Cuatro sindicatos principales; Empresarios;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gue reducir sistemáticamente la conflictividad social – mejoran las condiciones de pilotaje del proceso de reforma política, económica e institu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1120" indent="-1569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- COMISIÓN TRIPAR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AA518-EEEA-409C-85A7-B0965E94555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1187280" y="2144880"/>
            <a:ext cx="72453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a en el año 1994 en el marco de un programa internacional (Fundación Soros, UNDP, Gobierno de Dinamarca) para el fortalecimiento de las capacidades de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miento en dos dimen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visión de servicios especializados a ONGs – recursos y capacidades / coordinación de posiciones comu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ategia de cabildeo hacia el Gobierno para mejorar el marco institucional de funcionamiento del tercer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geográfica – apoyo a las ONGs fuera de la capital a través de centr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275C9-B146-4F0D-9A2D-B7940BC5BEA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s impactos positivos a partir del año 2002 – reforma de la legislación para garantizar la participación de las ONGs en el marco del proceso de articulación de las políticas públicas: Reuniones regulares a nivel del Secretario de Estado – Vice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l Centro de ONGs como coordinador de la participación de las ONGs en estos for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2004 se extienden los mecanismos de consulta y los espacios de diálogo entre las instituciones y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la incorporación efectiva de estas estructuras al acervo de gobernanza en el país – sostenibilidad del mod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 de la financiación y las ayud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ción del liderazgo de las ONGs locales sobre su propio proceso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62595-24C6-4B1A-AFD4-E48F0C4553BF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187280" y="2030040"/>
            <a:ext cx="7245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3d596c"/>
                </a:solidFill>
                <a:latin typeface="Arial"/>
              </a:rPr>
              <a:t>CONTENID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roducción y algunas preci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6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centro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ementos de 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momento transicional y las experiencias de diálogo social y político en torno a los grandes ejes de la transición política (Polo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¿Democracias sin ciudadano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periencias recientes en la consolidación de la participación a lo largo del ciclo de las políticas púb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9A9AC-EFA7-4ADE-9182-03C86FB72A6A}" type="slidenum">
              <a:rPr b="0" lang="en-U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destinada a mejorar la articulación entre el currículo de la formación profesional y vocacional y las necesidades del mercado de trabajo en la República Ch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se articula a partir de la creación de espacios de concertación en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uelas de form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es y expertos en formación profesional y vo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ociaciones de Padres d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sarios y empl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opera a escala nacional pero a través de una implementación descentralizada -  las escuelas tienen el liderazgo del proceso dentro de lo establecido por el Programa-Marco de Educa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E6BB7-208B-40E1-A372-9385D16C61B5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modelo de reforma ha enfrentado algunas resistencias iniciales por parte de las escuelas y de los padr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mente se trabaja en la implementación de más de 30 Programas de Educación Piloto. Los resultados de dichas experiencias piloto marcarán el éxito de este proceso de reforma participativa y 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ultados de la experiencia, sin embargo han arrojado un saldo positivo desde el punto de vista de la participación de los actore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0C9B7-8542-45F8-BFB2-108B9B922A8A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1997 se produce un proceso paulatino de concretización del papel de la sociedad civil y de los actores sociales en el marco del proceso de las políticas públ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un tránsito desde un modelo originario de diálogo político (visión de país) hacia un modelo de diálogo en el marco de la política y de las políticas públicas (norm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un proceso que corre en paralelo a la modernización de la gestión pública y de la administración pública en el marco de la incorporación de estos países a la Un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este momento se produce una diverisificación de las instancias de diálogo: consolidación de las comisiones de diálogo social, establecimiento de mecanismos de participación y coordinación e incorporación de los actores sociales en el marco de políticas públic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C2B34-E483-47BB-814F-9DAB973CFFF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sultado es una incorporación efectiva de los actores sociales a las estructuras de gobernanza: propuesta y diseño de las políticas, rendición de cuentas  transparencia, provis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roceso de normalización, sin embargo, convive con la extensión del desencanto de la ciudadanía frente al funcionamiento del sistema político: desmovilización y transformación de los mecanismos de liderazgo público. Una dinámica que se transformará en la medida en la que la crisis financiera global exija la construcción de un nuevo pact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5CC1D-866B-4207-B05C-8E8E0C486A65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xperiencias de participación y diálogo social se estructura a través de dos niveles diferenci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trucción de grandes consensos políticos – momento trans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1199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eriencia de modernización de los modelos de gober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cierta medida interdependientes pero que se desarrollan en marcos políticos, sociales y de política pública muy diferenciados (transición vs. adhe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imeros años de la transición la dureza de las reformas estructurales limita la capacidad de los actores sociales y por tanto la efectividad de los mecanismo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ceso de adhesión a la UE es fundamental para entender la consolidación de los actores sociales en el marco de las políticas públicas y del proceso de incorporación del acervo com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72423-C122-4413-9AAD-7959025244B1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ún así las experiencias de estos países han sabido construir sobre las fortalezas originarias de su tejido asociativo – no hay que olvidar que fueron los actores sociales los que consiguieron el derrocamiento de los regímenes comu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se ha avanzado hacia la constitución de modelos de interacción complejos que muestran la madurez de los actores sociales y las administraciones para trabajar de manera conjunta tanto desde un punto de vista estructural como desde un punto de vista 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D418B-274F-4A84-9D97-B321A7E14F8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14"/>
          <p:cNvSpPr/>
          <p:nvPr/>
        </p:nvSpPr>
        <p:spPr>
          <a:xfrm>
            <a:off x="282600" y="5257800"/>
            <a:ext cx="5105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CARLOS HERNÁNDEZ FERREIRO</a:t>
            </a: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_ </a:t>
            </a: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DIRECTOR </a:t>
            </a:r>
            <a:r>
              <a:rPr b="1" lang="es-ES" sz="1200" spc="-1" strike="noStrike">
                <a:solidFill>
                  <a:srgbClr val="3d596c"/>
                </a:solidFill>
                <a:latin typeface="Arial"/>
              </a:rPr>
              <a:t>EJ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EUROPEAN PARTNERSHIP FOR DEMOC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Avenue des Celtes, 20/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B-1040 Brussels - 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+32 2 733 22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carloshernandez@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www.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1187280" y="239184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recer insumos para el debate sobre la mejora de los mecanismos de incorporación de los actores sociales y políticos a lo largo del ciclo de las políticas públicas para la cohesión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r algunas líneas básicas de la experiencia de los Estados Miembros de la UE de Europa Central y Or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OBJETIV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A0B60-C029-4836-BA29-610722107819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tir un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9 países de Europa Central y Oriental conforman un rico “vivero” de experiencias de cambio institucional y político – muy difícil de resumir en una pres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ajustar las experiencias a la demanda real a lo largo de las discusiones de este seminario – (esta presentación es sólo un primer insu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habilitar un diálogo entre pares para asegurar la transmisión de experiencias de manera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ción de algunas respuestas institucional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PRECISIONES INI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2FF79-7B9F-4368-AECC-41DC7DE1919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80000" indent="-1800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encontramos ante un proceso de cambio profundo que afectó a todos los órdenes: social, político, económico, institucional, cultural de estos países – transito entre dos cosmovisiones antag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los que las dinámicas políticas y de cambio domésticas han coexistido (no siempre de manera sencilla) con la influencia de procesos/actores regionales/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mantelamiento de la Unión Soviética (a partir de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de integrac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luencia directa de la comunidad internacional, de manera particular en el marco del proceso de desarrollo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57BE6-EC77-46BF-BC70-6055D8B3EE5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momentos cl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a etapa (1989 – 1997): Construcción del andamiaje de los nuevos sistemas democrá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es individuales y 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stitucionalidad democrática y separación de pod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básicas de una economía 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neamiento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a etapa (1997 – 2004): Proceso de integración europea – implementación de los Criterios de Copenh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ineamiento de las políticas públicas y de los procesos con el “acervo” de la 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arrollo de las capacidades políticas y administ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52A79-8058-41EF-84FE-4094A0F18BF9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4600" indent="-1746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en un plazo muy corto de tiempo (20 años) de la condición de países receptores de asistencia internacional hasta convertirse en “donantes emergentes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histórica muy viva sobre las dificultades que han jalonado los procesos de trans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eriencia reciente de implementación de programas de cooperación internacional y de asistencia técn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muy joven de activistas que pilotaron los procesos de cambio. Hay un trasvase entre el mundo del activismo social y político hacia el mundo de la administración pública y viceversa. Ejemplo: República Che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untad clara de transformar estos procesos de transición en un valor de la acción exterior (a nivel individual y a nivel europ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E31D1-248B-4F57-8DA4-9654C6E0E90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el punto de vista de la articulación del diálogo político y social los procesos de transición en Europa Central y Oriental se han articulado en tres fases (fechas aproximadas) y por tanto en tres niveles de experiencias diferenci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89 – 1990: Inicio de los procesos de transición – experiencias de las mesas redondas de concertación en Hungría, Polonia o República Checa - diseño de las grandes líneas de política y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0 – 1997: Segunda fase: enfriamiento de la participación y la movilización de los actores sociales y políticos – la política queda en manos de los políticos /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7 – : nuevos modelos de gobernanza reactivación de los canales de participación en el marco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C4A1B-3770-4E56-9163-C55847DB9127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esas redondas articulan el tránsito entre el nuevo y el antiguo régimen en Polonia, Hungría y Checoslovaquia. Establecen un espacio de concertación entre las autoridades de los regímenes comunistas y los representantes de las fuerzas democratizador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rticulan como un espacio constituyente: establecen el marco básico sobre el que se va a construir el andamiaje institucional de las nuevas democracias en algunos casos (Polonia) se incluye el mode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mismo tiempo son un espacio fundamental para articular los tiempos y los procesos de la transición política e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MESAS REDONDAS Y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AFC05-12D7-405E-A0B2-DD2C3E98E64C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2:47:22Z</dcterms:created>
  <dc:creator>D N</dc:creator>
  <dc:description/>
  <dc:language>en-US</dc:language>
  <cp:lastModifiedBy>Maria Eugenia Cebrian</cp:lastModifiedBy>
  <dcterms:modified xsi:type="dcterms:W3CDTF">2011-11-16T11:26:09Z</dcterms:modified>
  <cp:revision>104</cp:revision>
  <dc:subject/>
  <dc:title>Slide 1</dc:title>
</cp:coreProperties>
</file>