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A0562-C306-4E89-845F-582F96D0A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3DA1-CF8D-48F4-8971-6C298435312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B20184-DB1F-4A1E-AA06-648C10C25AF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3AAFD-5013-40B7-BDE0-72F5B9A284A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3AC68E-C0E2-4042-AA83-FFBA7AE32A4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D4609-B73F-4752-8C9B-A11464F8395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A6770-5C3D-48E1-8E62-9EC210032D8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FA6C3-868C-4C82-84FA-6C13C5FC9CA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0A73AD-9128-4B96-8262-5755134924C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1F51B-91E1-4F4D-A9BD-1D83DB581A7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DB716-E786-43F5-8245-F3683464C99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6FDDFC-BA0D-4001-A270-57A6AA67A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29F2B-C90E-477C-94CA-125FE77DA7B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A8F6FF-E8BF-48F9-BB8F-DA36882053B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46ECF0-278A-424B-8144-8A12923A1D8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922B56-C2F0-4F06-A1E4-DC47BFA232A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E89C4B-FBA6-424B-9AD3-30D92504392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AE548F-3EB9-41F3-8FDB-A6B62D84F7C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E32DB6-5C1F-4865-B8A9-BF6A18517C0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C4D9AB-FB85-4852-94B3-B973454AF96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68D55A-B983-4E96-8470-B7969CE8C4E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B675D3-6685-4022-944F-55C90CA0B98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574118-6B22-4039-A746-9466A2EC9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C8670-E96F-4326-8177-4E9AA7A77BA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C5BD03-A2AB-4708-B34C-1F233969EF4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A734B-507A-4DF8-A26F-2D7162BEDA0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08CEE-3D06-487F-92BF-E7E2D0DEBCD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6FD11-0586-4DDE-91FC-A65B07EBDA5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07450-0B04-45DD-9680-0894E44C8A1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4EB84-6C75-41D4-A320-F22E8AC6781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82E95-4897-4BC2-9941-67E88CC7F99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26016-8543-4B76-BE55-FE9EAFF340C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EB31D-C2C2-48E4-B045-C31354D8E08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DDD0B-AB23-4D2B-8E5E-E2EA43255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F32-C7B5-49D7-905B-636C06FF33F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BE785-E5C5-48BE-A41C-56FB05EB41E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055DC-E1BC-4064-B081-1DC761C3702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34C66-6B84-44F1-9B59-AF7EC878A49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E8AA04-52C7-44EE-AAB5-3175AB9BCBE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0DF3D7-CD95-49F7-A120-E0BFD37CD15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BA7949-EF9B-4EB4-93F0-FD8AF161C4B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741122-36CB-47E0-A6B6-1923C44D01D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B660A-1B1F-410C-9B51-C4657E9298F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9DB8F6-B43A-440C-8F5A-683E5BD7C55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7367E7-6F69-4B8B-B55E-184840D363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200-9902-406E-AEE3-E8FDD7A010E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9169C0-A6E1-4C33-A3CA-3007E8357FD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3BF0D7-802C-4A18-8F25-12EB0DF2508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938FAD-9632-4565-B0D6-E8BEC36DEB0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D728E0-A898-4DF1-B84E-C079C758F9D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F7CBD-5C31-4280-9BE9-4DBBBA7A4C9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5369C5-0B6F-435E-8A08-CAA508DCC41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CFE5C2-58A2-4E42-B0D9-CA798FF1952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0F1094-D75C-4AC8-B713-E7A12170F35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5F6F43-3B95-4321-ABAC-C86949908AA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02D149-CB5E-4FFC-8FB3-1A78A03AED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DDA-1DFE-4437-85C1-61BFA863C47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2328B8-FA58-41AB-8454-44BFD5CD0F2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DC4C16-9D7A-422A-A9F4-B592504D9BC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4025CA-A06D-4DEE-98C2-BBE7C705239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179301-320D-406A-8B56-4AE63D11AF4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52CB49-F383-4453-8953-00635A44951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2A1903-4640-4610-8A98-4933408017F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A16EF6-E054-40BD-9DA1-00A8DB5E875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621CD-FB4F-4D13-9B43-7E4F63C3232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39134-71B2-46E4-B509-AE2C973CA70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D528A-21D6-4A75-9C45-6A0F5FB4CB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123-DABA-4C7E-9F15-10A62E618B1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E4E53-CA5B-481C-9AEE-FC7C4C3B3E8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444C5-BB0B-4C04-8A44-86B116B9BA9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BFD84-BD95-4010-AFFC-EB003205CC5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A4A62-D268-4E7C-BE6A-25AEC0044B5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98BDD-07D3-4E8F-A14E-AD8C07025CE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A94CB-122F-4CB4-B6DF-EC4EB8EDBCE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BD8F8-A867-4C96-B654-B57B8627C07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A48F8-F79C-4A78-B94A-F8505318F11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69EB2-5566-42B5-97B8-4377F21E21C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88524F-DFE4-4454-8914-1B79FD56A1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3CB-7F61-4FC1-A511-AE5DFDBFF49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6A7FAD-D921-437F-A604-18E2CA1475E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4A78F6-0B92-48D4-A816-85EAAED220D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F7DCD3-15D9-4E05-8818-9A42AFAD620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163251-57FF-4E39-A72D-5F148DD1C4F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00EBFD-C1E3-470F-A7A4-2639FFC0484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5242E5-A440-40FE-B428-A34914212DA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F0B33D-9865-4015-A1C6-455F4EE15BD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530FA8-9664-4ED3-BC1E-5B249AB7184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A9D3BF-B0B2-42B5-B062-C33B26A2882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B931F6-3A67-4307-AFC6-E16D28C3CC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880-B1A6-491D-AA89-F54B66FC8F4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EB2C6D-9595-4817-ABEC-14D03FC9D1F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0A50F-1293-42ED-BABC-653582C36AB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6226B-B7B4-404B-9E45-8AC99E37156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78DBD-0F81-4169-8176-DA588A6CD18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9B215-7C8C-46CB-ABA4-C4D0DE9D13B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7B224-BC93-40BF-A731-13F3741AA31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5A22C-8AFF-4BE9-AD34-37602136209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84036-D33B-4124-A205-D8B40AB8453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C8796-2A2A-4454-B709-5F3EADD8B6C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1C241-5F36-465E-B206-8FEF39EEB4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915-E56B-4C24-BF2B-01C5B1530A0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535B5-3BA6-4A08-9EBB-00EE18DA5EA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51F15-BEFC-4152-934D-90F110BA15A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E3FFB-3CBF-4E05-9B40-6BAD93D8AD1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BD7E-05E9-4686-9ADF-CCF3655A2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332-0BCD-4E5F-ADE6-6247554DB07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D16-E4CF-4DD3-B203-F2587B50B70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B2D-368D-49EE-803D-C86EB3EE103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D8BE8-8DD4-411B-99F9-1F298510C3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54A-0FBC-44CF-96FA-E92C35D75A3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05B81-045B-44A3-A288-78EA78216D4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962E2-A5DB-438C-B644-A2FCE10033F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D649A-2979-4910-92A4-40D2CF29956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F83DF-D7C4-4763-9D6E-B6354AFC5EF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90FF5-6288-44A7-861A-7516E361317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91FB6-4D07-43C2-AC17-1AECD28DCC7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0D317-85FC-4F20-A0F9-4C343D09F06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CAAB8-5779-4724-BE68-3AB4AB3961D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247C1-C3F8-4116-BF4B-F00BA026377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1D51D-6B97-4909-8488-F3D7AFFD1B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E22-E3D0-49AA-8D6E-9DA8A2A3F75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CA46C-A610-4EF6-95D0-141F2388619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AE78E5-8EF0-4749-9056-FD7ECEC67DE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0394F7-B5F7-48F5-AFDF-BE4133A9745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F53CA6-41CF-45EE-9813-25222912E7B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507431-94EB-49B7-8399-00E27CB4D28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22FA9B-BBA5-4FEF-8B56-33F0B6B91E2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0D400B-887F-4367-A435-4416943999B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E7D9F7-9EEE-413C-B27A-BEB9782533A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A1C44D-4E10-46EF-A377-AB869C77F32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D9B7F8-E035-49C1-8401-C0DDA0F633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A7CA8-BE66-45DF-9593-E8AC6C14D85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F972B1-D2C3-4990-8165-B5C5BBD7682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8F2B66-1E87-4E85-81A4-AB225458B9F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28F011-6BB8-4B78-9B4B-8183CBF92D1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44884-F227-4DD8-817D-10D0B579D0E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927A72-7DF0-45F8-A509-C044099D585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C7F63-60F6-4F60-B2FA-A13B3A3AE78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22D0A-CF09-405C-B5F8-46C024116D7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098C9E-71A5-4C11-99E2-9BA192EF0CA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B2E9F-4EA5-4D8C-851A-0AF8CC1A483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23EA4-5782-46FF-817D-51E0E894BB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6B66D-CD04-4BE7-A82A-595918E13EB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A247B-15DF-4BE5-8C16-B07D5717118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3E3AE-7700-449C-8374-227B3A08918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CC2D5-7699-4513-B1EC-CFE5AF4465B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B0A92-DB33-445C-B7AD-DEBDA802542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31BE3-9067-47F8-986A-EA8BA377E06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220F7-3F3C-4276-A03E-D7919FA4819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7AA00-1770-45AD-B20D-92321E87E26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60FD4-09C1-4FC3-A5F0-B0AD148CBB9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8BD01-7DF3-4609-BCE3-6B306387729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77D9D-DD50-437E-84CE-E787688F68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487A5-79E0-400B-B0E0-FF47B24D8F5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21DE1-4083-4EAA-93CF-1961C023B50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0A7E8-0350-4BF3-997D-C3C17FB8CDA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0E6D6-1C7A-46E6-9521-952540296AA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EF574-68CE-48B9-B873-097913A4AF8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FBDE8-2866-4324-BDD9-ADE1C6A9DD4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BC463-B353-4EAD-92D0-B565BD5907B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5E0A8-4937-4219-8523-78150B5121F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FF325C-5529-4327-A90E-CC887F9A259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DD41E1-6D35-4C84-97BA-2D05496A287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75A2D1-8F86-4DD1-9109-BA3DB8BC8B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63C17-7722-4A23-9CF5-54EC0953F71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ED927B-A615-46B7-A57B-5775EFD39B5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D57C00-C474-4DAC-B9C0-EF4E80B37D1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D538EB-C5D9-44B2-97D0-0BFB2807AC6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8CA62A-AB3C-4A23-9F9B-28E7CB0E433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1A208B-306A-4443-B87E-31386E37694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CD2401-29C2-4819-BD95-BDC902B9275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C98345-80A5-4332-B487-CBF264C5D8F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B59034-CEDD-433F-891F-930F4182528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205ADA-1E04-4ED2-B510-762D916FF8A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7D5046-3705-4D42-A8A9-401AD5EEC3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3CD2E-D983-440A-815F-B809F64762C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C23E45-EFB6-438F-8D4D-E5F1CB27C84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2C7A9B4-888A-494F-89D5-49E4AF3F358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2898EF-EE4F-45E2-8E86-DBB0F660FB0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994BA7-651F-425F-9F27-990D0179022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3F1330-65D9-458B-97B7-1AA4FB42951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707659-8C8D-4039-8E4F-E0A28DA7698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9BAEAF-3249-40AF-870D-16E7F6D05DB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5BCEA71-527F-43CA-BED5-31D876A0C94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BDA2EA3-76D1-46DB-B8A8-E54C10ED050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CE0690-F910-428D-A152-8E94074931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658C-C128-4394-9989-A596DA309F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E4A9E-72BC-4CBA-8533-06699E949FD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54B5EB-8A09-4D94-9052-F7FE96C110D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4C369-20F1-42FA-B12F-B6A7F12E617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B599F2-6DC6-45E7-B723-97CFF159C21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DBC7A-1096-4F96-8565-67EFF985932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A9634E-5CE1-481C-AEA7-6F849F3BC25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71AC6-8D46-4AA6-B116-89F166E61C0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9DBA82-AC3F-4C7C-87F3-C0EDCC7276E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AC7D6-2140-47A8-B6CA-F2C02F00305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090879-9B88-47A4-9AA6-79C0ABABB99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D34FA-977A-4368-93B2-558A0952A8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4E601-83E5-44BE-805C-A2BF60CFEC0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4E9F3-97DA-4B92-B56B-985C2AA5702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4E473-16E5-4B32-9FC7-EA9DA19786B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6B7D68-189A-4B45-9159-4BD01AEC265B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F3955C-C8E0-4E03-9676-12763C0C388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F0EF78-287A-456F-9965-534BFF7A61D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29233E-5655-40FE-85D8-E593E66EB64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ED04D6-E6C5-4F72-A2E2-3B617E8B25D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303623-C011-4D5B-8B29-3097A859EDF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D089E6-AAD5-4240-858F-89CF84F9343E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38B5DB-8C5B-4196-AD7C-08159D47B1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96B00-1E77-41DF-9230-553683292DE3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50C14F-0A14-49C0-9C7D-B716F4CCEDF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FBA914-6D91-4CC8-BC95-D058DBDABC3D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FFE920-23E6-40C3-AFA9-7ADBFF79603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860755-92BA-4DA8-8D33-366E9CE083A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86B6C0-F8D1-40BB-96C4-253EB0F7C9E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F19ABF8-8A31-4B36-B3B8-FFBF87EDF76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DF886C6-581B-4675-9E8B-97E59B94C29D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EE1C0E8-36D6-4EC0-BC1A-C927E3218D98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05D7428-4279-49EC-A75C-9FCC0A494B2C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12FD0D-EDA8-47F8-8845-01FA0E19B2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FAD13-5B2B-45FE-A9F4-7D681C549475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119088D-2C0E-41BC-980B-EAF76D2F88EB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4739B0-B88D-4429-97E6-09CCDE2E0BA5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372397E-FC4E-4E16-A33E-D2525B3E9BB9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B3CB90-BEF0-4429-971B-AB297D94F69C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2F6821-8B4F-42D6-8A5A-436A55D87DE7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3C5D99E-ECBF-4D29-B9A1-5CCBEB3B350E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9F9B2A-753D-418B-8E8F-E019429EA014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1343D-5570-4CF3-A154-54FA18592103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E73163-577A-40A6-8BD3-0061088C38A7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46330-35B3-4321-A001-476F958BC8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97D84-D3CB-445E-8147-4F0468BD6661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8D6982-504D-4BBE-AB82-6B4C46598D93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3F436B-93C2-4027-A797-7F6BABC84F04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A7FD4B-1D57-49B3-AF04-932FCAD1D339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8AF06-E67B-43DB-AE71-EE21C3CEC3AC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F09C5B-C462-4008-B0B8-6245414AEE4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90F9C-BF5C-4BE7-8A8D-84B99F04548B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A9021-6DE8-4AD0-9178-8285F8CCDFBD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139E1E-5D1A-4B1B-A499-729BC91D0DAE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2AFA52-D721-43C5-B1A2-379FEF4CF2A8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0B6EE70-0714-4539-94F9-02E7FAB2FE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2A989-06F6-4FD1-972F-8AA69EF44DF2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AA47EE-4DC6-4896-969D-B8811DE3F1FC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10F52C-3894-41C2-81DB-A2784A537D34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AA1DDC-772A-42DA-A3D2-F956E7B774DB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253AAC-46B5-4904-9D7A-C4E58426FF7D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9C0F8E-F1EC-46DD-A1D5-A67FDD779571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7571A4C-AE5A-4D34-8065-BFC08E118FDA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6FDF8E-400A-4932-A29C-998A1964D201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A96878-32C3-47AB-B310-F75645C92A12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3D21ED-4576-4E70-A51E-335C91CC3FFB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D2D5EA-24F9-433E-B632-2459F55D42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8D698-BDE6-4E23-8030-18803322CDE5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8C2DEC-BFEE-4718-A286-D7434C1D7A3C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F6BC-67FD-42A1-948C-54895373767D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0F4A-53BC-4C9F-ADBA-E67C95BA8C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25D7-A7F0-45EB-B34D-E824BD100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046DC-B747-4427-91F8-2DE93D5E33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9820-1F9F-43C0-B850-AD037837A8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F4F1-0D89-4D52-927A-7C83CA4A67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BC9A-2662-4925-84BE-779C62E65A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B0AE-4C62-498A-B584-64FAEB15C0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2F03-D033-46BC-BA23-BD36E6912A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22A4-EBFB-4671-B2DF-4F2A14F9E5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F549-4035-458B-8264-D36A3B295B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460C-C921-4582-8D09-1AFE1C5DD4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4BF3-4B97-4F62-AFFE-571D0E65359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4B95-9702-4819-8CA5-71206CD6927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0596E-BA8C-448B-BC42-B7D65B2746D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01BB4-77F9-4357-B409-18E99DFA3B9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33C68-7F97-42CD-A4F4-62B89460656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5BF21-A4B9-46FB-8B65-B8A7A63ACC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BE36A-BDE0-45A8-A4F7-1D65B6F40AE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2C5D0-7B9A-4039-974F-60A9614B8CA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08FAD-1462-44C9-9DA4-D49D37539DC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044BE-8EBB-4FEF-9DD5-E7A7B791FA8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3A3E2-D317-484C-ACCA-6EAD259B0BF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5EDCD-C0FD-4048-BA74-CC931D7E3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0B93-2783-485B-BBBA-31A7D1A43BD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4AFC5-E955-4C00-BDA4-469AEA03C75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6B0AE-2685-4277-9EBC-F136CE488ED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FC591-8093-46B8-BC19-9A375724108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23C8CD-A6C1-4417-9DAE-DBC3556FB33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70852E-8FE5-45BC-AB41-7E4DE8B01C0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FB01E8-102F-4D98-8B85-389CB1AE222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BD0F46-BEC6-416E-A1D1-D41974AF2EA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D40C1F-9FE4-4810-9C67-B35A79188F6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E9AF9-3715-4A5C-8757-2D8CA6C2448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C964E0-F7A9-433E-9EFA-745B6FE1B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DE40-F270-428B-9E32-D51CFBE2252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34B6F-3569-4F2C-97E6-990FE28FCAB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C03BE2-1E31-4D8C-9497-204C4845525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16236-8612-4327-9BFA-40C8C20FD7E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8D818-C3DE-4F50-A5BA-1B227A27864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AEBFCB-05C5-4F3B-B8AB-EC7883665A1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FB049-4E27-490D-BA72-BAA82310456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69F74-3A17-4EA1-8D5F-0EAED83E53B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69743-A348-4F82-9448-C0B43E00FA1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06AAF-9454-41F9-80F6-A3B31E8CBBE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FDEAA-A5B9-478B-92FF-75E8DFAF0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685A-D581-4D38-9CD8-4A7799BE82C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12480" y="820440"/>
            <a:ext cx="7397640" cy="25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026FC-9773-4BF3-A6B7-D1C611621F1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77163-E20D-4E6E-9A65-B26A5F37AB1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76D62-4CB6-44DA-8834-44DAC1FD8ED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BC0E9-76C3-4404-A3C5-5FC5284A023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187280" y="4268160"/>
            <a:ext cx="72453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0D490-9AEB-4B16-BE2D-B8FD557525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9960" y="226800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8728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899960" y="4268160"/>
            <a:ext cx="353556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DB792-4261-4678-8A84-8D90855FF5C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370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86880" y="226800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1872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370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86880" y="4268160"/>
            <a:ext cx="2332800" cy="18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5C9B6-C3FD-456E-BC1C-891AC2006C8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AE9C7-6F20-46F2-AC04-53190D8935E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21D7D-9400-4843-BD27-47FA2AAA36A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398C1-73B9-4A27-A39C-D64BB9A92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61.xml"/><Relationship Id="rId7" Type="http://schemas.openxmlformats.org/officeDocument/2006/relationships/slideLayout" Target="../slideLayouts/slideLayout362.xml"/><Relationship Id="rId8" Type="http://schemas.openxmlformats.org/officeDocument/2006/relationships/slideLayout" Target="../slideLayouts/slideLayout363.xml"/><Relationship Id="rId9" Type="http://schemas.openxmlformats.org/officeDocument/2006/relationships/slideLayout" Target="../slideLayouts/slideLayout364.xml"/><Relationship Id="rId10" Type="http://schemas.openxmlformats.org/officeDocument/2006/relationships/slideLayout" Target="../slideLayouts/slideLayout365.xml"/><Relationship Id="rId11" Type="http://schemas.openxmlformats.org/officeDocument/2006/relationships/slideLayout" Target="../slideLayouts/slideLayout366.xml"/><Relationship Id="rId12" Type="http://schemas.openxmlformats.org/officeDocument/2006/relationships/slideLayout" Target="../slideLayouts/slideLayout367.xml"/><Relationship Id="rId13" Type="http://schemas.openxmlformats.org/officeDocument/2006/relationships/slideLayout" Target="../slideLayouts/slideLayout368.xml"/><Relationship Id="rId14" Type="http://schemas.openxmlformats.org/officeDocument/2006/relationships/slideLayout" Target="../slideLayouts/slideLayout369.xml"/><Relationship Id="rId15" Type="http://schemas.openxmlformats.org/officeDocument/2006/relationships/slideLayout" Target="../slideLayouts/slideLayout370.xml"/><Relationship Id="rId16" Type="http://schemas.openxmlformats.org/officeDocument/2006/relationships/slideLayout" Target="../slideLayouts/slideLayout371.xml"/><Relationship Id="rId17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-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6D8DA-8B3D-40F7-A999-882BEEEE4264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387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15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16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9798F-9B60-42FF-B5EB-3D31B289FBFC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430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17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18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9C46F-F995-4D43-934F-349233FCE9DA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473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19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20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151A4-324A-4AE7-BC32-8D3EDB0A43C6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516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ftr" idx="21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2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E3216-3765-46DD-86C5-98C08A5155EA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559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23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24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20829-8606-41F8-937F-9B9DCA5462A3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602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ftr" idx="25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sldNum" idx="26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29DC5-F7EE-40B4-8001-DBEDEDFC1571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645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ftr" idx="27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sldNum" idx="28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1113B-40F3-4B65-9ED8-D113F263B6F3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365120"/>
          </a:xfrm>
          <a:prstGeom prst="rect">
            <a:avLst/>
          </a:prstGeom>
          <a:ln w="0">
            <a:noFill/>
          </a:ln>
        </p:spPr>
      </p:pic>
      <p:sp>
        <p:nvSpPr>
          <p:cNvPr id="688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7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EPD-PPT_cover_forMS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0" descr="EPD-PPT_cover-LOGO_PNG24.png"/>
          <p:cNvPicPr/>
          <p:nvPr/>
        </p:nvPicPr>
        <p:blipFill>
          <a:blip r:embed="rId5"/>
          <a:stretch/>
        </p:blipFill>
        <p:spPr>
          <a:xfrm>
            <a:off x="7351560" y="5522760"/>
            <a:ext cx="1505160" cy="115596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365120"/>
          </a:xfrm>
          <a:prstGeom prst="rect">
            <a:avLst/>
          </a:prstGeom>
          <a:ln w="0">
            <a:noFill/>
          </a:ln>
        </p:spPr>
      </p:pic>
      <p:sp>
        <p:nvSpPr>
          <p:cNvPr id="731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7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EPD-PPT_cover_forMS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0" descr="EPD-PPT_cover-LOGO_PNG24.png"/>
          <p:cNvPicPr/>
          <p:nvPr/>
        </p:nvPicPr>
        <p:blipFill>
          <a:blip r:embed="rId5"/>
          <a:stretch/>
        </p:blipFill>
        <p:spPr>
          <a:xfrm>
            <a:off x="7351560" y="5522760"/>
            <a:ext cx="1505160" cy="115596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774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0" descr="EPD-PPT_cover_forMS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3" descr="EPD-PPT_cover-LOGO_PNG24.png"/>
          <p:cNvPicPr/>
          <p:nvPr/>
        </p:nvPicPr>
        <p:blipFill>
          <a:blip r:embed="rId6"/>
          <a:stretch/>
        </p:blipFill>
        <p:spPr>
          <a:xfrm>
            <a:off x="7351560" y="5522760"/>
            <a:ext cx="1505160" cy="115596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36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A11EF-1138-4069-A1B0-60E5C449E711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818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ftr" idx="29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sldNum" idx="30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3E8C5-0856-4CEE-85FF-997EEAA784C8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862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ftr" idx="31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sldNum" idx="32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848DB-CD4F-492E-A578-4BDF3972FCA1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906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ftr" idx="33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34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1CC3E-B9DC-481B-8BD8-4DAC8FF478B1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950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ftr" idx="35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sldNum" idx="36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321706-915B-4739-917A-49108056E523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994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ftr" idx="37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sldNum" idx="38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62E94-A978-4485-BD73-490B47145E4C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038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ftr" idx="39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sldNum" idx="40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93A16-A359-4573-BBD1-C56243F44265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082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ftr" idx="41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sldNum" idx="42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51EC6-D898-4582-8238-FF5BD3170FE8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126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ftr" idx="43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sldNum" idx="44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20003-D4C2-4D8F-99C0-2CFDDFC3EC3E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170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1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ftr" idx="45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sldNum" idx="46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E074B-7880-4519-BEB2-90729436C640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214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ftr" idx="47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sldNum" idx="48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C8E65-1FDB-4429-9BEB-42FB8636949B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-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D7C8C-8184-47EF-81CC-2B0A2A582AE2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7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258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12" descr="EPD-ppt-p5_ligne_PNG24.png"/>
          <p:cNvPicPr/>
          <p:nvPr/>
        </p:nvPicPr>
        <p:blipFill>
          <a:blip r:embed="rId4"/>
          <a:srcRect l="0" t="23956" r="0" b="73953"/>
          <a:stretch/>
        </p:blipFill>
        <p:spPr>
          <a:xfrm>
            <a:off x="0" y="1714680"/>
            <a:ext cx="9144000" cy="147600"/>
          </a:xfrm>
          <a:prstGeom prst="rect">
            <a:avLst/>
          </a:prstGeom>
          <a:ln w="0">
            <a:noFill/>
          </a:ln>
        </p:spPr>
      </p:pic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ftr" idx="49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sldNum" idx="50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82A77-A010-4D50-98FF-434445721DB5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302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7" descr="EPD-PPT_cover_forMS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8" descr="EPD-PPT_cover-LOGO_PNG24.png"/>
          <p:cNvPicPr/>
          <p:nvPr/>
        </p:nvPicPr>
        <p:blipFill>
          <a:blip r:embed="rId5"/>
          <a:stretch/>
        </p:blipFill>
        <p:spPr>
          <a:xfrm>
            <a:off x="7351560" y="5522760"/>
            <a:ext cx="1505160" cy="1155960"/>
          </a:xfrm>
          <a:prstGeom prst="rect">
            <a:avLst/>
          </a:prstGeom>
          <a:ln w="0">
            <a:noFill/>
          </a:ln>
        </p:spPr>
      </p:pic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6"/>
    <p:sldLayoutId id="2147484040" r:id="rId7"/>
    <p:sldLayoutId id="2147484041" r:id="rId8"/>
    <p:sldLayoutId id="2147484042" r:id="rId9"/>
    <p:sldLayoutId id="2147484043" r:id="rId10"/>
    <p:sldLayoutId id="2147484044" r:id="rId11"/>
    <p:sldLayoutId id="2147484045" r:id="rId12"/>
    <p:sldLayoutId id="2147484046" r:id="rId13"/>
    <p:sldLayoutId id="2147484047" r:id="rId14"/>
    <p:sldLayoutId id="2147484048" r:id="rId15"/>
    <p:sldLayoutId id="2147484049" r:id="rId16"/>
    <p:sldLayoutId id="2147484050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0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EPD-PPT_slide2_forMS.png"/>
          <p:cNvPicPr/>
          <p:nvPr/>
        </p:nvPicPr>
        <p:blipFill>
          <a:blip r:embed="rId2"/>
          <a:srcRect l="0" t="0" r="0" b="79571"/>
          <a:stretch/>
        </p:blipFill>
        <p:spPr>
          <a:xfrm>
            <a:off x="0" y="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F455D-15E0-40D4-97B8-F6E70D3511F9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EPD-PPT_cover-LOGO_PNG24.png"/>
          <p:cNvPicPr/>
          <p:nvPr/>
        </p:nvPicPr>
        <p:blipFill>
          <a:blip r:embed="rId3"/>
          <a:stretch/>
        </p:blipFill>
        <p:spPr>
          <a:xfrm>
            <a:off x="177840" y="5875200"/>
            <a:ext cx="1138320" cy="87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EPD-PPT_cover_forMS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EPD-PPT_cover-LOGO_PNG24.png"/>
          <p:cNvPicPr/>
          <p:nvPr/>
        </p:nvPicPr>
        <p:blipFill>
          <a:blip r:embed="rId5"/>
          <a:stretch/>
        </p:blipFill>
        <p:spPr>
          <a:xfrm>
            <a:off x="7351560" y="5522760"/>
            <a:ext cx="1505160" cy="11559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215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7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-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8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83F9E-D38B-47CA-AAAD-32B071965F3C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258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9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-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0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585FF-A73E-44DC-8C00-BA67A78A1FFD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301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11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-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2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436C7-5A0C-4228-8341-F3FE371E3273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6" descr="EPD-PPT_slide2_forM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344" name="Straight Connector 9"/>
          <p:cNvSpPr/>
          <p:nvPr/>
        </p:nvSpPr>
        <p:spPr>
          <a:xfrm flipH="1">
            <a:off x="8685360" y="6497640"/>
            <a:ext cx="2880" cy="360360"/>
          </a:xfrm>
          <a:prstGeom prst="line">
            <a:avLst/>
          </a:prstGeom>
          <a:ln w="25560">
            <a:solidFill>
              <a:srgbClr val="c4c0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129_EPD-Letterhead-select_header_forMS.png"/>
          <p:cNvPicPr/>
          <p:nvPr/>
        </p:nvPicPr>
        <p:blipFill>
          <a:blip r:embed="rId3"/>
          <a:stretch/>
        </p:blipFill>
        <p:spPr>
          <a:xfrm>
            <a:off x="198360" y="5959440"/>
            <a:ext cx="1079640" cy="7588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7280" y="226800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9396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79560" indent="-84240">
              <a:spcAft>
                <a:spcPts val="2001"/>
              </a:spcAft>
              <a:buClr>
                <a:srgbClr val="bbc4d8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79560" indent="-84240">
              <a:spcAft>
                <a:spcPts val="2001"/>
              </a:spcAft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3"/>
          </p:nvPr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i="1" lang="en-US" sz="1600" spc="-1" strike="noStrike">
                <a:solidFill>
                  <a:srgbClr val="c4c0b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c4c0bd"/>
                </a:solidFill>
                <a:latin typeface="Times New Roman"/>
              </a:rPr>
              <a:t>CLICK TO EDIT MASTER SUBTITLE STY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4"/>
          </p:nvPr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d596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408EC-46F9-47E4-AFB8-BDFB81BA1982}" type="slidenum">
              <a:rPr b="0" lang="en-US" sz="1200" spc="-1" strike="noStrike">
                <a:solidFill>
                  <a:srgbClr val="3d596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269640" y="3951000"/>
            <a:ext cx="7081560" cy="6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XPERIENCIAS EN LOS PROCESOS DE DIÁLOGO PARA LA COHESIÓN SOCIAL: EUROPA CENTRAL Y ORIENT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269640" y="4671720"/>
            <a:ext cx="868356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Aft>
                <a:spcPts val="2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ENCUENTRO DE INTERCAMBIO Y PROGRAMACIÓN: CONSTRUCCIÓN DE CONSENSOS PARA LA COHESIÓN SOCIAL , ASUNCIÓN 15 – 17 DE NOVIEMBRE D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contexto de progresiva perdida de legitimidad del régi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fícil situación socio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do de excepción y golpe militar a mediados de los años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vilización y contest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ovimiento Solidar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glesia cató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esa de negociación se constituye en 1988 cuando el gobierno del General Jaruzelsky reconoce como contraparte política al Comité Cívico establecido por Solida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 MOMENTO TRANSICIONAL: POLO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BD73B-6607-454C-A43D-BE1EB5661A3A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esa redonda se concentra en tres áreas princip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lización económica – propiedad privada, abolición del control estatal de las expor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forma política – elecciones y nuevas estructuras institucionales (separación de poderes), calendario de tránsito hacia un sistema de plenas garantías democr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ítica social – derechos de los trabajadores (asociación y sindicación) – ruptura del papel central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 MOMENTO TRANSICIONAL: POLO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ED248-8867-4B43-B78B-25B52D6C6C18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representantes de Solidaridad juegan un papel ambiguo en el marco de estas mesas de negociación: por un lado tratan de defender nuevas conquistas para los trabajadores, al tiempo que abren la puerta a las reformas liberalizadoras que arrinconan el papel de los actore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a tensión se pone de manifiesto tras las primeras elecciones democráticas. Dureza de los ajustes estructurales empuja a la base a manifestarse y de esta manera se rompe el equilibrio inestable entre el rol político y el rol de actor social de la oposición que había mantenido el liderazgo de Solidar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resultado es la creación de una mesa de diálogo tripartita (Gobierno, Sindicatos, Empresarios), que permite articular un modelo de diálogo social permanente y más efectivo en el contexto de las políticas de transformación económicas de los años noventa (comienza a funcionar a partir de 1994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 MOMENTO TRANSICIONAL: POLO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BFFFB-403B-4265-89BE-B8B6109E6FAD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experiencia polaca de las mesas redondas durante la transición representan un modelo híbrido a medio camino ent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sa de diálogo polí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Órgano de pilotaje del proceso po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to Asamblea constituy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acio de concertació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u funcionamiento responde a las necesidades de una coyuntura política muy específica -  su funcionamiento pone en contradicción las estrategias de los actores y acaba por romper el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establece una primera praxis que permite la construcción de institucionalidad en torno al diálog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titucionalidad, sin embargo, no necesariamente significa una potenciación del diálogo social a partir de 1990. Por el contrario asistimos a un paulatino proceso de desmovilización ciudad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 MOMENTO TRANSICIONAL: POLONIA – ALGUNAS CONCLU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624F6-70CD-41F7-9BCB-7B95BE05808A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163440" indent="-1634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los años noventa se produce una desconexión efectiva entre la ciudadanía y los actores sociales, así como entre estos y las instituciones políticas. Varios mo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reformas (muy duras) son percibidas en muchos casos como un mal necesario – al menos desde la retó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ciudadanía se retira del espacio público para concentrarse en la articulación del espacio privado (paliar las consecuencias individuales del proceso de transformación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titucionalización de practicas corporatistas (como en el caso de Polon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gresiva tecnificación de los procesos de reforma: la forma predominante de incorporación de actores sociales es a través de la movilización de expertise (nacional o internacional), mengua el carácter político del proceso – fuerte influencia de actores externos: IMF, WB, UN, NATO, 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minución de la capacidad de las organizaciones sociales: movilización, recursos financieros – dificultades para transform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¿DEMOCRACIA SIN CIUDADAN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0DECF-C81D-482F-B671-2FF51FF291CD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68840" indent="-1688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l año 1997 se produce la revitalización de los espacios de diálogo social en el marco de las políticas públicas. Varios mo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280" indent="-15012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incorporación paulatina de una cultura de gobernanza: incorporación horizontal de actores frente a la integración vertical – desarrollo de experiencias piloto (de la mano de la cooperación internac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280" indent="-15012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mplementación de los programas comunitarios inyecta nuevas capacidades y recursos (económicos) al tercer sector en estos países. Fortalecimiento de su papel en el ciclo de la rendición de cuentas y como socio de las administraciones públicas en el marco del diseño y ejecución de las política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280" indent="-15012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eminación del conocimiento y expertise en estructuras endóge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280" indent="-15012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actores sociales completan el ciclo de transformación desde el momento transicional: nuevas competencias en una sociedad abierta y pl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280" indent="-15012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uevos mecanismos de institucionalización de la participación de los agentes sociales en el diseño de políticas públicas – respuestas sector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GOBERNANZA, POLÍTICAS PÚBLICAS Y MECANISMOS DE PARTICIP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05233-7D4E-4ED4-B58B-9722A0078F03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olidación de los espacios de concertación social: Comisión tripartita en Pol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ción de nuevos mecanismos para articular la participación de la sociedad civil en el ciclo de políticas públicas: Establecimiento del Centro de ONGs en Let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evos mecanismos de concertación y participación de actores en el marco de la reforma de políticas sociales: la experiencia de la reforma de los sistemas de educación vocacional y formación profesional en la República Chec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Y DIÁLOGO SO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AA253-C034-4028-AD7A-2DCB54DAA343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ito desde la política a un modelo de articulación corporati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s construido para enfrentar las huelgas de 1992 –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ite la articulación de un mecanismo permanente de diálogo social y concertación – se consolida institucionalmente sólo en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indicatos se disocian de su papel durante la transición política -  transformación de los sindicatos en una estructura de agregación de intereses colectivos más allá de la geometría de los partid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resentación relativamente amplia en un contexto con gran pluralidad de organizaciones: Cuatro sindicatos principales; Empresarios; 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onsigue reducir sistemáticamente la conflictividad social – mejoran las condiciones de pilotaje del proceso de reforma política, económica e instituc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400" indent="-1764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1120" indent="-1569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- COMISIÓN TRIPART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68828-34EF-4563-8EC3-BFF6DEAA192C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1187280" y="2144880"/>
            <a:ext cx="72453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rea en el año 1994 en el marco de un programa internacional (Fundación Soros, UNDP, Gobierno de Dinamarca) para el fortalecimiento de las capacidades de las 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onamiento en dos dimens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mensión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visión de servicios especializados a ONGs – recursos y capacidades / coordinación de posiciones comu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ategia de cabildeo hacia el Gobierno para mejorar el marco institucional de funcionamiento del tercer 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mensión geográfica – apoyo a las ONGs fuera de la capital a través de centros reg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– CENTRO DE 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44C8D-9E98-4AFF-8198-57D8D03B28F2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s impactos positivos a partir del año 2002 – reforma de la legislación para garantizar la participación de las ONGs en el marco del proceso de articulación de las políticas públicas: Reuniones regulares a nivel del Secretario de Estado – Vicemini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olidación del Centro de ONGs como coordinador de la participación de las ONGs en estos for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2004 se extienden los mecanismos de consulta y los espacios de diálogo entre las instituciones y las 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nivel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nivel muni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0120" indent="-15012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roduce la incorporación efectiva de estas estructuras al acervo de gobernanza en el país – sostenibilidad del mode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jora de la financiación y las ayud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335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tenciación del liderazgo de las ONGs locales sobre su propio proceso de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– CENTRO DE 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8A2C3-6C5D-4D5D-9F9D-53C9C16A4CB3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RIENCIAS EN LOS PROCESOS DE DIÁLOGO PARA LA COHESIÓN SOCIAL: EUROPA CENTRAL Y ORIENT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1187280" y="2030040"/>
            <a:ext cx="7245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3d596c"/>
                </a:solidFill>
                <a:latin typeface="Arial"/>
              </a:rPr>
              <a:t>CONTENIDOS DE LA PRES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spcAft>
                <a:spcPts val="2001"/>
              </a:spcAft>
              <a:buClr>
                <a:srgbClr val="427fa4"/>
              </a:buClr>
              <a:buSzPct val="12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roducción y algunas precis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spcAft>
                <a:spcPts val="601"/>
              </a:spcAft>
              <a:buClr>
                <a:srgbClr val="427fa4"/>
              </a:buClr>
              <a:buSzPct val="12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experiencia centroeurop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ementos de part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momento transicional y las experiencias de diálogo social y político en torno a los grandes ejes de la transición política (Polon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¿Democracias sin ciudadano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Aft>
                <a:spcPts val="20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periencias recientes en la consolidación de la participación a lo largo del ciclo de las políticas públ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spcAft>
                <a:spcPts val="2001"/>
              </a:spcAft>
              <a:buClr>
                <a:srgbClr val="427fa4"/>
              </a:buClr>
              <a:buSzPct val="12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spcAft>
                <a:spcPts val="2001"/>
              </a:spcAft>
              <a:buClr>
                <a:srgbClr val="427fa4"/>
              </a:buClr>
              <a:buSzPct val="12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spcAft>
                <a:spcPts val="2001"/>
              </a:spcAft>
              <a:buClr>
                <a:srgbClr val="427fa4"/>
              </a:buClr>
              <a:buSzPct val="12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0F9D8-9B0F-4133-B5AF-7894DC83A7F2}" type="slidenum">
              <a:rPr b="0" lang="en-U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forma destinada a mejorar la articulación entre el currículo de la formación profesional y vocacional y las necesidades del mercado de trabajo en la República Ch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se articula a partir de la creación de espacios de concertación ent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uelas de formación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ores y expertos en formación profesional y voc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ociaciones de Padres de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presarios y emple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opera a escala nacional pero a través de una implementación descentralizada -  las escuelas tienen el liderazgo del proceso dentro de lo establecido por el Programa-Marco de Educació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– REFORMA FORMACIÓN PROFE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90DE1-07AD-4ABC-9E10-6798B9F520C8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modelo de reforma ha enfrentado algunas resistencias iniciales por parte de las escuelas y de los padres de los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mente se trabaja en la implementación de más de 30 Programas de Educación Piloto. Los resultados de dichas experiencias piloto marcarán el éxito de este proceso de reforma participativa y 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resultados de la experiencia, sin embargo han arrojado un saldo positivo desde el punto de vista de la participación de los actores so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– REFORMA FORMACIÓN PROFE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00029-BB8F-4371-A60A-76A8D929FE7E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167040" indent="-1670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1997 se produce un proceso paulatino de concretización del papel de la sociedad civil y de los actores sociales en el marco del proceso de las políticas públ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486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roduce un tránsito desde un modelo originario de diálogo político (visión de país) hacia un modelo de diálogo en el marco de la política y de las políticas públicas (normaliz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486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rata de un proceso que corre en paralelo a la modernización de la gestión pública y de la administración pública en el marco de la incorporación de estos países a la Unión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este momento se produce una diverisificación de las instancias de diálogo: consolidación de las comisiones de diálogo social, establecimiento de mecanismos de participación y coordinación e incorporación de los actores sociales en el marco de políticas públicas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Y DIÁLOGO SOCIAL - CONCLU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0DE26-3567-4FA1-96ED-88BCDA2224AD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resultado es una incorporación efectiva de los actores sociales a las estructuras de gobernanza: propuesta y diseño de las políticas, rendición de cuentas  transparencia, provisión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proceso de normalización, sin embargo, convive con la extensión del desencanto de la ciudadanía frente al funcionamiento del sistema político: desmovilización y transformación de los mecanismos de liderazgo público. Una dinámica que se transformará en la medida en la que la crisis financiera global exija la construcción de un nuevo pacto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XPERIENCIAS DE PARTICIPACIÓN Y DIÁLOGO SOCIAL - CONCLU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48029-C80D-400B-A822-78AE4DAE52E6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CLUSIONES DE LA PRESENTACIÓ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163440" indent="-1634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xperiencias de participación y diálogo social se estructura a través de dos niveles diferenciad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strucción de grandes consensos políticos – momento transi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45080">
              <a:spcAft>
                <a:spcPts val="1199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xperiencia de modernización de los modelos de gobern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Aft>
                <a:spcPts val="1199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rata de procesos en cierta medida interdependientes pero que se desarrollan en marcos políticos, sociales y de política pública muy diferenciados (transición vs. adhes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Aft>
                <a:spcPts val="1199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primeros años de la transición la dureza de las reformas estructurales limita la capacidad de los actores sociales y por tanto la efectividad de los mecanismos de di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440" indent="-16344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ceso de adhesión a la UE es fundamental para entender la consolidación de los actores sociales en el marco de las políticas públicas y del proceso de incorporación del acervo comu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7BBD1-74D2-4B8E-A9A9-DA85195A2300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CLUSIONES DE LA PRESENTACIÓ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ún así las experiencias de estos países han sabido construir sobre las fortalezas originarias de su tejido asociativo – no hay que olvidar que fueron los actores sociales los que consiguieron el derrocamiento de los regímenes comu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1199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casos se ha avanzado hacia la constitución de modelos de interacción complejos que muestran la madurez de los actores sociales y las administraciones para trabajar de manera conjunta tanto desde un punto de vista estructural como desde un punto de vista sec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EBAF6-5818-44B2-B4EB-448F4DECFFFD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269640" y="3951000"/>
            <a:ext cx="7081560" cy="6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TextBox 14"/>
          <p:cNvSpPr/>
          <p:nvPr/>
        </p:nvSpPr>
        <p:spPr>
          <a:xfrm>
            <a:off x="282600" y="5257800"/>
            <a:ext cx="5105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d596c"/>
                </a:solidFill>
                <a:latin typeface="Arial"/>
              </a:rPr>
              <a:t>CARLOS HERNÁNDEZ FERREIRO</a:t>
            </a: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_ </a:t>
            </a:r>
            <a:r>
              <a:rPr b="1" lang="en-US" sz="1200" spc="-1" strike="noStrike">
                <a:solidFill>
                  <a:srgbClr val="3d596c"/>
                </a:solidFill>
                <a:latin typeface="Arial"/>
              </a:rPr>
              <a:t>DIRECTOR </a:t>
            </a:r>
            <a:r>
              <a:rPr b="1" lang="es-ES" sz="1200" spc="-1" strike="noStrike">
                <a:solidFill>
                  <a:srgbClr val="3d596c"/>
                </a:solidFill>
                <a:latin typeface="Arial"/>
              </a:rPr>
              <a:t>EJ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d596c"/>
                </a:solidFill>
                <a:latin typeface="Arial"/>
              </a:rPr>
              <a:t>EUROPEAN PARTNERSHIP FOR DEMOC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Avenue des Celtes, 20/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B-1040 Brussels - Belg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+32 2 733 22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carloshernandez@epd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d596c"/>
                </a:solidFill>
                <a:latin typeface="Arial"/>
              </a:rPr>
              <a:t>www.epd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TRODUCCIÓN Y ALGUNAS PRECISION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1187280" y="239184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frecer insumos para el debate sobre la mejora de los mecanismos de incorporación de los actores sociales y políticos a lo largo del ciclo de las políticas públicas para la cohesión soci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r algunas líneas básicas de la experiencia de los Estados Miembros de la UE de Europa Central y Or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OBJETIVOS DE LA PRES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E873D-345A-48B2-BBC2-C15E1233F602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TRODUCCIÓN Y ALGUNAS PRECISION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artir un proceso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9 países de Europa Central y Oriental conforman un rico “vivero” de experiencias de cambio institucional y político – muy difícil de resumir en una pres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ecesidad de ajustar las experiencias a la demanda real a lo largo de las discusiones de este seminario – (esta presentación es sólo un primer insu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ecesidad de habilitar un diálogo entre pares para asegurar la transmisión de experiencias de manera efecti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entación de algunas respuestas institucionales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PRECISIONES INI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B7200-14A3-4DA6-A91D-56D12CE387CD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180000" indent="-1800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s encontramos ante un proceso de cambio profundo que afectó a todos los órdenes: social, político, económico, institucional, cultural de estos países – transito entre dos cosmovisiones antagó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spcAft>
                <a:spcPts val="20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rata de procesos en los que las dinámicas políticas y de cambio domésticas han coexistido (no siempre de manera sencilla) con la influencia de procesos/actores regionales/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720" indent="-16020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mantelamiento de la Unión Soviética (a partir de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720" indent="-16020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so de integración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720" indent="-160200">
              <a:spcAft>
                <a:spcPts val="20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luencia directa de la comunidad internacional, de manera particular en el marco del proceso de desarrollo de la sociedad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EMENTOS DE PAR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F8231-22B1-4DCA-8CEC-3292085C16A7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momentos cla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a etapa (1989 – 1997): Construcción del andamiaje de los nuevos sistemas democrát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tades individuales y colec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stitucionalidad democrática y separación de pod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s básicas de una economía de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alineamiento inter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a etapa (1997 – 2004): Proceso de integración europea – implementación de los Criterios de Copenha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ineamiento de las políticas públicas y de los procesos con el “acervo” de la 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1720" indent="-157320">
              <a:spcAft>
                <a:spcPts val="601"/>
              </a:spcAft>
              <a:buClr>
                <a:srgbClr val="7d8eae"/>
              </a:buClr>
              <a:buSzPct val="11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sarrollo de las capacidades políticas y administr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EMENTOS DE PAR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545BF-5AD6-4244-9E82-7EA9F9980E43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174600" indent="-1746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ito en un plazo muy corto de tiempo (20 años) de la condición de países receptores de asistencia internacional hasta convertirse en “donantes emergentes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000" indent="-1551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ria histórica muy viva sobre las dificultades que han jalonado los procesos de trans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000" indent="-1551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eriencia reciente de implementación de programas de cooperación internacional y de asistencia técnic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000" indent="-1551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muy joven de activistas que pilotaron los procesos de cambio. Hay un trasvase entre el mundo del activismo social y político hacia el mundo de la administración pública y viceversa. Ejemplo: República Che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000" indent="-15516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untad clara de transformar estos procesos de transición en un valor de la acción exterior (a nivel individual y a nivel europ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EMENTOS DE PAR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35EA8-282B-4843-8969-A1F201E539CE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78200" indent="-17820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de el punto de vista de la articulación del diálogo político y social los procesos de transición en Europa Central y Oriental se han articulado en tres fases (fechas aproximadas) y por tanto en tres niveles de experiencias diferenci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89 – 1990: Inicio de los procesos de transición – experiencias de las mesas redondas de concertación en Hungría, Polonia o República Checa - diseño de las grandes líneas de política y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90 – 1997: Segunda fase: enfriamiento de la participación y la movilización de los actores sociales y políticos – la política queda en manos de los políticos /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158400">
              <a:spcAft>
                <a:spcPts val="601"/>
              </a:spcAft>
              <a:buClr>
                <a:srgbClr val="427fa4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97 – : nuevos modelos de gobernanza reactivación de los canales de participación en el marco de l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EMENTOS DE PART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D7FDE-71CB-41BE-BD77-726DC1BA85D4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312480" y="820440"/>
            <a:ext cx="73976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EXPERIENCIA CENTROEUROP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1187280" y="1953720"/>
            <a:ext cx="724536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esas redondas articulan el tránsito entre el nuevo y el antiguo régimen en Polonia, Hungría y Checoslovaquia. Establecen un espacio de concertación entre las autoridades de los regímenes comunistas y los representantes de las fuerzas democratizador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rticulan como un espacio constituyente: establecen el marco básico sobre el que se va a construir el andamiaje institucional de las nuevas democracias en algunos casos (Polonia) se incluye el modelo so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01"/>
              </a:spcAft>
              <a:buClr>
                <a:srgbClr val="3d596c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mismo tiempo son un espacio fundamental para articular los tiempos y los procesos de la transición política en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ooter Placeholder 5"/>
          <p:cNvSpPr/>
          <p:nvPr/>
        </p:nvSpPr>
        <p:spPr>
          <a:xfrm>
            <a:off x="312840" y="1395360"/>
            <a:ext cx="775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4c0bd"/>
                </a:solidFill>
                <a:latin typeface="Arial"/>
              </a:rPr>
              <a:t>EL MOMENTO TRANSICIONAL: MESAS REDONDAS Y DIÁLOG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Slide Number Placeholder 3"/>
          <p:cNvSpPr/>
          <p:nvPr/>
        </p:nvSpPr>
        <p:spPr>
          <a:xfrm>
            <a:off x="8783640" y="6356520"/>
            <a:ext cx="55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858BE-CE68-4D40-A1F6-58C87D39A4F5}" type="slidenum">
              <a:rPr b="0" lang="es-ES" sz="1200" spc="-1" strike="noStrike">
                <a:solidFill>
                  <a:srgbClr val="3d596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22:47:22Z</dcterms:created>
  <dc:creator>D N</dc:creator>
  <dc:description/>
  <dc:language>en-US</dc:language>
  <cp:lastModifiedBy>Maria Eugenia Cebrian</cp:lastModifiedBy>
  <dcterms:modified xsi:type="dcterms:W3CDTF">2011-11-16T11:26:09Z</dcterms:modified>
  <cp:revision>104</cp:revision>
  <dc:subject/>
  <dc:title>Slide 1</dc:title>
</cp:coreProperties>
</file>