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72A7-4BEC-4348-9605-047953E460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0% of workers in the market sector are employed by members of VNO-NC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3A38-396D-4027-9683-59507D986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1C35-E7BD-4933-81A6-20EC77024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BEC0-CDE1-4DF5-8AB2-F9DEA8EBD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936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1544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4292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936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1544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F8EB-999E-4F56-AFA6-A0074E0FD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776-8A84-42B9-B36E-E9E63F70D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145-881D-48BB-88F0-8FDEE64B2F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240-E525-4A8F-83C3-81BF70E2AC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F92-E121-492D-845C-D4D4F79DA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568-45AC-402F-9BBF-BA553C068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DD3-0208-46A4-B9A1-E20E763E71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505-52A5-4706-A042-D88C35069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7D26-3AB7-4A9A-B7A2-54E44C668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84A-9089-45C6-9271-5395F66903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BE2-2B89-440E-AB78-3036FE9761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B4F-9125-4E33-A822-B9C107C39C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2EF-B0F8-4B25-9534-083F3F3030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936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15440" y="155736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4292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2936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15440" y="4039200"/>
            <a:ext cx="2272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078-A14E-4939-B709-CC3F4EBE1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86F8-E5A7-49FB-9B1A-78C09E4A1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0F9C-0C37-4890-9A71-FB865987D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1CBF-FD5A-4A3E-BD05-2DF2C8CA7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4D13-6ADC-48F5-9065-DE0B38183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A15D-CC54-40AF-830B-8BCD9DF1A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9480" y="403920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BCC1-BAF6-44A4-ABCB-0D17CFF76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34441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42920" y="4039200"/>
            <a:ext cx="70581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87EC-939A-4DC9-95FF-8503967C7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39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44000" y="6381360"/>
            <a:ext cx="9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6088-21FA-4D90-9979-A0A689E562A0}" type="slidenum">
              <a:rPr b="0" lang="nl-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95280" y="6381360"/>
            <a:ext cx="55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Afbeelding 7" descr="__MKB.gif"/>
          <p:cNvPicPr/>
          <p:nvPr/>
        </p:nvPicPr>
        <p:blipFill>
          <a:blip r:embed="rId2"/>
          <a:stretch/>
        </p:blipFill>
        <p:spPr>
          <a:xfrm>
            <a:off x="7885080" y="6265800"/>
            <a:ext cx="719280" cy="471600"/>
          </a:xfrm>
          <a:prstGeom prst="rect">
            <a:avLst/>
          </a:prstGeom>
          <a:ln w="0">
            <a:noFill/>
          </a:ln>
        </p:spPr>
      </p:pic>
      <p:pic>
        <p:nvPicPr>
          <p:cNvPr id="5" name="Afbeelding 6" descr="__VNO-NCW.jpg"/>
          <p:cNvPicPr/>
          <p:nvPr/>
        </p:nvPicPr>
        <p:blipFill>
          <a:blip r:embed="rId3"/>
          <a:stretch/>
        </p:blipFill>
        <p:spPr>
          <a:xfrm>
            <a:off x="468360" y="6308640"/>
            <a:ext cx="1655640" cy="3398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68360" y="6269040"/>
            <a:ext cx="194472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732720" y="6269040"/>
            <a:ext cx="19447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ack nw Intranet"/>
          <p:cNvPicPr/>
          <p:nvPr/>
        </p:nvPicPr>
        <p:blipFill>
          <a:blip r:embed="rId2"/>
          <a:stretch/>
        </p:blipFill>
        <p:spPr>
          <a:xfrm>
            <a:off x="-4680" y="11160"/>
            <a:ext cx="9136080" cy="6831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cfd8e1"/>
          </a:solidFill>
          <a:ln w="9360">
            <a:solidFill>
              <a:srgbClr val="a0a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692360" y="0"/>
            <a:ext cx="5761080" cy="612720"/>
          </a:xfrm>
          <a:custGeom>
            <a:avLst/>
            <a:gdLst>
              <a:gd name="textAreaLeft" fmla="*/ 1200240 w 5761080"/>
              <a:gd name="textAreaRight" fmla="*/ 4560840 w 5761080"/>
              <a:gd name="textAreaTop" fmla="*/ 127440 h 612720"/>
              <a:gd name="textAreaBottom" fmla="*/ 48528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fd8e1"/>
          </a:solidFill>
          <a:ln w="9360">
            <a:solidFill>
              <a:srgbClr val="cfd8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7" descr="__MKB.gif"/>
          <p:cNvPicPr/>
          <p:nvPr/>
        </p:nvPicPr>
        <p:blipFill>
          <a:blip r:embed="rId3"/>
          <a:stretch/>
        </p:blipFill>
        <p:spPr>
          <a:xfrm>
            <a:off x="7885080" y="6265800"/>
            <a:ext cx="719280" cy="471600"/>
          </a:xfrm>
          <a:prstGeom prst="rect">
            <a:avLst/>
          </a:prstGeom>
          <a:ln w="0">
            <a:noFill/>
          </a:ln>
        </p:spPr>
      </p:pic>
      <p:sp>
        <p:nvSpPr>
          <p:cNvPr id="48" name="Line 10"/>
          <p:cNvSpPr/>
          <p:nvPr/>
        </p:nvSpPr>
        <p:spPr>
          <a:xfrm>
            <a:off x="468360" y="6269040"/>
            <a:ext cx="194472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6732720" y="6269040"/>
            <a:ext cx="19447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VNO-NCW"/>
          <p:cNvPicPr/>
          <p:nvPr/>
        </p:nvPicPr>
        <p:blipFill>
          <a:blip r:embed="rId4"/>
          <a:stretch/>
        </p:blipFill>
        <p:spPr>
          <a:xfrm>
            <a:off x="468360" y="6308640"/>
            <a:ext cx="1728720" cy="389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3360" indent="-339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8532720" y="6308640"/>
            <a:ext cx="61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F50-4642-41C7-A38D-C5A07F2FEC35}" type="slidenum">
              <a:rPr b="0" lang="nl-NL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178920" y="6244920"/>
            <a:ext cx="820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NO-NCW &amp; MKB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31 August 2009: merge of secretari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es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but coordinated communication with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NO-NC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ederation of Netherlands Industry and Employ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0 branch associations (115.000 compan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all companies &gt;5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2% of companies 100 – 5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% of companies 10 – 100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KB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deration of small and medium sized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branch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.000 sm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1640" y="1557360"/>
            <a:ext cx="6553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ieving a good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vironment and investment climat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 boost the competitiveness of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tch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ities tow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00000" y="1267920"/>
            <a:ext cx="712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cal market: promotion of the interests of NL business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mbers: service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ety as a whole: soci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/Labou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l Economic Council and Labour Foundation play important role in our lobby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ement in SER or LF creates broad support for policy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 Energy Agreement for Sustainable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ur Foundation: Soci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cial Partners negot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42920" y="1557360"/>
            <a:ext cx="7058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ur Foundatio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tor/Bran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± 200 sector CLA’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an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± 500 company CL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4240" indent="-35244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rmation and consultation: works counc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28:05Z</dcterms:created>
  <dc:creator>JeanetteH</dc:creator>
  <dc:description/>
  <dc:language>en-US</dc:language>
  <cp:lastModifiedBy>loesh</cp:lastModifiedBy>
  <dcterms:modified xsi:type="dcterms:W3CDTF">2013-09-23T08:07:05Z</dcterms:modified>
  <cp:revision>12</cp:revision>
  <dc:subject/>
  <dc:title>Dia 1</dc:title>
</cp:coreProperties>
</file>