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2F81-187D-4F38-825E-C18A4B5ED1A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80% of workers in the market sector are employed by members of VNO-NC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666BD-34DF-4C9A-986E-B165325BE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058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42920" y="4039200"/>
            <a:ext cx="7058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F048-BE0D-4A39-B783-1F5FCC97AE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42920" y="403920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9480" y="403920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D554-B558-405F-8D4B-C19908CB6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9360" y="155736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15440" y="155736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42920" y="403920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9360" y="403920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15440" y="403920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E5536-FBFA-47B6-85F1-DFD7F8138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85EE-472C-491F-A08C-476E4A6821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42920" y="1557360"/>
            <a:ext cx="705816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0A19-985F-4766-932B-2094C75E59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0581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4D76-D082-4D9C-B6B7-63C225EBCE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BDB-751F-449A-9033-E5F6380DE8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2CF8-98D4-4800-94F5-DE67856FB8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EC7-FF83-42FF-AEF3-CB80054120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920" y="403920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530E-E815-4B7E-9890-BD88976B9E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42920" y="1557360"/>
            <a:ext cx="705816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5A0C-5683-413D-B684-EA4368D93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9480" y="403920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B0F5-0B6E-4687-9206-422956DCC5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42920" y="4039200"/>
            <a:ext cx="7058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8C0-5A35-4077-8531-5FB1F17CDD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058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42920" y="4039200"/>
            <a:ext cx="7058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DAEA-1CA3-4E14-BA51-BB46353AC5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42920" y="403920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9480" y="403920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2451-A2A8-4D88-94BB-5C51A95FD3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29360" y="155736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15440" y="155736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42920" y="403920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29360" y="403920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15440" y="403920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5D91-6C11-479E-9668-E51B4CFB05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0581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245A-5E25-42F9-ADBB-BC409CB05C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729B2-9055-4309-BF9C-58BD639C7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93EA1-ABE9-4B37-9BF7-EFE7E75A8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41B8-84B9-4A6B-8445-1E4DACB69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42920" y="403920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4FDB-57F0-4EA3-A728-66FFEBCE4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9480" y="403920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20B1-109C-4CC9-99D9-655A0A250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42920" y="4039200"/>
            <a:ext cx="7058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747CB-0381-4B0D-BAC2-23CB66676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42920" y="1557360"/>
            <a:ext cx="70581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3524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3360" indent="-339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91124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1948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1948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1948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44000" y="6381360"/>
            <a:ext cx="9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BEA4-904C-44FD-99F2-AE9ECF47B034}" type="slidenum">
              <a:rPr b="0" lang="nl-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95280" y="6381360"/>
            <a:ext cx="55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Afbeelding 7" descr="__MKB.gif"/>
          <p:cNvPicPr/>
          <p:nvPr/>
        </p:nvPicPr>
        <p:blipFill>
          <a:blip r:embed="rId2"/>
          <a:stretch/>
        </p:blipFill>
        <p:spPr>
          <a:xfrm>
            <a:off x="7885080" y="6265800"/>
            <a:ext cx="719280" cy="471600"/>
          </a:xfrm>
          <a:prstGeom prst="rect">
            <a:avLst/>
          </a:prstGeom>
          <a:ln w="0">
            <a:noFill/>
          </a:ln>
        </p:spPr>
      </p:pic>
      <p:pic>
        <p:nvPicPr>
          <p:cNvPr id="5" name="Afbeelding 6" descr="__VNO-NCW.jpg"/>
          <p:cNvPicPr/>
          <p:nvPr/>
        </p:nvPicPr>
        <p:blipFill>
          <a:blip r:embed="rId3"/>
          <a:stretch/>
        </p:blipFill>
        <p:spPr>
          <a:xfrm>
            <a:off x="468360" y="6308640"/>
            <a:ext cx="1655640" cy="33984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468360" y="6269040"/>
            <a:ext cx="1944720" cy="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6732720" y="6269040"/>
            <a:ext cx="194472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back nw Intranet"/>
          <p:cNvPicPr/>
          <p:nvPr/>
        </p:nvPicPr>
        <p:blipFill>
          <a:blip r:embed="rId2"/>
          <a:stretch/>
        </p:blipFill>
        <p:spPr>
          <a:xfrm>
            <a:off x="-4680" y="11160"/>
            <a:ext cx="9136080" cy="6831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0" y="6742080"/>
            <a:ext cx="9144000" cy="115920"/>
          </a:xfrm>
          <a:prstGeom prst="rect">
            <a:avLst/>
          </a:prstGeom>
          <a:solidFill>
            <a:srgbClr val="cfd8e1"/>
          </a:solidFill>
          <a:ln w="9360">
            <a:solidFill>
              <a:srgbClr val="a0a0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1692360" y="0"/>
            <a:ext cx="5761080" cy="612720"/>
          </a:xfrm>
          <a:custGeom>
            <a:avLst/>
            <a:gdLst>
              <a:gd name="textAreaLeft" fmla="*/ 1200240 w 5761080"/>
              <a:gd name="textAreaRight" fmla="*/ 4560840 w 5761080"/>
              <a:gd name="textAreaTop" fmla="*/ 127440 h 612720"/>
              <a:gd name="textAreaBottom" fmla="*/ 48528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fd8e1"/>
          </a:solidFill>
          <a:ln w="9360">
            <a:solidFill>
              <a:srgbClr val="cfd8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Afbeelding 7" descr="__MKB.gif"/>
          <p:cNvPicPr/>
          <p:nvPr/>
        </p:nvPicPr>
        <p:blipFill>
          <a:blip r:embed="rId3"/>
          <a:stretch/>
        </p:blipFill>
        <p:spPr>
          <a:xfrm>
            <a:off x="7885080" y="6265800"/>
            <a:ext cx="719280" cy="471600"/>
          </a:xfrm>
          <a:prstGeom prst="rect">
            <a:avLst/>
          </a:prstGeom>
          <a:ln w="0">
            <a:noFill/>
          </a:ln>
        </p:spPr>
      </p:pic>
      <p:sp>
        <p:nvSpPr>
          <p:cNvPr id="48" name="Line 10"/>
          <p:cNvSpPr/>
          <p:nvPr/>
        </p:nvSpPr>
        <p:spPr>
          <a:xfrm>
            <a:off x="468360" y="6269040"/>
            <a:ext cx="1944720" cy="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6732720" y="6269040"/>
            <a:ext cx="194472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VNO-NCW"/>
          <p:cNvPicPr/>
          <p:nvPr/>
        </p:nvPicPr>
        <p:blipFill>
          <a:blip r:embed="rId4"/>
          <a:stretch/>
        </p:blipFill>
        <p:spPr>
          <a:xfrm>
            <a:off x="468360" y="6308640"/>
            <a:ext cx="1728720" cy="389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1042920" y="1557360"/>
            <a:ext cx="70581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3524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3360" indent="-339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91124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1948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1948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1948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3"/>
          </p:nvPr>
        </p:nvSpPr>
        <p:spPr>
          <a:xfrm>
            <a:off x="8532720" y="6308640"/>
            <a:ext cx="6112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3C30-9901-4087-9BC9-17D5AEB8D65F}" type="slidenum">
              <a:rPr b="0" lang="nl-NL" sz="14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4"/>
          </p:nvPr>
        </p:nvSpPr>
        <p:spPr>
          <a:xfrm>
            <a:off x="178920" y="6244920"/>
            <a:ext cx="8209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NO-NCW &amp; MKB-Ned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0581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31 August 2009: merge of secretari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res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but coordinated communication with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NO-NC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218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ederation of Netherlands Industry and Employ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50 branch associations (115.000 compan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all companies &gt;500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2% of companies 100 – 500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% of companies 10 – 100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KB-Ned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915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ederation of small and medium sized enter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 branch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6.000 sm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31640" y="1557360"/>
            <a:ext cx="65530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ieving a good busi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vironment and investment climate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 boost the competitiveness of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tch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tivities towa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00000" y="1267920"/>
            <a:ext cx="7128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cal market: promotion of the interests of NL business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mbers: services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ciety as a whole: soci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/Labour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42920" y="1557360"/>
            <a:ext cx="70581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cial Economic Council and Labour Foundation play important role in our lobby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reement in SER or LF creates broad support for policy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35244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R Energy Agreement for Sustainable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35244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ur Foundation: Soci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cial Partners negoti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42920" y="1557360"/>
            <a:ext cx="70581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ional Le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35244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35244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ur Foundatio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ctor/Branc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35244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± 200 sector CLA’s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pany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35244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± 500 company CLA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35244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formation and consultation: works counc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4:28:05Z</dcterms:created>
  <dc:creator>JeanetteH</dc:creator>
  <dc:description/>
  <dc:language>en-US</dc:language>
  <cp:lastModifiedBy>loesh</cp:lastModifiedBy>
  <dcterms:modified xsi:type="dcterms:W3CDTF">2013-09-23T08:07:05Z</dcterms:modified>
  <cp:revision>12</cp:revision>
  <dc:subject/>
  <dc:title>Dia 1</dc:title>
</cp:coreProperties>
</file>