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095-10A4-4B63-BE74-3923AA95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ED3-1293-488A-A64D-ADA4236B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126BB-DE45-4932-BFE5-0AE88D53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86576-25CF-4F5D-845B-C521B37C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05481-1882-48F1-9572-E6910843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E5BD6-B214-46E2-9F62-752B1D4F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C0C65-3E42-4844-8183-F81A6DDA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63B7C-5834-45C7-BB73-72871C61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BEF81-C977-4062-92F5-92B4262F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FB81D-4BB4-459A-8972-F96D385C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544E8-A8B2-41B6-AB09-E586E9B8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47205-BA44-4CB2-9C75-23F6F558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15C-219E-432B-AAA6-3A108171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93006-8230-499A-A565-563EEFD9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F6B20-0712-4DC1-AEBE-7246550A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97418-17AA-4132-BF3A-B2F25F35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4DAAC-7603-4569-AA58-C188886F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502A5-7EA2-4BE8-8C08-F14D7341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C15DE-EA26-43B1-AA88-7A264D00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9C5A0-2E81-4606-A095-BD3BE3E3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84417-B2AA-4D6E-A507-BD40A5E1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E8AA6-9EFD-4760-B7D1-0D5C0317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1DA93-7E16-4958-81F1-75474BC8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826-D02D-43EF-B13C-C8BFC319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C7F27-0867-4EAE-8416-6AB0E5E1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EE813-1374-4C27-868F-1167D464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E716F-0555-43A2-9087-8EA7913C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C1F74-C396-40BE-9485-AD9FF5FD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33479-CF40-416E-B598-CEAA76E0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332DE-E608-4A20-B073-C67BB9CF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180BE-1403-488A-86ED-03CDFE32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E9A37-0B75-4BA4-864D-A745A0E2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3D60F-FA81-4B8C-A8F0-61B6B96C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65993-03E8-476E-A924-513D9457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E7E1-5E1F-421B-99FD-8BB081EF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3A4F2-BCD7-4ACD-99B2-1D057D2D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8BE19-9B71-47C1-B355-D83BD11A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B1F1F-37E1-4FAC-8CA0-BE9D00CE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98B33-24CD-4E9F-9900-869A08E9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93577-F410-4489-9EEA-D96AEAE3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E914D-D956-4659-A91F-2123E6AD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BFDD4-3DD9-4355-9614-AF606F4C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44A44-58D5-4B41-87E3-10CB2DFC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0C217-EE53-457E-A639-DE7B67B2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3778A-FC97-4597-B96C-46AA7E68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18C9-2202-4E88-9CFE-B4D1592C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A9825-65B8-4504-B9DC-931AAC3B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35D6A-275E-4BCD-BFF2-D8D26446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74440-7734-4A25-9822-3211674E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C3516-6E00-414D-8A39-125E38E5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1728E-D818-4818-8A4C-386F735A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D321D-55DF-4B5A-A7A8-A4F4FB43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1C78A-8480-46D4-A1D4-21C17BE3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86A4A-1C55-4CAE-A12F-8F4590C0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B56C1-012A-4414-AB01-E1F36426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CF168-4D6C-444A-980B-60A86FB9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B074-60DF-4123-9CC1-71DCDF83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65BAA-24A0-438F-B527-4708F1DA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A3A2E-DC99-4BCF-8930-F57F7924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A955D-BE78-4407-A206-0D6C843F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03334-897C-465F-8C48-D09C306A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54AD4-4A84-40FB-85A7-103DC110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3555A-D5F1-499E-B65B-32E931BA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D6CA0-A88E-4055-B8EC-270CC45F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2787-B243-4619-9F39-1075A9D8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CA5B-CE49-489B-BFA7-E2707638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172C-8685-44C9-916F-3B711056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1CD6-A4CF-4B8A-88ED-4E527A5D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F99-A146-49B0-853A-0245A755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551E-0090-4F1E-BE3F-3630C2EC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23F3-5921-4E0B-9C87-07568639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F098-7A94-4C9A-9B03-38C078AE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B299-3382-4CBE-BFDF-B4241AF9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6279-0C62-47D5-B733-7EF2828E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FE31C-437B-46CE-A3F7-EA4A3857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3F9A0-897B-4781-8AEF-3C8BCB84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577E-5C10-4AC2-BD6E-1538EBA2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9890-269E-4548-AE4E-224FF17B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3962-9AFA-4093-8807-90CBA985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CDD-12E1-481D-8B05-B56F67F6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216E6-6566-43BD-A89A-CACE411E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7D4D9-1FAE-4521-8D3D-2F2CA3A1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FF19-7561-4057-8C98-D263388E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436C-B1A5-4EC4-BDE9-62394CC5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E258-20F9-4154-B65E-25884533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2A971-DA81-4720-9C5F-1499082E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4C58F-B26F-405F-9FEF-6733321E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322B0-98F9-4E9D-83BA-9A536A82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6AE30-E94D-490E-BCCE-B2DD4C37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71F7F-2979-4F8C-A61B-014457E4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14A-AE85-422E-9D32-BF573A45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6F335-EC4F-43F5-B0AA-56B05C77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D5753-4DE6-4CA1-83C5-26B4CAC7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DD46F-81DA-4EE8-8D51-9E1C3420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7C0B1-289D-479A-9533-C7C63766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EBFE0-98C4-4C2F-83B8-8CAF7C32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57FBC-A05B-4F25-8DB6-A74EAFB9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C84BE-1A02-4FDD-BBF9-9C6B2F17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EB235-CF65-452F-A1CC-D626A9FF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AEF03-4E9B-4215-9490-726F4912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2CF75-5F5B-4132-B04E-C5F924C0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58E-8098-4D79-B8F5-B8CC4DF0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4AA0A-7291-4AAD-B9F6-DC90D6EF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D549F-EB07-432F-8786-5B1EB558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185CE-455D-41E1-B8EC-B9D20BBF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6711B-5CF5-4774-8A16-7D9784EF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27157-DC0D-4A9A-A2A2-1CED889D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BDF29-AFF0-417A-B077-A56CEEFB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4010C-05B1-4659-8306-0B60FFC5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EC975-B1AF-463E-8D5C-D6D15B15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1C897-D8AB-444A-B7FD-6B071729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6FD8E-B48D-4983-BB04-10B8F6ED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2F2-E448-4D4D-9359-F3961430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C9ACD-9330-462C-8536-3848E6D9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F5DBC-D577-4B47-AE54-69BF4328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E8DBB-4A05-4135-A7FC-E000FA40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1E06C-F303-4741-B1A5-51CEC0E5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9DD6D-FE4B-4E61-8336-D33A9715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E1BBC-3615-4062-8C1A-5A5EE57D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FDFE8-94AA-4FEE-9E9F-A6200D64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1AA89-06A7-4483-9EFE-31881539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78E9F-B35C-405D-8E72-77A6527F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FEE70-3617-4D86-A67A-5C88FE8E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5CA-CE37-4A39-9448-E5CB7A93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875BE-E100-4B4B-B1FD-EA0634FB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94D3D-3B73-4B22-8F59-5F8FF514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FBDF6-CDEC-4047-B5B7-B2FE96DF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45BBA-E61A-402E-95D4-03EE5526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D55CB-4702-45D2-8A68-F786E624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73117-89B7-48CE-AF9C-3BBB7C4B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68CC6-6DD2-40B2-BCB0-FC19DDFE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5CA7C-586A-4EC5-9042-9B72FD2D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78236-3E2D-496B-80B2-BC6CF37A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79388-289A-4858-8AC3-0BA8F8EC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57C-779A-4436-8EA6-04FB781E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47ADF-BE4D-40C6-BC75-386A8D66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C2558-8B4A-4B75-A20E-EA2B4741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2958A-4D14-4BDF-A8B6-6880B26D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D1E4E-8205-4572-AE9A-83492A2E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46C79-5BB7-4AC4-A7B3-C7C24017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DBD99-1318-43BC-B5B6-334A781B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56E43-4E08-4C23-BA28-198EA978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00C5B-32C6-47C5-A148-138C10D4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0B5A9-3944-4345-B927-D23DCA2F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72D39-4456-49FF-B562-97603001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0E3-AA68-489E-B6AF-119DF908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B3298-6678-4B1D-A752-547E9A21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DE12E-5A73-42C2-836E-05D6E8E1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9403E-A3BC-4C32-BCFD-2FEE6470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6C4B9-A488-408D-88BD-6631D123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6242B-596A-4BB5-8FFF-E5158997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C7377-81D8-46F4-884E-AB8CD973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0172F-03CC-4FA6-B6B7-1D0CF1CE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2FB05-7DB4-41C1-92B5-625E3DF2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8F0D8-A527-4452-9A7F-870C6757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93D19-F1D7-46A4-97F3-66A368A1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DE8C-C26D-42CD-9746-CC1B83F6DB76}" type="slidenum">
              <a:rPr b="0" lang="es-G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8EFE-8424-4CD9-8726-C1B878EAA48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CF18-A3DB-4B96-B538-575E89901DB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D0BF-EBB8-4152-A0F7-0F782FA8C25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61A6-4233-4FF6-9214-27E3E8455E8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55AC-B4F4-4F33-88B6-6E06F2B763B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A902-11FA-4061-BFB7-0D569E01990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A5A1-B894-41CD-8124-A5991152D67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75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8F97-9B8E-46E7-80C8-29E67EDA9F1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5204-F2D0-4C46-A0D4-511F6E30841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E1B4-3929-4EE4-AE75-F0F8ECA9A47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C478-8EA3-4E05-9159-10DCD364EF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2CAD-70C8-4F0D-8694-241CFE5A173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3.png"/><Relationship Id="rId29" Type="http://schemas.openxmlformats.org/officeDocument/2006/relationships/image" Target="../media/image31.png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GT" sz="2800" spc="-1" strike="noStrike">
              <a:solidFill>
                <a:srgbClr val="c00000"/>
              </a:solidFill>
              <a:latin typeface="Franklin Gothic 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GT" sz="2400" spc="-1" strike="noStrike">
              <a:solidFill>
                <a:srgbClr val="898989"/>
              </a:solidFill>
              <a:latin typeface="Perpetua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Imagen 1" descr="ces"/>
          <p:cNvPicPr/>
          <p:nvPr/>
        </p:nvPicPr>
        <p:blipFill>
          <a:blip r:embed="rId1"/>
          <a:stretch/>
        </p:blipFill>
        <p:spPr>
          <a:xfrm>
            <a:off x="1258920" y="3284640"/>
            <a:ext cx="6553080" cy="295272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3"/>
          <p:cNvSpPr/>
          <p:nvPr/>
        </p:nvSpPr>
        <p:spPr>
          <a:xfrm>
            <a:off x="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101916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4 Rectángulo redondeado"/>
          <p:cNvGrpSpPr/>
          <p:nvPr/>
        </p:nvGrpSpPr>
        <p:grpSpPr>
          <a:xfrm>
            <a:off x="3481560" y="115920"/>
            <a:ext cx="2217600" cy="669960"/>
            <a:chOff x="3481560" y="115920"/>
            <a:chExt cx="2217600" cy="669960"/>
          </a:xfrm>
        </p:grpSpPr>
        <p:pic>
          <p:nvPicPr>
            <p:cNvPr id="577" name="4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481560" y="115920"/>
              <a:ext cx="22176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3525840" y="168120"/>
              <a:ext cx="20304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ASAMBL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Presidente del Consej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5 Rectángulo redondeado"/>
          <p:cNvGrpSpPr/>
          <p:nvPr/>
        </p:nvGrpSpPr>
        <p:grpSpPr>
          <a:xfrm>
            <a:off x="6267600" y="762120"/>
            <a:ext cx="1785960" cy="596880"/>
            <a:chOff x="6267600" y="762120"/>
            <a:chExt cx="1785960" cy="596880"/>
          </a:xfrm>
        </p:grpSpPr>
        <p:pic>
          <p:nvPicPr>
            <p:cNvPr id="580" name="5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6267600" y="762120"/>
              <a:ext cx="17859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308640" y="808200"/>
              <a:ext cx="1598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alibri"/>
                </a:rPr>
                <a:t>Presid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alibri"/>
                </a:rPr>
                <a:t>Comisión Perman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6 Rectángulo redondeado"/>
          <p:cNvGrpSpPr/>
          <p:nvPr/>
        </p:nvGrpSpPr>
        <p:grpSpPr>
          <a:xfrm>
            <a:off x="6626160" y="1547640"/>
            <a:ext cx="1152720" cy="598680"/>
            <a:chOff x="6626160" y="1547640"/>
            <a:chExt cx="1152720" cy="598680"/>
          </a:xfrm>
        </p:grpSpPr>
        <p:pic>
          <p:nvPicPr>
            <p:cNvPr id="583" name="6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626160" y="1547640"/>
              <a:ext cx="115272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6665760" y="1593720"/>
              <a:ext cx="963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Calibri"/>
                </a:rPr>
                <a:t>Vicepresiden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Calibri"/>
                </a:rPr>
                <a:t>Sector Cooperativo                                     </a:t>
              </a:r>
              <a:r>
                <a:rPr b="1" lang="es-MX" sz="1000" spc="-1" strike="noStrike">
                  <a:solidFill>
                    <a:srgbClr val="000000"/>
                  </a:solidFill>
                  <a:latin typeface="Calibri"/>
                </a:rPr>
                <a:t>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19 Conector recto"/>
          <p:cNvSpPr/>
          <p:nvPr/>
        </p:nvSpPr>
        <p:spPr>
          <a:xfrm>
            <a:off x="1643040" y="3571920"/>
            <a:ext cx="5357880" cy="1440"/>
          </a:xfrm>
          <a:prstGeom prst="line">
            <a:avLst/>
          </a:prstGeom>
          <a:ln w="442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37 Conector recto"/>
          <p:cNvSpPr/>
          <p:nvPr/>
        </p:nvSpPr>
        <p:spPr>
          <a:xfrm flipH="1">
            <a:off x="7071840" y="1285920"/>
            <a:ext cx="1800" cy="2858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40 Conector recto"/>
          <p:cNvSpPr/>
          <p:nvPr/>
        </p:nvSpPr>
        <p:spPr>
          <a:xfrm>
            <a:off x="6084720" y="184464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27 Conector recto"/>
          <p:cNvSpPr/>
          <p:nvPr/>
        </p:nvSpPr>
        <p:spPr>
          <a:xfrm flipH="1" flipV="1">
            <a:off x="6000840" y="1428840"/>
            <a:ext cx="107136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44 Rectángulo redondeado"/>
          <p:cNvGrpSpPr/>
          <p:nvPr/>
        </p:nvGrpSpPr>
        <p:grpSpPr>
          <a:xfrm>
            <a:off x="1054080" y="3687840"/>
            <a:ext cx="1219320" cy="598320"/>
            <a:chOff x="1054080" y="3687840"/>
            <a:chExt cx="1219320" cy="598320"/>
          </a:xfrm>
        </p:grpSpPr>
        <p:pic>
          <p:nvPicPr>
            <p:cNvPr id="590" name="4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1054080" y="3687840"/>
              <a:ext cx="12193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1093680" y="3736800"/>
              <a:ext cx="1036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Sub Secretaria  Sector  Coopera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52 Rectángulo redondeado"/>
          <p:cNvGrpSpPr/>
          <p:nvPr/>
        </p:nvGrpSpPr>
        <p:grpSpPr>
          <a:xfrm>
            <a:off x="2109960" y="676440"/>
            <a:ext cx="1109520" cy="622080"/>
            <a:chOff x="2109960" y="676440"/>
            <a:chExt cx="1109520" cy="622080"/>
          </a:xfrm>
        </p:grpSpPr>
        <p:pic>
          <p:nvPicPr>
            <p:cNvPr id="593" name="52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2109960" y="676440"/>
              <a:ext cx="110952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2165400" y="736560"/>
              <a:ext cx="893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alibri"/>
                </a:rPr>
                <a:t>Auditoria Inte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69 Conector recto"/>
          <p:cNvSpPr/>
          <p:nvPr/>
        </p:nvSpPr>
        <p:spPr>
          <a:xfrm>
            <a:off x="4500720" y="3000240"/>
            <a:ext cx="0" cy="2145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70 Conector recto"/>
          <p:cNvSpPr/>
          <p:nvPr/>
        </p:nvSpPr>
        <p:spPr>
          <a:xfrm flipH="1">
            <a:off x="4500360" y="1357200"/>
            <a:ext cx="259236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5 Conector recto"/>
          <p:cNvSpPr/>
          <p:nvPr/>
        </p:nvSpPr>
        <p:spPr>
          <a:xfrm flipH="1" flipV="1">
            <a:off x="3499920" y="3214800"/>
            <a:ext cx="108756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79 Conector recto"/>
          <p:cNvSpPr/>
          <p:nvPr/>
        </p:nvSpPr>
        <p:spPr>
          <a:xfrm>
            <a:off x="4500720" y="692280"/>
            <a:ext cx="0" cy="18795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90 Conector recto"/>
          <p:cNvSpPr/>
          <p:nvPr/>
        </p:nvSpPr>
        <p:spPr>
          <a:xfrm>
            <a:off x="3071880" y="928800"/>
            <a:ext cx="144288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94 Rectángulo redondeado"/>
          <p:cNvGrpSpPr/>
          <p:nvPr/>
        </p:nvGrpSpPr>
        <p:grpSpPr>
          <a:xfrm>
            <a:off x="7765920" y="1547640"/>
            <a:ext cx="1086120" cy="598680"/>
            <a:chOff x="7765920" y="1547640"/>
            <a:chExt cx="1086120" cy="598680"/>
          </a:xfrm>
        </p:grpSpPr>
        <p:pic>
          <p:nvPicPr>
            <p:cNvPr id="601" name="94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7765920" y="1547640"/>
              <a:ext cx="108612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7808760" y="1593720"/>
              <a:ext cx="892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Calibri"/>
                </a:rPr>
                <a:t>Vicepresidente  Sector Labor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91 Rectángulo redondeado"/>
          <p:cNvGrpSpPr/>
          <p:nvPr/>
        </p:nvGrpSpPr>
        <p:grpSpPr>
          <a:xfrm>
            <a:off x="5479920" y="1547640"/>
            <a:ext cx="1158840" cy="598680"/>
            <a:chOff x="5479920" y="1547640"/>
            <a:chExt cx="1158840" cy="598680"/>
          </a:xfrm>
        </p:grpSpPr>
        <p:pic>
          <p:nvPicPr>
            <p:cNvPr id="604" name="91 Rectángulo redondeado" descr=""/>
            <p:cNvPicPr/>
            <p:nvPr/>
          </p:nvPicPr>
          <p:blipFill>
            <a:blip r:embed="rId7"/>
            <a:stretch/>
          </p:blipFill>
          <p:spPr>
            <a:xfrm>
              <a:off x="5479920" y="1547640"/>
              <a:ext cx="115884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5522760" y="1593720"/>
              <a:ext cx="963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Calibri"/>
                </a:rPr>
                <a:t>Vicepresiden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Calibri"/>
                </a:rPr>
                <a:t>Sector Empresar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92 Conector recto"/>
          <p:cNvSpPr/>
          <p:nvPr/>
        </p:nvSpPr>
        <p:spPr>
          <a:xfrm flipH="1" flipV="1">
            <a:off x="7071840" y="1428840"/>
            <a:ext cx="108756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111 Conector recto"/>
          <p:cNvSpPr/>
          <p:nvPr/>
        </p:nvSpPr>
        <p:spPr>
          <a:xfrm>
            <a:off x="8143920" y="142884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127 Rectángulo redondeado"/>
          <p:cNvGrpSpPr/>
          <p:nvPr/>
        </p:nvGrpSpPr>
        <p:grpSpPr>
          <a:xfrm>
            <a:off x="3913200" y="1835280"/>
            <a:ext cx="1420920" cy="596880"/>
            <a:chOff x="3913200" y="1835280"/>
            <a:chExt cx="1420920" cy="596880"/>
          </a:xfrm>
        </p:grpSpPr>
        <p:pic>
          <p:nvPicPr>
            <p:cNvPr id="609" name="127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3913200" y="1835280"/>
              <a:ext cx="14209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3951360" y="1879560"/>
              <a:ext cx="1241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900" spc="-1" strike="noStrike">
                  <a:solidFill>
                    <a:srgbClr val="000000"/>
                  </a:solidFill>
                  <a:latin typeface="Calibri"/>
                </a:rPr>
                <a:t>SECRETARIO TECNICO                                     </a:t>
              </a:r>
              <a:r>
                <a:rPr b="1" lang="es-MX" sz="1000" spc="-1" strike="noStrike">
                  <a:solidFill>
                    <a:srgbClr val="000000"/>
                  </a:solidFill>
                  <a:latin typeface="Calibri"/>
                </a:rPr>
                <a:t>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133 Rectángulo redondeado"/>
          <p:cNvGrpSpPr/>
          <p:nvPr/>
        </p:nvGrpSpPr>
        <p:grpSpPr>
          <a:xfrm>
            <a:off x="4913280" y="3687840"/>
            <a:ext cx="1219320" cy="598320"/>
            <a:chOff x="4913280" y="3687840"/>
            <a:chExt cx="1219320" cy="598320"/>
          </a:xfrm>
        </p:grpSpPr>
        <p:pic>
          <p:nvPicPr>
            <p:cNvPr id="612" name="133 Rectángulo redondeado" descr=""/>
            <p:cNvPicPr/>
            <p:nvPr/>
          </p:nvPicPr>
          <p:blipFill>
            <a:blip r:embed="rId9"/>
            <a:stretch/>
          </p:blipFill>
          <p:spPr>
            <a:xfrm>
              <a:off x="4913280" y="3687840"/>
              <a:ext cx="12193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4951440" y="3736800"/>
              <a:ext cx="1036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Sub Secretarí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Financiera </a:t>
              </a: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135 Rectángulo redondeado"/>
          <p:cNvGrpSpPr/>
          <p:nvPr/>
        </p:nvGrpSpPr>
        <p:grpSpPr>
          <a:xfrm>
            <a:off x="2341440" y="3687840"/>
            <a:ext cx="1219320" cy="598320"/>
            <a:chOff x="2341440" y="3687840"/>
            <a:chExt cx="1219320" cy="598320"/>
          </a:xfrm>
        </p:grpSpPr>
        <p:pic>
          <p:nvPicPr>
            <p:cNvPr id="615" name="135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2341440" y="3687840"/>
              <a:ext cx="12193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2379600" y="3736800"/>
              <a:ext cx="1036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Sub Secretaria  Sector  Empresari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136 Rectángulo redondeado"/>
          <p:cNvGrpSpPr/>
          <p:nvPr/>
        </p:nvGrpSpPr>
        <p:grpSpPr>
          <a:xfrm>
            <a:off x="3627360" y="3687840"/>
            <a:ext cx="1219320" cy="598320"/>
            <a:chOff x="3627360" y="3687840"/>
            <a:chExt cx="1219320" cy="598320"/>
          </a:xfrm>
        </p:grpSpPr>
        <p:pic>
          <p:nvPicPr>
            <p:cNvPr id="618" name="136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3627360" y="3687840"/>
              <a:ext cx="12193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3665520" y="3736800"/>
              <a:ext cx="1036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Sub Secretaría  Sector  Labor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137 Rectángulo redondeado"/>
          <p:cNvGrpSpPr/>
          <p:nvPr/>
        </p:nvGrpSpPr>
        <p:grpSpPr>
          <a:xfrm>
            <a:off x="6413400" y="3687840"/>
            <a:ext cx="1150920" cy="598320"/>
            <a:chOff x="6413400" y="3687840"/>
            <a:chExt cx="1150920" cy="598320"/>
          </a:xfrm>
        </p:grpSpPr>
        <p:pic>
          <p:nvPicPr>
            <p:cNvPr id="621" name="137 Rectángulo redondeado" descr=""/>
            <p:cNvPicPr/>
            <p:nvPr/>
          </p:nvPicPr>
          <p:blipFill>
            <a:blip r:embed="rId12"/>
            <a:stretch/>
          </p:blipFill>
          <p:spPr>
            <a:xfrm>
              <a:off x="6413400" y="3687840"/>
              <a:ext cx="11509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6451560" y="3736800"/>
              <a:ext cx="963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Sub Secretaría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Arial"/>
                </a:rPr>
                <a:t>Administrati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138 Conector recto"/>
          <p:cNvSpPr/>
          <p:nvPr/>
        </p:nvSpPr>
        <p:spPr>
          <a:xfrm>
            <a:off x="5500800" y="357192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141 Conector recto"/>
          <p:cNvSpPr/>
          <p:nvPr/>
        </p:nvSpPr>
        <p:spPr>
          <a:xfrm>
            <a:off x="1643040" y="421488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145 Rectángulo redondeado"/>
          <p:cNvGrpSpPr/>
          <p:nvPr/>
        </p:nvGrpSpPr>
        <p:grpSpPr>
          <a:xfrm>
            <a:off x="2554200" y="2975040"/>
            <a:ext cx="1067040" cy="596880"/>
            <a:chOff x="2554200" y="2975040"/>
            <a:chExt cx="1067040" cy="596880"/>
          </a:xfrm>
        </p:grpSpPr>
        <p:pic>
          <p:nvPicPr>
            <p:cNvPr id="626" name="145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2554200" y="2975040"/>
              <a:ext cx="1067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2593800" y="3022560"/>
              <a:ext cx="8766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Asesoría Leg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166 Rectángulo redondeado"/>
          <p:cNvGrpSpPr/>
          <p:nvPr/>
        </p:nvGrpSpPr>
        <p:grpSpPr>
          <a:xfrm>
            <a:off x="1122480" y="4327560"/>
            <a:ext cx="1157040" cy="512640"/>
            <a:chOff x="1122480" y="4327560"/>
            <a:chExt cx="1157040" cy="512640"/>
          </a:xfrm>
        </p:grpSpPr>
        <p:pic>
          <p:nvPicPr>
            <p:cNvPr id="629" name="166 Rectángulo redondeado" descr=""/>
            <p:cNvPicPr/>
            <p:nvPr/>
          </p:nvPicPr>
          <p:blipFill>
            <a:blip r:embed="rId14"/>
            <a:stretch/>
          </p:blipFill>
          <p:spPr>
            <a:xfrm>
              <a:off x="1122480" y="4327560"/>
              <a:ext cx="11570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1160640" y="4375080"/>
              <a:ext cx="973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Ase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168 Rectángulo redondeado"/>
          <p:cNvGrpSpPr/>
          <p:nvPr/>
        </p:nvGrpSpPr>
        <p:grpSpPr>
          <a:xfrm>
            <a:off x="5048280" y="4322880"/>
            <a:ext cx="950760" cy="523800"/>
            <a:chOff x="5048280" y="4322880"/>
            <a:chExt cx="950760" cy="523800"/>
          </a:xfrm>
        </p:grpSpPr>
        <p:pic>
          <p:nvPicPr>
            <p:cNvPr id="632" name="168 Rectángulo redondeado" descr=""/>
            <p:cNvPicPr/>
            <p:nvPr/>
          </p:nvPicPr>
          <p:blipFill>
            <a:blip r:embed="rId15"/>
            <a:stretch/>
          </p:blipFill>
          <p:spPr>
            <a:xfrm>
              <a:off x="5048280" y="4322880"/>
              <a:ext cx="95076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5089680" y="4375080"/>
              <a:ext cx="75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Calibri"/>
                </a:rPr>
                <a:t>Contabilida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169 Rectángulo redondeado"/>
          <p:cNvGrpSpPr/>
          <p:nvPr/>
        </p:nvGrpSpPr>
        <p:grpSpPr>
          <a:xfrm>
            <a:off x="2341440" y="4327560"/>
            <a:ext cx="1150920" cy="512640"/>
            <a:chOff x="2341440" y="4327560"/>
            <a:chExt cx="1150920" cy="512640"/>
          </a:xfrm>
        </p:grpSpPr>
        <p:pic>
          <p:nvPicPr>
            <p:cNvPr id="635" name="169 Rectángulo redondeado" descr=""/>
            <p:cNvPicPr/>
            <p:nvPr/>
          </p:nvPicPr>
          <p:blipFill>
            <a:blip r:embed="rId16"/>
            <a:stretch/>
          </p:blipFill>
          <p:spPr>
            <a:xfrm>
              <a:off x="2341440" y="4327560"/>
              <a:ext cx="11509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2374920" y="4375080"/>
              <a:ext cx="973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Ase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171 Rectángulo redondeado"/>
          <p:cNvGrpSpPr/>
          <p:nvPr/>
        </p:nvGrpSpPr>
        <p:grpSpPr>
          <a:xfrm>
            <a:off x="3627360" y="4327560"/>
            <a:ext cx="1152720" cy="512640"/>
            <a:chOff x="3627360" y="4327560"/>
            <a:chExt cx="1152720" cy="512640"/>
          </a:xfrm>
        </p:grpSpPr>
        <p:pic>
          <p:nvPicPr>
            <p:cNvPr id="638" name="171 Rectángulo redondeado" descr=""/>
            <p:cNvPicPr/>
            <p:nvPr/>
          </p:nvPicPr>
          <p:blipFill>
            <a:blip r:embed="rId17"/>
            <a:stretch/>
          </p:blipFill>
          <p:spPr>
            <a:xfrm>
              <a:off x="3627360" y="4327560"/>
              <a:ext cx="11527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3660840" y="4375080"/>
              <a:ext cx="973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Asesor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174 Conector recto"/>
          <p:cNvSpPr/>
          <p:nvPr/>
        </p:nvSpPr>
        <p:spPr>
          <a:xfrm>
            <a:off x="2928960" y="421488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175 Conector recto"/>
          <p:cNvSpPr/>
          <p:nvPr/>
        </p:nvSpPr>
        <p:spPr>
          <a:xfrm>
            <a:off x="4214880" y="421488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176 Conector recto"/>
          <p:cNvSpPr/>
          <p:nvPr/>
        </p:nvSpPr>
        <p:spPr>
          <a:xfrm>
            <a:off x="5429160" y="4143240"/>
            <a:ext cx="0" cy="14472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181 Conector recto"/>
          <p:cNvSpPr/>
          <p:nvPr/>
        </p:nvSpPr>
        <p:spPr>
          <a:xfrm>
            <a:off x="7000920" y="357192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204 Rectángulo redondeado"/>
          <p:cNvGrpSpPr/>
          <p:nvPr/>
        </p:nvGrpSpPr>
        <p:grpSpPr>
          <a:xfrm>
            <a:off x="6199200" y="4327560"/>
            <a:ext cx="927000" cy="512640"/>
            <a:chOff x="6199200" y="4327560"/>
            <a:chExt cx="927000" cy="512640"/>
          </a:xfrm>
        </p:grpSpPr>
        <p:pic>
          <p:nvPicPr>
            <p:cNvPr id="645" name="204 Rectángulo redondeado" descr=""/>
            <p:cNvPicPr/>
            <p:nvPr/>
          </p:nvPicPr>
          <p:blipFill>
            <a:blip r:embed="rId18"/>
            <a:stretch/>
          </p:blipFill>
          <p:spPr>
            <a:xfrm>
              <a:off x="6199200" y="4327560"/>
              <a:ext cx="9270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6232680" y="4375080"/>
              <a:ext cx="7506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900" spc="-1" strike="noStrike">
                  <a:solidFill>
                    <a:srgbClr val="000000"/>
                  </a:solidFill>
                  <a:latin typeface="Calibri"/>
                </a:rPr>
                <a:t>Recursos Human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206 Rectángulo redondeado"/>
          <p:cNvGrpSpPr/>
          <p:nvPr/>
        </p:nvGrpSpPr>
        <p:grpSpPr>
          <a:xfrm>
            <a:off x="5048280" y="5321160"/>
            <a:ext cx="950760" cy="525600"/>
            <a:chOff x="5048280" y="5321160"/>
            <a:chExt cx="950760" cy="525600"/>
          </a:xfrm>
        </p:grpSpPr>
        <p:pic>
          <p:nvPicPr>
            <p:cNvPr id="648" name="206 Rectángulo redondeado" descr=""/>
            <p:cNvPicPr/>
            <p:nvPr/>
          </p:nvPicPr>
          <p:blipFill>
            <a:blip r:embed="rId19"/>
            <a:stretch/>
          </p:blipFill>
          <p:spPr>
            <a:xfrm>
              <a:off x="5048280" y="5321160"/>
              <a:ext cx="9507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089680" y="5375160"/>
              <a:ext cx="75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Tesorer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208 Rectángulo redondeado"/>
          <p:cNvGrpSpPr/>
          <p:nvPr/>
        </p:nvGrpSpPr>
        <p:grpSpPr>
          <a:xfrm>
            <a:off x="7053120" y="5407200"/>
            <a:ext cx="938520" cy="572760"/>
            <a:chOff x="7053120" y="5407200"/>
            <a:chExt cx="938520" cy="572760"/>
          </a:xfrm>
        </p:grpSpPr>
        <p:pic>
          <p:nvPicPr>
            <p:cNvPr id="651" name="208 Rectángulo redondeado" descr=""/>
            <p:cNvPicPr/>
            <p:nvPr/>
          </p:nvPicPr>
          <p:blipFill>
            <a:blip r:embed="rId20"/>
            <a:stretch/>
          </p:blipFill>
          <p:spPr>
            <a:xfrm>
              <a:off x="7053120" y="5407200"/>
              <a:ext cx="93852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7093080" y="5450040"/>
              <a:ext cx="750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Calibri"/>
                </a:rPr>
                <a:t>Servicios Generale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209 Rectángulo redondeado"/>
          <p:cNvGrpSpPr/>
          <p:nvPr/>
        </p:nvGrpSpPr>
        <p:grpSpPr>
          <a:xfrm>
            <a:off x="5048280" y="4821120"/>
            <a:ext cx="950760" cy="525600"/>
            <a:chOff x="5048280" y="4821120"/>
            <a:chExt cx="950760" cy="525600"/>
          </a:xfrm>
        </p:grpSpPr>
        <p:pic>
          <p:nvPicPr>
            <p:cNvPr id="654" name="209 Rectángulo redondeado" descr=""/>
            <p:cNvPicPr/>
            <p:nvPr/>
          </p:nvPicPr>
          <p:blipFill>
            <a:blip r:embed="rId21"/>
            <a:stretch/>
          </p:blipFill>
          <p:spPr>
            <a:xfrm>
              <a:off x="5048280" y="4821120"/>
              <a:ext cx="9507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089680" y="4875120"/>
              <a:ext cx="75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Calibri"/>
                </a:rPr>
                <a:t>Presupues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210 Rectángulo redondeado"/>
          <p:cNvGrpSpPr/>
          <p:nvPr/>
        </p:nvGrpSpPr>
        <p:grpSpPr>
          <a:xfrm>
            <a:off x="7047000" y="4322880"/>
            <a:ext cx="950760" cy="523800"/>
            <a:chOff x="7047000" y="4322880"/>
            <a:chExt cx="950760" cy="523800"/>
          </a:xfrm>
        </p:grpSpPr>
        <p:pic>
          <p:nvPicPr>
            <p:cNvPr id="657" name="210 Rectángulo redondeado" descr=""/>
            <p:cNvPicPr/>
            <p:nvPr/>
          </p:nvPicPr>
          <p:blipFill>
            <a:blip r:embed="rId22"/>
            <a:stretch/>
          </p:blipFill>
          <p:spPr>
            <a:xfrm>
              <a:off x="7047000" y="4322880"/>
              <a:ext cx="95076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089840" y="4375080"/>
              <a:ext cx="75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Arial"/>
                </a:rPr>
                <a:t>Informáti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211 Rectángulo redondeado"/>
          <p:cNvGrpSpPr/>
          <p:nvPr/>
        </p:nvGrpSpPr>
        <p:grpSpPr>
          <a:xfrm>
            <a:off x="7047000" y="4827600"/>
            <a:ext cx="950760" cy="585720"/>
            <a:chOff x="7047000" y="4827600"/>
            <a:chExt cx="950760" cy="585720"/>
          </a:xfrm>
        </p:grpSpPr>
        <p:pic>
          <p:nvPicPr>
            <p:cNvPr id="660" name="211 Rectángulo redondeado" descr=""/>
            <p:cNvPicPr/>
            <p:nvPr/>
          </p:nvPicPr>
          <p:blipFill>
            <a:blip r:embed="rId23"/>
            <a:stretch/>
          </p:blipFill>
          <p:spPr>
            <a:xfrm>
              <a:off x="7047000" y="4827600"/>
              <a:ext cx="950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7093080" y="4878360"/>
              <a:ext cx="750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1000" spc="-1" strike="noStrike">
                  <a:solidFill>
                    <a:srgbClr val="000000"/>
                  </a:solidFill>
                  <a:latin typeface="Calibri"/>
                </a:rPr>
                <a:t>Almacé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212 Rectángulo redondeado"/>
          <p:cNvGrpSpPr/>
          <p:nvPr/>
        </p:nvGrpSpPr>
        <p:grpSpPr>
          <a:xfrm>
            <a:off x="6199200" y="4834080"/>
            <a:ext cx="933480" cy="573120"/>
            <a:chOff x="6199200" y="4834080"/>
            <a:chExt cx="933480" cy="573120"/>
          </a:xfrm>
        </p:grpSpPr>
        <p:pic>
          <p:nvPicPr>
            <p:cNvPr id="663" name="212 Rectángulo redondeado" descr=""/>
            <p:cNvPicPr/>
            <p:nvPr/>
          </p:nvPicPr>
          <p:blipFill>
            <a:blip r:embed="rId24"/>
            <a:stretch/>
          </p:blipFill>
          <p:spPr>
            <a:xfrm>
              <a:off x="6199200" y="4834080"/>
              <a:ext cx="9334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6235560" y="4878360"/>
              <a:ext cx="7509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900" spc="-1" strike="noStrike">
                  <a:solidFill>
                    <a:srgbClr val="000000"/>
                  </a:solidFill>
                  <a:latin typeface="Calibri"/>
                </a:rPr>
                <a:t>Adquisic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215 Conector recto"/>
          <p:cNvSpPr/>
          <p:nvPr/>
        </p:nvSpPr>
        <p:spPr>
          <a:xfrm>
            <a:off x="6000840" y="142884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228 Rectángulo"/>
          <p:cNvSpPr/>
          <p:nvPr/>
        </p:nvSpPr>
        <p:spPr>
          <a:xfrm>
            <a:off x="9085320" y="603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229 Rectángulo redondeado"/>
          <p:cNvGrpSpPr/>
          <p:nvPr/>
        </p:nvGrpSpPr>
        <p:grpSpPr>
          <a:xfrm>
            <a:off x="6199200" y="5407200"/>
            <a:ext cx="933480" cy="572760"/>
            <a:chOff x="6199200" y="5407200"/>
            <a:chExt cx="933480" cy="572760"/>
          </a:xfrm>
        </p:grpSpPr>
        <p:pic>
          <p:nvPicPr>
            <p:cNvPr id="668" name="229 Rectángulo redondeado" descr=""/>
            <p:cNvPicPr/>
            <p:nvPr/>
          </p:nvPicPr>
          <p:blipFill>
            <a:blip r:embed="rId25"/>
            <a:stretch/>
          </p:blipFill>
          <p:spPr>
            <a:xfrm>
              <a:off x="6199200" y="5407200"/>
              <a:ext cx="93348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6235560" y="5450040"/>
              <a:ext cx="7509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800" spc="-1" strike="noStrike">
                  <a:solidFill>
                    <a:srgbClr val="000000"/>
                  </a:solidFill>
                  <a:latin typeface="Calibri"/>
                </a:rPr>
                <a:t>Acceso  a la Información  Public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257 Conector recto"/>
          <p:cNvSpPr/>
          <p:nvPr/>
        </p:nvSpPr>
        <p:spPr>
          <a:xfrm>
            <a:off x="6072120" y="4572000"/>
            <a:ext cx="14436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282 Conector recto"/>
          <p:cNvSpPr/>
          <p:nvPr/>
        </p:nvSpPr>
        <p:spPr>
          <a:xfrm flipH="1" flipV="1">
            <a:off x="6275160" y="4785840"/>
            <a:ext cx="1116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286 Rectángulo"/>
          <p:cNvSpPr/>
          <p:nvPr/>
        </p:nvSpPr>
        <p:spPr>
          <a:xfrm>
            <a:off x="684360" y="5516640"/>
            <a:ext cx="3240000" cy="36036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Estructura  Orgá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290 Conector recto"/>
          <p:cNvSpPr/>
          <p:nvPr/>
        </p:nvSpPr>
        <p:spPr>
          <a:xfrm>
            <a:off x="4929120" y="4500720"/>
            <a:ext cx="14436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66 Conector recto"/>
          <p:cNvSpPr/>
          <p:nvPr/>
        </p:nvSpPr>
        <p:spPr>
          <a:xfrm flipH="1" flipV="1">
            <a:off x="4500720" y="3214800"/>
            <a:ext cx="108720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67 Rectángulo redondeado"/>
          <p:cNvGrpSpPr/>
          <p:nvPr/>
        </p:nvGrpSpPr>
        <p:grpSpPr>
          <a:xfrm>
            <a:off x="5553000" y="2975040"/>
            <a:ext cx="1067040" cy="596880"/>
            <a:chOff x="5553000" y="2975040"/>
            <a:chExt cx="1067040" cy="596880"/>
          </a:xfrm>
        </p:grpSpPr>
        <p:pic>
          <p:nvPicPr>
            <p:cNvPr id="676" name="67 Rectángulo redondeado" descr=""/>
            <p:cNvPicPr/>
            <p:nvPr/>
          </p:nvPicPr>
          <p:blipFill>
            <a:blip r:embed="rId26"/>
            <a:stretch/>
          </p:blipFill>
          <p:spPr>
            <a:xfrm>
              <a:off x="5553000" y="2975040"/>
              <a:ext cx="1067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5594400" y="3022560"/>
              <a:ext cx="876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900" spc="-1" strike="noStrike">
                  <a:solidFill>
                    <a:srgbClr val="000000"/>
                  </a:solidFill>
                  <a:latin typeface="Calibri"/>
                </a:rPr>
                <a:t>Comunicación Soc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78 Conector recto"/>
          <p:cNvSpPr/>
          <p:nvPr/>
        </p:nvSpPr>
        <p:spPr>
          <a:xfrm flipH="1" flipV="1">
            <a:off x="7000920" y="4285800"/>
            <a:ext cx="100008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100 Conector recto"/>
          <p:cNvSpPr/>
          <p:nvPr/>
        </p:nvSpPr>
        <p:spPr>
          <a:xfrm>
            <a:off x="2928960" y="357192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101 Conector recto"/>
          <p:cNvSpPr/>
          <p:nvPr/>
        </p:nvSpPr>
        <p:spPr>
          <a:xfrm>
            <a:off x="4214880" y="357192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103 Conector recto"/>
          <p:cNvSpPr/>
          <p:nvPr/>
        </p:nvSpPr>
        <p:spPr>
          <a:xfrm>
            <a:off x="1643040" y="3571920"/>
            <a:ext cx="0" cy="1443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107 Rectángulo redondeado"/>
          <p:cNvGrpSpPr/>
          <p:nvPr/>
        </p:nvGrpSpPr>
        <p:grpSpPr>
          <a:xfrm>
            <a:off x="5048280" y="5821200"/>
            <a:ext cx="950760" cy="524160"/>
            <a:chOff x="5048280" y="5821200"/>
            <a:chExt cx="950760" cy="524160"/>
          </a:xfrm>
        </p:grpSpPr>
        <p:pic>
          <p:nvPicPr>
            <p:cNvPr id="683" name="107 Rectángulo redondeado" descr=""/>
            <p:cNvPicPr/>
            <p:nvPr/>
          </p:nvPicPr>
          <p:blipFill>
            <a:blip r:embed="rId27"/>
            <a:stretch/>
          </p:blipFill>
          <p:spPr>
            <a:xfrm>
              <a:off x="5048280" y="5821200"/>
              <a:ext cx="95076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5089680" y="5875200"/>
              <a:ext cx="75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900" spc="-1" strike="noStrike">
                  <a:solidFill>
                    <a:srgbClr val="000000"/>
                  </a:solidFill>
                  <a:latin typeface="Calibri"/>
                </a:rPr>
                <a:t>Inventari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5" name="71 Imagen" descr="C:\Users\Noe\Desktop\ces.PNG"/>
          <p:cNvPicPr/>
          <p:nvPr/>
        </p:nvPicPr>
        <p:blipFill>
          <a:blip r:embed="rId28"/>
          <a:stretch/>
        </p:blipFill>
        <p:spPr>
          <a:xfrm>
            <a:off x="684360" y="5950080"/>
            <a:ext cx="3244680" cy="407880"/>
          </a:xfrm>
          <a:prstGeom prst="rect">
            <a:avLst/>
          </a:prstGeom>
          <a:ln w="0">
            <a:noFill/>
          </a:ln>
        </p:spPr>
      </p:pic>
      <p:sp>
        <p:nvSpPr>
          <p:cNvPr id="686" name="110 Conector recto"/>
          <p:cNvSpPr/>
          <p:nvPr/>
        </p:nvSpPr>
        <p:spPr>
          <a:xfrm>
            <a:off x="4929120" y="6072120"/>
            <a:ext cx="14292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117 Conector recto"/>
          <p:cNvSpPr/>
          <p:nvPr/>
        </p:nvSpPr>
        <p:spPr>
          <a:xfrm>
            <a:off x="4929120" y="4286160"/>
            <a:ext cx="50004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74 Rectángulo redondeado"/>
          <p:cNvGrpSpPr/>
          <p:nvPr/>
        </p:nvGrpSpPr>
        <p:grpSpPr>
          <a:xfrm>
            <a:off x="4054320" y="2475000"/>
            <a:ext cx="1067040" cy="596880"/>
            <a:chOff x="4054320" y="2475000"/>
            <a:chExt cx="1067040" cy="596880"/>
          </a:xfrm>
        </p:grpSpPr>
        <p:pic>
          <p:nvPicPr>
            <p:cNvPr id="689" name="74 Rectángulo redondeado" descr=""/>
            <p:cNvPicPr/>
            <p:nvPr/>
          </p:nvPicPr>
          <p:blipFill>
            <a:blip r:embed="rId29"/>
            <a:stretch/>
          </p:blipFill>
          <p:spPr>
            <a:xfrm>
              <a:off x="4054320" y="2475000"/>
              <a:ext cx="1067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4094280" y="2522520"/>
              <a:ext cx="876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GT" sz="900" spc="-1" strike="noStrike">
                  <a:solidFill>
                    <a:srgbClr val="000000"/>
                  </a:solidFill>
                  <a:latin typeface="Calibri"/>
                </a:rPr>
                <a:t>Sub Secretaría  Técnic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102 Conector recto"/>
          <p:cNvSpPr/>
          <p:nvPr/>
        </p:nvSpPr>
        <p:spPr>
          <a:xfrm>
            <a:off x="4929120" y="5572080"/>
            <a:ext cx="14292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126 Conector recto"/>
          <p:cNvSpPr/>
          <p:nvPr/>
        </p:nvSpPr>
        <p:spPr>
          <a:xfrm flipH="1" flipV="1">
            <a:off x="6072120" y="4285800"/>
            <a:ext cx="928800" cy="180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129 Conector recto"/>
          <p:cNvSpPr/>
          <p:nvPr/>
        </p:nvSpPr>
        <p:spPr>
          <a:xfrm>
            <a:off x="7858080" y="4500720"/>
            <a:ext cx="14292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139 Conector recto"/>
          <p:cNvSpPr/>
          <p:nvPr/>
        </p:nvSpPr>
        <p:spPr>
          <a:xfrm flipH="1">
            <a:off x="4928760" y="4286160"/>
            <a:ext cx="1800" cy="17859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143 Conector recto"/>
          <p:cNvSpPr/>
          <p:nvPr/>
        </p:nvSpPr>
        <p:spPr>
          <a:xfrm flipH="1">
            <a:off x="6071760" y="4286160"/>
            <a:ext cx="1800" cy="13575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147 Conector recto"/>
          <p:cNvSpPr/>
          <p:nvPr/>
        </p:nvSpPr>
        <p:spPr>
          <a:xfrm flipH="1">
            <a:off x="8001000" y="4286160"/>
            <a:ext cx="1440" cy="135756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149 Conector recto"/>
          <p:cNvSpPr/>
          <p:nvPr/>
        </p:nvSpPr>
        <p:spPr>
          <a:xfrm>
            <a:off x="7858080" y="5072040"/>
            <a:ext cx="14292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150 Conector recto"/>
          <p:cNvSpPr/>
          <p:nvPr/>
        </p:nvSpPr>
        <p:spPr>
          <a:xfrm>
            <a:off x="7858080" y="5643720"/>
            <a:ext cx="14292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151 Conector recto"/>
          <p:cNvSpPr/>
          <p:nvPr/>
        </p:nvSpPr>
        <p:spPr>
          <a:xfrm>
            <a:off x="6072120" y="5643720"/>
            <a:ext cx="142920" cy="144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154 Conector recto"/>
          <p:cNvSpPr/>
          <p:nvPr/>
        </p:nvSpPr>
        <p:spPr>
          <a:xfrm>
            <a:off x="7000920" y="4143240"/>
            <a:ext cx="0" cy="14472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179 Conector recto"/>
          <p:cNvSpPr/>
          <p:nvPr/>
        </p:nvSpPr>
        <p:spPr>
          <a:xfrm>
            <a:off x="6072120" y="5072040"/>
            <a:ext cx="14436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184 Conector recto"/>
          <p:cNvSpPr/>
          <p:nvPr/>
        </p:nvSpPr>
        <p:spPr>
          <a:xfrm>
            <a:off x="4929120" y="5072040"/>
            <a:ext cx="14436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1 Rectángulo"/>
          <p:cNvSpPr/>
          <p:nvPr/>
        </p:nvSpPr>
        <p:spPr>
          <a:xfrm>
            <a:off x="755640" y="1268280"/>
            <a:ext cx="1512720" cy="8654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Asambl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24 Miembros Titulares 12 suplentes , 1 Presiden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17 Elipse"/>
          <p:cNvSpPr/>
          <p:nvPr/>
        </p:nvSpPr>
        <p:spPr>
          <a:xfrm>
            <a:off x="3203640" y="1197000"/>
            <a:ext cx="1224000" cy="11523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900" spc="-1" strike="noStrike">
                <a:solidFill>
                  <a:srgbClr val="000000"/>
                </a:solidFill>
                <a:latin typeface="Calibri"/>
              </a:rPr>
              <a:t>24 Consejeros Titulares  (8 por cada sector)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900" spc="-1" strike="noStrike">
                <a:solidFill>
                  <a:srgbClr val="000000"/>
                </a:solidFill>
                <a:latin typeface="Calibri"/>
              </a:rPr>
              <a:t>1 presidente  con voz, no vo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33 Conector recto de flecha"/>
          <p:cNvCxnSpPr/>
          <p:nvPr/>
        </p:nvCxnSpPr>
        <p:spPr>
          <a:xfrm>
            <a:off x="2268000" y="1699920"/>
            <a:ext cx="791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6" name="42 Rectángulo redondeado"/>
          <p:cNvSpPr/>
          <p:nvPr/>
        </p:nvSpPr>
        <p:spPr>
          <a:xfrm>
            <a:off x="826920" y="3357720"/>
            <a:ext cx="1297080" cy="7696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Comisión Perman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(Presidente, 3 Vicepresidentes, Secretario Técnic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44 Rectángulo redondeado"/>
          <p:cNvSpPr/>
          <p:nvPr/>
        </p:nvSpPr>
        <p:spPr>
          <a:xfrm>
            <a:off x="3276720" y="3789360"/>
            <a:ext cx="1150920" cy="503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Secretaría Técn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45 Rectángulo redondeado"/>
          <p:cNvSpPr/>
          <p:nvPr/>
        </p:nvSpPr>
        <p:spPr>
          <a:xfrm>
            <a:off x="826920" y="5157720"/>
            <a:ext cx="1368720" cy="792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800" spc="-1" strike="noStrike">
                <a:solidFill>
                  <a:srgbClr val="000000"/>
                </a:solidFill>
                <a:latin typeface="Calibri"/>
              </a:rPr>
              <a:t>Comisiones Especiales que se creen a partir de temas de trabaj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800" spc="-1" strike="noStrike">
                <a:solidFill>
                  <a:srgbClr val="000000"/>
                </a:solidFill>
                <a:latin typeface="Calibri"/>
              </a:rPr>
              <a:t>(6 Consejeros, 2 por sector y el Secretario Técnic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102 Pentágono"/>
          <p:cNvSpPr/>
          <p:nvPr/>
        </p:nvSpPr>
        <p:spPr>
          <a:xfrm>
            <a:off x="3419640" y="4869000"/>
            <a:ext cx="1008000" cy="504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1" y="0"/>
                </a:lnTo>
                <a:lnTo>
                  <a:pt x="21600" y="10800"/>
                </a:lnTo>
                <a:lnTo>
                  <a:pt x="16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000000"/>
                </a:solidFill>
                <a:latin typeface="Calibri"/>
              </a:rPr>
              <a:t>24 miembros con vo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109 Conector recto de flecha"/>
          <p:cNvCxnSpPr/>
          <p:nvPr/>
        </p:nvCxnSpPr>
        <p:spPr>
          <a:xfrm>
            <a:off x="3058920" y="515736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1" name="115 Abrir llave"/>
          <p:cNvSpPr/>
          <p:nvPr/>
        </p:nvSpPr>
        <p:spPr>
          <a:xfrm>
            <a:off x="4643280" y="4653000"/>
            <a:ext cx="155880" cy="914400"/>
          </a:xfrm>
          <a:custGeom>
            <a:avLst/>
            <a:gdLst>
              <a:gd name="textAreaLeft" fmla="*/ 99720 w 155880"/>
              <a:gd name="textAreaRight" fmla="*/ 15624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116 Rectángulo"/>
          <p:cNvSpPr/>
          <p:nvPr/>
        </p:nvSpPr>
        <p:spPr>
          <a:xfrm>
            <a:off x="4859280" y="4869000"/>
            <a:ext cx="914400" cy="43164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100" spc="-1" strike="noStrike">
                <a:solidFill>
                  <a:srgbClr val="000000"/>
                </a:solidFill>
                <a:latin typeface="Calibri"/>
              </a:rPr>
              <a:t>Consejo  Ple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141 Conector recto"/>
          <p:cNvSpPr/>
          <p:nvPr/>
        </p:nvSpPr>
        <p:spPr>
          <a:xfrm>
            <a:off x="1476360" y="2205000"/>
            <a:ext cx="0" cy="1079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152 Conector recto"/>
          <p:cNvSpPr/>
          <p:nvPr/>
        </p:nvSpPr>
        <p:spPr>
          <a:xfrm>
            <a:off x="1476360" y="4149720"/>
            <a:ext cx="0" cy="1079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5" name="175 Conector angular"/>
          <p:cNvCxnSpPr/>
          <p:nvPr/>
        </p:nvCxnSpPr>
        <p:spPr>
          <a:xfrm flipH="1" rot="16200000">
            <a:off x="1008000" y="3033000"/>
            <a:ext cx="2951640" cy="1152000"/>
          </a:xfrm>
          <a:prstGeom prst="bentConnector3">
            <a:avLst>
              <a:gd name="adj1" fmla="val 37411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16" name="201 Conector angular"/>
          <p:cNvCxnSpPr/>
          <p:nvPr/>
        </p:nvCxnSpPr>
        <p:spPr>
          <a:xfrm flipH="1" rot="16200000">
            <a:off x="2122200" y="2277000"/>
            <a:ext cx="1585080" cy="1440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717" name="205 Rectángulo"/>
          <p:cNvSpPr/>
          <p:nvPr/>
        </p:nvSpPr>
        <p:spPr>
          <a:xfrm>
            <a:off x="611280" y="260280"/>
            <a:ext cx="3673440" cy="28908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Estructura Funcional del 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6 Conector recto de flecha"/>
          <p:cNvCxnSpPr>
            <a:stCxn id="706" idx="3"/>
            <a:endCxn id="707" idx="1"/>
          </p:cNvCxnSpPr>
          <p:nvPr/>
        </p:nvCxnSpPr>
        <p:spPr>
          <a:xfrm>
            <a:off x="2124000" y="3741480"/>
            <a:ext cx="115344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19" name="10 Conector recto de flecha"/>
          <p:cNvCxnSpPr/>
          <p:nvPr/>
        </p:nvCxnSpPr>
        <p:spPr>
          <a:xfrm flipV="1">
            <a:off x="2306160" y="4292280"/>
            <a:ext cx="9738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720" name="12 Rectángulo redondeado"/>
          <p:cNvSpPr/>
          <p:nvPr/>
        </p:nvSpPr>
        <p:spPr>
          <a:xfrm>
            <a:off x="4932360" y="12906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000" spc="-1" strike="noStrike">
                <a:solidFill>
                  <a:srgbClr val="ffffff"/>
                </a:solidFill>
                <a:latin typeface="Calibri"/>
              </a:rPr>
              <a:t>Presidencia: relaciones  con otros Organismos de Es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c00000"/>
                </a:solidFill>
                <a:latin typeface="Calibri"/>
              </a:rPr>
              <a:t>Plan de Trabajo y Actividades a desarrollar en el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Asambleas: 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Reuniones de Comisión Permanente: 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Reuniones de Comisiones Específicas: 6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Dictámenes: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Informe anual sobre el estado económico y social: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Jornadas de capacitación: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Estudios: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Opiniones y Recomendaciones: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2060"/>
                </a:solidFill>
                <a:latin typeface="Calibri"/>
              </a:rPr>
              <a:t>Conformación e integración de Comisiones Específicas: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GT" sz="1800" spc="-1" strike="noStrike">
                <a:solidFill>
                  <a:srgbClr val="002060"/>
                </a:solidFill>
                <a:latin typeface="Calibri"/>
              </a:rPr>
              <a:t>Actualmente (al 9 de abril de 2013) se encuentran conformadas y en funcionamiento 2 Comisiones Específicas: Desarrollo Rural y Empleo; ambas deberán generar dictáme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GT" sz="1800" spc="-1" strike="noStrike">
                <a:solidFill>
                  <a:srgbClr val="002060"/>
                </a:solidFill>
                <a:latin typeface="Calibri"/>
              </a:rPr>
              <a:t>Se han formulado dos opiniones y recomendaciones: sobre la crisis ocasionada por la Roya del Café y sobre la Reforma Educ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5:05:25Z</dcterms:created>
  <dc:creator>blinares</dc:creator>
  <dc:description/>
  <dc:language>en-US</dc:language>
  <cp:lastModifiedBy>Bernardo</cp:lastModifiedBy>
  <dcterms:modified xsi:type="dcterms:W3CDTF">2013-04-09T22:58:55Z</dcterms:modified>
  <cp:revision>63</cp:revision>
  <dc:subject/>
  <dc:title>Diapositiva 1</dc:title>
</cp:coreProperties>
</file>