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D44-7BE9-4A45-BCED-019DCA9D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50F-425C-4F5E-B1D9-BBB78E53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219A1-47E4-4F77-8191-3D7CA835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B337-EF06-47E7-9584-A0A257E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34D7-B282-4219-91AF-BB3BF765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E49A9-61F2-43DB-9673-8E2BF6B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91DCC-568D-4CAB-B279-12B52CA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460C-D25A-4AE9-B234-F488BDF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44F75-E18C-4FCC-B342-BBE840A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1ECD5-EE18-4A57-8E06-A19E31BA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7F768-5864-4F93-83CC-CB5FA0F3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28CEA-13FA-4ED8-BE81-5FDB0F9D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AD6-4A0B-4DFE-8CF7-32EB340A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AE8BC-610A-4437-91CA-31FCA05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934B9-5023-4519-BEF5-DF0B789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D060F-7FB0-4A4D-921D-C63F0658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55707-3B86-4099-A801-59C110A8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19FF4-315C-4B85-8219-D4B26A9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D5EBA-2906-4722-BE97-9078D1A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23DFC-C814-40F1-AA36-5C2C7975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EE638-0F59-4898-8D53-39DAF13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2F87C-A0EE-496F-8B7F-28130CC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E652A-680D-4F53-BF61-92C8BDDD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6D6-6ED5-4C14-BC28-641166FF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32AC-4030-46FB-B989-23B07A38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2E292-DA7D-46F6-89C4-50B36BE5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BC9BC-EF65-47F6-820F-4F13167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9348B-1DF1-4388-AA72-57CBA3B0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0D11-8731-4FEC-B11E-C6331F2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5DE1-1E6D-474E-8987-46CEE53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71A8-A6AE-45F0-8FD1-D8527792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B71B-73B3-4238-B1DF-FC53A6F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1F394-5666-4469-B202-87FA6C9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C949E-0B54-4B71-9BFA-551BE7B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7619-B23D-4A79-A05F-4DBC50E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338F9-CF6D-4D59-B003-1E5579B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A2538-1723-428F-90AE-0FFF64F8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A9ED6-2880-4062-A03A-75126261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C0E5A-F9B9-4041-9B54-155D59A6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77ABD-ACDD-4C77-AE4B-06702965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B0F5A-4303-4D12-8E01-D7585FD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05BCA-D1DB-45D7-AFDE-716E5B7F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0E70B-ECD9-49F3-8E43-DA857B6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BAC7A-AF45-4B90-A657-BAA390BC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E9F24-AA48-4CB5-AB01-8A63BB8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512B-136A-488D-897A-FEB6E03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774D-D7E1-424B-8A96-18C94EE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56C99-3F4C-40D0-9540-D772853B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C0A26-BB2E-4321-B10B-2BF403BD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265CF-9526-4303-98B8-F824CCFD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10D11-00FB-4458-BA67-3093D03A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8FB74-D38F-4024-8F5E-59B9E98D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AE5B6-2D91-49C1-957E-567C78E3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AD89B-B956-4511-A39D-D5A05BA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32AC1-694B-4F4A-8732-50122AF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C6E40-B872-4019-ABF5-DC1AF56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70A-E4BF-4278-804E-A6678C31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EBD27-7905-436A-9BEC-9AE14659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26002-C9D5-4D4D-B063-6B27AB89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979E2-9625-4038-83D4-3CE9EE3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BB592-7439-4C1F-B5C4-1D6144A5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D1647-AD3B-41CC-B947-294712E2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FC46C-2BD1-4310-B3CE-AF15490F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F20C7-7811-4230-B92F-1645E5AD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0B60-F40A-40C0-89E8-544EFEE2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A84A-DA08-4ACB-B695-6B037F74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6ED3-34BA-4DE8-B84B-5B531CF7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5AAB-387C-47FE-BA30-DB3126BF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BF7-7C3E-4F99-A909-B4CA533B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2E40-EB06-46E2-9585-1EB9C03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EFA3-F097-4706-88D8-439DEC9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CB2-ED99-4DA7-AFB9-3CC97B19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EC3-49CD-4334-A2F0-93AE0A87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ACB-BFA1-4152-B6AD-5A18B1D7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8F9F-08BC-4B22-9FE6-70E9BF4A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7990-C497-444B-A934-CFD39B5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F9D9-FD25-46D3-BA29-22E005DF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326C-CFA0-4AEF-928B-2FDD4B0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90DC-5ECC-4F80-8E0F-2CB495A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643-12EE-413D-877E-CAB72B50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5AE0-C47C-4F23-8CFD-500C4DB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EE93-D02D-46E1-B57F-82960095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DE91-6CA4-46F9-9720-5987AF9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2D80-8B91-45D2-A80E-614F619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186B-DA73-4BAE-82F7-96DC014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7100-894D-4216-96DC-A1D3B436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8E68-D3A1-478F-96B2-F5FFF9EC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D5FB-7489-4380-8D60-A5612D93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1FD7-F2BA-43CD-98F8-6E34133F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353A-A04A-4ED5-9FCA-420FB031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35D-3FC9-459F-A96C-5FE213ED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9FF1-D170-4906-949F-312F823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9BF9-8FB6-40D9-A1E7-D35ACC6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0EA8-B9CD-4A57-87C0-84C7897F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B10C-C5D0-4B79-B2C3-708FED5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99E0-F79F-434E-81CD-25D7A0E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6DC2-07FB-44A9-8B41-EC048B8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F209-B198-41AF-BDB8-8DB112ED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94A5-1EA1-4687-800C-0319F13B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6EEC-40C5-42E3-B23A-3FFEF023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B928-1F98-4846-B77F-74C48227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DD9-63AB-4C2A-BB81-A140B9BC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5350F-DBA8-4C8B-9AA1-52E83BE1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07AA-8D5C-4DF1-A25F-64581EC8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9215-C56B-4E4F-AC21-2E251BAA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F184-5E34-4432-96CA-E799B891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1621-51F4-45FA-A73C-643681D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FE19-27B2-4504-9560-EA08F7C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E321-51C6-4EC7-A8B1-1406FAA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9B69-341F-44E4-89F7-AC6EDD36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548F-B436-4B17-B3ED-78E82FBF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0546-1588-4BFA-A7EC-0990C7DB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14E-6B30-4B31-A11E-C1AD7D56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7145-719C-4A01-8E7F-CAD4538D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D384-0AEB-400A-A5BB-4B5EBA42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DCB4-A88D-4DFC-94D9-E6C478F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A715-9B70-442B-BE46-D292265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5272-CB0F-4D60-97BE-4A8CDEA4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06698-D908-4631-9851-7ED61B33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5DC39-776D-48D7-B4C2-034817E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2EF1-03BA-468B-A82B-EF673F9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4935-54D6-433F-986B-1183D15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DA60-7F10-4AB2-960E-44A242B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DF4-E3C2-437B-902B-2D26FD1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B9410-A24C-4C03-839E-B8ACD6A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37B0-1BB7-4FDB-AF99-E4806F6C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0505-F2DE-41E7-B9CD-087C74F7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DC40-E3B0-4AC1-97AF-F4223CFC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07326-CF77-4AB8-B95B-5D50359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AC419-E5C5-4F5B-AD25-0F62F3D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F94E-578F-4490-B601-B7AB3C2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81A3F-95AC-47B7-981C-11209AB5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425C-1425-40BF-B685-AF46E78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DBDB-D9F0-43F3-A448-12BE91A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DAD-0D0B-422E-BFA4-A751144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5219-5D56-44AE-BB87-4AAB2E8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F45B-E40C-4BB5-BC15-5A8062C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9A9BE-3F53-4D29-9A35-915A696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26DB1-D840-4AC2-A2D4-EAA0A810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00C1-AEC8-4946-9B9C-D818EF81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20403-3B35-43F0-A0D5-99CA7EBC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0FD7-3E96-4300-A8ED-F4A0AECD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DC66A-AE86-4100-ADFC-7675EAB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B73E-CFB0-409D-B4D0-4FAD1AE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AA25-F693-4D8D-8C27-EF81778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7D8-AB43-41AE-BB93-0B9CB0C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309C-EE16-4C98-9846-6304822F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FD48A-2176-4595-83F0-24CDCF42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7C529-2B65-4B27-890F-B853F1FE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49908-6EA7-4088-9E82-E660FA5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D2B8D-C243-4FA8-AF56-AB13711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864CB-37B8-4E77-BA1B-44340E0E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0E608-7C5E-4AE7-A6E5-544F44EA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2F8C-E8A4-4C6A-AB6F-8DACA908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03A4B-006E-45F3-8D3B-4EA8B57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E7753-EF78-4C6D-BFCE-32F4125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EF5A-2335-4FA7-A48B-F5F66C6B23B5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D36A-F11C-4423-A9E3-2FA81F9A81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608-0858-4AC4-8CD4-A977633795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3C1E-C204-4571-AAD4-D8494AE352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A198-B787-4147-A144-4A2A0C0837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ACB-D13C-4628-8678-1563233E79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2FB-AF92-4A80-87A5-2F5A55C833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D69-D22B-49A1-8F73-3B6347F18B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6E2-4AA0-4F0D-ACEF-AC165FF2EA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043-0EC9-4DC1-A388-847A85D51F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15F3-F320-4F10-B1F2-77109D6FD7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8BC-D215-414F-950D-2E78D91B42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B330-C5ED-403E-9728-3FC92EA9E0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GT" sz="2800" spc="-1" strike="noStrike">
              <a:solidFill>
                <a:srgbClr val="c0000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400" spc="-1" strike="noStrike">
              <a:solidFill>
                <a:srgbClr val="898989"/>
              </a:solidFill>
              <a:latin typeface="Perpetu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magen 1" descr="ces"/>
          <p:cNvPicPr/>
          <p:nvPr/>
        </p:nvPicPr>
        <p:blipFill>
          <a:blip r:embed="rId1"/>
          <a:stretch/>
        </p:blipFill>
        <p:spPr>
          <a:xfrm>
            <a:off x="1258920" y="3284640"/>
            <a:ext cx="6553080" cy="2952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101916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4 Rectángulo redondeado"/>
          <p:cNvGrpSpPr/>
          <p:nvPr/>
        </p:nvGrpSpPr>
        <p:grpSpPr>
          <a:xfrm>
            <a:off x="3481560" y="115920"/>
            <a:ext cx="2217600" cy="669960"/>
            <a:chOff x="3481560" y="115920"/>
            <a:chExt cx="2217600" cy="669960"/>
          </a:xfrm>
        </p:grpSpPr>
        <p:pic>
          <p:nvPicPr>
            <p:cNvPr id="577" name="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81560" y="115920"/>
              <a:ext cx="22176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525840" y="168120"/>
              <a:ext cx="2030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ASAMBL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Presidente del Consej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5 Rectángulo redondeado"/>
          <p:cNvGrpSpPr/>
          <p:nvPr/>
        </p:nvGrpSpPr>
        <p:grpSpPr>
          <a:xfrm>
            <a:off x="6267600" y="762120"/>
            <a:ext cx="1785960" cy="596880"/>
            <a:chOff x="6267600" y="762120"/>
            <a:chExt cx="1785960" cy="596880"/>
          </a:xfrm>
        </p:grpSpPr>
        <p:pic>
          <p:nvPicPr>
            <p:cNvPr id="580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267600" y="762120"/>
              <a:ext cx="178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308640" y="808200"/>
              <a:ext cx="1598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</a:rPr>
                <a:t>Presid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</a:rPr>
                <a:t>Comisión Perman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6 Rectángulo redondeado"/>
          <p:cNvGrpSpPr/>
          <p:nvPr/>
        </p:nvGrpSpPr>
        <p:grpSpPr>
          <a:xfrm>
            <a:off x="6626160" y="1547640"/>
            <a:ext cx="1152720" cy="598680"/>
            <a:chOff x="6626160" y="1547640"/>
            <a:chExt cx="1152720" cy="598680"/>
          </a:xfrm>
        </p:grpSpPr>
        <p:pic>
          <p:nvPicPr>
            <p:cNvPr id="583" name="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626160" y="1547640"/>
              <a:ext cx="11527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665760" y="159372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Vicepresid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tor Cooperativo                                     </a:t>
              </a: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19 Conector recto"/>
          <p:cNvSpPr/>
          <p:nvPr/>
        </p:nvSpPr>
        <p:spPr>
          <a:xfrm>
            <a:off x="1643040" y="3571920"/>
            <a:ext cx="5357880" cy="144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7 Conector recto"/>
          <p:cNvSpPr/>
          <p:nvPr/>
        </p:nvSpPr>
        <p:spPr>
          <a:xfrm flipH="1">
            <a:off x="7071840" y="1285920"/>
            <a:ext cx="1800" cy="2858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40 Conector recto"/>
          <p:cNvSpPr/>
          <p:nvPr/>
        </p:nvSpPr>
        <p:spPr>
          <a:xfrm>
            <a:off x="6084720" y="18446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onector recto"/>
          <p:cNvSpPr/>
          <p:nvPr/>
        </p:nvSpPr>
        <p:spPr>
          <a:xfrm flipH="1" flipV="1">
            <a:off x="6000840" y="1428840"/>
            <a:ext cx="10713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44 Rectángulo redondeado"/>
          <p:cNvGrpSpPr/>
          <p:nvPr/>
        </p:nvGrpSpPr>
        <p:grpSpPr>
          <a:xfrm>
            <a:off x="1054080" y="3687840"/>
            <a:ext cx="1219320" cy="598320"/>
            <a:chOff x="1054080" y="3687840"/>
            <a:chExt cx="1219320" cy="598320"/>
          </a:xfrm>
        </p:grpSpPr>
        <p:pic>
          <p:nvPicPr>
            <p:cNvPr id="590" name="4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105408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09368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ia  Sector  Cooper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52 Rectángulo redondeado"/>
          <p:cNvGrpSpPr/>
          <p:nvPr/>
        </p:nvGrpSpPr>
        <p:grpSpPr>
          <a:xfrm>
            <a:off x="2109960" y="676440"/>
            <a:ext cx="1109520" cy="622080"/>
            <a:chOff x="2109960" y="676440"/>
            <a:chExt cx="1109520" cy="622080"/>
          </a:xfrm>
        </p:grpSpPr>
        <p:pic>
          <p:nvPicPr>
            <p:cNvPr id="593" name="52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2109960" y="676440"/>
              <a:ext cx="11095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2165400" y="736560"/>
              <a:ext cx="893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Auditori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69 Conector recto"/>
          <p:cNvSpPr/>
          <p:nvPr/>
        </p:nvSpPr>
        <p:spPr>
          <a:xfrm>
            <a:off x="4500720" y="3000240"/>
            <a:ext cx="0" cy="214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70 Conector recto"/>
          <p:cNvSpPr/>
          <p:nvPr/>
        </p:nvSpPr>
        <p:spPr>
          <a:xfrm flipH="1">
            <a:off x="4500360" y="1357200"/>
            <a:ext cx="2592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5 Conector recto"/>
          <p:cNvSpPr/>
          <p:nvPr/>
        </p:nvSpPr>
        <p:spPr>
          <a:xfrm flipH="1" flipV="1">
            <a:off x="3499920" y="3214800"/>
            <a:ext cx="10875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9 Conector recto"/>
          <p:cNvSpPr/>
          <p:nvPr/>
        </p:nvSpPr>
        <p:spPr>
          <a:xfrm>
            <a:off x="4500720" y="692280"/>
            <a:ext cx="0" cy="1879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0 Conector recto"/>
          <p:cNvSpPr/>
          <p:nvPr/>
        </p:nvSpPr>
        <p:spPr>
          <a:xfrm>
            <a:off x="3071880" y="928800"/>
            <a:ext cx="144288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94 Rectángulo redondeado"/>
          <p:cNvGrpSpPr/>
          <p:nvPr/>
        </p:nvGrpSpPr>
        <p:grpSpPr>
          <a:xfrm>
            <a:off x="7765920" y="1547640"/>
            <a:ext cx="1086120" cy="598680"/>
            <a:chOff x="7765920" y="1547640"/>
            <a:chExt cx="1086120" cy="598680"/>
          </a:xfrm>
        </p:grpSpPr>
        <p:pic>
          <p:nvPicPr>
            <p:cNvPr id="601" name="9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765920" y="1547640"/>
              <a:ext cx="1086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808760" y="1593720"/>
              <a:ext cx="892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Calibri"/>
                </a:rPr>
                <a:t>Vicepresidente  Sector Labor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91 Rectángulo redondeado"/>
          <p:cNvGrpSpPr/>
          <p:nvPr/>
        </p:nvGrpSpPr>
        <p:grpSpPr>
          <a:xfrm>
            <a:off x="5479920" y="1547640"/>
            <a:ext cx="1158840" cy="598680"/>
            <a:chOff x="5479920" y="1547640"/>
            <a:chExt cx="1158840" cy="598680"/>
          </a:xfrm>
        </p:grpSpPr>
        <p:pic>
          <p:nvPicPr>
            <p:cNvPr id="604" name="91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5479920" y="1547640"/>
              <a:ext cx="115884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522760" y="159372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Vicepresid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tor Empresa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92 Conector recto"/>
          <p:cNvSpPr/>
          <p:nvPr/>
        </p:nvSpPr>
        <p:spPr>
          <a:xfrm flipH="1" flipV="1">
            <a:off x="7071840" y="1428840"/>
            <a:ext cx="10875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11 Conector recto"/>
          <p:cNvSpPr/>
          <p:nvPr/>
        </p:nvSpPr>
        <p:spPr>
          <a:xfrm>
            <a:off x="8143920" y="14288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127 Rectángulo redondeado"/>
          <p:cNvGrpSpPr/>
          <p:nvPr/>
        </p:nvGrpSpPr>
        <p:grpSpPr>
          <a:xfrm>
            <a:off x="3913200" y="1835280"/>
            <a:ext cx="1420920" cy="596880"/>
            <a:chOff x="3913200" y="1835280"/>
            <a:chExt cx="1420920" cy="596880"/>
          </a:xfrm>
        </p:grpSpPr>
        <p:pic>
          <p:nvPicPr>
            <p:cNvPr id="609" name="127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3913200" y="1835280"/>
              <a:ext cx="1420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951360" y="1879560"/>
              <a:ext cx="1241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RETARIO TECNICO                                     </a:t>
              </a: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133 Rectángulo redondeado"/>
          <p:cNvGrpSpPr/>
          <p:nvPr/>
        </p:nvGrpSpPr>
        <p:grpSpPr>
          <a:xfrm>
            <a:off x="4913280" y="3687840"/>
            <a:ext cx="1219320" cy="598320"/>
            <a:chOff x="4913280" y="3687840"/>
            <a:chExt cx="1219320" cy="598320"/>
          </a:xfrm>
        </p:grpSpPr>
        <p:pic>
          <p:nvPicPr>
            <p:cNvPr id="612" name="133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491328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4951440" y="3736800"/>
              <a:ext cx="1036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Financiera </a:t>
              </a: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135 Rectángulo redondeado"/>
          <p:cNvGrpSpPr/>
          <p:nvPr/>
        </p:nvGrpSpPr>
        <p:grpSpPr>
          <a:xfrm>
            <a:off x="2341440" y="3687840"/>
            <a:ext cx="1219320" cy="598320"/>
            <a:chOff x="2341440" y="3687840"/>
            <a:chExt cx="1219320" cy="598320"/>
          </a:xfrm>
        </p:grpSpPr>
        <p:pic>
          <p:nvPicPr>
            <p:cNvPr id="615" name="135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234144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7960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ia  Sector  Empresar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136 Rectángulo redondeado"/>
          <p:cNvGrpSpPr/>
          <p:nvPr/>
        </p:nvGrpSpPr>
        <p:grpSpPr>
          <a:xfrm>
            <a:off x="3627360" y="3687840"/>
            <a:ext cx="1219320" cy="598320"/>
            <a:chOff x="3627360" y="3687840"/>
            <a:chExt cx="1219320" cy="598320"/>
          </a:xfrm>
        </p:grpSpPr>
        <p:pic>
          <p:nvPicPr>
            <p:cNvPr id="618" name="136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362736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6552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 Sector  Labo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137 Rectángulo redondeado"/>
          <p:cNvGrpSpPr/>
          <p:nvPr/>
        </p:nvGrpSpPr>
        <p:grpSpPr>
          <a:xfrm>
            <a:off x="6413400" y="3687840"/>
            <a:ext cx="1150920" cy="598320"/>
            <a:chOff x="6413400" y="3687840"/>
            <a:chExt cx="1150920" cy="598320"/>
          </a:xfrm>
        </p:grpSpPr>
        <p:pic>
          <p:nvPicPr>
            <p:cNvPr id="621" name="137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6413400" y="3687840"/>
              <a:ext cx="11509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451560" y="373680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Arial"/>
                </a:rPr>
                <a:t>Administra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138 Conector recto"/>
          <p:cNvSpPr/>
          <p:nvPr/>
        </p:nvSpPr>
        <p:spPr>
          <a:xfrm>
            <a:off x="550080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141 Conector recto"/>
          <p:cNvSpPr/>
          <p:nvPr/>
        </p:nvSpPr>
        <p:spPr>
          <a:xfrm>
            <a:off x="164304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145 Rectángulo redondeado"/>
          <p:cNvGrpSpPr/>
          <p:nvPr/>
        </p:nvGrpSpPr>
        <p:grpSpPr>
          <a:xfrm>
            <a:off x="2554200" y="2975040"/>
            <a:ext cx="1067040" cy="596880"/>
            <a:chOff x="2554200" y="2975040"/>
            <a:chExt cx="1067040" cy="596880"/>
          </a:xfrm>
        </p:grpSpPr>
        <p:pic>
          <p:nvPicPr>
            <p:cNvPr id="626" name="145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2554200" y="297504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593800" y="3022560"/>
              <a:ext cx="876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ía Leg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166 Rectángulo redondeado"/>
          <p:cNvGrpSpPr/>
          <p:nvPr/>
        </p:nvGrpSpPr>
        <p:grpSpPr>
          <a:xfrm>
            <a:off x="1122480" y="4327560"/>
            <a:ext cx="1157040" cy="512640"/>
            <a:chOff x="1122480" y="4327560"/>
            <a:chExt cx="1157040" cy="512640"/>
          </a:xfrm>
        </p:grpSpPr>
        <p:pic>
          <p:nvPicPr>
            <p:cNvPr id="629" name="166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1122480" y="4327560"/>
              <a:ext cx="11570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16064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168 Rectángulo redondeado"/>
          <p:cNvGrpSpPr/>
          <p:nvPr/>
        </p:nvGrpSpPr>
        <p:grpSpPr>
          <a:xfrm>
            <a:off x="5048280" y="4322880"/>
            <a:ext cx="950760" cy="523800"/>
            <a:chOff x="5048280" y="4322880"/>
            <a:chExt cx="950760" cy="523800"/>
          </a:xfrm>
        </p:grpSpPr>
        <p:pic>
          <p:nvPicPr>
            <p:cNvPr id="632" name="168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5048280" y="4322880"/>
              <a:ext cx="9507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5089680" y="437508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Contabilid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169 Rectángulo redondeado"/>
          <p:cNvGrpSpPr/>
          <p:nvPr/>
        </p:nvGrpSpPr>
        <p:grpSpPr>
          <a:xfrm>
            <a:off x="2341440" y="4327560"/>
            <a:ext cx="1150920" cy="512640"/>
            <a:chOff x="2341440" y="4327560"/>
            <a:chExt cx="1150920" cy="512640"/>
          </a:xfrm>
        </p:grpSpPr>
        <p:pic>
          <p:nvPicPr>
            <p:cNvPr id="635" name="169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2341440" y="4327560"/>
              <a:ext cx="11509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37492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171 Rectángulo redondeado"/>
          <p:cNvGrpSpPr/>
          <p:nvPr/>
        </p:nvGrpSpPr>
        <p:grpSpPr>
          <a:xfrm>
            <a:off x="3627360" y="4327560"/>
            <a:ext cx="1152720" cy="512640"/>
            <a:chOff x="3627360" y="4327560"/>
            <a:chExt cx="1152720" cy="512640"/>
          </a:xfrm>
        </p:grpSpPr>
        <p:pic>
          <p:nvPicPr>
            <p:cNvPr id="638" name="171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3627360" y="4327560"/>
              <a:ext cx="11527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66084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174 Conector recto"/>
          <p:cNvSpPr/>
          <p:nvPr/>
        </p:nvSpPr>
        <p:spPr>
          <a:xfrm>
            <a:off x="292896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75 Conector recto"/>
          <p:cNvSpPr/>
          <p:nvPr/>
        </p:nvSpPr>
        <p:spPr>
          <a:xfrm>
            <a:off x="421488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176 Conector recto"/>
          <p:cNvSpPr/>
          <p:nvPr/>
        </p:nvSpPr>
        <p:spPr>
          <a:xfrm>
            <a:off x="5429160" y="4143240"/>
            <a:ext cx="0" cy="1447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181 Conector recto"/>
          <p:cNvSpPr/>
          <p:nvPr/>
        </p:nvSpPr>
        <p:spPr>
          <a:xfrm>
            <a:off x="700092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204 Rectángulo redondeado"/>
          <p:cNvGrpSpPr/>
          <p:nvPr/>
        </p:nvGrpSpPr>
        <p:grpSpPr>
          <a:xfrm>
            <a:off x="6199200" y="4327560"/>
            <a:ext cx="927000" cy="512640"/>
            <a:chOff x="6199200" y="4327560"/>
            <a:chExt cx="927000" cy="512640"/>
          </a:xfrm>
        </p:grpSpPr>
        <p:pic>
          <p:nvPicPr>
            <p:cNvPr id="645" name="204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6199200" y="4327560"/>
              <a:ext cx="9270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6232680" y="4375080"/>
              <a:ext cx="750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Recursos Human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206 Rectángulo redondeado"/>
          <p:cNvGrpSpPr/>
          <p:nvPr/>
        </p:nvGrpSpPr>
        <p:grpSpPr>
          <a:xfrm>
            <a:off x="5048280" y="5321160"/>
            <a:ext cx="950760" cy="525600"/>
            <a:chOff x="5048280" y="5321160"/>
            <a:chExt cx="950760" cy="525600"/>
          </a:xfrm>
        </p:grpSpPr>
        <p:pic>
          <p:nvPicPr>
            <p:cNvPr id="648" name="206 Rectángulo redondeado" descr=""/>
            <p:cNvPicPr/>
            <p:nvPr/>
          </p:nvPicPr>
          <p:blipFill>
            <a:blip r:embed="rId19"/>
            <a:stretch/>
          </p:blipFill>
          <p:spPr>
            <a:xfrm>
              <a:off x="5048280" y="5321160"/>
              <a:ext cx="950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089680" y="537516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Tesore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208 Rectángulo redondeado"/>
          <p:cNvGrpSpPr/>
          <p:nvPr/>
        </p:nvGrpSpPr>
        <p:grpSpPr>
          <a:xfrm>
            <a:off x="7053120" y="5407200"/>
            <a:ext cx="938520" cy="572760"/>
            <a:chOff x="7053120" y="5407200"/>
            <a:chExt cx="938520" cy="572760"/>
          </a:xfrm>
        </p:grpSpPr>
        <p:pic>
          <p:nvPicPr>
            <p:cNvPr id="651" name="208 Rectángulo redondeado" descr=""/>
            <p:cNvPicPr/>
            <p:nvPr/>
          </p:nvPicPr>
          <p:blipFill>
            <a:blip r:embed="rId20"/>
            <a:stretch/>
          </p:blipFill>
          <p:spPr>
            <a:xfrm>
              <a:off x="7053120" y="5407200"/>
              <a:ext cx="93852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7093080" y="5450040"/>
              <a:ext cx="750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Servicios General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209 Rectángulo redondeado"/>
          <p:cNvGrpSpPr/>
          <p:nvPr/>
        </p:nvGrpSpPr>
        <p:grpSpPr>
          <a:xfrm>
            <a:off x="5048280" y="4821120"/>
            <a:ext cx="950760" cy="525600"/>
            <a:chOff x="5048280" y="4821120"/>
            <a:chExt cx="950760" cy="525600"/>
          </a:xfrm>
        </p:grpSpPr>
        <p:pic>
          <p:nvPicPr>
            <p:cNvPr id="654" name="209 Rectángulo redondeado" descr=""/>
            <p:cNvPicPr/>
            <p:nvPr/>
          </p:nvPicPr>
          <p:blipFill>
            <a:blip r:embed="rId21"/>
            <a:stretch/>
          </p:blipFill>
          <p:spPr>
            <a:xfrm>
              <a:off x="5048280" y="4821120"/>
              <a:ext cx="950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089680" y="487512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Presupues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210 Rectángulo redondeado"/>
          <p:cNvGrpSpPr/>
          <p:nvPr/>
        </p:nvGrpSpPr>
        <p:grpSpPr>
          <a:xfrm>
            <a:off x="7047000" y="4322880"/>
            <a:ext cx="950760" cy="523800"/>
            <a:chOff x="7047000" y="4322880"/>
            <a:chExt cx="950760" cy="523800"/>
          </a:xfrm>
        </p:grpSpPr>
        <p:pic>
          <p:nvPicPr>
            <p:cNvPr id="657" name="210 Rectángulo redondeado" descr=""/>
            <p:cNvPicPr/>
            <p:nvPr/>
          </p:nvPicPr>
          <p:blipFill>
            <a:blip r:embed="rId22"/>
            <a:stretch/>
          </p:blipFill>
          <p:spPr>
            <a:xfrm>
              <a:off x="7047000" y="4322880"/>
              <a:ext cx="9507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089840" y="437508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Arial"/>
                </a:rPr>
                <a:t>Informát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211 Rectángulo redondeado"/>
          <p:cNvGrpSpPr/>
          <p:nvPr/>
        </p:nvGrpSpPr>
        <p:grpSpPr>
          <a:xfrm>
            <a:off x="7047000" y="4827600"/>
            <a:ext cx="950760" cy="585720"/>
            <a:chOff x="7047000" y="4827600"/>
            <a:chExt cx="950760" cy="585720"/>
          </a:xfrm>
        </p:grpSpPr>
        <p:pic>
          <p:nvPicPr>
            <p:cNvPr id="660" name="211 Rectángulo redondeado" descr=""/>
            <p:cNvPicPr/>
            <p:nvPr/>
          </p:nvPicPr>
          <p:blipFill>
            <a:blip r:embed="rId23"/>
            <a:stretch/>
          </p:blipFill>
          <p:spPr>
            <a:xfrm>
              <a:off x="7047000" y="4827600"/>
              <a:ext cx="950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093080" y="4878360"/>
              <a:ext cx="750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lmacé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212 Rectángulo redondeado"/>
          <p:cNvGrpSpPr/>
          <p:nvPr/>
        </p:nvGrpSpPr>
        <p:grpSpPr>
          <a:xfrm>
            <a:off x="6199200" y="4834080"/>
            <a:ext cx="933480" cy="573120"/>
            <a:chOff x="6199200" y="4834080"/>
            <a:chExt cx="933480" cy="573120"/>
          </a:xfrm>
        </p:grpSpPr>
        <p:pic>
          <p:nvPicPr>
            <p:cNvPr id="663" name="212 Rectángulo redondeado" descr=""/>
            <p:cNvPicPr/>
            <p:nvPr/>
          </p:nvPicPr>
          <p:blipFill>
            <a:blip r:embed="rId24"/>
            <a:stretch/>
          </p:blipFill>
          <p:spPr>
            <a:xfrm>
              <a:off x="6199200" y="4834080"/>
              <a:ext cx="933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6235560" y="4878360"/>
              <a:ext cx="7509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Adquisic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215 Conector recto"/>
          <p:cNvSpPr/>
          <p:nvPr/>
        </p:nvSpPr>
        <p:spPr>
          <a:xfrm>
            <a:off x="6000840" y="14288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228 Rectángulo"/>
          <p:cNvSpPr/>
          <p:nvPr/>
        </p:nvSpPr>
        <p:spPr>
          <a:xfrm>
            <a:off x="9085320" y="603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229 Rectángulo redondeado"/>
          <p:cNvGrpSpPr/>
          <p:nvPr/>
        </p:nvGrpSpPr>
        <p:grpSpPr>
          <a:xfrm>
            <a:off x="6199200" y="5407200"/>
            <a:ext cx="933480" cy="572760"/>
            <a:chOff x="6199200" y="5407200"/>
            <a:chExt cx="933480" cy="572760"/>
          </a:xfrm>
        </p:grpSpPr>
        <p:pic>
          <p:nvPicPr>
            <p:cNvPr id="668" name="229 Rectángulo redondeado" descr=""/>
            <p:cNvPicPr/>
            <p:nvPr/>
          </p:nvPicPr>
          <p:blipFill>
            <a:blip r:embed="rId25"/>
            <a:stretch/>
          </p:blipFill>
          <p:spPr>
            <a:xfrm>
              <a:off x="6199200" y="5407200"/>
              <a:ext cx="933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6235560" y="5450040"/>
              <a:ext cx="7509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Acceso  a la Información  Public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257 Conector recto"/>
          <p:cNvSpPr/>
          <p:nvPr/>
        </p:nvSpPr>
        <p:spPr>
          <a:xfrm>
            <a:off x="6072120" y="457200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282 Conector recto"/>
          <p:cNvSpPr/>
          <p:nvPr/>
        </p:nvSpPr>
        <p:spPr>
          <a:xfrm flipH="1" flipV="1">
            <a:off x="6275160" y="4785840"/>
            <a:ext cx="1116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286 Rectángulo"/>
          <p:cNvSpPr/>
          <p:nvPr/>
        </p:nvSpPr>
        <p:spPr>
          <a:xfrm>
            <a:off x="684360" y="5516640"/>
            <a:ext cx="3240000" cy="360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Estructura 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290 Conector recto"/>
          <p:cNvSpPr/>
          <p:nvPr/>
        </p:nvSpPr>
        <p:spPr>
          <a:xfrm>
            <a:off x="4929120" y="450072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66 Conector recto"/>
          <p:cNvSpPr/>
          <p:nvPr/>
        </p:nvSpPr>
        <p:spPr>
          <a:xfrm flipH="1" flipV="1">
            <a:off x="4500720" y="3214800"/>
            <a:ext cx="108720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67 Rectángulo redondeado"/>
          <p:cNvGrpSpPr/>
          <p:nvPr/>
        </p:nvGrpSpPr>
        <p:grpSpPr>
          <a:xfrm>
            <a:off x="5553000" y="2975040"/>
            <a:ext cx="1067040" cy="596880"/>
            <a:chOff x="5553000" y="2975040"/>
            <a:chExt cx="1067040" cy="596880"/>
          </a:xfrm>
        </p:grpSpPr>
        <p:pic>
          <p:nvPicPr>
            <p:cNvPr id="676" name="67 Rectángulo redondeado" descr=""/>
            <p:cNvPicPr/>
            <p:nvPr/>
          </p:nvPicPr>
          <p:blipFill>
            <a:blip r:embed="rId26"/>
            <a:stretch/>
          </p:blipFill>
          <p:spPr>
            <a:xfrm>
              <a:off x="5553000" y="297504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594400" y="3022560"/>
              <a:ext cx="876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Comunicación Soc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78 Conector recto"/>
          <p:cNvSpPr/>
          <p:nvPr/>
        </p:nvSpPr>
        <p:spPr>
          <a:xfrm flipH="1" flipV="1">
            <a:off x="7000920" y="4285800"/>
            <a:ext cx="100008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100 Conector recto"/>
          <p:cNvSpPr/>
          <p:nvPr/>
        </p:nvSpPr>
        <p:spPr>
          <a:xfrm>
            <a:off x="292896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101 Conector recto"/>
          <p:cNvSpPr/>
          <p:nvPr/>
        </p:nvSpPr>
        <p:spPr>
          <a:xfrm>
            <a:off x="421488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03 Conector recto"/>
          <p:cNvSpPr/>
          <p:nvPr/>
        </p:nvSpPr>
        <p:spPr>
          <a:xfrm>
            <a:off x="164304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107 Rectángulo redondeado"/>
          <p:cNvGrpSpPr/>
          <p:nvPr/>
        </p:nvGrpSpPr>
        <p:grpSpPr>
          <a:xfrm>
            <a:off x="5048280" y="5821200"/>
            <a:ext cx="950760" cy="524160"/>
            <a:chOff x="5048280" y="5821200"/>
            <a:chExt cx="950760" cy="524160"/>
          </a:xfrm>
        </p:grpSpPr>
        <p:pic>
          <p:nvPicPr>
            <p:cNvPr id="683" name="107 Rectángulo redondeado" descr=""/>
            <p:cNvPicPr/>
            <p:nvPr/>
          </p:nvPicPr>
          <p:blipFill>
            <a:blip r:embed="rId27"/>
            <a:stretch/>
          </p:blipFill>
          <p:spPr>
            <a:xfrm>
              <a:off x="5048280" y="5821200"/>
              <a:ext cx="95076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089680" y="587520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Inventari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71 Imagen" descr="C:\Users\Noe\Desktop\ces.PNG"/>
          <p:cNvPicPr/>
          <p:nvPr/>
        </p:nvPicPr>
        <p:blipFill>
          <a:blip r:embed="rId28"/>
          <a:stretch/>
        </p:blipFill>
        <p:spPr>
          <a:xfrm>
            <a:off x="684360" y="5950080"/>
            <a:ext cx="3244680" cy="407880"/>
          </a:xfrm>
          <a:prstGeom prst="rect">
            <a:avLst/>
          </a:prstGeom>
          <a:ln w="0">
            <a:noFill/>
          </a:ln>
        </p:spPr>
      </p:pic>
      <p:sp>
        <p:nvSpPr>
          <p:cNvPr id="686" name="110 Conector recto"/>
          <p:cNvSpPr/>
          <p:nvPr/>
        </p:nvSpPr>
        <p:spPr>
          <a:xfrm>
            <a:off x="4929120" y="6072120"/>
            <a:ext cx="14292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117 Conector recto"/>
          <p:cNvSpPr/>
          <p:nvPr/>
        </p:nvSpPr>
        <p:spPr>
          <a:xfrm>
            <a:off x="4929120" y="4286160"/>
            <a:ext cx="50004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74 Rectángulo redondeado"/>
          <p:cNvGrpSpPr/>
          <p:nvPr/>
        </p:nvGrpSpPr>
        <p:grpSpPr>
          <a:xfrm>
            <a:off x="4054320" y="2475000"/>
            <a:ext cx="1067040" cy="596880"/>
            <a:chOff x="4054320" y="2475000"/>
            <a:chExt cx="1067040" cy="596880"/>
          </a:xfrm>
        </p:grpSpPr>
        <p:pic>
          <p:nvPicPr>
            <p:cNvPr id="689" name="74 Rectángulo redondeado" descr=""/>
            <p:cNvPicPr/>
            <p:nvPr/>
          </p:nvPicPr>
          <p:blipFill>
            <a:blip r:embed="rId29"/>
            <a:stretch/>
          </p:blipFill>
          <p:spPr>
            <a:xfrm>
              <a:off x="4054320" y="247500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4094280" y="2522520"/>
              <a:ext cx="876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Sub Secretaría  Técnic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102 Conector recto"/>
          <p:cNvSpPr/>
          <p:nvPr/>
        </p:nvSpPr>
        <p:spPr>
          <a:xfrm>
            <a:off x="4929120" y="5572080"/>
            <a:ext cx="14292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126 Conector recto"/>
          <p:cNvSpPr/>
          <p:nvPr/>
        </p:nvSpPr>
        <p:spPr>
          <a:xfrm flipH="1" flipV="1">
            <a:off x="6072120" y="4285800"/>
            <a:ext cx="92880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129 Conector recto"/>
          <p:cNvSpPr/>
          <p:nvPr/>
        </p:nvSpPr>
        <p:spPr>
          <a:xfrm>
            <a:off x="7858080" y="4500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139 Conector recto"/>
          <p:cNvSpPr/>
          <p:nvPr/>
        </p:nvSpPr>
        <p:spPr>
          <a:xfrm flipH="1">
            <a:off x="4928760" y="4286160"/>
            <a:ext cx="1800" cy="17859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43 Conector recto"/>
          <p:cNvSpPr/>
          <p:nvPr/>
        </p:nvSpPr>
        <p:spPr>
          <a:xfrm flipH="1">
            <a:off x="6071760" y="4286160"/>
            <a:ext cx="1800" cy="1357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47 Conector recto"/>
          <p:cNvSpPr/>
          <p:nvPr/>
        </p:nvSpPr>
        <p:spPr>
          <a:xfrm flipH="1">
            <a:off x="8001000" y="4286160"/>
            <a:ext cx="1440" cy="1357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149 Conector recto"/>
          <p:cNvSpPr/>
          <p:nvPr/>
        </p:nvSpPr>
        <p:spPr>
          <a:xfrm>
            <a:off x="7858080" y="507204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150 Conector recto"/>
          <p:cNvSpPr/>
          <p:nvPr/>
        </p:nvSpPr>
        <p:spPr>
          <a:xfrm>
            <a:off x="7858080" y="5643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151 Conector recto"/>
          <p:cNvSpPr/>
          <p:nvPr/>
        </p:nvSpPr>
        <p:spPr>
          <a:xfrm>
            <a:off x="6072120" y="5643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154 Conector recto"/>
          <p:cNvSpPr/>
          <p:nvPr/>
        </p:nvSpPr>
        <p:spPr>
          <a:xfrm>
            <a:off x="7000920" y="4143240"/>
            <a:ext cx="0" cy="1447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179 Conector recto"/>
          <p:cNvSpPr/>
          <p:nvPr/>
        </p:nvSpPr>
        <p:spPr>
          <a:xfrm>
            <a:off x="6072120" y="507204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84 Conector recto"/>
          <p:cNvSpPr/>
          <p:nvPr/>
        </p:nvSpPr>
        <p:spPr>
          <a:xfrm>
            <a:off x="4929120" y="507204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1 Rectángulo"/>
          <p:cNvSpPr/>
          <p:nvPr/>
        </p:nvSpPr>
        <p:spPr>
          <a:xfrm>
            <a:off x="755640" y="1268280"/>
            <a:ext cx="1512720" cy="865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Asambl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24 Miembros Titulares 12 suplentes , 1 Presid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17 Elipse"/>
          <p:cNvSpPr/>
          <p:nvPr/>
        </p:nvSpPr>
        <p:spPr>
          <a:xfrm>
            <a:off x="3203640" y="1197000"/>
            <a:ext cx="1224000" cy="115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" spc="-1" strike="noStrike">
                <a:solidFill>
                  <a:srgbClr val="000000"/>
                </a:solidFill>
                <a:latin typeface="Calibri"/>
              </a:rPr>
              <a:t>24 Consejeros Titulares  (8 por cada sector)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" spc="-1" strike="noStrike">
                <a:solidFill>
                  <a:srgbClr val="000000"/>
                </a:solidFill>
                <a:latin typeface="Calibri"/>
              </a:rPr>
              <a:t>1 presidente  con voz, no vo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33 Conector recto de flecha"/>
          <p:cNvCxnSpPr/>
          <p:nvPr/>
        </p:nvCxnSpPr>
        <p:spPr>
          <a:xfrm>
            <a:off x="2268000" y="1699920"/>
            <a:ext cx="791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6" name="42 Rectángulo redondeado"/>
          <p:cNvSpPr/>
          <p:nvPr/>
        </p:nvSpPr>
        <p:spPr>
          <a:xfrm>
            <a:off x="826920" y="3357720"/>
            <a:ext cx="1297080" cy="7696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Comisión Perman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(Presidente, 3 Vicepresidentes, Secretario Técnic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44 Rectángulo redondeado"/>
          <p:cNvSpPr/>
          <p:nvPr/>
        </p:nvSpPr>
        <p:spPr>
          <a:xfrm>
            <a:off x="3276720" y="3789360"/>
            <a:ext cx="115092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Secretaría Téc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45 Rectángulo redondeado"/>
          <p:cNvSpPr/>
          <p:nvPr/>
        </p:nvSpPr>
        <p:spPr>
          <a:xfrm>
            <a:off x="826920" y="5157720"/>
            <a:ext cx="1368720" cy="79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800" spc="-1" strike="noStrike">
                <a:solidFill>
                  <a:srgbClr val="000000"/>
                </a:solidFill>
                <a:latin typeface="Calibri"/>
              </a:rPr>
              <a:t>Comisiones Especiales que se creen a partir de temas de trabaj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800" spc="-1" strike="noStrike">
                <a:solidFill>
                  <a:srgbClr val="000000"/>
                </a:solidFill>
                <a:latin typeface="Calibri"/>
              </a:rPr>
              <a:t>(6 Consejeros, 2 por sector y el Secretario Técnic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02 Pentágono"/>
          <p:cNvSpPr/>
          <p:nvPr/>
        </p:nvSpPr>
        <p:spPr>
          <a:xfrm>
            <a:off x="3419640" y="4869000"/>
            <a:ext cx="1008000" cy="504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24 miembros con v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109 Conector recto de flecha"/>
          <p:cNvCxnSpPr/>
          <p:nvPr/>
        </p:nvCxnSpPr>
        <p:spPr>
          <a:xfrm>
            <a:off x="3058920" y="515736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1" name="115 Abrir llave"/>
          <p:cNvSpPr/>
          <p:nvPr/>
        </p:nvSpPr>
        <p:spPr>
          <a:xfrm>
            <a:off x="4643280" y="465300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16 Rectángulo"/>
          <p:cNvSpPr/>
          <p:nvPr/>
        </p:nvSpPr>
        <p:spPr>
          <a:xfrm>
            <a:off x="4859280" y="4869000"/>
            <a:ext cx="914400" cy="43164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100" spc="-1" strike="noStrike">
                <a:solidFill>
                  <a:srgbClr val="000000"/>
                </a:solidFill>
                <a:latin typeface="Calibri"/>
              </a:rPr>
              <a:t>Consejo  Ple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141 Conector recto"/>
          <p:cNvSpPr/>
          <p:nvPr/>
        </p:nvSpPr>
        <p:spPr>
          <a:xfrm>
            <a:off x="1476360" y="2205000"/>
            <a:ext cx="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152 Conector recto"/>
          <p:cNvSpPr/>
          <p:nvPr/>
        </p:nvSpPr>
        <p:spPr>
          <a:xfrm>
            <a:off x="1476360" y="4149720"/>
            <a:ext cx="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175 Conector angular"/>
          <p:cNvCxnSpPr/>
          <p:nvPr/>
        </p:nvCxnSpPr>
        <p:spPr>
          <a:xfrm flipH="1" rot="16200000">
            <a:off x="1008000" y="3033000"/>
            <a:ext cx="2951640" cy="1152000"/>
          </a:xfrm>
          <a:prstGeom prst="bentConnector3">
            <a:avLst>
              <a:gd name="adj1" fmla="val 37411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6" name="201 Conector angular"/>
          <p:cNvCxnSpPr/>
          <p:nvPr/>
        </p:nvCxnSpPr>
        <p:spPr>
          <a:xfrm flipH="1" rot="16200000">
            <a:off x="2122200" y="2277000"/>
            <a:ext cx="1585080" cy="1440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17" name="205 Rectángulo"/>
          <p:cNvSpPr/>
          <p:nvPr/>
        </p:nvSpPr>
        <p:spPr>
          <a:xfrm>
            <a:off x="611280" y="260280"/>
            <a:ext cx="3673440" cy="289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Estructura Funcional del 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6 Conector recto de flecha"/>
          <p:cNvCxnSpPr>
            <a:stCxn id="706" idx="3"/>
            <a:endCxn id="707" idx="1"/>
          </p:cNvCxnSpPr>
          <p:nvPr/>
        </p:nvCxnSpPr>
        <p:spPr>
          <a:xfrm>
            <a:off x="2124000" y="3741480"/>
            <a:ext cx="115344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9" name="10 Conector recto de flecha"/>
          <p:cNvCxnSpPr/>
          <p:nvPr/>
        </p:nvCxnSpPr>
        <p:spPr>
          <a:xfrm flipV="1">
            <a:off x="2306160" y="4292280"/>
            <a:ext cx="9738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20" name="12 Rectángulo redondeado"/>
          <p:cNvSpPr/>
          <p:nvPr/>
        </p:nvSpPr>
        <p:spPr>
          <a:xfrm>
            <a:off x="4932360" y="12906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ffffff"/>
                </a:solidFill>
                <a:latin typeface="Calibri"/>
              </a:rPr>
              <a:t>Presidencia: relaciones  con otros Organismos de 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c00000"/>
                </a:solidFill>
                <a:latin typeface="Calibri"/>
              </a:rPr>
              <a:t>Plan de Trabajo y Actividades a desarrollar en el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Asambleas: 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Reuniones de Comisión Permanente: 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Reuniones de Comisiones Específicas: 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Dictámene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Informe anual sobre el estado económico y social: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Jornadas de capacitación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Estudio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Opiniones y Recomendacione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Conformación e integración de Comisiones Específica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1800" spc="-1" strike="noStrike">
                <a:solidFill>
                  <a:srgbClr val="002060"/>
                </a:solidFill>
                <a:latin typeface="Calibri"/>
              </a:rPr>
              <a:t>Actualmente (al 9 de abril de 2013) se encuentran conformadas y en funcionamiento 2 Comisiones Específicas: Desarrollo Rural y Empleo; ambas deberán generar dictáme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1800" spc="-1" strike="noStrike">
                <a:solidFill>
                  <a:srgbClr val="002060"/>
                </a:solidFill>
                <a:latin typeface="Calibri"/>
              </a:rPr>
              <a:t>Se han formulado dos opiniones y recomendaciones: sobre la crisis ocasionada por la Roya del Café y sobre la Reforma Edu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5:05:25Z</dcterms:created>
  <dc:creator>blinares</dc:creator>
  <dc:description/>
  <dc:language>en-US</dc:language>
  <cp:lastModifiedBy>Bernardo</cp:lastModifiedBy>
  <dcterms:modified xsi:type="dcterms:W3CDTF">2013-04-09T22:58:55Z</dcterms:modified>
  <cp:revision>63</cp:revision>
  <dc:subject/>
  <dc:title>Diapositiva 1</dc:title>
</cp:coreProperties>
</file>