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dt" idx="9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ftr" idx="9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 type="sldNum" idx="9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4B7-2EDA-453E-B991-E0E3C208DA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Marcador de número de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2FC9-2BC3-4E44-B0F3-24B41F445D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D017-E259-4EF2-90A1-C4E18CE4AC96}" type="slidenum"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0AC0-8314-4CA7-8858-4A726573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0D81-F52D-49F7-964D-C2DB9154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691C4-8BF3-4451-9DE3-51B52547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B134E-916E-43E1-A488-0E7AB01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F0125-04A1-47BE-890B-A891C2C0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CCB15C-4ADB-4C5B-AE0D-F3FF61A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391A62-F833-4FAA-A5E1-6FD730E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7A249-FC16-4F63-8E34-A347764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4CC8A-BBE8-4FAD-9A6C-AD36A0EC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86297-2F19-4291-B2D7-6B0DAF5F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002AA-A612-47E4-811D-02F03DA1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45923-FCAB-4037-B4C1-00417816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3FEE-C73C-430F-AC00-440D8BE3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46E61-AEBA-49A7-9F6E-C7BC1D7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079945-8C25-4FB1-8743-226F2415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F36261-3128-45C2-A151-F884088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BD3EB-D55E-4FD6-B115-8E3096E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8603CD-B2C6-4994-9A2E-6590DEC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13F9D-0043-4D15-B84E-5E43CDC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60B5C5-1816-4B91-BC78-FB15E60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DE0AE-4A2E-47E9-93BC-E6AB7B7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7E74B-8375-4382-B9F4-36851AE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7E0D61-2FAD-4148-9441-E4A0C96D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C43F-564C-4F64-B4B3-AFEA7A22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FD1D1-481B-40E0-BE40-9C8B99EE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D0180E-1EE5-42A3-9C29-86903BEC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8E588F-5C25-41DC-8DE0-3187949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BF0112-A2FA-4070-AD96-036FB28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12D141-A9D1-49CA-9796-F161A38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69ADCA-17A6-4DBA-B3B3-43BE493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ECCFB0-4955-4791-A9CF-A3B0E6E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C2F273-3B1C-421F-9643-6C99080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5B862A-5659-43E7-8818-859596AA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F17E2B-5A8E-48A9-A2AC-BDFEBC2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6260-21F4-4B0C-B069-E155DE0E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E55B54-FC8C-49C4-BE45-61C3A03E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49AF45-7C9D-4DC4-9EBD-C6019614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D0D24-E6BF-4E4E-B468-4DB24D84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43D6B3-EB67-4FB6-BEA7-E66D078C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88E226-6D92-4DA6-852C-C44E972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7FB3D3-4269-451B-AC5F-8E96BB6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C7DA77-16E8-4C25-811E-54E3F4A8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98D641-FB2F-4BB4-9583-944D4E9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09575-D4F0-4AC6-9AF1-FD32442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78E8DB-45F3-465F-8F4E-58064D8E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9698-03B3-4A11-A44D-220AA21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BC4D41-3847-46D4-AC82-64DE18C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9B8852-EBCE-4D89-82B2-9C8288C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BE76A0-C6B4-4F8C-9D1C-D260A57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E665E0-A2EE-4ABA-AB4B-385C1550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ACCAB9-9B57-4718-A7BC-858950A8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EE2458-B07A-465A-B2CE-6ED1CDB4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8F7A9E-8FC8-4504-9890-A457795F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A9DAA-21BF-458A-BCF5-A0D9392E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18BC27-A3F5-4FE5-8183-26E7B33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64CFEA-5515-4CCD-B17A-45743892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FF7F9-A279-475A-8675-6E41C71C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DA8BF-6B60-426C-9EB1-3BCF1BE5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B0E14-5771-4368-A097-788B399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545276-95D0-4790-91B7-D7E4774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87FF2A-89FC-4415-A43A-A2782C6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6D181-E704-43E4-A51C-D85518F7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CBF44-3F48-4EE4-9EEF-2B3228EB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ED82F-D43E-4D63-8326-A516BD37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B2FA39-09BA-40C8-A373-267E72D2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938E0E-3F17-4F59-90DE-221FE67F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DF3CBC-3B58-4B05-9504-8F453C8C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9E73A-9F29-4D3C-8622-B4E9A1B4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DBCE88-2681-40FD-9AE5-1475E00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6824B6-A3E1-4CEB-9E10-3D0919D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99E1E4-5028-487B-9D8A-81D47263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11E3E3-2103-4123-8F5E-C7AAD32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84BD8F-CE4D-4151-BD25-B70245A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1300F-A000-4B7B-8896-14FD71A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21EBF1-1D7E-4F6B-B455-68564B49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533E22-75C6-41BD-9584-1C8441A4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923C73-C584-4914-8874-44041616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95D0B2-326A-4A6D-BEEC-C5EFF779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2693-5950-4587-894D-8463C1D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74A725-FD08-4C36-BCA1-5CEF3998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984035-E066-42FD-8CEB-06A80E4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8A501F-EF29-4B62-861C-BA8140A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7955D7-9A72-46F7-8CD4-E564CB9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C3554B-8FC2-48DA-9CE5-9A7E369C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CF494B-9302-4F78-97D4-2E0C9DC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AA1E29-E399-4A1D-9AD3-D2E8046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C808A8-F170-4683-A277-B16CDC9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E9F1A1-2B49-4688-9B10-F08A318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B7382F-ADAF-4980-BDD5-7DFD49B2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2253-A658-4D18-AB47-870FF06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4C25E0-26B7-4448-8AC8-467A729F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98D4CF-3BC2-48F2-A178-54CDC90D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F5E038-CE06-4E04-819B-2911B25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A8CF78-5D0D-40F0-8A76-2BA209F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5EA4E4-0098-4582-AC83-7168A586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B66668-71AB-4793-B88A-8892C044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6D5956-F9DF-44AA-B4DB-24AF9CA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1A1490-1EE1-42B8-A178-8F2F1A5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592142-D779-4478-911C-04C5271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0B23C3-55B4-41B9-BE14-0B92E14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D3798-48CD-45A7-A9C4-BFDC1A8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52D79A-F52F-4358-96BD-F1FDB0A3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C503CC-7F12-4CDF-AAFB-20C07DD0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EE88E3-570D-4CB4-95D3-C5E68A54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6ECB0B-FA36-46DB-886C-DD38FBC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36A54C-437A-4D01-942B-7B6C309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741B4E-32B3-4CD6-8C2F-1965A618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8EC657-7223-440F-998C-2941A77C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561FBE-5ADE-44FD-9EB8-F8EB013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BC9961-3C14-4A1F-9B8F-8DE5F879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5591F1-CD40-4592-82DB-6772862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6527-A78A-4681-8640-808B5DD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BAF4B-C78B-4B19-AE25-DCEEF68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049631-930B-4D76-99AF-07F44A0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A86FB8-35C4-4280-BE42-9D1E63D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D3E083-7969-42EA-A589-B82D811D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068FED-65DE-4343-B930-AC0AD50D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D6A270-37D8-4C34-B0FD-5F97D855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4AD35-C826-4143-939B-194A7121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E2B81-A876-4578-9919-7BC03B8A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FCA01-48BD-4ABA-BEB0-BBBB4C97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3FE80-A495-4AE9-ADA8-9CB8989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79DC0-6C02-4903-9FAD-847E6933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FEC8E-6AF9-4B00-8487-8318B6C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7A1DA-D58D-4075-9A4A-41114FA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7133C-9C46-4FBA-A32E-8F6B3F6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F3EF3-AB09-4EC0-9C3A-3BE62A1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25C71-C71A-4C33-8D0C-2F1FED4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5C5E4-BC15-44C2-916F-7B99EBC5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75EC3-0D2E-4BF1-83AE-C0D9505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7AEB9-08D4-441F-81F3-5B9111C9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F8A2F6-CD48-42D7-B8C8-C6D5678E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408187-4C0C-43CC-90BB-4C3E5528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CA2858-4171-4D39-AD18-0DA78B3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F84A-9626-4D0F-AE08-9D716AE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CE986E-070F-4635-ADC4-34EB8AF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34F605-CF56-4111-8C90-2B86F260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1A132D-4780-4507-BAF8-05AB7CA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A2F799-D0BF-4268-BF39-468999A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5D3139-5488-403E-9F49-11D0F79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89142D-BAFB-44A6-8E96-0E1B066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1CE2D3-EACC-4E05-B975-E6826A0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3DB817-AD7D-4F2A-ABE3-CA954A5E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44F39E-578F-4F64-B980-79539985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CCD59B-9D05-478E-BE21-E683B61B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832E-E479-4BB6-A782-AF7AB27D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6376A4-E9A9-4724-9A4E-9D2138A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2F0348-8042-4459-9E7E-4CB1352C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D00FB5-9022-4EB0-8EB5-C313AC5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E0948D-D880-4633-A6BA-D2295DC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6429C3-A045-4293-A5F5-CC49F18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598716-C532-41CD-9C1E-819EC07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B1B16C-F12F-4F45-8DF5-3D16059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93E812-A471-4482-8442-66E44C6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DED869-CCB7-46FD-8DEF-5BA4F7C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A40943-ED8A-4A46-8507-23FA3F81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1D819-4A8F-4818-9307-444907B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C7B031A-E6D3-4FFA-887F-073EBA8E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F46468-B4C3-4249-A4D4-39B978B1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BC86A9-CE2D-457A-9FC3-6C17B096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6FCD22-62B1-4371-90EA-87C006E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439F34-5858-4DA3-9A76-E59043D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55D970-3AE9-473C-B71E-E455CB5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78B67E-BD51-4064-8997-AA9D7766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E21A7C-A1B3-4473-AB78-0068D8E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438CBE-2F82-47C8-924F-5B79475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6E6565-8F76-494F-A363-CEFD486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E7D20-CCF6-48D0-A6E5-C831B841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C6C605-6CF1-4306-868B-52FFF62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F3544A-640B-4BFA-B064-90B203A6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141C47-CDC5-4A08-9A01-D2DF3399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A7E692-5DFB-462C-A6A4-E3BABCB1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4A928A-A2F6-4AC4-9158-43653A38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18E1FE-F451-477D-BA4E-3D8C4D2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6ABE9D-328B-4BD1-8B54-0C124A1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9EF1EC-84C9-4E14-9A80-43F367D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2944677-78E8-423D-92BF-C353C8BB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08F837-8ED2-4F7A-8940-B81E095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5490F-0145-4307-A264-9057537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7F43E5-45B4-409A-9BD6-F6FA02B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FBBC98-E5AA-4FBD-8CE9-19643A3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6605C6-1A6B-4157-A791-01EDC2B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3AC9AB-75BE-4FCB-9EA4-ADEB07AE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12AF69-E1FD-4930-BB6A-2B24AC7D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4FB1B4-FAB2-42BB-BAA9-DF2A6F79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9454E5-40C6-4CFC-B529-D839F02C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C7E832-E613-439D-9D4A-8DD869F0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738108-D1EF-458C-8BBA-1DB6CDC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0C9BFA0-9663-4F37-8524-65B9F179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8926C-F608-4CFF-B06F-F11DB2B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F4BC79-A7DF-48DF-8111-19D4A81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5BF4D4-008A-4DFD-9648-CF16359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00EF70-C633-4B57-BC92-F4BE9B3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A36BEC-FE58-4EB8-867B-E0B35E0C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839630A-81A2-4F30-A5E8-52E048CA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184948-E06C-4F1D-A190-D7B8E358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531358-898B-40B7-8D91-25DD1369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46F570-C9AE-47E5-8D25-677AA330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55A63A-B49B-4B64-BCF0-EA916860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831D35-778D-4764-AF66-B086E3F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E7529-7FCC-42D3-A177-54C632B1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C7E15F-CE85-4324-8C9F-4E7ABEE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8669C0-67E9-4B38-BD89-10FCA01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B9686A-1C74-46E0-BB0C-61FA779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AD4379-9346-4800-AF71-FE20791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1C1900-5EB8-41E4-B49D-9BB217A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20C9CD-0F6D-4DDC-849D-770445E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69B4C7-A035-4886-86F0-C57223D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624EA9-3EFF-413A-A7FE-E3C227E4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315E01-59EE-4688-8B2F-FBE13021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F5F6B8-820F-4740-B771-5E7745F6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CE4A4-648E-4D3A-8A51-399EDD31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FFEF3E-1F70-42EE-9E98-53BD7C3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1E648D-AC75-4644-B355-855ACA9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350385-409E-444A-808B-1CF6D49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EE163F-7367-4F63-BA1F-0847937E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9A6230-0EE3-4CB8-B2D4-D3266E5D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E5EBA0-69B1-4254-852C-13BF7D9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FFA792-2CD3-4478-B8A1-1678786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CDA634-5278-480B-B56E-B394121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67946F-7EEB-49CE-B2A8-F709E32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47372A-4E66-4745-B320-26DBF1ED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7D37-8B80-4336-9A13-909D5BE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3E532-EDC0-4905-829C-4748651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01296E-CD9A-4832-8AA6-DB76279D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C79384-9F9E-4F34-A824-2F5454E7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A1D70B-FC64-4FFB-972F-2DC5CB36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AB626B-71D5-4091-8706-B4A223E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FF6FC2E-C685-4111-B3C6-5A964C1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7EC6270-E3FA-43F4-A407-F1C42BC7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4D4981-DB25-4E39-9564-08D407BF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92DF3E-A43A-4AE4-ADB5-0943F2B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1BFDE6-4A33-4BA4-890F-11EC0AE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3CD25F-D843-48B7-BE4C-26B21AE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22A87-6D44-4D75-8DB9-159D7D82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959C57-8A0A-4C3A-A033-3BF1377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668635-95D8-4B23-A247-F7B88ECF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99B63B-7217-4117-8E2F-10F15C68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683D7A-CA55-4C4D-81F4-4C633107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E79222-ED1B-4A79-A646-A473765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954E1B-D213-425B-BA4F-AE87E61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7AFCDC-2D78-489C-B83D-DFC39620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F5E5F7F-0EA7-4F35-A632-AFE362F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B102E8-0A9F-40D4-B5E0-309689E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82400E7-358D-4BA9-95D3-CD73C1F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773FD-4255-42DF-8591-DDA6CBE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BFA24B-D351-4C7F-B901-65360EA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94DFEA-4793-4FB2-91E8-247D73F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15CA7CA-C005-4182-98B0-BD9A66A8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92C8CB-AB50-4C5F-A9CA-A53E2695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92C001-5A5F-45A0-A64F-7AC1DAC4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930F2B-FDDA-469F-BBB8-72046630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EA82F4D-1827-4F44-8FFB-2F0067BD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556556-A22D-445D-BC16-4962E98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B1420F-B6C1-4F18-985D-69D659E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E000789-68EE-42AC-B199-217B9A7F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598B4-3BB8-49A5-8D5C-A411E6A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43BF982-EE50-4219-8227-4436C3F5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1D42346-C051-48B0-8C6D-C02A38E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4EE92CD-40B2-40EC-8F04-7F67C77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35EF1B-37A2-42A1-973D-63BA5C11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BD0426-1D7E-4BD0-975F-68EE878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CE26EDE-4139-4C80-96FF-731334F1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223D90-B20B-4C33-96AE-0715AA06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181CB69-D6C7-4B7F-A116-4D28E426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19AD47-BB72-4270-A865-B19F7A50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683DC6-AA94-4EB9-8190-288A9B95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15AC5-37C6-4947-8CEA-9C03127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5B0C97-BAC2-4A35-8DA8-4405FC1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15FC548-E245-4458-B8AD-573A772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F01A93-7FDA-4A25-A5A8-4E7C07C7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1C675B-34C8-47DB-9FAA-E6D1EF4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73CC3C-5E08-4CEC-875F-BA191B5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E4B871-E9C5-4CD2-8C30-BA63493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E6F404-B4A5-4B25-99CE-D1D1ECF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98D6A47-5D5D-4C47-9155-F03572E7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F686B5-2C04-4945-9C05-BE55FDCB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B9D3FF3-23AD-4F46-BAA9-FD4DD6D6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D8F51-3375-4EBB-A30C-217528F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4042D1-77D0-4988-BB82-2B9E6BC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A5CE1E-BA04-4C72-A63D-739752A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4AFDDB8-D641-4A4E-B03F-7A845EF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3ECEDCF-2185-4E77-89D0-9467C74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F440CE-FCF4-423A-9A54-BA9E559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DBB180-7C48-45BD-9B07-2782F5F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38D7180-27D2-46D9-A966-021B002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2F1A97-65D3-405A-B507-A78AA07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228C0B2-26F0-4DE6-AAEF-B0E9DC2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B02FD0-8539-48E6-98F8-BAFAF377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F2256-403C-4A21-A49F-FD405F61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EFCC8F3-4F2B-404F-BAAF-1DD308F6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2FD8-0705-41B5-94B6-9768EFD0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70D0-77B0-4F9C-AB2C-CC37EAC5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EE90-A50A-47FC-A450-C48DD46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E6AB-6A42-40D6-B032-8F9EB91C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D794-72C3-4728-A1C4-C87539EF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7E9F-CBE2-41C8-8136-A9D8419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2A50-9188-411D-8AAF-1EF9D166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C9FE-F3BE-45C7-93C2-CECA362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7B1F-CCED-47A7-B7D9-E4D551E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5CA2-0668-40A2-990A-018763E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CF42-C1F3-44C2-A31A-EB3B009E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9265-8EB8-4019-9DE4-FF00A3B3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6873-2B98-4C1C-93EB-50110892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4510-CD5F-470B-8EEC-85E7F6E2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B5C1-FF7F-4887-9044-221BC1E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81A4-C34F-430D-9826-1BE5816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A743-6AFD-4295-A87C-8FA9119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34C7-3B17-42C9-8770-E7E0436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9046-6AA1-4F1C-8766-DE04972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88DAF-2E50-4A2F-BB42-E79611D5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D7A6-4DDD-431F-9800-C10162F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7970-1ABC-4BA8-8CA1-7212B47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EA4B-157A-410A-A31A-D144AA2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7B99-35F6-43DF-B7DB-A73DDDD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A847-9947-4B38-93E3-2E3B6C3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9ECD-0BFE-4EA1-8C89-45297BC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F401-8C7A-4F6E-A5EA-9FC9ABA2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6B62B-4512-41C1-997B-60081094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97A17-B733-450B-B1BF-3375ADA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AE148-F1F1-4212-AAF0-2966894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57DB5-B6B6-41D2-A63F-E97D7F51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C7DAA-79C8-4369-8A29-E7D2FC6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6C4E8-008E-4A10-9513-4A158B4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26147-1F6F-497B-A62F-0F06FE2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DB3CF-6279-4A0D-8874-BEF624A2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786E8-5302-4145-90FE-13B6877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9FF6-D59E-491C-8A62-7B1A069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EFA73-8EFC-49CE-A67B-34047C6B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B8526-3E0E-4991-93B1-5EE9161B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5B482-E792-4E51-8A14-436B8B10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3EED9-2547-4F34-9F9A-40DF486A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097F1-A338-49F2-8226-59DCBAF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4946F-C509-42B1-8E33-F490DD6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983EE-29B1-4BF7-A9A6-DAAEA2D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C6079-9422-4A81-82F5-FADAC5BF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FF654-1C30-4163-8919-8AA0B22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4DB89-30C9-4153-9B3F-B95FA32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B3CE-534F-4F0B-A9A2-BC79006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B2638-50E9-49B5-97DB-359C321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84366-048B-4CF1-B3DA-692A38D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BB3D0-A654-4655-AD9B-A8E2F37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BA4C6-B0B6-4D7C-9DF0-1BCBB325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C40DA-C015-43B4-9C1A-CB706E2F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2E625-557E-4131-AC34-E8B78EC4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A4CED-E477-4BF1-849B-966AC2F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627BB-DF1D-4BB1-BE84-24E1DE1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0A777-5DB7-4FF0-980D-6C10B908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BD8700-0B0A-4041-B6E6-DD1F6073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897C-AD15-4AFD-A20F-F0FB2FB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8A28A8-0F8B-400F-AAAD-BA791FD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A36E10-4CBD-4BA9-B505-6956508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44473-12D8-4057-A678-A1305C5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31B3D-BAB5-4247-9012-81AEF8E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EC778-4C62-4ABD-A503-075376E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30697-F9B8-4BF9-A78C-8736DCD0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43ED0-33C4-42EE-B9EB-727E763F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FCDA1-57E4-4398-A682-7DFA39BA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F72D6-2312-4664-916B-4955268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21F43-8140-41B1-BFF0-A50D6524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F36-7962-488D-993C-CA207B20ED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4F72-2393-433F-8AA2-FA5C79EFD0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F5B-5410-43E4-868F-0F3BFE66337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EAC3-EB60-4395-8230-38B7C87C2C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8993-C20E-472F-91BF-45E3180673C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EEB-BB58-4572-854A-4A48A9DCFC2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135-2755-402E-90E1-2629950CC6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36A-E027-400F-8162-926BECA6FD4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5CD-D00C-43B9-903A-A38EAFC019A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ftr" idx="5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8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5F8-3F7A-45FD-A73B-EDDE41F78DA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B97-B9A5-4484-AC1B-1E3B9008ED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4B30-243F-427A-ADE6-E120702EE9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94D-BFEF-49DA-8EC5-3FBEEFC3D76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ftr" idx="6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6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357E-7A3E-4CAA-B9B5-AD0E38F850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6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6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092-C073-44D7-B390-F8B51A18B15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ftr" idx="6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C2A3-8BD1-4D74-9EA4-D708D3AFFB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ftr" idx="6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7EC3-8121-4388-BE26-72CD935E5B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ftr" idx="7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85F-7602-44E1-83A2-CCF7B8C6BD4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ftr" idx="7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944-12FE-433C-9E01-E1598FA7F7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7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783-E776-4C5D-89A4-966764DFFF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ftr" idx="8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8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F69-979D-461B-AAF6-C839D9908B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8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8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E385-91CB-47AE-8B2D-4157E249E7D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ftr" idx="8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B2A0-17F3-472B-8D9A-D5F9458AA5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dt" idx="8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054-B1AF-4FF7-A871-0D92DB4976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ftr" idx="9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C23B-DBD7-4A0C-9CBC-3FD8C6EA0C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1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24C2-D585-430C-B39B-52E480CE01B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DC0-38A2-41FE-8891-B532560AF91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185-48AE-43D4-ADF3-10679264C04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794D-1E4F-4DDF-B3BC-3291B547F73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CE28-280C-4FAA-A709-2DBA1DC4254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323640" y="227160"/>
            <a:ext cx="8569080" cy="64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Garamond"/>
              </a:rPr>
              <a:t>La Formación Profesional en España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JAVIER FERRER DUFO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Consejero grupo II  (Empresarios ) CES de Españ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Vicepresidente CEO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Tegucigalpa 8 Julio 201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0560"/>
          </a:xfrm>
          <a:prstGeom prst="rect">
            <a:avLst/>
          </a:prstGeom>
          <a:ln w="0">
            <a:noFill/>
          </a:ln>
        </p:spPr>
      </p:pic>
      <p:pic>
        <p:nvPicPr>
          <p:cNvPr id="1536" name="Imagen 9" descr=""/>
          <p:cNvPicPr/>
          <p:nvPr/>
        </p:nvPicPr>
        <p:blipFill>
          <a:blip r:embed="rId2"/>
          <a:stretch/>
        </p:blipFill>
        <p:spPr>
          <a:xfrm>
            <a:off x="731520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La cultura del aprendizaje permanente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base de la política social y la estrategia de crecimiento y de empleo de la U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Formación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inicial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aprender para aprender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Formación adaptada a las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necesidades de las empresas y de la Socieda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Con la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participación de los interlocutores sociales y la colaboración de las empresas.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romover que las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competencias profesionales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uedan ser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acreditad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95" name="Imagen 2" descr=""/>
          <p:cNvPicPr/>
          <p:nvPr/>
        </p:nvPicPr>
        <p:blipFill>
          <a:blip r:embed="rId2"/>
          <a:stretch/>
        </p:blipFill>
        <p:spPr>
          <a:xfrm>
            <a:off x="7324560" y="468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ini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3-16 años, obligatoria, financiada por P. G.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6 -18 voluntaria, gratuita P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Universitaria pública, 75 % del cos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 todos los niveles hay educación privada, concertada o pag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8" name="Imagen 3" descr=""/>
          <p:cNvPicPr/>
          <p:nvPr/>
        </p:nvPicPr>
        <p:blipFill>
          <a:blip r:embed="rId1"/>
          <a:stretch/>
        </p:blipFill>
        <p:spPr>
          <a:xfrm>
            <a:off x="0" y="-14400"/>
            <a:ext cx="1762200" cy="792360"/>
          </a:xfrm>
          <a:prstGeom prst="rect">
            <a:avLst/>
          </a:prstGeom>
          <a:ln w="0">
            <a:noFill/>
          </a:ln>
        </p:spPr>
      </p:pic>
      <p:pic>
        <p:nvPicPr>
          <p:cNvPr id="1599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ticipació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Educ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Consejo Escolar del Es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Otros organismos del Esta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F. P.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ialogo So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Fundación Triparti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2" name="Imagen 3" descr=""/>
          <p:cNvPicPr/>
          <p:nvPr/>
        </p:nvPicPr>
        <p:blipFill>
          <a:blip r:embed="rId1"/>
          <a:stretch/>
        </p:blipFill>
        <p:spPr>
          <a:xfrm>
            <a:off x="-14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603" name="Imagen 4" descr=""/>
          <p:cNvPicPr/>
          <p:nvPr/>
        </p:nvPicPr>
        <p:blipFill>
          <a:blip r:embed="rId2"/>
          <a:stretch/>
        </p:blipFill>
        <p:spPr>
          <a:xfrm>
            <a:off x="7327800" y="-1440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0.7% de los salarios para financiar la FP de desempleados y ocupados: 0.6% a cargo de la empresa / 0.1% a cargo del trabaj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. S. 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ortaciones del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07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9" name="Text Box 6"/>
          <p:cNvSpPr/>
          <p:nvPr/>
        </p:nvSpPr>
        <p:spPr>
          <a:xfrm>
            <a:off x="5219640" y="3933720"/>
            <a:ext cx="3240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PARA EL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39640" y="3933720"/>
            <a:ext cx="345600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ORMACION PROFESIONAL REGLA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539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DUC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003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Rectangle 10"/>
          <p:cNvSpPr/>
          <p:nvPr/>
        </p:nvSpPr>
        <p:spPr>
          <a:xfrm>
            <a:off x="179280" y="4797360"/>
            <a:ext cx="180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4" name="Rectangle 11"/>
          <p:cNvSpPr/>
          <p:nvPr/>
        </p:nvSpPr>
        <p:spPr>
          <a:xfrm>
            <a:off x="2050920" y="4797360"/>
            <a:ext cx="201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5" name="Rectangle 12"/>
          <p:cNvSpPr/>
          <p:nvPr/>
        </p:nvSpPr>
        <p:spPr>
          <a:xfrm>
            <a:off x="4572000" y="4869000"/>
            <a:ext cx="2160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 OCUPACIO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6" name="Rectangle 13"/>
          <p:cNvSpPr/>
          <p:nvPr/>
        </p:nvSpPr>
        <p:spPr>
          <a:xfrm>
            <a:off x="6948360" y="4869000"/>
            <a:ext cx="1944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CONTINU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7" name="Rectangle 14"/>
          <p:cNvSpPr/>
          <p:nvPr/>
        </p:nvSpPr>
        <p:spPr>
          <a:xfrm>
            <a:off x="611280" y="1268280"/>
            <a:ext cx="77770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Garamond"/>
                <a:ea typeface="Arial"/>
              </a:rPr>
              <a:t>LEY DE LAS CUALIFICACIONES Y LA FORMACIÓN PROFES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8" name="Oval 15"/>
          <p:cNvSpPr/>
          <p:nvPr/>
        </p:nvSpPr>
        <p:spPr>
          <a:xfrm>
            <a:off x="0" y="3645000"/>
            <a:ext cx="8748720" cy="2950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9" name="Oval 16"/>
          <p:cNvSpPr/>
          <p:nvPr/>
        </p:nvSpPr>
        <p:spPr>
          <a:xfrm>
            <a:off x="324000" y="3573360"/>
            <a:ext cx="8820000" cy="30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0" name="Line 17"/>
          <p:cNvSpPr/>
          <p:nvPr/>
        </p:nvSpPr>
        <p:spPr>
          <a:xfrm>
            <a:off x="4427640" y="2060640"/>
            <a:ext cx="0" cy="143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1" name="AutoShape 18"/>
          <p:cNvSpPr/>
          <p:nvPr/>
        </p:nvSpPr>
        <p:spPr>
          <a:xfrm rot="736200">
            <a:off x="5651280" y="357336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2" name="AutoShape 19"/>
          <p:cNvSpPr/>
          <p:nvPr/>
        </p:nvSpPr>
        <p:spPr>
          <a:xfrm>
            <a:off x="2916360" y="364500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3" name="AutoShape 20"/>
          <p:cNvSpPr/>
          <p:nvPr/>
        </p:nvSpPr>
        <p:spPr>
          <a:xfrm rot="765600">
            <a:off x="277128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4" name="AutoShape 21"/>
          <p:cNvSpPr/>
          <p:nvPr/>
        </p:nvSpPr>
        <p:spPr>
          <a:xfrm rot="10330800">
            <a:off x="579564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5" name="AutoShape 22"/>
          <p:cNvSpPr/>
          <p:nvPr/>
        </p:nvSpPr>
        <p:spPr>
          <a:xfrm rot="10184400">
            <a:off x="2916000" y="364464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El Diálogo Soci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1984 Acuerdo Económico y Soci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uota de Formación Profesional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29" name="Imagen 2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a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2 – 1996 Gestión y concesión de fondos de los Interlocutores So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6 – 2004 Gestión de fondos Interlocutores Sociales y concesión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2004 - 2012 Bonificaciones, Autonomías, e Interlocutores Sociales  y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2" name="Imagen 3" descr=""/>
          <p:cNvPicPr/>
          <p:nvPr/>
        </p:nvPicPr>
        <p:blipFill>
          <a:blip r:embed="rId1"/>
          <a:stretch/>
        </p:blipFill>
        <p:spPr>
          <a:xfrm>
            <a:off x="-11160" y="-2556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1633" name="Imagen 4" descr="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vorecer la formación a lo largo de la vi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porcionar conoc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jorar la empleabilida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mover que las competencias profesionales puedan ser acredita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637" name="Imagen 2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 </a:t>
            </a:r>
            <a:br>
              <a:rPr sz="4000"/>
            </a:br>
            <a:r>
              <a:rPr b="1" lang="es-ES" sz="2800" spc="-1" strike="noStrike">
                <a:solidFill>
                  <a:srgbClr val="e5e5ff"/>
                </a:solidFill>
                <a:latin typeface="Garamond"/>
              </a:rPr>
              <a:t>EL SISTEMA DE FORMACION CONTINUA 1992-2003: LOS RESULTADOS DEL DIALOGO SOCIAL</a:t>
            </a:r>
            <a:br>
              <a:rPr sz="2800"/>
            </a:br>
            <a:r>
              <a:rPr b="1" lang="es-ES" sz="2000" spc="-1" strike="noStrike">
                <a:solidFill>
                  <a:srgbClr val="ff3300"/>
                </a:solidFill>
                <a:latin typeface="Garamond"/>
              </a:rPr>
              <a:t>Participantes formado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9" name="Object 4"/>
          <p:cNvGraphicFramePr/>
          <p:nvPr/>
        </p:nvGraphicFramePr>
        <p:xfrm>
          <a:off x="0" y="2317680"/>
          <a:ext cx="863280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17680"/>
                    <a:ext cx="863280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PARTICIPANTES EN EL SUBSISTEMA DE FORMACIÓN PARA EL EMPLEO 2004-2011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2" name="2 Gráfico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0712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Área de mas fáciles consenso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8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9" name="Imagen 1" descr=""/>
          <p:cNvPicPr/>
          <p:nvPr/>
        </p:nvPicPr>
        <p:blipFill>
          <a:blip r:embed="rId1"/>
          <a:stretch/>
        </p:blipFill>
        <p:spPr>
          <a:xfrm>
            <a:off x="792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0" name="Imagen 2" descr=""/>
          <p:cNvPicPr/>
          <p:nvPr/>
        </p:nvPicPr>
        <p:blipFill>
          <a:blip r:embed="rId2"/>
          <a:stretch/>
        </p:blipFill>
        <p:spPr>
          <a:xfrm>
            <a:off x="7307280" y="44280"/>
            <a:ext cx="18190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FINANCIACIÓN DEL SUBSISTEMA DE FORMACIÓN PARA EL EMPLEO</a:t>
            </a:r>
            <a:br>
              <a:rPr sz="1600"/>
            </a:b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 2004-2012 (Mill. Euros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4" name="1 Gráfico" descr=""/>
          <p:cNvPicPr/>
          <p:nvPr/>
        </p:nvPicPr>
        <p:blipFill>
          <a:blip r:embed="rId1"/>
          <a:stretch/>
        </p:blipFill>
        <p:spPr>
          <a:xfrm>
            <a:off x="249120" y="2054160"/>
            <a:ext cx="8570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oblemas de nuestro Sistema Educativ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Sucesión de reform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Reparto de competenci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racaso escolar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Pocos titulados en FP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La Universidad y FP, conexión con el mundo profesional y produc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598320"/>
          </a:xfrm>
          <a:prstGeom prst="rect">
            <a:avLst/>
          </a:prstGeom>
          <a:ln w="0">
            <a:noFill/>
          </a:ln>
        </p:spPr>
      </p:pic>
      <p:pic>
        <p:nvPicPr>
          <p:cNvPr id="1648" name="Imagen 2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0" name="Imagen 1" descr=""/>
          <p:cNvPicPr/>
          <p:nvPr/>
        </p:nvPicPr>
        <p:blipFill>
          <a:blip r:embed="rId1"/>
          <a:stretch/>
        </p:blipFill>
        <p:spPr>
          <a:xfrm>
            <a:off x="-20520" y="-6480"/>
            <a:ext cx="1761840" cy="792360"/>
          </a:xfrm>
          <a:prstGeom prst="rect">
            <a:avLst/>
          </a:prstGeom>
          <a:ln w="0">
            <a:noFill/>
          </a:ln>
        </p:spPr>
      </p:pic>
      <p:pic>
        <p:nvPicPr>
          <p:cNvPr id="1651" name="Imagen 2" descr=""/>
          <p:cNvPicPr/>
          <p:nvPr/>
        </p:nvPicPr>
        <p:blipFill>
          <a:blip r:embed="rId2"/>
          <a:stretch/>
        </p:blipFill>
        <p:spPr>
          <a:xfrm>
            <a:off x="7324560" y="7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lidad Educativ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Nivel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enovación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ff0000"/>
                </a:solidFill>
                <a:uFillTx/>
                <a:latin typeface="Garamond"/>
              </a:rPr>
              <a:t>Competitivida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2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3" name="Imagen 1" descr=""/>
          <p:cNvPicPr/>
          <p:nvPr/>
        </p:nvPicPr>
        <p:blipFill>
          <a:blip r:embed="rId1"/>
          <a:stretch/>
        </p:blipFill>
        <p:spPr>
          <a:xfrm>
            <a:off x="-38160" y="-2700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4" name="Imagen 2" descr=""/>
          <p:cNvPicPr/>
          <p:nvPr/>
        </p:nvPicPr>
        <p:blipFill>
          <a:blip r:embed="rId2"/>
          <a:stretch/>
        </p:blipFill>
        <p:spPr>
          <a:xfrm>
            <a:off x="7324560" y="1584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fabetización univer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básica (enseña normas básicas) obligatoria y gratu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secundaria (prepara para la Universida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iversidad y F. P. superi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7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8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22160" y="522900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ormación a lo largo de toda la vid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Mantenimiento conocimientos profesion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Adaptación nuevas tecnologí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1" name="Imagen 3" descr=""/>
          <p:cNvPicPr/>
          <p:nvPr/>
        </p:nvPicPr>
        <p:blipFill>
          <a:blip r:embed="rId1"/>
          <a:stretch/>
        </p:blipFill>
        <p:spPr>
          <a:xfrm>
            <a:off x="0" y="-9360"/>
            <a:ext cx="1243080" cy="558720"/>
          </a:xfrm>
          <a:prstGeom prst="rect">
            <a:avLst/>
          </a:prstGeom>
          <a:ln w="0">
            <a:noFill/>
          </a:ln>
        </p:spPr>
      </p:pic>
      <p:pic>
        <p:nvPicPr>
          <p:cNvPr id="1552" name="Imagen 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ormación y Educación equilibrad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superior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medios y F. P. super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. P. primer gr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56" name="Imagen 4" descr=""/>
          <p:cNvPicPr/>
          <p:nvPr/>
        </p:nvPicPr>
        <p:blipFill>
          <a:blip r:embed="rId2"/>
          <a:stretch/>
        </p:blipFill>
        <p:spPr>
          <a:xfrm>
            <a:off x="7324560" y="-34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Adaptada en cada momento a las necesidades de las empresas y de la socie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9" name="Imagen 3" descr=""/>
          <p:cNvPicPr/>
          <p:nvPr/>
        </p:nvPicPr>
        <p:blipFill>
          <a:blip r:embed="rId1"/>
          <a:stretch/>
        </p:blipFill>
        <p:spPr>
          <a:xfrm>
            <a:off x="-6480" y="-20520"/>
            <a:ext cx="1762200" cy="793800"/>
          </a:xfrm>
          <a:prstGeom prst="rect">
            <a:avLst/>
          </a:prstGeom>
          <a:ln w="0">
            <a:noFill/>
          </a:ln>
        </p:spPr>
      </p:pic>
      <p:pic>
        <p:nvPicPr>
          <p:cNvPr id="1560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étod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tudios continuos de necesida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Complementados por la opinión de los interlocutores sociales y de la sociedad civi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3" name="Imagen 3" descr=""/>
          <p:cNvPicPr/>
          <p:nvPr/>
        </p:nvPicPr>
        <p:blipFill>
          <a:blip r:embed="rId1"/>
          <a:stretch/>
        </p:blipFill>
        <p:spPr>
          <a:xfrm>
            <a:off x="176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564" name="Imagen 4" descr=""/>
          <p:cNvPicPr/>
          <p:nvPr/>
        </p:nvPicPr>
        <p:blipFill>
          <a:blip r:embed="rId2"/>
          <a:stretch/>
        </p:blipFill>
        <p:spPr>
          <a:xfrm>
            <a:off x="7307280" y="0"/>
            <a:ext cx="1819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6" name="Text Box 4"/>
          <p:cNvSpPr/>
          <p:nvPr/>
        </p:nvSpPr>
        <p:spPr>
          <a:xfrm>
            <a:off x="1835280" y="5157720"/>
            <a:ext cx="3241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ÓN SECUNDARIA 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250920" y="3284640"/>
            <a:ext cx="208908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BACHILLERA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2987640" y="3429000"/>
            <a:ext cx="20876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2843280" y="2060640"/>
            <a:ext cx="2305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ÓN PROFESIONAL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0" name="Rectangle 12"/>
          <p:cNvSpPr/>
          <p:nvPr/>
        </p:nvSpPr>
        <p:spPr>
          <a:xfrm>
            <a:off x="250920" y="1844640"/>
            <a:ext cx="1944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1" name="Rectangle 14"/>
          <p:cNvSpPr/>
          <p:nvPr/>
        </p:nvSpPr>
        <p:spPr>
          <a:xfrm rot="5400000">
            <a:off x="3547800" y="3883320"/>
            <a:ext cx="5111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Garamond"/>
                <a:ea typeface="Arial"/>
              </a:rPr>
              <a:t>MERCADO  DE TRABAJ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7020000" y="3141720"/>
            <a:ext cx="1584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ARA EL EMPLE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519120" y="562140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2679840" y="47577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5" name="Line 19"/>
          <p:cNvSpPr/>
          <p:nvPr/>
        </p:nvSpPr>
        <p:spPr>
          <a:xfrm flipV="1">
            <a:off x="3419640" y="580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6" name="Line 20"/>
          <p:cNvSpPr/>
          <p:nvPr/>
        </p:nvSpPr>
        <p:spPr>
          <a:xfrm flipV="1">
            <a:off x="1908000" y="4581360"/>
            <a:ext cx="0" cy="5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7" name="Line 21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8" name="Line 22"/>
          <p:cNvSpPr/>
          <p:nvPr/>
        </p:nvSpPr>
        <p:spPr>
          <a:xfrm>
            <a:off x="5003640" y="537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9" name="Line 23"/>
          <p:cNvSpPr/>
          <p:nvPr/>
        </p:nvSpPr>
        <p:spPr>
          <a:xfrm flipV="1">
            <a:off x="1187280" y="2852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0" name="Line 24"/>
          <p:cNvSpPr/>
          <p:nvPr/>
        </p:nvSpPr>
        <p:spPr>
          <a:xfrm flipV="1">
            <a:off x="3924360" y="299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1" name="Line 25"/>
          <p:cNvSpPr/>
          <p:nvPr/>
        </p:nvSpPr>
        <p:spPr>
          <a:xfrm>
            <a:off x="5219640" y="2565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2" name="Line 26"/>
          <p:cNvSpPr/>
          <p:nvPr/>
        </p:nvSpPr>
        <p:spPr>
          <a:xfrm>
            <a:off x="514836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3" name="Line 27"/>
          <p:cNvSpPr/>
          <p:nvPr/>
        </p:nvSpPr>
        <p:spPr>
          <a:xfrm flipH="1">
            <a:off x="6372360" y="36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4" name="Line 28"/>
          <p:cNvSpPr/>
          <p:nvPr/>
        </p:nvSpPr>
        <p:spPr>
          <a:xfrm>
            <a:off x="2411280" y="256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5" name="Line 29"/>
          <p:cNvSpPr/>
          <p:nvPr/>
        </p:nvSpPr>
        <p:spPr>
          <a:xfrm flipH="1">
            <a:off x="2339640" y="227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6" name="Line 30"/>
          <p:cNvSpPr/>
          <p:nvPr/>
        </p:nvSpPr>
        <p:spPr>
          <a:xfrm>
            <a:off x="2268360" y="1916280"/>
            <a:ext cx="3422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7" name="Line 31"/>
          <p:cNvSpPr/>
          <p:nvPr/>
        </p:nvSpPr>
        <p:spPr>
          <a:xfrm>
            <a:off x="1692360" y="5157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0" y="55497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EDUCAC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BAS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9" name="Line 35"/>
          <p:cNvSpPr/>
          <p:nvPr/>
        </p:nvSpPr>
        <p:spPr>
          <a:xfrm>
            <a:off x="2484360" y="328464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Line 36"/>
          <p:cNvSpPr/>
          <p:nvPr/>
        </p:nvSpPr>
        <p:spPr>
          <a:xfrm flipV="1">
            <a:off x="1908000" y="2707920"/>
            <a:ext cx="863640" cy="4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1" name="Rectangle 37"/>
          <p:cNvSpPr/>
          <p:nvPr/>
        </p:nvSpPr>
        <p:spPr>
          <a:xfrm>
            <a:off x="1835280" y="6093000"/>
            <a:ext cx="331128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ON PRIMA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2" name="Imagen 1" descr=""/>
          <p:cNvPicPr/>
          <p:nvPr/>
        </p:nvPicPr>
        <p:blipFill>
          <a:blip r:embed="rId1"/>
          <a:stretch/>
        </p:blipFill>
        <p:spPr>
          <a:xfrm>
            <a:off x="7702560" y="0"/>
            <a:ext cx="1415880" cy="54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8:12:59Z</dcterms:created>
  <dc:creator>monicamp</dc:creator>
  <dc:description/>
  <dc:language>en-US</dc:language>
  <cp:lastModifiedBy>Javier</cp:lastModifiedBy>
  <dcterms:modified xsi:type="dcterms:W3CDTF">2013-07-07T14:13:03Z</dcterms:modified>
  <cp:revision>60</cp:revision>
  <dc:subject/>
  <dc:title>Diapositiva 1</dc:title>
</cp:coreProperties>
</file>