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dt" idx="9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ftr" idx="9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 type="sldNum" idx="9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BE54-41E6-4E91-8BE4-CD3D4BCD8A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Marcador de número de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1E1A-291C-46F9-B5D9-89A6C49ED38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7BD4-4753-4259-AC7B-C97BC3C2305A}" type="slidenum"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F02B-96BE-4E46-8957-D8735FE3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953C-5195-4601-91B7-650B250C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5F871-88B3-4EFE-BCE2-D3CA589F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4A1D5B-3D28-4935-92EE-8F2AF1A1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2E36B-BC95-44B3-ACA2-5DA07A8B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D4012F-5FF6-46BE-93FC-A8256641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9C63F-5F79-480C-B616-54B0D353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D80C13-A11F-4C02-B729-62E50A09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38642-8627-4965-A90E-6BEBA550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5DB911-6326-4819-B3BE-4A403F21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B1665A-83E1-4AFA-8796-D43A9BF3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361A72-14B0-4C37-9946-085ED619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28A0-269D-499D-B358-08BE938B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0F837D-38E9-4BDA-9096-D62C6BEF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B83A12-5717-48AB-AB6E-4B80C314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62E7EF-1FCC-441F-8A93-F0ECC013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C3DE92-1D2B-4F56-8685-084BB524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0658A0-6E58-43A9-A783-5BE6DDDB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54E1AA-0886-4426-B410-B6C80B6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9AAB4-9A92-4DA5-9CED-7F93B0E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66C3D-7697-44D1-ADDF-76B029C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9292FD-FD48-4D61-B135-9CB29DA7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12D3A-78CD-4A31-924B-2BD37CFE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DFA7-97AC-4499-ADC7-60019540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00E57E-51B9-4789-BBB8-CB91E1DC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F34F2F-7286-4499-ABF0-EED40286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479030-15C6-4237-ADFF-5301DB5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06C62E-2C93-4CA1-98E1-75F47C2F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59321B-66A3-406F-B5F0-7C6E575C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60A4BB-979D-44E4-9D04-3373F346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B71F7-AB5C-4647-BFE7-D07FC106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FF8ABB-BC38-424D-97F8-0A63AC70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E42101-600D-4D10-8F52-A569FBA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810CAC-71F6-4844-A7CE-0AB2ECF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B5D58-3064-4C4C-9583-337E6781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26076B-93B0-48B6-A2BB-C55DC79D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54995A-0EFA-4030-A555-E0A41E11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A410C9-18FC-415B-8054-D35E1F22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A1E41C-2FE1-4146-82E4-B2EA9EE9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8A3865-8469-4C8E-8A93-0C434F54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2738F5-64E5-4123-A6DB-874E7F99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1FBA0A-CBE6-4597-8B5E-1D86204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496A46-D572-4498-A8C3-E93D3F8A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92A514-B929-4BB4-83FD-A9D6434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857A9B-9891-48E1-8EDD-EDB3D3ED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0CA83-415A-4B2E-9662-F7A6F60B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4AB3F2-B1E6-44A9-88D4-FDAC7D9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B02949-EFBC-41C9-B123-E9ECF82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8A3B83-A4B0-49E5-949E-5E4A19FA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7477C3-9A17-41D0-9C77-21530F92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43BDE1-3815-4DCA-9A31-A5AFC9CB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E4B642-722C-4D43-8C58-24F7D6AF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548C15-4A06-4404-8486-DEB2B67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3AD462-1B41-4460-B8D0-7A5B1CEE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F00872-B077-44F3-8944-D0B53D09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EA64CB-0CAF-4712-AB0F-F4FBC785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847D3-C0AD-4478-AAAF-CA3DB2E8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186A9E-0C80-4669-94EB-634E3FEA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DC67D5-C9B6-4D1E-87D6-567E621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71028D-A612-4C5D-B65E-D8420281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2C1BC8-B624-4966-8233-B475497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735CCE-E7F3-439C-A8D5-8DCF42EF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567F52-E5B4-4676-881B-EDD7554E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4E6113-49B4-4C90-99C1-6E7CE89A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394050-0594-4625-A7D3-0CA990A5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6B9D11-F4E3-4A9E-BC00-3ECCDD84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3FEDC4-6992-44C7-A195-218CA7AD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81402-F1AC-4ABB-86CB-6A7CEBA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01E971-6872-4095-8F49-DE98A85D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B7C0B8-4B7C-4361-A2BD-2E0CE9B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4A5895-799B-4EC7-8B18-973F7DAF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520AEA-7DC2-457D-A864-E682E39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C20E5D-EE28-4DE6-BFFA-EEC96F20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4028CD-DA60-4CC0-B4DD-939BEE2C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CBDA76-8047-491A-AEC5-AE3DA5DA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5ECBBC-CD5B-48D0-B8DC-77F26953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BB98BF-2697-440A-8A69-F03702BC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D8B5B0-A063-4D73-A7C7-6D45B262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C6646-F58F-4DA5-89FF-860C4001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6643D6-67F0-4FB1-AF84-8CA8F829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1582A3-A34E-43DC-96EB-9C24B554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FD0F6F-E23C-4DD4-ADDA-6146C7B5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9C421E-240D-474B-A3CE-3658FD92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3F11B5-4117-4672-A853-B493744B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664C42-964E-48CB-8B20-61CA453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B56D61-6974-4714-95A0-7E5FEBE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3CFA07-2803-424B-82B9-E82C2970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3BEDC3-9152-411E-A1C2-08A76A64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9310FD-C14A-4ED9-B580-8BD36443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E0167-FB55-401E-A844-9B49A74B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8038E1-B82A-403E-8D87-7E167C91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C07197-0DB0-4274-8A8B-39B7DA9E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7DFAF5-4BF1-484A-A5A7-0466F25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37454F-E26B-4268-9EAC-B9A89067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760EC0-DD58-4510-8443-9F3D07D8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58BFCA-D67D-40C9-978F-F187EC5C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0B1E3F-D9A9-4966-B5E3-EA4397D4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EC0931-DBDD-485E-9110-2D11A93D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43330F-EC94-4E2F-807F-CBC222B0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4A0D7F-EBB3-43CD-BE37-83F1053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65EE5-FA12-4EB5-BA8C-3D669F2F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4731F1-8A74-444C-9346-060CBBE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04498B-EA8F-4BA5-8A7C-3443B99D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11F9FC-5030-47A5-9955-17A2F257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A25F75-1E06-4C35-A1F5-FCA9DBDD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AE6ABF-C4FD-4C9C-9A9D-AA870547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5F1AFA-6196-4CBA-B72D-34522771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AE39EF-13D8-421A-AF9F-C7258DC2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44A9EC-C2C4-40B0-8C34-E97F0282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CDD501-02B2-4EE9-AA19-ACC04B6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54201E-67A4-4C9F-AB92-EC2E7E69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C68D-6616-4309-A7B4-ADA8AFFC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725B6-118B-4619-80DE-B0E746ED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33DB6D-7178-4069-BB4A-92DE7995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7BFBFC-B526-4BE0-B48B-24FBB43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C66FFB-4529-4C11-91A1-7E314F1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250641-0BFB-4CD3-8347-24409C26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3D7487-F169-4FF7-A815-B1DC0BA4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987C9-E183-4D3D-A822-E2796C2A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5667E-FD1D-41E5-8BEE-0B218198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FF940-CCC3-4727-ABE6-34D9924D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9D1A5-65B8-4317-A1DC-9D93E0C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CF869-461F-4D4D-B0F9-97F7DBC1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5D96B-730A-4717-8BAB-498883BF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0DEB12-51DE-4D65-A924-E009AD33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B2018C-ED8E-470D-A17E-84C508C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8492B-11E6-4D1D-8ED6-4920CDD8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6DD1B-E749-4DEC-BC26-41AF18B2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28672-0820-4921-93D9-07D8287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3809F-44E7-467C-A2AA-B7A55B89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DF6A8-C34F-44A7-BD4C-B40A086D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D1F41B-F77E-4E32-84FC-75574D06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D5D0D8-8F34-4EA3-B89D-27D98D03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03DFA7-6CED-4B8E-8F41-549EDB11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61196-DD4A-49FB-9EFE-869CF864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37AD63-9C1F-44DB-AF0A-55B7B2A0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E195BF-45CC-4247-9CDE-BEE352C8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362CEC-4A82-4700-8E00-18F594E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2BBF84-B2AE-416E-A1E1-4EE32DA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E7FEE6-B743-480F-B59D-2994BAA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EB7DDC-FE1C-44B9-93F8-B6B39EB9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5E7042-FAE1-4D2B-A970-B18D87C0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D5E0A3-58DC-45BD-857D-A3AA4CE5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4AB213-110C-41B5-B7CB-48F0DAFA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B34489-B801-4A4D-B3AC-CB35E2F7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CD104-E3AC-43DA-9EC9-87971B06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5B388F-8601-451F-A8FF-69E349E8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069E81-F49C-4155-923A-13BA7CC5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BBB47A-BDB7-4105-A108-B0C10C4F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82B960-F451-4429-8B8E-EC17A657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EA38A6-6941-47BD-BDB8-2AEB2C4D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3DC208-16AD-47B2-BEC7-0754D9E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61681F-5409-4B19-B7C0-911B2EC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2F0BE5-D019-4E3E-9B36-5BFA3D7E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6A5D59-AC74-413F-9070-D9ADF50F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4558A2-6077-4BAD-B9F8-3395C7FD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2C5F4-CD1F-462D-8836-F684632D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DF02F6-54F5-47C8-BA2F-08B950AC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D186F4F-7A8C-4FD8-99B9-785F1B95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135092-0200-43AA-BF34-C4DF90E1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DC6E5A-8474-452B-8518-EEAC6644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8E7EAC-C24D-4E1E-B5BA-B5A2B545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7E22A8-D01C-4EAF-BC19-FC8D5591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DB066E-FCBC-4DC6-B0D9-BC18D2B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CB9118-EC00-47EC-8047-820CE85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C53F09-F6C7-4482-B150-EE0C8660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26B01B-EB67-40F6-9602-ED2951CF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F2961-61D1-441C-BD04-209DEFC6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DD3C47-678A-4B45-9842-22A25D67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65CCFC-50FF-4F73-9170-42A09F82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32A886-3D41-4155-B439-24D0FCB5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B4999F-DFDF-453A-9724-B8FC8886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71800DA-B58C-4A12-8096-5C44655A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A6D546-1E43-4A3F-A6C7-2A9CE711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71F5E4-EB4D-4C39-8397-3F7D151F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FB1E2C-E3CF-491D-B376-7A064B3B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734151-6C7A-454B-8DDD-50DFD121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2E98264-F610-48AA-AB29-1FBB5B8D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C761A-3EF2-4CD3-B7BA-B9D64075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8A3A924-D4DE-4568-86C5-2319C90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AAC278-8C10-4A04-9C65-8F0C8408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BEF7AA7-ADAA-4E72-AAE0-B85D8454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5BEF67-A564-4021-AFDB-B14131C0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766007-BE61-4D20-AEA0-54B92D2B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9F836D-A5AF-4FAD-8E06-052AC2E0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D98BFD-EC00-4A26-AE08-06EA491F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167D02F-263A-4D86-9CB9-737AAD1C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0845126-B58F-4224-B0E6-8C9F0B74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969546-CC03-44D4-A304-6486D3E5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083AA-BE70-4A65-A861-EF1B8458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7A0D0FD-B0FF-4369-8924-AB399660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ACD3FA-3D1C-4BCC-A7E0-716CD45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7071B0-4399-41A5-BBB1-F3AFA65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A09BE6-3A57-4014-A965-0E5F114A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0BE6A8E-81E1-44BD-9C70-6372654E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DB1BEE8-7BF8-4C63-ACD0-2DE09C94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EBB53A-3D9F-489D-9A13-A4DD8609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467969-CB80-4C06-9133-2392A9D7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8F19B6-2DAD-41AB-810B-086542C8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A0F91A-6953-421F-AB8C-2C710BEC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6FB5D-8C39-415A-9DB6-5EDD7B2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8D4F38-47B6-4FCA-9B3E-296E7AF6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FDDBDF7-830E-4C45-810F-0FA577CC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1C958F-D1E5-4B4A-A6C6-E054F0D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908F8D-584F-4784-948F-BE0CDB0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DD3B007-7E11-4309-89A7-E6866FA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32D431D-E14A-4796-BC02-4AF33969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6E2A55-B5A6-4549-BEB0-04A72FC4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DBDA59B-EBEF-408C-90C7-00EA982D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4536F4-A4BD-4885-B4F2-43D88DAE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9D9352-DFEB-4736-9D2E-6AA87DEC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840C7-C8F7-436B-B8A6-8CA51C3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DEB46BD-2690-479F-9E94-47DFB9EC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B687596-742A-42CC-8C35-1C443A0D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630C073-88B2-459B-B129-721EE486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B18F4A-7206-4A96-A3AA-1C75447D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E7CB28D-7847-43B4-8204-297A8004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5195E9-1397-494F-B10F-5A9C7743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657E7C-DF38-4A90-9AD7-4953C74E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9EAEBD6-4976-46DC-B312-99D9758F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BB79124-7A8B-4E1E-BDEE-28304255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5279AB-D92B-447E-9326-A1130CCB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AD1C-76AC-4B05-83AF-E38CAD65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1A8F4-8965-49CF-AB85-58EF7754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886700-0377-4477-9C0C-4E3DA4C3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AAEA552-1E80-4555-9BB4-10580CFC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EA95749-D64E-4C26-B735-4AD75FF0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DE0F291-DDB8-4531-8ADA-76E31765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99E3A6C-1CAC-4695-91F7-49672C22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2716587-8650-48E5-B9A1-0C087D2B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275091A-E76D-4999-8C7C-EF2B2E2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9302F20-2F68-48AC-B664-72349A5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C6AFB9-0AFD-4CDE-B41C-8F0BFC44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BB39B7-5127-4276-AB43-D227E690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D8FBA-9710-488A-83EF-4A72634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984424C-2458-4076-9216-A0C74210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F7F2EB-ADE5-49B5-A1CF-5B9AEAA7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F4D18D-6E19-419C-B513-310AC191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031BA3-6C26-462F-AA09-F0F37467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913A132-D81A-4535-8209-AA5332E3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5084E0E-B8CB-4C03-8C0D-96CB9D41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9B61F8D-B6FF-470F-A064-81D9C725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52CE76D-2222-4617-A781-CA8C6117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C4BC508-F1A6-431B-A413-45E9C50A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C5DA594-AD54-4F7C-9DB4-D39B93BC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F5753-5B54-47CC-8017-88E8C8A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52AEFA7-A0D3-4F92-A1C1-A67AE6BF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F2DA22A-CD0F-4E22-AF27-7EB60207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EB388C8-EE04-4A7C-97EF-2D9C7E56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56056A-1D09-45DC-B24C-639A193F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F8E703F-A061-4858-B61D-19C819D1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6F9AE9-9BDF-493D-8A69-B6B3E6A9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BF00A2A-D0C0-432B-98F3-E42EBED8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98F31A6-9CDF-4608-85AF-7D415AA1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DBC975B-8E6C-4641-9B26-BD00A7F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8E154D-3818-435E-838C-E3AF1339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9AB2B-4393-40B2-A7C7-88CABE0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65287C0-6974-42CA-80C2-86E215EC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A980839-20F3-4231-A616-F9C0A96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7944F4E-C846-4750-9E52-DB4139D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9D6E301-C472-43A8-A15B-DA918D2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08E5FF6-6C44-4E7F-ADE7-DF38A301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BDABBB9-B495-4325-8A15-C9F01B61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6C54AAF-EECD-4C7D-9553-57EC99C0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DB21743-0ABA-4CB0-9080-2726967E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0F3F3E-2C7A-418B-8C08-F9B16D37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7C2BEC2-3763-47B1-BB95-F9BA2C6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05CC5-EBE7-48EF-B04E-6A30D7C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9EF75BB-5569-4161-AF04-B43F13E8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6379AF6-EDDF-4EDF-9211-CA5ADAD6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BB8935-5442-493B-B6C6-5AFBC0F8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106DB26-662E-4C0E-B70C-1FB7A449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0C5F288-1BC6-44E2-B5F6-C467DE4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FF12F7-6996-4A07-B096-77A25D44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285BC19-383B-489C-856D-1FC55CFF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1D20175-D420-45F2-9A23-655091F1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F6BFA7A-69CE-4C61-AB24-E2F1B504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58791A8-C4FE-4F7E-A229-8C41EB7D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FDBAA-5EF2-44E1-82AC-9B179206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BE6657B-3F6D-4F1F-8A77-3C28D7AF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16514CA-C2BE-47D0-9EA3-8F146CED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916ABEA-B185-488B-B0F0-C7B73C8D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39CE3B9-9322-49E5-ACC7-D146975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C45DC2F-704B-4C6D-A6BD-16B2E11C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9C7A48B-4D0D-40EB-BF76-1881D52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E83E3A9-4891-4B1D-A5D1-0CB8B23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DB7A69-906D-414B-96E8-8198A3B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BA21030-ED50-4DE5-BF97-A8BBC990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F6E834E-665F-4115-88B4-F0B9F16B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3EF8D-9FB2-4DE5-9CEC-04F319FE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902CDC7-66C6-4120-9F7E-CEF842F7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163E-22A7-4863-AB0D-1E0E9CFB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2D8C-C668-4330-83C9-1C2CE432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B2EE-4511-4A3A-94E3-4582BE76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6A2B-B7DB-41EE-9BA7-A0D0ECEA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1A7F-2448-4BBE-B2E9-455B2E5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D21A-180E-4BF7-ABF1-2D460422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BADF-0106-4102-B500-DBF49D3B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9540-08C1-4DF9-BD13-2026E3B7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70F37-8379-4002-96B0-152F733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9C80-CB83-47EC-8E28-A4D9AB39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704D-3A36-499E-A4A3-B6313368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D308-5D67-423B-ABF3-F2429EBE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EF13-301C-418C-9902-1F10D848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E58C-6657-4E99-8F07-F3BB00B8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99AD-1F7F-436C-AA29-76E5C3EA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917B1-4DE9-447F-B4C2-F503C068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11F2-E414-48AD-8C2D-E9F57F40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04CB-B742-4D38-A360-32C3FE07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60F1-EE9B-4642-8F45-256D7B06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9BD3-0FCB-4B86-BD5F-26EA48A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765E-9ABB-4840-BFBF-058DB8B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33EE-92F4-4A5E-B186-D44A8D07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3BDA-57DE-425E-A8FF-E825903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80935-9CAC-4861-8B3D-5B8C63F5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BB64-4C1E-4104-A30B-BA16F2FE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A484-3E3C-4019-8658-86C7F366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E3665-48AC-4768-BC95-7E7656DB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ADCA4-2BF6-402D-8E5C-73300A6E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AE06F-81C5-4695-96B1-0D966667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3FD0B-95BC-44F4-9553-9F3D506F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FFAB7-BC72-4555-931E-DC6E7C2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AF08A-68F0-4749-A5B7-B83CC57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9875D-4575-4AE1-B0CD-9688280D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721B6-D948-432F-A615-CDE9AD0C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B064F-4DEE-4BA6-858E-CC79C85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C3F86-F388-4408-94B8-FCE165C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ED78-DAC7-4D9A-BEC9-F1A8BAE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5AA4E-DAF2-4F90-AC23-6F4EADCC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2339A-E2F3-4543-B5F4-9F4C171F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6C7B2-3EE2-4714-A933-45B671F2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C04F5-E1BA-472F-9026-C1A3DB48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F0141-D01B-45B3-A72D-FCECA16E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C244E-7DC1-497C-B31A-96FEC735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8419F-7BCF-4E31-B8B4-4943DD8A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108788-F6B4-478F-A4B0-E29BA4FD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76B0C-E34D-45CA-8A2B-EC025F8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A4FC4-C519-4163-8F27-E70BB621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D12D-AC76-4D41-9B2C-CDBA004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74A4E-29F4-4501-B343-4B1ED783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58766-274A-4358-B888-06332DF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82017-5392-40BF-9FE0-1E602287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40B3A-FEE1-46DA-94B7-C1736F10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C8A7E-75FB-454F-A6BC-6803078E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0900D3-EA5F-4906-897E-459ADF55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C4A45-43E1-463B-9894-112397DE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3A1842-B328-43FB-8EEA-D8BA0547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EDF2DD-D492-46C7-AB7D-AD2522C5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A09D57-D2DA-4B34-986F-1B2737CF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8967-1FE1-4770-8D6D-2B5BE459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1A8906-B20C-4309-B332-9D533D4A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8E948-0E7E-4F5D-8115-AC642464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FB2A5-447F-483B-A659-59F92DA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E645A-E6A9-49A4-8660-02354909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6ED67-D8A5-47D9-A91D-32237317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CBE9A-E11C-42D8-8BBE-E45E15D6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C3AED4-E9DA-4E90-9CE1-F1B7C6CF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28798-5E09-4918-98C1-5993A207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25482-5090-4C46-8431-5F9173FD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A79EC3-861D-4590-9B8C-6C06302C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5D3E-7C5D-4D0D-8CA4-D165B899CB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F41F-09A5-4CA2-84B4-174DABCAB5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3B88-6094-4352-80D2-9B390DF5D65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727A-DC69-4178-BBA6-CEF26927C97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8BA0-EB92-4833-82AA-3BDA718377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4B6-A1A1-4C0A-B9B7-BAC97577143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402E-28E4-411F-B6F2-C4125F08588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4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909C-57C8-49C0-B64A-C7F412FC690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4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7F8D-AC6A-4762-9908-D0FFB7E19C5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ftr" idx="5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7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8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88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1A2-BD51-4F52-9E70-B8A19F4C3E1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3F77-FA60-45C9-B617-1F7F5BC546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F868-2C44-407E-8274-87E15817A3D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5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EB70-29EE-4DED-92E5-FA7A568B3AF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ftr" idx="6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6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2F9D-ECD7-4E65-8F38-745728CE3B5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6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6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FE1E-D7F2-457E-8183-C2ECD495309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ftr" idx="6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C103-7D84-49AC-AAE2-D526BF96E77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ftr" idx="6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BBE5-82FE-46AF-9DD8-70F3101F3C7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ftr" idx="7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7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9073-1434-4D70-9FF0-701A5F4965C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ftr" idx="7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C011-FA3F-4FD4-A79A-E22649E2849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7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8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7AC2-C23E-444C-8936-94F416BE4D9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ftr" idx="8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dt" idx="8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8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69F3-07C5-426C-8FE0-99391131B7F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ftr" idx="8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8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435C-DECD-406E-A2CB-BEF80B1CA16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ftr" idx="8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6163-1D1D-479B-8D86-269663C0678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7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7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8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dt" idx="8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BB0E-DBBA-4003-9ABA-C6AA99034AC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 type="ftr" idx="9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5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B29A-EB7C-4CDD-84B5-37E57C8A8D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1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1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2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E359-00A8-480B-B6EC-A473E31115D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51A3-DE61-41AA-A4C7-301F4420C2D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3E1-44DD-446D-9ACB-38694E6F561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710-44A1-4B4B-B31F-F4002B7062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2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2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A916-E00C-4075-A7EA-59098919C2C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/>
          </p:nvPr>
        </p:nvSpPr>
        <p:spPr>
          <a:xfrm>
            <a:off x="323640" y="227160"/>
            <a:ext cx="8569080" cy="64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Garamond"/>
              </a:rPr>
              <a:t>La Formación Profesional en España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Garamond"/>
              </a:rPr>
              <a:t>JAVIER FERRER DUFO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Consejero grupo II  (Empresarios ) CES de Españ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Vicepresidente CEO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Tegucigalpa 8 Julio 201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0560"/>
          </a:xfrm>
          <a:prstGeom prst="rect">
            <a:avLst/>
          </a:prstGeom>
          <a:ln w="0">
            <a:noFill/>
          </a:ln>
        </p:spPr>
      </p:pic>
      <p:pic>
        <p:nvPicPr>
          <p:cNvPr id="1536" name="Imagen 9" descr=""/>
          <p:cNvPicPr/>
          <p:nvPr/>
        </p:nvPicPr>
        <p:blipFill>
          <a:blip r:embed="rId2"/>
          <a:stretch/>
        </p:blipFill>
        <p:spPr>
          <a:xfrm>
            <a:off x="731520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La cultura del aprendizaje permanente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base de la política social y la estrategia de crecimiento y de empleo de la U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Formación</a:t>
            </a: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inicial</a:t>
            </a: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 aprender para aprender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Formación adaptada a las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necesidades de las empresas y de la Socieda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Garamond"/>
              </a:rPr>
              <a:t>Con la </a:t>
            </a:r>
            <a:r>
              <a:rPr b="1" lang="es-ES_tradnl" sz="3000" spc="-1" strike="noStrike">
                <a:solidFill>
                  <a:srgbClr val="ff3300"/>
                </a:solidFill>
                <a:latin typeface="Garamond"/>
              </a:rPr>
              <a:t>participación de los interlocutores sociales y la colaboración de las empresas.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Promover que las </a:t>
            </a: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competencias profesionales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puedan ser </a:t>
            </a:r>
            <a:r>
              <a:rPr b="1" lang="es-ES" sz="3000" spc="-1" strike="noStrike">
                <a:solidFill>
                  <a:srgbClr val="ff3300"/>
                </a:solidFill>
                <a:latin typeface="Garamond"/>
              </a:rPr>
              <a:t>acreditad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95" name="Imagen 2" descr=""/>
          <p:cNvPicPr/>
          <p:nvPr/>
        </p:nvPicPr>
        <p:blipFill>
          <a:blip r:embed="rId2"/>
          <a:stretch/>
        </p:blipFill>
        <p:spPr>
          <a:xfrm>
            <a:off x="7324560" y="468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inanci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ormación inic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3-16 años, obligatoria, financiada por P. G. Es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6 -18 voluntaria, gratuita P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Universitaria pública, 75 % del cos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n todos los niveles hay educación privada, concertada o pag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8" name="Imagen 3" descr=""/>
          <p:cNvPicPr/>
          <p:nvPr/>
        </p:nvPicPr>
        <p:blipFill>
          <a:blip r:embed="rId1"/>
          <a:stretch/>
        </p:blipFill>
        <p:spPr>
          <a:xfrm>
            <a:off x="0" y="-14400"/>
            <a:ext cx="1762200" cy="792360"/>
          </a:xfrm>
          <a:prstGeom prst="rect">
            <a:avLst/>
          </a:prstGeom>
          <a:ln w="0">
            <a:noFill/>
          </a:ln>
        </p:spPr>
      </p:pic>
      <p:pic>
        <p:nvPicPr>
          <p:cNvPr id="1599" name="Imagen 4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ticipació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En Educ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Consejo Escolar del Es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Otros organismos del Estad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En F. P. para el emple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ialogo Soc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Fundación Triparti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2" name="Imagen 3" descr=""/>
          <p:cNvPicPr/>
          <p:nvPr/>
        </p:nvPicPr>
        <p:blipFill>
          <a:blip r:embed="rId1"/>
          <a:stretch/>
        </p:blipFill>
        <p:spPr>
          <a:xfrm>
            <a:off x="-1440" y="0"/>
            <a:ext cx="1761840" cy="792000"/>
          </a:xfrm>
          <a:prstGeom prst="rect">
            <a:avLst/>
          </a:prstGeom>
          <a:ln w="0">
            <a:noFill/>
          </a:ln>
        </p:spPr>
      </p:pic>
      <p:pic>
        <p:nvPicPr>
          <p:cNvPr id="1603" name="Imagen 4" descr=""/>
          <p:cNvPicPr/>
          <p:nvPr/>
        </p:nvPicPr>
        <p:blipFill>
          <a:blip r:embed="rId2"/>
          <a:stretch/>
        </p:blipFill>
        <p:spPr>
          <a:xfrm>
            <a:off x="7327800" y="-1440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inanci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ormación para el Emple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0.7% de los salarios para financiar la FP de desempleados y ocupados: 0.6% a cargo de la empresa / 0.1% a cargo del trabaja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. S. 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portaciones del Es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6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607" name="Imagen 4" descr=""/>
          <p:cNvPicPr/>
          <p:nvPr/>
        </p:nvPicPr>
        <p:blipFill>
          <a:blip r:embed="rId2"/>
          <a:stretch/>
        </p:blipFill>
        <p:spPr>
          <a:xfrm>
            <a:off x="7324560" y="2376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9" name="Text Box 6"/>
          <p:cNvSpPr/>
          <p:nvPr/>
        </p:nvSpPr>
        <p:spPr>
          <a:xfrm>
            <a:off x="5219640" y="3933720"/>
            <a:ext cx="3240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ROFESIONAL PARA EL EMPL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39640" y="3933720"/>
            <a:ext cx="345600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FORMACION PROFESIONAL REGLA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Text Box 8"/>
          <p:cNvSpPr/>
          <p:nvPr/>
        </p:nvSpPr>
        <p:spPr>
          <a:xfrm>
            <a:off x="539640" y="3068640"/>
            <a:ext cx="3384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º DE EDUC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2" name="Text Box 9"/>
          <p:cNvSpPr/>
          <p:nvPr/>
        </p:nvSpPr>
        <p:spPr>
          <a:xfrm>
            <a:off x="5003640" y="3068640"/>
            <a:ext cx="3384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Mº DE EMPL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Rectangle 10"/>
          <p:cNvSpPr/>
          <p:nvPr/>
        </p:nvSpPr>
        <p:spPr>
          <a:xfrm>
            <a:off x="179280" y="4797360"/>
            <a:ext cx="1800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P DE GRADO SUP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4" name="Rectangle 11"/>
          <p:cNvSpPr/>
          <p:nvPr/>
        </p:nvSpPr>
        <p:spPr>
          <a:xfrm>
            <a:off x="2050920" y="4797360"/>
            <a:ext cx="201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P DE GRADO MED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5" name="Rectangle 12"/>
          <p:cNvSpPr/>
          <p:nvPr/>
        </p:nvSpPr>
        <p:spPr>
          <a:xfrm>
            <a:off x="4572000" y="4869000"/>
            <a:ext cx="2160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 OCUPACION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6" name="Rectangle 13"/>
          <p:cNvSpPr/>
          <p:nvPr/>
        </p:nvSpPr>
        <p:spPr>
          <a:xfrm>
            <a:off x="6948360" y="4869000"/>
            <a:ext cx="1944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CONTINU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7" name="Rectangle 14"/>
          <p:cNvSpPr/>
          <p:nvPr/>
        </p:nvSpPr>
        <p:spPr>
          <a:xfrm>
            <a:off x="611280" y="1268280"/>
            <a:ext cx="77770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Garamond"/>
                <a:ea typeface="Arial"/>
              </a:rPr>
              <a:t>LEY DE LAS CUALIFICACIONES Y LA FORMACIÓN PROFES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8" name="Oval 15"/>
          <p:cNvSpPr/>
          <p:nvPr/>
        </p:nvSpPr>
        <p:spPr>
          <a:xfrm>
            <a:off x="0" y="3645000"/>
            <a:ext cx="8748720" cy="2950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9" name="Oval 16"/>
          <p:cNvSpPr/>
          <p:nvPr/>
        </p:nvSpPr>
        <p:spPr>
          <a:xfrm>
            <a:off x="324000" y="3573360"/>
            <a:ext cx="8820000" cy="309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0" name="Line 17"/>
          <p:cNvSpPr/>
          <p:nvPr/>
        </p:nvSpPr>
        <p:spPr>
          <a:xfrm>
            <a:off x="4427640" y="2060640"/>
            <a:ext cx="0" cy="143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1" name="AutoShape 18"/>
          <p:cNvSpPr/>
          <p:nvPr/>
        </p:nvSpPr>
        <p:spPr>
          <a:xfrm rot="736200">
            <a:off x="5651280" y="3573360"/>
            <a:ext cx="360360" cy="7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2" name="AutoShape 19"/>
          <p:cNvSpPr/>
          <p:nvPr/>
        </p:nvSpPr>
        <p:spPr>
          <a:xfrm>
            <a:off x="2916360" y="364500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3" name="AutoShape 20"/>
          <p:cNvSpPr/>
          <p:nvPr/>
        </p:nvSpPr>
        <p:spPr>
          <a:xfrm rot="765600">
            <a:off x="2771280" y="645336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4" name="AutoShape 21"/>
          <p:cNvSpPr/>
          <p:nvPr/>
        </p:nvSpPr>
        <p:spPr>
          <a:xfrm rot="10330800">
            <a:off x="5795640" y="645336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5" name="AutoShape 22"/>
          <p:cNvSpPr/>
          <p:nvPr/>
        </p:nvSpPr>
        <p:spPr>
          <a:xfrm rot="10184400">
            <a:off x="2916000" y="3644640"/>
            <a:ext cx="360360" cy="71280"/>
          </a:xfrm>
          <a:custGeom>
            <a:avLst/>
            <a:gdLst>
              <a:gd name="textAreaLeft" fmla="*/ 0 w 360360"/>
              <a:gd name="textAreaRight" fmla="*/ 360720 w 360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El Diálogo Soci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Garamond"/>
              </a:rPr>
              <a:t>1984 Acuerdo Económico y Socia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uota de Formación Profesional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8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629" name="Imagen 2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Formación Profesional para el Emple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Fas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992 – 1996 Gestión y concesión de fondos de los Interlocutores So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1996 – 2004 Gestión de fondos Interlocutores Sociales y concesión Administración Públ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2004 - 2012 Bonificaciones, Autonomías, e Interlocutores Sociales  y Administración Públ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2" name="Imagen 3" descr=""/>
          <p:cNvPicPr/>
          <p:nvPr/>
        </p:nvPicPr>
        <p:blipFill>
          <a:blip r:embed="rId1"/>
          <a:stretch/>
        </p:blipFill>
        <p:spPr>
          <a:xfrm>
            <a:off x="-11160" y="-25560"/>
            <a:ext cx="838080" cy="378000"/>
          </a:xfrm>
          <a:prstGeom prst="rect">
            <a:avLst/>
          </a:prstGeom>
          <a:ln w="0">
            <a:noFill/>
          </a:ln>
        </p:spPr>
      </p:pic>
      <p:pic>
        <p:nvPicPr>
          <p:cNvPr id="1633" name="Imagen 4" descr=""/>
          <p:cNvPicPr/>
          <p:nvPr/>
        </p:nvPicPr>
        <p:blipFill>
          <a:blip r:embed="rId2"/>
          <a:stretch/>
        </p:blipFill>
        <p:spPr>
          <a:xfrm>
            <a:off x="8244000" y="0"/>
            <a:ext cx="900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Formación Profesional para el Empleo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686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avorecer la formación a lo largo de la vi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porcionar conoc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ejorar la empleabilidad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mover que las competencias profesionales puedan ser acredita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6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1637" name="Imagen 2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 </a:t>
            </a:r>
            <a:br>
              <a:rPr sz="4000"/>
            </a:br>
            <a:r>
              <a:rPr b="1" lang="es-ES" sz="2800" spc="-1" strike="noStrike">
                <a:solidFill>
                  <a:srgbClr val="e5e5ff"/>
                </a:solidFill>
                <a:latin typeface="Garamond"/>
              </a:rPr>
              <a:t>EL SISTEMA DE FORMACION CONTINUA 1992-2003: LOS RESULTADOS DEL DIALOGO SOCIAL</a:t>
            </a:r>
            <a:br>
              <a:rPr sz="2800"/>
            </a:br>
            <a:r>
              <a:rPr b="1" lang="es-ES" sz="2000" spc="-1" strike="noStrike">
                <a:solidFill>
                  <a:srgbClr val="ff3300"/>
                </a:solidFill>
                <a:latin typeface="Garamond"/>
              </a:rPr>
              <a:t>Participantes formado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39" name="Object 4"/>
          <p:cNvGraphicFramePr/>
          <p:nvPr/>
        </p:nvGraphicFramePr>
        <p:xfrm>
          <a:off x="0" y="2317680"/>
          <a:ext cx="863280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17680"/>
                    <a:ext cx="863280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4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Garamond"/>
              </a:rPr>
              <a:t>PARTICIPANTES EN EL SUBSISTEMA DE FORMACIÓN PARA EL EMPLEO 2004-2011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2" name="2 Gráfico" descr=""/>
          <p:cNvPicPr/>
          <p:nvPr/>
        </p:nvPicPr>
        <p:blipFill>
          <a:blip r:embed="rId1"/>
          <a:stretch/>
        </p:blipFill>
        <p:spPr>
          <a:xfrm>
            <a:off x="536400" y="1122480"/>
            <a:ext cx="80712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/>
          </p:nvPr>
        </p:nvSpPr>
        <p:spPr>
          <a:xfrm>
            <a:off x="-1764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Cuest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aramond"/>
              </a:rPr>
              <a:t>Área de mas fáciles consenso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8" name="Text Box 4"/>
          <p:cNvSpPr/>
          <p:nvPr/>
        </p:nvSpPr>
        <p:spPr>
          <a:xfrm>
            <a:off x="543564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9" name="Imagen 1" descr=""/>
          <p:cNvPicPr/>
          <p:nvPr/>
        </p:nvPicPr>
        <p:blipFill>
          <a:blip r:embed="rId1"/>
          <a:stretch/>
        </p:blipFill>
        <p:spPr>
          <a:xfrm>
            <a:off x="792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0" name="Imagen 2" descr=""/>
          <p:cNvPicPr/>
          <p:nvPr/>
        </p:nvPicPr>
        <p:blipFill>
          <a:blip r:embed="rId2"/>
          <a:stretch/>
        </p:blipFill>
        <p:spPr>
          <a:xfrm>
            <a:off x="7307280" y="44280"/>
            <a:ext cx="181908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FINANCIACIÓN DEL SUBSISTEMA DE FORMACIÓN PARA EL EMPLEO</a:t>
            </a:r>
            <a:br>
              <a:rPr sz="1600"/>
            </a:b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 2004-2012 (Mill. Euros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4" name="1 Gráfico" descr=""/>
          <p:cNvPicPr/>
          <p:nvPr/>
        </p:nvPicPr>
        <p:blipFill>
          <a:blip r:embed="rId1"/>
          <a:stretch/>
        </p:blipFill>
        <p:spPr>
          <a:xfrm>
            <a:off x="249120" y="2054160"/>
            <a:ext cx="85708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Problemas de nuestro Sistema Educativ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Sucesión de reforma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Reparto de competencia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Fracaso escolar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Pocos titulados en FP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La Universidad y FP, conexión con el mundo profesional y produc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598320"/>
          </a:xfrm>
          <a:prstGeom prst="rect">
            <a:avLst/>
          </a:prstGeom>
          <a:ln w="0">
            <a:noFill/>
          </a:ln>
        </p:spPr>
      </p:pic>
      <p:pic>
        <p:nvPicPr>
          <p:cNvPr id="1648" name="Imagen 2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aramond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0" name="Imagen 1" descr=""/>
          <p:cNvPicPr/>
          <p:nvPr/>
        </p:nvPicPr>
        <p:blipFill>
          <a:blip r:embed="rId1"/>
          <a:stretch/>
        </p:blipFill>
        <p:spPr>
          <a:xfrm>
            <a:off x="-20520" y="-6480"/>
            <a:ext cx="1761840" cy="792360"/>
          </a:xfrm>
          <a:prstGeom prst="rect">
            <a:avLst/>
          </a:prstGeom>
          <a:ln w="0">
            <a:noFill/>
          </a:ln>
        </p:spPr>
      </p:pic>
      <p:pic>
        <p:nvPicPr>
          <p:cNvPr id="1651" name="Imagen 2" descr=""/>
          <p:cNvPicPr/>
          <p:nvPr/>
        </p:nvPicPr>
        <p:blipFill>
          <a:blip r:embed="rId2"/>
          <a:stretch/>
        </p:blipFill>
        <p:spPr>
          <a:xfrm>
            <a:off x="7324560" y="792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/>
          </p:nvPr>
        </p:nvSpPr>
        <p:spPr>
          <a:xfrm>
            <a:off x="-1764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Cuest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alidad Educativ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Nivel de conocimi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mplea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Renovación de conocimi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 u="sng">
                <a:solidFill>
                  <a:srgbClr val="ff0000"/>
                </a:solidFill>
                <a:uFillTx/>
                <a:latin typeface="Garamond"/>
              </a:rPr>
              <a:t>Competitividad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2" name="Text Box 4"/>
          <p:cNvSpPr/>
          <p:nvPr/>
        </p:nvSpPr>
        <p:spPr>
          <a:xfrm>
            <a:off x="543564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3" name="Imagen 1" descr=""/>
          <p:cNvPicPr/>
          <p:nvPr/>
        </p:nvPicPr>
        <p:blipFill>
          <a:blip r:embed="rId1"/>
          <a:stretch/>
        </p:blipFill>
        <p:spPr>
          <a:xfrm>
            <a:off x="-38160" y="-2700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4" name="Imagen 2" descr=""/>
          <p:cNvPicPr/>
          <p:nvPr/>
        </p:nvPicPr>
        <p:blipFill>
          <a:blip r:embed="rId2"/>
          <a:stretch/>
        </p:blipFill>
        <p:spPr>
          <a:xfrm>
            <a:off x="7324560" y="15840"/>
            <a:ext cx="181944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fabetización univer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básica (enseña normas básicas) obligatoria y gratu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ducación secundaria (prepara para la Universida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mación Profes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iversidad y F. P. superi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7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48" name="Imagen 4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722160" y="522900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98400" y="92376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aramond"/>
              </a:rPr>
              <a:t>Formación a lo largo de toda la vid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Mantenimiento conocimientos profesion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mpleabilida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Adaptación nuevas tecnologí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1" name="Imagen 3" descr=""/>
          <p:cNvPicPr/>
          <p:nvPr/>
        </p:nvPicPr>
        <p:blipFill>
          <a:blip r:embed="rId1"/>
          <a:stretch/>
        </p:blipFill>
        <p:spPr>
          <a:xfrm>
            <a:off x="0" y="-9360"/>
            <a:ext cx="1243080" cy="558720"/>
          </a:xfrm>
          <a:prstGeom prst="rect">
            <a:avLst/>
          </a:prstGeom>
          <a:ln w="0">
            <a:noFill/>
          </a:ln>
        </p:spPr>
      </p:pic>
      <p:pic>
        <p:nvPicPr>
          <p:cNvPr id="1552" name="Imagen 4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Formación y Educación equilibrad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Universitarios superior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Universitarios medios y F. P. superio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F. P. primer gr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762200" cy="792000"/>
          </a:xfrm>
          <a:prstGeom prst="rect">
            <a:avLst/>
          </a:prstGeom>
          <a:ln w="0">
            <a:noFill/>
          </a:ln>
        </p:spPr>
      </p:pic>
      <p:pic>
        <p:nvPicPr>
          <p:cNvPr id="1556" name="Imagen 4" descr=""/>
          <p:cNvPicPr/>
          <p:nvPr/>
        </p:nvPicPr>
        <p:blipFill>
          <a:blip r:embed="rId2"/>
          <a:stretch/>
        </p:blipFill>
        <p:spPr>
          <a:xfrm>
            <a:off x="7324560" y="-3492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ori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Adaptada en cada momento a las necesidades de las empresas y de la socie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9" name="Imagen 3" descr=""/>
          <p:cNvPicPr/>
          <p:nvPr/>
        </p:nvPicPr>
        <p:blipFill>
          <a:blip r:embed="rId1"/>
          <a:stretch/>
        </p:blipFill>
        <p:spPr>
          <a:xfrm>
            <a:off x="-6480" y="-20520"/>
            <a:ext cx="1762200" cy="793800"/>
          </a:xfrm>
          <a:prstGeom prst="rect">
            <a:avLst/>
          </a:prstGeom>
          <a:ln w="0">
            <a:noFill/>
          </a:ln>
        </p:spPr>
      </p:pic>
      <p:pic>
        <p:nvPicPr>
          <p:cNvPr id="1560" name="Imagen 4" descr=""/>
          <p:cNvPicPr/>
          <p:nvPr/>
        </p:nvPicPr>
        <p:blipFill>
          <a:blip r:embed="rId2"/>
          <a:stretch/>
        </p:blipFill>
        <p:spPr>
          <a:xfrm>
            <a:off x="7324560" y="2376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étod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studios continuos de necesida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Complementados por la opinión de los interlocutores sociales y de la sociedad civi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3" name="Imagen 3" descr=""/>
          <p:cNvPicPr/>
          <p:nvPr/>
        </p:nvPicPr>
        <p:blipFill>
          <a:blip r:embed="rId1"/>
          <a:stretch/>
        </p:blipFill>
        <p:spPr>
          <a:xfrm>
            <a:off x="17640" y="0"/>
            <a:ext cx="1761840" cy="792000"/>
          </a:xfrm>
          <a:prstGeom prst="rect">
            <a:avLst/>
          </a:prstGeom>
          <a:ln w="0">
            <a:noFill/>
          </a:ln>
        </p:spPr>
      </p:pic>
      <p:pic>
        <p:nvPicPr>
          <p:cNvPr id="1564" name="Imagen 4" descr=""/>
          <p:cNvPicPr/>
          <p:nvPr/>
        </p:nvPicPr>
        <p:blipFill>
          <a:blip r:embed="rId2"/>
          <a:stretch/>
        </p:blipFill>
        <p:spPr>
          <a:xfrm>
            <a:off x="7307280" y="0"/>
            <a:ext cx="18190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La Educación y la Formación Profesional en Españ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6" name="Text Box 4"/>
          <p:cNvSpPr/>
          <p:nvPr/>
        </p:nvSpPr>
        <p:spPr>
          <a:xfrm>
            <a:off x="1835280" y="5157720"/>
            <a:ext cx="3241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EDUCACIÓN SECUNDARIA OBLIGATO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7" name="Rectangle 6"/>
          <p:cNvSpPr/>
          <p:nvPr/>
        </p:nvSpPr>
        <p:spPr>
          <a:xfrm>
            <a:off x="250920" y="3284640"/>
            <a:ext cx="208908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BACHILLERA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8" name="Rectangle 8"/>
          <p:cNvSpPr/>
          <p:nvPr/>
        </p:nvSpPr>
        <p:spPr>
          <a:xfrm>
            <a:off x="2987640" y="3429000"/>
            <a:ext cx="20876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ROFESIONAL DE GRADO MED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2843280" y="2060640"/>
            <a:ext cx="23050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ÓN PROFESIONAL DE GRADO SUPERI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0" name="Rectangle 12"/>
          <p:cNvSpPr/>
          <p:nvPr/>
        </p:nvSpPr>
        <p:spPr>
          <a:xfrm>
            <a:off x="250920" y="1844640"/>
            <a:ext cx="1944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UNIVERSIDA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1" name="Rectangle 14"/>
          <p:cNvSpPr/>
          <p:nvPr/>
        </p:nvSpPr>
        <p:spPr>
          <a:xfrm rot="5400000">
            <a:off x="3547800" y="3883320"/>
            <a:ext cx="5111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Garamond"/>
                <a:ea typeface="Arial"/>
              </a:rPr>
              <a:t>MERCADO  DE TRABAJ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2" name="Text Box 15"/>
          <p:cNvSpPr/>
          <p:nvPr/>
        </p:nvSpPr>
        <p:spPr>
          <a:xfrm>
            <a:off x="7020000" y="3141720"/>
            <a:ext cx="1584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FORMACION PARA EL EMPLE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3" name="Text Box 16"/>
          <p:cNvSpPr/>
          <p:nvPr/>
        </p:nvSpPr>
        <p:spPr>
          <a:xfrm>
            <a:off x="519120" y="5621400"/>
            <a:ext cx="20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4" name="Text Box 17"/>
          <p:cNvSpPr/>
          <p:nvPr/>
        </p:nvSpPr>
        <p:spPr>
          <a:xfrm>
            <a:off x="2679840" y="475776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5" name="Line 19"/>
          <p:cNvSpPr/>
          <p:nvPr/>
        </p:nvSpPr>
        <p:spPr>
          <a:xfrm flipV="1">
            <a:off x="3419640" y="580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6" name="Line 20"/>
          <p:cNvSpPr/>
          <p:nvPr/>
        </p:nvSpPr>
        <p:spPr>
          <a:xfrm flipV="1">
            <a:off x="1908000" y="4581360"/>
            <a:ext cx="0" cy="5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7" name="Line 21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8" name="Line 22"/>
          <p:cNvSpPr/>
          <p:nvPr/>
        </p:nvSpPr>
        <p:spPr>
          <a:xfrm>
            <a:off x="5003640" y="537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9" name="Line 23"/>
          <p:cNvSpPr/>
          <p:nvPr/>
        </p:nvSpPr>
        <p:spPr>
          <a:xfrm flipV="1">
            <a:off x="1187280" y="2852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0" name="Line 24"/>
          <p:cNvSpPr/>
          <p:nvPr/>
        </p:nvSpPr>
        <p:spPr>
          <a:xfrm flipV="1">
            <a:off x="3924360" y="299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1" name="Line 25"/>
          <p:cNvSpPr/>
          <p:nvPr/>
        </p:nvSpPr>
        <p:spPr>
          <a:xfrm>
            <a:off x="5219640" y="2565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2" name="Line 26"/>
          <p:cNvSpPr/>
          <p:nvPr/>
        </p:nvSpPr>
        <p:spPr>
          <a:xfrm>
            <a:off x="5148360" y="4076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3" name="Line 27"/>
          <p:cNvSpPr/>
          <p:nvPr/>
        </p:nvSpPr>
        <p:spPr>
          <a:xfrm flipH="1">
            <a:off x="6372360" y="36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4" name="Line 28"/>
          <p:cNvSpPr/>
          <p:nvPr/>
        </p:nvSpPr>
        <p:spPr>
          <a:xfrm>
            <a:off x="2411280" y="256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5" name="Line 29"/>
          <p:cNvSpPr/>
          <p:nvPr/>
        </p:nvSpPr>
        <p:spPr>
          <a:xfrm flipH="1">
            <a:off x="2339640" y="2276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6" name="Line 30"/>
          <p:cNvSpPr/>
          <p:nvPr/>
        </p:nvSpPr>
        <p:spPr>
          <a:xfrm>
            <a:off x="2268360" y="1916280"/>
            <a:ext cx="3422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7" name="Line 31"/>
          <p:cNvSpPr/>
          <p:nvPr/>
        </p:nvSpPr>
        <p:spPr>
          <a:xfrm>
            <a:off x="1692360" y="5157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0" y="55497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EDUCAC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BASIC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Garamond"/>
                <a:ea typeface="Arial"/>
              </a:rPr>
              <a:t>OBLIGATO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9" name="Line 35"/>
          <p:cNvSpPr/>
          <p:nvPr/>
        </p:nvSpPr>
        <p:spPr>
          <a:xfrm>
            <a:off x="2484360" y="328464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0" name="Line 36"/>
          <p:cNvSpPr/>
          <p:nvPr/>
        </p:nvSpPr>
        <p:spPr>
          <a:xfrm flipV="1">
            <a:off x="1908000" y="2707920"/>
            <a:ext cx="863640" cy="4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1" name="Rectangle 37"/>
          <p:cNvSpPr/>
          <p:nvPr/>
        </p:nvSpPr>
        <p:spPr>
          <a:xfrm>
            <a:off x="1835280" y="6093000"/>
            <a:ext cx="331128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  <a:ea typeface="Arial"/>
              </a:rPr>
              <a:t>EDUCACION PRIMAR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2" name="Imagen 1" descr=""/>
          <p:cNvPicPr/>
          <p:nvPr/>
        </p:nvPicPr>
        <p:blipFill>
          <a:blip r:embed="rId1"/>
          <a:stretch/>
        </p:blipFill>
        <p:spPr>
          <a:xfrm>
            <a:off x="7702560" y="0"/>
            <a:ext cx="1415880" cy="54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8:12:59Z</dcterms:created>
  <dc:creator>monicamp</dc:creator>
  <dc:description/>
  <dc:language>en-US</dc:language>
  <cp:lastModifiedBy>Javier</cp:lastModifiedBy>
  <dcterms:modified xsi:type="dcterms:W3CDTF">2013-07-07T14:13:03Z</dcterms:modified>
  <cp:revision>60</cp:revision>
  <dc:subject/>
  <dc:title>Diapositiva 1</dc:title>
</cp:coreProperties>
</file>