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72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076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4680" y="733320"/>
            <a:ext cx="49971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5468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6600" y="945468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2715-9E5F-436A-9D65-4FC8996A5D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C87-979C-4868-A3FF-17917CCF84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rco legal – mis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elhei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d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rticipação internacional – AIC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de latino-americ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FFE8-0409-40AC-8B81-BFE127D03D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Febrer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2003: Acción Política para el Cambio y l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Concertación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abril 2003: Acción para el Progreso y la Inclusión Social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junio de 2003: Bases para un Nuevo Contrato Social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septiembre de 2003: El Reto de la Transición y el Papel de la Sociedad: la recuperación del creci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diciembre de 2003: Caminos Haci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n Nuevo Contrato Social: El Documento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e Referenci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ar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l Debate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Marzo 2004: La política industrial como un programa de desarrol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525F-3490-475A-848D-D1F4B6DEC4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nstituido por el Instituto Brasileño de Geografía y Estadística (IBGE), Instituto de Investigación Económica Aplicada (IPEA), el Departamento de Estadística y Estudios Socioeconómicos (DIEESE) y la Secretaría del Consejo de Desarrollo Económico y Social (SED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ara contribuir con sus ideas en el Observatorio también está atrayendo a una red de observación, formado por la adhesión y se compone de expertos y organizaciones no gubernamentales y las organizaciones no gubernamentales. El objetivo de interactuar con una red de organizaciones es ampliar el debate y obtener insumos para la preparación de análisis y recomendaciones sobre políticas públicas y su aplicación, en términos de equ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 cada informe de observación, el resultado técnico del proceso de observación, desarrollado por el Comité Técnico y enriquecido por los aportes del debate y de observación, el CDES elabora un dictamen de observación, un resultado político, presentando puntos de vista y propuestas sobre la situación analizada y recomendaciones para políticas y acciones, que es debatido y aprobado en el Pleno del Conse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etivo de 10 pessoas na Logistica e 3 gerentes em cada diretor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A826-DD05-4C7E-A1D2-013C957A447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g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7F5-2DD8-4C73-BAE0-32C69563E3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9164-C958-4196-A23D-7DB483A423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Diversidad de actores sociales y gubernamentales invitados por el Presidente de la Republ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690-F1F3-40AA-9469-8D2021DA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487-D398-4972-93DD-5CCA83F5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AAD-F767-416F-BFD4-721B8988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146-9618-47F2-A738-9C24C695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465-0364-44A6-A8A8-4CF1213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240" y="727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C37-E28E-48BD-867C-E9189A1D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B40-73FE-4C27-87CF-FE74E78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D92-22D6-460E-916A-A6A49F78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38C-6FA2-4C4D-A8E5-50727E7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A45-8451-4D27-A120-C9C4E2D7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5E7-94A8-472C-A78B-89716997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D01-94EA-4D44-A642-523AA438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240" y="727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68"/>
          <p:cNvGraphicFramePr/>
          <p:nvPr/>
        </p:nvGraphicFramePr>
        <p:xfrm>
          <a:off x="-6480" y="6095880"/>
          <a:ext cx="91504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480" y="6095880"/>
                    <a:ext cx="9150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C:\Documents and Settings\RosaMN\Meus documentos\Marca Gov Federal.jpg"/>
          <p:cNvPicPr/>
          <p:nvPr/>
        </p:nvPicPr>
        <p:blipFill>
          <a:blip r:embed="rId4"/>
          <a:stretch/>
        </p:blipFill>
        <p:spPr>
          <a:xfrm>
            <a:off x="5562720" y="6095880"/>
            <a:ext cx="1600200" cy="534960"/>
          </a:xfrm>
          <a:prstGeom prst="rect">
            <a:avLst/>
          </a:prstGeom>
          <a:ln w="0">
            <a:noFill/>
          </a:ln>
        </p:spPr>
      </p:pic>
      <p:sp>
        <p:nvSpPr>
          <p:cNvPr id="5" name="Text Box 33"/>
          <p:cNvSpPr/>
          <p:nvPr/>
        </p:nvSpPr>
        <p:spPr>
          <a:xfrm>
            <a:off x="1752480" y="61722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elho d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conômico 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B33C-09DD-4389-B3CE-0A3E090DF59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des.gov.b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26"/>
          <p:cNvSpPr/>
          <p:nvPr/>
        </p:nvSpPr>
        <p:spPr>
          <a:xfrm>
            <a:off x="685800" y="152388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Tahoma"/>
              </a:rPr>
              <a:t>Consejo de Desarrollo Económico y Social – C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66"/>
                </a:solidFill>
                <a:latin typeface="Tahoma"/>
              </a:rPr>
              <a:t>La experiencia brasile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77724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Proyecto de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27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artas de Concertación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3/2004):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bordaron perspectivas y puntos fundamentales al desarroll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genda Nacional de Desarrollo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5): presenta la visión de futuro, valores, objetivos y directivas para el desarrollo del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nunciados Estratégicos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6):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ne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as concretas sobre diversas dimensiones, ofertando una base a un movimiento de concertación estratégica para el desarroll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genda para el Nuevo Ciclo de Desarrollo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(2010): presenta nueve desafíos complementarios y interrelacionados para llevar a cabo u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yectoria de largo plazo para el desarrollo sostenible a partir de un nuevo nivel de crecimiento económic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8080" y="4724280"/>
            <a:ext cx="7848720" cy="1052280"/>
          </a:xfrm>
          <a:prstGeom prst="rect">
            <a:avLst/>
          </a:prstGeom>
          <a:solidFill>
            <a:srgbClr val="35cb72">
              <a:alpha val="50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l desarrollo es responsabilidad colectiva de los gobiernos y de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8026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valor del Diálogo Soci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l CDES disemina informaciones sobre la acción gubernamental para actores sociales relevantes, evaluando posiciones y captando sugerencias para perfeccionamien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buye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ar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la construcción de relaciones de confianza entre el Gobierno y la sociedad civ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buye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ara el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fortalecimiento de la relación de Brasil con América Latina, Europa, Asia, África y Organismos Internacional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os momentos de crisis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constituye un espacio de diálogo cualificado del Gobierno con la Sociedad, para informar, evaluar posiciones y lograr apoy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valor del Diálogo Soci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4391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 una experiencia de participación polític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 educación para el diálogo social, por permit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 circulación de diferentes discursos políticos en igualdad de condicio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 aprendizaje de la capacidad de la sociedad civil en pactar y en dialogar  con el Gobie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el fortalecimiento de la democraci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con una amplia participación de la sociedad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Proyecto de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62120" y="2286000"/>
            <a:ext cx="754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l mayor desafío</a:t>
            </a:r>
            <a:br>
              <a:rPr sz="2000"/>
            </a:b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Superar la extrema desigualdad social y reg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62120" y="3124080"/>
            <a:ext cx="739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a orientación estratégica principal</a:t>
            </a:r>
            <a:br>
              <a:rPr sz="2000"/>
            </a:b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onstruir una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 sociedad más igualitaria y equit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57200" y="838080"/>
            <a:ext cx="815328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Lo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Democracia, Libertad, Equidad, Identidad Nacional, Sustentabilidad, Respeto a la Diversidad, Soberan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8600" y="4343400"/>
            <a:ext cx="86868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54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Criterio para proponer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 y 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evaluar las políticas y las medidas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quidad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Observatorio de la Equid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28600" y="762120"/>
            <a:ext cx="2514600" cy="1522800"/>
          </a:xfrm>
          <a:prstGeom prst="rect">
            <a:avLst/>
          </a:prstGeom>
          <a:solidFill>
            <a:srgbClr val="ffff00">
              <a:alpha val="50000"/>
            </a:srgbClr>
          </a:solidFill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</a:rPr>
              <a:t>Pleno d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Establece los 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prueba y entrega recomendaciones a la Presidenci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0400" y="685800"/>
            <a:ext cx="5715000" cy="1537200"/>
          </a:xfrm>
          <a:prstGeom prst="rect">
            <a:avLst/>
          </a:prstGeom>
          <a:solidFill>
            <a:srgbClr val="99ccff">
              <a:alpha val="50000"/>
            </a:srgbClr>
          </a:solidFill>
          <a:ln w="64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</a:t>
            </a: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omité Directiv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Realiza la gestión del Observ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Exam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y recomienda a los consejeros posiciones políticas a partir del análisis técnico de los resultados de la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3352680"/>
            <a:ext cx="3124080" cy="1797120"/>
          </a:xfrm>
          <a:prstGeom prst="rect">
            <a:avLst/>
          </a:prstGeom>
          <a:solidFill>
            <a:srgbClr val="ccffcc"/>
          </a:solidFill>
          <a:ln w="6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ahoma"/>
              </a:rPr>
              <a:t>Red de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xpertos y organizaciones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mplia el debate y aporta información para 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s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581280" y="2768760"/>
            <a:ext cx="5334120" cy="3614040"/>
          </a:xfrm>
          <a:prstGeom prst="rect">
            <a:avLst/>
          </a:prstGeom>
          <a:solidFill>
            <a:srgbClr val="ffa953">
              <a:alpha val="50000"/>
            </a:srgbClr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omité 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PEA, IBGE, DIEESE, S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valúa los dat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y orient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os procedimien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Junta/propon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otros insumos técnic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a el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  <a:ea typeface="Tahom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nform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nua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de observación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Arial"/>
              </a:rPr>
              <a:t>Secretaría Ejecutiva</a:t>
            </a:r>
            <a:r>
              <a:rPr b="1" i="1" lang="pt-BR" sz="1800" spc="-1" strike="noStrike">
                <a:solidFill>
                  <a:srgbClr val="000099"/>
                </a:solidFill>
                <a:latin typeface="Tahoma"/>
                <a:ea typeface="Arial"/>
              </a:rPr>
              <a:t> - S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Administra la Red de Observac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Organiza reuniones y otros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segura un soporte operativo y financier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1676520" y="25146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2819520" y="152388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2819520" y="1447920"/>
            <a:ext cx="304560" cy="75960"/>
          </a:xfrm>
          <a:prstGeom prst="leftRightArrow">
            <a:avLst>
              <a:gd name="adj1" fmla="val 50000"/>
              <a:gd name="adj2" fmla="val 798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2743200" y="137160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7467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6765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838080" y="1143000"/>
            <a:ext cx="7772400" cy="395280"/>
          </a:xfrm>
          <a:prstGeom prst="rect">
            <a:avLst/>
          </a:prstGeom>
          <a:solidFill>
            <a:srgbClr val="ff9349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Las dos máquinas que generan desigual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5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Observatorio de la Equidad</a:t>
            </a:r>
            <a:br>
              <a:rPr sz="2800"/>
            </a:br>
            <a:r>
              <a:rPr b="1" i="1" lang="es-ES" sz="2400" spc="-1" strike="noStrike">
                <a:solidFill>
                  <a:srgbClr val="000099"/>
                </a:solidFill>
                <a:latin typeface="Tahoma"/>
              </a:rPr>
              <a:t>Temas en el proceso de monitoreo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304920" y="1752480"/>
            <a:ext cx="8534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fica y controla los factores relacionados con las desigualdades en educación y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formu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propuestas para promover un mayor nivel  de educación y mejorar el rendimiento del sistema educ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04920" y="4038480"/>
            <a:ext cx="853416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Tributario Naciona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Identifica y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 acompaña indicadores de iniquidad en la recaudación tributaria y reparto de los recursos. La importancia del tema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injusticia fiscal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 puede ser medido por la amplia red movilizada para el de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59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Secretaría del Consejo de Desarrollo Económico y Social - SED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80"/>
                </a:solidFill>
                <a:latin typeface="Arial"/>
                <a:ea typeface="Times New Roman"/>
              </a:rPr>
              <a:t>Objetivo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SEDES se encarga de las funciones secretariales y de asesoría del Consejo de </a:t>
            </a:r>
            <a:r>
              <a:rPr b="0" lang="es-ES" sz="1900" spc="-1" strike="noStrike">
                <a:solidFill>
                  <a:srgbClr val="0d0d0d"/>
                </a:solidFill>
                <a:latin typeface="Arial"/>
              </a:rPr>
              <a:t>Desarrollo Económico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y Social - CDES, así como de coordinar y supervisar la ejecución de las directivas y decisiones del Consej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80"/>
                </a:solidFill>
                <a:latin typeface="Arial"/>
                <a:ea typeface="Times New Roman"/>
              </a:rPr>
              <a:t>Metodologí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 SEDES ha desarrollado experticia para apoyar el proceso de concertación llevado a cabo por el CDES, buscand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una amplia idea sobre desarrollo que aborde las dimensiones necesarias: económica, social, ambiental, cultural y polític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diálogo social y político al centro de las decisiones estratégicas sobre desarrollo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cuperando la noción de interés públ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la agenda de acción a medio y largo plazo, que se realizará por el gobierno y la socied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32"/>
          <p:cNvSpPr/>
          <p:nvPr/>
        </p:nvSpPr>
        <p:spPr>
          <a:xfrm>
            <a:off x="6154560" y="411948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6"/>
          <p:cNvSpPr/>
          <p:nvPr/>
        </p:nvSpPr>
        <p:spPr>
          <a:xfrm>
            <a:off x="8172360" y="271476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3040" y="70920"/>
            <a:ext cx="5302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Organigrama de la SED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4543560" y="1527120"/>
            <a:ext cx="2844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5162400" y="184320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cretario Ad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2174760" y="2724120"/>
            <a:ext cx="60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194440" y="3276720"/>
            <a:ext cx="191916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Polític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5486400" y="474336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1278000" y="3276720"/>
            <a:ext cx="169236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de Comunicación y Ges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241800" y="3276720"/>
            <a:ext cx="172872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de Tecnología de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2184480" y="271476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4199040" y="27241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3490920" y="4757760"/>
            <a:ext cx="136692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1573200" y="474336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8"/>
          <p:cNvSpPr/>
          <p:nvPr/>
        </p:nvSpPr>
        <p:spPr>
          <a:xfrm>
            <a:off x="4165560" y="411804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0"/>
          <p:cNvSpPr/>
          <p:nvPr/>
        </p:nvSpPr>
        <p:spPr>
          <a:xfrm>
            <a:off x="2257560" y="410364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8"/>
          <p:cNvSpPr/>
          <p:nvPr/>
        </p:nvSpPr>
        <p:spPr>
          <a:xfrm>
            <a:off x="730080" y="2155680"/>
            <a:ext cx="0" cy="2340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1"/>
          <p:cNvSpPr/>
          <p:nvPr/>
        </p:nvSpPr>
        <p:spPr>
          <a:xfrm flipH="1">
            <a:off x="726840" y="2143080"/>
            <a:ext cx="381636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3"/>
          <p:cNvSpPr/>
          <p:nvPr/>
        </p:nvSpPr>
        <p:spPr>
          <a:xfrm>
            <a:off x="6194520" y="27241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55440" y="4527720"/>
            <a:ext cx="1373400" cy="8240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ogística y Control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524720" y="471492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4"/>
          <p:cNvSpPr/>
          <p:nvPr/>
        </p:nvSpPr>
        <p:spPr>
          <a:xfrm>
            <a:off x="7327800" y="3262320"/>
            <a:ext cx="1559160" cy="580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8156520" y="3846600"/>
            <a:ext cx="0" cy="86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ector reto 29"/>
          <p:cNvSpPr/>
          <p:nvPr/>
        </p:nvSpPr>
        <p:spPr>
          <a:xfrm>
            <a:off x="4571280" y="2143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271680" y="1127520"/>
            <a:ext cx="2571840" cy="398880"/>
          </a:xfrm>
          <a:prstGeom prst="rect">
            <a:avLst/>
          </a:prstGeom>
          <a:solidFill>
            <a:srgbClr val="f1fc8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Asesoría Internacion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0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ón de las relaciones del CDES con organismos internacion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rencia de los acuerdos de cooperación bilateral entre el CDES e instituciones internacionales simila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soría y apoyo a las actividades internacionales del CDES y de sus Consejeros, en temas relacionados al Consej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uación como apoyo a la participación del CDES en la Asociación Internacional de Consejos Económicos y Sociales e Instituciones Similares – AICES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nitoreo de las Mesas – redondas, acuerdos de cooper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tematización de los debates y proposiciones, organización de los relatos y documentos internacion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ón de la Red de los CESs de AL y Cari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43000" y="1752480"/>
            <a:ext cx="7086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Nuestros documentos están disponibles en la página web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www.cdes.gov.br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240" y="73080"/>
            <a:ext cx="87897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l CDES y el diálogo para el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518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te Consejo tiene la oportunidad de decir el tipo de Brasil que deseamos y el tipo de cosas que podemos hacer en el país."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Presidente Lula,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13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02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2003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74"/>
          <p:cNvGraphicFramePr/>
          <p:nvPr/>
        </p:nvGraphicFramePr>
        <p:xfrm>
          <a:off x="5769000" y="620640"/>
          <a:ext cx="3276720" cy="26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9000" y="620640"/>
                    <a:ext cx="3276720" cy="26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Retângulo 1"/>
          <p:cNvSpPr/>
          <p:nvPr/>
        </p:nvSpPr>
        <p:spPr>
          <a:xfrm>
            <a:off x="179280" y="339408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conocimiento de la dimensión política del desarrollo calificó el dialogo social como la expresión de la síntesis posible de los valores y proyectos que prevalecen en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2"/>
          <p:cNvSpPr/>
          <p:nvPr/>
        </p:nvSpPr>
        <p:spPr>
          <a:xfrm>
            <a:off x="324000" y="4941720"/>
            <a:ext cx="8640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ey nº 10.683 de 28 de mayo de 2003 crea 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Decreto 4.744, de 16 de junio de 2003 reglamenta la composición y el funcionamiento d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239760" y="3292560"/>
            <a:ext cx="872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Quiero decirles que este foro es muy importante como foro para la crítica, sugerencia y propuesta para nosotros y para Brasil. Tenemos esta misión común, y (...) Estoy segura de que ustedes nos ayudarán a dar un paso más en la construcción del Brasil que que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5207040" y="744480"/>
            <a:ext cx="38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1"/>
          <p:cNvSpPr/>
          <p:nvPr/>
        </p:nvSpPr>
        <p:spPr>
          <a:xfrm>
            <a:off x="239760" y="615960"/>
            <a:ext cx="47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Creo que los análisis realizados por este Consejo a lo largo de estos 10 años y las recomendaciones tuvieron un papel importante en todo lo que hemos construido hasta el momento (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2"/>
          <p:cNvSpPr/>
          <p:nvPr/>
        </p:nvSpPr>
        <p:spPr>
          <a:xfrm>
            <a:off x="4270320" y="5157720"/>
            <a:ext cx="457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residente Dilma Rouss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40ª Reunión Ordinaria del CDES, feb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240" y="73080"/>
            <a:ext cx="87897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l CDES y el diálogo para el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91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9"/>
                </a:solidFill>
                <a:latin typeface="Tahoma"/>
              </a:rPr>
              <a:t>CDES como un instrumento para el Estado Democrático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4520" y="817560"/>
            <a:ext cx="3456000" cy="100872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soramien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direc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 Presidencia de la Re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052880" y="879480"/>
            <a:ext cx="4724280" cy="1022760"/>
          </a:xfrm>
          <a:prstGeom prst="rect">
            <a:avLst/>
          </a:prstGeom>
          <a:solidFill>
            <a:srgbClr val="99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Discutir y 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ner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políticas para el desarrollo sustentabl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3"/>
          <p:cNvSpPr/>
          <p:nvPr/>
        </p:nvSpPr>
        <p:spPr>
          <a:xfrm>
            <a:off x="324000" y="2509920"/>
            <a:ext cx="834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tângulo 10"/>
          <p:cNvGrpSpPr/>
          <p:nvPr/>
        </p:nvGrpSpPr>
        <p:grpSpPr>
          <a:xfrm>
            <a:off x="1200240" y="2189160"/>
            <a:ext cx="7615080" cy="4022640"/>
            <a:chOff x="1200240" y="2189160"/>
            <a:chExt cx="7615080" cy="4022640"/>
          </a:xfrm>
        </p:grpSpPr>
        <p:pic>
          <p:nvPicPr>
            <p:cNvPr id="107" name="Retângulo 10" descr=""/>
            <p:cNvPicPr/>
            <p:nvPr/>
          </p:nvPicPr>
          <p:blipFill>
            <a:blip r:embed="rId1"/>
            <a:stretch/>
          </p:blipFill>
          <p:spPr>
            <a:xfrm>
              <a:off x="1200240" y="2189160"/>
              <a:ext cx="7615080" cy="40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217520" y="2205000"/>
              <a:ext cx="7580520" cy="39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esidente </a:t>
              </a:r>
              <a:r>
                <a:rPr b="0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s el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esidente de la Republ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cretario Ejecutivo </a:t>
              </a:r>
              <a:r>
                <a:rPr b="0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s un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inistro de 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cretaria do CDES - SED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nsejer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0 ciudadanos brasileños de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conocido liderazgo y representativ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8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inistros de Estado de los ámbitos económicos, sociales, ambientales y del asesoramiento directo a la Presidencia de la Re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l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 composición ministerial ha variado com el 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iemp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CaixaDeTexto 1" descr=""/>
          <p:cNvPicPr/>
          <p:nvPr/>
        </p:nvPicPr>
        <p:blipFill>
          <a:blip r:embed="rId2"/>
          <a:stretch/>
        </p:blipFill>
        <p:spPr>
          <a:xfrm>
            <a:off x="500040" y="2273400"/>
            <a:ext cx="779400" cy="38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71640" y="1125360"/>
          <a:ext cx="6985080" cy="1930680"/>
        </p:xfrm>
        <a:graphic>
          <a:graphicData uri="http://schemas.openxmlformats.org/drawingml/2006/table">
            <a:tbl>
              <a:tblPr/>
              <a:tblGrid>
                <a:gridCol w="6297480"/>
                <a:gridCol w="687600"/>
              </a:tblGrid>
              <a:tr h="31176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>
                        <a:alpha val="1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resa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b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Gs, movimientos sociales, academia, persona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berna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2"/>
          <p:cNvSpPr/>
          <p:nvPr/>
        </p:nvSpPr>
        <p:spPr>
          <a:xfrm>
            <a:off x="30240" y="73080"/>
            <a:ext cx="82868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La lógica del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6"/>
          <p:cNvSpPr/>
          <p:nvPr/>
        </p:nvSpPr>
        <p:spPr>
          <a:xfrm>
            <a:off x="468360" y="4005360"/>
            <a:ext cx="8351640" cy="176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Los consejeros son invitados y nombrados oficialmente por el Presidente para un mandato de dos años, con posibilidad de nuevo nombr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La participación de los consejeros se considera honorífica y no es remune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3"/>
          <p:cNvSpPr/>
          <p:nvPr/>
        </p:nvSpPr>
        <p:spPr>
          <a:xfrm>
            <a:off x="468360" y="3541680"/>
            <a:ext cx="8351640" cy="459720"/>
          </a:xfrm>
          <a:prstGeom prst="rect">
            <a:avLst/>
          </a:prstGeom>
          <a:solidFill>
            <a:srgbClr val="000099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orma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91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9"/>
                </a:solidFill>
                <a:latin typeface="Tahoma"/>
              </a:rPr>
              <a:t>CDES como instrumento para el Estado Democrático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tângulo 2"/>
          <p:cNvSpPr/>
          <p:nvPr/>
        </p:nvSpPr>
        <p:spPr>
          <a:xfrm>
            <a:off x="336600" y="692280"/>
            <a:ext cx="842472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sición heterogé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participación de los empresarios, trabajadores, movimientos sociales, academia y otros actores sociales relev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resentatividad de los consej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on sujetos políticos de comprobada capacidad para movilizar a las grandes redes sociales para la discusión de las directrices prioritarias para el paí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foque en temas de desarroll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s permite analizar los aspectos coyunturales y estratég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El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diálogo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en la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búsqueda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de las síntesis posibles de los valores y proyectos predominantes en la socie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</a:t>
            </a:r>
            <a:r>
              <a:rPr b="1" lang="es-ES" sz="2800" spc="-1" strike="noStrike">
                <a:solidFill>
                  <a:srgbClr val="008000"/>
                </a:solidFill>
                <a:latin typeface="Tahoma"/>
              </a:rPr>
              <a:t>Seminario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1"/>
          <a:stretch/>
        </p:blipFill>
        <p:spPr>
          <a:xfrm>
            <a:off x="4843440" y="836640"/>
            <a:ext cx="4032360" cy="26798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5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390600" y="3068640"/>
            <a:ext cx="4284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127"/>
          <p:cNvGraphicFramePr/>
          <p:nvPr/>
        </p:nvGraphicFramePr>
        <p:xfrm>
          <a:off x="1143000" y="914400"/>
          <a:ext cx="609588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095880" cy="209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2" name="Object 128"/>
          <p:cNvGraphicFramePr/>
          <p:nvPr/>
        </p:nvGraphicFramePr>
        <p:xfrm>
          <a:off x="3581280" y="2590920"/>
          <a:ext cx="4572000" cy="33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590920"/>
                    <a:ext cx="4572000" cy="3371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</a:t>
            </a:r>
            <a:r>
              <a:rPr b="1" lang="es-ES" sz="2800" spc="-1" strike="noStrike">
                <a:solidFill>
                  <a:srgbClr val="008000"/>
                </a:solidFill>
                <a:latin typeface="Tahoma"/>
              </a:rPr>
              <a:t>Grupos de trabaj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2"/>
          <p:cNvSpPr/>
          <p:nvPr/>
        </p:nvSpPr>
        <p:spPr>
          <a:xfrm>
            <a:off x="395280" y="40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- El producto del di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3"/>
          <p:cNvSpPr/>
          <p:nvPr/>
        </p:nvSpPr>
        <p:spPr>
          <a:xfrm>
            <a:off x="533520" y="141300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ocumentos estratégico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que abordan el proyecto de desarro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cuerdos, Propuestas, Peticio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: pareceres  de los Grupos de Trabajo, aprobado por el Plenario del CDES y entregados a la Presidencia de la Repúbl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c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: documento descriptivo de la sesión plena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ocumentos de bas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Recuerdos, Síntesis, Info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n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Plataforma virtual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para la difusión de contenidos y comunicación con los conceje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9:32:07Z</dcterms:created>
  <dc:creator>RosaMN</dc:creator>
  <dc:description/>
  <dc:language>en-US</dc:language>
  <cp:lastModifiedBy>Usuario sala</cp:lastModifiedBy>
  <dcterms:modified xsi:type="dcterms:W3CDTF">2013-11-18T19:03:34Z</dcterms:modified>
  <cp:revision>816</cp:revision>
  <dc:subject/>
  <dc:title>Apresentação do PowerPoint</dc:title>
</cp:coreProperties>
</file>