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E9AE-D8D5-42A0-9B5D-A39565AF3D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B0BD-54D4-4DAD-B385-7177E0C898F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55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6C581B-6296-4BA4-8A94-C35DE9AD756D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1C237E06-DAC9-4363-87A1-CF74347DB804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60C7-4302-4866-A7BF-E764AD743F5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18055-E883-4740-8C82-86E926E87A9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74AF-3065-488E-A3A2-F0A909A731D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7796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F1ED2-B16B-4CE5-991B-CFD8EDF7F75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" y="0"/>
            <a:ext cx="14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77760" y="144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554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EA099D-9EBB-401F-8ECD-D3AA1929C0F4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D3DBC79D-754E-43EB-8D39-6F142379C2F7}" type="slidenum">
              <a:rPr b="0" lang="it-IT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57040" y="1549440"/>
            <a:ext cx="861876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secondo il paradigma “misurazione degli effetti”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del lav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Roberto De Vince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IS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EEC729-B5F2-4716-88E2-8D63C9959D0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1628640"/>
            <a:ext cx="88200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nitoraggio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raccolta sistematica di informazioni standard su attuazione (finanziaria e fisica) di politiche / programmi /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n processo di “conoscenza” svolto in modo inte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ientato alla costruzione di un supporto informativo coerente, utile a dare risposte alla collettività (valutazione investimenti pubbli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olto ad esprimere un “giudizio” relativo ad un sistema di effetti-obiettivi attraverso metodi e strumenti tipici delle scienze sociali, codificati e rigor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Rendicont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alutazione com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(Apprend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20720" y="88884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Definizioni di carattere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539640" y="900000"/>
            <a:ext cx="82789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Due assu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siste un nesso di causalità tra effetto e trattamento (Inferenza caus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Effetto  = differenza tra due valori variabile risultato misurati con trattamento e senza tr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valutazione di efficacia richiede l’individuazione e la definizione di una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situazione controfattuale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la più verosimile possibile),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ovvero la verifica di cosa sarebbe successo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 assenza di intervento o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diante realizzazione di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interventi alternativ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(sugli individui più simili possibil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Calibri"/>
              </a:rPr>
              <a:t>Metodi quasi-speri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pportunità e limiti del 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quasi-experimental design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anche dati esist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zionamento-selezione e soglia esistente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gression discontinuity 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i integrabili e confrontabili su gruppo trattati e non trattati prima, durante e dopo intervento (per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pensity score match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  <a:ea typeface="Calibri"/>
              </a:rPr>
              <a:t>e metodi sperimental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'oggettiva superiorità dell'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experimental desig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è il metodo che meglio approssima la situazione controfattuale (assegnazione random e controllata a due gruppi di trattati e non tratta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116000" y="333360"/>
            <a:ext cx="472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 marL="1071720" algn="ctr">
              <a:lnSpc>
                <a:spcPct val="96000"/>
              </a:lnSpc>
              <a:tabLst>
                <a:tab algn="l" pos="0"/>
                <a:tab algn="l" pos="8892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a valutazione di efficacia delle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619280" y="179280"/>
            <a:ext cx="7920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L’esperimento sociale su vasta scala e la interdiscipli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25892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720720" y="900000"/>
            <a:ext cx="80215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renforcé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individualizzato, patto di servizio sottoscritto tra operatore e utente, durata max 6 +2 mesi difficoltà famil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Unédic OPP Operatori Privati di Placement 41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-  Anpe CVE “Cap Vers L’Entreprise” 4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✓</a:t>
            </a:r>
            <a:r>
              <a:rPr b="1" i="1" lang="it-IT" sz="1600" spc="-1" strike="noStrike">
                <a:solidFill>
                  <a:srgbClr val="000000"/>
                </a:solidFill>
                <a:latin typeface="Century Gothic"/>
              </a:rPr>
              <a:t>Accompagnement classique </a:t>
            </a:r>
            <a:r>
              <a:rPr b="0" i="1" lang="it-IT" sz="1600" spc="-1" strike="noStrike">
                <a:solidFill>
                  <a:srgbClr val="000000"/>
                </a:solidFill>
                <a:latin typeface="Century Gothic"/>
              </a:rPr>
              <a:t>(poco individualizzato, senza sottoscrizione patto di servizio durata max 8 mesi , ex Anpe 120.000 tra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Coinvolgim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trutture dedicate agli aspetti gestionali, informativi e metodologici (DARES – CREST – ECOLE d’ECONOMIE PARIS) –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interdisciplinarità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“orizzontale e vertica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L’adozione di un </a:t>
            </a:r>
            <a:r>
              <a:rPr b="1" lang="it-IT" sz="1600" spc="-1" strike="noStrike">
                <a:solidFill>
                  <a:srgbClr val="ff0000"/>
                </a:solidFill>
                <a:latin typeface="Century Gothic"/>
              </a:rPr>
              <a:t>protocollo sperimentale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applicato a monte della realizzazione</a:t>
            </a:r>
            <a:r>
              <a:rPr b="0" lang="it-IT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ha consentito il </a:t>
            </a: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raffronto degli effetti prodotti dai diversi tipi di intervento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 sul reinserimento occupazionale dei disoccupati coinvol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 Gothic"/>
              </a:rPr>
              <a:t>Maggiore consapevolezza nelle decisioni seguent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8040" y="5219640"/>
            <a:ext cx="8532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ccord national interprofessionnel du 31 mai 2011 relatif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ntion du 19 juillet 2011 relative au Contrat de sécurisation 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oi n° 2011-893 du 28 juillet 2011 pour le développement de l'alternance et la sécurisation des parcours professio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50920" y="0"/>
            <a:ext cx="8618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Verso la costruzione del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«protocollo sperimentale» per la misurazione degli effetti delle politiche passive-attive de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analisi valutativa realizzata in Francia (esperimento sociale controllato su circa 200 mila persone) dimostra come la valutazione (adeguatamente progettata e supportata) rappresenti lo strumento migliore per l'adozione di programmi, politiche o misure d'intervento più rispondenti ai reali bisogni della collettività (efficacia dell'investimento pubblic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'esperimento sociale controllato può (deve) adottare un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gruppo di controllo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scientifico diverso dal cosiddetto “gruppo non trattato” dall'interven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u cui si concentra l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 misurazione degli effetti prodotti da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terventi alternativi rivolti alla stessa categoria di destinatari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(differenziali di efficacia)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nsente di superare i tradizionali problemi etici giuridici connessi all'assegnazione di  individui bisognosi del trattamento (ad esempio, disoccupati) ad un gruppo al quale non è consentito partecip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in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enza un buon sistema di raccolta sistematica, periodica e standardizzata delle informazioni su destinatari e interventi, non può esserci buona valu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rogettazione operativa a monte dell'avvio del programma/ poli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tà – coinvolgimento orizzontale e verticale degli attori coinvo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 Vincenzi Roberto</dc:creator>
  <dc:description/>
  <dc:language>en-US</dc:language>
  <cp:lastModifiedBy>r.devincenzi</cp:lastModifiedBy>
  <dcterms:modified xsi:type="dcterms:W3CDTF">2013-05-20T07:19:34Z</dcterms:modified>
  <cp:revision>1</cp:revision>
  <dc:subject/>
  <dc:title>Diapositiva 1</dc:title>
</cp:coreProperties>
</file>