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8179C-1090-4037-80D1-1DE0B46DC78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1C58A-FE43-439F-A118-1C897667AF1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0" y="0"/>
            <a:ext cx="14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5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84CB55-44E4-4683-A838-DA09E4E2AEA6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fld id="{932E65C8-9ACC-4016-A323-BBFA7CEC9721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089AB-1115-4B3A-8B59-B3F2E32AD5F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3BD18-A57E-45B6-A2E0-7A276E0167D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0720" y="77796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577E7-DF33-4DB3-8D94-EB7706AB18E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0720" y="77796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AE57A-CA18-4B26-A7FB-8BD8088EC27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7760" y="0"/>
            <a:ext cx="14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77760" y="144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554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5B5929-C00A-40D2-AF3B-9630F6DF4E7E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fld id="{1B0A58AE-64CB-40CE-89B2-1CB1E0021245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257040" y="1549440"/>
            <a:ext cx="861876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La valutazione di efficacia secondo il paradigma “misurazione degli effetti”delle poli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del lavo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Verso la costruzione del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«protocollo sperimentale» per la misurazione degli effetti delle politiche passive-attive del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Roberto De Vincen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ISF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303A73-63D4-488A-8761-A640CE6623F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1628640"/>
            <a:ext cx="88200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Monitoraggio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raccolta sistematica di informazioni standard su attuazione (finanziaria e fisica) di politiche / programmi / prog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alut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Un processo di “conoscenza” svolto in modo inten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orientato alla costruzione di un supporto informativo coerente, utile a dare risposte alla collettività (valutazione investimenti pubbli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olto ad esprimere un “giudizio” relativo ad un sistema di effetti-obiettivi attraverso metodi e strumenti tipici delle scienze sociali, codificati e rigoro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alutazione com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ccountability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(Rendicontaz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alutazione com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earnin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(Apprendi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20720" y="888840"/>
            <a:ext cx="4729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Definizioni di carattere gen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539640" y="900000"/>
            <a:ext cx="827892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920" bIns="45000" anchor="ctr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Due assun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Esiste un nesso di causalità tra effetto e trattamento (Inferenza caus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Effetto  = differenza tra due valori variabile risultato misurati con trattamento e senza tratt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La valutazione di efficacia richiede l’individuazione e la definizione di una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situazione controfattuale (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la più verosimile possibile),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ovvero la verifica di cosa sarebbe successo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in assenza di intervento o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mediante realizzazione di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interventi alternativi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(sugli individui più simili possibil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Metodi quasi-speriment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Opportunità e limiti del </a:t>
            </a:r>
            <a:r>
              <a:rPr b="0" i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quasi-experimental design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anche dati esist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zionamento-selezione e soglia esistente (per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regression discontinuity desig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i integrabili e confrontabili su gruppo trattati e non trattati prima, durante e dopo intervento (per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ropensity score matching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  <a:ea typeface="Calibri"/>
              </a:rPr>
              <a:t>e metodi sperimentali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L'oggettiva superiorità dell'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experimental desig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è il metodo che meglio approssima la situazione controfattuale (assegnazione random e controllata a due gruppi di trattati e non tratta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116000" y="333360"/>
            <a:ext cx="4729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 marL="1071720" algn="ctr">
              <a:lnSpc>
                <a:spcPct val="96000"/>
              </a:lnSpc>
              <a:tabLst>
                <a:tab algn="l" pos="0"/>
                <a:tab algn="l" pos="8892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La valutazione di efficacia delle poli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1619280" y="179280"/>
            <a:ext cx="7920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L’esperimento sociale su vasta scala e la interdiscipliar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1258920" cy="7192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720720" y="900000"/>
            <a:ext cx="802152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✓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Accompagnement renforcé </a:t>
            </a:r>
            <a:r>
              <a:rPr b="0" i="1" lang="it-IT" sz="1600" spc="-1" strike="noStrike">
                <a:solidFill>
                  <a:srgbClr val="000000"/>
                </a:solidFill>
                <a:latin typeface="Century Gothic"/>
              </a:rPr>
              <a:t>(individualizzato, patto di servizio sottoscritto tra operatore e utente, durata max 6 +2 mesi difficoltà famil.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Century Gothic"/>
              </a:rPr>
              <a:t>-  Unédic OPP Operatori Privati di Placement 41.000 trat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Century Gothic"/>
              </a:rPr>
              <a:t>-  Anpe CVE “Cap Vers L’Entreprise” 40.000 trat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✓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Accompagnement classique </a:t>
            </a:r>
            <a:r>
              <a:rPr b="0" i="1" lang="it-IT" sz="1600" spc="-1" strike="noStrike">
                <a:solidFill>
                  <a:srgbClr val="000000"/>
                </a:solidFill>
                <a:latin typeface="Century Gothic"/>
              </a:rPr>
              <a:t>(poco individualizzato, senza sottoscrizione patto di servizio durata max 8 mesi , ex Anpe 120.000 trat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Coinvolgimento</a:t>
            </a: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 strutture dedicate agli aspetti gestionali, informativi e metodologici (DARES – CREST – ECOLE d’ECONOMIE PARIS) – 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interdisciplinarità </a:t>
            </a: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“orizzontale e vertica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L’adozione di un </a:t>
            </a:r>
            <a:r>
              <a:rPr b="1" lang="it-IT" sz="1600" spc="-1" strike="noStrike">
                <a:solidFill>
                  <a:srgbClr val="ff0000"/>
                </a:solidFill>
                <a:latin typeface="Century Gothic"/>
              </a:rPr>
              <a:t>protocollo sperimentale </a:t>
            </a: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applicato a monte della realizzazione</a:t>
            </a:r>
            <a:r>
              <a:rPr b="0" lang="it-IT" sz="16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ha consentito il 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raffronto degli effetti prodotti dai diversi tipi di intervento</a:t>
            </a: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 sul reinserimento occupazionale dei disoccupati coinvol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Maggiore consapevolezza nelle decisioni seguenti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08040" y="5219640"/>
            <a:ext cx="85327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Accord national interprofessionnel du 31 mai 2011 relatif au contrat de sécurisation professionn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Convention du 19 juillet 2011 relative au Contrat de sécurisation professionn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Loi n° 2011-893 du 28 juillet 2011 pour le développement de l'alternance et la sécurisation des parcours profession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250920" y="0"/>
            <a:ext cx="86184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Verso la costruzione del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«protocollo sperimentale» per la misurazione degli effetti delle politiche passive-attive del 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L'analisi valutativa realizzata in Francia (esperimento sociale controllato su circa 200 mila persone) dimostra come la valutazione (adeguatamente progettata e supportata) rappresenti lo strumento migliore per l'adozione di programmi, politiche o misure d'intervento più rispondenti ai reali bisogni della collettività (efficacia dell'investimento pubblico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l'esperimento sociale controllato può (deve) adottare un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gruppo di controllo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 scientifico diverso dal cosiddetto “gruppo non trattato” dall'intervent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su cui si concentra la valutazio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la misurazione degli effetti prodotti da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interventi alternativi rivolti alla stessa categoria di destinatari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(differenziali di efficacia)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consente di superare i tradizionali problemi etici giuridici connessi all'assegnazione di  individui bisognosi del trattamento (ad esempio, disoccupati) ad un gruppo al quale non è consentito partecipar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4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in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senza un buon sistema di raccolta sistematica, periodica e standardizzata delle informazioni su destinatari e interventi, non può esserci buona valutazio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progettazione operativa a monte dell'avvio del programma/ polit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Interdisciplinarità – coinvolgimento orizzontale e verticale degli attori coinvol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 Vincenzi Roberto</dc:creator>
  <dc:description/>
  <dc:language>en-US</dc:language>
  <cp:lastModifiedBy>r.devincenzi</cp:lastModifiedBy>
  <dcterms:modified xsi:type="dcterms:W3CDTF">2013-05-20T07:19:34Z</dcterms:modified>
  <cp:revision>1</cp:revision>
  <dc:subject/>
  <dc:title>Diapositiva 1</dc:title>
</cp:coreProperties>
</file>