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FEE7-56F3-4552-A771-195E1FC393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8B0-D92D-4E05-923B-9113EFE490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08D2-7305-4ADF-BA2F-36521263B9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00DD-62CC-4E7E-857F-DBD9D6A92D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D060-BB50-4CD5-B10E-54D882F933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90A-D1C7-4515-8A82-552BBCD684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5981-8039-4942-93F9-30B376A4B8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079-1B51-4EF9-BF4F-FA0DBB1C36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700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050360"/>
            <a:ext cx="264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2560" y="142920"/>
            <a:ext cx="7186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05036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7000"/>
            <a:ext cx="40158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50360"/>
            <a:ext cx="8229600" cy="26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186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untitled"/>
          <p:cNvPicPr/>
          <p:nvPr/>
        </p:nvPicPr>
        <p:blipFill>
          <a:blip r:embed="rId3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20864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7960" indent="-507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14493"/>
                </a:solidFill>
                <a:latin typeface="Arial"/>
              </a:rPr>
              <a:t>Taller Plan -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31204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333399"/>
                </a:solidFill>
                <a:latin typeface="Arial"/>
              </a:rPr>
              <a:t>República del Ecuador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3962520" y="1066680"/>
          <a:ext cx="11541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066680"/>
                    <a:ext cx="1154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itleMasterSubHeading"/>
          <p:cNvSpPr/>
          <p:nvPr/>
        </p:nvSpPr>
        <p:spPr>
          <a:xfrm>
            <a:off x="2286000" y="2857680"/>
            <a:ext cx="43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7960" indent="-507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182a80"/>
                </a:solidFill>
                <a:latin typeface="Arial"/>
              </a:rPr>
              <a:t>MINISTERIO DE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059280" y="566100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08 de may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79280" y="549360"/>
            <a:ext cx="5832720" cy="6048360"/>
            <a:chOff x="179280" y="549360"/>
            <a:chExt cx="5832720" cy="6048360"/>
          </a:xfrm>
        </p:grpSpPr>
        <p:sp>
          <p:nvSpPr>
            <p:cNvPr id="126" name="Rectangle 3"/>
            <p:cNvSpPr/>
            <p:nvPr/>
          </p:nvSpPr>
          <p:spPr>
            <a:xfrm>
              <a:off x="179280" y="549360"/>
              <a:ext cx="5832720" cy="604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25092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LANIFIC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6012000" y="549360"/>
            <a:ext cx="2881080" cy="6048360"/>
            <a:chOff x="6012000" y="549360"/>
            <a:chExt cx="2881080" cy="6048360"/>
          </a:xfrm>
        </p:grpSpPr>
        <p:sp>
          <p:nvSpPr>
            <p:cNvPr id="129" name="Rectangle 6"/>
            <p:cNvSpPr/>
            <p:nvPr/>
          </p:nvSpPr>
          <p:spPr>
            <a:xfrm>
              <a:off x="6012000" y="549360"/>
              <a:ext cx="2881080" cy="6048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227640" y="6206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2887560" y="1125360"/>
            <a:ext cx="2881440" cy="5256360"/>
            <a:chOff x="2887560" y="1125360"/>
            <a:chExt cx="2881440" cy="5256360"/>
          </a:xfrm>
        </p:grpSpPr>
        <p:sp>
          <p:nvSpPr>
            <p:cNvPr id="132" name="Rectangle 9"/>
            <p:cNvSpPr/>
            <p:nvPr/>
          </p:nvSpPr>
          <p:spPr>
            <a:xfrm>
              <a:off x="2887560" y="1125360"/>
              <a:ext cx="2881440" cy="52563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987640" y="119700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Institu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3203640" y="1628640"/>
            <a:ext cx="2271600" cy="505080"/>
            <a:chOff x="3203640" y="1628640"/>
            <a:chExt cx="2271600" cy="505080"/>
          </a:xfrm>
        </p:grpSpPr>
        <p:sp>
          <p:nvSpPr>
            <p:cNvPr id="135" name="Rectangle 12"/>
            <p:cNvSpPr/>
            <p:nvPr/>
          </p:nvSpPr>
          <p:spPr>
            <a:xfrm>
              <a:off x="320364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br>
                <a:rPr sz="1800"/>
              </a:b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395748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4716360" y="1628640"/>
              <a:ext cx="7588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5"/>
          <p:cNvSpPr/>
          <p:nvPr/>
        </p:nvSpPr>
        <p:spPr>
          <a:xfrm>
            <a:off x="3303720" y="2492280"/>
            <a:ext cx="20588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Obj.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339840" y="1125360"/>
            <a:ext cx="2376360" cy="5256360"/>
            <a:chOff x="339840" y="1125360"/>
            <a:chExt cx="2376360" cy="5256360"/>
          </a:xfrm>
        </p:grpSpPr>
        <p:sp>
          <p:nvSpPr>
            <p:cNvPr id="140" name="Rectangle 17"/>
            <p:cNvSpPr/>
            <p:nvPr/>
          </p:nvSpPr>
          <p:spPr>
            <a:xfrm>
              <a:off x="339840" y="1125360"/>
              <a:ext cx="2376360" cy="525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8"/>
            <p:cNvSpPr/>
            <p:nvPr/>
          </p:nvSpPr>
          <p:spPr>
            <a:xfrm>
              <a:off x="395280" y="119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9"/>
          <p:cNvSpPr/>
          <p:nvPr/>
        </p:nvSpPr>
        <p:spPr>
          <a:xfrm>
            <a:off x="482760" y="2492280"/>
            <a:ext cx="205884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Obj.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2760" y="3606840"/>
            <a:ext cx="2058840" cy="50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Metas Plan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6288120" y="1125360"/>
            <a:ext cx="2460600" cy="5256360"/>
            <a:chOff x="6288120" y="1125360"/>
            <a:chExt cx="2460600" cy="5256360"/>
          </a:xfrm>
        </p:grpSpPr>
        <p:sp>
          <p:nvSpPr>
            <p:cNvPr id="145" name="Rectangle 22"/>
            <p:cNvSpPr/>
            <p:nvPr/>
          </p:nvSpPr>
          <p:spPr>
            <a:xfrm>
              <a:off x="6288120" y="1125360"/>
              <a:ext cx="2376360" cy="52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6372360" y="119700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Ámbito Presupu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4"/>
          <p:cNvSpPr/>
          <p:nvPr/>
        </p:nvSpPr>
        <p:spPr>
          <a:xfrm>
            <a:off x="6432480" y="327492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3298680" y="4776840"/>
            <a:ext cx="20592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6432480" y="5591160"/>
            <a:ext cx="205920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Ítem, geográfico, </a:t>
            </a:r>
            <a:br>
              <a:rPr sz="1400"/>
            </a:b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fuente y m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35600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435600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9"/>
          <p:cNvGrpSpPr/>
          <p:nvPr/>
        </p:nvGrpSpPr>
        <p:grpSpPr>
          <a:xfrm>
            <a:off x="5364000" y="3500280"/>
            <a:ext cx="1079640" cy="720720"/>
            <a:chOff x="5364000" y="3500280"/>
            <a:chExt cx="1079640" cy="720720"/>
          </a:xfrm>
        </p:grpSpPr>
        <p:sp>
          <p:nvSpPr>
            <p:cNvPr id="153" name="Line 30"/>
            <p:cNvSpPr/>
            <p:nvPr/>
          </p:nvSpPr>
          <p:spPr>
            <a:xfrm>
              <a:off x="5364000" y="37162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6012000" y="3500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2"/>
            <p:cNvSpPr/>
            <p:nvPr/>
          </p:nvSpPr>
          <p:spPr>
            <a:xfrm>
              <a:off x="6012000" y="35002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3"/>
            <p:cNvSpPr/>
            <p:nvPr/>
          </p:nvSpPr>
          <p:spPr>
            <a:xfrm>
              <a:off x="6012000" y="42210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Line 34"/>
          <p:cNvSpPr/>
          <p:nvPr/>
        </p:nvSpPr>
        <p:spPr>
          <a:xfrm flipH="1">
            <a:off x="255600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745164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 flipH="1">
            <a:off x="2556000" y="40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>
            <a:off x="7451640" y="378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"/>
          <p:cNvSpPr/>
          <p:nvPr/>
        </p:nvSpPr>
        <p:spPr>
          <a:xfrm>
            <a:off x="7451640" y="522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6432480" y="392256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6432480" y="4759200"/>
            <a:ext cx="2059200" cy="505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1"/>
          <p:cNvGrpSpPr/>
          <p:nvPr/>
        </p:nvGrpSpPr>
        <p:grpSpPr>
          <a:xfrm>
            <a:off x="3276720" y="3446640"/>
            <a:ext cx="2201760" cy="954000"/>
            <a:chOff x="3276720" y="3446640"/>
            <a:chExt cx="2201760" cy="954000"/>
          </a:xfrm>
        </p:grpSpPr>
        <p:sp>
          <p:nvSpPr>
            <p:cNvPr id="165" name="Rectangle 42"/>
            <p:cNvSpPr/>
            <p:nvPr/>
          </p:nvSpPr>
          <p:spPr>
            <a:xfrm>
              <a:off x="3419640" y="3895920"/>
              <a:ext cx="205884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3"/>
            <p:cNvSpPr/>
            <p:nvPr/>
          </p:nvSpPr>
          <p:spPr>
            <a:xfrm>
              <a:off x="3348000" y="3659400"/>
              <a:ext cx="205920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000000"/>
                  </a:solidFill>
                  <a:latin typeface="Arial"/>
                </a:rPr>
                <a:t>Me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3276720" y="3446640"/>
              <a:ext cx="20588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Obj. Oper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45"/>
          <p:cNvSpPr/>
          <p:nvPr/>
        </p:nvSpPr>
        <p:spPr>
          <a:xfrm>
            <a:off x="5364000" y="5013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6"/>
          <p:cNvGrpSpPr/>
          <p:nvPr/>
        </p:nvGrpSpPr>
        <p:grpSpPr>
          <a:xfrm>
            <a:off x="395280" y="2349360"/>
            <a:ext cx="8209080" cy="2159280"/>
            <a:chOff x="395280" y="2349360"/>
            <a:chExt cx="8209080" cy="2159280"/>
          </a:xfrm>
        </p:grpSpPr>
        <p:sp>
          <p:nvSpPr>
            <p:cNvPr id="170" name="Rectangle 47"/>
            <p:cNvSpPr/>
            <p:nvPr/>
          </p:nvSpPr>
          <p:spPr>
            <a:xfrm>
              <a:off x="395280" y="2349360"/>
              <a:ext cx="2664000" cy="79236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8"/>
            <p:cNvSpPr/>
            <p:nvPr/>
          </p:nvSpPr>
          <p:spPr>
            <a:xfrm>
              <a:off x="3059280" y="2349360"/>
              <a:ext cx="2592360" cy="215928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9"/>
            <p:cNvSpPr/>
            <p:nvPr/>
          </p:nvSpPr>
          <p:spPr>
            <a:xfrm>
              <a:off x="5651640" y="3141720"/>
              <a:ext cx="2952720" cy="1366920"/>
            </a:xfrm>
            <a:prstGeom prst="rect">
              <a:avLst/>
            </a:prstGeom>
            <a:solidFill>
              <a:srgbClr val="80808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86000" y="2852640"/>
            <a:ext cx="4713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8080"/>
                </a:solidFill>
                <a:latin typeface="Tahoma"/>
                <a:ea typeface="Tahoma"/>
              </a:rPr>
              <a:t>GRACIAS</a:t>
            </a:r>
            <a:r>
              <a:rPr b="1" lang="es-ES" sz="7200" spc="-1" strike="noStrike">
                <a:solidFill>
                  <a:srgbClr val="00808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895120"/>
            <a:ext cx="62485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El Ciclo Presupuestario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4000" y="141300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gra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63640" y="22766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03640" y="309888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716360" y="3860640"/>
            <a:ext cx="136692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596360" y="5589720"/>
            <a:ext cx="136656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valu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156360" y="4683240"/>
            <a:ext cx="1366920" cy="7617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Liqui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6920" y="2205000"/>
            <a:ext cx="936720" cy="741240"/>
            <a:chOff x="826920" y="2205000"/>
            <a:chExt cx="936720" cy="741240"/>
          </a:xfrm>
        </p:grpSpPr>
        <p:sp>
          <p:nvSpPr>
            <p:cNvPr id="60" name="Rectangle 9"/>
            <p:cNvSpPr/>
            <p:nvPr/>
          </p:nvSpPr>
          <p:spPr>
            <a:xfrm>
              <a:off x="826920" y="220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826920" y="256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268360" y="2997360"/>
            <a:ext cx="936720" cy="741240"/>
            <a:chOff x="2268360" y="2997360"/>
            <a:chExt cx="936720" cy="741240"/>
          </a:xfrm>
        </p:grpSpPr>
        <p:sp>
          <p:nvSpPr>
            <p:cNvPr id="63" name="Rectangle 12"/>
            <p:cNvSpPr/>
            <p:nvPr/>
          </p:nvSpPr>
          <p:spPr>
            <a:xfrm>
              <a:off x="2268360" y="2997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2268360" y="3357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3780000" y="3860640"/>
            <a:ext cx="936360" cy="741240"/>
            <a:chOff x="3780000" y="3860640"/>
            <a:chExt cx="936360" cy="741240"/>
          </a:xfrm>
        </p:grpSpPr>
        <p:sp>
          <p:nvSpPr>
            <p:cNvPr id="66" name="Rectangle 15"/>
            <p:cNvSpPr/>
            <p:nvPr/>
          </p:nvSpPr>
          <p:spPr>
            <a:xfrm>
              <a:off x="3780000" y="3860640"/>
              <a:ext cx="21564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3780000" y="4221000"/>
              <a:ext cx="936360" cy="380880"/>
            </a:xfrm>
            <a:prstGeom prst="rightArrow">
              <a:avLst>
                <a:gd name="adj1" fmla="val 50000"/>
                <a:gd name="adj2" fmla="val 5289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5219640" y="4581360"/>
            <a:ext cx="936720" cy="741240"/>
            <a:chOff x="5219640" y="4581360"/>
            <a:chExt cx="936720" cy="741240"/>
          </a:xfrm>
        </p:grpSpPr>
        <p:sp>
          <p:nvSpPr>
            <p:cNvPr id="69" name="Rectangle 18"/>
            <p:cNvSpPr/>
            <p:nvPr/>
          </p:nvSpPr>
          <p:spPr>
            <a:xfrm>
              <a:off x="5219640" y="458136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>
              <a:off x="5219640" y="494172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0"/>
          <p:cNvGrpSpPr/>
          <p:nvPr/>
        </p:nvGrpSpPr>
        <p:grpSpPr>
          <a:xfrm>
            <a:off x="6659640" y="5445000"/>
            <a:ext cx="936720" cy="741240"/>
            <a:chOff x="6659640" y="5445000"/>
            <a:chExt cx="936720" cy="741240"/>
          </a:xfrm>
        </p:grpSpPr>
        <p:sp>
          <p:nvSpPr>
            <p:cNvPr id="72" name="Rectangle 21"/>
            <p:cNvSpPr/>
            <p:nvPr/>
          </p:nvSpPr>
          <p:spPr>
            <a:xfrm>
              <a:off x="6659640" y="5445000"/>
              <a:ext cx="216000" cy="6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>
              <a:off x="6659640" y="5805360"/>
              <a:ext cx="936720" cy="380880"/>
            </a:xfrm>
            <a:prstGeom prst="rightArrow">
              <a:avLst>
                <a:gd name="adj1" fmla="val 50000"/>
                <a:gd name="adj2" fmla="val 5291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333399"/>
                </a:solidFill>
                <a:latin typeface="Tahoma"/>
              </a:rPr>
              <a:t>El ciclo presupuestari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ROGRAMACIÓN Y FORMULACIÓN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32000" y="1197000"/>
            <a:ext cx="7632720" cy="547200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687680" y="2708280"/>
            <a:ext cx="13665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76720" y="2708280"/>
            <a:ext cx="1368360" cy="5047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i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87680" y="1916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E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croeconó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 rot="16200000">
            <a:off x="6038640" y="4534920"/>
            <a:ext cx="1800360" cy="308160"/>
          </a:xfrm>
          <a:prstGeom prst="rightArrow">
            <a:avLst>
              <a:gd name="adj1" fmla="val 57500"/>
              <a:gd name="adj2" fmla="val 654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5400000">
            <a:off x="3563640" y="2060640"/>
            <a:ext cx="934920" cy="360360"/>
          </a:xfrm>
          <a:prstGeom prst="rightArrow">
            <a:avLst>
              <a:gd name="adj1" fmla="val 50009"/>
              <a:gd name="adj2" fmla="val 41438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859280" y="6143760"/>
            <a:ext cx="1224000" cy="380880"/>
          </a:xfrm>
          <a:prstGeom prst="rightArrow">
            <a:avLst>
              <a:gd name="adj1" fmla="val 50000"/>
              <a:gd name="adj2" fmla="val 339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484360" y="260280"/>
            <a:ext cx="45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OGRAMACIÓN Y FOR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687680" y="389556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687680" y="47242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lan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08000" y="119700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RI, CA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ETROL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08000" y="191628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.C.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04760" y="2708280"/>
            <a:ext cx="1154160" cy="10810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INISTE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08000" y="3933720"/>
            <a:ext cx="1150920" cy="647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ES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RE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08000" y="4724280"/>
            <a:ext cx="1150920" cy="648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NPL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04760" y="5589720"/>
            <a:ext cx="1154160" cy="107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cc66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STIT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3348000" y="1268280"/>
            <a:ext cx="1300320" cy="5428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50000">
                <a:srgbClr val="3333ff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efinir pos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619280" y="5589720"/>
            <a:ext cx="3240000" cy="100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3635280" y="57340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3635280" y="6164280"/>
            <a:ext cx="1152720" cy="3603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1619280" y="5589720"/>
            <a:ext cx="201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lanif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(Plurianual / An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564000" y="4726080"/>
            <a:ext cx="1368360" cy="647640"/>
          </a:xfrm>
          <a:prstGeom prst="flowChartMagneticDrum">
            <a:avLst/>
          </a:prstGeom>
          <a:gradFill rotWithShape="0">
            <a:gsLst>
              <a:gs pos="0">
                <a:srgbClr val="7b8802"/>
              </a:gs>
              <a:gs pos="50000">
                <a:srgbClr val="ffffcc"/>
              </a:gs>
              <a:gs pos="100000">
                <a:srgbClr val="7b8802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lan An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e 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788000" y="2708280"/>
            <a:ext cx="136836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Directr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(Tech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atálog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asif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6084720" y="5589720"/>
            <a:ext cx="1800360" cy="10080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orm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637380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naliza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Validar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oli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742160" y="2708280"/>
            <a:ext cx="11509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ene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E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 rot="16200000">
            <a:off x="7992360" y="3751560"/>
            <a:ext cx="647640" cy="1297080"/>
          </a:xfrm>
          <a:prstGeom prst="flowChartMultidocument">
            <a:avLst/>
          </a:prstGeom>
          <a:gradFill rotWithShape="0">
            <a:gsLst>
              <a:gs pos="0">
                <a:srgbClr val="00005e"/>
              </a:gs>
              <a:gs pos="50000">
                <a:srgbClr val="3333ff"/>
              </a:gs>
              <a:gs pos="100000">
                <a:srgbClr val="0000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esupues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0"/>
          <p:cNvSpPr/>
          <p:nvPr/>
        </p:nvSpPr>
        <p:spPr>
          <a:xfrm rot="16200000">
            <a:off x="4006080" y="5362920"/>
            <a:ext cx="360360" cy="381240"/>
          </a:xfrm>
          <a:prstGeom prst="leftRightArrow">
            <a:avLst>
              <a:gd name="adj1" fmla="val 49176"/>
              <a:gd name="adj2" fmla="val 2812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643280" y="2852640"/>
            <a:ext cx="287640" cy="381240"/>
          </a:xfrm>
          <a:prstGeom prst="rightArrow">
            <a:avLst>
              <a:gd name="adj1" fmla="val 50000"/>
              <a:gd name="adj2" fmla="val 30389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7451640" y="3068640"/>
            <a:ext cx="433440" cy="380880"/>
          </a:xfrm>
          <a:prstGeom prst="rightArrow">
            <a:avLst>
              <a:gd name="adj1" fmla="val 50000"/>
              <a:gd name="adj2" fmla="val 29551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2987640" y="2708280"/>
            <a:ext cx="360360" cy="380880"/>
          </a:xfrm>
          <a:prstGeom prst="rightArrow">
            <a:avLst>
              <a:gd name="adj1" fmla="val 50000"/>
              <a:gd name="adj2" fmla="val 1056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4"/>
          <p:cNvSpPr/>
          <p:nvPr/>
        </p:nvSpPr>
        <p:spPr>
          <a:xfrm rot="5400000">
            <a:off x="2123640" y="4508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5"/>
          <p:cNvSpPr/>
          <p:nvPr/>
        </p:nvSpPr>
        <p:spPr>
          <a:xfrm rot="5400000">
            <a:off x="1692000" y="530064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6"/>
          <p:cNvSpPr/>
          <p:nvPr/>
        </p:nvSpPr>
        <p:spPr>
          <a:xfrm rot="5400000">
            <a:off x="2160000" y="2455560"/>
            <a:ext cx="28728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1403280" y="2060640"/>
            <a:ext cx="360360" cy="3097080"/>
            <a:chOff x="1403280" y="2060640"/>
            <a:chExt cx="360360" cy="3097080"/>
          </a:xfrm>
        </p:grpSpPr>
        <p:sp>
          <p:nvSpPr>
            <p:cNvPr id="111" name="AutoShape 38"/>
            <p:cNvSpPr/>
            <p:nvPr/>
          </p:nvSpPr>
          <p:spPr>
            <a:xfrm>
              <a:off x="1430280" y="4857840"/>
              <a:ext cx="333360" cy="299880"/>
            </a:xfrm>
            <a:prstGeom prst="rightArrow">
              <a:avLst>
                <a:gd name="adj1" fmla="val 50000"/>
                <a:gd name="adj2" fmla="val 11744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9"/>
            <p:cNvSpPr/>
            <p:nvPr/>
          </p:nvSpPr>
          <p:spPr>
            <a:xfrm>
              <a:off x="1430280" y="2060640"/>
              <a:ext cx="333360" cy="288720"/>
            </a:xfrm>
            <a:prstGeom prst="rightArrow">
              <a:avLst>
                <a:gd name="adj1" fmla="val 40333"/>
                <a:gd name="adj2" fmla="val 3247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"/>
            <p:cNvSpPr/>
            <p:nvPr/>
          </p:nvSpPr>
          <p:spPr>
            <a:xfrm>
              <a:off x="1403280" y="2133720"/>
              <a:ext cx="184320" cy="295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41"/>
          <p:cNvSpPr/>
          <p:nvPr/>
        </p:nvSpPr>
        <p:spPr>
          <a:xfrm rot="5400000">
            <a:off x="8100720" y="3716280"/>
            <a:ext cx="360360" cy="360360"/>
          </a:xfrm>
          <a:prstGeom prst="rightArrow">
            <a:avLst>
              <a:gd name="adj1" fmla="val 51546"/>
              <a:gd name="adj2" fmla="val 27755"/>
            </a:avLst>
          </a:prstGeom>
          <a:gradFill rotWithShape="0">
            <a:gsLst>
              <a:gs pos="0">
                <a:srgbClr val="808080"/>
              </a:gs>
              <a:gs pos="50000">
                <a:srgbClr val="bbe0e3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2"/>
          <p:cNvGrpSpPr/>
          <p:nvPr/>
        </p:nvGrpSpPr>
        <p:grpSpPr>
          <a:xfrm>
            <a:off x="5292720" y="3789360"/>
            <a:ext cx="792000" cy="2252520"/>
            <a:chOff x="5292720" y="3789360"/>
            <a:chExt cx="792000" cy="2252520"/>
          </a:xfrm>
        </p:grpSpPr>
        <p:sp>
          <p:nvSpPr>
            <p:cNvPr id="116" name="AutoShape 43"/>
            <p:cNvSpPr/>
            <p:nvPr/>
          </p:nvSpPr>
          <p:spPr>
            <a:xfrm>
              <a:off x="5435640" y="5661000"/>
              <a:ext cx="649080" cy="380880"/>
            </a:xfrm>
            <a:prstGeom prst="rightArrow">
              <a:avLst>
                <a:gd name="adj1" fmla="val 50000"/>
                <a:gd name="adj2" fmla="val 3666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4"/>
            <p:cNvSpPr/>
            <p:nvPr/>
          </p:nvSpPr>
          <p:spPr>
            <a:xfrm>
              <a:off x="5292720" y="3789360"/>
              <a:ext cx="216000" cy="2158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5"/>
          <p:cNvGrpSpPr/>
          <p:nvPr/>
        </p:nvGrpSpPr>
        <p:grpSpPr>
          <a:xfrm>
            <a:off x="4859280" y="3789360"/>
            <a:ext cx="1820880" cy="1368360"/>
            <a:chOff x="4859280" y="3789360"/>
            <a:chExt cx="1820880" cy="1368360"/>
          </a:xfrm>
        </p:grpSpPr>
        <p:sp>
          <p:nvSpPr>
            <p:cNvPr id="119" name="AutoShape 46"/>
            <p:cNvSpPr/>
            <p:nvPr/>
          </p:nvSpPr>
          <p:spPr>
            <a:xfrm>
              <a:off x="4859280" y="4776840"/>
              <a:ext cx="1728720" cy="380880"/>
            </a:xfrm>
            <a:prstGeom prst="rightArrow">
              <a:avLst>
                <a:gd name="adj1" fmla="val 56667"/>
                <a:gd name="adj2" fmla="val 1458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7"/>
            <p:cNvSpPr/>
            <p:nvPr/>
          </p:nvSpPr>
          <p:spPr>
            <a:xfrm rot="16200000">
              <a:off x="5878440" y="4282920"/>
              <a:ext cx="1295280" cy="307800"/>
            </a:xfrm>
            <a:prstGeom prst="rightArrow">
              <a:avLst>
                <a:gd name="adj1" fmla="val 57500"/>
                <a:gd name="adj2" fmla="val 47147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be0e3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ESTRUCTURA PRESUPUESTARIA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68360" y="969840"/>
            <a:ext cx="78501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4960" y="2971440"/>
            <a:ext cx="55623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VINCULACIÓN PLAN-PRESUPUEST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9:17:13Z</dcterms:created>
  <dc:creator>Hugo Naranjo M.</dc:creator>
  <dc:description/>
  <dc:language>en-US</dc:language>
  <cp:lastModifiedBy>fsoria</cp:lastModifiedBy>
  <dcterms:modified xsi:type="dcterms:W3CDTF">2013-05-08T00:55:21Z</dcterms:modified>
  <cp:revision>127</cp:revision>
  <dc:subject/>
  <dc:title>Ministerio de Finanzas</dc:title>
</cp:coreProperties>
</file>