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B80-A931-4973-A673-73CA3DD6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773-6561-442C-A969-CCEE119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217-B93C-44F8-B9B9-56D2CE28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A06-DB99-48F4-96FB-90EB4D76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56EF-38A4-4A62-8506-73F76386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9DBA-6B84-4CA5-84F4-338D151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716D-428E-4D13-A9BE-7D6D5096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824-7277-4B4A-A577-F133B5D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0EF3-2AF3-4710-8CB5-2915AF30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2914-ECFC-4F86-86AB-B358FB64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5762-EFF5-473A-8629-3E3BB9BF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B6B-D6D8-4D6E-92CB-18618FC0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8AB8-BA88-488D-85F5-1799988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5266-ED0B-4FBF-A33C-C2AAA59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7381-1A08-4BB5-9ED6-A001661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6E74-2B30-4AC7-B8B6-0F7D5DD9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EDAE-D3A4-4423-B1FF-9D0264D6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E523-6935-4678-91F5-6B05254E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CAEE-FD2E-484B-9315-3CAA0A5B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2EF7-ACBD-41F6-A17E-79E063D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6821-D6EC-4466-AD02-FD9A62B7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3BB4-D495-434A-BF9E-B40F9223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C20-A0D0-4BDA-B550-D963E1C2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03D3-3C02-43E4-A4C3-E5D7B66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5537-75E9-4BB8-9261-673C58C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8E22-5E2A-4815-8830-BE9DAB10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D17A-8682-4D87-AE51-16CE58D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D760-45A3-4111-8989-12C86A7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8403A-6B41-48C8-9ECE-7D2034C1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2836-3DC8-4706-8891-AF6F9325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3494C-7181-4619-8BCE-C206E88E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FCF5-E5C7-4550-8783-AACEBB69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1683-A3BD-4FDD-ABE0-9BFC122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B2E-FCCA-41F1-A545-4F931DD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8E98-80F4-4AED-A42B-E659FB1E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464F-A512-4C65-B52C-3CDC90E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AFE5-EAB9-49CC-A9AC-8DE5245D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06D0-5A9F-4D2C-B9DA-59F46FB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659D-CDE5-464A-B33C-852146DA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B58E8-9FC8-4EB2-A953-B14087F1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34A8-6B5D-4D84-9E4B-3403F1E5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4EF5-E38D-4764-86E7-5284E5DD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5458-A926-44AF-B93A-B58FE8F7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F655-E5E1-4617-BA4E-6E4A66BE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24C-36BA-44D8-9635-281252EB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B1C51-50DB-420A-931D-54EB64C9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C558-956D-4322-AF80-CA1F7150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95D6-493F-487F-B2B5-F9FDB450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74C0-7155-4926-BEDB-9F5319EF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10C2F-0A79-42DE-ABA9-B9043F3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91A0-C9E2-4C3D-A39D-8EF1725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8498-EBB0-4E01-B766-477D9833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3913A-F98B-4252-A145-8FAE1AA3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C43A-1CD7-4EB3-B2B1-C46C09A6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F381-82BE-4E77-89BB-DA7B6E61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CD8-14A0-4D58-995F-7DEC9B1A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11D9E-5645-4328-9F87-554C6046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CF1-C461-42CF-9958-546C22E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EA1-5CFD-4DF9-9346-DE11A10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EB5-097A-48AD-92C1-238170D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88509-B1B9-4FD2-843C-65F120DAB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lantilla-PP-roja-Plan-de-Nación-.jpg"/>
          <p:cNvPicPr/>
          <p:nvPr/>
        </p:nvPicPr>
        <p:blipFill>
          <a:blip r:embed="rId4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6E06C-E593-406E-94FD-8B9935DD3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Plantilla-pp-Plan-de-Nacion-Amarilla-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222F0-5F69-43BA-BE1C-1F466AFC0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lantilla-verd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996E2-98EF-4E16-8C0F-622116FBA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lantilla-PP-Azul-Plan-de-Nacion-.jpg"/>
          <p:cNvPicPr/>
          <p:nvPr/>
        </p:nvPicPr>
        <p:blipFill>
          <a:blip r:embed="rId4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DE0EF-FF20-4ABF-81AA-F8EF065BF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1 Título"/>
          <p:cNvSpPr/>
          <p:nvPr/>
        </p:nvSpPr>
        <p:spPr>
          <a:xfrm>
            <a:off x="142920" y="825480"/>
            <a:ext cx="85694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DESARROLLO REGIONAL CON ENFOQUE DE ORDENAMIENTO TERRITORIAL (PDR-OT) DE OCCIDEN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2 CuadroTexto"/>
          <p:cNvSpPr/>
          <p:nvPr/>
        </p:nvSpPr>
        <p:spPr>
          <a:xfrm>
            <a:off x="858960" y="2276640"/>
            <a:ext cx="735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MUCHAS GRACIAS 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PREGUN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3 Rectángulo"/>
          <p:cNvSpPr/>
          <p:nvPr/>
        </p:nvSpPr>
        <p:spPr>
          <a:xfrm>
            <a:off x="231840" y="5634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INSTITUCIONALIDAD MULTI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552600" y="1198080"/>
            <a:ext cx="769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Consejo Regional de Desarrollo (CRD) de Occidente, instancia regional de diálogo y concer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Mancomunidad de municipios, fortalece los nexos territoriales la gestión y ejecución de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Municipalidades, la cual se asume como una herramienta de apoyo, de gestión y de ejecución de proyect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Sector Privado de la Región, de cara a la ejecución de iniciativas de inversión que no pueden ser cubiertas con el presupuesto del sector pu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Group 4" descr=""/>
          <p:cNvPicPr/>
          <p:nvPr/>
        </p:nvPicPr>
        <p:blipFill>
          <a:blip r:embed="rId1"/>
          <a:stretch/>
        </p:blipFill>
        <p:spPr>
          <a:xfrm>
            <a:off x="1182600" y="858960"/>
            <a:ext cx="6559560" cy="5486400"/>
          </a:xfrm>
          <a:prstGeom prst="rect">
            <a:avLst/>
          </a:prstGeom>
          <a:ln w="0">
            <a:noFill/>
          </a:ln>
        </p:spPr>
      </p:pic>
      <p:sp>
        <p:nvSpPr>
          <p:cNvPr id="223" name="32 Rectángulo"/>
          <p:cNvSpPr/>
          <p:nvPr/>
        </p:nvSpPr>
        <p:spPr>
          <a:xfrm>
            <a:off x="595440" y="27612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1800" spc="-1" strike="noStrike">
                <a:solidFill>
                  <a:srgbClr val="000000"/>
                </a:solidFill>
                <a:latin typeface="Arial"/>
              </a:rPr>
              <a:t>ESQUEMA INSTITUCIONALIDAD MULTI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84360" y="1608120"/>
          <a:ext cx="7848360" cy="407520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ción y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omento a la producción y productividad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4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 técnica y financiera para el fomento de la producción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mento y diversificación del aparato productivo de la R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 gridSpan="2"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ción de la Unidad de Inteligencia de Mercados para la Región de Occiden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5" name="2 Rectángulo"/>
          <p:cNvSpPr/>
          <p:nvPr/>
        </p:nvSpPr>
        <p:spPr>
          <a:xfrm flipV="1" rot="10800000">
            <a:off x="2014200" y="428400"/>
            <a:ext cx="52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11280" y="1730520"/>
          <a:ext cx="7921440" cy="39830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ción y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dio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nservación y regularización de los recursos naturale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ción y Desarrollo del Bosque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y Mejora de las Áreas Protegida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Regional de Desarrollo de Áreas  Protegidas y biodiversidad con enfoque de adaptación al cambio climátic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2 Rectángulo"/>
          <p:cNvSpPr/>
          <p:nvPr/>
        </p:nvSpPr>
        <p:spPr>
          <a:xfrm>
            <a:off x="2568600" y="498600"/>
            <a:ext cx="40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0280" y="1476360"/>
          <a:ext cx="7943760" cy="4078440"/>
        </p:xfrm>
        <a:graphic>
          <a:graphicData uri="http://schemas.openxmlformats.org/drawingml/2006/table">
            <a:tbl>
              <a:tblPr/>
              <a:tblGrid>
                <a:gridCol w="3971880"/>
                <a:gridCol w="397188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ivienda e infraestructura soci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jora de la infraestructura social en la región (salud, educación, recreació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5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Infraestructura Social en Educación para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Infraestructura Social en Salud para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ración y/o reconstrucción de al menos 129 centros educativos en  la región de occid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4 Rectángulo"/>
          <p:cNvSpPr/>
          <p:nvPr/>
        </p:nvSpPr>
        <p:spPr>
          <a:xfrm>
            <a:off x="2568600" y="457200"/>
            <a:ext cx="46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ara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11280" y="1068480"/>
          <a:ext cx="7921440" cy="480996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fraestructura de transpo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jora de la conectividad de la reg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Red de Carreteras Pavimentada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litación de corredores estratégicos para la mejora de la conectividad terrestre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strucción total de la Carretera CA-4 desde Nueva Arcadia hasta  La Labor y Reconstrucción de carretera  CA-11 (hasta Copán Ruinas) y reparación hasta el puesto fronterizo de El Flor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2" name="2 Rectángulo"/>
          <p:cNvSpPr/>
          <p:nvPr/>
        </p:nvSpPr>
        <p:spPr>
          <a:xfrm>
            <a:off x="1322280" y="41580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3 Rectángulo"/>
          <p:cNvSpPr/>
          <p:nvPr/>
        </p:nvSpPr>
        <p:spPr>
          <a:xfrm>
            <a:off x="671400" y="593640"/>
            <a:ext cx="73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800" spc="-1" strike="noStrike">
                <a:solidFill>
                  <a:srgbClr val="000000"/>
                </a:solidFill>
                <a:latin typeface="Arial"/>
              </a:rPr>
              <a:t>RESULTAD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 Rectángulo"/>
          <p:cNvSpPr/>
          <p:nvPr/>
        </p:nvSpPr>
        <p:spPr>
          <a:xfrm>
            <a:off x="461880" y="1608120"/>
            <a:ext cx="7559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MAN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CION PAULATINA DE PRIORIDADES A PRESUPUEST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CION DE ACCIONES POR PARTE DE ORGANIZACIÓN DE LA SOCIEDAD CIVIL (OSC)   ALINEADAS A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ALGUNOS S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GESTIÓN MANCOMUNDA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Calibri"/>
              </a:rPr>
              <a:t>R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4 Rectángulo"/>
          <p:cNvSpPr/>
          <p:nvPr/>
        </p:nvSpPr>
        <p:spPr>
          <a:xfrm>
            <a:off x="858960" y="1244520"/>
            <a:ext cx="7261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QUE SE ORIENTEN Y ARTICULEN LOS POA PRESUPUESTOS SECTORIALES A LAS PRIORIDADES DE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MAYOR INCORPORACION DE ORGANIZACIONES DE LA SOCIEDAD CIVIL  A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LA TRANSFERENCIA DE COMPETENCIAS Y RECURSOS A NIVELES REGIONALES Y MUNICIP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MAYOR ARTICULACIÓN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QUE LA COOPERACIÓN ORIENTE SU INVERSIÓN A PRIORIDADES IDENTIFICADAS EN E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6:48:51Z</dcterms:created>
  <dc:creator>Angel Orlando Paz</dc:creator>
  <dc:description/>
  <dc:language>en-US</dc:language>
  <cp:lastModifiedBy>DGCRSEPLAN</cp:lastModifiedBy>
  <dcterms:modified xsi:type="dcterms:W3CDTF">2013-04-11T02:57:46Z</dcterms:modified>
  <cp:revision>63</cp:revision>
  <dc:subject/>
  <dc:title>PowerPoint Presentation</dc:title>
</cp:coreProperties>
</file>