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566D-22D8-4505-9A5B-3659BBC4A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B3FD-C6C7-483A-B51F-8FC1FC56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9866-9BAF-4002-813D-89A131F0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9919-3580-4100-BE4F-AD02E1067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AB35-F0CA-4495-AD8A-FEC84DCC1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A169-19DD-443B-BC1B-422E633F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A06E-917F-4FFE-8421-EBABE5CD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AFEF-EC13-44C0-BB6C-9D4D575C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F714-3CD8-477D-ACD9-7127C469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4B90-6814-42BF-8764-AFC3936F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A2D1-FFAA-451C-ABFF-DB2AF9CA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020B-2CD8-478A-AF7A-32A681C9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F41C-93B8-4A15-B618-87455478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2E07-9DAA-4870-8355-59D59086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4354-9591-4173-A2FD-CC5E26AA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1F05-15F2-4D5D-80DB-1E9163321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070B-F292-432E-A0EB-D2A23019B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F63F9-5B38-4295-849D-F7B10895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B1955-E81F-46FC-856B-1780CCF3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83C53-2F7C-4C54-8535-E8080EC2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3DD6A-FF17-46D1-B784-297A6996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6E353-254C-4313-B74D-3135FB87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9A91-7726-4E64-9E3C-FFB73DB7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A2778-5E63-44D1-9EDB-E41AFBE1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043B6-58A5-4EA6-B9BD-2CAFFE03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88F7F-5093-43F5-9E0E-D35F65B2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55045-4392-45A6-ACDF-624C452D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76AEF-57AA-4178-8C62-7D144C5C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FF2A6-6A54-4FD6-BDEA-86D068E5D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EF8E1-E5DA-461F-A699-9853E5425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01335-9B1A-4A5C-B2F7-E15C7BA42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462EB-D230-4FAD-924A-0103762B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2859D-6CD7-4BA0-821B-B48CA659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C7CB-6688-4B9F-B790-649BC04A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7426C-811B-428C-8E08-B1AD8E9E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8BCEF-2558-43C5-8654-6393873D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5551C-33AA-41C7-B640-D85FE85E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4C338-DAB2-4691-8DDB-44701ED4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7BC1A-54A8-48CA-B1FE-EC725883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DB15C-6610-41E4-ACBD-E1BD21E4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C5970-982A-4D5B-A916-8D07696E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A647F-B862-4723-A59A-A625CA146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24179-F0E6-484E-AF99-60720AACA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C2221-1098-41F6-9768-11FAB11E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0FF2-70CC-4562-95AD-1F121683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E1DFC-BD4B-4486-B2A9-B704A5F4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EDF3A-6A87-42A3-896F-CE32A318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6B4B1-8163-40B1-B439-F30945F6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6BA38-91DE-471D-B0ED-492F29CF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4108E-D88E-4244-8407-E75D1D9D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5C965-9207-41AC-A362-6132A4E3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4A531-C130-4AA6-A785-A92D9938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199E2-8366-4A58-BC6F-AECFF584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0B17D-0667-4350-A725-C4B049DB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01F1D-EF92-47DF-88A8-735869F5C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2DA7-01A5-4031-8E53-D4423A65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CFFF5-0351-44EB-BD2D-9DFFCB244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C536-E071-4856-9B7B-3EC6D368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B300-EFC8-446E-9520-4DB76070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44E4-ED7A-4D79-9FB1-568506FC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lantilla_power_primer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logo_powerpoint.png"/>
          <p:cNvPicPr/>
          <p:nvPr/>
        </p:nvPicPr>
        <p:blipFill>
          <a:blip r:embed="rId3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576E73-77F4-42CE-A78F-B3895031A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plantilla_power_primer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logo_powerpoint.png"/>
          <p:cNvPicPr/>
          <p:nvPr/>
        </p:nvPicPr>
        <p:blipFill>
          <a:blip r:embed="rId3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Plantilla-PP-roja-Plan-de-Nación-.jpg"/>
          <p:cNvPicPr/>
          <p:nvPr/>
        </p:nvPicPr>
        <p:blipFill>
          <a:blip r:embed="rId4"/>
          <a:stretch/>
        </p:blipFill>
        <p:spPr>
          <a:xfrm>
            <a:off x="0" y="-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287D9D-DEDB-4B9B-9CE7-B8D4140B07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plantilla_power_primer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logo_powerpoint.png"/>
          <p:cNvPicPr/>
          <p:nvPr/>
        </p:nvPicPr>
        <p:blipFill>
          <a:blip r:embed="rId3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Plantilla-pp-Plan-de-Nacion-Amarilla-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1585F1-668C-4EE8-9993-DBFF347DC9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7" descr="plantilla_power_primer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logo_powerpoint.png"/>
          <p:cNvPicPr/>
          <p:nvPr/>
        </p:nvPicPr>
        <p:blipFill>
          <a:blip r:embed="rId3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Plantilla-verd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8B5C03-2E8C-48E1-9F37-9E7D977E9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7" descr="plantilla_power_primer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logo_powerpoint.png"/>
          <p:cNvPicPr/>
          <p:nvPr/>
        </p:nvPicPr>
        <p:blipFill>
          <a:blip r:embed="rId3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Plantilla-PP-Azul-Plan-de-Nacion-.jpg"/>
          <p:cNvPicPr/>
          <p:nvPr/>
        </p:nvPicPr>
        <p:blipFill>
          <a:blip r:embed="rId4"/>
          <a:stretch/>
        </p:blipFill>
        <p:spPr>
          <a:xfrm>
            <a:off x="-936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36F1C8-C6EA-4EDC-B2F7-4EEA98B7A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1 Título"/>
          <p:cNvSpPr/>
          <p:nvPr/>
        </p:nvSpPr>
        <p:spPr>
          <a:xfrm>
            <a:off x="142920" y="825480"/>
            <a:ext cx="856944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LAN DE DESARROLLO REGIONAL CON ENFOQUE DE ORDENAMIENTO TERRITORIAL (PDR-OT) DE OCCIDENT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2 CuadroTexto"/>
          <p:cNvSpPr/>
          <p:nvPr/>
        </p:nvSpPr>
        <p:spPr>
          <a:xfrm>
            <a:off x="858960" y="2276640"/>
            <a:ext cx="7359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HN" sz="5400" spc="-1" strike="noStrike">
                <a:solidFill>
                  <a:srgbClr val="000000"/>
                </a:solidFill>
                <a:latin typeface="Calibri"/>
              </a:rPr>
              <a:t>MUCHAS GRACIAS …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HN" sz="5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s-HN" sz="5400" spc="-1" strike="noStrike">
                <a:solidFill>
                  <a:srgbClr val="000000"/>
                </a:solidFill>
                <a:latin typeface="Calibri"/>
              </a:rPr>
              <a:t>PREGUNTA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33 Rectángulo"/>
          <p:cNvSpPr/>
          <p:nvPr/>
        </p:nvSpPr>
        <p:spPr>
          <a:xfrm>
            <a:off x="231840" y="563400"/>
            <a:ext cx="80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HN" sz="2400" spc="-1" strike="noStrike">
                <a:solidFill>
                  <a:srgbClr val="000000"/>
                </a:solidFill>
                <a:latin typeface="Arial"/>
              </a:rPr>
              <a:t>INSTITUCIONALIDAD MULTI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3"/>
          <p:cNvSpPr/>
          <p:nvPr/>
        </p:nvSpPr>
        <p:spPr>
          <a:xfrm>
            <a:off x="552600" y="1198080"/>
            <a:ext cx="769932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Consejo Regional de Desarrollo (CRD) de Occidente, instancia regional de diálogo y concer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Mancomunidad de municipios, fortalece los nexos territoriales la gestión y ejecución de proye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Municipalidades, la cual se asume como una herramienta de apoyo, de gestión y de ejecución de proyecto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Sector Privado de la Región, de cara a la ejecución de iniciativas de inversión que no pueden ser cubiertas con el presupuesto del sector publ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Group 4" descr=""/>
          <p:cNvPicPr/>
          <p:nvPr/>
        </p:nvPicPr>
        <p:blipFill>
          <a:blip r:embed="rId1"/>
          <a:stretch/>
        </p:blipFill>
        <p:spPr>
          <a:xfrm>
            <a:off x="1182600" y="858960"/>
            <a:ext cx="6559560" cy="5486400"/>
          </a:xfrm>
          <a:prstGeom prst="rect">
            <a:avLst/>
          </a:prstGeom>
          <a:ln w="0">
            <a:noFill/>
          </a:ln>
        </p:spPr>
      </p:pic>
      <p:sp>
        <p:nvSpPr>
          <p:cNvPr id="223" name="32 Rectángulo"/>
          <p:cNvSpPr/>
          <p:nvPr/>
        </p:nvSpPr>
        <p:spPr>
          <a:xfrm>
            <a:off x="595440" y="276120"/>
            <a:ext cx="80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HN" sz="1800" spc="-1" strike="noStrike">
                <a:solidFill>
                  <a:srgbClr val="000000"/>
                </a:solidFill>
                <a:latin typeface="Arial"/>
              </a:rPr>
              <a:t>ESQUEMA INSTITUCIONALIDAD MULTI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684360" y="1608120"/>
          <a:ext cx="7848360" cy="4075200"/>
        </p:xfrm>
        <a:graphic>
          <a:graphicData uri="http://schemas.openxmlformats.org/drawingml/2006/table">
            <a:tbl>
              <a:tblPr/>
              <a:tblGrid>
                <a:gridCol w="3924000"/>
                <a:gridCol w="3924360"/>
              </a:tblGrid>
              <a:tr h="373320">
                <a:tc gridSpan="2"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sa Sectorial: </a:t>
                      </a: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ción y Ambi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3320">
                <a:tc gridSpan="2"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tor:</a:t>
                      </a: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roduc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9080">
                <a:tc gridSpan="2"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:</a:t>
                      </a: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omento a la producción y productividad en la reg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3320">
                <a:tc gridSpan="2"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Progra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484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istencia técnica y financiera para el fomento de la producción en la reg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mento y diversificación del aparato productivo de la R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gridSpan="2"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y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9080">
                <a:tc gridSpan="2"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ción de la Unidad de Inteligencia de Mercados para la Región de Occident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5" name="2 Rectángulo"/>
          <p:cNvSpPr/>
          <p:nvPr/>
        </p:nvSpPr>
        <p:spPr>
          <a:xfrm flipV="1" rot="10800000">
            <a:off x="2014200" y="428400"/>
            <a:ext cx="526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HN" sz="2400" spc="-1" strike="noStrike">
                <a:solidFill>
                  <a:srgbClr val="000000"/>
                </a:solidFill>
                <a:latin typeface="Arial"/>
              </a:rPr>
              <a:t>Acciones de implementación del P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611280" y="1730520"/>
          <a:ext cx="7921440" cy="3983040"/>
        </p:xfrm>
        <a:graphic>
          <a:graphicData uri="http://schemas.openxmlformats.org/drawingml/2006/table">
            <a:tbl>
              <a:tblPr/>
              <a:tblGrid>
                <a:gridCol w="3960720"/>
                <a:gridCol w="3960720"/>
              </a:tblGrid>
              <a:tr h="374040">
                <a:tc gridSpan="2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sa Sectorial: </a:t>
                      </a: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ción y Ambi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040">
                <a:tc gridSpan="2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tor:</a:t>
                      </a: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dio ambi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9800">
                <a:tc gridSpan="2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:</a:t>
                      </a: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onservación y regularización de los recursos naturales en la reg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040">
                <a:tc gridSpan="2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Progra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980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ervación y Desarrollo del Bosque en La Reg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y Mejora de las Áreas Protegidas en la Reg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 gridSpan="2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y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7280">
                <a:tc gridSpan="2"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 Regional de Desarrollo de Áreas  Protegidas y biodiversidad con enfoque de adaptación al cambio climátic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7" name="2 Rectángulo"/>
          <p:cNvSpPr/>
          <p:nvPr/>
        </p:nvSpPr>
        <p:spPr>
          <a:xfrm>
            <a:off x="2568600" y="498600"/>
            <a:ext cx="40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HN" sz="2400" spc="-1" strike="noStrike">
                <a:solidFill>
                  <a:srgbClr val="000000"/>
                </a:solidFill>
                <a:latin typeface="Arial"/>
              </a:rPr>
              <a:t>Acciones de Implementación del P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2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530280" y="1476360"/>
          <a:ext cx="7943760" cy="4078440"/>
        </p:xfrm>
        <a:graphic>
          <a:graphicData uri="http://schemas.openxmlformats.org/drawingml/2006/table">
            <a:tbl>
              <a:tblPr/>
              <a:tblGrid>
                <a:gridCol w="3971880"/>
                <a:gridCol w="3971880"/>
              </a:tblGrid>
              <a:tr h="374040">
                <a:tc gridSpan="2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sa Sectorial: </a:t>
                      </a: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arrollo Soc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040">
                <a:tc gridSpan="2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tor:</a:t>
                      </a: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Vivienda e infraestructura soci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9800">
                <a:tc gridSpan="2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:</a:t>
                      </a: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jora de la infraestructura social en la región (salud, educación, recreació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040">
                <a:tc gridSpan="2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Progra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55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jora de la Infraestructura Social en Educación para la Reg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jora de la Infraestructura Social en Salud para la Reg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 gridSpan="2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y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9800">
                <a:tc gridSpan="2"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aración y/o reconstrucción de al menos 129 centros educativos en  la región de occid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0" name="4 Rectángulo"/>
          <p:cNvSpPr/>
          <p:nvPr/>
        </p:nvSpPr>
        <p:spPr>
          <a:xfrm>
            <a:off x="2568600" y="457200"/>
            <a:ext cx="46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HN" sz="2400" spc="-1" strike="noStrike">
                <a:solidFill>
                  <a:srgbClr val="000000"/>
                </a:solidFill>
                <a:latin typeface="Arial"/>
              </a:rPr>
              <a:t>Acciones de implementación del para P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611280" y="1068480"/>
          <a:ext cx="7921440" cy="4809960"/>
        </p:xfrm>
        <a:graphic>
          <a:graphicData uri="http://schemas.openxmlformats.org/drawingml/2006/table">
            <a:tbl>
              <a:tblPr/>
              <a:tblGrid>
                <a:gridCol w="3960720"/>
                <a:gridCol w="3960720"/>
              </a:tblGrid>
              <a:tr h="374040">
                <a:tc gridSpan="2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sa Sectorial: </a:t>
                      </a: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arrollo Soc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040">
                <a:tc gridSpan="2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tor:</a:t>
                      </a: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fraestructura de transpo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040">
                <a:tc gridSpan="2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:</a:t>
                      </a: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jora de la conectividad de la regió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040">
                <a:tc gridSpan="2"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Progra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13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jora de la Red de Carreteras Pavimentadas en la Reg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ilitación de corredores estratégicos para la mejora de la conectividad terrestre en la Reg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 gridSpan="2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y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1320">
                <a:tc gridSpan="2"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H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nstrucción total de la Carretera CA-4 desde Nueva Arcadia hasta  La Labor y Reconstrucción de carretera  CA-11 (hasta Copán Ruinas) y reparación hasta el puesto fronterizo de El Flori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2" name="2 Rectángulo"/>
          <p:cNvSpPr/>
          <p:nvPr/>
        </p:nvSpPr>
        <p:spPr>
          <a:xfrm>
            <a:off x="1322280" y="415800"/>
            <a:ext cx="60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HN" sz="2400" spc="-1" strike="noStrike">
                <a:solidFill>
                  <a:srgbClr val="000000"/>
                </a:solidFill>
                <a:latin typeface="Arial"/>
              </a:rPr>
              <a:t>Acciones de implementación del P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33 Rectángulo"/>
          <p:cNvSpPr/>
          <p:nvPr/>
        </p:nvSpPr>
        <p:spPr>
          <a:xfrm>
            <a:off x="671400" y="593640"/>
            <a:ext cx="735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HN" sz="2800" spc="-1" strike="noStrike">
                <a:solidFill>
                  <a:srgbClr val="000000"/>
                </a:solidFill>
                <a:latin typeface="Arial"/>
              </a:rPr>
              <a:t>RESULTADOS ALCANZ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4 Rectángulo"/>
          <p:cNvSpPr/>
          <p:nvPr/>
        </p:nvSpPr>
        <p:spPr>
          <a:xfrm>
            <a:off x="461880" y="1608120"/>
            <a:ext cx="7559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  <a:ea typeface="Arial"/>
              </a:rPr>
              <a:t>ARTICULACIÓN CON MANCOMUN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  <a:ea typeface="Arial"/>
              </a:rPr>
              <a:t>INCORPORACION PAULATINA DE PRIORIDADES A PRESUPUESTOS SECTO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  <a:ea typeface="Arial"/>
              </a:rPr>
              <a:t>IMPLEMENTACION DE ACCIONES POR PARTE DE ORGANIZACIÓN DE LA SOCIEDAD CIVIL (OSC)   ALINEADAS AL P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  <a:ea typeface="Arial"/>
              </a:rPr>
              <a:t>ARTICULACIÓN CON ALGUNOS SE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  <a:ea typeface="Arial"/>
              </a:rPr>
              <a:t>GESTIÓN MANCOMUNDA DE RECURS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HN" sz="4400" spc="-1" strike="noStrike">
                <a:solidFill>
                  <a:srgbClr val="000000"/>
                </a:solidFill>
                <a:latin typeface="Calibri"/>
              </a:rPr>
              <a:t>RE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4 Rectángulo"/>
          <p:cNvSpPr/>
          <p:nvPr/>
        </p:nvSpPr>
        <p:spPr>
          <a:xfrm>
            <a:off x="858960" y="1244520"/>
            <a:ext cx="7261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  <a:ea typeface="Arial"/>
              </a:rPr>
              <a:t>QUE SE ORIENTEN Y ARTICULEN LOS POA PRESUPUESTOS SECTORIALES A LAS PRIORIDADES DEL P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  <a:ea typeface="Arial"/>
              </a:rPr>
              <a:t>LOGRAR MAYOR INCORPORACION DE ORGANIZACIONES DE LA SOCIEDAD CIVIL  AL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  <a:ea typeface="Arial"/>
              </a:rPr>
              <a:t>LOGRAR LA TRANSFERENCIA DE COMPETENCIAS Y RECURSOS A NIVELES REGIONALES Y MUNICIP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  <a:ea typeface="Arial"/>
              </a:rPr>
              <a:t>LOGRAR MAYOR ARTICULACIÓN SECTO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  <a:ea typeface="Arial"/>
              </a:rPr>
              <a:t>LOGRAR QUE LA COOPERACIÓN ORIENTE SU INVERSIÓN A PRIORIDADES IDENTIFICADAS EN EL P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6:48:51Z</dcterms:created>
  <dc:creator>Angel Orlando Paz</dc:creator>
  <dc:description/>
  <dc:language>en-US</dc:language>
  <cp:lastModifiedBy>DGCRSEPLAN</cp:lastModifiedBy>
  <dcterms:modified xsi:type="dcterms:W3CDTF">2013-04-11T02:57:46Z</dcterms:modified>
  <cp:revision>63</cp:revision>
  <dc:subject/>
  <dc:title>PowerPoint Presentation</dc:title>
</cp:coreProperties>
</file>