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4CB-8112-46F5-B6D6-9EEDFA70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F73-84A7-433A-AC6D-2B492FEA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4DE-CC64-453E-8B53-CF276BAD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881-F239-4A00-B982-06D2B381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F6C-AC9B-4D10-A4B3-DCAD9BDB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94D-E2DB-4D53-8F96-D35E01F3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412-EB29-41D7-8537-B4E499E9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FB1-9AC5-4328-8B1F-F39D98CB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4B1-8D3C-4B1C-B9C5-5241579E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CD8-AE2C-4665-9B77-E3202CEE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4C3-3D5A-4CD5-80D4-186625DD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1E5-8B3B-4CB2-9BCA-0C2BEC4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CA67-3FD7-46E9-B5CB-F764D7B0A6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Limitantes- en el proceso de articulación de Planificación Sectorial -  Regional  en el marco del P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403280" y="620640"/>
            <a:ext cx="75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Definir y/o actualizar el marco Normativo que identifique y asigne funciones de cabeza de sector a las instituciones pertinentes, a manera de fortalecer el Consejo de Plan de 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Fortalecer la coordinación interna de las distintas Direcciones de la SEPLAN , para consolidar y aplicar los mecanismos e instrumentos para desarrollar una verdadera planificación en todos los niveles, a efecto de articular la asignación presupuestaria y esta responda mejor a la demanda en los diferentes niveles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Generar e implementar estrategias de comunicación y socialización eficientes a nivel nacional, sectorial, regional e institucional que den a conocer los mecanismos e instrumentos mencionados en l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63640" y="1916280"/>
            <a:ext cx="706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400" spc="-1" strike="noStrike">
                <a:solidFill>
                  <a:srgbClr val="000000"/>
                </a:solidFill>
                <a:latin typeface="Arial"/>
              </a:rPr>
              <a:t>Muchas Gracia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57290" t="21000" r="24071" b="43291"/>
          <a:stretch/>
        </p:blipFill>
        <p:spPr>
          <a:xfrm>
            <a:off x="2771640" y="3095640"/>
            <a:ext cx="1136880" cy="163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67168" t="50005" r="27262" b="33799"/>
          <a:stretch/>
        </p:blipFill>
        <p:spPr>
          <a:xfrm>
            <a:off x="468360" y="4025880"/>
            <a:ext cx="1324080" cy="216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479520" y="15811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9387" t="0" r="14858" b="0"/>
          <a:stretch/>
        </p:blipFill>
        <p:spPr>
          <a:xfrm>
            <a:off x="6732720" y="1793880"/>
            <a:ext cx="1788840" cy="19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0" t="0" r="64588" b="28160"/>
          <a:stretch/>
        </p:blipFill>
        <p:spPr>
          <a:xfrm>
            <a:off x="6732720" y="4260960"/>
            <a:ext cx="1079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1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Ejes de análi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2 Rectángulo"/>
          <p:cNvGrpSpPr/>
          <p:nvPr/>
        </p:nvGrpSpPr>
        <p:grpSpPr>
          <a:xfrm>
            <a:off x="2457360" y="1962000"/>
            <a:ext cx="2211480" cy="1640160"/>
            <a:chOff x="2457360" y="1962000"/>
            <a:chExt cx="2211480" cy="1640160"/>
          </a:xfrm>
        </p:grpSpPr>
        <p:pic>
          <p:nvPicPr>
            <p:cNvPr id="51" name="2 Rectángulo" descr=""/>
            <p:cNvPicPr/>
            <p:nvPr/>
          </p:nvPicPr>
          <p:blipFill>
            <a:blip r:embed="rId1"/>
            <a:stretch/>
          </p:blipFill>
          <p:spPr>
            <a:xfrm>
              <a:off x="2457360" y="1962000"/>
              <a:ext cx="221148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484360" y="1989000"/>
              <a:ext cx="2158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8 Rectángulo"/>
          <p:cNvGrpSpPr/>
          <p:nvPr/>
        </p:nvGrpSpPr>
        <p:grpSpPr>
          <a:xfrm>
            <a:off x="5407200" y="1920960"/>
            <a:ext cx="2219040" cy="1639800"/>
            <a:chOff x="5407200" y="1920960"/>
            <a:chExt cx="2219040" cy="1639800"/>
          </a:xfrm>
        </p:grpSpPr>
        <p:pic>
          <p:nvPicPr>
            <p:cNvPr id="54" name="8 Rectángulo" descr=""/>
            <p:cNvPicPr/>
            <p:nvPr/>
          </p:nvPicPr>
          <p:blipFill>
            <a:blip r:embed="rId2"/>
            <a:stretch/>
          </p:blipFill>
          <p:spPr>
            <a:xfrm>
              <a:off x="5407200" y="1920960"/>
              <a:ext cx="22190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435640" y="1947960"/>
              <a:ext cx="21607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9 Rectángulo"/>
          <p:cNvGrpSpPr/>
          <p:nvPr/>
        </p:nvGrpSpPr>
        <p:grpSpPr>
          <a:xfrm>
            <a:off x="2346480" y="4054320"/>
            <a:ext cx="2433600" cy="1640160"/>
            <a:chOff x="2346480" y="4054320"/>
            <a:chExt cx="2433600" cy="1640160"/>
          </a:xfrm>
        </p:grpSpPr>
        <p:pic>
          <p:nvPicPr>
            <p:cNvPr id="57" name="9 Rectángulo" descr=""/>
            <p:cNvPicPr/>
            <p:nvPr/>
          </p:nvPicPr>
          <p:blipFill>
            <a:blip r:embed="rId3"/>
            <a:stretch/>
          </p:blipFill>
          <p:spPr>
            <a:xfrm>
              <a:off x="2346480" y="4054320"/>
              <a:ext cx="24336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376360" y="4084560"/>
              <a:ext cx="237672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Econó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0 Rectángulo"/>
          <p:cNvGrpSpPr/>
          <p:nvPr/>
        </p:nvGrpSpPr>
        <p:grpSpPr>
          <a:xfrm>
            <a:off x="5638680" y="4054320"/>
            <a:ext cx="2127240" cy="1627200"/>
            <a:chOff x="5638680" y="4054320"/>
            <a:chExt cx="2127240" cy="1627200"/>
          </a:xfrm>
        </p:grpSpPr>
        <p:pic>
          <p:nvPicPr>
            <p:cNvPr id="60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638680" y="4054320"/>
              <a:ext cx="21272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668920" y="4084560"/>
              <a:ext cx="207180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1800" spc="-1" strike="noStrike">
                  <a:solidFill>
                    <a:srgbClr val="000000"/>
                  </a:solidFill>
                  <a:latin typeface="Arial"/>
                </a:rPr>
                <a:t>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voluntad política para la sostenibilidad en la planificación Regional - S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l Plan De Gobierno  actual No tiene enfoque Sectorial  y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ficiencia de continuidad de las acciones por cambios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ualidad de funciones (SDP-SE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svinculación del Marco legal vigente con las necesidades ac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trabajo  y comunicación entre las inst. rect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Hay un proceso insipiente en las regiones, falta coordinación entre regiones (ejemplo de Ocotepeque –  zona de Guisayote en la región occidente  producción de cultivo de pa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a planificación regional solo está orientada de forma regional y no en sub regiones, tomando en consideración de  las z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consideración de las situaciones que afectan a las regiones y su actual y  futuro impacto en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Brecha entre la planificación regional y sectorial y las planificaciones instituci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Estado otorga más recursos para otras áreas menos para plan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otorgamiento muchas veces de los presupuestos es de forma incrementalista y no basada en resultados o impactos ob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o producción nacional  no responde a las demandas reales de la soci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a incidencia política en la presupuestación, selección de beneficiarios, planificación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32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Renuencia para la particip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una verdadera planificación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ébil papel de  las UPEG dentro de las instit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No hay confianza en la información estadística presentada por las instit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No hay influencia de las instituciones líderes del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Falta de una verdadera planificación institucional alrededor de lo que debería ser una planificación sectorial y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onocimiento del rol que realmente debe de jugar la institución ( ejemplo DIGIPESCA, está en Tegucigalp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Renuencia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Dualidad de funciones  (SDP debería ser rectora de todos los se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omunicación de inform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Falta de capacidades en la investigación  para la plan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Propuestas de 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16000" y="1628640"/>
            <a:ext cx="802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rear un mecanismo que genere y permita los espacios apropiados de articulación entre la Planificación Regional (Mesas temáticas) con la Planificación Sec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49320" y="3141720"/>
            <a:ext cx="8164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uario</cp:lastModifiedBy>
  <dcterms:modified xsi:type="dcterms:W3CDTF">2013-04-12T21:44:03Z</dcterms:modified>
  <cp:revision>201</cp:revision>
  <dc:subject/>
  <dc:title>Diapositiva 1</dc:title>
</cp:coreProperties>
</file>