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A7FA-0B29-4E8B-978F-2C9184B2A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4A9E-BF72-45A2-AA7B-13EB8F9B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CCFD-FB42-443F-B321-33EE0996C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81E6-27FD-4EF8-9310-E9E744C81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D3D1-8889-443C-8E94-E7CA7288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A21A-4FDB-4BC0-B251-F6612C03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1A04-39D1-4F63-B738-EC701ACF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B13D-DD5B-4358-A3ED-6DE92720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FA60-9CBE-47EC-85B5-D965AAF6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C66D-8DF4-4F79-A52D-48F58241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717A-D970-4A9A-A933-8A103204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B738-E325-45F9-8AED-A2667109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CA83-2347-4DED-9A5F-ABD9F0B9F8F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400" spc="-1" strike="noStrike">
                <a:solidFill>
                  <a:srgbClr val="000000"/>
                </a:solidFill>
                <a:latin typeface="Arial"/>
              </a:rPr>
              <a:t>Limitantes- en el proceso de articulación de Planificación Sectorial -  Regional  en el marco del P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403280" y="620640"/>
            <a:ext cx="752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000" spc="-1" strike="noStrike">
                <a:solidFill>
                  <a:srgbClr val="000000"/>
                </a:solidFill>
                <a:latin typeface="Arial"/>
              </a:rPr>
              <a:t>Definir y/o actualizar el marco Normativo que identifique y asigne funciones de cabeza de sector a las instituciones pertinentes, a manera de fortalecer el Consejo de Plan de 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000" spc="-1" strike="noStrike">
                <a:solidFill>
                  <a:srgbClr val="000000"/>
                </a:solidFill>
                <a:latin typeface="Arial"/>
              </a:rPr>
              <a:t>Fortalecer la coordinación interna de las distintas Direcciones de la SEPLAN , para consolidar y aplicar los mecanismos e instrumentos para desarrollar una verdadera planificación en todos los niveles, a efecto de articular la asignación presupuestaria y esta responda mejor a la demanda en los diferentes niveles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000" spc="-1" strike="noStrike">
                <a:solidFill>
                  <a:srgbClr val="000000"/>
                </a:solidFill>
                <a:latin typeface="Arial"/>
              </a:rPr>
              <a:t>Generar e implementar estrategias de comunicación y socialización eficientes a nivel nacional, sectorial, regional e institucional que den a conocer los mecanismos e instrumentos mencionados en la ant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763640" y="1916280"/>
            <a:ext cx="7067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5400" spc="-1" strike="noStrike">
                <a:solidFill>
                  <a:srgbClr val="000000"/>
                </a:solidFill>
                <a:latin typeface="Arial"/>
              </a:rPr>
              <a:t>Muchas Gracias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400" spc="-1" strike="noStrike">
                <a:solidFill>
                  <a:srgbClr val="000000"/>
                </a:solidFill>
                <a:latin typeface="Arial"/>
              </a:rPr>
              <a:t>Integr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rcRect l="57290" t="21000" r="24071" b="43291"/>
          <a:stretch/>
        </p:blipFill>
        <p:spPr>
          <a:xfrm>
            <a:off x="2771640" y="3095640"/>
            <a:ext cx="1136880" cy="1631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rcRect l="67168" t="50005" r="27262" b="33799"/>
          <a:stretch/>
        </p:blipFill>
        <p:spPr>
          <a:xfrm>
            <a:off x="468360" y="4025880"/>
            <a:ext cx="1324080" cy="2165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3"/>
          <a:stretch/>
        </p:blipFill>
        <p:spPr>
          <a:xfrm>
            <a:off x="479520" y="1581120"/>
            <a:ext cx="1371600" cy="1523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4"/>
          <a:srcRect l="9387" t="0" r="14858" b="0"/>
          <a:stretch/>
        </p:blipFill>
        <p:spPr>
          <a:xfrm>
            <a:off x="6732720" y="1793880"/>
            <a:ext cx="1788840" cy="1933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5"/>
          <a:srcRect l="0" t="0" r="64588" b="28160"/>
          <a:stretch/>
        </p:blipFill>
        <p:spPr>
          <a:xfrm>
            <a:off x="6732720" y="4260960"/>
            <a:ext cx="1079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1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400" spc="-1" strike="noStrike">
                <a:solidFill>
                  <a:srgbClr val="000000"/>
                </a:solidFill>
                <a:latin typeface="Arial"/>
              </a:rPr>
              <a:t>Ejes de anális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2 Rectángulo"/>
          <p:cNvGrpSpPr/>
          <p:nvPr/>
        </p:nvGrpSpPr>
        <p:grpSpPr>
          <a:xfrm>
            <a:off x="2457360" y="1962000"/>
            <a:ext cx="2211480" cy="1640160"/>
            <a:chOff x="2457360" y="1962000"/>
            <a:chExt cx="2211480" cy="1640160"/>
          </a:xfrm>
        </p:grpSpPr>
        <p:pic>
          <p:nvPicPr>
            <p:cNvPr id="51" name="2 Rectángulo" descr=""/>
            <p:cNvPicPr/>
            <p:nvPr/>
          </p:nvPicPr>
          <p:blipFill>
            <a:blip r:embed="rId1"/>
            <a:stretch/>
          </p:blipFill>
          <p:spPr>
            <a:xfrm>
              <a:off x="2457360" y="1962000"/>
              <a:ext cx="2211480" cy="16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2484360" y="1989000"/>
              <a:ext cx="215892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HN" sz="1800" spc="-1" strike="noStrike">
                  <a:solidFill>
                    <a:srgbClr val="000000"/>
                  </a:solidFill>
                  <a:latin typeface="Arial"/>
                </a:rPr>
                <a:t>Polít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8 Rectángulo"/>
          <p:cNvGrpSpPr/>
          <p:nvPr/>
        </p:nvGrpSpPr>
        <p:grpSpPr>
          <a:xfrm>
            <a:off x="5407200" y="1920960"/>
            <a:ext cx="2219040" cy="1639800"/>
            <a:chOff x="5407200" y="1920960"/>
            <a:chExt cx="2219040" cy="1639800"/>
          </a:xfrm>
        </p:grpSpPr>
        <p:pic>
          <p:nvPicPr>
            <p:cNvPr id="54" name="8 Rectángulo" descr=""/>
            <p:cNvPicPr/>
            <p:nvPr/>
          </p:nvPicPr>
          <p:blipFill>
            <a:blip r:embed="rId2"/>
            <a:stretch/>
          </p:blipFill>
          <p:spPr>
            <a:xfrm>
              <a:off x="5407200" y="1920960"/>
              <a:ext cx="221904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435640" y="1947960"/>
              <a:ext cx="216072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HN" sz="1800" spc="-1" strike="noStrike">
                  <a:solidFill>
                    <a:srgbClr val="000000"/>
                  </a:solidFill>
                  <a:latin typeface="Arial"/>
                </a:rPr>
                <a:t>So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9 Rectángulo"/>
          <p:cNvGrpSpPr/>
          <p:nvPr/>
        </p:nvGrpSpPr>
        <p:grpSpPr>
          <a:xfrm>
            <a:off x="2346480" y="4054320"/>
            <a:ext cx="2433600" cy="1640160"/>
            <a:chOff x="2346480" y="4054320"/>
            <a:chExt cx="2433600" cy="1640160"/>
          </a:xfrm>
        </p:grpSpPr>
        <p:pic>
          <p:nvPicPr>
            <p:cNvPr id="57" name="9 Rectángulo" descr=""/>
            <p:cNvPicPr/>
            <p:nvPr/>
          </p:nvPicPr>
          <p:blipFill>
            <a:blip r:embed="rId3"/>
            <a:stretch/>
          </p:blipFill>
          <p:spPr>
            <a:xfrm>
              <a:off x="2346480" y="4054320"/>
              <a:ext cx="2433600" cy="16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376360" y="4084560"/>
              <a:ext cx="2376720" cy="15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HN" sz="1800" spc="-1" strike="noStrike">
                  <a:solidFill>
                    <a:srgbClr val="000000"/>
                  </a:solidFill>
                  <a:latin typeface="Arial"/>
                </a:rPr>
                <a:t>Económic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10 Rectángulo"/>
          <p:cNvGrpSpPr/>
          <p:nvPr/>
        </p:nvGrpSpPr>
        <p:grpSpPr>
          <a:xfrm>
            <a:off x="5638680" y="4054320"/>
            <a:ext cx="2127240" cy="1627200"/>
            <a:chOff x="5638680" y="4054320"/>
            <a:chExt cx="2127240" cy="1627200"/>
          </a:xfrm>
        </p:grpSpPr>
        <p:pic>
          <p:nvPicPr>
            <p:cNvPr id="60" name="10 Rectángulo" descr=""/>
            <p:cNvPicPr/>
            <p:nvPr/>
          </p:nvPicPr>
          <p:blipFill>
            <a:blip r:embed="rId4"/>
            <a:stretch/>
          </p:blipFill>
          <p:spPr>
            <a:xfrm>
              <a:off x="5638680" y="4054320"/>
              <a:ext cx="212724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668920" y="4084560"/>
              <a:ext cx="2071800" cy="15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HN" sz="1800" spc="-1" strike="noStrike">
                  <a:solidFill>
                    <a:srgbClr val="000000"/>
                  </a:solidFill>
                  <a:latin typeface="Arial"/>
                </a:rPr>
                <a:t>Institu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400" spc="-1" strike="noStrike">
                <a:solidFill>
                  <a:srgbClr val="000000"/>
                </a:solidFill>
                <a:latin typeface="Arial"/>
              </a:rPr>
              <a:t>Polí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Falta voluntad política para la sostenibilidad en la planificación Regional - Sec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El Plan De Gobierno  actual No tiene enfoque Sectorial  y Reg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Deficiencia de continuidad de las acciones por cambios de gobie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Dualidad de funciones (SDP-SEPL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Desvinculación del Marco legal vigente con las necesidades actu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Falta de trabajo  y comunicación entre las inst. rector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4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Hay un proceso insipiente en las regiones, falta coordinación entre regiones (ejemplo de Ocotepeque –  zona de Guisayote en la región occidente  producción de cultivo de pap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La planificación regional solo está orientada de forma regional y no en sub regiones, tomando en consideración de  las zo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Falta de consideración de las situaciones que afectan a las regiones y su actual y  futuro impacto en otr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Brecha entre la planificación regional y sectorial y las planificaciones institucion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400" spc="-1" strike="noStrike">
                <a:solidFill>
                  <a:srgbClr val="000000"/>
                </a:solidFill>
                <a:latin typeface="Arial"/>
              </a:rPr>
              <a:t>Económic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Arial"/>
              </a:rPr>
              <a:t>El Estado otorga más recursos para otras áreas menos para planific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Arial"/>
              </a:rPr>
              <a:t>El otorgamiento muchas veces de los presupuestos es de forma incrementalista y no basada en resultados o impactos obten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Arial"/>
              </a:rPr>
              <a:t>Lo producción nacional  no responde a las demandas reales de la socieda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Arial"/>
              </a:rPr>
              <a:t>La incidencia política en la presupuestación, selección de beneficiarios, planificación,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400" spc="-1" strike="noStrike">
                <a:solidFill>
                  <a:srgbClr val="000000"/>
                </a:solidFill>
                <a:latin typeface="Arial"/>
              </a:rPr>
              <a:t>Institu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332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Renuencia para la particip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Falta de una verdadera planificación institu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Débil papel de  las UPEG dentro de las institu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No hay confianza en la información estadística presentada por las institucio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No hay influencia de las instituciones líderes del s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Falta de una verdadera planificación institucional alrededor de lo que debería ser una planificación sectorial y reg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75564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Falta de conocimiento del rol que realmente debe de jugar la institución ( ejemplo DIGIPESCA, está en Tegucigalp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Renuencia al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Dualidad de funciones  (SDP debería ser rectora de todos los secto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Falta de comunicación de inform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Falta de capacidades en la investigación  para la planifica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400" spc="-1" strike="noStrike">
                <a:solidFill>
                  <a:srgbClr val="000000"/>
                </a:solidFill>
                <a:latin typeface="Arial"/>
              </a:rPr>
              <a:t>Propuestas de Solu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116000" y="1628640"/>
            <a:ext cx="802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Crear un mecanismo que genere y permita los espacios apropiados de articulación entre la Planificación Regional (Mesas temáticas) con la Planificación Secto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949320" y="3141720"/>
            <a:ext cx="816444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uario</cp:lastModifiedBy>
  <dcterms:modified xsi:type="dcterms:W3CDTF">2013-04-12T21:44:03Z</dcterms:modified>
  <cp:revision>201</cp:revision>
  <dc:subject/>
  <dc:title>Diapositiva 1</dc:title>
</cp:coreProperties>
</file>