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636-6ACC-43A9-8E11-2991170B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493-8C8A-4CF3-8E4D-A5898533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AC7-1BBC-44C6-B903-36FE4D07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449-9B5F-4866-AB51-522DFB9D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523-6753-4D7B-8EED-8627B4A1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8D8-65AF-4081-BAC8-7D6AB655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0B0-AED3-46C5-B76F-DEFCC0E9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4D0-E63A-4C3D-88C3-A51D124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246-59E2-4BF2-8703-0189D154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0C2-E8A3-4D05-B79C-4240420F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7D6-F2DC-475B-816B-0B558D19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CD8-D4D2-44DF-9E4E-9E996E73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66006-A72E-469E-951F-83F0F566C8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3EDA1-0882-408E-8A39-C7C6C0EFF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ondo para presentaciones 1.jpg"/>
          <p:cNvPicPr/>
          <p:nvPr/>
        </p:nvPicPr>
        <p:blipFill>
          <a:blip r:embed="rId2"/>
          <a:stretch/>
        </p:blipFill>
        <p:spPr>
          <a:xfrm>
            <a:off x="0" y="-154080"/>
            <a:ext cx="9144000" cy="7112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333440" y="4038480"/>
            <a:ext cx="6575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e6ca4"/>
                </a:solidFill>
                <a:latin typeface="Calibri"/>
              </a:rPr>
              <a:t>Sistema Nacional de Inversión Pública</a:t>
            </a:r>
            <a:endParaRPr b="0" lang="en-US" sz="32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6ca4"/>
                </a:solidFill>
                <a:latin typeface="Calibri"/>
              </a:rPr>
              <a:t>junio 2013</a:t>
            </a: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538200" y="1784520"/>
            <a:ext cx="2281320" cy="806400"/>
          </a:xfrm>
          <a:prstGeom prst="rect">
            <a:avLst/>
          </a:prstGeom>
          <a:gradFill rotWithShape="0">
            <a:gsLst>
              <a:gs pos="0">
                <a:srgbClr val="344556"/>
              </a:gs>
              <a:gs pos="50000">
                <a:srgbClr val="99ccff"/>
              </a:gs>
              <a:gs pos="100000">
                <a:srgbClr val="3445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olíticas públicas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lan de gobiern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lanes de desarroll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429000" y="1784520"/>
            <a:ext cx="2260440" cy="806400"/>
          </a:xfrm>
          <a:prstGeom prst="rect">
            <a:avLst/>
          </a:prstGeom>
          <a:gradFill rotWithShape="0">
            <a:gsLst>
              <a:gs pos="0">
                <a:srgbClr val="344556"/>
              </a:gs>
              <a:gs pos="50000">
                <a:srgbClr val="99ccff"/>
              </a:gs>
              <a:gs pos="100000">
                <a:srgbClr val="3445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Acuerdos de Paz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actos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Metas del Mileni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24480" y="1784520"/>
            <a:ext cx="2286000" cy="806400"/>
          </a:xfrm>
          <a:prstGeom prst="rect">
            <a:avLst/>
          </a:prstGeom>
          <a:gradFill rotWithShape="0">
            <a:gsLst>
              <a:gs pos="0">
                <a:srgbClr val="344556"/>
              </a:gs>
              <a:gs pos="50000">
                <a:srgbClr val="99ccff"/>
              </a:gs>
              <a:gs pos="100000">
                <a:srgbClr val="3445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Descentralización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oder local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Sistema de Consejos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2484360" y="2590920"/>
            <a:ext cx="4032000" cy="533160"/>
            <a:chOff x="2484360" y="2590920"/>
            <a:chExt cx="4032000" cy="533160"/>
          </a:xfrm>
        </p:grpSpPr>
        <p:sp>
          <p:nvSpPr>
            <p:cNvPr id="65" name="Line 9"/>
            <p:cNvSpPr/>
            <p:nvPr/>
          </p:nvSpPr>
          <p:spPr>
            <a:xfrm>
              <a:off x="2484360" y="25909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4572000" y="2590920"/>
              <a:ext cx="1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  <p:sp>
          <p:nvSpPr>
            <p:cNvPr id="67" name="Line 11"/>
            <p:cNvSpPr/>
            <p:nvPr/>
          </p:nvSpPr>
          <p:spPr>
            <a:xfrm flipH="1">
              <a:off x="5754240" y="25909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  <p:sp>
        <p:nvSpPr>
          <p:cNvPr id="68" name="Oval 12"/>
          <p:cNvSpPr/>
          <p:nvPr/>
        </p:nvSpPr>
        <p:spPr>
          <a:xfrm>
            <a:off x="3200400" y="2971800"/>
            <a:ext cx="2971800" cy="9270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9d3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Sistema Nacional de Planificación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4419720" y="3943440"/>
            <a:ext cx="304560" cy="323640"/>
          </a:xfrm>
          <a:prstGeom prst="downArrow">
            <a:avLst>
              <a:gd name="adj1" fmla="val 50000"/>
              <a:gd name="adj2" fmla="val 26566"/>
            </a:avLst>
          </a:prstGeom>
          <a:gradFill rotWithShape="0">
            <a:gsLst>
              <a:gs pos="0">
                <a:srgbClr val="1f497d"/>
              </a:gs>
              <a:gs pos="100000">
                <a:srgbClr val="758fa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3048120" y="4419720"/>
            <a:ext cx="3124080" cy="914400"/>
          </a:xfrm>
          <a:prstGeom prst="ellipse">
            <a:avLst/>
          </a:prstGeom>
          <a:gradFill rotWithShape="0">
            <a:gsLst>
              <a:gs pos="0">
                <a:srgbClr val="96a22b"/>
              </a:gs>
              <a:gs pos="50000">
                <a:srgbClr val="bcca36"/>
              </a:gs>
              <a:gs pos="100000">
                <a:srgbClr val="96a2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Sistema Nacional de Inversiones Públicas PIP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741320" y="5670720"/>
            <a:ext cx="2678400" cy="8823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ad68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resupuesto de inversión del Estad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181480" y="5715000"/>
            <a:ext cx="2514600" cy="838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ad68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Negociación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de la cooperación internacional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grpSp>
        <p:nvGrpSpPr>
          <p:cNvPr id="73" name="Group 17"/>
          <p:cNvGrpSpPr/>
          <p:nvPr/>
        </p:nvGrpSpPr>
        <p:grpSpPr>
          <a:xfrm>
            <a:off x="3225600" y="5257800"/>
            <a:ext cx="2870280" cy="380880"/>
            <a:chOff x="3225600" y="5257800"/>
            <a:chExt cx="2870280" cy="380880"/>
          </a:xfrm>
        </p:grpSpPr>
        <p:sp>
          <p:nvSpPr>
            <p:cNvPr id="74" name="Line 18"/>
            <p:cNvSpPr/>
            <p:nvPr/>
          </p:nvSpPr>
          <p:spPr>
            <a:xfrm>
              <a:off x="5587920" y="5257800"/>
              <a:ext cx="507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 flipH="1">
              <a:off x="3225600" y="5257800"/>
              <a:ext cx="455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1600200" y="1498680"/>
            <a:ext cx="5640480" cy="253800"/>
            <a:chOff x="1600200" y="1498680"/>
            <a:chExt cx="5640480" cy="253800"/>
          </a:xfrm>
        </p:grpSpPr>
        <p:grpSp>
          <p:nvGrpSpPr>
            <p:cNvPr id="77" name="Group 21"/>
            <p:cNvGrpSpPr/>
            <p:nvPr/>
          </p:nvGrpSpPr>
          <p:grpSpPr>
            <a:xfrm>
              <a:off x="1600200" y="1498680"/>
              <a:ext cx="5638680" cy="228600"/>
              <a:chOff x="1600200" y="1498680"/>
              <a:chExt cx="5638680" cy="228600"/>
            </a:xfrm>
          </p:grpSpPr>
          <p:sp>
            <p:nvSpPr>
              <p:cNvPr id="78" name="Line 22"/>
              <p:cNvSpPr/>
              <p:nvPr/>
            </p:nvSpPr>
            <p:spPr>
              <a:xfrm>
                <a:off x="4495680" y="1498680"/>
                <a:ext cx="1800" cy="228600"/>
              </a:xfrm>
              <a:prstGeom prst="line">
                <a:avLst/>
              </a:prstGeom>
              <a:ln w="9360">
                <a:solidFill>
                  <a:srgbClr val="eeece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e6ca4"/>
                  </a:solidFill>
                  <a:latin typeface="Arial"/>
                </a:endParaRPr>
              </a:p>
            </p:txBody>
          </p:sp>
          <p:sp>
            <p:nvSpPr>
              <p:cNvPr id="79" name="Line 23"/>
              <p:cNvSpPr/>
              <p:nvPr/>
            </p:nvSpPr>
            <p:spPr>
              <a:xfrm>
                <a:off x="1600200" y="1498680"/>
                <a:ext cx="5638680" cy="25200"/>
              </a:xfrm>
              <a:prstGeom prst="line">
                <a:avLst/>
              </a:prstGeom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3e6ca4"/>
                  </a:solidFill>
                  <a:latin typeface="Arial"/>
                </a:endParaRPr>
              </a:p>
            </p:txBody>
          </p:sp>
          <p:sp>
            <p:nvSpPr>
              <p:cNvPr id="80" name="Line 24"/>
              <p:cNvSpPr/>
              <p:nvPr/>
            </p:nvSpPr>
            <p:spPr>
              <a:xfrm>
                <a:off x="1600200" y="1498680"/>
                <a:ext cx="1440" cy="228600"/>
              </a:xfrm>
              <a:prstGeom prst="line">
                <a:avLst/>
              </a:prstGeom>
              <a:ln w="9360">
                <a:solidFill>
                  <a:srgbClr val="eeece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e6ca4"/>
                  </a:solidFill>
                  <a:latin typeface="Arial"/>
                </a:endParaRPr>
              </a:p>
            </p:txBody>
          </p:sp>
        </p:grpSp>
        <p:sp>
          <p:nvSpPr>
            <p:cNvPr id="81" name="Line 25"/>
            <p:cNvSpPr/>
            <p:nvPr/>
          </p:nvSpPr>
          <p:spPr>
            <a:xfrm>
              <a:off x="7238880" y="1523880"/>
              <a:ext cx="1800" cy="228600"/>
            </a:xfrm>
            <a:prstGeom prst="line">
              <a:avLst/>
            </a:prstGeom>
            <a:ln w="936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  <p:sp>
        <p:nvSpPr>
          <p:cNvPr id="82" name="Text Box 26"/>
          <p:cNvSpPr/>
          <p:nvPr/>
        </p:nvSpPr>
        <p:spPr>
          <a:xfrm>
            <a:off x="1979640" y="1125360"/>
            <a:ext cx="4952880" cy="304920"/>
          </a:xfrm>
          <a:prstGeom prst="rect">
            <a:avLst/>
          </a:prstGeom>
          <a:gradFill rotWithShape="0">
            <a:gsLst>
              <a:gs pos="0">
                <a:srgbClr val="7a7a7a"/>
              </a:gs>
              <a:gs pos="50000">
                <a:srgbClr val="dddddd"/>
              </a:gs>
              <a:gs pos="100000">
                <a:srgbClr val="7a7a7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Constitución Política de la República (Leyes)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grpSp>
        <p:nvGrpSpPr>
          <p:cNvPr id="83" name="Text Box 18"/>
          <p:cNvGrpSpPr/>
          <p:nvPr/>
        </p:nvGrpSpPr>
        <p:grpSpPr>
          <a:xfrm>
            <a:off x="0" y="-165240"/>
            <a:ext cx="9259920" cy="890640"/>
            <a:chOff x="0" y="-165240"/>
            <a:chExt cx="9259920" cy="890640"/>
          </a:xfrm>
        </p:grpSpPr>
        <p:pic>
          <p:nvPicPr>
            <p:cNvPr id="84" name="Text Box 18" descr=""/>
            <p:cNvPicPr/>
            <p:nvPr/>
          </p:nvPicPr>
          <p:blipFill>
            <a:blip r:embed="rId2"/>
            <a:stretch/>
          </p:blipFill>
          <p:spPr>
            <a:xfrm>
              <a:off x="0" y="-165240"/>
              <a:ext cx="9259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480" y="0"/>
              <a:ext cx="91440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000" spc="-1" strike="noStrike">
                  <a:solidFill>
                    <a:srgbClr val="002060"/>
                  </a:solidFill>
                  <a:latin typeface="Calibri"/>
                </a:rPr>
                <a:t>Entorno del SNIP</a:t>
              </a:r>
              <a:endParaRPr b="0" lang="en-US" sz="40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Calibri"/>
              </a:rPr>
              <a:t>Debilidades de los proyectos present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002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Documentos mal formulados, y en algunos casos el documento presentado no respalda la magnitud de la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Incumplir con el requisito de la acreditación de propiedad o posesión de los terrenos (artículo 55 Dcto 30-2012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No presentan la Resolución Ambien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Falta del aval del ente rector cuand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resupuesto mal elaborados (falta de renglones de trabajo, sobre valorados o subvalorad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Deficiencia en la presentación de los cronogramas de ejecución física y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No se incluye los presupuestos de operación y mantenimi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Incumplimiento de requisitos establecidos por leyes vigentes (discapacidad, áreas protegidas manejo de desechos sólidos, calidad del agu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Los proyectos de arrastre no cumplen con los requisitos específic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as preocup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La distribución no equitativa de la inversión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El rezago de los municipios más pobres por </a:t>
            </a:r>
            <a:r>
              <a:rPr b="0" lang="es-GT" sz="2400" spc="-1" strike="noStrike">
                <a:solidFill>
                  <a:srgbClr val="000000"/>
                </a:solidFill>
                <a:latin typeface="Berlin Sans FB"/>
              </a:rPr>
              <a:t>tener menos capacidad para formular sus propuest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Berlin Sans FB"/>
              </a:rPr>
              <a:t>Las deficiencias se originan desde las propias iniciativas loca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Berlin Sans FB"/>
              </a:rPr>
              <a:t>Hay una tendencia a formular más proyectos que forman capital fijo a proyectos que no forman capital fijo; no crece el capital humano; no se hacen inversiones en otras á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42920" y="373536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Vincular la</a:t>
            </a:r>
            <a:r>
              <a:rPr b="0" lang="es-GT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planificación del desarrollo con el presupuesto de inversión pública.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42920" y="31161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Fundamentar la negociación eficaz de la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cooperación internacional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42920" y="21747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Disponer de carteras de proyectos, técnicamente formulados y evaluados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42920" y="116676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Ordenar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y mejorar la calidad de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 la inversión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pública, incluido el aspecto de territorializarla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42920" y="45514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Implementar acciones de seguimiento y evaluación de la inversión pública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71040" y="5492880"/>
            <a:ext cx="59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Propiciar la transparencia y la auditor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í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a social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os log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042920" y="45990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da proyecto ha sido evaluado, dictaminado y priorizado (proceso desconcentrado)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42920" y="249228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l</a:t>
            </a: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SNIP tiene registrados cerca de 89,012 proyectos, aproximadamente en el período 2001-2013, no todos se han ejecutado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42920" y="1628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Tenemos una estrategia de</a:t>
            </a: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pacitación y asistencia técnica que ha promovido la cultura de proyectos en el paí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42920" y="836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da año desde  2001, el SNIP emite normas para formular y evaluar proyecto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042920" y="53910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da año, desde el 2001 hemos formulado el PIP, base para el presupuesto de inversión del Estado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7151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os log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42920" y="350208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on asignación de recursos cerca de 41,394 proyectos, aproximadamente en el período 2004-2013, a partir del modulo de seguimiento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1042920" y="191628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A partir del 2003, está a disposición el portal del SNIP con información de proyectos http://snip.segeplan.gob.gt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042920" y="69228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Hemos incorporado en nuestras normas, temas transversales, tales como: equidad de género, interculturalidad, medio ambiente, gestión de riesgo, discapacidad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42920" y="285264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ropiciamos alianzas estratégicas con centros de enseñanza, universidades  y sectores, para mejorar la capacidad nacional de formulación de proyecto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00536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Modernizamos permanentemente el sistema informático y el portal del SNIP (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robustez, conectividad, versatilidad, actualidad y escalabilidad)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042920" y="515772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laboramos guías metodológicas para la formulación del proyecto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042920" y="569592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Implementamos el módulo de seguimiento de la inversión pública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44280"/>
            <a:ext cx="7201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os log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o de inversión públ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bril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Imagen" descr="Proceso de inversion publica TERRITORIAL Abr2013 Pag 1.jpg"/>
          <p:cNvPicPr/>
          <p:nvPr/>
        </p:nvPicPr>
        <p:blipFill>
          <a:blip r:embed="rId2"/>
          <a:stretch/>
        </p:blipFill>
        <p:spPr>
          <a:xfrm>
            <a:off x="34920" y="100080"/>
            <a:ext cx="896472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 Imagen" descr="Proceso de inversion publica TERRITORIAL Abr2013 Pag 2.jpg"/>
          <p:cNvPicPr/>
          <p:nvPr/>
        </p:nvPicPr>
        <p:blipFill>
          <a:blip r:embed="rId2"/>
          <a:stretch/>
        </p:blipFill>
        <p:spPr>
          <a:xfrm>
            <a:off x="71280" y="166680"/>
            <a:ext cx="896472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785440" cy="55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2060"/>
                </a:solidFill>
                <a:latin typeface="Calibri"/>
                <a:ea typeface="Arial"/>
              </a:rPr>
              <a:t>Que sucedía antes de la implementación del SN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Baja capacidad institucional para formular y evaluar proyectos de inversión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No había proceso de inversión definido que contemplara la evaluación técnica y financiera de proyectos para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la asignación de recursos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Centralización en la toma de decisiones sobre la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Bajo nivel de ejecución de la inversión y ausencia de seguimiento físico y financiero de los proyectos en ejecución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Débil coordinación interinstitucional de las entidades ejecutor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Inexistente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vinculación entre la planificación y el 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presupues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34920" y="404640"/>
            <a:ext cx="9037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5690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9080" y="674640"/>
            <a:ext cx="86040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48196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2060"/>
                </a:solidFill>
                <a:latin typeface="Calibri"/>
              </a:rPr>
              <a:t>GRACIAS POR SU AT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2060"/>
                </a:solidFill>
                <a:latin typeface="Calibri"/>
                <a:ea typeface="Arial"/>
              </a:rPr>
              <a:t>Que sucedía antes de la implementación del SN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ostulación de proyectos discrecionalmente por la inexistencia de normas y ausencia de planes de desarroll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Los requerimientos de financiamiento únicamente eran respaldados con nombres y cifras, sin contar con documento de proyec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2060"/>
                </a:solidFill>
                <a:latin typeface="Calibri"/>
                <a:ea typeface="Arial"/>
              </a:rPr>
              <a:t>Distorsiones recurrentes en la Inversión Pú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144080"/>
            <a:ext cx="84358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Proyectos divididos en etapas o f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Sustitución de proyectos aprobados, cuyos recursos son transferidos a otros, sin que estos estén sustentados técnic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Incorporación de proyectos en instancias diferentes al SN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Transferencias o modificaciones presupuestarias que permiten trasladar recursos, disminuyendo las asignaciones de los proyectos para aumentárselas a otros o incorporar nuevos proyec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Es el conjunto de recursos financieros y técnicos que el Estado dedica a crear, incrementar, modernizar, reponer, reconstruir y mejorar la capacidad del país para producir bienes y servicios, con el propósito de lograr el bienestar de la sociedad y eliminar las carenci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553760" y="295200"/>
            <a:ext cx="629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¿Qué es la inversión pública?</a:t>
            </a:r>
            <a:endParaRPr b="0" lang="en-US" sz="40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2060"/>
                </a:solidFill>
                <a:latin typeface="Calibri"/>
              </a:rPr>
              <a:t>Conformación de la Inversión Públ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5 Diagrama" descr=""/>
          <p:cNvPicPr/>
          <p:nvPr/>
        </p:nvPicPr>
        <p:blipFill>
          <a:blip r:embed="rId2"/>
          <a:stretch/>
        </p:blipFill>
        <p:spPr>
          <a:xfrm>
            <a:off x="1249200" y="835200"/>
            <a:ext cx="6639120" cy="5284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619280" y="3213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619280" y="32130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versión Pública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2060"/>
                </a:solidFill>
                <a:latin typeface="Calibri"/>
              </a:rPr>
              <a:t>Importancia de la inversión públ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La tasa de crecimiento de un país está en función de una buena asignación de la inversión púb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Mayor crecimiento económico implica mejorar la programación y administración de inversiones del sector públ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Calibri"/>
              </a:rPr>
              <a:t>La inversión pública debe asignarse en función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Su aporte al crecimient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Progres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Reducción de desigual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socio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de gén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étn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etá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Manejo sustentable del medio amb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50292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Calibri"/>
              </a:rPr>
              <a:t>¿QUÉ ES EL SNIP?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El Sistema Nacional de Inversión Pública, se conforma por el conjunto de entidades públicas de inversión, normas técnicas, procedimientos, instrumentos y herramientas informáticas que permiten ordenar adecuadamente el proceso de inversión pública, a efecto de concretar los proyectos con mayor rentabilidad financiera, económica y/o social, en atención a las políticas públicas y en beneficio de la población, dentro del marco del Sistema Nacional de Planificación para Desarrol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44:21Z</dcterms:created>
  <dc:creator>... .</dc:creator>
  <dc:description/>
  <dc:language>en-US</dc:language>
  <cp:lastModifiedBy>Otto Rolando González Mendizabal</cp:lastModifiedBy>
  <dcterms:modified xsi:type="dcterms:W3CDTF">2013-06-25T17:57:32Z</dcterms:modified>
  <cp:revision>81</cp:revision>
  <dc:subject/>
  <dc:title>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o</vt:lpwstr>
  </property>
  <property fmtid="{D5CDD505-2E9C-101B-9397-08002B2CF9AE}" pid="3" name="Descripción">
    <vt:lpwstr>Plantilla oficial para uso en presentaciones con PowerPoint</vt:lpwstr>
  </property>
</Properties>
</file>