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958-769E-4229-82B5-7F015C4B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DCF-183F-41CA-9AED-D103C371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5AE-D7EF-4417-A538-A15C0539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41A-8365-4737-BFC6-F09F7F0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927-2BC3-47D8-84E0-DB81E13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378-628C-4387-9AD1-9B4CBB96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019-9EA4-4DDF-AEE0-CC079790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063-F1BB-4C06-814C-F77085BA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637-A6DD-48A1-BA9E-CF56212D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666-1CD3-4E57-8D18-3DD1F64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2C9-FC7F-452D-BD9F-1DD3DB16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F6A-91DD-4239-A38D-01B5ABF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AC04-4D23-4389-AEE6-146B31E9F8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oll-up-dgi-01A-20130220"/>
          <p:cNvPicPr/>
          <p:nvPr/>
        </p:nvPicPr>
        <p:blipFill>
          <a:blip r:embed="rId1"/>
          <a:srcRect l="0" t="61573" r="0" b="0"/>
          <a:stretch/>
        </p:blipFill>
        <p:spPr>
          <a:xfrm>
            <a:off x="2195640" y="3092400"/>
            <a:ext cx="4725720" cy="335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746440" y="836640"/>
            <a:ext cx="345132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8 Rectángulo"/>
          <p:cNvSpPr/>
          <p:nvPr/>
        </p:nvSpPr>
        <p:spPr>
          <a:xfrm>
            <a:off x="3434400" y="2577960"/>
            <a:ext cx="2075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500" spc="-1" strike="noStrike">
                <a:solidFill>
                  <a:srgbClr val="000000"/>
                </a:solidFill>
                <a:latin typeface="Impact"/>
              </a:rPr>
              <a:t>Uruguay</a:t>
            </a: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a imagen de la enseñanz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¿Acuerdos? Sí, puramente for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¿Contenidos curriculares? Volvemos en 10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involucramiento de los doc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as que la DGI no puede abar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studios que sustenten 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roll-up-dgi-01A-20130220"/>
          <p:cNvPicPr/>
          <p:nvPr/>
        </p:nvPicPr>
        <p:blipFill>
          <a:blip r:embed="rId1"/>
          <a:srcRect l="0" t="61581" r="0" b="0"/>
          <a:stretch/>
        </p:blipFill>
        <p:spPr>
          <a:xfrm>
            <a:off x="7524720" y="174600"/>
            <a:ext cx="1441440" cy="1022400"/>
          </a:xfrm>
          <a:prstGeom prst="rect">
            <a:avLst/>
          </a:prstGeom>
          <a:ln w="0">
            <a:noFill/>
          </a:ln>
        </p:spPr>
      </p:pic>
      <p:sp>
        <p:nvSpPr>
          <p:cNvPr id="46" name="1 Rectángulo"/>
          <p:cNvSpPr/>
          <p:nvPr/>
        </p:nvSpPr>
        <p:spPr>
          <a:xfrm>
            <a:off x="663840" y="984240"/>
            <a:ext cx="2236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99ff"/>
                </a:solidFill>
                <a:latin typeface="Impact"/>
              </a:rPr>
              <a:t>Debilidades</a:t>
            </a:r>
            <a:r>
              <a:rPr b="0" lang="es-UY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¿Qué quieren los educa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inisterios de Educación exit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os eficaces y atr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spi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roll-up-dgi-01A-20130220"/>
          <p:cNvPicPr/>
          <p:nvPr/>
        </p:nvPicPr>
        <p:blipFill>
          <a:blip r:embed="rId1"/>
          <a:srcRect l="0" t="61581" r="0" b="0"/>
          <a:stretch/>
        </p:blipFill>
        <p:spPr>
          <a:xfrm>
            <a:off x="7524720" y="174600"/>
            <a:ext cx="1441440" cy="1022400"/>
          </a:xfrm>
          <a:prstGeom prst="rect">
            <a:avLst/>
          </a:prstGeom>
          <a:ln w="0">
            <a:noFill/>
          </a:ln>
        </p:spPr>
      </p:pic>
      <p:sp>
        <p:nvSpPr>
          <p:cNvPr id="49" name="1 Rectángulo"/>
          <p:cNvSpPr/>
          <p:nvPr/>
        </p:nvSpPr>
        <p:spPr>
          <a:xfrm>
            <a:off x="710280" y="984240"/>
            <a:ext cx="1200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99ff"/>
                </a:solidFill>
                <a:latin typeface="Impact"/>
              </a:rPr>
              <a:t>Retos</a:t>
            </a:r>
            <a:r>
              <a:rPr b="0" lang="es-UY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2700360" y="1706400"/>
            <a:ext cx="3567240" cy="6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Stock_000020475560_Medium"/>
          <p:cNvPicPr/>
          <p:nvPr/>
        </p:nvPicPr>
        <p:blipFill>
          <a:blip r:embed="rId2"/>
          <a:stretch/>
        </p:blipFill>
        <p:spPr>
          <a:xfrm>
            <a:off x="1422360" y="225756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18:02Z</dcterms:created>
  <dc:creator>3499</dc:creator>
  <dc:description/>
  <dc:language>en-US</dc:language>
  <cp:lastModifiedBy>Sistemas</cp:lastModifiedBy>
  <dcterms:modified xsi:type="dcterms:W3CDTF">2013-06-26T23:35:05Z</dcterms:modified>
  <cp:revision>69</cp:revision>
  <dc:subject/>
  <dc:title>Diapositiva 1</dc:title>
</cp:coreProperties>
</file>