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D86-1B07-4407-B0EE-A47C66EC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AAC-E78A-42F7-AA1F-965A8890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B46-E9D2-484E-BBA1-DC33CCEA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A2C-A1EB-428E-AAA3-23DDD661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DD2-49D3-4976-8F75-CA355B0B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773-2F1E-4855-A1DE-3940872C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AE2-4429-4130-8B5D-168FE518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407-AC82-46A2-84C0-6E06061B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E7F-E1E5-4A18-8478-0873A4B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A05-6514-47E1-8AAD-2E0812D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47B-E146-4503-B918-64C3B1A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772-18B6-4A8B-B1E5-778D0EF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1A27-265A-4541-90D8-2532DBFEF5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oll-up-dgi-01A-20130220"/>
          <p:cNvPicPr/>
          <p:nvPr/>
        </p:nvPicPr>
        <p:blipFill>
          <a:blip r:embed="rId1"/>
          <a:srcRect l="0" t="61573" r="0" b="0"/>
          <a:stretch/>
        </p:blipFill>
        <p:spPr>
          <a:xfrm>
            <a:off x="2195640" y="3092400"/>
            <a:ext cx="4725720" cy="335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746440" y="836640"/>
            <a:ext cx="345132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8 Rectángulo"/>
          <p:cNvSpPr/>
          <p:nvPr/>
        </p:nvSpPr>
        <p:spPr>
          <a:xfrm>
            <a:off x="3434400" y="2577960"/>
            <a:ext cx="2075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Impact"/>
              </a:rPr>
              <a:t>Uruguay</a:t>
            </a: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a imagen de la enseñanz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¿Acuerdos? Sí, puramente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¿Contenidos curriculares? Volvemos en 10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involucramiento de los doc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as que la DGI no puede abar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studios que sustenten 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roll-up-dgi-01A-20130220"/>
          <p:cNvPicPr/>
          <p:nvPr/>
        </p:nvPicPr>
        <p:blipFill>
          <a:blip r:embed="rId1"/>
          <a:srcRect l="0" t="61581" r="0" b="0"/>
          <a:stretch/>
        </p:blipFill>
        <p:spPr>
          <a:xfrm>
            <a:off x="7524720" y="174600"/>
            <a:ext cx="1441440" cy="1022400"/>
          </a:xfrm>
          <a:prstGeom prst="rect">
            <a:avLst/>
          </a:prstGeom>
          <a:ln w="0">
            <a:noFill/>
          </a:ln>
        </p:spPr>
      </p:pic>
      <p:sp>
        <p:nvSpPr>
          <p:cNvPr id="46" name="1 Rectángulo"/>
          <p:cNvSpPr/>
          <p:nvPr/>
        </p:nvSpPr>
        <p:spPr>
          <a:xfrm>
            <a:off x="663840" y="984240"/>
            <a:ext cx="2236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99ff"/>
                </a:solidFill>
                <a:latin typeface="Impact"/>
              </a:rPr>
              <a:t>Debilidades</a:t>
            </a:r>
            <a:r>
              <a:rPr b="0" lang="es-UY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¿Qué quieren los educa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inisterios de Educación exit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os eficaces y atr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spi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roll-up-dgi-01A-20130220"/>
          <p:cNvPicPr/>
          <p:nvPr/>
        </p:nvPicPr>
        <p:blipFill>
          <a:blip r:embed="rId1"/>
          <a:srcRect l="0" t="61581" r="0" b="0"/>
          <a:stretch/>
        </p:blipFill>
        <p:spPr>
          <a:xfrm>
            <a:off x="7524720" y="174600"/>
            <a:ext cx="1441440" cy="1022400"/>
          </a:xfrm>
          <a:prstGeom prst="rect">
            <a:avLst/>
          </a:prstGeom>
          <a:ln w="0">
            <a:noFill/>
          </a:ln>
        </p:spPr>
      </p:pic>
      <p:sp>
        <p:nvSpPr>
          <p:cNvPr id="49" name="1 Rectángulo"/>
          <p:cNvSpPr/>
          <p:nvPr/>
        </p:nvSpPr>
        <p:spPr>
          <a:xfrm>
            <a:off x="710280" y="984240"/>
            <a:ext cx="1200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99ff"/>
                </a:solidFill>
                <a:latin typeface="Impact"/>
              </a:rPr>
              <a:t>Retos</a:t>
            </a:r>
            <a:r>
              <a:rPr b="0" lang="es-UY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2700360" y="1706400"/>
            <a:ext cx="3567240" cy="6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Stock_000020475560_Medium"/>
          <p:cNvPicPr/>
          <p:nvPr/>
        </p:nvPicPr>
        <p:blipFill>
          <a:blip r:embed="rId2"/>
          <a:stretch/>
        </p:blipFill>
        <p:spPr>
          <a:xfrm>
            <a:off x="1422360" y="225756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18:02Z</dcterms:created>
  <dc:creator>3499</dc:creator>
  <dc:description/>
  <dc:language>en-US</dc:language>
  <cp:lastModifiedBy>Sistemas</cp:lastModifiedBy>
  <dcterms:modified xsi:type="dcterms:W3CDTF">2013-06-26T23:35:05Z</dcterms:modified>
  <cp:revision>69</cp:revision>
  <dc:subject/>
  <dc:title>Diapositiva 1</dc:title>
</cp:coreProperties>
</file>