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9F8D-BC6A-4F97-9B88-10F024B0C143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3B7-E9C5-477F-BA4F-445EAC2EE87A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1B9-513E-4D42-A6C0-7D047D298441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100-0D92-442D-9BAC-97EDFDFDEE80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EC8D-0ED0-4D46-ADD7-7C12D0B3792D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85E-557D-4A79-9770-8D12342F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A8B-BDC2-47D5-AC11-E00574D3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809-BFFD-4DC6-8847-7DD71D6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894-8AAA-4B15-8410-4D43099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2ED-7863-48E0-8B0F-503181C8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2A2-D878-414E-86A7-0B70858F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78F5-0124-4F66-8DB5-23D1418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0C7A-6FC9-4708-804B-D7855192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B759-1748-46B0-9641-BAF29E1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6D30-E15F-4444-B58F-2D25172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C62-A811-4C7D-A975-E936CB3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AB6-A8C3-4150-805C-3F52981F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5A4-A066-4E3D-BC91-D0A6B74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35F3-0550-4111-85D9-CD7AF97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FFE-F42F-4AF9-89FA-4988494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225-9DBC-4D33-ACC3-F3B42A33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CBD1-DDA0-4506-A48A-EB2C557E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C54B-685E-4BF1-81F1-8EA4912E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320F-7E72-4B8E-9CC4-15AD42F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8FE8-2D8A-4E39-A461-F85E3E8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0F81-3E3C-48CE-85BA-2239F53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646F-7EAC-46F6-8325-6D91EB6A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D2B-CE2F-42A7-B119-26894E0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12D5-286F-4B11-ABC6-11B988B1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E48F-F4CA-4FF2-949B-9CAC74B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D9A7-7192-47D1-9BFC-3D5AF32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B4EB-AE0D-48E2-B2BB-B63505D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A3DA-DEE7-4EF9-8153-2E03EAF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1A3B-84F1-4D4B-A0AC-11D62A7B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2EC9-E3AD-4028-8DD9-D99D22C7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FEF8-8508-4CD2-B8FE-D396E425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112A-2705-4AFD-BE9F-F65B718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780B-2621-43B0-B4F7-A85ABF0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B1E-CC6C-4C43-8B01-5485764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DDA2-6729-43B6-A415-4E2F9AB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EFD5-E692-437F-B998-B1779B8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56EC-4EA2-4A8C-93FA-862D68A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B020-9439-432B-8D3C-6EFB54EC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03F8-5636-4508-B430-94A786A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6584-F410-4BDA-BED0-58E8ED1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1940-9329-40EE-A6C6-3F0E28D4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D883-BD43-49DC-ABEB-DDEA3CC3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04ED-60BD-4EA7-96FA-7E0C0AD9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712-2CCF-44B6-B306-6D7AF03C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DC9-F5EB-41A5-A350-67F5F53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855-315D-4D7B-A29B-79EBD86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B0-FA27-47F1-90B8-F9D30CE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FD5-5E27-4BEB-9093-256D18C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82D8-EE11-46A3-9A1A-92C2069BFEA2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9B7-6C7B-42F9-BC29-8C3FFE1128E3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FD8F-F9C6-4044-AF76-D0EC345CF4CC}" type="slidenum">
              <a:rPr b="0" lang="es-EC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B77-0537-45AD-8F56-767B3375A8E9}" type="slidenum">
              <a:rPr b="0" lang="es-EC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86360"/>
            <a:ext cx="820728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i="1" lang="es-ES" sz="4500" spc="-1" strike="noStrike">
                <a:solidFill>
                  <a:srgbClr val="0f6fc6"/>
                </a:solidFill>
                <a:latin typeface="Calibri"/>
                <a:ea typeface="Arial"/>
              </a:rPr>
              <a:t>VISITA DE INTERCAMBIO PARA CONOCER EL PROGRAMA DE EDUCACIÓN FISCAL DE EL SALVADOR</a:t>
            </a:r>
            <a:br>
              <a:rPr sz="4500"/>
            </a:br>
            <a:br>
              <a:rPr sz="4500"/>
            </a:br>
            <a:r>
              <a:rPr b="1" i="1" lang="es-ES" sz="3600" spc="-1" strike="noStrike">
                <a:solidFill>
                  <a:srgbClr val="0f6fc6"/>
                </a:solidFill>
                <a:latin typeface="Calibri"/>
                <a:ea typeface="Arial"/>
              </a:rPr>
              <a:t>Taller F.O.D.A.</a:t>
            </a:r>
            <a:br>
              <a:rPr sz="4500"/>
            </a:br>
            <a:r>
              <a:rPr b="1" i="1" lang="es-ES" sz="2500" spc="-1" strike="noStrike">
                <a:solidFill>
                  <a:srgbClr val="0f6fc6"/>
                </a:solidFill>
                <a:latin typeface="Calibri"/>
                <a:ea typeface="Arial"/>
              </a:rPr>
              <a:t>Ecuador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198520" cy="1341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www.larepublica.ec/wp-content/uploads/2011/08/ministerio-de-educaci%C3%B3n-e1314221064578.jpg"/>
          <p:cNvPicPr/>
          <p:nvPr/>
        </p:nvPicPr>
        <p:blipFill>
          <a:blip r:embed="rId2"/>
          <a:stretch/>
        </p:blipFill>
        <p:spPr>
          <a:xfrm>
            <a:off x="6875640" y="44280"/>
            <a:ext cx="223344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Situación Ac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Servicio de Rentas Internas y el Ministerio de Educación suscribieron un Convenio de Cooperación Interinstitucional, por el que a partir de enero de 2000 ambas instituciones iniciaron acciones conjuntas orientadas a lograr que la población estudiantil comparta un conjunto de valores, creencias y actitudes orientadas hacia el cumplimiento y observancia de las leyes tributari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Se lleva a cabo los programas de educación tributaria en educación básica con estudiantes de los 6tos y 7mos años como en bachillerato con estudiantes de 1ro y 2do añ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Fortalez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Gozan de la confianza y reconocimiento social por hacerle bien al paí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Convenio firmado entre ambas instituciones para crear valores, creencias y aptitudes en la población estudiant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Elaboración anual de Planes Operativos Anu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Llega a los estudiantes de los niveles de educación básica y secund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Constantia"/>
              </a:rPr>
              <a:t>Apoyo para la elaboración de material educativ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Debi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recurso humano dedicado exclusivamente a construir ciudadaní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existe presupuesto asignado para invertir en proyectos de educación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No logra alcanzar la demanda de los centros educativos que quieren pertenecer a los programas que oferta la administración tribu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600" spc="-1" strike="noStrike">
                <a:solidFill>
                  <a:srgbClr val="000000"/>
                </a:solidFill>
                <a:latin typeface="Constantia"/>
              </a:rPr>
              <a:t>Falta de medición de resultados de los programas de educación fiscal para tomar las acciones pertinen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267920"/>
            <a:ext cx="843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rear un lugar recreativo para niños, adolescentes y adultos para concientizar la tributación a la población en gene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un material de apoyo que ayude a desarrollar competencias y destrezas a los estudiantes de educación superior para fortalecer los conocimientos adquiridos y para aquellos que  no lo han tratado todav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arrollo de la página web sobre educación fiscal como lugar de consulta y recreación de la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de los programas de educación fiscal para crear una red entre los países de América Latina  y Centro América a través de la creación de aulas vir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5000" spc="-1" strike="noStrike">
                <a:solidFill>
                  <a:srgbClr val="ff0000"/>
                </a:solidFill>
                <a:latin typeface="Calibri"/>
              </a:rPr>
              <a:t>Estrateg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scar apoyo pedagógico para los diferentes grupos de formador de formadores de la Administración Tributar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isitas de intercambio en los países de Latinoamér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aboración de recurso humano para la elaboración de folletos y material de trabajo  para impartir ciudadanía fisc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cción de videos sobre ciudadanía fiscal con la ayuda de ciertas instituciones involucradas en el proce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1:12:12Z</dcterms:created>
  <dc:creator>Silvy S</dc:creator>
  <dc:description/>
  <dc:language>en-US</dc:language>
  <cp:lastModifiedBy>Silvy S</cp:lastModifiedBy>
  <dcterms:modified xsi:type="dcterms:W3CDTF">2013-06-26T22:57:32Z</dcterms:modified>
  <cp:revision>16</cp:revision>
  <dc:subject/>
  <dc:title>Situación Actual</dc:title>
</cp:coreProperties>
</file>