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3255-9F87-4F95-8D95-F5851701CCD4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C970-B7A1-4B87-B4B8-DB18B51DF243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8D97-CC5F-4334-988E-C09F5988D0DE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0AC5-739A-46AB-A069-3E5580283C40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A3B4-C4E1-4AB3-9714-9030573A6A5A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DF5-3CF1-40CE-9BF1-665DDFD9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41A-765F-4969-942C-614383AE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7ED-AA24-4A1C-8588-A8F8FFE9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BF6-B055-48AB-B69E-D60EA687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4635-A6CF-46E0-B0B2-E7BD3C60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628F-D1FE-4E84-B566-F1098155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E735-EC94-47A4-8248-9B1C7890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65D6-7867-43E4-8086-FB72303B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EF0E-0788-46E2-988D-22029BBD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9664-B62F-43F2-BBE9-1C6E25F6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DF32-2C86-4F78-84A9-04B65E40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669-CBB7-4AD9-A97C-ADF3394E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2674-AD77-4FAB-B023-DA0B61C9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7ED3-5444-4964-9318-AD6CB197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5ABF-0AE8-4088-BEAA-615AB831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CEE5-1F4A-4A73-8907-06CE53A7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4279-DF42-41B5-B1B7-7B6AA2A8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9C8DD-57B3-48D7-8425-7085681D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67F42-F425-4B69-BDD9-70327EAD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50FFE-CC55-4E53-84AD-63161EC3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D2380-89EB-45CB-BE3B-A36F689F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5977-B261-45E9-A72A-7CD425D6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1FB-1469-4E05-A537-A6E94456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D891-630D-467B-9B0F-4A444BB6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064E4-693C-4043-AC1D-038B0573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22482-3F03-4A16-B57D-3B1765A3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CC9B-57ED-4C7E-8727-DA6A0732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C6DA-78F0-458C-91EB-BC623125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80EFC-F49B-4213-8876-E178399C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3A21A-CE47-4C3C-A0B5-A89C14F2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8FFDE-F04B-4125-8CA7-CBC1D3AC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4926C-24C3-48BE-B1DD-54E63586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3DBB1-E746-473F-9645-8F53881E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10A-CA12-4216-AD17-F0552435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6A273-4A6B-4052-B467-26083583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F8D95-A3D1-4F20-99BC-7916F76B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6BC5-8CC2-46DB-9051-A0294A10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8DC1C-1338-46AD-8F9A-AB7FC9FF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1215B-545C-4BD4-A10D-3912DBC8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B6FA5-2E0C-4E54-975D-AFC93FB5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4AC4-C48E-405A-8A94-64675DAA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AD9A8-AFFA-430C-AC7D-1FF78185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E8F4C-9242-4C91-99B0-4815B92F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206-2306-4651-AFFC-4CEF5E22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F60-F230-44A8-A33E-5BC0D225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0E9-40AE-4084-BC19-438BB32C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438-DBE9-46A6-AEED-8E5827EC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695-BA7E-49A4-A0D1-7448E3C6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0971-0F9F-4004-ADBD-4C16771AE8C6}" type="slidenum">
              <a:rPr b="0" lang="es-EC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FB15-CEFE-4A63-813B-40A656E3D0E2}" type="slidenum">
              <a:rPr b="0" lang="es-EC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AF9A-6348-4522-9B34-CA8531D79560}" type="slidenum">
              <a:rPr b="0" lang="es-EC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B0F3-1BD4-4A8E-AC26-F1C41A0EDFD6}" type="slidenum">
              <a:rPr b="0" lang="es-EC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086360"/>
            <a:ext cx="820728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1" i="1" lang="es-ES" sz="4500" spc="-1" strike="noStrike">
                <a:solidFill>
                  <a:srgbClr val="0f6fc6"/>
                </a:solidFill>
                <a:latin typeface="Calibri"/>
                <a:ea typeface="Arial"/>
              </a:rPr>
              <a:t>VISITA DE INTERCAMBIO PARA CONOCER EL PROGRAMA DE EDUCACIÓN FISCAL DE EL SALVADOR</a:t>
            </a:r>
            <a:br>
              <a:rPr sz="4500"/>
            </a:br>
            <a:br>
              <a:rPr sz="4500"/>
            </a:br>
            <a:r>
              <a:rPr b="1" i="1" lang="es-ES" sz="3600" spc="-1" strike="noStrike">
                <a:solidFill>
                  <a:srgbClr val="0f6fc6"/>
                </a:solidFill>
                <a:latin typeface="Calibri"/>
                <a:ea typeface="Arial"/>
              </a:rPr>
              <a:t>Taller F.O.D.A.</a:t>
            </a:r>
            <a:br>
              <a:rPr sz="4500"/>
            </a:br>
            <a:r>
              <a:rPr b="1" i="1" lang="es-ES" sz="2500" spc="-1" strike="noStrike">
                <a:solidFill>
                  <a:srgbClr val="0f6fc6"/>
                </a:solidFill>
                <a:latin typeface="Calibri"/>
                <a:ea typeface="Arial"/>
              </a:rPr>
              <a:t>Ecuador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2198520" cy="1341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http://www.larepublica.ec/wp-content/uploads/2011/08/ministerio-de-educaci%C3%B3n-e1314221064578.jpg"/>
          <p:cNvPicPr/>
          <p:nvPr/>
        </p:nvPicPr>
        <p:blipFill>
          <a:blip r:embed="rId2"/>
          <a:stretch/>
        </p:blipFill>
        <p:spPr>
          <a:xfrm>
            <a:off x="6875640" y="44280"/>
            <a:ext cx="2233440" cy="12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91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5000" spc="-1" strike="noStrike">
                <a:solidFill>
                  <a:srgbClr val="ff0000"/>
                </a:solidFill>
                <a:latin typeface="Calibri"/>
              </a:rPr>
              <a:t>Situación Actu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Servicio de Rentas Internas y el Ministerio de Educación suscribieron un Convenio de Cooperación Interinstitucional, por el que a partir de enero de 2000 ambas instituciones iniciaron acciones conjuntas orientadas a lograr que la población estudiantil comparta un conjunto de valores, creencias y actitudes orientadas hacia el cumplimiento y observancia de las leyes tributari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600" spc="-1" strike="noStrike">
                <a:solidFill>
                  <a:srgbClr val="000000"/>
                </a:solidFill>
                <a:latin typeface="Constantia"/>
              </a:rPr>
              <a:t>Se lleva a cabo los programas de educación tributaria en educación básica con estudiantes de los 6tos y 7mos años como en bachillerato con estudiantes de 1ro y 2do añ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90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5000" spc="-1" strike="noStrike">
                <a:solidFill>
                  <a:srgbClr val="ff0000"/>
                </a:solidFill>
                <a:latin typeface="Calibri"/>
              </a:rPr>
              <a:t>Fortalez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Gozan de la confianza y reconocimiento social por hacerle bien al paí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Convenio firmado entre ambas instituciones para crear valores, creencias y aptitudes en la población estudianti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Elaboración anual de Planes Operativos Anua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Llega a los estudiantes de los niveles de educación básica y secund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Apoyo para la elaboración de material educativ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5000" spc="-1" strike="noStrike">
                <a:solidFill>
                  <a:srgbClr val="ff0000"/>
                </a:solidFill>
                <a:latin typeface="Calibri"/>
              </a:rPr>
              <a:t>Debi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600" spc="-1" strike="noStrike">
                <a:solidFill>
                  <a:srgbClr val="000000"/>
                </a:solidFill>
                <a:latin typeface="Constantia"/>
              </a:rPr>
              <a:t>Falta de recurso humano dedicado exclusivamente a construir ciudadanía fis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600" spc="-1" strike="noStrike">
                <a:solidFill>
                  <a:srgbClr val="000000"/>
                </a:solidFill>
                <a:latin typeface="Constantia"/>
              </a:rPr>
              <a:t>No existe presupuesto asignado para invertir en proyectos de educación fis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600" spc="-1" strike="noStrike">
                <a:solidFill>
                  <a:srgbClr val="000000"/>
                </a:solidFill>
                <a:latin typeface="Constantia"/>
              </a:rPr>
              <a:t>No logra alcanzar la demanda de los centros educativos que quieren pertenecer a los programas que oferta la administración tributa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600" spc="-1" strike="noStrike">
                <a:solidFill>
                  <a:srgbClr val="000000"/>
                </a:solidFill>
                <a:latin typeface="Constantia"/>
              </a:rPr>
              <a:t>Falta de medición de resultados de los programas de educación fiscal para tomar las acciones pertinen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5000" spc="-1" strike="noStrike">
                <a:solidFill>
                  <a:srgbClr val="ff0000"/>
                </a:solidFill>
                <a:latin typeface="Calibri"/>
              </a:rPr>
              <a:t>Estrateg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4000" y="1267920"/>
            <a:ext cx="8434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rear un lugar recreativo para niños, adolescentes y adultos para concientizar la tributación a la población en gener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strucción de un material de apoyo que ayude a desarrollar competencias y destrezas a los estudiantes de educación superior para fortalecer los conocimientos adquiridos y para aquellos que  no lo han tratado todaví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sarrollo de la página web sobre educación fiscal como lugar de consulta y recreación de la ciudadanía fisc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uscar apoyo de los programas de educación fiscal para crear una red entre los países de América Latina  y Centro América a través de la creación de aulas virtu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5000" spc="-1" strike="noStrike">
                <a:solidFill>
                  <a:srgbClr val="ff0000"/>
                </a:solidFill>
                <a:latin typeface="Calibri"/>
              </a:rPr>
              <a:t>Estrateg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uscar apoyo pedagógico para los diferentes grupos de formador de formadores de la Administración Tributar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isitas de intercambio en los países de Latinoamér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laboración de recurso humano para la elaboración de folletos y material de trabajo  para impartir ciudadanía fisc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strucción de videos sobre ciudadanía fiscal con la ayuda de ciertas instituciones involucradas en el proces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21:12:12Z</dcterms:created>
  <dc:creator>Silvy S</dc:creator>
  <dc:description/>
  <dc:language>en-US</dc:language>
  <cp:lastModifiedBy>Silvy S</cp:lastModifiedBy>
  <dcterms:modified xsi:type="dcterms:W3CDTF">2013-06-26T22:57:32Z</dcterms:modified>
  <cp:revision>16</cp:revision>
  <dc:subject/>
  <dc:title>Situación Actual</dc:title>
</cp:coreProperties>
</file>