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0A5-F552-4B5B-A268-416CDD20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516-CD72-4EB9-B739-8ABDD59F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4D3-C593-4C11-884C-FA04B793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4BF-F8C8-451F-9A6F-EFE151E2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D2F-B81B-4F8F-A57B-225A1E22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E93-C0AD-4094-8499-79B4CCFB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B3D-DDE3-4017-B14B-3D6DFA73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257-C186-4AEC-AA3F-B945500E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7F8-2CD2-4A3E-81E6-F92FCD35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FD2-AB84-4A37-B92D-4990DF9A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5AA-77C1-44BF-962E-3B111293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927-95AF-44FF-A1E0-8967CDC5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ADFD-19F4-48E0-819E-8404DF3BD3E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560" y="4508640"/>
            <a:ext cx="669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Calibri"/>
              </a:rPr>
              <a:t>Programa Nacional de Educação Fisc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http://asimplicidadedascoisas.files.wordpress.com/2011/11/logo-pnef.jpg"/>
          <p:cNvPicPr/>
          <p:nvPr/>
        </p:nvPicPr>
        <p:blipFill>
          <a:blip r:embed="rId1"/>
          <a:stretch/>
        </p:blipFill>
        <p:spPr>
          <a:xfrm>
            <a:off x="2556000" y="333360"/>
            <a:ext cx="36716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220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sultados da pesquisa. Ausência de análise dos dados obti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rientador para novas ações do PN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ase para apoios institucion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2060"/>
                </a:solidFill>
                <a:latin typeface="Calibri"/>
              </a:rPr>
              <a:t>ESAF – CEARÁ</a:t>
            </a:r>
            <a:br>
              <a:rPr sz="4800"/>
            </a:br>
            <a:r>
              <a:rPr b="1" lang="pt-BR" sz="4800" spc="-1" strike="noStrike">
                <a:solidFill>
                  <a:srgbClr val="002060"/>
                </a:solidFill>
                <a:latin typeface="Calibri"/>
              </a:rPr>
              <a:t>(Brasi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CENTRESAF - CEAR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ojeto de Educação Fiscal para Universitá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Curso Tributação e Cidadania Fisc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Disseminar a função social do tributo      e seu papel para a consecução de políticas de melhoria da qualidade de vida dos cidadãos, possibilitando a instrumentalização dos estudantes para o exercício profissional, à participação e o controle soci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Período: 11/05 a 29/06/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Carga Horária: 32h/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úblico alvo: estudantes dos Cursos de Ciências Contábeis (Nível Superio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Metodolog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alestras interativas – 24 ho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Visita Técnica – 8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SEFAZ – ESAF - RFB – CGU – SEF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romoção: Conselho de Contabilidade do Ceará (CR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alização: Escola de Administração Fazendária (ESAF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arcerias: RFB, SEFAZ, SEFIN, CGU e TCM-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Conteudo Programa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904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- Relação-Estado e sociedade: cidadania fisc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- Sistema Tributário Nacional e a função dos tribu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3- Tributos Federais a Administração Tributária Fede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4- Tributos Estaduais e Administração Tributária Estad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5- Tributos Municipais e Administração Tributária Municip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6- Gestão Democrática dos recurso públicos e controle soc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2060"/>
                </a:solidFill>
                <a:latin typeface="Calibri"/>
              </a:rPr>
              <a:t>AÇÕES FUTU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1- Criação de Laboratório Social (CRC-CE e ESAF-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2- Trabalho de Conclusão do Curso Superior com temas voltados para Educação Fis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3- Interesse de estudantes em participar de trabalhos voluntários de Educação Fis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4- Realizar o Curso para outros Conselh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ponsável pela Coordenação Geral do PN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senvolver pessoas para o aperfeiçoamento da gestão das finanças públicas e a promoção da cidadania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ponsável pela formação dos servidores do quadro do Ministério da Fazenda, a Esaf também promove estudos sobre a política fiscal no paí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2" descr="https://encrypted-tbn0.gstatic.com/images?q=tbn:ANd9GcQMnMhHbuwlXSO1EcjUM39pWIEw5BEiS-nxqo79X6ou4o-GvLZa"/>
          <p:cNvPicPr/>
          <p:nvPr/>
        </p:nvPicPr>
        <p:blipFill>
          <a:blip r:embed="rId1"/>
          <a:stretch/>
        </p:blipFill>
        <p:spPr>
          <a:xfrm>
            <a:off x="6804000" y="260280"/>
            <a:ext cx="2129040" cy="2017800"/>
          </a:xfrm>
          <a:prstGeom prst="rect">
            <a:avLst/>
          </a:prstGeom>
          <a:ln w="0">
            <a:noFill/>
          </a:ln>
        </p:spPr>
      </p:pic>
      <p:sp>
        <p:nvSpPr>
          <p:cNvPr id="48" name="CaixaDeTexto 5"/>
          <p:cNvSpPr/>
          <p:nvPr/>
        </p:nvSpPr>
        <p:spPr>
          <a:xfrm>
            <a:off x="755640" y="765000"/>
            <a:ext cx="587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Escola de Administração Fazendá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253656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dentificar o nível de conhecimento dos cidadãos sobre a política fiscal (impostos, recursos e gastos públicos, controle e ação do Estado), bem como captar a percepção dos indivíduos quanto às responsabilidades dos órgãos do Est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249192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Questionário estruturado com 48 questõe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2016 entrevistad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Realizada em abril de 2010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(Nova pesquisa – 201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06720" y="404640"/>
            <a:ext cx="7037280" cy="443880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5"/>
          <p:cNvSpPr/>
          <p:nvPr/>
        </p:nvSpPr>
        <p:spPr>
          <a:xfrm>
            <a:off x="539640" y="476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O Sr(a). paga imposto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ço Reservado para Conteúdo 2"/>
          <p:cNvSpPr/>
          <p:nvPr/>
        </p:nvSpPr>
        <p:spPr>
          <a:xfrm>
            <a:off x="250920" y="5229360"/>
            <a:ext cx="8677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os 1391 entrevistados que declararam pagar imposto, mais de 300 não conseguem citar o nome de nenhum imposto que pa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62028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Seu nível de imposto está dentro da sua capacidade de pagar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53452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286760" cy="4969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O Sr(a) acha que os cidadãos em geral possuem acesso à orientação e informação sobre a importância de pagar em dia os seus impostos?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O(a) Sr.(a) pagaria mais imposto se fosse para ter mais serviços públicos em troca?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8052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360" y="2276280"/>
            <a:ext cx="822960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cepção sobre recursos e gastos públ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trole das ações do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olítica Fiscal: funções e responsabil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Pesquisa da Percepção da Política Fiscal Brasilei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5:33:01Z</dcterms:created>
  <dc:creator>Olivia</dc:creator>
  <dc:description/>
  <dc:language>en-US</dc:language>
  <cp:lastModifiedBy>Borja Diaz</cp:lastModifiedBy>
  <dcterms:modified xsi:type="dcterms:W3CDTF">2013-07-10T09:54:26Z</dcterms:modified>
  <cp:revision>28</cp:revision>
  <dc:subject/>
  <dc:title>Slide 1</dc:title>
</cp:coreProperties>
</file>