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97F-8C40-47E2-AF66-BB1C2E32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4C1-B16F-446B-A4BA-68E7DBFC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0AC-FB29-4DA4-BA9F-26963016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FF4-E46A-4850-B66C-D7C08466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A1A-60F8-4810-B546-F12D45E8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551-88AE-4B58-BB64-59116D7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B71-03A4-421D-934A-76B666F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B6F-E965-4B63-AE73-77E182DA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6D1-B3B4-4226-AD23-D2A9D217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E19-C45D-4698-9768-9B51A58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3F0-D9E4-40ED-9F17-1411693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DEF-A9F4-4BD1-B389-45C5A3B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867A-8FA5-41A8-9DA1-B13D390A3C7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560" y="450864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Calibri"/>
              </a:rPr>
              <a:t>Programa Nacional de Educação Fisc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asimplicidadedascoisas.files.wordpress.com/2011/11/logo-pnef.jpg"/>
          <p:cNvPicPr/>
          <p:nvPr/>
        </p:nvPicPr>
        <p:blipFill>
          <a:blip r:embed="rId1"/>
          <a:stretch/>
        </p:blipFill>
        <p:spPr>
          <a:xfrm>
            <a:off x="2556000" y="333360"/>
            <a:ext cx="36716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sultados da pesquisa. Ausência de análise dos dados obti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rientador para novas ações do PN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ase para apoios instituc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ESAF – CEARÁ</a:t>
            </a: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(Brasi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ENTRESAF - CEAR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jeto de Educação Fiscal para Universitá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urso Tributação e Cidadania Fis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Disseminar a função social do tributo      e seu papel para a consecução de políticas de melhoria da qualidade de vida dos cidadãos, possibilitando a instrumentalização dos estudantes para o exercício profissional, à participação e o controle soci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Período: 11/05 a 29/06/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arga Horária: 32h/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úblico alvo: estudantes dos Cursos de Ciências Contábeis (Nível Superio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 interativas – 24 ho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Visita Técnica – 8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SEFAZ – ESAF - RFB – CGU – SEF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romoção: Conselho de Contabilidade do Ceará (CR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alização: Escola de Administração Fazendária (ESA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arcerias: RFB, SEFAZ, SEFIN, CGU e TCM-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onteudo Programa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04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- Relação-Estado e sociedade: cidadania fis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- Sistema Tributário Nacional e a função dos trib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- Tributos Federais a Administração Tributária 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4- Tributos Estaduais e Administração Tributária Estad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- Tributos Municipais e Administração Tributária Municip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6- Gestão Democrática dos recurso públicos e controle so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AÇÕES FUTU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1- Criação de Laboratório Social (CRC-CE e ESAF-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2- Trabalho de Conclusão do Curso Superior com temas voltados para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3- Interesse de estudantes em participar de trabalhos voluntários de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4- Realizar o Curso para outros Conselh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Coordenação Geral do PN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envolver pessoas para o aperfeiçoamento da gestão das finanças públicas e a promoção da cidadania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formação dos servidores do quadro do Ministério da Fazenda, a Esaf também promove estudos sobre a política fiscal no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https://encrypted-tbn0.gstatic.com/images?q=tbn:ANd9GcQMnMhHbuwlXSO1EcjUM39pWIEw5BEiS-nxqo79X6ou4o-GvLZa"/>
          <p:cNvPicPr/>
          <p:nvPr/>
        </p:nvPicPr>
        <p:blipFill>
          <a:blip r:embed="rId1"/>
          <a:stretch/>
        </p:blipFill>
        <p:spPr>
          <a:xfrm>
            <a:off x="6804000" y="260280"/>
            <a:ext cx="2129040" cy="2017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5"/>
          <p:cNvSpPr/>
          <p:nvPr/>
        </p:nvSpPr>
        <p:spPr>
          <a:xfrm>
            <a:off x="755640" y="765000"/>
            <a:ext cx="587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Escola de Administração Fazendá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253656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dentificar o nível de conhecimento dos cidadãos sobre a política fiscal (impostos, recursos e gastos públicos, controle e ação do Estado), bem como captar a percepção dos indivíduos quanto às responsabilidades dos órgãos do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49192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Questionário estruturado com 48 questõ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2016 entrevistad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alizada em abril de 2010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(Nova pesquisa – 201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06720" y="404640"/>
            <a:ext cx="7037280" cy="44388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5"/>
          <p:cNvSpPr/>
          <p:nvPr/>
        </p:nvSpPr>
        <p:spPr>
          <a:xfrm>
            <a:off x="53964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O Sr(a). paga imposto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ço Reservado para Conteúdo 2"/>
          <p:cNvSpPr/>
          <p:nvPr/>
        </p:nvSpPr>
        <p:spPr>
          <a:xfrm>
            <a:off x="250920" y="5229360"/>
            <a:ext cx="8677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s 1391 entrevistados que declararam pagar imposto, mais de 300 não conseguem citar o nome de nenhum imposto que p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620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Seu nível de imposto está dentro da sua capacidade de pagar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5345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86760" cy="4969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 Sr(a) acha que os cidadãos em geral possuem acesso à orientação e informação sobre a importância de pagar em dia os seus impostos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(a) Sr.(a) pagaria mais imposto se fosse para ter mais serviços públicos em troca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805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227628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cepção sobre recursos e gastos públ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role das ações do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lítica Fiscal: funções e responsab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5:33:01Z</dcterms:created>
  <dc:creator>Olivia</dc:creator>
  <dc:description/>
  <dc:language>en-US</dc:language>
  <cp:lastModifiedBy>Borja Diaz</cp:lastModifiedBy>
  <dcterms:modified xsi:type="dcterms:W3CDTF">2013-07-10T09:54:26Z</dcterms:modified>
  <cp:revision>28</cp:revision>
  <dc:subject/>
  <dc:title>Slide 1</dc:title>
</cp:coreProperties>
</file>