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266-9D69-4FAB-BAC9-A9F78DF5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14E7-7067-4451-BF74-431957D2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D3B7-C9F3-4C1B-81AB-A0F783BA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79E6-C031-4F23-9ECF-77407646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7992-9EEE-47AD-B366-2A6836D4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E50C-DD24-420F-8254-312DE886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9724-DBF7-469B-8BB3-CDE6911E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91D9-A7E7-45EA-82CA-39D32A2D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E4F-7227-4A77-9DC9-D61C0854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DEEC-7BC6-44A4-A403-4966C992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869A-0BE7-4628-9D9C-7C6CDB4C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D14F-B6D0-43B9-9A9D-40AD0358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46F1-AC64-4EB2-98CD-671AC987AB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aixaDeTexto 2"/>
          <p:cNvSpPr/>
          <p:nvPr/>
        </p:nvSpPr>
        <p:spPr>
          <a:xfrm>
            <a:off x="533520" y="380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a de Valoração -  Realidade At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066680"/>
            <a:ext cx="7391520" cy="47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ificulda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Poucos municípios tem CT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União não tem cadastro nacional de imóveis urban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xistem 2 cadastros de imóveis rurais na União em órgãos diferentes, que não se comunica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Não há conexão central para consolidar informações cadastrais dos Municípi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onvênios de troca de informações entre União e Municípios são feitos pontualmente e sem padronização – 1 web service para cada convêni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Não há conexão entre registro e cadastr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Valor venal do IPTU é modificado por lei municipal – descolamento histórico da realidade de merc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066680"/>
            <a:ext cx="7696080" cy="5334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CaixaDeTexto 2"/>
          <p:cNvSpPr/>
          <p:nvPr/>
        </p:nvSpPr>
        <p:spPr>
          <a:xfrm>
            <a:off x="533520" y="380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a de Valoração -  Realidade At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7391520" cy="52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iculda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 última década o país teve um processo de acelerada expansão imobiliária, com forte valorização dos imóvei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egislação não permite reavaliação de bens na Declaração de Imposto de Renda desde 1991 – 22 anos de inflação acumula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ações são declaradas em valores muito abaixo do mercado para sonegação do Ganho de Capi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rcado se mantém na informalidad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lor de pauta do ITBI acompanha valor das transações, que são feitas abaixo do valor de mercad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ão há conexão entre registro e cadastr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Único mecanismo de avaliação razoável é o que acontece no processo de contratação de financiamento para compra e construção de imóvei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066680"/>
            <a:ext cx="7696080" cy="5334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CaixaDeTexto 2"/>
          <p:cNvSpPr/>
          <p:nvPr/>
        </p:nvSpPr>
        <p:spPr>
          <a:xfrm>
            <a:off x="533520" y="380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a de Valoração -  Propos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066680"/>
            <a:ext cx="739152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nsolidação das informações fiscai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os Municípios (IPTU, ITBI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os Estados (ITCD) 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a União (DITR, Declarações de Bens do Imposto sobre a Renda e DIMOB, Declaração de Informação sobre Atividades Imobiliárias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nterligação entre Registro e Cadastro - SIN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ermissão para Reavaliação de Bens na DIRP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lavancar a criação de CTM pelos Municíp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ar o Índice Nacional de Preços de Imóveis (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creto nº 7.565, de 15 de setembro de 2011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066680"/>
            <a:ext cx="7696080" cy="5334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198072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ódigo Nacional do Imó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magem 3" descr=""/>
          <p:cNvPicPr/>
          <p:nvPr/>
        </p:nvPicPr>
        <p:blipFill>
          <a:blip r:embed="rId1"/>
          <a:stretch/>
        </p:blipFill>
        <p:spPr>
          <a:xfrm rot="1753800">
            <a:off x="6374880" y="1831680"/>
            <a:ext cx="1440000" cy="1441440"/>
          </a:xfrm>
          <a:prstGeom prst="rect">
            <a:avLst/>
          </a:prstGeom>
          <a:ln w="0">
            <a:noFill/>
          </a:ln>
        </p:spPr>
      </p:pic>
      <p:sp>
        <p:nvSpPr>
          <p:cNvPr id="52" name="Retângulo 6"/>
          <p:cNvSpPr/>
          <p:nvPr/>
        </p:nvSpPr>
        <p:spPr>
          <a:xfrm rot="1766400">
            <a:off x="5933880" y="3198600"/>
            <a:ext cx="1714320" cy="3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aixaDeTexto 4"/>
          <p:cNvSpPr/>
          <p:nvPr/>
        </p:nvSpPr>
        <p:spPr>
          <a:xfrm>
            <a:off x="2835720" y="3460680"/>
            <a:ext cx="30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41707  -  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7"/>
          <p:cNvSpPr/>
          <p:nvPr/>
        </p:nvSpPr>
        <p:spPr>
          <a:xfrm>
            <a:off x="457200" y="304920"/>
            <a:ext cx="77724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icador Ún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da Imóvel, urbano ou rural, será identificado por um código unívoco em âmbito nacion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have esquerda 5"/>
          <p:cNvSpPr/>
          <p:nvPr/>
        </p:nvSpPr>
        <p:spPr>
          <a:xfrm rot="16200000">
            <a:off x="3400920" y="3456360"/>
            <a:ext cx="360360" cy="13716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080 h 1371600"/>
              <a:gd name="textAreaBottom" fmla="*/ 13615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aixaDeTexto 11"/>
          <p:cNvSpPr/>
          <p:nvPr/>
        </p:nvSpPr>
        <p:spPr>
          <a:xfrm>
            <a:off x="2666880" y="4343400"/>
            <a:ext cx="181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ódigo Nacional da Servent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riado pelo CNJ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have esquerda 12"/>
          <p:cNvSpPr/>
          <p:nvPr/>
        </p:nvSpPr>
        <p:spPr>
          <a:xfrm rot="16200000">
            <a:off x="5077440" y="3608640"/>
            <a:ext cx="360360" cy="1067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440 h 1067040"/>
              <a:gd name="textAreaBottom" fmla="*/ 105660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7"/>
                  <a:pt x="10800" y="693"/>
                </a:cubicBezTo>
                <a:lnTo>
                  <a:pt x="10800" y="10107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7"/>
                  <a:pt x="10800" y="11493"/>
                </a:cubicBezTo>
                <a:lnTo>
                  <a:pt x="10800" y="20907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ixaDeTexto 13"/>
          <p:cNvSpPr/>
          <p:nvPr/>
        </p:nvSpPr>
        <p:spPr>
          <a:xfrm>
            <a:off x="4572000" y="4343400"/>
            <a:ext cx="135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úmero da Matrícula exist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0" y="5943600"/>
            <a:ext cx="854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se código será a chave que permitirá o cruzamento das informações registrais com os dados cadastrais de todos os imóveis do paí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8686800" y="61722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9640" y="4500720"/>
            <a:ext cx="3060720" cy="2171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524560" y="4500720"/>
            <a:ext cx="3368520" cy="207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221520" y="876240"/>
            <a:ext cx="1736640" cy="2633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25440" y="4105440"/>
            <a:ext cx="16131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Geo Rural = CNI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5482080" y="3807000"/>
            <a:ext cx="30931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Geo Urbano = CTM dos Municípi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 rot="1440000">
            <a:off x="1351080" y="3486240"/>
            <a:ext cx="431640" cy="1263600"/>
          </a:xfrm>
          <a:prstGeom prst="upArrow">
            <a:avLst>
              <a:gd name="adj1" fmla="val 50000"/>
              <a:gd name="adj2" fmla="val 73186"/>
            </a:avLst>
          </a:prstGeom>
          <a:gradFill rotWithShape="0">
            <a:gsLst>
              <a:gs pos="0">
                <a:srgbClr val="2e5f99"/>
              </a:gs>
              <a:gs pos="100000">
                <a:srgbClr val="397bca"/>
              </a:gs>
            </a:gsLst>
            <a:lin ang="14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 rot="18960000">
            <a:off x="4430880" y="2598480"/>
            <a:ext cx="431640" cy="3314520"/>
          </a:xfrm>
          <a:prstGeom prst="upArrow">
            <a:avLst>
              <a:gd name="adj1" fmla="val 50000"/>
              <a:gd name="adj2" fmla="val 191972"/>
            </a:avLst>
          </a:prstGeom>
          <a:gradFill rotWithShape="0">
            <a:gsLst>
              <a:gs pos="0">
                <a:srgbClr val="2e5f99"/>
              </a:gs>
              <a:gs pos="100000">
                <a:srgbClr val="397bca"/>
              </a:gs>
            </a:gsLst>
            <a:lin ang="188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4611600" y="1171080"/>
            <a:ext cx="431640" cy="2365200"/>
          </a:xfrm>
          <a:prstGeom prst="upArrow">
            <a:avLst>
              <a:gd name="adj1" fmla="val 50000"/>
              <a:gd name="adj2" fmla="val 136989"/>
            </a:avLst>
          </a:prstGeom>
          <a:gradFill rotWithShape="0">
            <a:gsLst>
              <a:gs pos="0">
                <a:srgbClr val="2e5f99"/>
              </a:gs>
              <a:gs pos="100000">
                <a:srgbClr val="397bc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960480" y="900000"/>
            <a:ext cx="2460600" cy="2967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455800" y="206280"/>
            <a:ext cx="274104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egistro Eletrônico = Cartóri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542880" y="133200"/>
            <a:ext cx="2195280" cy="13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nterligaçã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ocessamento Espaci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rmazenamen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ertificaç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= SIN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0"/>
          <p:cNvSpPr/>
          <p:nvPr/>
        </p:nvSpPr>
        <p:spPr>
          <a:xfrm>
            <a:off x="2057400" y="5562720"/>
            <a:ext cx="556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anismo de propagação automática de valore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ulação da contaminação pelo valor do ITB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roalimentação do ITBI com valor declarado na DIRPF e DIRP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8229600" y="609480"/>
            <a:ext cx="457200" cy="95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7"/>
          <p:cNvSpPr/>
          <p:nvPr/>
        </p:nvSpPr>
        <p:spPr>
          <a:xfrm>
            <a:off x="152280" y="304920"/>
            <a:ext cx="81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aminação de Va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105520" cy="3849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057400" y="1066680"/>
            <a:ext cx="5105520" cy="5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21:32:21Z</dcterms:created>
  <dc:creator>Luigi</dc:creator>
  <dc:description/>
  <dc:language>en-US</dc:language>
  <cp:lastModifiedBy>65697162634</cp:lastModifiedBy>
  <dcterms:modified xsi:type="dcterms:W3CDTF">2013-05-29T15:02:47Z</dcterms:modified>
  <cp:revision>162</cp:revision>
  <dc:subject/>
  <dc:title>RIBRA</dc:title>
</cp:coreProperties>
</file>