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098-9589-43E6-899A-CD0870C5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2A3-1F90-44FF-B2C8-555670F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423-8F24-4A53-AE2D-3B4ABB61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03A-CD0B-41B5-8D3D-94DD76F7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447-C61D-44C9-8A01-B082DB1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FB4-23E9-4D66-8FE9-4B52E9B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6E6-137B-4B19-8C17-D955848C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EED-F5C4-4127-B7A2-D22B1B9D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033-5D90-4CED-8DE6-8B18B4F7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73A-8C0F-4489-9081-A01F094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01E-A94C-43AC-BF1B-DC980A4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174-DFC7-4F1C-81ED-CAA37A1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489-B64B-474D-BA0D-AF382C4A4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324000" y="333360"/>
            <a:ext cx="8458200" cy="6400800"/>
          </a:xfrm>
          <a:prstGeom prst="pi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2057400" y="304920"/>
            <a:ext cx="6900840" cy="557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Sistema de Cadastr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de Bens Imóveis Rurais e Urbano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Notas Básica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Brasil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Eurosocial II- Brasília- 03 a 07 junho 20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057400" y="12952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cadastral dos imóvei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Bases tributáveis e base de arrecadaçã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Isenções, subsídios e bonificaçõ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dos fiscais dos titular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Tipos de encargos, tributos inciden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dos tributários históric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tas de alteraçõ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Tribut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(Impositivo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1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6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1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6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1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33720" y="10666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Situação legal completa- Inclusive restrições e conveniências públicas e priv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tegração Cadastro – Registr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Localização por coorden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formações georreferenci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Sistemas automatizad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Auto-sustentabilida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Uso público e privad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Cadastral Modern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1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6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1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6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1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0" y="100008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da órgão tem seu cadast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Cada órgão tem vários cadastr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Baixa integração entre as esferas de govern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Informação como reserva de pod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Mínimo intercâmb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Solicitações reiteradas aos cidadã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Interoperabilidade como conceito teórico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Ausência de uma Lei Geral de Cadastr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Gestão de cadastros no Brasil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09680" y="76212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móveis Urbanos: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Municípi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Meio pap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rtografia em pap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Geralmente desatualizad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niciativas inovadora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Dourados- 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scavel- P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Belo Horizonte- M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Cadastros Atuais: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209680" y="76212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Imóveis Rurais: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Uniã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RFB- 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Cafir- Cadastro de Imóveis Ru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nformações lite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dentificação e localização descritiv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Incr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Sistema Nacional de Cadastro Rural- SNC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Sistema de Gestão Fundiária- Sige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Base cartográfic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Cadastros Atuais: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Diagrama 1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21240" cy="444312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2"/>
          <p:cNvSpPr/>
          <p:nvPr/>
        </p:nvSpPr>
        <p:spPr>
          <a:xfrm>
            <a:off x="1523880" y="762120"/>
            <a:ext cx="6072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Lucida Sans Unicode"/>
              </a:rPr>
              <a:t>Reflexos do Model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2286000" y="9288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Processo integrado de cadastro e seus relacionament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Qualidade, confiabilidade, integridade das informações cadast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poiar as áreas de controle interno das organizaçõ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Gestão de políticas públ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poiar a prestação de serviç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ssistência ao cidadão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0" y="214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Principais desaf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143080" y="714240"/>
            <a:ext cx="6858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2d2db9"/>
                </a:solidFill>
                <a:latin typeface="Tahoma"/>
              </a:rPr>
              <a:t>Aquífero Guarani- Década de 50- Brasil + 3 paí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b9"/>
                </a:solidFill>
                <a:latin typeface="Tahoma"/>
              </a:rPr>
              <a:t>Aquífero Alter do Chão- Abril/ 2010- Brasil- Capacidade para abastecer a população mundial 100 vez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4760" y="0"/>
            <a:ext cx="5514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4457880" y="-561960"/>
            <a:ext cx="13525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5" descr="C:\Documents and Settings\Administrador\Meus documentos\Minhas imagens\AQUIFEROS BRASILEIROS.jpg"/>
          <p:cNvPicPr/>
          <p:nvPr/>
        </p:nvPicPr>
        <p:blipFill>
          <a:blip r:embed="rId2"/>
          <a:stretch/>
        </p:blipFill>
        <p:spPr>
          <a:xfrm>
            <a:off x="2286000" y="2000160"/>
            <a:ext cx="671508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428920" y="857160"/>
            <a:ext cx="6715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d2db9"/>
                </a:solidFill>
                <a:latin typeface="Tahoma"/>
              </a:rPr>
              <a:t>RIO HAMZA - 25/Agosto/2011- Maior rio subterrâneo do mundo- Curso estimado 6.000 km- Largura de 200 a 400 km.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Tahoma"/>
              </a:rPr>
              <a:t>Dados coletados em 241 poços perfurados nas décadas de 1970 e 1980 indicam movimentação de águas subterrâneas a uma profundidade de 4.000 metro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643120" y="0"/>
            <a:ext cx="55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magem 3" descr="Fluxo subterrâneo é muito menor do que o do rio Amazonas, mas muito próximo ao do rio São Francisco"/>
          <p:cNvPicPr/>
          <p:nvPr/>
        </p:nvPicPr>
        <p:blipFill>
          <a:blip r:embed="rId2"/>
          <a:stretch/>
        </p:blipFill>
        <p:spPr>
          <a:xfrm>
            <a:off x="2357280" y="2500200"/>
            <a:ext cx="650088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4"/>
          <p:cNvSpPr/>
          <p:nvPr/>
        </p:nvSpPr>
        <p:spPr>
          <a:xfrm>
            <a:off x="2214720" y="578628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Tahoma"/>
              </a:rPr>
              <a:t>Fluxo subterrâneo é muito menor do que o do rio Amazonas, mas muito próximo ao do rio São Francisco (Agência Estado – 25/08/2011)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643120" y="0"/>
            <a:ext cx="55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C:\Documents and Settings\Administrador\Meus documentos\Minhas imagens\Rio Hamza.jpg"/>
          <p:cNvPicPr/>
          <p:nvPr/>
        </p:nvPicPr>
        <p:blipFill>
          <a:blip r:embed="rId2"/>
          <a:stretch/>
        </p:blipFill>
        <p:spPr>
          <a:xfrm>
            <a:off x="2214720" y="857160"/>
            <a:ext cx="692928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124080" y="-76212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d2db9"/>
                </a:solidFill>
                <a:latin typeface="Tahoma"/>
              </a:rPr>
              <a:t>Cadastr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86000" y="1066680"/>
            <a:ext cx="6858000" cy="550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Qual a importância do Cadastro para a Administração Tributári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Como instrumento de gestão de políticas pública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O que é um cadastro confiável?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209680" y="11430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1- União Federal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TR- Imposto s/ a Propriedade Territorial Rur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Valor da Terra Nu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Alíquotas progressiv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Função extrafisc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R sobre Ganho de Capit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Pessoas Fís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Pessoas Juríd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286000" y="214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133720" y="152388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2- Estados: ITCM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Transmissão gratui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d2db9"/>
                </a:solidFill>
                <a:latin typeface="Tahoma"/>
              </a:rPr>
              <a:t>Causa mortis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Doaçõ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Valor ven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Alíquotas fix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380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33720" y="129528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3- Município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Imposto Predial e Territorial  Urban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Propriedade, titular domínio útil ou possuido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Valor venal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líquotas fixas ou progressiv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Imposto sobre Transmissão de Bens Imóve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Transmissão </a:t>
            </a:r>
            <a:r>
              <a:rPr b="0" i="1" lang="en-US" sz="2400" spc="-1" strike="noStrike">
                <a:solidFill>
                  <a:srgbClr val="2d2db9"/>
                </a:solidFill>
                <a:latin typeface="Tahoma"/>
              </a:rPr>
              <a:t>inter viv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líquotas fix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09680" y="380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286000" y="1371600"/>
            <a:ext cx="6858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D</a:t>
            </a:r>
            <a:r>
              <a:rPr b="0" lang="en-US" sz="3000" spc="-1" strike="noStrike">
                <a:solidFill>
                  <a:srgbClr val="2d2db9"/>
                </a:solidFill>
                <a:latin typeface="Tahoma"/>
              </a:rPr>
              <a:t>iretrizes gerais de política urbana: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Funções sociais da cidade e propriedade urban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Cidades sustentávei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Gestão democrátic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Cooperação entre os governo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Ordenação e controle uso do solo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52280"/>
            <a:ext cx="6629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Estatuto da Cida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Lei 10.257/2001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320" y="3071520"/>
            <a:ext cx="657252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Inventário territorial oficial e sistemático de um município </a:t>
            </a:r>
            <a:br>
              <a:rPr sz="3200"/>
            </a:b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   Limites de cada parcela</a:t>
            </a:r>
            <a:br>
              <a:rPr sz="3200"/>
            </a:b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Identificação inequív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 explicativo em forma de nuvem 3"/>
          <p:cNvSpPr/>
          <p:nvPr/>
        </p:nvSpPr>
        <p:spPr>
          <a:xfrm>
            <a:off x="2438280" y="0"/>
            <a:ext cx="6143760" cy="2571840"/>
          </a:xfrm>
          <a:prstGeom prst="cloudCallout">
            <a:avLst>
              <a:gd name="adj1" fmla="val -19819"/>
              <a:gd name="adj2" fmla="val 736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CaixaDeTexto 4"/>
          <p:cNvSpPr/>
          <p:nvPr/>
        </p:nvSpPr>
        <p:spPr>
          <a:xfrm>
            <a:off x="2971800" y="228600"/>
            <a:ext cx="5143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D</a:t>
            </a:r>
            <a:r>
              <a:rPr b="1" lang="pt-BR" sz="2800" spc="-1" strike="noStrike">
                <a:solidFill>
                  <a:srgbClr val="2d2db9"/>
                </a:solidFill>
                <a:latin typeface="Tahoma"/>
              </a:rPr>
              <a:t>iretrizes para o Cadastro Territorial Multifinalitário- CT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352680" y="304920"/>
            <a:ext cx="39625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209680" y="357120"/>
            <a:ext cx="6934320" cy="719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NIR- Cadastro Nacional de Imóveis Rurai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onhecer o perfil integral dos contribuint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Elevar a percepção de risco e a presença fisc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Ampliar a arrecad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ontribuir para o desenvolvimento econômico e social do paí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Fortalecer a integração e o relacionamento institucion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286000" y="1571760"/>
            <a:ext cx="6858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Lei 5868/72 art.1º § 2º c/ redação dada pela Lei 10.267/2001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ahoma"/>
              </a:rPr>
              <a:t>Fica criado o Cadastro Nacional de Imóveis Rurais- CNIR, que terá base comum de informações, gerenciada conjuntamente pelo INCRA e pela SRF, produzida e compartilhada pelas diversas instituições públicas federais e estaduais, produtoras e usuárias de informações sobre o meio rural brasileir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714760" y="685800"/>
            <a:ext cx="607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</a:rPr>
              <a:t>HISTÓRICO DO PROJE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286000" y="1214280"/>
            <a:ext cx="68580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Identific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Localiz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Dimens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Titularidad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Situação jurídica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57280" y="357120"/>
            <a:ext cx="657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CONTEÚDO MÍNIM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5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286000" y="9288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A força da integr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ano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51814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0" y="1000080"/>
            <a:ext cx="320040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“</a:t>
            </a: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O Brazil não conhece o Brasil”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d2db9"/>
                </a:solidFill>
                <a:latin typeface="Tahoma"/>
                <a:ea typeface="Arial Unicode MS"/>
              </a:rPr>
              <a:t>Querelas do Brasi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E o Brasil conhece o Brasil?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9044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5857920" y="857160"/>
            <a:ext cx="30002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9"/>
          <p:cNvSpPr/>
          <p:nvPr/>
        </p:nvSpPr>
        <p:spPr>
          <a:xfrm>
            <a:off x="5943600" y="4572000"/>
            <a:ext cx="26668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3124080" y="-38088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400" spc="-1" strike="noStrike">
                <a:solidFill>
                  <a:srgbClr val="2d2db9"/>
                </a:solidFill>
                <a:latin typeface="Tahoma"/>
              </a:rPr>
              <a:t>Gestão: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2357280" y="1676520"/>
            <a:ext cx="6643800" cy="534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olítica fiscal eficiente e justa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atrimônio públic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lanejamento territori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Controle ambient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Defesa civil 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 </a:t>
            </a: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Vigilância sanitária 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3124080" y="-38088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400" spc="-1" strike="noStrike">
                <a:solidFill>
                  <a:srgbClr val="2d2db9"/>
                </a:solidFill>
                <a:latin typeface="Tahoma"/>
              </a:rPr>
              <a:t>Cadastr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027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28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029"/>
          <p:cNvSpPr/>
          <p:nvPr/>
        </p:nvSpPr>
        <p:spPr>
          <a:xfrm>
            <a:off x="2209680" y="1293840"/>
            <a:ext cx="6643800" cy="630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Tahoma"/>
              </a:rPr>
              <a:t>É uma estatística ou inventário público de toda a riqueza imóvel (terras, edifícios, etc) de um território previamente determinad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Tahoma"/>
              </a:rPr>
              <a:t>Também é descrito como um SIT (Sistema de Informações Territoriais) que apoia o gerenciamento territorial e fornece informações sobre a terra, seus recursos e seu uso 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286000" y="17524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 Informação Básica (S.I.B.)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 Informação Geográfica (S.I.G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Impositivo (S. I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Valoração  (S.V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Cadastra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5880" y="3809880"/>
            <a:ext cx="2286000" cy="1828800"/>
            <a:chOff x="6095880" y="3809880"/>
            <a:chExt cx="2286000" cy="1828800"/>
          </a:xfrm>
        </p:grpSpPr>
        <p:sp>
          <p:nvSpPr>
            <p:cNvPr id="61" name=""/>
            <p:cNvSpPr/>
            <p:nvPr/>
          </p:nvSpPr>
          <p:spPr>
            <a:xfrm>
              <a:off x="7414560" y="4724280"/>
              <a:ext cx="87912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S.I.</a:t>
              </a:r>
              <a:endParaRPr b="1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3809880"/>
              <a:ext cx="1143000" cy="11887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S. V.</a:t>
              </a:r>
              <a:endParaRPr b="1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3992760"/>
              <a:ext cx="1406880" cy="1371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.I.B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.I.G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1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6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1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057400" y="17524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Características técnicas dos imóveis (construções, cultivos,...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Usos e destinaçã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Georreferenciamento, localização espacia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Tipologia de cultivos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Superfícies dos locais, das construções e cultivos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Titularidade do imóve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Bás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6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6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1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6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1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133720" y="15238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Cartografia parcelári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Referenciamento geodésic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formação de cartografia básic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Conexão com base de dados alfanuméric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Geográf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1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6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1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057400" y="15238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Coeficientes corretores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Intensidade de ocupação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Rendimentos econômicos dos cultiv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Restrições de us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dos produto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Valor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1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1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16:41Z</dcterms:created>
  <dc:creator>SISTEMAFIRJAN</dc:creator>
  <dc:description/>
  <dc:language>en-US</dc:language>
  <cp:lastModifiedBy>36552771649</cp:lastModifiedBy>
  <dcterms:modified xsi:type="dcterms:W3CDTF">2013-05-30T01:14:39Z</dcterms:modified>
  <cp:revision>875</cp:revision>
  <dc:subject/>
  <dc:title>Lançamento do Visão Estratégica para o Desempenho Organizacional SENAI/DN</dc:title>
</cp:coreProperties>
</file>