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A7C1-DEB2-4A9E-A860-0A8ED3DD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B842-6C42-4B58-977D-D32F916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C41F-EF47-43C1-819B-F02BF878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028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39360" y="99072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2084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028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39360" y="3617640"/>
            <a:ext cx="2675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1A09-8177-474C-BAD5-196685D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BD79-127A-4C3F-A2FA-12FC910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FCE1-3BB1-45EB-81C0-C116F5A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8E6F-7838-4540-9BF1-B9399DD5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883A-EC48-42EE-A6BE-E1ADEF9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FC40-E6E0-4219-A8C5-B82F338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B262-D385-4146-81E9-B3279F8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8560" y="361764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79DF-2BAE-4DED-BB87-EC034D9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990720"/>
            <a:ext cx="405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0840" y="3617640"/>
            <a:ext cx="830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935D-CB5F-4056-A286-8F2A19CB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297000" y="6778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5"/>
          <p:cNvGrpSpPr/>
          <p:nvPr/>
        </p:nvGrpSpPr>
        <p:grpSpPr>
          <a:xfrm>
            <a:off x="6275520" y="6324480"/>
            <a:ext cx="2106000" cy="484200"/>
            <a:chOff x="6275520" y="6324480"/>
            <a:chExt cx="2106000" cy="484200"/>
          </a:xfrm>
        </p:grpSpPr>
        <p:pic>
          <p:nvPicPr>
            <p:cNvPr id="4" name="Picture 16" descr="D:\Documents and Settings\05153030890\Meus documentos\Minhas imagens\Catavento_RFB.bmp"/>
            <p:cNvPicPr/>
            <p:nvPr/>
          </p:nvPicPr>
          <p:blipFill>
            <a:blip r:embed="rId2"/>
            <a:stretch/>
          </p:blipFill>
          <p:spPr>
            <a:xfrm>
              <a:off x="6275520" y="6324480"/>
              <a:ext cx="73008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7" descr="D:\Documents and Settings\05153030890\Meus documentos\Minhas imagens\Receita_2.bmp"/>
            <p:cNvPicPr/>
            <p:nvPr/>
          </p:nvPicPr>
          <p:blipFill>
            <a:blip r:embed="rId3"/>
            <a:stretch/>
          </p:blipFill>
          <p:spPr>
            <a:xfrm>
              <a:off x="6991560" y="6454440"/>
              <a:ext cx="1389960" cy="2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32448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C8F8-643A-440E-AA48-BB086396A191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2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34"/>
          <p:cNvGrpSpPr/>
          <p:nvPr/>
        </p:nvGrpSpPr>
        <p:grpSpPr>
          <a:xfrm>
            <a:off x="0" y="6146640"/>
            <a:ext cx="9144000" cy="88920"/>
            <a:chOff x="0" y="6146640"/>
            <a:chExt cx="9144000" cy="88920"/>
          </a:xfrm>
        </p:grpSpPr>
        <p:sp>
          <p:nvSpPr>
            <p:cNvPr id="9" name="Line 28"/>
            <p:cNvSpPr/>
            <p:nvPr/>
          </p:nvSpPr>
          <p:spPr>
            <a:xfrm>
              <a:off x="0" y="614664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0" y="6184800"/>
              <a:ext cx="9144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0" y="6235560"/>
              <a:ext cx="91440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Imagem 15" descr="brasao.png"/>
          <p:cNvPicPr/>
          <p:nvPr/>
        </p:nvPicPr>
        <p:blipFill>
          <a:blip r:embed="rId4"/>
          <a:stretch/>
        </p:blipFill>
        <p:spPr>
          <a:xfrm>
            <a:off x="152280" y="62485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38"/>
          <p:cNvSpPr/>
          <p:nvPr/>
        </p:nvSpPr>
        <p:spPr>
          <a:xfrm>
            <a:off x="60948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istério da Faz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UROsocia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ón del Registro de Contrib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sília, 5 de junio de 201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Extrato de Process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998" t="16213" r="9075" b="0"/>
          <a:stretch/>
        </p:blipFill>
        <p:spPr>
          <a:xfrm>
            <a:off x="1066680" y="2133720"/>
            <a:ext cx="7010640" cy="367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9760" y="127332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lta à declaração mediante chave d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81F8E9-ED98-4606-86FD-784906635D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990720"/>
            <a:ext cx="746748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9600" indent="-309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04920"/>
            <a:ext cx="8153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indent="-17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cigarr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e Rastreamento da Produção de Cigarros- Scorp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quipamentos contadores de produ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arelhos para o controle, registro, gravação e transmissão dos quantitativos medidos pra a RF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04A8F5-E97C-4D66-8B4C-96A506DE5C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orp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0568" r="1500" b="898"/>
          <a:stretch/>
        </p:blipFill>
        <p:spPr>
          <a:xfrm>
            <a:off x="660240" y="1308240"/>
            <a:ext cx="7823520" cy="42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DC23DE-9C47-41D1-A030-1495B229A1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90720"/>
            <a:ext cx="8305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roles Especiais – produção de bebida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a de Controle de Produção de Bebidas - Sico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que é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ta a quantidade de produtos fabri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em está obrigad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rigerantes, cervejas, aguardentes, et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F4D4B2-FA02-4814-9420-DB686FB9E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1640" y="3100320"/>
            <a:ext cx="18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cob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uzamento de informações a partir de ferramenta baseada em tecnologi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ata warehou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zenas de fontes de informação disponí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22680" y="3657600"/>
            <a:ext cx="1889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W RFB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91" t="46482" r="11413" b="4886"/>
          <a:stretch/>
        </p:blipFill>
        <p:spPr>
          <a:xfrm>
            <a:off x="533520" y="2617920"/>
            <a:ext cx="8458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companhamento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ecadação tributária federal brasileira concentrada nos grandes contribuintes e em alguns set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54320" y="3124080"/>
            <a:ext cx="4633920" cy="2570400"/>
            <a:chOff x="2254320" y="3124080"/>
            <a:chExt cx="4633920" cy="2570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254320" y="3124080"/>
              <a:ext cx="46339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23000" y="5300280"/>
              <a:ext cx="19141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Maiores Contribuintes  0,08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316760" y="5178960"/>
              <a:ext cx="5673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formações cadastrais e o controle tributário exercido pel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erfil da arrecadação por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7280" y="1079640"/>
          <a:ext cx="8640360" cy="4606920"/>
        </p:xfrm>
        <a:graphic>
          <a:graphicData uri="http://schemas.openxmlformats.org/drawingml/2006/table">
            <a:tbl>
              <a:tblPr/>
              <a:tblGrid>
                <a:gridCol w="4917240"/>
                <a:gridCol w="2089440"/>
                <a:gridCol w="1633680"/>
              </a:tblGrid>
              <a:tr h="83628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tor Econô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ecadação Fazendária R$ Bilhões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rrecadação Fazendá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ços financei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.365,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por Ata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371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ércio varej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259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ústria automobil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569,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ção Púb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402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ricação de combustíve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478,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tricidade e gá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34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 Maiores Setores Econô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.48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mais Setores Econômicos (8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.199,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soa Fí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41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R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.22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652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2546280"/>
            <a:ext cx="45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751" t="26402" r="29097" b="3051"/>
          <a:stretch/>
        </p:blipFill>
        <p:spPr>
          <a:xfrm>
            <a:off x="0" y="92556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Painel do Setor Econômic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ção de contribuinte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árvores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icação de interrelações pessoais, comerciais como subsídio para a atividade de seleção de contribui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rramenta para identificação de interpostas pessoas (“laranjas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imagem1" descr=""/>
          <p:cNvPicPr/>
          <p:nvPr/>
        </p:nvPicPr>
        <p:blipFill>
          <a:blip r:embed="rId1"/>
          <a:srcRect l="28702" t="24495" r="22606" b="18481"/>
          <a:stretch/>
        </p:blipFill>
        <p:spPr>
          <a:xfrm>
            <a:off x="1841400" y="1046160"/>
            <a:ext cx="548640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Árvore de relacionamento - legend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48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ó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9400" y="990720"/>
            <a:ext cx="407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aciona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imagem1" descr=""/>
          <p:cNvPicPr/>
          <p:nvPr/>
        </p:nvPicPr>
        <p:blipFill>
          <a:blip r:embed="rId1"/>
          <a:srcRect l="0" t="50218" r="79016" b="27419"/>
          <a:stretch/>
        </p:blipFill>
        <p:spPr>
          <a:xfrm>
            <a:off x="228600" y="213372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20" name="imagem2" descr=""/>
          <p:cNvPicPr/>
          <p:nvPr/>
        </p:nvPicPr>
        <p:blipFill>
          <a:blip r:embed="rId2"/>
          <a:srcRect l="0" t="49650" r="72619" b="18292"/>
          <a:stretch/>
        </p:blipFill>
        <p:spPr>
          <a:xfrm>
            <a:off x="4724280" y="2131920"/>
            <a:ext cx="3954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rimoramento das informações cadastrais (projetos da área de Cadastro da RF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ntores de benefícios fisc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upos econôm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istas de fundos de investimento (sigilo bancár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câmbio de informações com outras administrações tributári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brigad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ro de Souza de Menezes Ba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secretaria de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rdenação-Geral de Programação e Estu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efe da Divisão de Suporte à Atividade de Program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7"/>
          <p:cNvGrpSpPr/>
          <p:nvPr/>
        </p:nvGrpSpPr>
        <p:grpSpPr>
          <a:xfrm>
            <a:off x="-19080" y="-14400"/>
            <a:ext cx="9172440" cy="6872400"/>
            <a:chOff x="-19080" y="-14400"/>
            <a:chExt cx="9172440" cy="6872400"/>
          </a:xfrm>
        </p:grpSpPr>
        <p:sp>
          <p:nvSpPr>
            <p:cNvPr id="128" name="Forma livre 1"/>
            <p:cNvSpPr/>
            <p:nvPr/>
          </p:nvSpPr>
          <p:spPr>
            <a:xfrm>
              <a:off x="-19080" y="-4680"/>
              <a:ext cx="9163080" cy="1909800"/>
            </a:xfrm>
            <a:custGeom>
              <a:avLst/>
              <a:gdLst>
                <a:gd name="textAreaLeft" fmla="*/ 0 w 9163080"/>
                <a:gd name="textAreaRight" fmla="*/ 9163440 w 9163080"/>
                <a:gd name="textAreaTop" fmla="*/ 0 h 1909800"/>
                <a:gd name="textAreaBottom" fmla="*/ 1910160 h 1909800"/>
              </a:gdLst>
              <a:ahLst/>
              <a:rect l="textAreaLeft" t="textAreaTop" r="textAreaRight" b="textAreaBottom"/>
              <a:pathLst>
                <a:path w="10000" h="8164">
                  <a:moveTo>
                    <a:pt x="10" y="36"/>
                  </a:moveTo>
                  <a:lnTo>
                    <a:pt x="4404" y="0"/>
                  </a:lnTo>
                  <a:cubicBezTo>
                    <a:pt x="4757" y="1870"/>
                    <a:pt x="6632" y="6794"/>
                    <a:pt x="7578" y="6794"/>
                  </a:cubicBezTo>
                  <a:cubicBezTo>
                    <a:pt x="8524" y="6794"/>
                    <a:pt x="9574" y="2814"/>
                    <a:pt x="9990" y="1018"/>
                  </a:cubicBezTo>
                  <a:cubicBezTo>
                    <a:pt x="9993" y="1993"/>
                    <a:pt x="9997" y="2968"/>
                    <a:pt x="10000" y="3943"/>
                  </a:cubicBezTo>
                  <a:cubicBezTo>
                    <a:pt x="9823" y="4758"/>
                    <a:pt x="8690" y="8164"/>
                    <a:pt x="7453" y="8126"/>
                  </a:cubicBezTo>
                  <a:cubicBezTo>
                    <a:pt x="6216" y="8090"/>
                    <a:pt x="3820" y="3054"/>
                    <a:pt x="2578" y="3721"/>
                  </a:cubicBezTo>
                  <a:cubicBezTo>
                    <a:pt x="1299" y="3869"/>
                    <a:pt x="494" y="5869"/>
                    <a:pt x="0" y="7857"/>
                  </a:cubicBezTo>
                  <a:cubicBezTo>
                    <a:pt x="3" y="3822"/>
                    <a:pt x="7" y="4072"/>
                    <a:pt x="10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edede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orma livre 2"/>
            <p:cNvSpPr/>
            <p:nvPr/>
          </p:nvSpPr>
          <p:spPr>
            <a:xfrm>
              <a:off x="3429000" y="-14400"/>
              <a:ext cx="5715000" cy="1758960"/>
            </a:xfrm>
            <a:custGeom>
              <a:avLst/>
              <a:gdLst>
                <a:gd name="textAreaLeft" fmla="*/ 0 w 5715000"/>
                <a:gd name="textAreaRight" fmla="*/ 5715360 w 571500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76aa"/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orma livre 2"/>
            <p:cNvSpPr/>
            <p:nvPr/>
          </p:nvSpPr>
          <p:spPr>
            <a:xfrm rot="10800000">
              <a:off x="0" y="5486040"/>
              <a:ext cx="9153360" cy="1371600"/>
            </a:xfrm>
            <a:custGeom>
              <a:avLst/>
              <a:gdLst>
                <a:gd name="textAreaLeft" fmla="*/ 0 w 9153360"/>
                <a:gd name="textAreaRight" fmla="*/ 9153720 w 915336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3000" h="595">
                  <a:moveTo>
                    <a:pt x="0" y="0"/>
                  </a:moveTo>
                  <a:cubicBezTo>
                    <a:pt x="174" y="102"/>
                    <a:pt x="1168" y="533"/>
                    <a:pt x="1668" y="564"/>
                  </a:cubicBezTo>
                  <a:cubicBezTo>
                    <a:pt x="2168" y="595"/>
                    <a:pt x="2778" y="279"/>
                    <a:pt x="3000" y="186"/>
                  </a:cubicBezTo>
                  <a:lnTo>
                    <a:pt x="3000" y="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4b76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2" descr="armasnacionais"/>
            <p:cNvPicPr/>
            <p:nvPr/>
          </p:nvPicPr>
          <p:blipFill>
            <a:blip r:embed="rId1"/>
            <a:stretch/>
          </p:blipFill>
          <p:spPr>
            <a:xfrm>
              <a:off x="1609560" y="1854360"/>
              <a:ext cx="1473480" cy="152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2"/>
            <p:cNvGrpSpPr/>
            <p:nvPr/>
          </p:nvGrpSpPr>
          <p:grpSpPr>
            <a:xfrm>
              <a:off x="1457280" y="3611520"/>
              <a:ext cx="1859040" cy="619200"/>
              <a:chOff x="1457280" y="3611520"/>
              <a:chExt cx="1859040" cy="619200"/>
            </a:xfrm>
          </p:grpSpPr>
          <p:pic>
            <p:nvPicPr>
              <p:cNvPr id="133" name="Imagem 5" descr="logo-ministerio-da-fazenda--PT.gif"/>
              <p:cNvPicPr/>
              <p:nvPr/>
            </p:nvPicPr>
            <p:blipFill>
              <a:blip r:embed="rId2"/>
              <a:srcRect l="-5654" t="0" r="0" b="-38128"/>
              <a:stretch/>
            </p:blipFill>
            <p:spPr>
              <a:xfrm>
                <a:off x="1457280" y="3611880"/>
                <a:ext cx="72324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" descr="AF_Logo_completo_RGB.psd"/>
              <p:cNvPicPr/>
              <p:nvPr/>
            </p:nvPicPr>
            <p:blipFill>
              <a:blip r:embed="rId3"/>
              <a:stretch/>
            </p:blipFill>
            <p:spPr>
              <a:xfrm>
                <a:off x="2179800" y="3611520"/>
                <a:ext cx="113652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10"/>
            <p:cNvGrpSpPr/>
            <p:nvPr/>
          </p:nvGrpSpPr>
          <p:grpSpPr>
            <a:xfrm>
              <a:off x="4282200" y="2693880"/>
              <a:ext cx="3728160" cy="973440"/>
              <a:chOff x="4282200" y="2693880"/>
              <a:chExt cx="3728160" cy="973440"/>
            </a:xfrm>
          </p:grpSpPr>
          <p:sp>
            <p:nvSpPr>
              <p:cNvPr id="136" name="Rectangle 11"/>
              <p:cNvSpPr/>
              <p:nvPr/>
            </p:nvSpPr>
            <p:spPr>
              <a:xfrm>
                <a:off x="4282200" y="356040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7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Picture 12" descr="D:\Documents and Settings\05153030890\Meus documentos\Minhas imagens\Catavento_RFB.bmp"/>
              <p:cNvPicPr/>
              <p:nvPr/>
            </p:nvPicPr>
            <p:blipFill>
              <a:blip r:embed="rId4"/>
              <a:stretch/>
            </p:blipFill>
            <p:spPr>
              <a:xfrm>
                <a:off x="4352760" y="2693880"/>
                <a:ext cx="1143000" cy="80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13" descr="D:\Documents and Settings\05153030890\Meus documentos\Minhas imagens\Receita_2.bmp"/>
              <p:cNvPicPr/>
              <p:nvPr/>
            </p:nvPicPr>
            <p:blipFill>
              <a:blip r:embed="rId5"/>
              <a:stretch/>
            </p:blipFill>
            <p:spPr>
              <a:xfrm>
                <a:off x="5473800" y="2895840"/>
                <a:ext cx="2536560" cy="453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istintas por segmen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ndes contribuintes (planejamentos tributário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édios contribuintes (auditoria fiscal direcionad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quenos contribuintes (malhas fiscai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inição dos setores prioritári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jurídicas: setores econômic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ssoas físicas: ocupações principa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722240"/>
            <a:ext cx="830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ejamento da Fiscal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ividades de malhas fisc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controles especi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vidades de seleção de contribuintes para auditoria fis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af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 – chave primári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uzamento massivo de informaçõe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emplo, nas pessoas físicas, os cruzamentos das malhas fiscais são feitos em um universo de 26 milhões de declar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confiabilidade das informaçõ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s parâmetros das malhas fiscais podem ser calibrados de acordo com origem das fontes informa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mplo, as informações oriundas de órgãos públicos federais tendem a ser mais confiáve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lhas Fiscais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efetividade da comunicaçã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0840" y="990720"/>
            <a:ext cx="8308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unicação postal aos contribuintes com indícios de irregularid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ualização do endereço cadastral das pessoas físicas mediante entrega da declaração de imposto de re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1:14:30Z</dcterms:created>
  <dc:creator>71517650100</dc:creator>
  <dc:description/>
  <dc:language>en-US</dc:language>
  <cp:lastModifiedBy>71517650100</cp:lastModifiedBy>
  <dcterms:modified xsi:type="dcterms:W3CDTF">2013-05-24T21:20:51Z</dcterms:modified>
  <cp:revision>43</cp:revision>
  <dc:subject/>
  <dc:title>Apresentação do PowerPoint</dc:title>
</cp:coreProperties>
</file>