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51480" cy="3408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5880" cy="40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2"/>
          </p:nvPr>
        </p:nvSpPr>
        <p:spPr>
          <a:xfrm>
            <a:off x="388440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pt-BR" sz="12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E4247D-18D9-4C28-A99C-3D0CBECCB0B7}" type="slidenum">
              <a:rPr b="1" lang="pt-BR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0086A7-C3C6-4666-A186-01362A59BE40}" type="slidenum">
              <a:rPr b="1" lang="pt-BR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732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B504FE-0DE0-4A1B-AAAD-B2B4457B24B8}" type="slidenum">
              <a:rPr b="1" lang="pt-BR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732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1B6569-D5BE-4DC8-922F-C514067A2B03}" type="slidenum">
              <a:rPr b="1" lang="pt-BR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732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511440-B63B-480E-8555-2963E26804D9}" type="slidenum">
              <a:rPr b="1" lang="pt-BR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732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944D1B-AE30-4951-A8D3-30D773CC4B6A}" type="slidenum">
              <a:rPr b="1" lang="pt-BR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732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1041C8-5D19-4118-9371-AE25ED2BDC1C}" type="slidenum">
              <a:rPr b="1" lang="pt-BR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732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FFC85D-7DCB-41C2-957F-213680DBC6BD}" type="slidenum">
              <a:rPr b="1" lang="pt-BR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732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817FE3-A344-4448-9BCE-E970E5E542A5}" type="slidenum">
              <a:rPr b="1" lang="pt-BR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732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130D8C-607C-496A-8937-22BCA4C4A477}" type="slidenum">
              <a:rPr b="1" lang="pt-BR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732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94A37F-C739-4F05-AE49-865E4CCB23D5}" type="slidenum">
              <a:rPr b="1" lang="pt-BR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732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8CC911-5921-4A25-94BB-2A79416D2837}" type="slidenum">
              <a:rPr b="1" lang="pt-BR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732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7C9110-1303-4AA1-BCC0-AF85EABF0F9B}" type="slidenum">
              <a:rPr b="1" lang="pt-BR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732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E34763-1983-4213-A66C-CD03EA89C497}" type="slidenum">
              <a:rPr b="1" lang="pt-BR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732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494001-AAB3-4322-9148-505FA1B2A84E}" type="slidenum">
              <a:rPr b="1" lang="pt-BR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732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D3DB66-401A-47A2-B566-880B3F91A8D7}" type="slidenum">
              <a:rPr b="1" lang="pt-BR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732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EAC94A-38FB-4B6B-920A-0CC092B13D65}" type="slidenum">
              <a:rPr b="1" lang="pt-BR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732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1075BB-B725-4863-A146-8B61DA6CE848}" type="slidenum">
              <a:rPr b="1" lang="pt-BR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732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8DFFB1-52FA-4D38-ABCA-E17A7CEBD83F}" type="slidenum">
              <a:rPr b="1" lang="pt-BR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732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AFF3ED-AB5C-4701-B15E-7EA26075B369}" type="slidenum">
              <a:rPr b="1" lang="pt-BR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732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043872-24E0-4449-8156-55CEE591B174}" type="slidenum">
              <a:rPr b="1" lang="pt-BR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732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EDC04C-667A-4D29-AFBF-9AAA18D0D802}" type="slidenum">
              <a:rPr b="1" lang="pt-BR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732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2712F1-3B82-42A6-8BB1-814888A4DE6E}" type="slidenum">
              <a:rPr b="1" lang="pt-BR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732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71EC3-A30E-4484-8363-BDB600B7C8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90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3160"/>
            <a:ext cx="82090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CCF90-5B66-47CC-9415-59852EE29D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316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3080" y="395316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46CC9-B856-4A98-9338-443E7FA9FB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2440" y="159984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8040" y="159984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316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2440" y="395316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8040" y="395316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B0BD5-C7EB-4787-B5F4-99FF6B450E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0908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908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090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6840" y="395316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0908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D5320-9B52-4AF9-AD9E-6A399418F3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3080" y="395316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6840" y="3953160"/>
            <a:ext cx="82090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90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6840" y="3953160"/>
            <a:ext cx="82090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5316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3080" y="395316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2440" y="159984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08040" y="159984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6840" y="395316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2440" y="395316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08040" y="395316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908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25D80-2939-43DF-989E-71D06B0CDD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F2262-60D6-454B-8C76-48767CAEE0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F7141-8232-4D01-97F7-03AB687256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090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8D055-5239-4C55-9C6F-5C7C5A5329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316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BF7DF-B7A9-4001-938D-F4E6606A79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3080" y="395316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33084-53C2-4AA8-B55E-78D09A6ACA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3160"/>
            <a:ext cx="82090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8D66E-F072-4543-BF5A-73EDE2E548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0908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353280"/>
            <a:ext cx="213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353280"/>
            <a:ext cx="211320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C6AEA6-5CB5-4F00-AD54-EC727887C8C8}" type="slidenum">
              <a:rPr b="1" lang="pt-B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612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1961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8.png"/><Relationship Id="rId9" Type="http://schemas.openxmlformats.org/officeDocument/2006/relationships/image" Target="../media/image10.png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8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8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8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8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1" name="" descr=""/>
          <p:cNvPicPr/>
          <p:nvPr/>
        </p:nvPicPr>
        <p:blipFill>
          <a:blip r:embed="rId3"/>
          <a:srcRect l="-5290" t="0" r="0" b="-37435"/>
          <a:stretch/>
        </p:blipFill>
        <p:spPr>
          <a:xfrm>
            <a:off x="762120" y="2197080"/>
            <a:ext cx="1143000" cy="8510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609480" y="304920"/>
            <a:ext cx="1519200" cy="213336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108400" y="5583240"/>
            <a:ext cx="3726000" cy="970560"/>
            <a:chOff x="5108400" y="5583240"/>
            <a:chExt cx="3726000" cy="970560"/>
          </a:xfrm>
        </p:grpSpPr>
        <p:sp>
          <p:nvSpPr>
            <p:cNvPr id="104" name=""/>
            <p:cNvSpPr/>
            <p:nvPr/>
          </p:nvSpPr>
          <p:spPr>
            <a:xfrm>
              <a:off x="5108400" y="644688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t-BR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1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5" name="" descr=""/>
            <p:cNvPicPr/>
            <p:nvPr/>
          </p:nvPicPr>
          <p:blipFill>
            <a:blip r:embed="rId5"/>
            <a:stretch/>
          </p:blipFill>
          <p:spPr>
            <a:xfrm>
              <a:off x="5181480" y="5583240"/>
              <a:ext cx="1140120" cy="80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6"/>
            <a:stretch/>
          </p:blipFill>
          <p:spPr>
            <a:xfrm>
              <a:off x="6302520" y="5784840"/>
              <a:ext cx="2531880" cy="44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" name=""/>
          <p:cNvSpPr/>
          <p:nvPr/>
        </p:nvSpPr>
        <p:spPr>
          <a:xfrm>
            <a:off x="3887640" y="4640400"/>
            <a:ext cx="491364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003366"/>
                </a:solidFill>
                <a:latin typeface="Tahoma"/>
              </a:rPr>
              <a:t>Brasília, 03 de junho de 2013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6480000" y="360360"/>
            <a:ext cx="2519640" cy="1079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879640" y="2303640"/>
            <a:ext cx="5813640" cy="27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003366"/>
                </a:solidFill>
                <a:latin typeface="Tahoma"/>
              </a:rPr>
              <a:t>Cadastros de Informações Previdenciária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E92B0-3B9C-4294-A132-2BD93325FF8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619280" y="2160720"/>
            <a:ext cx="65134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143000" y="358128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47920" y="2438280"/>
            <a:ext cx="312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990720"/>
            <a:ext cx="1981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96880" y="2354400"/>
            <a:ext cx="3183120" cy="1604880"/>
          </a:xfrm>
          <a:prstGeom prst="ellipse">
            <a:avLst/>
          </a:prstGeom>
          <a:gradFill rotWithShape="0">
            <a:gsLst>
              <a:gs pos="0">
                <a:srgbClr val="666666"/>
              </a:gs>
              <a:gs pos="100000">
                <a:srgbClr val="e6e6e6"/>
              </a:gs>
            </a:gsLst>
            <a:lin ang="3600000"/>
          </a:gradFill>
          <a:ln w="9360">
            <a:solidFill>
              <a:srgbClr val="94bd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3600" spc="-1" strike="noStrike">
                <a:solidFill>
                  <a:srgbClr val="ffffff"/>
                </a:solidFill>
                <a:latin typeface="Arial"/>
                <a:ea typeface="Arial Unicode MS"/>
              </a:rPr>
              <a:t>Pessoas física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954160" y="4656240"/>
            <a:ext cx="3022920" cy="1463400"/>
          </a:xfrm>
          <a:prstGeom prst="ellipse">
            <a:avLst/>
          </a:prstGeom>
          <a:gradFill rotWithShape="0">
            <a:gsLst>
              <a:gs pos="0">
                <a:srgbClr val="666666"/>
              </a:gs>
              <a:gs pos="100000">
                <a:srgbClr val="e6e6e6"/>
              </a:gs>
            </a:gsLst>
            <a:lin ang="3600000"/>
          </a:gradFill>
          <a:ln w="9360">
            <a:solidFill>
              <a:srgbClr val="94bd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  <a:ea typeface="Arial Unicode MS"/>
              </a:rPr>
              <a:t> </a:t>
            </a:r>
            <a:r>
              <a:rPr b="1" lang="pt-BR" sz="3600" spc="-1" strike="noStrike">
                <a:solidFill>
                  <a:srgbClr val="ffffff"/>
                </a:solidFill>
                <a:latin typeface="Arial"/>
                <a:ea typeface="Arial Unicode MS"/>
              </a:rPr>
              <a:t>Imóvei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132520" y="2354400"/>
            <a:ext cx="3146400" cy="1604880"/>
          </a:xfrm>
          <a:prstGeom prst="ellipse">
            <a:avLst/>
          </a:prstGeom>
          <a:gradFill rotWithShape="0">
            <a:gsLst>
              <a:gs pos="0">
                <a:srgbClr val="666666"/>
              </a:gs>
              <a:gs pos="100000">
                <a:srgbClr val="e6e6e6"/>
              </a:gs>
            </a:gsLst>
            <a:lin ang="3600000"/>
          </a:gradFill>
          <a:ln w="9360">
            <a:solidFill>
              <a:srgbClr val="94bd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  <a:ea typeface="Arial Unicode MS"/>
              </a:rPr>
              <a:t> </a:t>
            </a:r>
            <a:r>
              <a:rPr b="1" lang="pt-BR" sz="3600" spc="-1" strike="noStrike">
                <a:solidFill>
                  <a:srgbClr val="ffffff"/>
                </a:solidFill>
                <a:latin typeface="Arial"/>
                <a:ea typeface="Arial Unicode MS"/>
              </a:rPr>
              <a:t>Pessoas jurídica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160720" y="1044720"/>
            <a:ext cx="4572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280099"/>
                </a:solidFill>
                <a:latin typeface="Arial"/>
              </a:rPr>
              <a:t>Situação Pretendi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 flipV="1">
            <a:off x="0" y="0"/>
            <a:ext cx="9144000" cy="72072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6659640" y="81000"/>
            <a:ext cx="2303280" cy="60336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87480" y="33480"/>
            <a:ext cx="1892160" cy="65088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 flipH="1" flipV="1">
            <a:off x="-37080" y="754920"/>
            <a:ext cx="9180360" cy="1764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-360" y="6696000"/>
            <a:ext cx="9178920" cy="155160"/>
            <a:chOff x="-360" y="6696000"/>
            <a:chExt cx="9178920" cy="155160"/>
          </a:xfrm>
        </p:grpSpPr>
        <p:sp>
          <p:nvSpPr>
            <p:cNvPr id="257" name=""/>
            <p:cNvSpPr/>
            <p:nvPr/>
          </p:nvSpPr>
          <p:spPr>
            <a:xfrm flipH="1" flipV="1">
              <a:off x="-720" y="669600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 flipV="1">
              <a:off x="-720" y="6768360"/>
              <a:ext cx="9178920" cy="824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 flipV="1">
              <a:off x="-720" y="673272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260" name=""/>
          <p:cNvCxnSpPr>
            <a:stCxn id="248" idx="6"/>
            <a:endCxn id="250" idx="2"/>
          </p:cNvCxnSpPr>
          <p:nvPr/>
        </p:nvCxnSpPr>
        <p:spPr>
          <a:xfrm>
            <a:off x="3779640" y="3157560"/>
            <a:ext cx="1353240" cy="2160"/>
          </a:xfrm>
          <a:prstGeom prst="straightConnector1">
            <a:avLst/>
          </a:prstGeom>
          <a:ln w="9360">
            <a:solidFill>
              <a:srgbClr val="008000"/>
            </a:solidFill>
            <a:round/>
            <a:headEnd len="med" type="triangle" w="med"/>
            <a:tailEnd len="med" type="triangle" w="med"/>
          </a:ln>
        </p:spPr>
      </p:cxnSp>
      <p:cxnSp>
        <p:nvCxnSpPr>
          <p:cNvPr id="261" name=""/>
          <p:cNvCxnSpPr>
            <a:endCxn id="249" idx="0"/>
          </p:cNvCxnSpPr>
          <p:nvPr/>
        </p:nvCxnSpPr>
        <p:spPr>
          <a:xfrm>
            <a:off x="4455720" y="3157200"/>
            <a:ext cx="10440" cy="1500840"/>
          </a:xfrm>
          <a:prstGeom prst="straightConnector1">
            <a:avLst/>
          </a:prstGeom>
          <a:ln w="9360">
            <a:solidFill>
              <a:srgbClr val="008000"/>
            </a:solidFill>
            <a:round/>
            <a:tailEnd len="med" type="triangle" w="med"/>
          </a:ln>
        </p:spPr>
      </p:cxn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0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 fill="hold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 fill="hold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 fill="hold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237960" y="4896000"/>
            <a:ext cx="1741680" cy="126036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1619280" y="2160720"/>
            <a:ext cx="65134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358128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447920" y="2438280"/>
            <a:ext cx="312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4267080"/>
            <a:ext cx="6172200" cy="198144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066680" y="5105520"/>
            <a:ext cx="6705720" cy="12952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-2514600" y="4343400"/>
            <a:ext cx="1981080" cy="17524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498840" y="2305080"/>
            <a:ext cx="1800360" cy="1260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00"/>
              </a:gs>
              <a:gs pos="100000">
                <a:srgbClr val="94bd5e"/>
              </a:gs>
            </a:gsLst>
            <a:lin ang="36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E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1008000" y="1332000"/>
            <a:ext cx="1800360" cy="971640"/>
          </a:xfrm>
          <a:prstGeom prst="rect">
            <a:avLst/>
          </a:prstGeom>
          <a:ln w="18000">
            <a:solidFill>
              <a:srgbClr val="ffffff"/>
            </a:solidFill>
            <a:round/>
          </a:ln>
        </p:spPr>
      </p:pic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7020000" y="2952720"/>
            <a:ext cx="1979640" cy="10796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4"/>
          <a:stretch/>
        </p:blipFill>
        <p:spPr>
          <a:xfrm>
            <a:off x="6048360" y="1325520"/>
            <a:ext cx="1871640" cy="101448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5"/>
          <a:stretch/>
        </p:blipFill>
        <p:spPr>
          <a:xfrm>
            <a:off x="2519280" y="5580000"/>
            <a:ext cx="1800360" cy="111600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6"/>
          <a:stretch/>
        </p:blipFill>
        <p:spPr>
          <a:xfrm>
            <a:off x="4716360" y="5580000"/>
            <a:ext cx="1800360" cy="10796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973080" y="898560"/>
            <a:ext cx="1908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94bd5e"/>
              </a:gs>
            </a:gsLst>
            <a:lin ang="36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Equiparado à empresa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84360" y="5003640"/>
            <a:ext cx="1836720" cy="4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94bd5e"/>
              </a:gs>
            </a:gsLst>
            <a:lin ang="36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Obra de construção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civil de PF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020000" y="2519280"/>
            <a:ext cx="1979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94bd5e"/>
              </a:gs>
            </a:gsLst>
            <a:lin ang="36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Produtor rural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940360" y="900000"/>
            <a:ext cx="1979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94bd5e"/>
              </a:gs>
            </a:gsLst>
            <a:lin ang="36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Segurado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especial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7"/>
          <a:stretch/>
        </p:blipFill>
        <p:spPr>
          <a:xfrm>
            <a:off x="7020000" y="4932360"/>
            <a:ext cx="1836720" cy="10796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6946920" y="4354560"/>
            <a:ext cx="205272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94bd5e"/>
              </a:gs>
            </a:gsLst>
            <a:lin ang="36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Consórcio simplificado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de produtores rurai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519280" y="2844720"/>
            <a:ext cx="541440" cy="35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94bd5e"/>
              </a:gs>
            </a:gsLst>
            <a:lin ang="36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/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492360" y="3995640"/>
            <a:ext cx="5400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94bd5e"/>
              </a:gs>
            </a:gsLst>
            <a:lin ang="36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/6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751280" y="3995640"/>
            <a:ext cx="5400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94bd5e"/>
              </a:gs>
            </a:gsLst>
            <a:lin ang="36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/7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759280" y="2881440"/>
            <a:ext cx="5400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94bd5e"/>
              </a:gs>
            </a:gsLst>
            <a:lin ang="36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/8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50920" y="4537080"/>
            <a:ext cx="1728720" cy="4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94bd5e"/>
              </a:gs>
            </a:gsLst>
            <a:lin ang="36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Empregador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doméstico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79280" y="2700360"/>
            <a:ext cx="1800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94bd5e"/>
              </a:gs>
            </a:gsLst>
            <a:lin ang="36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Titular de cartório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680000" y="5003640"/>
            <a:ext cx="1836720" cy="4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94bd5e"/>
              </a:gs>
            </a:gsLst>
            <a:lin ang="36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Obra de construção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civil de PJ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-360" y="6696000"/>
            <a:ext cx="9178920" cy="155160"/>
            <a:chOff x="-360" y="6696000"/>
            <a:chExt cx="9178920" cy="155160"/>
          </a:xfrm>
        </p:grpSpPr>
        <p:sp>
          <p:nvSpPr>
            <p:cNvPr id="289" name=""/>
            <p:cNvSpPr/>
            <p:nvPr/>
          </p:nvSpPr>
          <p:spPr>
            <a:xfrm flipH="1" flipV="1">
              <a:off x="-720" y="669600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 flipV="1">
              <a:off x="-720" y="6768360"/>
              <a:ext cx="9178920" cy="824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flipV="1">
              <a:off x="-720" y="673272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 flipH="1" flipV="1">
            <a:off x="0" y="0"/>
            <a:ext cx="9144000" cy="72072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8"/>
          <a:stretch/>
        </p:blipFill>
        <p:spPr>
          <a:xfrm>
            <a:off x="6659640" y="81000"/>
            <a:ext cx="2303280" cy="60336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9"/>
          <a:stretch/>
        </p:blipFill>
        <p:spPr>
          <a:xfrm>
            <a:off x="87480" y="33480"/>
            <a:ext cx="1892160" cy="65088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 flipH="1" flipV="1">
            <a:off x="-37080" y="754920"/>
            <a:ext cx="9180360" cy="1764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0"/>
          <a:stretch/>
        </p:blipFill>
        <p:spPr>
          <a:xfrm>
            <a:off x="216000" y="3132000"/>
            <a:ext cx="1800000" cy="12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619280" y="2160720"/>
            <a:ext cx="65134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143000" y="358128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447920" y="2438280"/>
            <a:ext cx="312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16000" y="900000"/>
            <a:ext cx="2340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280099"/>
                </a:solidFill>
                <a:latin typeface="Arial"/>
              </a:rPr>
              <a:t>Objetiv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295280" y="4267080"/>
            <a:ext cx="6172200" cy="198144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035000" y="5040360"/>
            <a:ext cx="6705720" cy="12952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-2514600" y="4343400"/>
            <a:ext cx="1981080" cy="17524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419640" y="3274920"/>
            <a:ext cx="2160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94bd5e"/>
              </a:gs>
            </a:gsLst>
            <a:lin ang="36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Titular de cartóri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551640" y="2951280"/>
            <a:ext cx="2266920" cy="61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94bd5e"/>
              </a:gs>
            </a:gsLst>
            <a:lin ang="36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Obra de construção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ivil de PF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551640" y="3780000"/>
            <a:ext cx="226692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94bd5e"/>
              </a:gs>
            </a:gsLst>
            <a:lin ang="36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Obra de construção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ivil de PJ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419640" y="4140360"/>
            <a:ext cx="2160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94bd5e"/>
              </a:gs>
            </a:gsLst>
            <a:lin ang="36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egurado especi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31640" y="5616720"/>
            <a:ext cx="2160720" cy="1044360"/>
          </a:xfrm>
          <a:prstGeom prst="roundRect">
            <a:avLst>
              <a:gd name="adj" fmla="val 16667"/>
            </a:avLst>
          </a:prstGeom>
          <a:solidFill>
            <a:srgbClr val="dfdfff">
              <a:alpha val="50000"/>
            </a:srgbClr>
          </a:solidFill>
          <a:ln w="18000">
            <a:solidFill>
              <a:srgbClr val="66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4320" rIns="9432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400" spc="-1" strike="noStrike">
                <a:solidFill>
                  <a:srgbClr val="000080"/>
                </a:solidFill>
                <a:latin typeface="Arial"/>
                <a:ea typeface="Lucida Sans Unicode"/>
              </a:rPr>
              <a:t>Criação da “data do primeiro vínculo” no CNPJ/Serpro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875640" y="2016000"/>
            <a:ext cx="1618920" cy="6480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18000">
            <a:solidFill>
              <a:srgbClr val="4c4c4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4320" rIns="9432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Imóvei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16000" y="3282480"/>
            <a:ext cx="2808360" cy="707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94bd5e"/>
              </a:gs>
            </a:gsLst>
            <a:lin ang="36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onsórcio Simplificado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de Produtores rur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132000" y="4680000"/>
            <a:ext cx="2700360" cy="539640"/>
          </a:xfrm>
          <a:prstGeom prst="downArrowCallout">
            <a:avLst>
              <a:gd name="adj1" fmla="val 125112"/>
              <a:gd name="adj2" fmla="val 125100"/>
              <a:gd name="adj3" fmla="val 16667"/>
              <a:gd name="adj4" fmla="val 66667"/>
            </a:avLst>
          </a:pr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Atributos específico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743280" y="5435640"/>
            <a:ext cx="1655640" cy="1204920"/>
          </a:xfrm>
          <a:prstGeom prst="can">
            <a:avLst>
              <a:gd name="adj" fmla="val 19638"/>
            </a:avLst>
          </a:prstGeom>
          <a:solidFill>
            <a:srgbClr val="dfdfff">
              <a:alpha val="50000"/>
            </a:srgbClr>
          </a:solidFill>
          <a:ln w="18000">
            <a:solidFill>
              <a:srgbClr val="4c4c4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4320" rIns="9432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400" spc="-1" strike="noStrike">
                <a:solidFill>
                  <a:srgbClr val="000080"/>
                </a:solidFill>
                <a:latin typeface="Arial"/>
                <a:ea typeface="Lucida Sans Unicode"/>
              </a:rPr>
              <a:t>Cadastro de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400" spc="-1" strike="noStrike">
                <a:solidFill>
                  <a:srgbClr val="000080"/>
                </a:solidFill>
                <a:latin typeface="Arial"/>
                <a:ea typeface="Lucida Sans Unicode"/>
              </a:rPr>
              <a:t>Atividades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400" spc="-1" strike="noStrike">
                <a:solidFill>
                  <a:srgbClr val="000080"/>
                </a:solidFill>
                <a:latin typeface="Arial"/>
                <a:ea typeface="Lucida Sans Unicode"/>
              </a:rPr>
              <a:t>Econômicas da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400" spc="-1" strike="noStrike">
                <a:solidFill>
                  <a:srgbClr val="000080"/>
                </a:solidFill>
                <a:latin typeface="Arial"/>
                <a:ea typeface="Lucida Sans Unicode"/>
              </a:rPr>
              <a:t>Pessoa Física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227640" y="4680000"/>
            <a:ext cx="2700360" cy="539640"/>
          </a:xfrm>
          <a:prstGeom prst="downArrowCallout">
            <a:avLst>
              <a:gd name="adj1" fmla="val 125112"/>
              <a:gd name="adj2" fmla="val 125100"/>
              <a:gd name="adj3" fmla="val 16667"/>
              <a:gd name="adj4" fmla="val 66667"/>
            </a:avLst>
          </a:pr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Atributos específico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79280" y="4680000"/>
            <a:ext cx="2700360" cy="539640"/>
          </a:xfrm>
          <a:prstGeom prst="downArrowCallout">
            <a:avLst>
              <a:gd name="adj1" fmla="val 125112"/>
              <a:gd name="adj2" fmla="val 125100"/>
              <a:gd name="adj3" fmla="val 16667"/>
              <a:gd name="adj4" fmla="val 66667"/>
            </a:avLst>
          </a:pr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Migração para o CNPJ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240000" y="1440000"/>
            <a:ext cx="25560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94bd5e"/>
              </a:gs>
            </a:gsLst>
            <a:lin ang="36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Empregador doméstic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19280" y="1979640"/>
            <a:ext cx="1439640" cy="720720"/>
          </a:xfrm>
          <a:prstGeom prst="can">
            <a:avLst>
              <a:gd name="adj" fmla="val 25097"/>
            </a:avLst>
          </a:prstGeom>
          <a:solidFill>
            <a:srgbClr val="808080"/>
          </a:solidFill>
          <a:ln w="18000">
            <a:solidFill>
              <a:srgbClr val="4c4c4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4320" rIns="94320" tIns="49320" bIns="4932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NPJ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51280" y="1944720"/>
            <a:ext cx="1368360" cy="755640"/>
          </a:xfrm>
          <a:prstGeom prst="can">
            <a:avLst>
              <a:gd name="adj" fmla="val 25000"/>
            </a:avLst>
          </a:prstGeom>
          <a:solidFill>
            <a:srgbClr val="808080"/>
          </a:solidFill>
          <a:ln w="18000">
            <a:solidFill>
              <a:srgbClr val="4c4c4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4320" rIns="94320" tIns="49320" bIns="4932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PF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419640" y="2808360"/>
            <a:ext cx="215892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94bd5e"/>
              </a:gs>
            </a:gsLst>
            <a:lin ang="36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Arial"/>
              </a:rPr>
              <a:t>Equiparado à empresa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840360" y="5435640"/>
            <a:ext cx="1440000" cy="1204920"/>
          </a:xfrm>
          <a:prstGeom prst="can">
            <a:avLst>
              <a:gd name="adj" fmla="val 18592"/>
            </a:avLst>
          </a:prstGeom>
          <a:solidFill>
            <a:srgbClr val="dfdfff">
              <a:alpha val="50000"/>
            </a:srgbClr>
          </a:solidFill>
          <a:ln w="18000">
            <a:solidFill>
              <a:srgbClr val="4c4c4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4320" rIns="9432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80"/>
                </a:solidFill>
                <a:latin typeface="Arial"/>
              </a:rPr>
              <a:t>Cadastro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80"/>
                </a:solidFill>
                <a:latin typeface="Arial"/>
              </a:rPr>
              <a:t>Nacion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80"/>
                </a:solidFill>
                <a:latin typeface="Arial"/>
              </a:rPr>
              <a:t>de Obra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419640" y="3706920"/>
            <a:ext cx="2160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94bd5e"/>
              </a:gs>
            </a:gsLst>
            <a:lin ang="36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Produtor rur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 flipV="1">
            <a:off x="0" y="0"/>
            <a:ext cx="9144000" cy="72072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6659640" y="81000"/>
            <a:ext cx="2303280" cy="60336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87480" y="34920"/>
            <a:ext cx="1892160" cy="65088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 flipH="1" flipV="1">
            <a:off x="-37080" y="754920"/>
            <a:ext cx="9180360" cy="1764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-360" y="6696000"/>
            <a:ext cx="9178920" cy="155160"/>
            <a:chOff x="-360" y="6696000"/>
            <a:chExt cx="9178920" cy="155160"/>
          </a:xfrm>
        </p:grpSpPr>
        <p:sp>
          <p:nvSpPr>
            <p:cNvPr id="326" name=""/>
            <p:cNvSpPr/>
            <p:nvPr/>
          </p:nvSpPr>
          <p:spPr>
            <a:xfrm flipH="1" flipV="1">
              <a:off x="-720" y="669600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-720" y="6768360"/>
              <a:ext cx="9178920" cy="824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 flipV="1">
              <a:off x="-720" y="673416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1619280" y="2160720"/>
            <a:ext cx="65134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143000" y="358128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447920" y="2438280"/>
            <a:ext cx="312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44360" y="1592280"/>
            <a:ext cx="8820360" cy="4827600"/>
          </a:xfrm>
          <a:prstGeom prst="rect">
            <a:avLst/>
          </a:prstGeom>
          <a:ln w="18000">
            <a:solidFill>
              <a:srgbClr val="808080"/>
            </a:solidFill>
            <a:round/>
          </a:ln>
        </p:spPr>
      </p:pic>
      <p:sp>
        <p:nvSpPr>
          <p:cNvPr id="333" name=""/>
          <p:cNvSpPr/>
          <p:nvPr/>
        </p:nvSpPr>
        <p:spPr>
          <a:xfrm>
            <a:off x="0" y="990720"/>
            <a:ext cx="1981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280099"/>
                </a:solidFill>
                <a:latin typeface="Arial"/>
              </a:rPr>
              <a:t>EA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0" y="0"/>
            <a:ext cx="9144000" cy="72072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6659640" y="81000"/>
            <a:ext cx="2303280" cy="60336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87480" y="34920"/>
            <a:ext cx="1892160" cy="65088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 flipH="1" flipV="1">
            <a:off x="-37080" y="754920"/>
            <a:ext cx="9180360" cy="1764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-360" y="6696000"/>
            <a:ext cx="9178920" cy="155160"/>
            <a:chOff x="-360" y="6696000"/>
            <a:chExt cx="9178920" cy="155160"/>
          </a:xfrm>
        </p:grpSpPr>
        <p:sp>
          <p:nvSpPr>
            <p:cNvPr id="339" name=""/>
            <p:cNvSpPr/>
            <p:nvPr/>
          </p:nvSpPr>
          <p:spPr>
            <a:xfrm flipH="1" flipV="1">
              <a:off x="-720" y="669600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 flipV="1">
              <a:off x="-720" y="6768360"/>
              <a:ext cx="9178920" cy="824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 flipV="1">
              <a:off x="-720" y="673416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1619280" y="2160720"/>
            <a:ext cx="65134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143000" y="358128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447920" y="2438280"/>
            <a:ext cx="312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62120" y="2987640"/>
            <a:ext cx="1938240" cy="1944720"/>
          </a:xfrm>
          <a:prstGeom prst="can">
            <a:avLst>
              <a:gd name="adj" fmla="val 23356"/>
            </a:avLst>
          </a:prstGeom>
          <a:gradFill rotWithShape="0">
            <a:gsLst>
              <a:gs pos="0">
                <a:srgbClr val="808080"/>
              </a:gs>
              <a:gs pos="100000">
                <a:srgbClr val="e6e6e6"/>
              </a:gs>
            </a:gsLst>
            <a:lin ang="3600000"/>
          </a:gradFill>
          <a:ln w="18000">
            <a:solidFill>
              <a:srgbClr val="4c4c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adastro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de Atividades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Econômicas da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Pessoa Física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(CAEPF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300720" y="3024360"/>
            <a:ext cx="1979640" cy="1904760"/>
          </a:xfrm>
          <a:prstGeom prst="can">
            <a:avLst>
              <a:gd name="adj" fmla="val 23356"/>
            </a:avLst>
          </a:prstGeom>
          <a:gradFill rotWithShape="0">
            <a:gsLst>
              <a:gs pos="0">
                <a:srgbClr val="808080"/>
              </a:gs>
              <a:gs pos="100000">
                <a:srgbClr val="e6e6e6"/>
              </a:gs>
            </a:gsLst>
            <a:lin ang="3600000"/>
          </a:gradFill>
          <a:ln w="18000">
            <a:solidFill>
              <a:srgbClr val="4c4c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adastro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Nacional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de Obra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(CNO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914400"/>
            <a:ext cx="3959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900" spc="-1" strike="noStrike">
                <a:solidFill>
                  <a:srgbClr val="280099"/>
                </a:solidFill>
                <a:latin typeface="Arial"/>
              </a:rPr>
              <a:t>Principais Produtos</a:t>
            </a: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959280" y="3527280"/>
            <a:ext cx="1079280" cy="1079640"/>
          </a:xfrm>
          <a:custGeom>
            <a:avLst/>
            <a:gdLst>
              <a:gd name="textAreaLeft" fmla="*/ 444600 w 1079280"/>
              <a:gd name="textAreaRight" fmla="*/ 634680 w 1079280"/>
              <a:gd name="textAreaTop" fmla="*/ 444960 h 1079640"/>
              <a:gd name="textAreaBottom" fmla="*/ 63468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5000b">
              <a:alpha val="7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68560" y="1779480"/>
            <a:ext cx="3041640" cy="1300320"/>
          </a:xfrm>
          <a:prstGeom prst="roundRect">
            <a:avLst>
              <a:gd name="adj" fmla="val 18014"/>
            </a:avLst>
          </a:prstGeom>
          <a:gradFill rotWithShape="0">
            <a:gsLst>
              <a:gs pos="0">
                <a:srgbClr val="808080"/>
              </a:gs>
              <a:gs pos="100000">
                <a:srgbClr val="e6e6e6"/>
              </a:gs>
            </a:gsLst>
            <a:lin ang="3600000"/>
          </a:gradFill>
          <a:ln w="18000">
            <a:solidFill>
              <a:srgbClr val="4c4c4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Inclusão da “data do primeiro vínculo” no CNPJ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011400" y="5040360"/>
            <a:ext cx="3000600" cy="1260360"/>
          </a:xfrm>
          <a:prstGeom prst="roundRect">
            <a:avLst>
              <a:gd name="adj" fmla="val 18014"/>
            </a:avLst>
          </a:prstGeom>
          <a:gradFill rotWithShape="0">
            <a:gsLst>
              <a:gs pos="0">
                <a:srgbClr val="808080"/>
              </a:gs>
              <a:gs pos="100000">
                <a:srgbClr val="e6e6e6"/>
              </a:gs>
            </a:gsLst>
            <a:lin ang="3600000"/>
          </a:gradFill>
          <a:ln w="18000">
            <a:solidFill>
              <a:srgbClr val="4c4c4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Migração do consórcio simplificado de produtores rurais para o CNPJ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-360" y="6696000"/>
            <a:ext cx="9178920" cy="155160"/>
            <a:chOff x="-360" y="6696000"/>
            <a:chExt cx="9178920" cy="155160"/>
          </a:xfrm>
        </p:grpSpPr>
        <p:sp>
          <p:nvSpPr>
            <p:cNvPr id="352" name=""/>
            <p:cNvSpPr/>
            <p:nvPr/>
          </p:nvSpPr>
          <p:spPr>
            <a:xfrm flipH="1" flipV="1">
              <a:off x="-720" y="669600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-720" y="6768360"/>
              <a:ext cx="9178920" cy="824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 flipV="1">
              <a:off x="-720" y="673416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5" name=""/>
          <p:cNvSpPr/>
          <p:nvPr/>
        </p:nvSpPr>
        <p:spPr>
          <a:xfrm flipH="1" flipV="1">
            <a:off x="0" y="1440"/>
            <a:ext cx="9144000" cy="72072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6659640" y="82440"/>
            <a:ext cx="2303280" cy="60336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87480" y="34920"/>
            <a:ext cx="1892160" cy="65088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 flipH="1" flipV="1">
            <a:off x="-37080" y="754920"/>
            <a:ext cx="9180360" cy="1764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dur="indefinite" fill="hold">
                      <p:stCondLst>
                        <p:cond delay="0"/>
                      </p:stCondLst>
                      <p:childTnLst>
                        <p:par>
                          <p:cTn id="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51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1619280" y="2160720"/>
            <a:ext cx="65134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79280" y="1979640"/>
            <a:ext cx="8820360" cy="487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956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75880"/>
                <a:tab algn="l" pos="9425160"/>
                <a:tab algn="l" pos="9874080"/>
                <a:tab algn="l" pos="10323360"/>
                <a:tab algn="l" pos="10779120"/>
                <a:tab algn="l" pos="10780560"/>
                <a:tab algn="l" pos="1078236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956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75880"/>
                <a:tab algn="l" pos="9425160"/>
                <a:tab algn="l" pos="9874080"/>
                <a:tab algn="l" pos="10323360"/>
                <a:tab algn="l" pos="10779120"/>
                <a:tab algn="l" pos="10780560"/>
                <a:tab algn="l" pos="1078236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Calibri"/>
                <a:ea typeface="Arial"/>
              </a:rPr>
              <a:t> </a:t>
            </a:r>
            <a:r>
              <a:rPr b="1" lang="pt-BR" sz="2400" spc="-1" strike="noStrike">
                <a:solidFill>
                  <a:srgbClr val="000080"/>
                </a:solidFill>
                <a:latin typeface="Arial"/>
                <a:ea typeface="Arial"/>
              </a:rPr>
              <a:t>Criação de uma base de dados vinculada ao CPF, no SERPRO, na qual o sujeito passivo, pessoa física, será identificado em suas diversas atividades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956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75880"/>
                <a:tab algn="l" pos="9425160"/>
                <a:tab algn="l" pos="9874080"/>
                <a:tab algn="l" pos="10323360"/>
                <a:tab algn="l" pos="10779120"/>
                <a:tab algn="l" pos="1078056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66760">
              <a:lnSpc>
                <a:spcPct val="15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956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75880"/>
                <a:tab algn="l" pos="9425160"/>
                <a:tab algn="l" pos="9874080"/>
                <a:tab algn="l" pos="10323360"/>
                <a:tab algn="l" pos="10779120"/>
                <a:tab algn="l" pos="10780560"/>
                <a:tab algn="l" pos="1078236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Arial"/>
                <a:ea typeface="Arial"/>
              </a:rPr>
              <a:t> </a:t>
            </a:r>
            <a:r>
              <a:rPr b="1" lang="pt-BR" sz="2400" spc="-1" strike="noStrike">
                <a:solidFill>
                  <a:srgbClr val="000080"/>
                </a:solidFill>
                <a:latin typeface="Arial"/>
                <a:ea typeface="Arial"/>
              </a:rPr>
              <a:t>Haverá identificação do contribuinte pessoa física como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buSzPct val="100000"/>
              <a:buBlip>
                <a:blip r:embed="rId1"/>
              </a:buBlip>
              <a:tabLst>
                <a:tab algn="l" pos="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956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75880"/>
                <a:tab algn="l" pos="9425160"/>
                <a:tab algn="l" pos="9874080"/>
                <a:tab algn="l" pos="10323360"/>
                <a:tab algn="l" pos="10779120"/>
                <a:tab algn="l" pos="10780560"/>
                <a:tab algn="l" pos="1078236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Arial"/>
                <a:ea typeface="Arial"/>
              </a:rPr>
              <a:t>contribuinte individual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buSzPct val="100000"/>
              <a:buBlip>
                <a:blip r:embed="rId2"/>
              </a:buBlip>
              <a:tabLst>
                <a:tab algn="l" pos="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956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75880"/>
                <a:tab algn="l" pos="9425160"/>
                <a:tab algn="l" pos="9874080"/>
                <a:tab algn="l" pos="10323360"/>
                <a:tab algn="l" pos="10779120"/>
                <a:tab algn="l" pos="10780560"/>
                <a:tab algn="l" pos="1078236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Arial"/>
                <a:ea typeface="Arial"/>
              </a:rPr>
              <a:t>produtor rural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buSzPct val="100000"/>
              <a:buBlip>
                <a:blip r:embed="rId3"/>
              </a:buBlip>
              <a:tabLst>
                <a:tab algn="l" pos="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956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75880"/>
                <a:tab algn="l" pos="9425160"/>
                <a:tab algn="l" pos="9874080"/>
                <a:tab algn="l" pos="10323360"/>
                <a:tab algn="l" pos="10779120"/>
                <a:tab algn="l" pos="10780560"/>
                <a:tab algn="l" pos="1078236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Arial"/>
                <a:ea typeface="Arial"/>
              </a:rPr>
              <a:t>segurado especial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956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75880"/>
                <a:tab algn="l" pos="9425160"/>
                <a:tab algn="l" pos="9874080"/>
                <a:tab algn="l" pos="10323360"/>
                <a:tab algn="l" pos="10779120"/>
                <a:tab algn="l" pos="1078056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143000" y="358128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447920" y="2438280"/>
            <a:ext cx="312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260360" y="1224000"/>
            <a:ext cx="6875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280099"/>
                </a:solidFill>
                <a:latin typeface="Arial"/>
              </a:rPr>
              <a:t>Cadastro de Atividades Econômica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280099"/>
                </a:solidFill>
                <a:latin typeface="Arial"/>
              </a:rPr>
              <a:t>da Pessoa Física - CAEPF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-609480" y="5638680"/>
            <a:ext cx="8458200" cy="1447920"/>
          </a:xfrm>
          <a:prstGeom prst="flowChartInputOutpu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" y="2133720"/>
            <a:ext cx="1752480" cy="685800"/>
          </a:xfrm>
          <a:custGeom>
            <a:avLst/>
            <a:gdLst>
              <a:gd name="textAreaLeft" fmla="*/ 0 w 1752480"/>
              <a:gd name="textAreaRight" fmla="*/ 1752840 w 175248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 flipV="1">
            <a:off x="0" y="1440"/>
            <a:ext cx="9144000" cy="72072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6659640" y="82440"/>
            <a:ext cx="2303280" cy="60336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5"/>
          <a:stretch/>
        </p:blipFill>
        <p:spPr>
          <a:xfrm>
            <a:off x="87480" y="34920"/>
            <a:ext cx="1892160" cy="65088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 flipH="1" flipV="1">
            <a:off x="-37080" y="754920"/>
            <a:ext cx="9180360" cy="1764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-360" y="6697800"/>
            <a:ext cx="9178920" cy="153360"/>
            <a:chOff x="-360" y="6697800"/>
            <a:chExt cx="9178920" cy="153360"/>
          </a:xfrm>
        </p:grpSpPr>
        <p:sp>
          <p:nvSpPr>
            <p:cNvPr id="371" name=""/>
            <p:cNvSpPr/>
            <p:nvPr/>
          </p:nvSpPr>
          <p:spPr>
            <a:xfrm flipH="1" flipV="1">
              <a:off x="-720" y="669780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 flipV="1">
              <a:off x="-720" y="6768360"/>
              <a:ext cx="9178920" cy="824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>
              <a:off x="-720" y="673416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1619280" y="2160720"/>
            <a:ext cx="65134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6360" y="1440000"/>
            <a:ext cx="9144000" cy="533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143000" y="358128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447920" y="2438280"/>
            <a:ext cx="312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-609480" y="5638680"/>
            <a:ext cx="8458200" cy="1447920"/>
          </a:xfrm>
          <a:prstGeom prst="flowChartInputOutpu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7200" y="2133720"/>
            <a:ext cx="1752480" cy="685800"/>
          </a:xfrm>
          <a:custGeom>
            <a:avLst/>
            <a:gdLst>
              <a:gd name="textAreaLeft" fmla="*/ 0 w 1752480"/>
              <a:gd name="textAreaRight" fmla="*/ 1752840 w 175248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-720720" y="2629080"/>
            <a:ext cx="950436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10126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Calibri"/>
                <a:ea typeface="Arial"/>
              </a:rPr>
              <a:t> </a:t>
            </a:r>
            <a:r>
              <a:rPr b="1" lang="pt-BR" sz="2400" spc="-1" strike="noStrike">
                <a:solidFill>
                  <a:srgbClr val="000080"/>
                </a:solidFill>
                <a:latin typeface="Arial"/>
                <a:ea typeface="Arial"/>
              </a:rPr>
              <a:t>Para cada atividade desempenhada pelo sujeito passivo pessoa física haverá os atributo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1120" indent="-301680">
              <a:lnSpc>
                <a:spcPct val="100000"/>
              </a:lnSpc>
              <a:tabLst>
                <a:tab algn="l" pos="0"/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10126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buSzPct val="100000"/>
              <a:buBlip>
                <a:blip r:embed="rId1"/>
              </a:buBlip>
              <a:tabLst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10126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Arial"/>
                <a:ea typeface="Arial"/>
              </a:rPr>
              <a:t>Endereço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10126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Arial"/>
                <a:ea typeface="Arial"/>
              </a:rPr>
              <a:t>Tipo da atividade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10126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Arial"/>
                <a:ea typeface="Arial"/>
              </a:rPr>
              <a:t>Código de atividade (CNAE)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10126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Arial"/>
                <a:ea typeface="Arial"/>
              </a:rPr>
              <a:t>Data de início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buSzPct val="100000"/>
              <a:buBlip>
                <a:blip r:embed="rId5"/>
              </a:buBlip>
              <a:tabLst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10126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Arial"/>
                <a:ea typeface="Arial"/>
              </a:rPr>
              <a:t>Situação cadastral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buSzPct val="100000"/>
              <a:buBlip>
                <a:blip r:embed="rId6"/>
              </a:buBlip>
              <a:tabLst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10126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Arial"/>
                <a:ea typeface="Arial"/>
              </a:rPr>
              <a:t>Matrícula CEI, quando  houver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 flipV="1">
            <a:off x="0" y="1440"/>
            <a:ext cx="9144000" cy="72072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7"/>
          <a:stretch/>
        </p:blipFill>
        <p:spPr>
          <a:xfrm>
            <a:off x="6659640" y="82440"/>
            <a:ext cx="2303280" cy="60336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8"/>
          <a:stretch/>
        </p:blipFill>
        <p:spPr>
          <a:xfrm>
            <a:off x="87480" y="34920"/>
            <a:ext cx="1892160" cy="65088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 flipH="1" flipV="1">
            <a:off x="-37080" y="754920"/>
            <a:ext cx="9180360" cy="1764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-360" y="6697800"/>
            <a:ext cx="9178920" cy="153360"/>
            <a:chOff x="-360" y="6697800"/>
            <a:chExt cx="9178920" cy="153360"/>
          </a:xfrm>
        </p:grpSpPr>
        <p:sp>
          <p:nvSpPr>
            <p:cNvPr id="386" name=""/>
            <p:cNvSpPr/>
            <p:nvPr/>
          </p:nvSpPr>
          <p:spPr>
            <a:xfrm flipH="1" flipV="1">
              <a:off x="-720" y="669780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 flipV="1">
              <a:off x="-720" y="6768360"/>
              <a:ext cx="9178920" cy="824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-720" y="673416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1260360" y="1260360"/>
            <a:ext cx="6875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280099"/>
                </a:solidFill>
                <a:latin typeface="Arial"/>
              </a:rPr>
              <a:t>Cadastro de Atividades Econômica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280099"/>
                </a:solidFill>
                <a:latin typeface="Arial"/>
              </a:rPr>
              <a:t>da Pessoa Física - CAEPF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360360" y="4500720"/>
            <a:ext cx="8099280" cy="1979280"/>
          </a:xfrm>
          <a:prstGeom prst="roundRect">
            <a:avLst>
              <a:gd name="adj" fmla="val 16667"/>
            </a:avLst>
          </a:prstGeom>
          <a:solidFill>
            <a:srgbClr val="c0c0c0">
              <a:alpha val="20000"/>
            </a:srgbClr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800360" y="2160720"/>
            <a:ext cx="5219640" cy="1979640"/>
          </a:xfrm>
          <a:prstGeom prst="roundRect">
            <a:avLst>
              <a:gd name="adj" fmla="val 16667"/>
            </a:avLst>
          </a:prstGeom>
          <a:solidFill>
            <a:srgbClr val="c0c0c0">
              <a:alpha val="20000"/>
            </a:srgbClr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619280" y="2160720"/>
            <a:ext cx="65134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143000" y="358128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447920" y="2438280"/>
            <a:ext cx="312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-609480" y="5638680"/>
            <a:ext cx="8458200" cy="1447920"/>
          </a:xfrm>
          <a:prstGeom prst="flowChartInputOutpu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57200" y="2133720"/>
            <a:ext cx="1752480" cy="685800"/>
          </a:xfrm>
          <a:custGeom>
            <a:avLst/>
            <a:gdLst>
              <a:gd name="textAreaLeft" fmla="*/ 0 w 1752480"/>
              <a:gd name="textAreaRight" fmla="*/ 1752840 w 175248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 flipV="1">
            <a:off x="0" y="1440"/>
            <a:ext cx="9144000" cy="72072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6659640" y="82440"/>
            <a:ext cx="2303280" cy="60336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87480" y="34920"/>
            <a:ext cx="1892160" cy="65088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 flipH="1" flipV="1">
            <a:off x="-37080" y="754920"/>
            <a:ext cx="9180360" cy="1764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260360" y="971640"/>
            <a:ext cx="6875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280099"/>
                </a:solidFill>
                <a:latin typeface="Arial"/>
              </a:rPr>
              <a:t>Cadastro de Atividades Econômica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280099"/>
                </a:solidFill>
                <a:latin typeface="Arial"/>
              </a:rPr>
              <a:t>da Pessoa Física - CAEPF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160720" y="2340000"/>
            <a:ext cx="47149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000080"/>
                </a:solidFill>
                <a:latin typeface="Arial"/>
              </a:rPr>
              <a:t>Número identificador da atividad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664000" y="4500720"/>
            <a:ext cx="3455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000080"/>
                </a:solidFill>
                <a:latin typeface="Arial"/>
              </a:rPr>
              <a:t>Base para cálculo do DV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2592360" y="2987640"/>
            <a:ext cx="3600360" cy="863640"/>
            <a:chOff x="2592360" y="2987640"/>
            <a:chExt cx="3600360" cy="863640"/>
          </a:xfrm>
        </p:grpSpPr>
        <p:sp>
          <p:nvSpPr>
            <p:cNvPr id="405" name=""/>
            <p:cNvSpPr/>
            <p:nvPr/>
          </p:nvSpPr>
          <p:spPr>
            <a:xfrm>
              <a:off x="2771640" y="2987640"/>
              <a:ext cx="1656000" cy="36036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c0c0c0"/>
              </a:solidFill>
              <a:round/>
            </a:ln>
            <a:effectLst>
              <a:outerShdw dist="50911" dir="2700000" blurRad="0" rotWithShape="0">
                <a:srgbClr val="808080">
                  <a:alpha val="1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t-BR" sz="1800" spc="-1" strike="noStrike">
                  <a:solidFill>
                    <a:srgbClr val="ffffff"/>
                  </a:solidFill>
                  <a:latin typeface="Arial"/>
                </a:rPr>
                <a:t>NNN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80000" y="2987640"/>
              <a:ext cx="1079280" cy="36036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c0c0c0"/>
              </a:solidFill>
              <a:round/>
            </a:ln>
            <a:effectLst>
              <a:outerShdw dist="50911" dir="2700000" blurRad="0" rotWithShape="0">
                <a:srgbClr val="808080">
                  <a:alpha val="1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t-BR" sz="1800" spc="-1" strike="noStrike">
                  <a:solidFill>
                    <a:srgbClr val="ffffff"/>
                  </a:solidFill>
                  <a:latin typeface="Arial"/>
                </a:rPr>
                <a:t>N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592360" y="3492360"/>
              <a:ext cx="180036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t-BR" sz="1800" spc="-1" strike="noStrike">
                  <a:solidFill>
                    <a:srgbClr val="333333"/>
                  </a:solidFill>
                  <a:latin typeface="Arial"/>
                </a:rPr>
                <a:t>Sequencial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392720" y="3492360"/>
              <a:ext cx="18000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t-BR" sz="1800" spc="-1" strike="noStrike">
                  <a:solidFill>
                    <a:srgbClr val="333333"/>
                  </a:solidFill>
                  <a:latin typeface="Arial"/>
                </a:rPr>
                <a:t>Dígito Verificador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6372360" y="5219640"/>
            <a:ext cx="1079280" cy="539640"/>
          </a:xfrm>
          <a:prstGeom prst="rect">
            <a:avLst/>
          </a:prstGeom>
          <a:solidFill>
            <a:srgbClr val="cccc00"/>
          </a:solidFill>
          <a:ln w="9360">
            <a:solidFill>
              <a:srgbClr val="c0c0c0"/>
            </a:solidFill>
            <a:round/>
          </a:ln>
          <a:effectLst>
            <a:outerShdw dist="50911" dir="2700000" blurRad="0" rotWithShape="0">
              <a:srgbClr val="80808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N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083280" y="5867280"/>
            <a:ext cx="1800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333333"/>
                </a:solidFill>
                <a:latin typeface="Arial"/>
              </a:rPr>
              <a:t>Dígito Verifica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079640" y="5219640"/>
            <a:ext cx="3240000" cy="539640"/>
          </a:xfrm>
          <a:prstGeom prst="rect">
            <a:avLst/>
          </a:prstGeom>
          <a:solidFill>
            <a:srgbClr val="198a8a"/>
          </a:solidFill>
          <a:ln w="9360">
            <a:solidFill>
              <a:srgbClr val="c0c0c0"/>
            </a:solidFill>
            <a:round/>
          </a:ln>
          <a:effectLst>
            <a:outerShdw dist="50911" dir="2700000" blurRad="0" rotWithShape="0">
              <a:srgbClr val="80808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NNN.NNN.NN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800360" y="5940360"/>
            <a:ext cx="1800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333333"/>
                </a:solidFill>
                <a:latin typeface="Arial"/>
              </a:rPr>
              <a:t>CPF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500720" y="5219640"/>
            <a:ext cx="1618920" cy="539640"/>
          </a:xfrm>
          <a:prstGeom prst="rect">
            <a:avLst/>
          </a:prstGeom>
          <a:solidFill>
            <a:srgbClr val="cccc00"/>
          </a:solidFill>
          <a:ln w="9360">
            <a:solidFill>
              <a:srgbClr val="c0c0c0"/>
            </a:solidFill>
            <a:round/>
          </a:ln>
          <a:effectLst>
            <a:outerShdw dist="50911" dir="2700000" blurRad="0" rotWithShape="0">
              <a:srgbClr val="80808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NNN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427640" y="5940360"/>
            <a:ext cx="1800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333333"/>
                </a:solidFill>
                <a:latin typeface="Arial"/>
              </a:rPr>
              <a:t>Sequenci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1619280" y="2160720"/>
            <a:ext cx="65134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1523880"/>
            <a:ext cx="914400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143000" y="358128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47920" y="2438280"/>
            <a:ext cx="312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-609480" y="5638680"/>
            <a:ext cx="8458200" cy="1447920"/>
          </a:xfrm>
          <a:prstGeom prst="flowChartInputOutpu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57200" y="2133720"/>
            <a:ext cx="1752480" cy="685800"/>
          </a:xfrm>
          <a:custGeom>
            <a:avLst/>
            <a:gdLst>
              <a:gd name="textAreaLeft" fmla="*/ 0 w 1752480"/>
              <a:gd name="textAreaRight" fmla="*/ 1752840 w 175248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04920" y="1619280"/>
            <a:ext cx="7981920" cy="47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1120" indent="-30168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66760" algn="just"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Tahoma"/>
                <a:ea typeface="Arial"/>
              </a:rPr>
              <a:t> </a:t>
            </a:r>
            <a:r>
              <a:rPr b="1" lang="pt-BR" sz="2400" spc="-1" strike="noStrike">
                <a:solidFill>
                  <a:srgbClr val="000080"/>
                </a:solidFill>
                <a:latin typeface="Arial"/>
                <a:ea typeface="Arial"/>
              </a:rPr>
              <a:t>Será criado, no Serpro, um cadastro de obras. Esse cadastro armazenará os dados de obras de construção civil de pessoas físicas e de pessoas jurídica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1120" indent="-301680" algn="just">
              <a:lnSpc>
                <a:spcPct val="100000"/>
              </a:lnSpc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1120" indent="-301680" algn="just">
              <a:lnSpc>
                <a:spcPct val="100000"/>
              </a:lnSpc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1120" indent="-301680" algn="just"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80"/>
                </a:solidFill>
                <a:latin typeface="Arial"/>
              </a:rPr>
              <a:t>Será desenvolvido um aplicativo web que será a única ferramenta para atualizar os dados do Cadastro Nacional de Obras, tanto para contribuinte quanto para o servidor da RFB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60360" y="1093680"/>
            <a:ext cx="8280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280099"/>
                </a:solidFill>
                <a:latin typeface="Arial"/>
              </a:rPr>
              <a:t>Cadastro Nacional de Obras - CN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 flipV="1">
            <a:off x="0" y="1440"/>
            <a:ext cx="9144000" cy="72072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6659640" y="82440"/>
            <a:ext cx="2303280" cy="60336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87480" y="34920"/>
            <a:ext cx="1892160" cy="65088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 flipH="1" flipV="1">
            <a:off x="-37080" y="754920"/>
            <a:ext cx="9180360" cy="1764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-360" y="6697800"/>
            <a:ext cx="9178920" cy="153360"/>
            <a:chOff x="-360" y="6697800"/>
            <a:chExt cx="9178920" cy="153360"/>
          </a:xfrm>
        </p:grpSpPr>
        <p:sp>
          <p:nvSpPr>
            <p:cNvPr id="428" name=""/>
            <p:cNvSpPr/>
            <p:nvPr/>
          </p:nvSpPr>
          <p:spPr>
            <a:xfrm flipH="1" flipV="1">
              <a:off x="-720" y="669780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 flipV="1">
              <a:off x="-720" y="6768360"/>
              <a:ext cx="9178920" cy="824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 flipV="1">
              <a:off x="-720" y="673416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1619280" y="2160720"/>
            <a:ext cx="65134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143000" y="358128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447920" y="2438280"/>
            <a:ext cx="312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-609480" y="5638680"/>
            <a:ext cx="8458200" cy="1447920"/>
          </a:xfrm>
          <a:prstGeom prst="flowChartInputOutpu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57200" y="2133720"/>
            <a:ext cx="1752480" cy="685800"/>
          </a:xfrm>
          <a:custGeom>
            <a:avLst/>
            <a:gdLst>
              <a:gd name="textAreaLeft" fmla="*/ 0 w 1752480"/>
              <a:gd name="textAreaRight" fmla="*/ 1752840 w 175248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80880" y="2044800"/>
            <a:ext cx="82868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62040" indent="-301680" algn="just">
              <a:lnSpc>
                <a:spcPct val="90000"/>
              </a:lnSpc>
              <a:spcBef>
                <a:spcPts val="950"/>
              </a:spcBef>
              <a:buClr>
                <a:srgbClr val="800000"/>
              </a:buClr>
              <a:buSzPct val="150000"/>
              <a:buFont typeface="Wingdings" charset="2"/>
              <a:buChar char=""/>
              <a:tabLst>
                <a:tab algn="l" pos="6620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Inclusão do campo no CNPJ/Serpro para coleta de informação necessária ao controle das contribuições previdenciária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219320" y="5562720"/>
            <a:ext cx="6705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60360" y="914400"/>
            <a:ext cx="8640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80"/>
                </a:solidFill>
                <a:latin typeface="Arial"/>
              </a:rPr>
              <a:t>Inclusão da “data do primeiro vínculo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H="1" flipV="1">
            <a:off x="0" y="1440"/>
            <a:ext cx="9144000" cy="72072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6659640" y="82440"/>
            <a:ext cx="2303280" cy="60336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87480" y="34920"/>
            <a:ext cx="1892160" cy="65088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 flipH="1" flipV="1">
            <a:off x="-37080" y="754920"/>
            <a:ext cx="9180360" cy="1764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03280" y="3781440"/>
            <a:ext cx="8640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80"/>
                </a:solidFill>
                <a:latin typeface="Arial"/>
              </a:rPr>
              <a:t>Migração dos consórcios simplificado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80"/>
                </a:solidFill>
                <a:latin typeface="Arial"/>
              </a:rPr>
              <a:t>de produtores rura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33520" y="5040360"/>
            <a:ext cx="8286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62040" indent="-301680" algn="just">
              <a:lnSpc>
                <a:spcPct val="90000"/>
              </a:lnSpc>
              <a:spcBef>
                <a:spcPts val="950"/>
              </a:spcBef>
              <a:buClr>
                <a:srgbClr val="800000"/>
              </a:buClr>
              <a:buSzPct val="150000"/>
              <a:buFont typeface="Wingdings" charset="2"/>
              <a:buChar char=""/>
              <a:tabLst>
                <a:tab algn="l" pos="6620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Atribuição de um número de identificação no CNPJ e encerramento da matrícula CEI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97040" y="3251160"/>
            <a:ext cx="18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619280" y="2160720"/>
            <a:ext cx="65134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-720" y="0"/>
            <a:ext cx="9180360" cy="720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00458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780240" y="81000"/>
            <a:ext cx="2184480" cy="5684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295280" y="4267080"/>
            <a:ext cx="6172200" cy="198144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5105520"/>
            <a:ext cx="6705720" cy="12952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2514600" y="4343400"/>
            <a:ext cx="1981080" cy="17524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-360" y="6696000"/>
            <a:ext cx="9178920" cy="155160"/>
            <a:chOff x="-360" y="6696000"/>
            <a:chExt cx="9178920" cy="155160"/>
          </a:xfrm>
        </p:grpSpPr>
        <p:sp>
          <p:nvSpPr>
            <p:cNvPr id="117" name=""/>
            <p:cNvSpPr/>
            <p:nvPr/>
          </p:nvSpPr>
          <p:spPr>
            <a:xfrm flipH="1" flipV="1">
              <a:off x="-720" y="669600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flipV="1">
              <a:off x="-720" y="6768360"/>
              <a:ext cx="9178920" cy="824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flipV="1">
              <a:off x="-720" y="673272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871640" y="1460520"/>
            <a:ext cx="5013360" cy="1490760"/>
            <a:chOff x="1871640" y="1460520"/>
            <a:chExt cx="5013360" cy="1490760"/>
          </a:xfrm>
        </p:grpSpPr>
        <p:pic>
          <p:nvPicPr>
            <p:cNvPr id="121" name="" descr=""/>
            <p:cNvPicPr/>
            <p:nvPr/>
          </p:nvPicPr>
          <p:blipFill>
            <a:blip r:embed="rId2"/>
            <a:stretch/>
          </p:blipFill>
          <p:spPr>
            <a:xfrm>
              <a:off x="1871640" y="1460520"/>
              <a:ext cx="5013360" cy="14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2997360" y="1906560"/>
              <a:ext cx="30240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t-BR" sz="2400" spc="-1" strike="noStrike">
                  <a:solidFill>
                    <a:srgbClr val="004586"/>
                  </a:solidFill>
                  <a:latin typeface="Arial"/>
                </a:rPr>
                <a:t>Lei n° 11.457/2007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87480" y="104760"/>
            <a:ext cx="1676160" cy="5428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716360" y="3527280"/>
            <a:ext cx="3600720" cy="107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46"/>
              </a:gs>
              <a:gs pos="100000">
                <a:srgbClr val="a5a5a5"/>
              </a:gs>
            </a:gsLst>
            <a:lin ang="2700000"/>
          </a:gra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Ministério da Previdência Soci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ecretaria da Receita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Previdenciári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4140360"/>
            <a:ext cx="3600360" cy="143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46"/>
              </a:gs>
              <a:gs pos="100000">
                <a:srgbClr val="a5a5a5"/>
              </a:gs>
            </a:gsLst>
            <a:lin ang="2700000"/>
          </a:gra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Ministério da Fazend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ecretaria da Receita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Federal do Brasi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3527280"/>
            <a:ext cx="3600360" cy="107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46"/>
              </a:gs>
              <a:gs pos="100000">
                <a:srgbClr val="a5a5a5"/>
              </a:gs>
            </a:gsLst>
            <a:lin ang="2700000"/>
          </a:gra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Ministério da Fazend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ecretaria da Receita Feder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0" y="0"/>
            <a:ext cx="9144000" cy="72072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6659640" y="81000"/>
            <a:ext cx="2303280" cy="603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87480" y="33480"/>
            <a:ext cx="1892160" cy="650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 flipH="1" flipV="1">
            <a:off x="-37080" y="754920"/>
            <a:ext cx="9180360" cy="1764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55556875416068 0 L -0.227295726234476 0 E">
                                      <p:cBhvr>
                                        <p:cTn id="6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8439925225174 0 L 0.210445816575086 0 E">
                                      <p:cBhvr>
                                        <p:cTn id="8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 fill="hold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1619280" y="2160720"/>
            <a:ext cx="65134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066680" y="5105520"/>
            <a:ext cx="6705720" cy="12952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-2514600" y="4343400"/>
            <a:ext cx="1981080" cy="17524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79280" y="1022400"/>
            <a:ext cx="558000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80"/>
                </a:solidFill>
                <a:latin typeface="Arial"/>
              </a:rPr>
              <a:t>Situação atual do proje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-360" y="6696000"/>
            <a:ext cx="9178920" cy="155160"/>
            <a:chOff x="-360" y="6696000"/>
            <a:chExt cx="9178920" cy="155160"/>
          </a:xfrm>
        </p:grpSpPr>
        <p:sp>
          <p:nvSpPr>
            <p:cNvPr id="451" name=""/>
            <p:cNvSpPr/>
            <p:nvPr/>
          </p:nvSpPr>
          <p:spPr>
            <a:xfrm flipH="1" flipV="1">
              <a:off x="-720" y="669600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 flipV="1">
              <a:off x="-720" y="6768360"/>
              <a:ext cx="9178920" cy="824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 flipV="1">
              <a:off x="-720" y="673272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4" name=""/>
          <p:cNvSpPr/>
          <p:nvPr/>
        </p:nvSpPr>
        <p:spPr>
          <a:xfrm flipH="1" flipV="1">
            <a:off x="0" y="1440"/>
            <a:ext cx="9144000" cy="72072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6659640" y="82440"/>
            <a:ext cx="2303280" cy="60336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2"/>
          <a:stretch/>
        </p:blipFill>
        <p:spPr>
          <a:xfrm>
            <a:off x="87480" y="34920"/>
            <a:ext cx="1892160" cy="65088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 flipH="1" flipV="1">
            <a:off x="-37080" y="754920"/>
            <a:ext cx="9180360" cy="1764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655640" y="5003640"/>
            <a:ext cx="57596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337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000080"/>
                </a:solidFill>
                <a:latin typeface="Arial"/>
                <a:ea typeface="Times New Roman"/>
              </a:rPr>
              <a:t>Sistemas em desenvolvimento.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000080"/>
                </a:solidFill>
                <a:latin typeface="Arial"/>
                <a:ea typeface="Times New Roman"/>
              </a:rPr>
              <a:t>Homologação prevista para 07/10/2013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903240" y="2124000"/>
            <a:ext cx="7197840" cy="20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280099"/>
                </a:solidFill>
                <a:latin typeface="Arial"/>
              </a:rPr>
              <a:t>Cadastro de Atividades Econômica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280099"/>
                </a:solidFill>
                <a:latin typeface="Arial"/>
              </a:rPr>
              <a:t>da Pessoa Física – CAEPF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280099"/>
                </a:solidFill>
                <a:latin typeface="Arial"/>
              </a:rPr>
              <a:t>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280099"/>
                </a:solidFill>
                <a:latin typeface="Arial"/>
              </a:rPr>
              <a:t>Cadastro Nacional de Obras – CN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887640" y="4319640"/>
            <a:ext cx="1260720" cy="5396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808080"/>
              </a:gs>
              <a:gs pos="100000">
                <a:srgbClr val="e6e6e6"/>
              </a:gs>
            </a:gsLst>
            <a:lin ang="36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1619280" y="2160720"/>
            <a:ext cx="65134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066680" y="5105520"/>
            <a:ext cx="6705720" cy="12952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-2514600" y="4343400"/>
            <a:ext cx="1981080" cy="17524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806400"/>
            <a:ext cx="5580000" cy="5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80"/>
                </a:solidFill>
                <a:latin typeface="Arial"/>
              </a:rPr>
              <a:t>Situação atual do proje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-360" y="6696000"/>
            <a:ext cx="9178920" cy="155160"/>
            <a:chOff x="-360" y="6696000"/>
            <a:chExt cx="9178920" cy="155160"/>
          </a:xfrm>
        </p:grpSpPr>
        <p:sp>
          <p:nvSpPr>
            <p:cNvPr id="466" name=""/>
            <p:cNvSpPr/>
            <p:nvPr/>
          </p:nvSpPr>
          <p:spPr>
            <a:xfrm flipH="1" flipV="1">
              <a:off x="-720" y="669600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 flipV="1">
              <a:off x="-720" y="6768360"/>
              <a:ext cx="9178920" cy="824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 flipV="1">
              <a:off x="-720" y="673272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71280" y="2016000"/>
            <a:ext cx="899964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37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600" spc="-1" strike="noStrike">
                <a:solidFill>
                  <a:srgbClr val="280099"/>
                </a:solidFill>
                <a:latin typeface="Arial"/>
                <a:ea typeface="Times New Roman"/>
              </a:rPr>
              <a:t>Inclusão da Data do Primeiro Vínculo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600" spc="-1" strike="noStrike">
                <a:solidFill>
                  <a:srgbClr val="280099"/>
                </a:solidFill>
                <a:latin typeface="Arial"/>
                <a:ea typeface="Times New Roman"/>
              </a:rPr>
              <a:t>no CNPJ/Serpro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000080"/>
                </a:solidFill>
                <a:latin typeface="Arial"/>
                <a:ea typeface="Times New Roman"/>
              </a:rPr>
              <a:t>Campo incluído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000080"/>
                </a:solidFill>
                <a:latin typeface="Arial"/>
                <a:ea typeface="Times New Roman"/>
              </a:rPr>
              <a:t>Povoamento com as informações da Dataprev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000080"/>
                </a:solidFill>
                <a:latin typeface="Arial"/>
                <a:ea typeface="Times New Roman"/>
              </a:rPr>
              <a:t>previsto para julho de 2013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1479600" indent="-5619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H="1" flipV="1">
            <a:off x="0" y="1440"/>
            <a:ext cx="9144000" cy="72072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6659640" y="82440"/>
            <a:ext cx="2303280" cy="60336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2"/>
          <a:stretch/>
        </p:blipFill>
        <p:spPr>
          <a:xfrm>
            <a:off x="87480" y="34920"/>
            <a:ext cx="1892160" cy="65088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 flipH="1" flipV="1">
            <a:off x="-37080" y="754920"/>
            <a:ext cx="9180360" cy="1764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959280" y="3635280"/>
            <a:ext cx="1260360" cy="5400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808080"/>
              </a:gs>
              <a:gs pos="100000">
                <a:srgbClr val="e6e6e6"/>
              </a:gs>
            </a:gsLst>
            <a:lin ang="36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619280" y="2160720"/>
            <a:ext cx="65134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066680" y="5105520"/>
            <a:ext cx="6705720" cy="12952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-2514600" y="4343400"/>
            <a:ext cx="1981080" cy="17524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0" y="806400"/>
            <a:ext cx="5580000" cy="5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80"/>
                </a:solidFill>
                <a:latin typeface="Arial"/>
              </a:rPr>
              <a:t>Situação atual do proje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-360" y="6696000"/>
            <a:ext cx="9178920" cy="155160"/>
            <a:chOff x="-360" y="6696000"/>
            <a:chExt cx="9178920" cy="155160"/>
          </a:xfrm>
        </p:grpSpPr>
        <p:sp>
          <p:nvSpPr>
            <p:cNvPr id="480" name=""/>
            <p:cNvSpPr/>
            <p:nvPr/>
          </p:nvSpPr>
          <p:spPr>
            <a:xfrm flipH="1" flipV="1">
              <a:off x="-720" y="669600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 flipV="1">
              <a:off x="-720" y="6768360"/>
              <a:ext cx="9178920" cy="824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 flipV="1">
              <a:off x="-720" y="673272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3" name=""/>
          <p:cNvSpPr/>
          <p:nvPr/>
        </p:nvSpPr>
        <p:spPr>
          <a:xfrm>
            <a:off x="71280" y="2340000"/>
            <a:ext cx="899964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37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Migração dos consórcios simplificados de produtores rurais para o CNPJ/Serpr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000080"/>
                </a:solidFill>
                <a:latin typeface="Arial"/>
                <a:ea typeface="Times New Roman"/>
              </a:rPr>
              <a:t>Produto entregue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1479600" indent="-5619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H="1" flipV="1">
            <a:off x="0" y="1440"/>
            <a:ext cx="9144000" cy="72072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6659640" y="82440"/>
            <a:ext cx="2303280" cy="60336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2"/>
          <a:stretch/>
        </p:blipFill>
        <p:spPr>
          <a:xfrm>
            <a:off x="87480" y="34920"/>
            <a:ext cx="1892160" cy="65088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 flipH="1" flipV="1">
            <a:off x="-37080" y="754920"/>
            <a:ext cx="9180360" cy="1764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924360" y="3527280"/>
            <a:ext cx="1260360" cy="5400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808080"/>
              </a:gs>
              <a:gs pos="100000">
                <a:srgbClr val="e6e6e6"/>
              </a:gs>
            </a:gsLst>
            <a:lin ang="36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1619280" y="2160720"/>
            <a:ext cx="65134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143000" y="358128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447920" y="2438280"/>
            <a:ext cx="312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651040" y="4227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H="1" flipV="1">
            <a:off x="0" y="1440"/>
            <a:ext cx="9144000" cy="72072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659640" y="82440"/>
            <a:ext cx="2303280" cy="60336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2"/>
          <a:stretch/>
        </p:blipFill>
        <p:spPr>
          <a:xfrm>
            <a:off x="87480" y="34920"/>
            <a:ext cx="1892160" cy="65088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 flipH="1" flipV="1">
            <a:off x="-37080" y="754920"/>
            <a:ext cx="9180360" cy="1764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20720" y="1440000"/>
            <a:ext cx="774072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80"/>
                </a:solidFill>
                <a:latin typeface="Arial"/>
              </a:rPr>
              <a:t>Equip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000080"/>
                </a:solidFill>
                <a:latin typeface="Arial"/>
              </a:rPr>
              <a:t>Ana-paula.sacchi@receita.fazenda.gov.b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000080"/>
                </a:solidFill>
                <a:latin typeface="Arial"/>
              </a:rPr>
              <a:t>Carolina.freitas@receita.fazenda.gov.b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000080"/>
                </a:solidFill>
                <a:latin typeface="Arial"/>
              </a:rPr>
              <a:t>Celia.rondina@receita.fazenda.gov.b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000080"/>
                </a:solidFill>
                <a:latin typeface="Arial"/>
              </a:rPr>
              <a:t>Claudio.pinto@receita.fazenda.gov.b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000080"/>
                </a:solidFill>
                <a:latin typeface="Arial"/>
              </a:rPr>
              <a:t>Fernando.Muller@receita.fazenda.gov.b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000080"/>
                </a:solidFill>
                <a:latin typeface="Arial"/>
              </a:rPr>
              <a:t>Joao-luiz.bittencourt@receita.fazenda.gov.b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000080"/>
                </a:solidFill>
                <a:latin typeface="Arial"/>
              </a:rPr>
              <a:t>Selita.medeiros@receita.fazenda.gov.b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000080"/>
                </a:solidFill>
                <a:latin typeface="Arial"/>
              </a:rPr>
              <a:t>Shogo.yamamoto@receita.fazenda.gov.b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1" name=""/>
          <p:cNvSpPr/>
          <p:nvPr/>
        </p:nvSpPr>
        <p:spPr>
          <a:xfrm>
            <a:off x="5040360" y="3456000"/>
            <a:ext cx="287964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003366"/>
                </a:solidFill>
                <a:latin typeface="Tahoma"/>
              </a:rPr>
              <a:t>Obrigada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62A9E-5BC9-4CFD-93A8-7733A408CBAD}" type="slidenum">
              <a:t>24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39640" y="2268360"/>
            <a:ext cx="3708360" cy="359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22000"/>
              </a:gs>
              <a:gs pos="100000">
                <a:srgbClr val="94bd5e"/>
              </a:gs>
            </a:gsLst>
            <a:lin ang="3600000"/>
          </a:gra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19280" y="2160720"/>
            <a:ext cx="65134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95280" y="4267080"/>
            <a:ext cx="6172200" cy="198144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5105520"/>
            <a:ext cx="6705720" cy="12952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-2514600" y="4343400"/>
            <a:ext cx="1981080" cy="17524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620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Cadastros de Informações Previdenciár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-360" y="6696000"/>
            <a:ext cx="9178920" cy="155160"/>
            <a:chOff x="-360" y="6696000"/>
            <a:chExt cx="9178920" cy="155160"/>
          </a:xfrm>
        </p:grpSpPr>
        <p:sp>
          <p:nvSpPr>
            <p:cNvPr id="138" name=""/>
            <p:cNvSpPr/>
            <p:nvPr/>
          </p:nvSpPr>
          <p:spPr>
            <a:xfrm flipH="1" flipV="1">
              <a:off x="-720" y="669600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-720" y="6768360"/>
              <a:ext cx="9178920" cy="824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-720" y="673272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4176720" y="251928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Arial"/>
              </a:rPr>
              <a:t>Dataprev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35640" y="2341440"/>
            <a:ext cx="4103640" cy="359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22000"/>
              </a:gs>
              <a:gs pos="100000">
                <a:srgbClr val="94bd5e"/>
              </a:gs>
            </a:gsLst>
            <a:lin ang="3600000"/>
          </a:gra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8920" y="3059280"/>
            <a:ext cx="1260720" cy="108108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18000">
            <a:solidFill>
              <a:srgbClr val="4c4c4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4320" rIns="94320" tIns="49320" bIns="4932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NPJ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708360" y="3564000"/>
            <a:ext cx="1440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600" spc="-1" strike="noStrike">
                <a:solidFill>
                  <a:srgbClr val="b84700"/>
                </a:solidFill>
                <a:latin typeface="Arial"/>
              </a:rPr>
              <a:t>Atualização Diári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19280" y="3598920"/>
            <a:ext cx="1260360" cy="108108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18000">
            <a:solidFill>
              <a:srgbClr val="4c4c4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4320" rIns="94320" tIns="49320" bIns="4932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NPJ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19280" y="2411280"/>
            <a:ext cx="12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Arial"/>
              </a:rPr>
              <a:t>Serpro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400720" y="4498920"/>
            <a:ext cx="1260360" cy="108108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18000">
            <a:solidFill>
              <a:srgbClr val="4c4c4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4320" rIns="94320" tIns="49320" bIns="4932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E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020000" y="2374920"/>
            <a:ext cx="143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Arial"/>
              </a:rPr>
              <a:t>Dataprev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451640" y="3778200"/>
            <a:ext cx="1008000" cy="90180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18000">
            <a:solidFill>
              <a:srgbClr val="4c4c4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4320" rIns="94320" tIns="49320" bIns="4932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Outros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istema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0" y="0"/>
            <a:ext cx="9144000" cy="72072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659640" y="81000"/>
            <a:ext cx="2303280" cy="6033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87480" y="34920"/>
            <a:ext cx="1892160" cy="6508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 flipH="1" flipV="1">
            <a:off x="-37080" y="754920"/>
            <a:ext cx="9180360" cy="1764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79640" y="1260360"/>
            <a:ext cx="655164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600" spc="-1" strike="noStrike">
                <a:solidFill>
                  <a:srgbClr val="280099"/>
                </a:solidFill>
                <a:latin typeface="Arial"/>
              </a:rPr>
              <a:t>Sistemas de Cadastros Previdenciário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5" name=""/>
          <p:cNvCxnSpPr>
            <a:stCxn id="145" idx="4"/>
            <a:endCxn id="143" idx="2"/>
          </p:cNvCxnSpPr>
          <p:nvPr/>
        </p:nvCxnSpPr>
        <p:spPr>
          <a:xfrm flipV="1">
            <a:off x="2879640" y="3600000"/>
            <a:ext cx="2520000" cy="540720"/>
          </a:xfrm>
          <a:prstGeom prst="bentConnector3">
            <a:avLst>
              <a:gd name="adj1" fmla="val 49992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156" name=""/>
          <p:cNvCxnSpPr>
            <a:stCxn id="143" idx="4"/>
            <a:endCxn id="149" idx="1"/>
          </p:cNvCxnSpPr>
          <p:nvPr/>
        </p:nvCxnSpPr>
        <p:spPr>
          <a:xfrm>
            <a:off x="6659280" y="3600360"/>
            <a:ext cx="1299240" cy="17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157" name=""/>
          <p:cNvCxnSpPr>
            <a:stCxn id="147" idx="4"/>
            <a:endCxn id="149" idx="3"/>
          </p:cNvCxnSpPr>
          <p:nvPr/>
        </p:nvCxnSpPr>
        <p:spPr>
          <a:xfrm flipV="1">
            <a:off x="6660720" y="4680000"/>
            <a:ext cx="1297800" cy="3589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619280" y="2160720"/>
            <a:ext cx="65134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295280" y="4267080"/>
            <a:ext cx="6172200" cy="198144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66680" y="5105520"/>
            <a:ext cx="6705720" cy="12952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-2514600" y="4343400"/>
            <a:ext cx="1981080" cy="17524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-360" y="6696000"/>
            <a:ext cx="9178920" cy="155160"/>
            <a:chOff x="-360" y="6696000"/>
            <a:chExt cx="9178920" cy="155160"/>
          </a:xfrm>
        </p:grpSpPr>
        <p:sp>
          <p:nvSpPr>
            <p:cNvPr id="163" name=""/>
            <p:cNvSpPr/>
            <p:nvPr/>
          </p:nvSpPr>
          <p:spPr>
            <a:xfrm flipH="1" flipV="1">
              <a:off x="-720" y="669600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 flipV="1">
              <a:off x="-720" y="6768360"/>
              <a:ext cx="9178920" cy="824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 flipV="1">
              <a:off x="-720" y="673272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360360" y="1800360"/>
            <a:ext cx="7738920" cy="46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37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lang="pt-BR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Cadastro Nacional da Pessoa Jurídica – CNPJ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1476360" indent="-56196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Banco de dados réplica do CNPJ/Serpro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476360" indent="-56196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Acessado por sistemas que controlam as contribuições previdenciárias, hospedados na Dataprev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476360" indent="-56196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Atualização diária por meio de arquivo enviado pelo Serpro com as alterações ocorridas no CNPJ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0" y="1440"/>
            <a:ext cx="9144000" cy="72072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5"/>
          <a:stretch/>
        </p:blipFill>
        <p:spPr>
          <a:xfrm>
            <a:off x="6659640" y="82440"/>
            <a:ext cx="2303280" cy="6033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6"/>
          <a:stretch/>
        </p:blipFill>
        <p:spPr>
          <a:xfrm>
            <a:off x="87480" y="34920"/>
            <a:ext cx="1892160" cy="6508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 flipH="1" flipV="1">
            <a:off x="-37080" y="754920"/>
            <a:ext cx="9180360" cy="1764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79640" y="1260360"/>
            <a:ext cx="71992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280099"/>
                </a:solidFill>
                <a:latin typeface="Arial"/>
              </a:rPr>
              <a:t>Sistemas de Cadastros Previdenciário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619280" y="2160720"/>
            <a:ext cx="65134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5105520"/>
            <a:ext cx="6705720" cy="12952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-2514600" y="4343400"/>
            <a:ext cx="1981080" cy="17524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-360" y="6696000"/>
            <a:ext cx="9178920" cy="155160"/>
            <a:chOff x="-360" y="6696000"/>
            <a:chExt cx="9178920" cy="155160"/>
          </a:xfrm>
        </p:grpSpPr>
        <p:sp>
          <p:nvSpPr>
            <p:cNvPr id="176" name=""/>
            <p:cNvSpPr/>
            <p:nvPr/>
          </p:nvSpPr>
          <p:spPr>
            <a:xfrm flipH="1" flipV="1">
              <a:off x="-720" y="669600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-720" y="6768360"/>
              <a:ext cx="9178920" cy="824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-720" y="673272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360360" y="2087640"/>
            <a:ext cx="86392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336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pt-BR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Cadastro Específico do INSS – CEI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1280" indent="-333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1476360" indent="-56196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333333"/>
                </a:solidFill>
                <a:latin typeface="Arial"/>
                <a:ea typeface="Times New Roman"/>
              </a:rPr>
              <a:t>Equiparados à empresa desobrigados da inscrição no CNPJ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476360" indent="-56196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333333"/>
                </a:solidFill>
                <a:latin typeface="Arial"/>
                <a:ea typeface="Times New Roman"/>
              </a:rPr>
              <a:t>Produtor rural contribuinte individual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476360" indent="-56196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333333"/>
                </a:solidFill>
                <a:latin typeface="Arial"/>
                <a:ea typeface="Times New Roman"/>
              </a:rPr>
              <a:t>Segurado especial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476360" indent="-56196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333333"/>
                </a:solidFill>
                <a:latin typeface="Arial"/>
                <a:ea typeface="Times New Roman"/>
              </a:rPr>
              <a:t>Titular de cartório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476360" indent="-56196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333333"/>
                </a:solidFill>
                <a:latin typeface="Arial"/>
                <a:ea typeface="Times New Roman"/>
              </a:rPr>
              <a:t>Consórcio simplificado de produtores rurais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476360" indent="-56196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333333"/>
                </a:solidFill>
                <a:latin typeface="Arial"/>
                <a:ea typeface="Times New Roman"/>
              </a:rPr>
              <a:t>Empregador doméstico para recolhimento do FGTS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476360" indent="-56196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333333"/>
                </a:solidFill>
                <a:latin typeface="Arial"/>
                <a:ea typeface="Times New Roman"/>
              </a:rPr>
              <a:t>Obras de construção civil (pessoas física e jurídica)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476360" indent="-5619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79640" y="1260360"/>
            <a:ext cx="70196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280099"/>
                </a:solidFill>
                <a:latin typeface="Arial"/>
              </a:rPr>
              <a:t>Sistemas de Cadastros Previdenciário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0" y="1440"/>
            <a:ext cx="9144000" cy="72072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9"/>
          <a:stretch/>
        </p:blipFill>
        <p:spPr>
          <a:xfrm>
            <a:off x="6659640" y="82440"/>
            <a:ext cx="2303280" cy="6033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0"/>
          <a:stretch/>
        </p:blipFill>
        <p:spPr>
          <a:xfrm>
            <a:off x="87480" y="34920"/>
            <a:ext cx="1892160" cy="6508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 flipH="1" flipV="1">
            <a:off x="-37080" y="754920"/>
            <a:ext cx="9180360" cy="1764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619280" y="2160720"/>
            <a:ext cx="65134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5105520"/>
            <a:ext cx="6705720" cy="12952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-2514600" y="4343400"/>
            <a:ext cx="1981080" cy="17524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6620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Cadastros de Informações Previdenciár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-360" y="6696000"/>
            <a:ext cx="9178920" cy="155160"/>
            <a:chOff x="-360" y="6696000"/>
            <a:chExt cx="9178920" cy="155160"/>
          </a:xfrm>
        </p:grpSpPr>
        <p:sp>
          <p:nvSpPr>
            <p:cNvPr id="190" name=""/>
            <p:cNvSpPr/>
            <p:nvPr/>
          </p:nvSpPr>
          <p:spPr>
            <a:xfrm flipH="1" flipV="1">
              <a:off x="-720" y="669600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 flipV="1">
              <a:off x="-720" y="6768360"/>
              <a:ext cx="9178920" cy="824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flipV="1">
              <a:off x="-720" y="673272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900000" y="2879640"/>
            <a:ext cx="7559640" cy="2700360"/>
          </a:xfrm>
          <a:prstGeom prst="foldedCorner">
            <a:avLst>
              <a:gd name="adj" fmla="val 12500"/>
            </a:avLst>
          </a:prstGeom>
          <a:solidFill>
            <a:srgbClr val="dfd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741240" indent="-269640" algn="ctr">
              <a:lnSpc>
                <a:spcPct val="100000"/>
              </a:lnSpc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O objetivo do programa é a unificação do Crédito Previdenciário (contribuição da empresa, contribuição do trabalhador e contribuições para terceiros) e Fazendário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69640" algn="ctr">
              <a:lnSpc>
                <a:spcPct val="100000"/>
              </a:lnSpc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12720" y="1147680"/>
            <a:ext cx="7920000" cy="11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280099"/>
                </a:solidFill>
                <a:latin typeface="Arial"/>
              </a:rPr>
              <a:t>Programa de Unificação do Crédito Previdenciário e Fazendário - PUC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0" y="1440"/>
            <a:ext cx="9144000" cy="72072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659640" y="82440"/>
            <a:ext cx="2303280" cy="6033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87480" y="34920"/>
            <a:ext cx="1892160" cy="6508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 flipH="1" flipV="1">
            <a:off x="-37080" y="754920"/>
            <a:ext cx="9180360" cy="1764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619280" y="2160720"/>
            <a:ext cx="65134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95280" y="4267080"/>
            <a:ext cx="6172200" cy="198144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66680" y="5105520"/>
            <a:ext cx="6705720" cy="12952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-2514600" y="4343400"/>
            <a:ext cx="1981080" cy="17524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403280" y="733320"/>
            <a:ext cx="63007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280099"/>
                </a:solidFill>
                <a:latin typeface="Arial"/>
              </a:rPr>
              <a:t>PUC – Objetivos específic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-360" y="6696000"/>
            <a:ext cx="9178920" cy="155160"/>
            <a:chOff x="-360" y="6696000"/>
            <a:chExt cx="9178920" cy="155160"/>
          </a:xfrm>
        </p:grpSpPr>
        <p:sp>
          <p:nvSpPr>
            <p:cNvPr id="205" name=""/>
            <p:cNvSpPr/>
            <p:nvPr/>
          </p:nvSpPr>
          <p:spPr>
            <a:xfrm flipH="1" flipV="1">
              <a:off x="-720" y="669600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 flipV="1">
              <a:off x="-720" y="6768360"/>
              <a:ext cx="9178920" cy="824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-720" y="673272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468360" y="1584360"/>
            <a:ext cx="8459640" cy="4967280"/>
          </a:xfrm>
          <a:prstGeom prst="foldedCorner">
            <a:avLst>
              <a:gd name="adj" fmla="val 12500"/>
            </a:avLst>
          </a:prstGeom>
          <a:solidFill>
            <a:srgbClr val="dfd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- Criar uma folha de pagamento digital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- Criar uma nova declaração previdenciária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- Implantar o Projeto Global da Construção Civil - PGCC com a alteração na legislação e a implantação de sistemas de cálculo, controle e lançamento dos créditos previdenciários oriundos de obras de construção civil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- Promover o lançamento de ofício no Sief-Processos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- Ajustar o cadastro aos contribuintes previdenciário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- Adaptar o Ambiente de pagamentos ao crédito previdenciário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- Adaptar o Sief-Fiscel ao crédito previdenciário declarado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- Adaptar o Sief-Processos ao crédito previdenciário lançado de oficio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- Adaptar os sistemas de compensação para o crédito previdenciário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- Adaptar os sistemas de cálculo ao crédito previdenciário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- Unificar as certidões conjunta e específica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0" y="1440"/>
            <a:ext cx="9144000" cy="72072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659640" y="82440"/>
            <a:ext cx="2303280" cy="6033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87480" y="34920"/>
            <a:ext cx="1892160" cy="6508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 flipH="1" flipV="1">
            <a:off x="-37080" y="754920"/>
            <a:ext cx="9180360" cy="1764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619280" y="2160720"/>
            <a:ext cx="65134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066680" y="5105520"/>
            <a:ext cx="6705720" cy="12952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-2514600" y="4343400"/>
            <a:ext cx="1981080" cy="17524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6620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Cadastros de Informações Previdenciár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-360" y="6696000"/>
            <a:ext cx="9178920" cy="155160"/>
            <a:chOff x="-360" y="6696000"/>
            <a:chExt cx="9178920" cy="155160"/>
          </a:xfrm>
        </p:grpSpPr>
        <p:sp>
          <p:nvSpPr>
            <p:cNvPr id="218" name=""/>
            <p:cNvSpPr/>
            <p:nvPr/>
          </p:nvSpPr>
          <p:spPr>
            <a:xfrm flipH="1" flipV="1">
              <a:off x="-720" y="669600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 flipV="1">
              <a:off x="-720" y="6768360"/>
              <a:ext cx="9178920" cy="824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 flipV="1">
              <a:off x="-720" y="673272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942840" y="1039680"/>
            <a:ext cx="71582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280099"/>
                </a:solidFill>
                <a:latin typeface="Arial"/>
              </a:rPr>
              <a:t>Projeto Matrícula CEI –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280099"/>
                </a:solidFill>
                <a:latin typeface="Arial"/>
              </a:rPr>
              <a:t>Ajustes nos Cadastros da RFB - PUC 05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90720" y="2502000"/>
            <a:ext cx="7238880" cy="1447560"/>
          </a:xfrm>
          <a:prstGeom prst="foldedCorner">
            <a:avLst>
              <a:gd name="adj" fmla="val 12500"/>
            </a:avLst>
          </a:prstGeom>
          <a:solidFill>
            <a:srgbClr val="dfd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Reorganizar os cadastros de modo a permitir a correta classificação do sujeito passivo de acordo com sua personalidade jurídica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90720" y="4313160"/>
            <a:ext cx="7391160" cy="1981440"/>
          </a:xfrm>
          <a:prstGeom prst="foldedCorner">
            <a:avLst>
              <a:gd name="adj" fmla="val 12500"/>
            </a:avLst>
          </a:prstGeom>
          <a:solidFill>
            <a:srgbClr val="dfd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ahoma"/>
              </a:rPr>
              <a:t>Acrescentar atributos que permitam registrar os dados do contribuinte de maneira eficiente e concisa, de modo a tornar possível a sua localização e a identificação de suas diversas atividade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 flipV="1">
            <a:off x="0" y="1440"/>
            <a:ext cx="9144000" cy="72072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6659640" y="82440"/>
            <a:ext cx="2303280" cy="6033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87480" y="34920"/>
            <a:ext cx="1892160" cy="6508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flipH="1" flipV="1">
            <a:off x="-37080" y="754920"/>
            <a:ext cx="9180360" cy="1764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619280" y="2160720"/>
            <a:ext cx="651348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681120" indent="-303120"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6811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9215280"/>
                <a:tab algn="l" pos="9664560"/>
                <a:tab algn="l" pos="9883800"/>
                <a:tab algn="l" pos="10333080"/>
                <a:tab algn="l" pos="107823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43000" y="358128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447920" y="2438280"/>
            <a:ext cx="312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295280" y="4267080"/>
            <a:ext cx="6172200" cy="198144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066680" y="5105520"/>
            <a:ext cx="6705720" cy="12952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-2514600" y="4343400"/>
            <a:ext cx="1981080" cy="17524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39640" y="1979640"/>
            <a:ext cx="7920000" cy="4319640"/>
          </a:xfrm>
          <a:prstGeom prst="rect">
            <a:avLst/>
          </a:prstGeom>
          <a:ln w="9360">
            <a:solidFill>
              <a:srgbClr val="808080"/>
            </a:solidFill>
            <a:round/>
          </a:ln>
        </p:spPr>
      </p:pic>
      <p:sp>
        <p:nvSpPr>
          <p:cNvPr id="235" name=""/>
          <p:cNvSpPr/>
          <p:nvPr/>
        </p:nvSpPr>
        <p:spPr>
          <a:xfrm>
            <a:off x="0" y="914400"/>
            <a:ext cx="5759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280099"/>
                </a:solidFill>
                <a:latin typeface="Arial"/>
              </a:rPr>
              <a:t>Programa Cadfisc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 flipV="1">
            <a:off x="0" y="1440"/>
            <a:ext cx="9144000" cy="72072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659640" y="82440"/>
            <a:ext cx="2303280" cy="6033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87480" y="34920"/>
            <a:ext cx="1892160" cy="65088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 flipH="1" flipV="1">
            <a:off x="-37080" y="754920"/>
            <a:ext cx="9180360" cy="17640"/>
          </a:xfrm>
          <a:prstGeom prst="rect">
            <a:avLst/>
          </a:prstGeom>
          <a:gradFill rotWithShape="0">
            <a:gsLst>
              <a:gs pos="0">
                <a:srgbClr val="10253f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-360" y="6697800"/>
            <a:ext cx="9178920" cy="153360"/>
            <a:chOff x="-360" y="6697800"/>
            <a:chExt cx="9178920" cy="153360"/>
          </a:xfrm>
        </p:grpSpPr>
        <p:sp>
          <p:nvSpPr>
            <p:cNvPr id="241" name=""/>
            <p:cNvSpPr/>
            <p:nvPr/>
          </p:nvSpPr>
          <p:spPr>
            <a:xfrm flipH="1" flipV="1">
              <a:off x="-720" y="669780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 flipV="1">
              <a:off x="-720" y="6768360"/>
              <a:ext cx="9178920" cy="824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-720" y="6734160"/>
              <a:ext cx="9178920" cy="15840"/>
            </a:xfrm>
            <a:prstGeom prst="rect">
              <a:avLst/>
            </a:prstGeom>
            <a:gradFill rotWithShape="0">
              <a:gsLst>
                <a:gs pos="0">
                  <a:srgbClr val="10253f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7T11:36:45Z</dcterms:created>
  <dc:creator>FILIPE VIGLONGO CORREA VILARDO DE FREITAS</dc:creator>
  <dc:description/>
  <dc:language>en-US</dc:language>
  <cp:lastModifiedBy>Carolina</cp:lastModifiedBy>
  <dcterms:modified xsi:type="dcterms:W3CDTF">2012-09-18T23:31:46Z</dcterms:modified>
  <cp:revision>48</cp:revision>
  <dc:subject/>
  <dc:title>Objetivos</dc:title>
</cp:coreProperties>
</file>