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2640" y="685800"/>
            <a:ext cx="4551480" cy="3408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65880" cy="409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Num" idx="2"/>
          </p:nvPr>
        </p:nvSpPr>
        <p:spPr>
          <a:xfrm>
            <a:off x="3884400" y="8685360"/>
            <a:ext cx="2950920" cy="43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1" lang="pt-BR" sz="1200" spc="-1" strike="noStrike">
                <a:solidFill>
                  <a:srgbClr val="000000"/>
                </a:solidFill>
                <a:latin typeface="Calibri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94CCC2-3E19-46AF-8873-0834DBC7E935}" type="slidenum">
              <a:rPr b="1" lang="pt-BR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34F623-9099-48CD-A8EC-7480609A5506}" type="slidenum">
              <a:rPr b="1" lang="pt-BR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67320" cy="40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6300B4-B2D8-4533-AFC0-54D70FA1ABEF}" type="slidenum">
              <a:rPr b="1" lang="pt-BR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67320" cy="40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DFCA1D-079F-48CD-A385-9F242D4676E0}" type="slidenum">
              <a:rPr b="1" lang="pt-BR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67320" cy="40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2DA7D0-60BB-4BD3-953D-A990D42AF297}" type="slidenum">
              <a:rPr b="1" lang="pt-BR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67320" cy="40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61649E-016C-4589-8A76-FBCDAC849D8C}" type="slidenum">
              <a:rPr b="1" lang="pt-BR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67320" cy="40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EE3B26-70B1-4C81-8F4C-D23285E42AAD}" type="slidenum">
              <a:rPr b="1" lang="pt-BR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67320" cy="40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64739D-6620-4CA3-B8D4-5E2A776F0A41}" type="slidenum">
              <a:rPr b="1" lang="pt-BR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67320" cy="40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FD975D-FBC6-4A52-A37F-5EDEBAB374F1}" type="slidenum">
              <a:rPr b="1" lang="pt-BR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67320" cy="40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B87960-EDB1-4A14-9B4B-C158E4D98C99}" type="slidenum">
              <a:rPr b="1" lang="pt-BR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67320" cy="40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BF71C9-0F8E-4890-A604-FFC00152D2B5}" type="slidenum">
              <a:rPr b="1" lang="pt-BR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67320" cy="40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12315D-E2B4-4573-9D36-21E000A03EEA}" type="slidenum">
              <a:rPr b="1" lang="pt-BR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67320" cy="40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82412A-03DD-40FF-ACF8-96A7FAABE356}" type="slidenum">
              <a:rPr b="1" lang="pt-BR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67320" cy="40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076CEE-7E5D-445E-82E2-A238DFD06777}" type="slidenum">
              <a:rPr b="1" lang="pt-BR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67320" cy="40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93B845-7FB2-443B-9A4C-CABED9037463}" type="slidenum">
              <a:rPr b="1" lang="pt-BR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67320" cy="40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954937-F841-486F-B910-AB909F43E633}" type="slidenum">
              <a:rPr b="1" lang="pt-BR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67320" cy="40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AA2A84-E29A-45D0-94EA-098AE99E82B9}" type="slidenum">
              <a:rPr b="1" lang="pt-BR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67320" cy="40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0DFE7E-6F0F-40AD-9EBE-9376395B9A26}" type="slidenum">
              <a:rPr b="1" lang="pt-BR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67320" cy="40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A12464-FB71-48BC-8B85-E76124486CAD}" type="slidenum">
              <a:rPr b="1" lang="pt-BR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67320" cy="40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D2F499-F30D-4B38-B379-646A80D3F848}" type="slidenum">
              <a:rPr b="1" lang="pt-BR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67320" cy="40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7770BA-9B78-4480-B217-E0F990BCA355}" type="slidenum">
              <a:rPr b="1" lang="pt-BR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67320" cy="40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65AD01-A2D7-4D64-86D0-7C4222C162B1}" type="slidenum">
              <a:rPr b="1" lang="pt-BR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67320" cy="40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6E98FE-6864-4F83-8EAD-FF2D4939B4B4}" type="slidenum">
              <a:rPr b="1" lang="pt-BR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67320" cy="40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AF52E3-B37C-4CCF-A044-E5F6C495F9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090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0908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53160"/>
            <a:ext cx="820908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A6161F-8266-46B6-B44A-5628B22BE9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090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572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3080" y="1599840"/>
            <a:ext cx="400572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53160"/>
            <a:ext cx="400572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3080" y="3953160"/>
            <a:ext cx="400572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F7D9D1-0398-4052-AC83-74739EEC76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090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312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2440" y="1599840"/>
            <a:ext cx="264312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8040" y="1599840"/>
            <a:ext cx="264312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53160"/>
            <a:ext cx="264312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2440" y="3953160"/>
            <a:ext cx="264312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8040" y="3953160"/>
            <a:ext cx="264312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4837B8-6687-466F-9370-3D71D98727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090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09080" cy="450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090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09080" cy="450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090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5720" cy="450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63080" y="1599840"/>
            <a:ext cx="4005720" cy="450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090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0908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090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572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3080" y="1599840"/>
            <a:ext cx="4005720" cy="450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6840" y="3953160"/>
            <a:ext cx="400572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090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09080" cy="450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F6DC5A-376E-41C4-A5DB-8F52B2262C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090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5720" cy="450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3080" y="1599840"/>
            <a:ext cx="400572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63080" y="3953160"/>
            <a:ext cx="400572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090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572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3080" y="1599840"/>
            <a:ext cx="400572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6840" y="3953160"/>
            <a:ext cx="820908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090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0908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6840" y="3953160"/>
            <a:ext cx="820908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090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572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3080" y="1599840"/>
            <a:ext cx="400572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53160"/>
            <a:ext cx="400572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63080" y="3953160"/>
            <a:ext cx="400572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090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312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2440" y="1599840"/>
            <a:ext cx="264312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08040" y="1599840"/>
            <a:ext cx="264312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6840" y="3953160"/>
            <a:ext cx="264312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2440" y="3953160"/>
            <a:ext cx="264312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08040" y="3953160"/>
            <a:ext cx="264312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090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09080" cy="450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82907D-D004-4D70-864F-DC9FC83DED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090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5720" cy="450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3080" y="1599840"/>
            <a:ext cx="4005720" cy="450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9EC401-1F00-4951-9C5B-5A47A11EC2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090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F5FC74-D161-43AA-BCFA-A124C17673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0908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57CEAF-A274-45C5-B949-D133DDB7CF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090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572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3080" y="1599840"/>
            <a:ext cx="4005720" cy="450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53160"/>
            <a:ext cx="400572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B3CDAD-E1C0-420D-A436-D9150EF1EA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090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5720" cy="450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3080" y="1599840"/>
            <a:ext cx="400572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3080" y="3953160"/>
            <a:ext cx="400572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838769-474C-49F6-B950-0530B1C19D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090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572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3080" y="1599840"/>
            <a:ext cx="400572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53160"/>
            <a:ext cx="820908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23052A-7FBE-4526-8B01-B3D86A2EEA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090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09080" cy="450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353280"/>
            <a:ext cx="213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472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3080" y="6353280"/>
            <a:ext cx="211320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1" lang="pt-BR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F5F1D6-191D-4112-8FCB-8ED4FCA4593B}" type="slidenum">
              <a:rPr b="1" lang="pt-BR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196120" cy="13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196120" cy="44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7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7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7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7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7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image" Target="../media/image8.png"/><Relationship Id="rId9" Type="http://schemas.openxmlformats.org/officeDocument/2006/relationships/image" Target="../media/image10.png"/><Relationship Id="rId10" Type="http://schemas.openxmlformats.org/officeDocument/2006/relationships/image" Target="../media/image23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8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8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8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8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8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8.png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8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9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1" name="" descr=""/>
          <p:cNvPicPr/>
          <p:nvPr/>
        </p:nvPicPr>
        <p:blipFill>
          <a:blip r:embed="rId3"/>
          <a:srcRect l="-5290" t="0" r="0" b="-37435"/>
          <a:stretch/>
        </p:blipFill>
        <p:spPr>
          <a:xfrm>
            <a:off x="762120" y="2197080"/>
            <a:ext cx="1143000" cy="8510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4"/>
          <a:stretch/>
        </p:blipFill>
        <p:spPr>
          <a:xfrm>
            <a:off x="609480" y="304920"/>
            <a:ext cx="1519200" cy="2133360"/>
          </a:xfrm>
          <a:prstGeom prst="rect">
            <a:avLst/>
          </a:prstGeom>
          <a:ln w="0">
            <a:noFill/>
          </a:ln>
        </p:spPr>
      </p:pic>
      <p:grpSp>
        <p:nvGrpSpPr>
          <p:cNvPr id="103" name=""/>
          <p:cNvGrpSpPr/>
          <p:nvPr/>
        </p:nvGrpSpPr>
        <p:grpSpPr>
          <a:xfrm>
            <a:off x="5108400" y="5583240"/>
            <a:ext cx="3726000" cy="970560"/>
            <a:chOff x="5108400" y="5583240"/>
            <a:chExt cx="3726000" cy="970560"/>
          </a:xfrm>
        </p:grpSpPr>
        <p:sp>
          <p:nvSpPr>
            <p:cNvPr id="104" name=""/>
            <p:cNvSpPr/>
            <p:nvPr/>
          </p:nvSpPr>
          <p:spPr>
            <a:xfrm>
              <a:off x="5108400" y="6446880"/>
              <a:ext cx="25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pt-BR" sz="7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</a:t>
              </a:r>
              <a:endParaRPr b="1" lang="en-US" sz="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05" name="" descr=""/>
            <p:cNvPicPr/>
            <p:nvPr/>
          </p:nvPicPr>
          <p:blipFill>
            <a:blip r:embed="rId5"/>
            <a:stretch/>
          </p:blipFill>
          <p:spPr>
            <a:xfrm>
              <a:off x="5181480" y="5583240"/>
              <a:ext cx="1140120" cy="80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" name="" descr=""/>
            <p:cNvPicPr/>
            <p:nvPr/>
          </p:nvPicPr>
          <p:blipFill>
            <a:blip r:embed="rId6"/>
            <a:stretch/>
          </p:blipFill>
          <p:spPr>
            <a:xfrm>
              <a:off x="6302520" y="5784840"/>
              <a:ext cx="2531880" cy="449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7" name=""/>
          <p:cNvSpPr/>
          <p:nvPr/>
        </p:nvSpPr>
        <p:spPr>
          <a:xfrm>
            <a:off x="3887640" y="4640400"/>
            <a:ext cx="4913640" cy="6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200" spc="-1" strike="noStrike">
                <a:solidFill>
                  <a:srgbClr val="003366"/>
                </a:solidFill>
                <a:latin typeface="Tahoma"/>
              </a:rPr>
              <a:t>Brasília, 03 de junho de 2013 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6480000" y="360360"/>
            <a:ext cx="2519640" cy="107964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2879640" y="2303640"/>
            <a:ext cx="5813640" cy="27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4000" spc="-1" strike="noStrike">
                <a:solidFill>
                  <a:srgbClr val="003366"/>
                </a:solidFill>
                <a:latin typeface="Tahoma"/>
              </a:rPr>
              <a:t>Cadastros de Informações Previdenciária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CDA636-A243-490D-B905-4A6E2AAFF272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1619280" y="2160720"/>
            <a:ext cx="6513480" cy="35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81120" indent="-303120" algn="just">
              <a:lnSpc>
                <a:spcPct val="90000"/>
              </a:lnSpc>
              <a:spcBef>
                <a:spcPts val="950"/>
              </a:spcBef>
              <a:tabLst>
                <a:tab algn="l" pos="0"/>
                <a:tab algn="l" pos="681120"/>
                <a:tab algn="l" pos="1128600"/>
                <a:tab algn="l" pos="1577880"/>
                <a:tab algn="l" pos="2027160"/>
                <a:tab algn="l" pos="2476440"/>
                <a:tab algn="l" pos="2925720"/>
                <a:tab algn="l" pos="3375000"/>
                <a:tab algn="l" pos="3824280"/>
                <a:tab algn="l" pos="4273560"/>
                <a:tab algn="l" pos="4722840"/>
                <a:tab algn="l" pos="5172120"/>
                <a:tab algn="l" pos="5621400"/>
                <a:tab algn="l" pos="6070680"/>
                <a:tab algn="l" pos="6519960"/>
                <a:tab algn="l" pos="6969240"/>
                <a:tab algn="l" pos="7418520"/>
                <a:tab algn="l" pos="7867800"/>
                <a:tab algn="l" pos="8317080"/>
                <a:tab algn="l" pos="8766000"/>
                <a:tab algn="l" pos="9215280"/>
                <a:tab algn="l" pos="9664560"/>
                <a:tab algn="l" pos="9883800"/>
                <a:tab algn="l" pos="10333080"/>
                <a:tab algn="l" pos="1078236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681120" indent="-303120" algn="just">
              <a:lnSpc>
                <a:spcPct val="90000"/>
              </a:lnSpc>
              <a:spcBef>
                <a:spcPts val="950"/>
              </a:spcBef>
              <a:tabLst>
                <a:tab algn="l" pos="0"/>
                <a:tab algn="l" pos="681120"/>
                <a:tab algn="l" pos="1128600"/>
                <a:tab algn="l" pos="1577880"/>
                <a:tab algn="l" pos="2027160"/>
                <a:tab algn="l" pos="2476440"/>
                <a:tab algn="l" pos="2925720"/>
                <a:tab algn="l" pos="3375000"/>
                <a:tab algn="l" pos="3824280"/>
                <a:tab algn="l" pos="4273560"/>
                <a:tab algn="l" pos="4722840"/>
                <a:tab algn="l" pos="5172120"/>
                <a:tab algn="l" pos="5621400"/>
                <a:tab algn="l" pos="6070680"/>
                <a:tab algn="l" pos="6519960"/>
                <a:tab algn="l" pos="6969240"/>
                <a:tab algn="l" pos="7418520"/>
                <a:tab algn="l" pos="7867800"/>
                <a:tab algn="l" pos="8317080"/>
                <a:tab algn="l" pos="8766000"/>
                <a:tab algn="l" pos="9215280"/>
                <a:tab algn="l" pos="9664560"/>
                <a:tab algn="l" pos="9883800"/>
                <a:tab algn="l" pos="10333080"/>
                <a:tab algn="l" pos="1078236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681120" indent="-303120" algn="ctr">
              <a:lnSpc>
                <a:spcPct val="100000"/>
              </a:lnSpc>
              <a:spcBef>
                <a:spcPts val="950"/>
              </a:spcBef>
              <a:tabLst>
                <a:tab algn="l" pos="0"/>
                <a:tab algn="l" pos="681120"/>
                <a:tab algn="l" pos="1128600"/>
                <a:tab algn="l" pos="1577880"/>
                <a:tab algn="l" pos="2027160"/>
                <a:tab algn="l" pos="2476440"/>
                <a:tab algn="l" pos="2925720"/>
                <a:tab algn="l" pos="3375000"/>
                <a:tab algn="l" pos="3824280"/>
                <a:tab algn="l" pos="4273560"/>
                <a:tab algn="l" pos="4722840"/>
                <a:tab algn="l" pos="5172120"/>
                <a:tab algn="l" pos="5621400"/>
                <a:tab algn="l" pos="6070680"/>
                <a:tab algn="l" pos="6519960"/>
                <a:tab algn="l" pos="6969240"/>
                <a:tab algn="l" pos="7418520"/>
                <a:tab algn="l" pos="7867800"/>
                <a:tab algn="l" pos="8317080"/>
                <a:tab algn="l" pos="8766000"/>
                <a:tab algn="l" pos="9215280"/>
                <a:tab algn="l" pos="9664560"/>
                <a:tab algn="l" pos="9883800"/>
                <a:tab algn="l" pos="10333080"/>
                <a:tab algn="l" pos="1078236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143000" y="3581280"/>
            <a:ext cx="5105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47920" y="2438280"/>
            <a:ext cx="3124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0" y="990720"/>
            <a:ext cx="19810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96880" y="2354400"/>
            <a:ext cx="3183120" cy="1604880"/>
          </a:xfrm>
          <a:prstGeom prst="ellipse">
            <a:avLst/>
          </a:prstGeom>
          <a:gradFill rotWithShape="0">
            <a:gsLst>
              <a:gs pos="0">
                <a:srgbClr val="666666"/>
              </a:gs>
              <a:gs pos="100000">
                <a:srgbClr val="e6e6e6"/>
              </a:gs>
            </a:gsLst>
            <a:lin ang="3600000"/>
          </a:gradFill>
          <a:ln w="9360">
            <a:solidFill>
              <a:srgbClr val="94bd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t-BR" sz="3600" spc="-1" strike="noStrike">
                <a:solidFill>
                  <a:srgbClr val="ffffff"/>
                </a:solidFill>
                <a:latin typeface="Arial"/>
                <a:ea typeface="Arial Unicode MS"/>
              </a:rPr>
              <a:t>Pessoas física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954160" y="4656240"/>
            <a:ext cx="3022920" cy="1463400"/>
          </a:xfrm>
          <a:prstGeom prst="ellipse">
            <a:avLst/>
          </a:prstGeom>
          <a:gradFill rotWithShape="0">
            <a:gsLst>
              <a:gs pos="0">
                <a:srgbClr val="666666"/>
              </a:gs>
              <a:gs pos="100000">
                <a:srgbClr val="e6e6e6"/>
              </a:gs>
            </a:gsLst>
            <a:lin ang="3600000"/>
          </a:gradFill>
          <a:ln w="9360">
            <a:solidFill>
              <a:srgbClr val="94bd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3600" spc="-1" strike="noStrike">
                <a:solidFill>
                  <a:srgbClr val="ffffff"/>
                </a:solidFill>
                <a:latin typeface="Arial"/>
                <a:ea typeface="Arial Unicode MS"/>
              </a:rPr>
              <a:t> </a:t>
            </a:r>
            <a:r>
              <a:rPr b="1" lang="pt-BR" sz="3600" spc="-1" strike="noStrike">
                <a:solidFill>
                  <a:srgbClr val="ffffff"/>
                </a:solidFill>
                <a:latin typeface="Arial"/>
                <a:ea typeface="Arial Unicode MS"/>
              </a:rPr>
              <a:t>Imóvei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132520" y="2354400"/>
            <a:ext cx="3146400" cy="1604880"/>
          </a:xfrm>
          <a:prstGeom prst="ellipse">
            <a:avLst/>
          </a:prstGeom>
          <a:gradFill rotWithShape="0">
            <a:gsLst>
              <a:gs pos="0">
                <a:srgbClr val="666666"/>
              </a:gs>
              <a:gs pos="100000">
                <a:srgbClr val="e6e6e6"/>
              </a:gs>
            </a:gsLst>
            <a:lin ang="3600000"/>
          </a:gradFill>
          <a:ln w="9360">
            <a:solidFill>
              <a:srgbClr val="94bd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3600" spc="-1" strike="noStrike">
                <a:solidFill>
                  <a:srgbClr val="ffffff"/>
                </a:solidFill>
                <a:latin typeface="Arial"/>
                <a:ea typeface="Arial Unicode MS"/>
              </a:rPr>
              <a:t> </a:t>
            </a:r>
            <a:r>
              <a:rPr b="1" lang="pt-BR" sz="3600" spc="-1" strike="noStrike">
                <a:solidFill>
                  <a:srgbClr val="ffffff"/>
                </a:solidFill>
                <a:latin typeface="Arial"/>
                <a:ea typeface="Arial Unicode MS"/>
              </a:rPr>
              <a:t>Pessoas jurídica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160720" y="1044720"/>
            <a:ext cx="4572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3200" spc="-1" strike="noStrike">
                <a:solidFill>
                  <a:srgbClr val="280099"/>
                </a:solidFill>
                <a:latin typeface="Arial"/>
              </a:rPr>
              <a:t>Situação Pretendi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flipH="1" flipV="1">
            <a:off x="0" y="0"/>
            <a:ext cx="9144000" cy="720720"/>
          </a:xfrm>
          <a:prstGeom prst="rect">
            <a:avLst/>
          </a:prstGeom>
          <a:gradFill rotWithShape="0">
            <a:gsLst>
              <a:gs pos="0">
                <a:srgbClr val="10253f"/>
              </a:gs>
              <a:gs pos="100000">
                <a:srgbClr val="c6d9f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6659640" y="81000"/>
            <a:ext cx="2303280" cy="60336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2"/>
          <a:stretch/>
        </p:blipFill>
        <p:spPr>
          <a:xfrm>
            <a:off x="87480" y="33480"/>
            <a:ext cx="1892160" cy="65088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 flipH="1" flipV="1">
            <a:off x="-37080" y="754920"/>
            <a:ext cx="9180360" cy="17640"/>
          </a:xfrm>
          <a:prstGeom prst="rect">
            <a:avLst/>
          </a:prstGeom>
          <a:gradFill rotWithShape="0">
            <a:gsLst>
              <a:gs pos="0">
                <a:srgbClr val="10253f"/>
              </a:gs>
              <a:gs pos="100000">
                <a:srgbClr val="c6d9f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-360" y="6696000"/>
            <a:ext cx="9178920" cy="155160"/>
            <a:chOff x="-360" y="6696000"/>
            <a:chExt cx="9178920" cy="155160"/>
          </a:xfrm>
        </p:grpSpPr>
        <p:sp>
          <p:nvSpPr>
            <p:cNvPr id="257" name=""/>
            <p:cNvSpPr/>
            <p:nvPr/>
          </p:nvSpPr>
          <p:spPr>
            <a:xfrm flipH="1" flipV="1">
              <a:off x="-720" y="6696000"/>
              <a:ext cx="9178920" cy="15840"/>
            </a:xfrm>
            <a:prstGeom prst="rect">
              <a:avLst/>
            </a:prstGeom>
            <a:gradFill rotWithShape="0">
              <a:gsLst>
                <a:gs pos="0">
                  <a:srgbClr val="10253f"/>
                </a:gs>
                <a:gs pos="100000">
                  <a:srgbClr val="c6d9f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 flipH="1" flipV="1">
              <a:off x="-720" y="6768360"/>
              <a:ext cx="9178920" cy="82440"/>
            </a:xfrm>
            <a:prstGeom prst="rect">
              <a:avLst/>
            </a:prstGeom>
            <a:gradFill rotWithShape="0">
              <a:gsLst>
                <a:gs pos="0">
                  <a:srgbClr val="10253f"/>
                </a:gs>
                <a:gs pos="100000">
                  <a:srgbClr val="c6d9f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H="1" flipV="1">
              <a:off x="-720" y="6732720"/>
              <a:ext cx="9178920" cy="15840"/>
            </a:xfrm>
            <a:prstGeom prst="rect">
              <a:avLst/>
            </a:prstGeom>
            <a:gradFill rotWithShape="0">
              <a:gsLst>
                <a:gs pos="0">
                  <a:srgbClr val="10253f"/>
                </a:gs>
                <a:gs pos="100000">
                  <a:srgbClr val="c6d9f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260" name=""/>
          <p:cNvCxnSpPr>
            <a:stCxn id="248" idx="6"/>
            <a:endCxn id="250" idx="2"/>
          </p:cNvCxnSpPr>
          <p:nvPr/>
        </p:nvCxnSpPr>
        <p:spPr>
          <a:xfrm>
            <a:off x="3779640" y="3157560"/>
            <a:ext cx="1353240" cy="2160"/>
          </a:xfrm>
          <a:prstGeom prst="straightConnector1">
            <a:avLst/>
          </a:prstGeom>
          <a:ln w="9360">
            <a:solidFill>
              <a:srgbClr val="008000"/>
            </a:solidFill>
            <a:round/>
            <a:headEnd len="med" type="triangle" w="med"/>
            <a:tailEnd len="med" type="triangle" w="med"/>
          </a:ln>
        </p:spPr>
      </p:cxnSp>
      <p:cxnSp>
        <p:nvCxnSpPr>
          <p:cNvPr id="261" name=""/>
          <p:cNvCxnSpPr>
            <a:endCxn id="249" idx="0"/>
          </p:cNvCxnSpPr>
          <p:nvPr/>
        </p:nvCxnSpPr>
        <p:spPr>
          <a:xfrm>
            <a:off x="4455720" y="3157200"/>
            <a:ext cx="10440" cy="1500840"/>
          </a:xfrm>
          <a:prstGeom prst="straightConnector1">
            <a:avLst/>
          </a:prstGeom>
          <a:ln w="9360">
            <a:solidFill>
              <a:srgbClr val="008000"/>
            </a:solidFill>
            <a:round/>
            <a:tailEnd len="med" type="triangle" w="med"/>
          </a:ln>
        </p:spPr>
      </p:cxn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fill="hold">
                      <p:stCondLst>
                        <p:cond delay="0"/>
                      </p:stCondLst>
                      <p:childTnLst>
                        <p:par>
                          <p:cTn id="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" dur="1000" fill="hold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dur="indefinite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" dur="1000" fill="hold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dur="indefinite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" dur="1000" fill="hold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44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237960" y="4896000"/>
            <a:ext cx="1741680" cy="1260360"/>
          </a:xfrm>
          <a:prstGeom prst="rect">
            <a:avLst/>
          </a:prstGeom>
          <a:ln w="0">
            <a:noFill/>
          </a:ln>
        </p:spPr>
      </p:pic>
      <p:sp>
        <p:nvSpPr>
          <p:cNvPr id="263" name=""/>
          <p:cNvSpPr/>
          <p:nvPr/>
        </p:nvSpPr>
        <p:spPr>
          <a:xfrm>
            <a:off x="1619280" y="2160720"/>
            <a:ext cx="6513480" cy="35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81120" indent="-303120" algn="just">
              <a:lnSpc>
                <a:spcPct val="90000"/>
              </a:lnSpc>
              <a:spcBef>
                <a:spcPts val="950"/>
              </a:spcBef>
              <a:tabLst>
                <a:tab algn="l" pos="0"/>
                <a:tab algn="l" pos="681120"/>
                <a:tab algn="l" pos="1128600"/>
                <a:tab algn="l" pos="1577880"/>
                <a:tab algn="l" pos="2027160"/>
                <a:tab algn="l" pos="2476440"/>
                <a:tab algn="l" pos="2925720"/>
                <a:tab algn="l" pos="3375000"/>
                <a:tab algn="l" pos="3824280"/>
                <a:tab algn="l" pos="4273560"/>
                <a:tab algn="l" pos="4722840"/>
                <a:tab algn="l" pos="5172120"/>
                <a:tab algn="l" pos="5621400"/>
                <a:tab algn="l" pos="6070680"/>
                <a:tab algn="l" pos="6519960"/>
                <a:tab algn="l" pos="6969240"/>
                <a:tab algn="l" pos="7418520"/>
                <a:tab algn="l" pos="7867800"/>
                <a:tab algn="l" pos="8317080"/>
                <a:tab algn="l" pos="8766000"/>
                <a:tab algn="l" pos="9215280"/>
                <a:tab algn="l" pos="9664560"/>
                <a:tab algn="l" pos="9883800"/>
                <a:tab algn="l" pos="10333080"/>
                <a:tab algn="l" pos="1078236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681120" indent="-303120" algn="just">
              <a:lnSpc>
                <a:spcPct val="90000"/>
              </a:lnSpc>
              <a:spcBef>
                <a:spcPts val="950"/>
              </a:spcBef>
              <a:tabLst>
                <a:tab algn="l" pos="0"/>
                <a:tab algn="l" pos="681120"/>
                <a:tab algn="l" pos="1128600"/>
                <a:tab algn="l" pos="1577880"/>
                <a:tab algn="l" pos="2027160"/>
                <a:tab algn="l" pos="2476440"/>
                <a:tab algn="l" pos="2925720"/>
                <a:tab algn="l" pos="3375000"/>
                <a:tab algn="l" pos="3824280"/>
                <a:tab algn="l" pos="4273560"/>
                <a:tab algn="l" pos="4722840"/>
                <a:tab algn="l" pos="5172120"/>
                <a:tab algn="l" pos="5621400"/>
                <a:tab algn="l" pos="6070680"/>
                <a:tab algn="l" pos="6519960"/>
                <a:tab algn="l" pos="6969240"/>
                <a:tab algn="l" pos="7418520"/>
                <a:tab algn="l" pos="7867800"/>
                <a:tab algn="l" pos="8317080"/>
                <a:tab algn="l" pos="8766000"/>
                <a:tab algn="l" pos="9215280"/>
                <a:tab algn="l" pos="9664560"/>
                <a:tab algn="l" pos="9883800"/>
                <a:tab algn="l" pos="10333080"/>
                <a:tab algn="l" pos="1078236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681120" indent="-303120" algn="ctr">
              <a:lnSpc>
                <a:spcPct val="100000"/>
              </a:lnSpc>
              <a:spcBef>
                <a:spcPts val="950"/>
              </a:spcBef>
              <a:tabLst>
                <a:tab algn="l" pos="0"/>
                <a:tab algn="l" pos="681120"/>
                <a:tab algn="l" pos="1128600"/>
                <a:tab algn="l" pos="1577880"/>
                <a:tab algn="l" pos="2027160"/>
                <a:tab algn="l" pos="2476440"/>
                <a:tab algn="l" pos="2925720"/>
                <a:tab algn="l" pos="3375000"/>
                <a:tab algn="l" pos="3824280"/>
                <a:tab algn="l" pos="4273560"/>
                <a:tab algn="l" pos="4722840"/>
                <a:tab algn="l" pos="5172120"/>
                <a:tab algn="l" pos="5621400"/>
                <a:tab algn="l" pos="6070680"/>
                <a:tab algn="l" pos="6519960"/>
                <a:tab algn="l" pos="6969240"/>
                <a:tab algn="l" pos="7418520"/>
                <a:tab algn="l" pos="7867800"/>
                <a:tab algn="l" pos="8317080"/>
                <a:tab algn="l" pos="8766000"/>
                <a:tab algn="l" pos="9215280"/>
                <a:tab algn="l" pos="9664560"/>
                <a:tab algn="l" pos="9883800"/>
                <a:tab algn="l" pos="10333080"/>
                <a:tab algn="l" pos="1078236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143000" y="3581280"/>
            <a:ext cx="5105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447920" y="2438280"/>
            <a:ext cx="3124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295280" y="4267080"/>
            <a:ext cx="6172200" cy="1981440"/>
          </a:xfrm>
          <a:prstGeom prst="foldedCorner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066680" y="5105520"/>
            <a:ext cx="6705720" cy="1295280"/>
          </a:xfrm>
          <a:prstGeom prst="foldedCorner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-2514600" y="4343400"/>
            <a:ext cx="1981080" cy="1752480"/>
          </a:xfrm>
          <a:prstGeom prst="foldedCorner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498840" y="2305080"/>
            <a:ext cx="1800360" cy="12603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00"/>
              </a:gs>
              <a:gs pos="100000">
                <a:srgbClr val="94bd5e"/>
              </a:gs>
            </a:gsLst>
            <a:lin ang="36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CEI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2"/>
          <a:stretch/>
        </p:blipFill>
        <p:spPr>
          <a:xfrm>
            <a:off x="1008000" y="1332000"/>
            <a:ext cx="1800360" cy="971640"/>
          </a:xfrm>
          <a:prstGeom prst="rect">
            <a:avLst/>
          </a:prstGeom>
          <a:ln w="18000">
            <a:solidFill>
              <a:srgbClr val="ffffff"/>
            </a:solidFill>
            <a:round/>
          </a:ln>
        </p:spPr>
      </p:pic>
      <p:pic>
        <p:nvPicPr>
          <p:cNvPr id="271" name="" descr=""/>
          <p:cNvPicPr/>
          <p:nvPr/>
        </p:nvPicPr>
        <p:blipFill>
          <a:blip r:embed="rId3"/>
          <a:stretch/>
        </p:blipFill>
        <p:spPr>
          <a:xfrm>
            <a:off x="7020000" y="2952720"/>
            <a:ext cx="1979640" cy="107964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4"/>
          <a:stretch/>
        </p:blipFill>
        <p:spPr>
          <a:xfrm>
            <a:off x="6048360" y="1325520"/>
            <a:ext cx="1871640" cy="101448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/>
          <p:cNvPicPr/>
          <p:nvPr/>
        </p:nvPicPr>
        <p:blipFill>
          <a:blip r:embed="rId5"/>
          <a:stretch/>
        </p:blipFill>
        <p:spPr>
          <a:xfrm>
            <a:off x="2519280" y="5580000"/>
            <a:ext cx="1800360" cy="111600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6"/>
          <a:stretch/>
        </p:blipFill>
        <p:spPr>
          <a:xfrm>
            <a:off x="4716360" y="5580000"/>
            <a:ext cx="1800360" cy="107964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973080" y="898560"/>
            <a:ext cx="1908360" cy="36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00"/>
              </a:gs>
              <a:gs pos="100000">
                <a:srgbClr val="94bd5e"/>
              </a:gs>
            </a:gsLst>
            <a:lin ang="36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Arial"/>
              </a:rPr>
              <a:t>Equiparado à empresa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84360" y="5003640"/>
            <a:ext cx="1836720" cy="468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00"/>
              </a:gs>
              <a:gs pos="100000">
                <a:srgbClr val="94bd5e"/>
              </a:gs>
            </a:gsLst>
            <a:lin ang="36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Arial"/>
              </a:rPr>
              <a:t>Obra de construção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Arial"/>
              </a:rPr>
              <a:t>civil de PF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020000" y="2519280"/>
            <a:ext cx="1979640" cy="36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00"/>
              </a:gs>
              <a:gs pos="100000">
                <a:srgbClr val="94bd5e"/>
              </a:gs>
            </a:gsLst>
            <a:lin ang="36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Arial"/>
              </a:rPr>
              <a:t>Produtor rural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940360" y="900000"/>
            <a:ext cx="1979640" cy="36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00"/>
              </a:gs>
              <a:gs pos="100000">
                <a:srgbClr val="94bd5e"/>
              </a:gs>
            </a:gsLst>
            <a:lin ang="36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Arial"/>
              </a:rPr>
              <a:t>Segurado</a:t>
            </a: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t-BR" sz="1400" spc="-1" strike="noStrike">
                <a:solidFill>
                  <a:srgbClr val="ffffff"/>
                </a:solidFill>
                <a:latin typeface="Arial"/>
              </a:rPr>
              <a:t>especial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7"/>
          <a:stretch/>
        </p:blipFill>
        <p:spPr>
          <a:xfrm>
            <a:off x="7020000" y="4932360"/>
            <a:ext cx="1836720" cy="10796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>
            <a:off x="6946920" y="4354560"/>
            <a:ext cx="2052720" cy="504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00"/>
              </a:gs>
              <a:gs pos="100000">
                <a:srgbClr val="94bd5e"/>
              </a:gs>
            </a:gsLst>
            <a:lin ang="36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Arial"/>
              </a:rPr>
              <a:t>Consórcio simplificado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Arial"/>
              </a:rPr>
              <a:t>de produtores rurais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519280" y="2844720"/>
            <a:ext cx="541440" cy="35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00"/>
              </a:gs>
              <a:gs pos="100000">
                <a:srgbClr val="94bd5e"/>
              </a:gs>
            </a:gsLst>
            <a:lin ang="36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/0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492360" y="3995640"/>
            <a:ext cx="540000" cy="36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00"/>
              </a:gs>
              <a:gs pos="100000">
                <a:srgbClr val="94bd5e"/>
              </a:gs>
            </a:gsLst>
            <a:lin ang="36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/6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4751280" y="3995640"/>
            <a:ext cx="540000" cy="36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00"/>
              </a:gs>
              <a:gs pos="100000">
                <a:srgbClr val="94bd5e"/>
              </a:gs>
            </a:gsLst>
            <a:lin ang="36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/7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759280" y="2881440"/>
            <a:ext cx="540000" cy="36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00"/>
              </a:gs>
              <a:gs pos="100000">
                <a:srgbClr val="94bd5e"/>
              </a:gs>
            </a:gsLst>
            <a:lin ang="36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/8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50920" y="4537080"/>
            <a:ext cx="1728720" cy="431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00"/>
              </a:gs>
              <a:gs pos="100000">
                <a:srgbClr val="94bd5e"/>
              </a:gs>
            </a:gsLst>
            <a:lin ang="36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Arial"/>
              </a:rPr>
              <a:t>Empregador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Arial"/>
              </a:rPr>
              <a:t>doméstico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79280" y="2700360"/>
            <a:ext cx="1800360" cy="36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00"/>
              </a:gs>
              <a:gs pos="100000">
                <a:srgbClr val="94bd5e"/>
              </a:gs>
            </a:gsLst>
            <a:lin ang="36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Arial"/>
              </a:rPr>
              <a:t>Titular de cartório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680000" y="5003640"/>
            <a:ext cx="1836720" cy="468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00"/>
              </a:gs>
              <a:gs pos="100000">
                <a:srgbClr val="94bd5e"/>
              </a:gs>
            </a:gsLst>
            <a:lin ang="36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Arial"/>
              </a:rPr>
              <a:t>Obra de construção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Arial"/>
              </a:rPr>
              <a:t>civil de PJ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-360" y="6696000"/>
            <a:ext cx="9178920" cy="155160"/>
            <a:chOff x="-360" y="6696000"/>
            <a:chExt cx="9178920" cy="155160"/>
          </a:xfrm>
        </p:grpSpPr>
        <p:sp>
          <p:nvSpPr>
            <p:cNvPr id="289" name=""/>
            <p:cNvSpPr/>
            <p:nvPr/>
          </p:nvSpPr>
          <p:spPr>
            <a:xfrm flipH="1" flipV="1">
              <a:off x="-720" y="6696000"/>
              <a:ext cx="9178920" cy="15840"/>
            </a:xfrm>
            <a:prstGeom prst="rect">
              <a:avLst/>
            </a:prstGeom>
            <a:gradFill rotWithShape="0">
              <a:gsLst>
                <a:gs pos="0">
                  <a:srgbClr val="10253f"/>
                </a:gs>
                <a:gs pos="100000">
                  <a:srgbClr val="c6d9f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 flipH="1" flipV="1">
              <a:off x="-720" y="6768360"/>
              <a:ext cx="9178920" cy="82440"/>
            </a:xfrm>
            <a:prstGeom prst="rect">
              <a:avLst/>
            </a:prstGeom>
            <a:gradFill rotWithShape="0">
              <a:gsLst>
                <a:gs pos="0">
                  <a:srgbClr val="10253f"/>
                </a:gs>
                <a:gs pos="100000">
                  <a:srgbClr val="c6d9f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 flipV="1">
              <a:off x="-720" y="6732720"/>
              <a:ext cx="9178920" cy="15840"/>
            </a:xfrm>
            <a:prstGeom prst="rect">
              <a:avLst/>
            </a:prstGeom>
            <a:gradFill rotWithShape="0">
              <a:gsLst>
                <a:gs pos="0">
                  <a:srgbClr val="10253f"/>
                </a:gs>
                <a:gs pos="100000">
                  <a:srgbClr val="c6d9f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2" name=""/>
          <p:cNvSpPr/>
          <p:nvPr/>
        </p:nvSpPr>
        <p:spPr>
          <a:xfrm flipH="1" flipV="1">
            <a:off x="0" y="0"/>
            <a:ext cx="9144000" cy="720720"/>
          </a:xfrm>
          <a:prstGeom prst="rect">
            <a:avLst/>
          </a:prstGeom>
          <a:gradFill rotWithShape="0">
            <a:gsLst>
              <a:gs pos="0">
                <a:srgbClr val="10253f"/>
              </a:gs>
              <a:gs pos="100000">
                <a:srgbClr val="c6d9f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8"/>
          <a:stretch/>
        </p:blipFill>
        <p:spPr>
          <a:xfrm>
            <a:off x="6659640" y="81000"/>
            <a:ext cx="2303280" cy="60336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9"/>
          <a:stretch/>
        </p:blipFill>
        <p:spPr>
          <a:xfrm>
            <a:off x="87480" y="33480"/>
            <a:ext cx="1892160" cy="65088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 flipH="1" flipV="1">
            <a:off x="-37080" y="754920"/>
            <a:ext cx="9180360" cy="17640"/>
          </a:xfrm>
          <a:prstGeom prst="rect">
            <a:avLst/>
          </a:prstGeom>
          <a:gradFill rotWithShape="0">
            <a:gsLst>
              <a:gs pos="0">
                <a:srgbClr val="10253f"/>
              </a:gs>
              <a:gs pos="100000">
                <a:srgbClr val="c6d9f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10"/>
          <a:stretch/>
        </p:blipFill>
        <p:spPr>
          <a:xfrm>
            <a:off x="216000" y="3132000"/>
            <a:ext cx="1800000" cy="126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1619280" y="2160720"/>
            <a:ext cx="6513480" cy="35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81120" indent="-303120" algn="just">
              <a:lnSpc>
                <a:spcPct val="90000"/>
              </a:lnSpc>
              <a:spcBef>
                <a:spcPts val="950"/>
              </a:spcBef>
              <a:tabLst>
                <a:tab algn="l" pos="0"/>
                <a:tab algn="l" pos="681120"/>
                <a:tab algn="l" pos="1128600"/>
                <a:tab algn="l" pos="1577880"/>
                <a:tab algn="l" pos="2027160"/>
                <a:tab algn="l" pos="2476440"/>
                <a:tab algn="l" pos="2925720"/>
                <a:tab algn="l" pos="3375000"/>
                <a:tab algn="l" pos="3824280"/>
                <a:tab algn="l" pos="4273560"/>
                <a:tab algn="l" pos="4722840"/>
                <a:tab algn="l" pos="5172120"/>
                <a:tab algn="l" pos="5621400"/>
                <a:tab algn="l" pos="6070680"/>
                <a:tab algn="l" pos="6519960"/>
                <a:tab algn="l" pos="6969240"/>
                <a:tab algn="l" pos="7418520"/>
                <a:tab algn="l" pos="7867800"/>
                <a:tab algn="l" pos="8317080"/>
                <a:tab algn="l" pos="8766000"/>
                <a:tab algn="l" pos="9215280"/>
                <a:tab algn="l" pos="9664560"/>
                <a:tab algn="l" pos="9883800"/>
                <a:tab algn="l" pos="10333080"/>
                <a:tab algn="l" pos="1078236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681120" indent="-303120" algn="just">
              <a:lnSpc>
                <a:spcPct val="90000"/>
              </a:lnSpc>
              <a:spcBef>
                <a:spcPts val="950"/>
              </a:spcBef>
              <a:tabLst>
                <a:tab algn="l" pos="0"/>
                <a:tab algn="l" pos="681120"/>
                <a:tab algn="l" pos="1128600"/>
                <a:tab algn="l" pos="1577880"/>
                <a:tab algn="l" pos="2027160"/>
                <a:tab algn="l" pos="2476440"/>
                <a:tab algn="l" pos="2925720"/>
                <a:tab algn="l" pos="3375000"/>
                <a:tab algn="l" pos="3824280"/>
                <a:tab algn="l" pos="4273560"/>
                <a:tab algn="l" pos="4722840"/>
                <a:tab algn="l" pos="5172120"/>
                <a:tab algn="l" pos="5621400"/>
                <a:tab algn="l" pos="6070680"/>
                <a:tab algn="l" pos="6519960"/>
                <a:tab algn="l" pos="6969240"/>
                <a:tab algn="l" pos="7418520"/>
                <a:tab algn="l" pos="7867800"/>
                <a:tab algn="l" pos="8317080"/>
                <a:tab algn="l" pos="8766000"/>
                <a:tab algn="l" pos="9215280"/>
                <a:tab algn="l" pos="9664560"/>
                <a:tab algn="l" pos="9883800"/>
                <a:tab algn="l" pos="10333080"/>
                <a:tab algn="l" pos="1078236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681120" indent="-303120" algn="ctr">
              <a:lnSpc>
                <a:spcPct val="100000"/>
              </a:lnSpc>
              <a:spcBef>
                <a:spcPts val="950"/>
              </a:spcBef>
              <a:tabLst>
                <a:tab algn="l" pos="0"/>
                <a:tab algn="l" pos="681120"/>
                <a:tab algn="l" pos="1128600"/>
                <a:tab algn="l" pos="1577880"/>
                <a:tab algn="l" pos="2027160"/>
                <a:tab algn="l" pos="2476440"/>
                <a:tab algn="l" pos="2925720"/>
                <a:tab algn="l" pos="3375000"/>
                <a:tab algn="l" pos="3824280"/>
                <a:tab algn="l" pos="4273560"/>
                <a:tab algn="l" pos="4722840"/>
                <a:tab algn="l" pos="5172120"/>
                <a:tab algn="l" pos="5621400"/>
                <a:tab algn="l" pos="6070680"/>
                <a:tab algn="l" pos="6519960"/>
                <a:tab algn="l" pos="6969240"/>
                <a:tab algn="l" pos="7418520"/>
                <a:tab algn="l" pos="7867800"/>
                <a:tab algn="l" pos="8317080"/>
                <a:tab algn="l" pos="8766000"/>
                <a:tab algn="l" pos="9215280"/>
                <a:tab algn="l" pos="9664560"/>
                <a:tab algn="l" pos="9883800"/>
                <a:tab algn="l" pos="10333080"/>
                <a:tab algn="l" pos="1078236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1143000" y="3581280"/>
            <a:ext cx="5105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447920" y="2438280"/>
            <a:ext cx="3124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16000" y="900000"/>
            <a:ext cx="234000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3200" spc="-1" strike="noStrike">
                <a:solidFill>
                  <a:srgbClr val="280099"/>
                </a:solidFill>
                <a:latin typeface="Arial"/>
              </a:rPr>
              <a:t>Objetivo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295280" y="4267080"/>
            <a:ext cx="6172200" cy="1981440"/>
          </a:xfrm>
          <a:prstGeom prst="foldedCorner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035000" y="5040360"/>
            <a:ext cx="6705720" cy="1295280"/>
          </a:xfrm>
          <a:prstGeom prst="foldedCorner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-2514600" y="4343400"/>
            <a:ext cx="1981080" cy="1752480"/>
          </a:xfrm>
          <a:prstGeom prst="foldedCorner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419640" y="3274920"/>
            <a:ext cx="2160360" cy="36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00"/>
              </a:gs>
              <a:gs pos="100000">
                <a:srgbClr val="94bd5e"/>
              </a:gs>
            </a:gsLst>
            <a:lin ang="36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Titular de cartório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551640" y="2951280"/>
            <a:ext cx="2266920" cy="612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00"/>
              </a:gs>
              <a:gs pos="100000">
                <a:srgbClr val="94bd5e"/>
              </a:gs>
            </a:gsLst>
            <a:lin ang="36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Obra de construção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civil de PF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6551640" y="3780000"/>
            <a:ext cx="2266920" cy="576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00"/>
              </a:gs>
              <a:gs pos="100000">
                <a:srgbClr val="94bd5e"/>
              </a:gs>
            </a:gsLst>
            <a:lin ang="36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Obra de construção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civil de PJ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3419640" y="4140360"/>
            <a:ext cx="2160360" cy="36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00"/>
              </a:gs>
              <a:gs pos="100000">
                <a:srgbClr val="94bd5e"/>
              </a:gs>
            </a:gsLst>
            <a:lin ang="36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Segurado especia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431640" y="5616720"/>
            <a:ext cx="2160720" cy="1044360"/>
          </a:xfrm>
          <a:prstGeom prst="roundRect">
            <a:avLst>
              <a:gd name="adj" fmla="val 16667"/>
            </a:avLst>
          </a:prstGeom>
          <a:solidFill>
            <a:srgbClr val="dfdfff">
              <a:alpha val="50000"/>
            </a:srgbClr>
          </a:solidFill>
          <a:ln w="18000">
            <a:solidFill>
              <a:srgbClr val="6666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4320" rIns="9432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400" spc="-1" strike="noStrike">
                <a:solidFill>
                  <a:srgbClr val="000080"/>
                </a:solidFill>
                <a:latin typeface="Arial"/>
                <a:ea typeface="Lucida Sans Unicode"/>
              </a:rPr>
              <a:t>Criação da “data do primeiro vínculo” no CNPJ/Serpro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6875640" y="2016000"/>
            <a:ext cx="1618920" cy="648000"/>
          </a:xfrm>
          <a:prstGeom prst="roundRect">
            <a:avLst>
              <a:gd name="adj" fmla="val 16667"/>
            </a:avLst>
          </a:prstGeom>
          <a:solidFill>
            <a:srgbClr val="808080"/>
          </a:solidFill>
          <a:ln w="18000">
            <a:solidFill>
              <a:srgbClr val="4c4c4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4320" rIns="9432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Imóvei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216000" y="3282480"/>
            <a:ext cx="2808360" cy="707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00"/>
              </a:gs>
              <a:gs pos="100000">
                <a:srgbClr val="94bd5e"/>
              </a:gs>
            </a:gsLst>
            <a:lin ang="36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Consórcio Simplificado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de Produtores rura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3132000" y="4680000"/>
            <a:ext cx="2700360" cy="539640"/>
          </a:xfrm>
          <a:prstGeom prst="downArrowCallout">
            <a:avLst>
              <a:gd name="adj1" fmla="val 125112"/>
              <a:gd name="adj2" fmla="val 125100"/>
              <a:gd name="adj3" fmla="val 16667"/>
              <a:gd name="adj4" fmla="val 66667"/>
            </a:avLst>
          </a:prstGeom>
          <a:solidFill>
            <a:srgbClr val="80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Atributos específico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3743280" y="5435640"/>
            <a:ext cx="1655640" cy="1204920"/>
          </a:xfrm>
          <a:prstGeom prst="can">
            <a:avLst>
              <a:gd name="adj" fmla="val 19638"/>
            </a:avLst>
          </a:prstGeom>
          <a:solidFill>
            <a:srgbClr val="dfdfff">
              <a:alpha val="50000"/>
            </a:srgbClr>
          </a:solidFill>
          <a:ln w="18000">
            <a:solidFill>
              <a:srgbClr val="4c4c4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4320" rIns="9432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400" spc="-1" strike="noStrike">
                <a:solidFill>
                  <a:srgbClr val="000080"/>
                </a:solidFill>
                <a:latin typeface="Arial"/>
                <a:ea typeface="Lucida Sans Unicode"/>
              </a:rPr>
              <a:t>Cadastro de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400" spc="-1" strike="noStrike">
                <a:solidFill>
                  <a:srgbClr val="000080"/>
                </a:solidFill>
                <a:latin typeface="Arial"/>
                <a:ea typeface="Lucida Sans Unicode"/>
              </a:rPr>
              <a:t>Atividades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400" spc="-1" strike="noStrike">
                <a:solidFill>
                  <a:srgbClr val="000080"/>
                </a:solidFill>
                <a:latin typeface="Arial"/>
                <a:ea typeface="Lucida Sans Unicode"/>
              </a:rPr>
              <a:t>Econômicas da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400" spc="-1" strike="noStrike">
                <a:solidFill>
                  <a:srgbClr val="000080"/>
                </a:solidFill>
                <a:latin typeface="Arial"/>
                <a:ea typeface="Lucida Sans Unicode"/>
              </a:rPr>
              <a:t>Pessoa Física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6227640" y="4680000"/>
            <a:ext cx="2700360" cy="539640"/>
          </a:xfrm>
          <a:prstGeom prst="downArrowCallout">
            <a:avLst>
              <a:gd name="adj1" fmla="val 125112"/>
              <a:gd name="adj2" fmla="val 125100"/>
              <a:gd name="adj3" fmla="val 16667"/>
              <a:gd name="adj4" fmla="val 66667"/>
            </a:avLst>
          </a:prstGeom>
          <a:solidFill>
            <a:srgbClr val="80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Atributos específico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79280" y="4680000"/>
            <a:ext cx="2700360" cy="539640"/>
          </a:xfrm>
          <a:prstGeom prst="downArrowCallout">
            <a:avLst>
              <a:gd name="adj1" fmla="val 125112"/>
              <a:gd name="adj2" fmla="val 125100"/>
              <a:gd name="adj3" fmla="val 16667"/>
              <a:gd name="adj4" fmla="val 66667"/>
            </a:avLst>
          </a:prstGeom>
          <a:solidFill>
            <a:srgbClr val="80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Migração para o CNPJ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240000" y="1440000"/>
            <a:ext cx="2556000" cy="36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00"/>
              </a:gs>
              <a:gs pos="100000">
                <a:srgbClr val="94bd5e"/>
              </a:gs>
            </a:gsLst>
            <a:lin ang="36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Empregador doméstico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719280" y="1979640"/>
            <a:ext cx="1439640" cy="720720"/>
          </a:xfrm>
          <a:prstGeom prst="can">
            <a:avLst>
              <a:gd name="adj" fmla="val 25097"/>
            </a:avLst>
          </a:prstGeom>
          <a:solidFill>
            <a:srgbClr val="808080"/>
          </a:solidFill>
          <a:ln w="18000">
            <a:solidFill>
              <a:srgbClr val="4c4c4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4320" rIns="94320" tIns="49320" bIns="4932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CNPJ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851280" y="1944720"/>
            <a:ext cx="1368360" cy="755640"/>
          </a:xfrm>
          <a:prstGeom prst="can">
            <a:avLst>
              <a:gd name="adj" fmla="val 25000"/>
            </a:avLst>
          </a:prstGeom>
          <a:solidFill>
            <a:srgbClr val="808080"/>
          </a:solidFill>
          <a:ln w="18000">
            <a:solidFill>
              <a:srgbClr val="4c4c4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4320" rIns="94320" tIns="49320" bIns="4932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CPF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419640" y="2808360"/>
            <a:ext cx="2158920" cy="36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00"/>
              </a:gs>
              <a:gs pos="100000">
                <a:srgbClr val="94bd5e"/>
              </a:gs>
            </a:gsLst>
            <a:lin ang="36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500" spc="-1" strike="noStrike">
                <a:solidFill>
                  <a:srgbClr val="ffffff"/>
                </a:solidFill>
                <a:latin typeface="Arial"/>
              </a:rPr>
              <a:t>Equiparado à empresa</a:t>
            </a:r>
            <a:endParaRPr b="1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6840360" y="5435640"/>
            <a:ext cx="1440000" cy="1204920"/>
          </a:xfrm>
          <a:prstGeom prst="can">
            <a:avLst>
              <a:gd name="adj" fmla="val 18592"/>
            </a:avLst>
          </a:prstGeom>
          <a:solidFill>
            <a:srgbClr val="dfdfff">
              <a:alpha val="50000"/>
            </a:srgbClr>
          </a:solidFill>
          <a:ln w="18000">
            <a:solidFill>
              <a:srgbClr val="4c4c4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4320" rIns="9432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000080"/>
                </a:solidFill>
                <a:latin typeface="Arial"/>
              </a:rPr>
              <a:t>Cadastro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000080"/>
                </a:solidFill>
                <a:latin typeface="Arial"/>
              </a:rPr>
              <a:t>Naciona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000080"/>
                </a:solidFill>
                <a:latin typeface="Arial"/>
              </a:rPr>
              <a:t>de Obra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419640" y="3706920"/>
            <a:ext cx="2160360" cy="36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00"/>
              </a:gs>
              <a:gs pos="100000">
                <a:srgbClr val="94bd5e"/>
              </a:gs>
            </a:gsLst>
            <a:lin ang="36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Produtor rura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 flipH="1" flipV="1">
            <a:off x="0" y="0"/>
            <a:ext cx="9144000" cy="720720"/>
          </a:xfrm>
          <a:prstGeom prst="rect">
            <a:avLst/>
          </a:prstGeom>
          <a:gradFill rotWithShape="0">
            <a:gsLst>
              <a:gs pos="0">
                <a:srgbClr val="10253f"/>
              </a:gs>
              <a:gs pos="100000">
                <a:srgbClr val="c6d9f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1"/>
          <a:stretch/>
        </p:blipFill>
        <p:spPr>
          <a:xfrm>
            <a:off x="6659640" y="81000"/>
            <a:ext cx="2303280" cy="603360"/>
          </a:xfrm>
          <a:prstGeom prst="rect">
            <a:avLst/>
          </a:prstGeom>
          <a:ln w="0">
            <a:noFill/>
          </a:ln>
        </p:spPr>
      </p:pic>
      <p:pic>
        <p:nvPicPr>
          <p:cNvPr id="323" name="" descr=""/>
          <p:cNvPicPr/>
          <p:nvPr/>
        </p:nvPicPr>
        <p:blipFill>
          <a:blip r:embed="rId2"/>
          <a:stretch/>
        </p:blipFill>
        <p:spPr>
          <a:xfrm>
            <a:off x="87480" y="34920"/>
            <a:ext cx="1892160" cy="650880"/>
          </a:xfrm>
          <a:prstGeom prst="rect">
            <a:avLst/>
          </a:prstGeom>
          <a:ln w="0">
            <a:noFill/>
          </a:ln>
        </p:spPr>
      </p:pic>
      <p:sp>
        <p:nvSpPr>
          <p:cNvPr id="324" name=""/>
          <p:cNvSpPr/>
          <p:nvPr/>
        </p:nvSpPr>
        <p:spPr>
          <a:xfrm flipH="1" flipV="1">
            <a:off x="-37080" y="754920"/>
            <a:ext cx="9180360" cy="17640"/>
          </a:xfrm>
          <a:prstGeom prst="rect">
            <a:avLst/>
          </a:prstGeom>
          <a:gradFill rotWithShape="0">
            <a:gsLst>
              <a:gs pos="0">
                <a:srgbClr val="10253f"/>
              </a:gs>
              <a:gs pos="100000">
                <a:srgbClr val="c6d9f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-360" y="6696000"/>
            <a:ext cx="9178920" cy="155160"/>
            <a:chOff x="-360" y="6696000"/>
            <a:chExt cx="9178920" cy="155160"/>
          </a:xfrm>
        </p:grpSpPr>
        <p:sp>
          <p:nvSpPr>
            <p:cNvPr id="326" name=""/>
            <p:cNvSpPr/>
            <p:nvPr/>
          </p:nvSpPr>
          <p:spPr>
            <a:xfrm flipH="1" flipV="1">
              <a:off x="-720" y="6696000"/>
              <a:ext cx="9178920" cy="15840"/>
            </a:xfrm>
            <a:prstGeom prst="rect">
              <a:avLst/>
            </a:prstGeom>
            <a:gradFill rotWithShape="0">
              <a:gsLst>
                <a:gs pos="0">
                  <a:srgbClr val="10253f"/>
                </a:gs>
                <a:gs pos="100000">
                  <a:srgbClr val="c6d9f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-720" y="6768360"/>
              <a:ext cx="9178920" cy="82440"/>
            </a:xfrm>
            <a:prstGeom prst="rect">
              <a:avLst/>
            </a:prstGeom>
            <a:gradFill rotWithShape="0">
              <a:gsLst>
                <a:gs pos="0">
                  <a:srgbClr val="10253f"/>
                </a:gs>
                <a:gs pos="100000">
                  <a:srgbClr val="c6d9f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 flipH="1" flipV="1">
              <a:off x="-720" y="6734160"/>
              <a:ext cx="9178920" cy="15840"/>
            </a:xfrm>
            <a:prstGeom prst="rect">
              <a:avLst/>
            </a:prstGeom>
            <a:gradFill rotWithShape="0">
              <a:gsLst>
                <a:gs pos="0">
                  <a:srgbClr val="10253f"/>
                </a:gs>
                <a:gs pos="100000">
                  <a:srgbClr val="c6d9f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1619280" y="2160720"/>
            <a:ext cx="6513480" cy="35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81120" indent="-303120" algn="just">
              <a:lnSpc>
                <a:spcPct val="90000"/>
              </a:lnSpc>
              <a:spcBef>
                <a:spcPts val="950"/>
              </a:spcBef>
              <a:tabLst>
                <a:tab algn="l" pos="0"/>
                <a:tab algn="l" pos="681120"/>
                <a:tab algn="l" pos="1128600"/>
                <a:tab algn="l" pos="1577880"/>
                <a:tab algn="l" pos="2027160"/>
                <a:tab algn="l" pos="2476440"/>
                <a:tab algn="l" pos="2925720"/>
                <a:tab algn="l" pos="3375000"/>
                <a:tab algn="l" pos="3824280"/>
                <a:tab algn="l" pos="4273560"/>
                <a:tab algn="l" pos="4722840"/>
                <a:tab algn="l" pos="5172120"/>
                <a:tab algn="l" pos="5621400"/>
                <a:tab algn="l" pos="6070680"/>
                <a:tab algn="l" pos="6519960"/>
                <a:tab algn="l" pos="6969240"/>
                <a:tab algn="l" pos="7418520"/>
                <a:tab algn="l" pos="7867800"/>
                <a:tab algn="l" pos="8317080"/>
                <a:tab algn="l" pos="8766000"/>
                <a:tab algn="l" pos="9215280"/>
                <a:tab algn="l" pos="9664560"/>
                <a:tab algn="l" pos="9883800"/>
                <a:tab algn="l" pos="10333080"/>
                <a:tab algn="l" pos="1078236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681120" indent="-303120" algn="just">
              <a:lnSpc>
                <a:spcPct val="90000"/>
              </a:lnSpc>
              <a:spcBef>
                <a:spcPts val="950"/>
              </a:spcBef>
              <a:tabLst>
                <a:tab algn="l" pos="0"/>
                <a:tab algn="l" pos="681120"/>
                <a:tab algn="l" pos="1128600"/>
                <a:tab algn="l" pos="1577880"/>
                <a:tab algn="l" pos="2027160"/>
                <a:tab algn="l" pos="2476440"/>
                <a:tab algn="l" pos="2925720"/>
                <a:tab algn="l" pos="3375000"/>
                <a:tab algn="l" pos="3824280"/>
                <a:tab algn="l" pos="4273560"/>
                <a:tab algn="l" pos="4722840"/>
                <a:tab algn="l" pos="5172120"/>
                <a:tab algn="l" pos="5621400"/>
                <a:tab algn="l" pos="6070680"/>
                <a:tab algn="l" pos="6519960"/>
                <a:tab algn="l" pos="6969240"/>
                <a:tab algn="l" pos="7418520"/>
                <a:tab algn="l" pos="7867800"/>
                <a:tab algn="l" pos="8317080"/>
                <a:tab algn="l" pos="8766000"/>
                <a:tab algn="l" pos="9215280"/>
                <a:tab algn="l" pos="9664560"/>
                <a:tab algn="l" pos="9883800"/>
                <a:tab algn="l" pos="10333080"/>
                <a:tab algn="l" pos="1078236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681120" indent="-303120" algn="ctr">
              <a:lnSpc>
                <a:spcPct val="100000"/>
              </a:lnSpc>
              <a:spcBef>
                <a:spcPts val="950"/>
              </a:spcBef>
              <a:tabLst>
                <a:tab algn="l" pos="0"/>
                <a:tab algn="l" pos="681120"/>
                <a:tab algn="l" pos="1128600"/>
                <a:tab algn="l" pos="1577880"/>
                <a:tab algn="l" pos="2027160"/>
                <a:tab algn="l" pos="2476440"/>
                <a:tab algn="l" pos="2925720"/>
                <a:tab algn="l" pos="3375000"/>
                <a:tab algn="l" pos="3824280"/>
                <a:tab algn="l" pos="4273560"/>
                <a:tab algn="l" pos="4722840"/>
                <a:tab algn="l" pos="5172120"/>
                <a:tab algn="l" pos="5621400"/>
                <a:tab algn="l" pos="6070680"/>
                <a:tab algn="l" pos="6519960"/>
                <a:tab algn="l" pos="6969240"/>
                <a:tab algn="l" pos="7418520"/>
                <a:tab algn="l" pos="7867800"/>
                <a:tab algn="l" pos="8317080"/>
                <a:tab algn="l" pos="8766000"/>
                <a:tab algn="l" pos="9215280"/>
                <a:tab algn="l" pos="9664560"/>
                <a:tab algn="l" pos="9883800"/>
                <a:tab algn="l" pos="10333080"/>
                <a:tab algn="l" pos="1078236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1143000" y="3581280"/>
            <a:ext cx="5105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1447920" y="2438280"/>
            <a:ext cx="3124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144360" y="1592280"/>
            <a:ext cx="8820360" cy="4827600"/>
          </a:xfrm>
          <a:prstGeom prst="rect">
            <a:avLst/>
          </a:prstGeom>
          <a:ln w="18000">
            <a:solidFill>
              <a:srgbClr val="808080"/>
            </a:solidFill>
            <a:round/>
          </a:ln>
        </p:spPr>
      </p:pic>
      <p:sp>
        <p:nvSpPr>
          <p:cNvPr id="333" name=""/>
          <p:cNvSpPr/>
          <p:nvPr/>
        </p:nvSpPr>
        <p:spPr>
          <a:xfrm>
            <a:off x="0" y="990720"/>
            <a:ext cx="19810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3200" spc="-1" strike="noStrike">
                <a:solidFill>
                  <a:srgbClr val="280099"/>
                </a:solidFill>
                <a:latin typeface="Arial"/>
              </a:rPr>
              <a:t>EAP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 flipV="1">
            <a:off x="0" y="0"/>
            <a:ext cx="9144000" cy="720720"/>
          </a:xfrm>
          <a:prstGeom prst="rect">
            <a:avLst/>
          </a:prstGeom>
          <a:gradFill rotWithShape="0">
            <a:gsLst>
              <a:gs pos="0">
                <a:srgbClr val="10253f"/>
              </a:gs>
              <a:gs pos="100000">
                <a:srgbClr val="c6d9f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2"/>
          <a:stretch/>
        </p:blipFill>
        <p:spPr>
          <a:xfrm>
            <a:off x="6659640" y="81000"/>
            <a:ext cx="2303280" cy="603360"/>
          </a:xfrm>
          <a:prstGeom prst="rect">
            <a:avLst/>
          </a:prstGeom>
          <a:ln w="0">
            <a:noFill/>
          </a:ln>
        </p:spPr>
      </p:pic>
      <p:pic>
        <p:nvPicPr>
          <p:cNvPr id="336" name="" descr=""/>
          <p:cNvPicPr/>
          <p:nvPr/>
        </p:nvPicPr>
        <p:blipFill>
          <a:blip r:embed="rId3"/>
          <a:stretch/>
        </p:blipFill>
        <p:spPr>
          <a:xfrm>
            <a:off x="87480" y="34920"/>
            <a:ext cx="1892160" cy="650880"/>
          </a:xfrm>
          <a:prstGeom prst="rect">
            <a:avLst/>
          </a:prstGeom>
          <a:ln w="0">
            <a:noFill/>
          </a:ln>
        </p:spPr>
      </p:pic>
      <p:sp>
        <p:nvSpPr>
          <p:cNvPr id="337" name=""/>
          <p:cNvSpPr/>
          <p:nvPr/>
        </p:nvSpPr>
        <p:spPr>
          <a:xfrm flipH="1" flipV="1">
            <a:off x="-37080" y="754920"/>
            <a:ext cx="9180360" cy="17640"/>
          </a:xfrm>
          <a:prstGeom prst="rect">
            <a:avLst/>
          </a:prstGeom>
          <a:gradFill rotWithShape="0">
            <a:gsLst>
              <a:gs pos="0">
                <a:srgbClr val="10253f"/>
              </a:gs>
              <a:gs pos="100000">
                <a:srgbClr val="c6d9f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8" name=""/>
          <p:cNvGrpSpPr/>
          <p:nvPr/>
        </p:nvGrpSpPr>
        <p:grpSpPr>
          <a:xfrm>
            <a:off x="-360" y="6696000"/>
            <a:ext cx="9178920" cy="155160"/>
            <a:chOff x="-360" y="6696000"/>
            <a:chExt cx="9178920" cy="155160"/>
          </a:xfrm>
        </p:grpSpPr>
        <p:sp>
          <p:nvSpPr>
            <p:cNvPr id="339" name=""/>
            <p:cNvSpPr/>
            <p:nvPr/>
          </p:nvSpPr>
          <p:spPr>
            <a:xfrm flipH="1" flipV="1">
              <a:off x="-720" y="6696000"/>
              <a:ext cx="9178920" cy="15840"/>
            </a:xfrm>
            <a:prstGeom prst="rect">
              <a:avLst/>
            </a:prstGeom>
            <a:gradFill rotWithShape="0">
              <a:gsLst>
                <a:gs pos="0">
                  <a:srgbClr val="10253f"/>
                </a:gs>
                <a:gs pos="100000">
                  <a:srgbClr val="c6d9f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 flipH="1" flipV="1">
              <a:off x="-720" y="6768360"/>
              <a:ext cx="9178920" cy="82440"/>
            </a:xfrm>
            <a:prstGeom prst="rect">
              <a:avLst/>
            </a:prstGeom>
            <a:gradFill rotWithShape="0">
              <a:gsLst>
                <a:gs pos="0">
                  <a:srgbClr val="10253f"/>
                </a:gs>
                <a:gs pos="100000">
                  <a:srgbClr val="c6d9f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 flipH="1" flipV="1">
              <a:off x="-720" y="6734160"/>
              <a:ext cx="9178920" cy="15840"/>
            </a:xfrm>
            <a:prstGeom prst="rect">
              <a:avLst/>
            </a:prstGeom>
            <a:gradFill rotWithShape="0">
              <a:gsLst>
                <a:gs pos="0">
                  <a:srgbClr val="10253f"/>
                </a:gs>
                <a:gs pos="100000">
                  <a:srgbClr val="c6d9f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/>
          <p:nvPr/>
        </p:nvSpPr>
        <p:spPr>
          <a:xfrm>
            <a:off x="1619280" y="2160720"/>
            <a:ext cx="6513480" cy="35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81120" indent="-303120" algn="just">
              <a:lnSpc>
                <a:spcPct val="90000"/>
              </a:lnSpc>
              <a:spcBef>
                <a:spcPts val="950"/>
              </a:spcBef>
              <a:tabLst>
                <a:tab algn="l" pos="0"/>
                <a:tab algn="l" pos="681120"/>
                <a:tab algn="l" pos="1128600"/>
                <a:tab algn="l" pos="1577880"/>
                <a:tab algn="l" pos="2027160"/>
                <a:tab algn="l" pos="2476440"/>
                <a:tab algn="l" pos="2925720"/>
                <a:tab algn="l" pos="3375000"/>
                <a:tab algn="l" pos="3824280"/>
                <a:tab algn="l" pos="4273560"/>
                <a:tab algn="l" pos="4722840"/>
                <a:tab algn="l" pos="5172120"/>
                <a:tab algn="l" pos="5621400"/>
                <a:tab algn="l" pos="6070680"/>
                <a:tab algn="l" pos="6519960"/>
                <a:tab algn="l" pos="6969240"/>
                <a:tab algn="l" pos="7418520"/>
                <a:tab algn="l" pos="7867800"/>
                <a:tab algn="l" pos="8317080"/>
                <a:tab algn="l" pos="8766000"/>
                <a:tab algn="l" pos="9215280"/>
                <a:tab algn="l" pos="9664560"/>
                <a:tab algn="l" pos="9883800"/>
                <a:tab algn="l" pos="10333080"/>
                <a:tab algn="l" pos="1078236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681120" indent="-303120" algn="just">
              <a:lnSpc>
                <a:spcPct val="90000"/>
              </a:lnSpc>
              <a:spcBef>
                <a:spcPts val="950"/>
              </a:spcBef>
              <a:tabLst>
                <a:tab algn="l" pos="0"/>
                <a:tab algn="l" pos="681120"/>
                <a:tab algn="l" pos="1128600"/>
                <a:tab algn="l" pos="1577880"/>
                <a:tab algn="l" pos="2027160"/>
                <a:tab algn="l" pos="2476440"/>
                <a:tab algn="l" pos="2925720"/>
                <a:tab algn="l" pos="3375000"/>
                <a:tab algn="l" pos="3824280"/>
                <a:tab algn="l" pos="4273560"/>
                <a:tab algn="l" pos="4722840"/>
                <a:tab algn="l" pos="5172120"/>
                <a:tab algn="l" pos="5621400"/>
                <a:tab algn="l" pos="6070680"/>
                <a:tab algn="l" pos="6519960"/>
                <a:tab algn="l" pos="6969240"/>
                <a:tab algn="l" pos="7418520"/>
                <a:tab algn="l" pos="7867800"/>
                <a:tab algn="l" pos="8317080"/>
                <a:tab algn="l" pos="8766000"/>
                <a:tab algn="l" pos="9215280"/>
                <a:tab algn="l" pos="9664560"/>
                <a:tab algn="l" pos="9883800"/>
                <a:tab algn="l" pos="10333080"/>
                <a:tab algn="l" pos="1078236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681120" indent="-303120" algn="ctr">
              <a:lnSpc>
                <a:spcPct val="100000"/>
              </a:lnSpc>
              <a:spcBef>
                <a:spcPts val="950"/>
              </a:spcBef>
              <a:tabLst>
                <a:tab algn="l" pos="0"/>
                <a:tab algn="l" pos="681120"/>
                <a:tab algn="l" pos="1128600"/>
                <a:tab algn="l" pos="1577880"/>
                <a:tab algn="l" pos="2027160"/>
                <a:tab algn="l" pos="2476440"/>
                <a:tab algn="l" pos="2925720"/>
                <a:tab algn="l" pos="3375000"/>
                <a:tab algn="l" pos="3824280"/>
                <a:tab algn="l" pos="4273560"/>
                <a:tab algn="l" pos="4722840"/>
                <a:tab algn="l" pos="5172120"/>
                <a:tab algn="l" pos="5621400"/>
                <a:tab algn="l" pos="6070680"/>
                <a:tab algn="l" pos="6519960"/>
                <a:tab algn="l" pos="6969240"/>
                <a:tab algn="l" pos="7418520"/>
                <a:tab algn="l" pos="7867800"/>
                <a:tab algn="l" pos="8317080"/>
                <a:tab algn="l" pos="8766000"/>
                <a:tab algn="l" pos="9215280"/>
                <a:tab algn="l" pos="9664560"/>
                <a:tab algn="l" pos="9883800"/>
                <a:tab algn="l" pos="10333080"/>
                <a:tab algn="l" pos="1078236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1143000" y="3581280"/>
            <a:ext cx="5105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1447920" y="2438280"/>
            <a:ext cx="3124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762120" y="2987640"/>
            <a:ext cx="1938240" cy="1944720"/>
          </a:xfrm>
          <a:prstGeom prst="can">
            <a:avLst>
              <a:gd name="adj" fmla="val 23356"/>
            </a:avLst>
          </a:prstGeom>
          <a:gradFill rotWithShape="0">
            <a:gsLst>
              <a:gs pos="0">
                <a:srgbClr val="808080"/>
              </a:gs>
              <a:gs pos="100000">
                <a:srgbClr val="e6e6e6"/>
              </a:gs>
            </a:gsLst>
            <a:lin ang="3600000"/>
          </a:gradFill>
          <a:ln w="18000">
            <a:solidFill>
              <a:srgbClr val="4c4c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28800" bIns="28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Cadastro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de Atividades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Econômicas da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Pessoa Física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(CAEPF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6300720" y="3024360"/>
            <a:ext cx="1979640" cy="1904760"/>
          </a:xfrm>
          <a:prstGeom prst="can">
            <a:avLst>
              <a:gd name="adj" fmla="val 23356"/>
            </a:avLst>
          </a:prstGeom>
          <a:gradFill rotWithShape="0">
            <a:gsLst>
              <a:gs pos="0">
                <a:srgbClr val="808080"/>
              </a:gs>
              <a:gs pos="100000">
                <a:srgbClr val="e6e6e6"/>
              </a:gs>
            </a:gsLst>
            <a:lin ang="3600000"/>
          </a:gradFill>
          <a:ln w="18000">
            <a:solidFill>
              <a:srgbClr val="4c4c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28800" bIns="28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Cadastro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Nacional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de Obra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(CNO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0" y="914400"/>
            <a:ext cx="3959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900" spc="-1" strike="noStrike">
                <a:solidFill>
                  <a:srgbClr val="280099"/>
                </a:solidFill>
                <a:latin typeface="Arial"/>
              </a:rPr>
              <a:t>Principais Produtos</a:t>
            </a:r>
            <a:endParaRPr b="1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3959280" y="3527280"/>
            <a:ext cx="1079280" cy="1079640"/>
          </a:xfrm>
          <a:custGeom>
            <a:avLst/>
            <a:gdLst>
              <a:gd name="textAreaLeft" fmla="*/ 444600 w 1079280"/>
              <a:gd name="textAreaRight" fmla="*/ 634680 w 1079280"/>
              <a:gd name="textAreaTop" fmla="*/ 444960 h 1079640"/>
              <a:gd name="textAreaBottom" fmla="*/ 634680 h 1079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c5000b">
              <a:alpha val="75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968560" y="1779480"/>
            <a:ext cx="3041640" cy="1300320"/>
          </a:xfrm>
          <a:prstGeom prst="roundRect">
            <a:avLst>
              <a:gd name="adj" fmla="val 18014"/>
            </a:avLst>
          </a:prstGeom>
          <a:gradFill rotWithShape="0">
            <a:gsLst>
              <a:gs pos="0">
                <a:srgbClr val="808080"/>
              </a:gs>
              <a:gs pos="100000">
                <a:srgbClr val="e6e6e6"/>
              </a:gs>
            </a:gsLst>
            <a:lin ang="3600000"/>
          </a:gradFill>
          <a:ln w="18000">
            <a:solidFill>
              <a:srgbClr val="4c4c4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9000" rIns="99000" tIns="54000" bIns="54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Inclusão da “data do primeiro vínculo” no CNPJ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3011400" y="5040360"/>
            <a:ext cx="3000600" cy="1260360"/>
          </a:xfrm>
          <a:prstGeom prst="roundRect">
            <a:avLst>
              <a:gd name="adj" fmla="val 18014"/>
            </a:avLst>
          </a:prstGeom>
          <a:gradFill rotWithShape="0">
            <a:gsLst>
              <a:gs pos="0">
                <a:srgbClr val="808080"/>
              </a:gs>
              <a:gs pos="100000">
                <a:srgbClr val="e6e6e6"/>
              </a:gs>
            </a:gsLst>
            <a:lin ang="3600000"/>
          </a:gradFill>
          <a:ln w="18000">
            <a:solidFill>
              <a:srgbClr val="4c4c4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9000" rIns="99000" tIns="54000" bIns="54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Migração do consórcio simplificado de produtores rurais para o CNPJ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-360" y="6696000"/>
            <a:ext cx="9178920" cy="155160"/>
            <a:chOff x="-360" y="6696000"/>
            <a:chExt cx="9178920" cy="155160"/>
          </a:xfrm>
        </p:grpSpPr>
        <p:sp>
          <p:nvSpPr>
            <p:cNvPr id="352" name=""/>
            <p:cNvSpPr/>
            <p:nvPr/>
          </p:nvSpPr>
          <p:spPr>
            <a:xfrm flipH="1" flipV="1">
              <a:off x="-720" y="6696000"/>
              <a:ext cx="9178920" cy="15840"/>
            </a:xfrm>
            <a:prstGeom prst="rect">
              <a:avLst/>
            </a:prstGeom>
            <a:gradFill rotWithShape="0">
              <a:gsLst>
                <a:gs pos="0">
                  <a:srgbClr val="10253f"/>
                </a:gs>
                <a:gs pos="100000">
                  <a:srgbClr val="c6d9f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 flipH="1" flipV="1">
              <a:off x="-720" y="6768360"/>
              <a:ext cx="9178920" cy="82440"/>
            </a:xfrm>
            <a:prstGeom prst="rect">
              <a:avLst/>
            </a:prstGeom>
            <a:gradFill rotWithShape="0">
              <a:gsLst>
                <a:gs pos="0">
                  <a:srgbClr val="10253f"/>
                </a:gs>
                <a:gs pos="100000">
                  <a:srgbClr val="c6d9f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 flipH="1" flipV="1">
              <a:off x="-720" y="6734160"/>
              <a:ext cx="9178920" cy="15840"/>
            </a:xfrm>
            <a:prstGeom prst="rect">
              <a:avLst/>
            </a:prstGeom>
            <a:gradFill rotWithShape="0">
              <a:gsLst>
                <a:gs pos="0">
                  <a:srgbClr val="10253f"/>
                </a:gs>
                <a:gs pos="100000">
                  <a:srgbClr val="c6d9f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5" name=""/>
          <p:cNvSpPr/>
          <p:nvPr/>
        </p:nvSpPr>
        <p:spPr>
          <a:xfrm flipH="1" flipV="1">
            <a:off x="0" y="1440"/>
            <a:ext cx="9144000" cy="720720"/>
          </a:xfrm>
          <a:prstGeom prst="rect">
            <a:avLst/>
          </a:prstGeom>
          <a:gradFill rotWithShape="0">
            <a:gsLst>
              <a:gs pos="0">
                <a:srgbClr val="10253f"/>
              </a:gs>
              <a:gs pos="100000">
                <a:srgbClr val="c6d9f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1"/>
          <a:stretch/>
        </p:blipFill>
        <p:spPr>
          <a:xfrm>
            <a:off x="6659640" y="82440"/>
            <a:ext cx="2303280" cy="603360"/>
          </a:xfrm>
          <a:prstGeom prst="rect">
            <a:avLst/>
          </a:prstGeom>
          <a:ln w="0">
            <a:noFill/>
          </a:ln>
        </p:spPr>
      </p:pic>
      <p:pic>
        <p:nvPicPr>
          <p:cNvPr id="357" name="" descr=""/>
          <p:cNvPicPr/>
          <p:nvPr/>
        </p:nvPicPr>
        <p:blipFill>
          <a:blip r:embed="rId2"/>
          <a:stretch/>
        </p:blipFill>
        <p:spPr>
          <a:xfrm>
            <a:off x="87480" y="34920"/>
            <a:ext cx="1892160" cy="650880"/>
          </a:xfrm>
          <a:prstGeom prst="rect">
            <a:avLst/>
          </a:prstGeom>
          <a:ln w="0">
            <a:noFill/>
          </a:ln>
        </p:spPr>
      </p:pic>
      <p:sp>
        <p:nvSpPr>
          <p:cNvPr id="358" name=""/>
          <p:cNvSpPr/>
          <p:nvPr/>
        </p:nvSpPr>
        <p:spPr>
          <a:xfrm flipH="1" flipV="1">
            <a:off x="-37080" y="754920"/>
            <a:ext cx="9180360" cy="17640"/>
          </a:xfrm>
          <a:prstGeom prst="rect">
            <a:avLst/>
          </a:prstGeom>
          <a:gradFill rotWithShape="0">
            <a:gsLst>
              <a:gs pos="0">
                <a:srgbClr val="10253f"/>
              </a:gs>
              <a:gs pos="100000">
                <a:srgbClr val="c6d9f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dur="indefinite" fill="hold">
                      <p:stCondLst>
                        <p:cond delay="0"/>
                      </p:stCondLst>
                      <p:childTnLst>
                        <p:par>
                          <p:cTn id="4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51" dur="2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/>
          <p:nvPr/>
        </p:nvSpPr>
        <p:spPr>
          <a:xfrm>
            <a:off x="1619280" y="2160720"/>
            <a:ext cx="6513480" cy="35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81120" indent="-303120" algn="just">
              <a:lnSpc>
                <a:spcPct val="90000"/>
              </a:lnSpc>
              <a:spcBef>
                <a:spcPts val="950"/>
              </a:spcBef>
              <a:tabLst>
                <a:tab algn="l" pos="0"/>
                <a:tab algn="l" pos="681120"/>
                <a:tab algn="l" pos="1128600"/>
                <a:tab algn="l" pos="1577880"/>
                <a:tab algn="l" pos="2027160"/>
                <a:tab algn="l" pos="2476440"/>
                <a:tab algn="l" pos="2925720"/>
                <a:tab algn="l" pos="3375000"/>
                <a:tab algn="l" pos="3824280"/>
                <a:tab algn="l" pos="4273560"/>
                <a:tab algn="l" pos="4722840"/>
                <a:tab algn="l" pos="5172120"/>
                <a:tab algn="l" pos="5621400"/>
                <a:tab algn="l" pos="6070680"/>
                <a:tab algn="l" pos="6519960"/>
                <a:tab algn="l" pos="6969240"/>
                <a:tab algn="l" pos="7418520"/>
                <a:tab algn="l" pos="7867800"/>
                <a:tab algn="l" pos="8317080"/>
                <a:tab algn="l" pos="8766000"/>
                <a:tab algn="l" pos="9215280"/>
                <a:tab algn="l" pos="9664560"/>
                <a:tab algn="l" pos="9883800"/>
                <a:tab algn="l" pos="10333080"/>
                <a:tab algn="l" pos="1078236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681120" indent="-303120" algn="just">
              <a:lnSpc>
                <a:spcPct val="90000"/>
              </a:lnSpc>
              <a:spcBef>
                <a:spcPts val="950"/>
              </a:spcBef>
              <a:tabLst>
                <a:tab algn="l" pos="0"/>
                <a:tab algn="l" pos="681120"/>
                <a:tab algn="l" pos="1128600"/>
                <a:tab algn="l" pos="1577880"/>
                <a:tab algn="l" pos="2027160"/>
                <a:tab algn="l" pos="2476440"/>
                <a:tab algn="l" pos="2925720"/>
                <a:tab algn="l" pos="3375000"/>
                <a:tab algn="l" pos="3824280"/>
                <a:tab algn="l" pos="4273560"/>
                <a:tab algn="l" pos="4722840"/>
                <a:tab algn="l" pos="5172120"/>
                <a:tab algn="l" pos="5621400"/>
                <a:tab algn="l" pos="6070680"/>
                <a:tab algn="l" pos="6519960"/>
                <a:tab algn="l" pos="6969240"/>
                <a:tab algn="l" pos="7418520"/>
                <a:tab algn="l" pos="7867800"/>
                <a:tab algn="l" pos="8317080"/>
                <a:tab algn="l" pos="8766000"/>
                <a:tab algn="l" pos="9215280"/>
                <a:tab algn="l" pos="9664560"/>
                <a:tab algn="l" pos="9883800"/>
                <a:tab algn="l" pos="10333080"/>
                <a:tab algn="l" pos="1078236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681120" indent="-303120" algn="ctr">
              <a:lnSpc>
                <a:spcPct val="100000"/>
              </a:lnSpc>
              <a:spcBef>
                <a:spcPts val="950"/>
              </a:spcBef>
              <a:tabLst>
                <a:tab algn="l" pos="0"/>
                <a:tab algn="l" pos="681120"/>
                <a:tab algn="l" pos="1128600"/>
                <a:tab algn="l" pos="1577880"/>
                <a:tab algn="l" pos="2027160"/>
                <a:tab algn="l" pos="2476440"/>
                <a:tab algn="l" pos="2925720"/>
                <a:tab algn="l" pos="3375000"/>
                <a:tab algn="l" pos="3824280"/>
                <a:tab algn="l" pos="4273560"/>
                <a:tab algn="l" pos="4722840"/>
                <a:tab algn="l" pos="5172120"/>
                <a:tab algn="l" pos="5621400"/>
                <a:tab algn="l" pos="6070680"/>
                <a:tab algn="l" pos="6519960"/>
                <a:tab algn="l" pos="6969240"/>
                <a:tab algn="l" pos="7418520"/>
                <a:tab algn="l" pos="7867800"/>
                <a:tab algn="l" pos="8317080"/>
                <a:tab algn="l" pos="8766000"/>
                <a:tab algn="l" pos="9215280"/>
                <a:tab algn="l" pos="9664560"/>
                <a:tab algn="l" pos="9883800"/>
                <a:tab algn="l" pos="10333080"/>
                <a:tab algn="l" pos="1078236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179280" y="1979640"/>
            <a:ext cx="8820360" cy="487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956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75880"/>
                <a:tab algn="l" pos="9425160"/>
                <a:tab algn="l" pos="9874080"/>
                <a:tab algn="l" pos="10323360"/>
                <a:tab algn="l" pos="10779120"/>
                <a:tab algn="l" pos="10780560"/>
                <a:tab algn="l" pos="1078236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3960" indent="-266760">
              <a:lnSpc>
                <a:spcPct val="100000"/>
              </a:lnSpc>
              <a:buClr>
                <a:srgbClr val="800000"/>
              </a:buClr>
              <a:buFont typeface="Wingdings" charset="2"/>
              <a:buChar char=""/>
              <a:tabLst>
                <a:tab algn="l" pos="0"/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956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75880"/>
                <a:tab algn="l" pos="9425160"/>
                <a:tab algn="l" pos="9874080"/>
                <a:tab algn="l" pos="10323360"/>
                <a:tab algn="l" pos="10779120"/>
                <a:tab algn="l" pos="10780560"/>
                <a:tab algn="l" pos="10782360"/>
              </a:tabLst>
            </a:pPr>
            <a:r>
              <a:rPr b="1" lang="pt-BR" sz="2400" spc="-1" strike="noStrike">
                <a:solidFill>
                  <a:srgbClr val="000080"/>
                </a:solidFill>
                <a:latin typeface="Calibri"/>
                <a:ea typeface="Arial"/>
              </a:rPr>
              <a:t> </a:t>
            </a:r>
            <a:r>
              <a:rPr b="1" lang="pt-BR" sz="2400" spc="-1" strike="noStrike">
                <a:solidFill>
                  <a:srgbClr val="000080"/>
                </a:solidFill>
                <a:latin typeface="Arial"/>
                <a:ea typeface="Arial"/>
              </a:rPr>
              <a:t>Criação de uma base de dados vinculada ao CPF, no SERPRO, na qual o sujeito passivo, pessoa física, será identificado em suas diversas atividades;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956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75880"/>
                <a:tab algn="l" pos="9425160"/>
                <a:tab algn="l" pos="9874080"/>
                <a:tab algn="l" pos="10323360"/>
                <a:tab algn="l" pos="10779120"/>
                <a:tab algn="l" pos="10780560"/>
                <a:tab algn="l" pos="1078236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3960" indent="-266760">
              <a:lnSpc>
                <a:spcPct val="150000"/>
              </a:lnSpc>
              <a:buClr>
                <a:srgbClr val="800000"/>
              </a:buClr>
              <a:buFont typeface="Wingdings" charset="2"/>
              <a:buChar char=""/>
              <a:tabLst>
                <a:tab algn="l" pos="0"/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956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75880"/>
                <a:tab algn="l" pos="9425160"/>
                <a:tab algn="l" pos="9874080"/>
                <a:tab algn="l" pos="10323360"/>
                <a:tab algn="l" pos="10779120"/>
                <a:tab algn="l" pos="10780560"/>
                <a:tab algn="l" pos="10782360"/>
              </a:tabLst>
            </a:pPr>
            <a:r>
              <a:rPr b="1" lang="pt-BR" sz="2400" spc="-1" strike="noStrike">
                <a:solidFill>
                  <a:srgbClr val="000080"/>
                </a:solidFill>
                <a:latin typeface="Arial"/>
                <a:ea typeface="Arial"/>
              </a:rPr>
              <a:t> </a:t>
            </a:r>
            <a:r>
              <a:rPr b="1" lang="pt-BR" sz="2400" spc="-1" strike="noStrike">
                <a:solidFill>
                  <a:srgbClr val="000080"/>
                </a:solidFill>
                <a:latin typeface="Arial"/>
                <a:ea typeface="Arial"/>
              </a:rPr>
              <a:t>Haverá identificação do contribuinte pessoa física como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buSzPct val="100000"/>
              <a:buBlip>
                <a:blip r:embed="rId1"/>
              </a:buBlip>
              <a:tabLst>
                <a:tab algn="l" pos="0"/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956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75880"/>
                <a:tab algn="l" pos="9425160"/>
                <a:tab algn="l" pos="9874080"/>
                <a:tab algn="l" pos="10323360"/>
                <a:tab algn="l" pos="10779120"/>
                <a:tab algn="l" pos="10780560"/>
                <a:tab algn="l" pos="10782360"/>
              </a:tabLst>
            </a:pPr>
            <a:r>
              <a:rPr b="1" lang="pt-BR" sz="2400" spc="-1" strike="noStrike">
                <a:solidFill>
                  <a:srgbClr val="000080"/>
                </a:solidFill>
                <a:latin typeface="Arial"/>
                <a:ea typeface="Arial"/>
              </a:rPr>
              <a:t>contribuinte individual;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buSzPct val="100000"/>
              <a:buBlip>
                <a:blip r:embed="rId2"/>
              </a:buBlip>
              <a:tabLst>
                <a:tab algn="l" pos="0"/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956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75880"/>
                <a:tab algn="l" pos="9425160"/>
                <a:tab algn="l" pos="9874080"/>
                <a:tab algn="l" pos="10323360"/>
                <a:tab algn="l" pos="10779120"/>
                <a:tab algn="l" pos="10780560"/>
                <a:tab algn="l" pos="10782360"/>
              </a:tabLst>
            </a:pPr>
            <a:r>
              <a:rPr b="1" lang="pt-BR" sz="2400" spc="-1" strike="noStrike">
                <a:solidFill>
                  <a:srgbClr val="000080"/>
                </a:solidFill>
                <a:latin typeface="Arial"/>
                <a:ea typeface="Arial"/>
              </a:rPr>
              <a:t>produtor rural;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buSzPct val="100000"/>
              <a:buBlip>
                <a:blip r:embed="rId3"/>
              </a:buBlip>
              <a:tabLst>
                <a:tab algn="l" pos="0"/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956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75880"/>
                <a:tab algn="l" pos="9425160"/>
                <a:tab algn="l" pos="9874080"/>
                <a:tab algn="l" pos="10323360"/>
                <a:tab algn="l" pos="10779120"/>
                <a:tab algn="l" pos="10780560"/>
                <a:tab algn="l" pos="10782360"/>
              </a:tabLst>
            </a:pPr>
            <a:r>
              <a:rPr b="1" lang="pt-BR" sz="2400" spc="-1" strike="noStrike">
                <a:solidFill>
                  <a:srgbClr val="000080"/>
                </a:solidFill>
                <a:latin typeface="Arial"/>
                <a:ea typeface="Arial"/>
              </a:rPr>
              <a:t>segurado especial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956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75880"/>
                <a:tab algn="l" pos="9425160"/>
                <a:tab algn="l" pos="9874080"/>
                <a:tab algn="l" pos="10323360"/>
                <a:tab algn="l" pos="10779120"/>
                <a:tab algn="l" pos="10780560"/>
                <a:tab algn="l" pos="1078236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1143000" y="3581280"/>
            <a:ext cx="5105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1447920" y="2438280"/>
            <a:ext cx="3124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1260360" y="1224000"/>
            <a:ext cx="687564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800" spc="-1" strike="noStrike">
                <a:solidFill>
                  <a:srgbClr val="280099"/>
                </a:solidFill>
                <a:latin typeface="Arial"/>
              </a:rPr>
              <a:t>Cadastro de Atividades Econômicas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800" spc="-1" strike="noStrike">
                <a:solidFill>
                  <a:srgbClr val="280099"/>
                </a:solidFill>
                <a:latin typeface="Arial"/>
              </a:rPr>
              <a:t>da Pessoa Física - CAEPF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-609480" y="5638680"/>
            <a:ext cx="8458200" cy="1447920"/>
          </a:xfrm>
          <a:prstGeom prst="flowChartInputOutpu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57200" y="2133720"/>
            <a:ext cx="1752480" cy="685800"/>
          </a:xfrm>
          <a:custGeom>
            <a:avLst/>
            <a:gdLst>
              <a:gd name="textAreaLeft" fmla="*/ 0 w 1752480"/>
              <a:gd name="textAreaRight" fmla="*/ 1752840 w 1752480"/>
              <a:gd name="textAreaTop" fmla="*/ 0 h 685800"/>
              <a:gd name="textAreaBottom" fmla="*/ 686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 flipH="1" flipV="1">
            <a:off x="0" y="1440"/>
            <a:ext cx="9144000" cy="720720"/>
          </a:xfrm>
          <a:prstGeom prst="rect">
            <a:avLst/>
          </a:prstGeom>
          <a:gradFill rotWithShape="0">
            <a:gsLst>
              <a:gs pos="0">
                <a:srgbClr val="10253f"/>
              </a:gs>
              <a:gs pos="100000">
                <a:srgbClr val="c6d9f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4"/>
          <a:stretch/>
        </p:blipFill>
        <p:spPr>
          <a:xfrm>
            <a:off x="6659640" y="82440"/>
            <a:ext cx="2303280" cy="603360"/>
          </a:xfrm>
          <a:prstGeom prst="rect">
            <a:avLst/>
          </a:prstGeom>
          <a:ln w="0">
            <a:noFill/>
          </a:ln>
        </p:spPr>
      </p:pic>
      <p:pic>
        <p:nvPicPr>
          <p:cNvPr id="368" name="" descr=""/>
          <p:cNvPicPr/>
          <p:nvPr/>
        </p:nvPicPr>
        <p:blipFill>
          <a:blip r:embed="rId5"/>
          <a:stretch/>
        </p:blipFill>
        <p:spPr>
          <a:xfrm>
            <a:off x="87480" y="34920"/>
            <a:ext cx="1892160" cy="650880"/>
          </a:xfrm>
          <a:prstGeom prst="rect">
            <a:avLst/>
          </a:prstGeom>
          <a:ln w="0">
            <a:noFill/>
          </a:ln>
        </p:spPr>
      </p:pic>
      <p:sp>
        <p:nvSpPr>
          <p:cNvPr id="369" name=""/>
          <p:cNvSpPr/>
          <p:nvPr/>
        </p:nvSpPr>
        <p:spPr>
          <a:xfrm flipH="1" flipV="1">
            <a:off x="-37080" y="754920"/>
            <a:ext cx="9180360" cy="17640"/>
          </a:xfrm>
          <a:prstGeom prst="rect">
            <a:avLst/>
          </a:prstGeom>
          <a:gradFill rotWithShape="0">
            <a:gsLst>
              <a:gs pos="0">
                <a:srgbClr val="10253f"/>
              </a:gs>
              <a:gs pos="100000">
                <a:srgbClr val="c6d9f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0" name=""/>
          <p:cNvGrpSpPr/>
          <p:nvPr/>
        </p:nvGrpSpPr>
        <p:grpSpPr>
          <a:xfrm>
            <a:off x="-360" y="6697800"/>
            <a:ext cx="9178920" cy="153360"/>
            <a:chOff x="-360" y="6697800"/>
            <a:chExt cx="9178920" cy="153360"/>
          </a:xfrm>
        </p:grpSpPr>
        <p:sp>
          <p:nvSpPr>
            <p:cNvPr id="371" name=""/>
            <p:cNvSpPr/>
            <p:nvPr/>
          </p:nvSpPr>
          <p:spPr>
            <a:xfrm flipH="1" flipV="1">
              <a:off x="-720" y="6697800"/>
              <a:ext cx="9178920" cy="15840"/>
            </a:xfrm>
            <a:prstGeom prst="rect">
              <a:avLst/>
            </a:prstGeom>
            <a:gradFill rotWithShape="0">
              <a:gsLst>
                <a:gs pos="0">
                  <a:srgbClr val="10253f"/>
                </a:gs>
                <a:gs pos="100000">
                  <a:srgbClr val="c6d9f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 flipV="1">
              <a:off x="-720" y="6768360"/>
              <a:ext cx="9178920" cy="82440"/>
            </a:xfrm>
            <a:prstGeom prst="rect">
              <a:avLst/>
            </a:prstGeom>
            <a:gradFill rotWithShape="0">
              <a:gsLst>
                <a:gs pos="0">
                  <a:srgbClr val="10253f"/>
                </a:gs>
                <a:gs pos="100000">
                  <a:srgbClr val="c6d9f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 flipH="1" flipV="1">
              <a:off x="-720" y="6734160"/>
              <a:ext cx="9178920" cy="15840"/>
            </a:xfrm>
            <a:prstGeom prst="rect">
              <a:avLst/>
            </a:prstGeom>
            <a:gradFill rotWithShape="0">
              <a:gsLst>
                <a:gs pos="0">
                  <a:srgbClr val="10253f"/>
                </a:gs>
                <a:gs pos="100000">
                  <a:srgbClr val="c6d9f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/>
          <p:nvPr/>
        </p:nvSpPr>
        <p:spPr>
          <a:xfrm>
            <a:off x="1619280" y="2160720"/>
            <a:ext cx="6513480" cy="35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81120" indent="-303120" algn="just">
              <a:lnSpc>
                <a:spcPct val="90000"/>
              </a:lnSpc>
              <a:spcBef>
                <a:spcPts val="950"/>
              </a:spcBef>
              <a:tabLst>
                <a:tab algn="l" pos="0"/>
                <a:tab algn="l" pos="681120"/>
                <a:tab algn="l" pos="1128600"/>
                <a:tab algn="l" pos="1577880"/>
                <a:tab algn="l" pos="2027160"/>
                <a:tab algn="l" pos="2476440"/>
                <a:tab algn="l" pos="2925720"/>
                <a:tab algn="l" pos="3375000"/>
                <a:tab algn="l" pos="3824280"/>
                <a:tab algn="l" pos="4273560"/>
                <a:tab algn="l" pos="4722840"/>
                <a:tab algn="l" pos="5172120"/>
                <a:tab algn="l" pos="5621400"/>
                <a:tab algn="l" pos="6070680"/>
                <a:tab algn="l" pos="6519960"/>
                <a:tab algn="l" pos="6969240"/>
                <a:tab algn="l" pos="7418520"/>
                <a:tab algn="l" pos="7867800"/>
                <a:tab algn="l" pos="8317080"/>
                <a:tab algn="l" pos="8766000"/>
                <a:tab algn="l" pos="9215280"/>
                <a:tab algn="l" pos="9664560"/>
                <a:tab algn="l" pos="9883800"/>
                <a:tab algn="l" pos="10333080"/>
                <a:tab algn="l" pos="1078236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681120" indent="-303120" algn="just">
              <a:lnSpc>
                <a:spcPct val="90000"/>
              </a:lnSpc>
              <a:spcBef>
                <a:spcPts val="950"/>
              </a:spcBef>
              <a:tabLst>
                <a:tab algn="l" pos="0"/>
                <a:tab algn="l" pos="681120"/>
                <a:tab algn="l" pos="1128600"/>
                <a:tab algn="l" pos="1577880"/>
                <a:tab algn="l" pos="2027160"/>
                <a:tab algn="l" pos="2476440"/>
                <a:tab algn="l" pos="2925720"/>
                <a:tab algn="l" pos="3375000"/>
                <a:tab algn="l" pos="3824280"/>
                <a:tab algn="l" pos="4273560"/>
                <a:tab algn="l" pos="4722840"/>
                <a:tab algn="l" pos="5172120"/>
                <a:tab algn="l" pos="5621400"/>
                <a:tab algn="l" pos="6070680"/>
                <a:tab algn="l" pos="6519960"/>
                <a:tab algn="l" pos="6969240"/>
                <a:tab algn="l" pos="7418520"/>
                <a:tab algn="l" pos="7867800"/>
                <a:tab algn="l" pos="8317080"/>
                <a:tab algn="l" pos="8766000"/>
                <a:tab algn="l" pos="9215280"/>
                <a:tab algn="l" pos="9664560"/>
                <a:tab algn="l" pos="9883800"/>
                <a:tab algn="l" pos="10333080"/>
                <a:tab algn="l" pos="1078236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681120" indent="-303120" algn="ctr">
              <a:lnSpc>
                <a:spcPct val="100000"/>
              </a:lnSpc>
              <a:spcBef>
                <a:spcPts val="950"/>
              </a:spcBef>
              <a:tabLst>
                <a:tab algn="l" pos="0"/>
                <a:tab algn="l" pos="681120"/>
                <a:tab algn="l" pos="1128600"/>
                <a:tab algn="l" pos="1577880"/>
                <a:tab algn="l" pos="2027160"/>
                <a:tab algn="l" pos="2476440"/>
                <a:tab algn="l" pos="2925720"/>
                <a:tab algn="l" pos="3375000"/>
                <a:tab algn="l" pos="3824280"/>
                <a:tab algn="l" pos="4273560"/>
                <a:tab algn="l" pos="4722840"/>
                <a:tab algn="l" pos="5172120"/>
                <a:tab algn="l" pos="5621400"/>
                <a:tab algn="l" pos="6070680"/>
                <a:tab algn="l" pos="6519960"/>
                <a:tab algn="l" pos="6969240"/>
                <a:tab algn="l" pos="7418520"/>
                <a:tab algn="l" pos="7867800"/>
                <a:tab algn="l" pos="8317080"/>
                <a:tab algn="l" pos="8766000"/>
                <a:tab algn="l" pos="9215280"/>
                <a:tab algn="l" pos="9664560"/>
                <a:tab algn="l" pos="9883800"/>
                <a:tab algn="l" pos="10333080"/>
                <a:tab algn="l" pos="1078236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36360" y="1440000"/>
            <a:ext cx="9144000" cy="5333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1143000" y="3581280"/>
            <a:ext cx="5105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1447920" y="2438280"/>
            <a:ext cx="3124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-609480" y="5638680"/>
            <a:ext cx="8458200" cy="1447920"/>
          </a:xfrm>
          <a:prstGeom prst="flowChartInputOutpu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57200" y="2133720"/>
            <a:ext cx="1752480" cy="685800"/>
          </a:xfrm>
          <a:custGeom>
            <a:avLst/>
            <a:gdLst>
              <a:gd name="textAreaLeft" fmla="*/ 0 w 1752480"/>
              <a:gd name="textAreaRight" fmla="*/ 1752840 w 1752480"/>
              <a:gd name="textAreaTop" fmla="*/ 0 h 685800"/>
              <a:gd name="textAreaBottom" fmla="*/ 686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-720720" y="2629080"/>
            <a:ext cx="9504360" cy="35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1143000" indent="-228600">
              <a:lnSpc>
                <a:spcPct val="100000"/>
              </a:lnSpc>
              <a:buClr>
                <a:srgbClr val="800000"/>
              </a:buClr>
              <a:buFont typeface="Wingdings" charset="2"/>
              <a:buChar char=""/>
              <a:tabLst>
                <a:tab algn="l" pos="1143000"/>
                <a:tab algn="l" pos="1590840"/>
                <a:tab algn="l" pos="2039760"/>
                <a:tab algn="l" pos="2489040"/>
                <a:tab algn="l" pos="2938320"/>
                <a:tab algn="l" pos="3387600"/>
                <a:tab algn="l" pos="3836880"/>
                <a:tab algn="l" pos="4286160"/>
                <a:tab algn="l" pos="4735440"/>
                <a:tab algn="l" pos="5184720"/>
                <a:tab algn="l" pos="5634000"/>
                <a:tab algn="l" pos="6083280"/>
                <a:tab algn="l" pos="6532560"/>
                <a:tab algn="l" pos="6981840"/>
                <a:tab algn="l" pos="7431120"/>
                <a:tab algn="l" pos="7880400"/>
                <a:tab algn="l" pos="8329680"/>
                <a:tab algn="l" pos="8778960"/>
                <a:tab algn="l" pos="9228240"/>
                <a:tab algn="l" pos="9677520"/>
                <a:tab algn="l" pos="10126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000080"/>
                </a:solidFill>
                <a:latin typeface="Calibri"/>
                <a:ea typeface="Arial"/>
              </a:rPr>
              <a:t> </a:t>
            </a:r>
            <a:r>
              <a:rPr b="1" lang="pt-BR" sz="2400" spc="-1" strike="noStrike">
                <a:solidFill>
                  <a:srgbClr val="000080"/>
                </a:solidFill>
                <a:latin typeface="Arial"/>
                <a:ea typeface="Arial"/>
              </a:rPr>
              <a:t>Para cada atividade desempenhada pelo sujeito passivo pessoa física haverá os atributo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81120" indent="-301680">
              <a:lnSpc>
                <a:spcPct val="100000"/>
              </a:lnSpc>
              <a:tabLst>
                <a:tab algn="l" pos="0"/>
                <a:tab algn="l" pos="1143000"/>
                <a:tab algn="l" pos="1590840"/>
                <a:tab algn="l" pos="2039760"/>
                <a:tab algn="l" pos="2489040"/>
                <a:tab algn="l" pos="2938320"/>
                <a:tab algn="l" pos="3387600"/>
                <a:tab algn="l" pos="3836880"/>
                <a:tab algn="l" pos="4286160"/>
                <a:tab algn="l" pos="4735440"/>
                <a:tab algn="l" pos="5184720"/>
                <a:tab algn="l" pos="5634000"/>
                <a:tab algn="l" pos="6083280"/>
                <a:tab algn="l" pos="6532560"/>
                <a:tab algn="l" pos="6981840"/>
                <a:tab algn="l" pos="7431120"/>
                <a:tab algn="l" pos="7880400"/>
                <a:tab algn="l" pos="8329680"/>
                <a:tab algn="l" pos="8778960"/>
                <a:tab algn="l" pos="9228240"/>
                <a:tab algn="l" pos="9677520"/>
                <a:tab algn="l" pos="1012680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buSzPct val="100000"/>
              <a:buBlip>
                <a:blip r:embed="rId1"/>
              </a:buBlip>
              <a:tabLst>
                <a:tab algn="l" pos="1143000"/>
                <a:tab algn="l" pos="1590840"/>
                <a:tab algn="l" pos="2039760"/>
                <a:tab algn="l" pos="2489040"/>
                <a:tab algn="l" pos="2938320"/>
                <a:tab algn="l" pos="3387600"/>
                <a:tab algn="l" pos="3836880"/>
                <a:tab algn="l" pos="4286160"/>
                <a:tab algn="l" pos="4735440"/>
                <a:tab algn="l" pos="5184720"/>
                <a:tab algn="l" pos="5634000"/>
                <a:tab algn="l" pos="6083280"/>
                <a:tab algn="l" pos="6532560"/>
                <a:tab algn="l" pos="6981840"/>
                <a:tab algn="l" pos="7431120"/>
                <a:tab algn="l" pos="7880400"/>
                <a:tab algn="l" pos="8329680"/>
                <a:tab algn="l" pos="8778960"/>
                <a:tab algn="l" pos="9228240"/>
                <a:tab algn="l" pos="9677520"/>
                <a:tab algn="l" pos="10126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000080"/>
                </a:solidFill>
                <a:latin typeface="Arial"/>
                <a:ea typeface="Arial"/>
              </a:rPr>
              <a:t>Endereço;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buSzPct val="100000"/>
              <a:buBlip>
                <a:blip r:embed="rId2"/>
              </a:buBlip>
              <a:tabLst>
                <a:tab algn="l" pos="1143000"/>
                <a:tab algn="l" pos="1590840"/>
                <a:tab algn="l" pos="2039760"/>
                <a:tab algn="l" pos="2489040"/>
                <a:tab algn="l" pos="2938320"/>
                <a:tab algn="l" pos="3387600"/>
                <a:tab algn="l" pos="3836880"/>
                <a:tab algn="l" pos="4286160"/>
                <a:tab algn="l" pos="4735440"/>
                <a:tab algn="l" pos="5184720"/>
                <a:tab algn="l" pos="5634000"/>
                <a:tab algn="l" pos="6083280"/>
                <a:tab algn="l" pos="6532560"/>
                <a:tab algn="l" pos="6981840"/>
                <a:tab algn="l" pos="7431120"/>
                <a:tab algn="l" pos="7880400"/>
                <a:tab algn="l" pos="8329680"/>
                <a:tab algn="l" pos="8778960"/>
                <a:tab algn="l" pos="9228240"/>
                <a:tab algn="l" pos="9677520"/>
                <a:tab algn="l" pos="10126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000080"/>
                </a:solidFill>
                <a:latin typeface="Arial"/>
                <a:ea typeface="Arial"/>
              </a:rPr>
              <a:t>Tipo da atividade;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buSzPct val="100000"/>
              <a:buBlip>
                <a:blip r:embed="rId3"/>
              </a:buBlip>
              <a:tabLst>
                <a:tab algn="l" pos="1143000"/>
                <a:tab algn="l" pos="1590840"/>
                <a:tab algn="l" pos="2039760"/>
                <a:tab algn="l" pos="2489040"/>
                <a:tab algn="l" pos="2938320"/>
                <a:tab algn="l" pos="3387600"/>
                <a:tab algn="l" pos="3836880"/>
                <a:tab algn="l" pos="4286160"/>
                <a:tab algn="l" pos="4735440"/>
                <a:tab algn="l" pos="5184720"/>
                <a:tab algn="l" pos="5634000"/>
                <a:tab algn="l" pos="6083280"/>
                <a:tab algn="l" pos="6532560"/>
                <a:tab algn="l" pos="6981840"/>
                <a:tab algn="l" pos="7431120"/>
                <a:tab algn="l" pos="7880400"/>
                <a:tab algn="l" pos="8329680"/>
                <a:tab algn="l" pos="8778960"/>
                <a:tab algn="l" pos="9228240"/>
                <a:tab algn="l" pos="9677520"/>
                <a:tab algn="l" pos="10126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000080"/>
                </a:solidFill>
                <a:latin typeface="Arial"/>
                <a:ea typeface="Arial"/>
              </a:rPr>
              <a:t>Código de atividade (CNAE);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buSzPct val="100000"/>
              <a:buBlip>
                <a:blip r:embed="rId4"/>
              </a:buBlip>
              <a:tabLst>
                <a:tab algn="l" pos="1143000"/>
                <a:tab algn="l" pos="1590840"/>
                <a:tab algn="l" pos="2039760"/>
                <a:tab algn="l" pos="2489040"/>
                <a:tab algn="l" pos="2938320"/>
                <a:tab algn="l" pos="3387600"/>
                <a:tab algn="l" pos="3836880"/>
                <a:tab algn="l" pos="4286160"/>
                <a:tab algn="l" pos="4735440"/>
                <a:tab algn="l" pos="5184720"/>
                <a:tab algn="l" pos="5634000"/>
                <a:tab algn="l" pos="6083280"/>
                <a:tab algn="l" pos="6532560"/>
                <a:tab algn="l" pos="6981840"/>
                <a:tab algn="l" pos="7431120"/>
                <a:tab algn="l" pos="7880400"/>
                <a:tab algn="l" pos="8329680"/>
                <a:tab algn="l" pos="8778960"/>
                <a:tab algn="l" pos="9228240"/>
                <a:tab algn="l" pos="9677520"/>
                <a:tab algn="l" pos="10126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000080"/>
                </a:solidFill>
                <a:latin typeface="Arial"/>
                <a:ea typeface="Arial"/>
              </a:rPr>
              <a:t>Data de início;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buSzPct val="100000"/>
              <a:buBlip>
                <a:blip r:embed="rId5"/>
              </a:buBlip>
              <a:tabLst>
                <a:tab algn="l" pos="1143000"/>
                <a:tab algn="l" pos="1590840"/>
                <a:tab algn="l" pos="2039760"/>
                <a:tab algn="l" pos="2489040"/>
                <a:tab algn="l" pos="2938320"/>
                <a:tab algn="l" pos="3387600"/>
                <a:tab algn="l" pos="3836880"/>
                <a:tab algn="l" pos="4286160"/>
                <a:tab algn="l" pos="4735440"/>
                <a:tab algn="l" pos="5184720"/>
                <a:tab algn="l" pos="5634000"/>
                <a:tab algn="l" pos="6083280"/>
                <a:tab algn="l" pos="6532560"/>
                <a:tab algn="l" pos="6981840"/>
                <a:tab algn="l" pos="7431120"/>
                <a:tab algn="l" pos="7880400"/>
                <a:tab algn="l" pos="8329680"/>
                <a:tab algn="l" pos="8778960"/>
                <a:tab algn="l" pos="9228240"/>
                <a:tab algn="l" pos="9677520"/>
                <a:tab algn="l" pos="10126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000080"/>
                </a:solidFill>
                <a:latin typeface="Arial"/>
                <a:ea typeface="Arial"/>
              </a:rPr>
              <a:t>Situação cadastral;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buSzPct val="100000"/>
              <a:buBlip>
                <a:blip r:embed="rId6"/>
              </a:buBlip>
              <a:tabLst>
                <a:tab algn="l" pos="1143000"/>
                <a:tab algn="l" pos="1590840"/>
                <a:tab algn="l" pos="2039760"/>
                <a:tab algn="l" pos="2489040"/>
                <a:tab algn="l" pos="2938320"/>
                <a:tab algn="l" pos="3387600"/>
                <a:tab algn="l" pos="3836880"/>
                <a:tab algn="l" pos="4286160"/>
                <a:tab algn="l" pos="4735440"/>
                <a:tab algn="l" pos="5184720"/>
                <a:tab algn="l" pos="5634000"/>
                <a:tab algn="l" pos="6083280"/>
                <a:tab algn="l" pos="6532560"/>
                <a:tab algn="l" pos="6981840"/>
                <a:tab algn="l" pos="7431120"/>
                <a:tab algn="l" pos="7880400"/>
                <a:tab algn="l" pos="8329680"/>
                <a:tab algn="l" pos="8778960"/>
                <a:tab algn="l" pos="9228240"/>
                <a:tab algn="l" pos="9677520"/>
                <a:tab algn="l" pos="10126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000080"/>
                </a:solidFill>
                <a:latin typeface="Arial"/>
                <a:ea typeface="Arial"/>
              </a:rPr>
              <a:t>Matrícula CEI, quando  houver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 flipH="1" flipV="1">
            <a:off x="0" y="1440"/>
            <a:ext cx="9144000" cy="720720"/>
          </a:xfrm>
          <a:prstGeom prst="rect">
            <a:avLst/>
          </a:prstGeom>
          <a:gradFill rotWithShape="0">
            <a:gsLst>
              <a:gs pos="0">
                <a:srgbClr val="10253f"/>
              </a:gs>
              <a:gs pos="100000">
                <a:srgbClr val="c6d9f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7"/>
          <a:stretch/>
        </p:blipFill>
        <p:spPr>
          <a:xfrm>
            <a:off x="6659640" y="82440"/>
            <a:ext cx="2303280" cy="603360"/>
          </a:xfrm>
          <a:prstGeom prst="rect">
            <a:avLst/>
          </a:prstGeom>
          <a:ln w="0">
            <a:noFill/>
          </a:ln>
        </p:spPr>
      </p:pic>
      <p:pic>
        <p:nvPicPr>
          <p:cNvPr id="383" name="" descr=""/>
          <p:cNvPicPr/>
          <p:nvPr/>
        </p:nvPicPr>
        <p:blipFill>
          <a:blip r:embed="rId8"/>
          <a:stretch/>
        </p:blipFill>
        <p:spPr>
          <a:xfrm>
            <a:off x="87480" y="34920"/>
            <a:ext cx="1892160" cy="650880"/>
          </a:xfrm>
          <a:prstGeom prst="rect">
            <a:avLst/>
          </a:prstGeom>
          <a:ln w="0">
            <a:noFill/>
          </a:ln>
        </p:spPr>
      </p:pic>
      <p:sp>
        <p:nvSpPr>
          <p:cNvPr id="384" name=""/>
          <p:cNvSpPr/>
          <p:nvPr/>
        </p:nvSpPr>
        <p:spPr>
          <a:xfrm flipH="1" flipV="1">
            <a:off x="-37080" y="754920"/>
            <a:ext cx="9180360" cy="17640"/>
          </a:xfrm>
          <a:prstGeom prst="rect">
            <a:avLst/>
          </a:prstGeom>
          <a:gradFill rotWithShape="0">
            <a:gsLst>
              <a:gs pos="0">
                <a:srgbClr val="10253f"/>
              </a:gs>
              <a:gs pos="100000">
                <a:srgbClr val="c6d9f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5" name=""/>
          <p:cNvGrpSpPr/>
          <p:nvPr/>
        </p:nvGrpSpPr>
        <p:grpSpPr>
          <a:xfrm>
            <a:off x="-360" y="6697800"/>
            <a:ext cx="9178920" cy="153360"/>
            <a:chOff x="-360" y="6697800"/>
            <a:chExt cx="9178920" cy="153360"/>
          </a:xfrm>
        </p:grpSpPr>
        <p:sp>
          <p:nvSpPr>
            <p:cNvPr id="386" name=""/>
            <p:cNvSpPr/>
            <p:nvPr/>
          </p:nvSpPr>
          <p:spPr>
            <a:xfrm flipH="1" flipV="1">
              <a:off x="-720" y="6697800"/>
              <a:ext cx="9178920" cy="15840"/>
            </a:xfrm>
            <a:prstGeom prst="rect">
              <a:avLst/>
            </a:prstGeom>
            <a:gradFill rotWithShape="0">
              <a:gsLst>
                <a:gs pos="0">
                  <a:srgbClr val="10253f"/>
                </a:gs>
                <a:gs pos="100000">
                  <a:srgbClr val="c6d9f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 flipH="1" flipV="1">
              <a:off x="-720" y="6768360"/>
              <a:ext cx="9178920" cy="82440"/>
            </a:xfrm>
            <a:prstGeom prst="rect">
              <a:avLst/>
            </a:prstGeom>
            <a:gradFill rotWithShape="0">
              <a:gsLst>
                <a:gs pos="0">
                  <a:srgbClr val="10253f"/>
                </a:gs>
                <a:gs pos="100000">
                  <a:srgbClr val="c6d9f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 flipV="1">
              <a:off x="-720" y="6734160"/>
              <a:ext cx="9178920" cy="15840"/>
            </a:xfrm>
            <a:prstGeom prst="rect">
              <a:avLst/>
            </a:prstGeom>
            <a:gradFill rotWithShape="0">
              <a:gsLst>
                <a:gs pos="0">
                  <a:srgbClr val="10253f"/>
                </a:gs>
                <a:gs pos="100000">
                  <a:srgbClr val="c6d9f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9" name=""/>
          <p:cNvSpPr/>
          <p:nvPr/>
        </p:nvSpPr>
        <p:spPr>
          <a:xfrm>
            <a:off x="1260360" y="1260360"/>
            <a:ext cx="687564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800" spc="-1" strike="noStrike">
                <a:solidFill>
                  <a:srgbClr val="280099"/>
                </a:solidFill>
                <a:latin typeface="Arial"/>
              </a:rPr>
              <a:t>Cadastro de Atividades Econômicas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800" spc="-1" strike="noStrike">
                <a:solidFill>
                  <a:srgbClr val="280099"/>
                </a:solidFill>
                <a:latin typeface="Arial"/>
              </a:rPr>
              <a:t>da Pessoa Física - CAEPF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/>
          <p:nvPr/>
        </p:nvSpPr>
        <p:spPr>
          <a:xfrm>
            <a:off x="360360" y="4500720"/>
            <a:ext cx="8099280" cy="1979280"/>
          </a:xfrm>
          <a:prstGeom prst="roundRect">
            <a:avLst>
              <a:gd name="adj" fmla="val 16667"/>
            </a:avLst>
          </a:prstGeom>
          <a:solidFill>
            <a:srgbClr val="c0c0c0">
              <a:alpha val="20000"/>
            </a:srgbClr>
          </a:solidFill>
          <a:ln w="936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800360" y="2160720"/>
            <a:ext cx="5219640" cy="1979640"/>
          </a:xfrm>
          <a:prstGeom prst="roundRect">
            <a:avLst>
              <a:gd name="adj" fmla="val 16667"/>
            </a:avLst>
          </a:prstGeom>
          <a:solidFill>
            <a:srgbClr val="c0c0c0">
              <a:alpha val="20000"/>
            </a:srgbClr>
          </a:solidFill>
          <a:ln w="936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1619280" y="2160720"/>
            <a:ext cx="6513480" cy="35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81120" indent="-303120" algn="just">
              <a:lnSpc>
                <a:spcPct val="90000"/>
              </a:lnSpc>
              <a:spcBef>
                <a:spcPts val="950"/>
              </a:spcBef>
              <a:tabLst>
                <a:tab algn="l" pos="0"/>
                <a:tab algn="l" pos="681120"/>
                <a:tab algn="l" pos="1128600"/>
                <a:tab algn="l" pos="1577880"/>
                <a:tab algn="l" pos="2027160"/>
                <a:tab algn="l" pos="2476440"/>
                <a:tab algn="l" pos="2925720"/>
                <a:tab algn="l" pos="3375000"/>
                <a:tab algn="l" pos="3824280"/>
                <a:tab algn="l" pos="4273560"/>
                <a:tab algn="l" pos="4722840"/>
                <a:tab algn="l" pos="5172120"/>
                <a:tab algn="l" pos="5621400"/>
                <a:tab algn="l" pos="6070680"/>
                <a:tab algn="l" pos="6519960"/>
                <a:tab algn="l" pos="6969240"/>
                <a:tab algn="l" pos="7418520"/>
                <a:tab algn="l" pos="7867800"/>
                <a:tab algn="l" pos="8317080"/>
                <a:tab algn="l" pos="8766000"/>
                <a:tab algn="l" pos="9215280"/>
                <a:tab algn="l" pos="9664560"/>
                <a:tab algn="l" pos="9883800"/>
                <a:tab algn="l" pos="10333080"/>
                <a:tab algn="l" pos="1078236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681120" indent="-303120" algn="just">
              <a:lnSpc>
                <a:spcPct val="90000"/>
              </a:lnSpc>
              <a:spcBef>
                <a:spcPts val="950"/>
              </a:spcBef>
              <a:tabLst>
                <a:tab algn="l" pos="0"/>
                <a:tab algn="l" pos="681120"/>
                <a:tab algn="l" pos="1128600"/>
                <a:tab algn="l" pos="1577880"/>
                <a:tab algn="l" pos="2027160"/>
                <a:tab algn="l" pos="2476440"/>
                <a:tab algn="l" pos="2925720"/>
                <a:tab algn="l" pos="3375000"/>
                <a:tab algn="l" pos="3824280"/>
                <a:tab algn="l" pos="4273560"/>
                <a:tab algn="l" pos="4722840"/>
                <a:tab algn="l" pos="5172120"/>
                <a:tab algn="l" pos="5621400"/>
                <a:tab algn="l" pos="6070680"/>
                <a:tab algn="l" pos="6519960"/>
                <a:tab algn="l" pos="6969240"/>
                <a:tab algn="l" pos="7418520"/>
                <a:tab algn="l" pos="7867800"/>
                <a:tab algn="l" pos="8317080"/>
                <a:tab algn="l" pos="8766000"/>
                <a:tab algn="l" pos="9215280"/>
                <a:tab algn="l" pos="9664560"/>
                <a:tab algn="l" pos="9883800"/>
                <a:tab algn="l" pos="10333080"/>
                <a:tab algn="l" pos="1078236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681120" indent="-303120" algn="ctr">
              <a:lnSpc>
                <a:spcPct val="100000"/>
              </a:lnSpc>
              <a:spcBef>
                <a:spcPts val="950"/>
              </a:spcBef>
              <a:tabLst>
                <a:tab algn="l" pos="0"/>
                <a:tab algn="l" pos="681120"/>
                <a:tab algn="l" pos="1128600"/>
                <a:tab algn="l" pos="1577880"/>
                <a:tab algn="l" pos="2027160"/>
                <a:tab algn="l" pos="2476440"/>
                <a:tab algn="l" pos="2925720"/>
                <a:tab algn="l" pos="3375000"/>
                <a:tab algn="l" pos="3824280"/>
                <a:tab algn="l" pos="4273560"/>
                <a:tab algn="l" pos="4722840"/>
                <a:tab algn="l" pos="5172120"/>
                <a:tab algn="l" pos="5621400"/>
                <a:tab algn="l" pos="6070680"/>
                <a:tab algn="l" pos="6519960"/>
                <a:tab algn="l" pos="6969240"/>
                <a:tab algn="l" pos="7418520"/>
                <a:tab algn="l" pos="7867800"/>
                <a:tab algn="l" pos="8317080"/>
                <a:tab algn="l" pos="8766000"/>
                <a:tab algn="l" pos="9215280"/>
                <a:tab algn="l" pos="9664560"/>
                <a:tab algn="l" pos="9883800"/>
                <a:tab algn="l" pos="10333080"/>
                <a:tab algn="l" pos="1078236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1143000" y="3581280"/>
            <a:ext cx="5105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1447920" y="2438280"/>
            <a:ext cx="3124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-609480" y="5638680"/>
            <a:ext cx="8458200" cy="1447920"/>
          </a:xfrm>
          <a:prstGeom prst="flowChartInputOutpu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457200" y="2133720"/>
            <a:ext cx="1752480" cy="685800"/>
          </a:xfrm>
          <a:custGeom>
            <a:avLst/>
            <a:gdLst>
              <a:gd name="textAreaLeft" fmla="*/ 0 w 1752480"/>
              <a:gd name="textAreaRight" fmla="*/ 1752840 w 1752480"/>
              <a:gd name="textAreaTop" fmla="*/ 0 h 685800"/>
              <a:gd name="textAreaBottom" fmla="*/ 686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 flipH="1" flipV="1">
            <a:off x="0" y="1440"/>
            <a:ext cx="9144000" cy="720720"/>
          </a:xfrm>
          <a:prstGeom prst="rect">
            <a:avLst/>
          </a:prstGeom>
          <a:gradFill rotWithShape="0">
            <a:gsLst>
              <a:gs pos="0">
                <a:srgbClr val="10253f"/>
              </a:gs>
              <a:gs pos="100000">
                <a:srgbClr val="c6d9f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8" name="" descr=""/>
          <p:cNvPicPr/>
          <p:nvPr/>
        </p:nvPicPr>
        <p:blipFill>
          <a:blip r:embed="rId1"/>
          <a:stretch/>
        </p:blipFill>
        <p:spPr>
          <a:xfrm>
            <a:off x="6659640" y="82440"/>
            <a:ext cx="2303280" cy="603360"/>
          </a:xfrm>
          <a:prstGeom prst="rect">
            <a:avLst/>
          </a:prstGeom>
          <a:ln w="0">
            <a:noFill/>
          </a:ln>
        </p:spPr>
      </p:pic>
      <p:pic>
        <p:nvPicPr>
          <p:cNvPr id="399" name="" descr=""/>
          <p:cNvPicPr/>
          <p:nvPr/>
        </p:nvPicPr>
        <p:blipFill>
          <a:blip r:embed="rId2"/>
          <a:stretch/>
        </p:blipFill>
        <p:spPr>
          <a:xfrm>
            <a:off x="87480" y="34920"/>
            <a:ext cx="1892160" cy="65088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 flipH="1" flipV="1">
            <a:off x="-37080" y="754920"/>
            <a:ext cx="9180360" cy="17640"/>
          </a:xfrm>
          <a:prstGeom prst="rect">
            <a:avLst/>
          </a:prstGeom>
          <a:gradFill rotWithShape="0">
            <a:gsLst>
              <a:gs pos="0">
                <a:srgbClr val="10253f"/>
              </a:gs>
              <a:gs pos="100000">
                <a:srgbClr val="c6d9f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1260360" y="971640"/>
            <a:ext cx="687564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800" spc="-1" strike="noStrike">
                <a:solidFill>
                  <a:srgbClr val="280099"/>
                </a:solidFill>
                <a:latin typeface="Arial"/>
              </a:rPr>
              <a:t>Cadastro de Atividades Econômicas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800" spc="-1" strike="noStrike">
                <a:solidFill>
                  <a:srgbClr val="280099"/>
                </a:solidFill>
                <a:latin typeface="Arial"/>
              </a:rPr>
              <a:t>da Pessoa Física - CAEPF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2160720" y="2340000"/>
            <a:ext cx="471492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200" spc="-1" strike="noStrike">
                <a:solidFill>
                  <a:srgbClr val="000080"/>
                </a:solidFill>
                <a:latin typeface="Arial"/>
              </a:rPr>
              <a:t>Número identificador da atividade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2664000" y="4500720"/>
            <a:ext cx="345564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200" spc="-1" strike="noStrike">
                <a:solidFill>
                  <a:srgbClr val="000080"/>
                </a:solidFill>
                <a:latin typeface="Arial"/>
              </a:rPr>
              <a:t>Base para cálculo do DV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4" name=""/>
          <p:cNvGrpSpPr/>
          <p:nvPr/>
        </p:nvGrpSpPr>
        <p:grpSpPr>
          <a:xfrm>
            <a:off x="2592360" y="2987640"/>
            <a:ext cx="3600360" cy="863640"/>
            <a:chOff x="2592360" y="2987640"/>
            <a:chExt cx="3600360" cy="863640"/>
          </a:xfrm>
        </p:grpSpPr>
        <p:sp>
          <p:nvSpPr>
            <p:cNvPr id="405" name=""/>
            <p:cNvSpPr/>
            <p:nvPr/>
          </p:nvSpPr>
          <p:spPr>
            <a:xfrm>
              <a:off x="2771640" y="2987640"/>
              <a:ext cx="1656000" cy="360360"/>
            </a:xfrm>
            <a:prstGeom prst="rect">
              <a:avLst/>
            </a:prstGeom>
            <a:solidFill>
              <a:srgbClr val="cccc00"/>
            </a:solidFill>
            <a:ln w="9360">
              <a:solidFill>
                <a:srgbClr val="c0c0c0"/>
              </a:solidFill>
              <a:round/>
            </a:ln>
            <a:effectLst>
              <a:outerShdw dist="50911" dir="2700000" blurRad="0" rotWithShape="0">
                <a:srgbClr val="808080">
                  <a:alpha val="1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pt-BR" sz="1800" spc="-1" strike="noStrike">
                  <a:solidFill>
                    <a:srgbClr val="ffffff"/>
                  </a:solidFill>
                  <a:latin typeface="Arial"/>
                </a:rPr>
                <a:t>NNNN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680000" y="2987640"/>
              <a:ext cx="1079280" cy="360360"/>
            </a:xfrm>
            <a:prstGeom prst="rect">
              <a:avLst/>
            </a:prstGeom>
            <a:solidFill>
              <a:srgbClr val="cccc00"/>
            </a:solidFill>
            <a:ln w="9360">
              <a:solidFill>
                <a:srgbClr val="c0c0c0"/>
              </a:solidFill>
              <a:round/>
            </a:ln>
            <a:effectLst>
              <a:outerShdw dist="50911" dir="2700000" blurRad="0" rotWithShape="0">
                <a:srgbClr val="808080">
                  <a:alpha val="1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pt-BR" sz="1800" spc="-1" strike="noStrike">
                  <a:solidFill>
                    <a:srgbClr val="ffffff"/>
                  </a:solidFill>
                  <a:latin typeface="Arial"/>
                </a:rPr>
                <a:t>NN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592360" y="3492360"/>
              <a:ext cx="180036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pt-BR" sz="1800" spc="-1" strike="noStrike">
                  <a:solidFill>
                    <a:srgbClr val="333333"/>
                  </a:solidFill>
                  <a:latin typeface="Arial"/>
                </a:rPr>
                <a:t>Sequencial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4392720" y="3492360"/>
              <a:ext cx="180000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pt-BR" sz="1800" spc="-1" strike="noStrike">
                  <a:solidFill>
                    <a:srgbClr val="333333"/>
                  </a:solidFill>
                  <a:latin typeface="Arial"/>
                </a:rPr>
                <a:t>Dígito Verificador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9" name=""/>
          <p:cNvSpPr/>
          <p:nvPr/>
        </p:nvSpPr>
        <p:spPr>
          <a:xfrm>
            <a:off x="6372360" y="5219640"/>
            <a:ext cx="1079280" cy="539640"/>
          </a:xfrm>
          <a:prstGeom prst="rect">
            <a:avLst/>
          </a:prstGeom>
          <a:solidFill>
            <a:srgbClr val="cccc00"/>
          </a:solidFill>
          <a:ln w="9360">
            <a:solidFill>
              <a:srgbClr val="c0c0c0"/>
            </a:solidFill>
            <a:round/>
          </a:ln>
          <a:effectLst>
            <a:outerShdw dist="50911" dir="2700000" blurRad="0" rotWithShape="0">
              <a:srgbClr val="808080">
                <a:alpha val="1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N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6083280" y="5867280"/>
            <a:ext cx="1800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333333"/>
                </a:solidFill>
                <a:latin typeface="Arial"/>
              </a:rPr>
              <a:t>Dígito Verificado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1079640" y="5219640"/>
            <a:ext cx="3240000" cy="539640"/>
          </a:xfrm>
          <a:prstGeom prst="rect">
            <a:avLst/>
          </a:prstGeom>
          <a:solidFill>
            <a:srgbClr val="198a8a"/>
          </a:solidFill>
          <a:ln w="9360">
            <a:solidFill>
              <a:srgbClr val="c0c0c0"/>
            </a:solidFill>
            <a:round/>
          </a:ln>
          <a:effectLst>
            <a:outerShdw dist="50911" dir="2700000" blurRad="0" rotWithShape="0">
              <a:srgbClr val="808080">
                <a:alpha val="1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NNN.NNN.NN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800360" y="5940360"/>
            <a:ext cx="180000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333333"/>
                </a:solidFill>
                <a:latin typeface="Arial"/>
              </a:rPr>
              <a:t>CPF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4500720" y="5219640"/>
            <a:ext cx="1618920" cy="539640"/>
          </a:xfrm>
          <a:prstGeom prst="rect">
            <a:avLst/>
          </a:prstGeom>
          <a:solidFill>
            <a:srgbClr val="cccc00"/>
          </a:solidFill>
          <a:ln w="9360">
            <a:solidFill>
              <a:srgbClr val="c0c0c0"/>
            </a:solidFill>
            <a:round/>
          </a:ln>
          <a:effectLst>
            <a:outerShdw dist="50911" dir="2700000" blurRad="0" rotWithShape="0">
              <a:srgbClr val="808080">
                <a:alpha val="1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NNN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4427640" y="5940360"/>
            <a:ext cx="180000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333333"/>
                </a:solidFill>
                <a:latin typeface="Arial"/>
              </a:rPr>
              <a:t>Sequencia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1619280" y="2160720"/>
            <a:ext cx="6513480" cy="35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81120" indent="-303120" algn="just">
              <a:lnSpc>
                <a:spcPct val="90000"/>
              </a:lnSpc>
              <a:spcBef>
                <a:spcPts val="950"/>
              </a:spcBef>
              <a:tabLst>
                <a:tab algn="l" pos="0"/>
                <a:tab algn="l" pos="681120"/>
                <a:tab algn="l" pos="1128600"/>
                <a:tab algn="l" pos="1577880"/>
                <a:tab algn="l" pos="2027160"/>
                <a:tab algn="l" pos="2476440"/>
                <a:tab algn="l" pos="2925720"/>
                <a:tab algn="l" pos="3375000"/>
                <a:tab algn="l" pos="3824280"/>
                <a:tab algn="l" pos="4273560"/>
                <a:tab algn="l" pos="4722840"/>
                <a:tab algn="l" pos="5172120"/>
                <a:tab algn="l" pos="5621400"/>
                <a:tab algn="l" pos="6070680"/>
                <a:tab algn="l" pos="6519960"/>
                <a:tab algn="l" pos="6969240"/>
                <a:tab algn="l" pos="7418520"/>
                <a:tab algn="l" pos="7867800"/>
                <a:tab algn="l" pos="8317080"/>
                <a:tab algn="l" pos="8766000"/>
                <a:tab algn="l" pos="9215280"/>
                <a:tab algn="l" pos="9664560"/>
                <a:tab algn="l" pos="9883800"/>
                <a:tab algn="l" pos="10333080"/>
                <a:tab algn="l" pos="1078236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681120" indent="-303120" algn="just">
              <a:lnSpc>
                <a:spcPct val="90000"/>
              </a:lnSpc>
              <a:spcBef>
                <a:spcPts val="950"/>
              </a:spcBef>
              <a:tabLst>
                <a:tab algn="l" pos="0"/>
                <a:tab algn="l" pos="681120"/>
                <a:tab algn="l" pos="1128600"/>
                <a:tab algn="l" pos="1577880"/>
                <a:tab algn="l" pos="2027160"/>
                <a:tab algn="l" pos="2476440"/>
                <a:tab algn="l" pos="2925720"/>
                <a:tab algn="l" pos="3375000"/>
                <a:tab algn="l" pos="3824280"/>
                <a:tab algn="l" pos="4273560"/>
                <a:tab algn="l" pos="4722840"/>
                <a:tab algn="l" pos="5172120"/>
                <a:tab algn="l" pos="5621400"/>
                <a:tab algn="l" pos="6070680"/>
                <a:tab algn="l" pos="6519960"/>
                <a:tab algn="l" pos="6969240"/>
                <a:tab algn="l" pos="7418520"/>
                <a:tab algn="l" pos="7867800"/>
                <a:tab algn="l" pos="8317080"/>
                <a:tab algn="l" pos="8766000"/>
                <a:tab algn="l" pos="9215280"/>
                <a:tab algn="l" pos="9664560"/>
                <a:tab algn="l" pos="9883800"/>
                <a:tab algn="l" pos="10333080"/>
                <a:tab algn="l" pos="1078236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681120" indent="-303120" algn="ctr">
              <a:lnSpc>
                <a:spcPct val="100000"/>
              </a:lnSpc>
              <a:spcBef>
                <a:spcPts val="950"/>
              </a:spcBef>
              <a:tabLst>
                <a:tab algn="l" pos="0"/>
                <a:tab algn="l" pos="681120"/>
                <a:tab algn="l" pos="1128600"/>
                <a:tab algn="l" pos="1577880"/>
                <a:tab algn="l" pos="2027160"/>
                <a:tab algn="l" pos="2476440"/>
                <a:tab algn="l" pos="2925720"/>
                <a:tab algn="l" pos="3375000"/>
                <a:tab algn="l" pos="3824280"/>
                <a:tab algn="l" pos="4273560"/>
                <a:tab algn="l" pos="4722840"/>
                <a:tab algn="l" pos="5172120"/>
                <a:tab algn="l" pos="5621400"/>
                <a:tab algn="l" pos="6070680"/>
                <a:tab algn="l" pos="6519960"/>
                <a:tab algn="l" pos="6969240"/>
                <a:tab algn="l" pos="7418520"/>
                <a:tab algn="l" pos="7867800"/>
                <a:tab algn="l" pos="8317080"/>
                <a:tab algn="l" pos="8766000"/>
                <a:tab algn="l" pos="9215280"/>
                <a:tab algn="l" pos="9664560"/>
                <a:tab algn="l" pos="9883800"/>
                <a:tab algn="l" pos="10333080"/>
                <a:tab algn="l" pos="1078236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0" y="1523880"/>
            <a:ext cx="914400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143000" y="3581280"/>
            <a:ext cx="5105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47920" y="2438280"/>
            <a:ext cx="3124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-609480" y="5638680"/>
            <a:ext cx="8458200" cy="1447920"/>
          </a:xfrm>
          <a:prstGeom prst="flowChartInputOutpu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457200" y="2133720"/>
            <a:ext cx="1752480" cy="685800"/>
          </a:xfrm>
          <a:custGeom>
            <a:avLst/>
            <a:gdLst>
              <a:gd name="textAreaLeft" fmla="*/ 0 w 1752480"/>
              <a:gd name="textAreaRight" fmla="*/ 1752840 w 1752480"/>
              <a:gd name="textAreaTop" fmla="*/ 0 h 685800"/>
              <a:gd name="textAreaBottom" fmla="*/ 686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04920" y="1619280"/>
            <a:ext cx="7981920" cy="47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81120" indent="-301680" algn="just">
              <a:lnSpc>
                <a:spcPct val="90000"/>
              </a:lnSpc>
              <a:spcBef>
                <a:spcPts val="950"/>
              </a:spcBef>
              <a:tabLst>
                <a:tab algn="l" pos="0"/>
                <a:tab algn="l" pos="681120"/>
                <a:tab algn="l" pos="1128600"/>
                <a:tab algn="l" pos="1577880"/>
                <a:tab algn="l" pos="2027160"/>
                <a:tab algn="l" pos="2476440"/>
                <a:tab algn="l" pos="2925720"/>
                <a:tab algn="l" pos="3375000"/>
                <a:tab algn="l" pos="3824280"/>
                <a:tab algn="l" pos="4273560"/>
                <a:tab algn="l" pos="4722840"/>
                <a:tab algn="l" pos="5172120"/>
                <a:tab algn="l" pos="5621400"/>
                <a:tab algn="l" pos="6070680"/>
                <a:tab algn="l" pos="6519960"/>
                <a:tab algn="l" pos="6969240"/>
                <a:tab algn="l" pos="7418520"/>
                <a:tab algn="l" pos="7867800"/>
                <a:tab algn="l" pos="8317080"/>
                <a:tab algn="l" pos="8766000"/>
                <a:tab algn="l" pos="9215280"/>
                <a:tab algn="l" pos="9664560"/>
                <a:tab algn="l" pos="9883800"/>
                <a:tab algn="l" pos="10333080"/>
                <a:tab algn="l" pos="1078236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  <a:p>
            <a:pPr lvl="1" marL="723960" indent="-266760" algn="just">
              <a:lnSpc>
                <a:spcPct val="100000"/>
              </a:lnSpc>
              <a:buClr>
                <a:srgbClr val="800000"/>
              </a:buClr>
              <a:buFont typeface="Wingdings" charset="2"/>
              <a:buChar char=""/>
              <a:tabLst>
                <a:tab algn="l" pos="681120"/>
                <a:tab algn="l" pos="1128600"/>
                <a:tab algn="l" pos="1577880"/>
                <a:tab algn="l" pos="2027160"/>
                <a:tab algn="l" pos="2476440"/>
                <a:tab algn="l" pos="2925720"/>
                <a:tab algn="l" pos="3375000"/>
                <a:tab algn="l" pos="3824280"/>
                <a:tab algn="l" pos="4273560"/>
                <a:tab algn="l" pos="4722840"/>
                <a:tab algn="l" pos="5172120"/>
                <a:tab algn="l" pos="5621400"/>
                <a:tab algn="l" pos="6070680"/>
                <a:tab algn="l" pos="6519960"/>
                <a:tab algn="l" pos="6969240"/>
                <a:tab algn="l" pos="7418520"/>
                <a:tab algn="l" pos="7867800"/>
                <a:tab algn="l" pos="8317080"/>
                <a:tab algn="l" pos="8766000"/>
                <a:tab algn="l" pos="9215280"/>
                <a:tab algn="l" pos="966456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000080"/>
                </a:solidFill>
                <a:latin typeface="Tahoma"/>
                <a:ea typeface="Arial"/>
              </a:rPr>
              <a:t> </a:t>
            </a:r>
            <a:r>
              <a:rPr b="1" lang="pt-BR" sz="2400" spc="-1" strike="noStrike">
                <a:solidFill>
                  <a:srgbClr val="000080"/>
                </a:solidFill>
                <a:latin typeface="Arial"/>
                <a:ea typeface="Arial"/>
              </a:rPr>
              <a:t>Será criado, no Serpro, um cadastro de obras. Esse cadastro armazenará os dados de obras de construção civil de pessoas físicas e de pessoas jurídicas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81120" indent="-301680" algn="just">
              <a:lnSpc>
                <a:spcPct val="100000"/>
              </a:lnSpc>
              <a:tabLst>
                <a:tab algn="l" pos="0"/>
                <a:tab algn="l" pos="681120"/>
                <a:tab algn="l" pos="1128600"/>
                <a:tab algn="l" pos="1577880"/>
                <a:tab algn="l" pos="2027160"/>
                <a:tab algn="l" pos="2476440"/>
                <a:tab algn="l" pos="2925720"/>
                <a:tab algn="l" pos="3375000"/>
                <a:tab algn="l" pos="3824280"/>
                <a:tab algn="l" pos="4273560"/>
                <a:tab algn="l" pos="4722840"/>
                <a:tab algn="l" pos="5172120"/>
                <a:tab algn="l" pos="5621400"/>
                <a:tab algn="l" pos="6070680"/>
                <a:tab algn="l" pos="6519960"/>
                <a:tab algn="l" pos="6969240"/>
                <a:tab algn="l" pos="7418520"/>
                <a:tab algn="l" pos="7867800"/>
                <a:tab algn="l" pos="8317080"/>
                <a:tab algn="l" pos="8766000"/>
                <a:tab algn="l" pos="9215280"/>
                <a:tab algn="l" pos="9664560"/>
                <a:tab algn="l" pos="988380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81120" indent="-301680" algn="just">
              <a:lnSpc>
                <a:spcPct val="100000"/>
              </a:lnSpc>
              <a:tabLst>
                <a:tab algn="l" pos="0"/>
                <a:tab algn="l" pos="681120"/>
                <a:tab algn="l" pos="1128600"/>
                <a:tab algn="l" pos="1577880"/>
                <a:tab algn="l" pos="2027160"/>
                <a:tab algn="l" pos="2476440"/>
                <a:tab algn="l" pos="2925720"/>
                <a:tab algn="l" pos="3375000"/>
                <a:tab algn="l" pos="3824280"/>
                <a:tab algn="l" pos="4273560"/>
                <a:tab algn="l" pos="4722840"/>
                <a:tab algn="l" pos="5172120"/>
                <a:tab algn="l" pos="5621400"/>
                <a:tab algn="l" pos="6070680"/>
                <a:tab algn="l" pos="6519960"/>
                <a:tab algn="l" pos="6969240"/>
                <a:tab algn="l" pos="7418520"/>
                <a:tab algn="l" pos="7867800"/>
                <a:tab algn="l" pos="8317080"/>
                <a:tab algn="l" pos="8766000"/>
                <a:tab algn="l" pos="9215280"/>
                <a:tab algn="l" pos="9664560"/>
                <a:tab algn="l" pos="988380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81120" indent="-301680" algn="just">
              <a:lnSpc>
                <a:spcPct val="100000"/>
              </a:lnSpc>
              <a:buClr>
                <a:srgbClr val="800000"/>
              </a:buClr>
              <a:buFont typeface="Wingdings" charset="2"/>
              <a:buChar char=""/>
              <a:tabLst>
                <a:tab algn="l" pos="681120"/>
                <a:tab algn="l" pos="1128600"/>
                <a:tab algn="l" pos="1577880"/>
                <a:tab algn="l" pos="2027160"/>
                <a:tab algn="l" pos="2476440"/>
                <a:tab algn="l" pos="2925720"/>
                <a:tab algn="l" pos="3375000"/>
                <a:tab algn="l" pos="3824280"/>
                <a:tab algn="l" pos="4273560"/>
                <a:tab algn="l" pos="4722840"/>
                <a:tab algn="l" pos="5172120"/>
                <a:tab algn="l" pos="5621400"/>
                <a:tab algn="l" pos="6070680"/>
                <a:tab algn="l" pos="6519960"/>
                <a:tab algn="l" pos="6969240"/>
                <a:tab algn="l" pos="7418520"/>
                <a:tab algn="l" pos="7867800"/>
                <a:tab algn="l" pos="8317080"/>
                <a:tab algn="l" pos="8766000"/>
                <a:tab algn="l" pos="9215280"/>
                <a:tab algn="l" pos="966456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000080"/>
                </a:solidFill>
                <a:latin typeface="Arial"/>
              </a:rPr>
              <a:t>Será desenvolvido um aplicativo web que será a única ferramenta para atualizar os dados do Cadastro Nacional de Obras, tanto para contribuinte quanto para o servidor da RFB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360360" y="1093680"/>
            <a:ext cx="828036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800" spc="-1" strike="noStrike">
                <a:solidFill>
                  <a:srgbClr val="280099"/>
                </a:solidFill>
                <a:latin typeface="Arial"/>
              </a:rPr>
              <a:t>Cadastro Nacional de Obras - CNO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 flipH="1" flipV="1">
            <a:off x="0" y="1440"/>
            <a:ext cx="9144000" cy="720720"/>
          </a:xfrm>
          <a:prstGeom prst="rect">
            <a:avLst/>
          </a:prstGeom>
          <a:gradFill rotWithShape="0">
            <a:gsLst>
              <a:gs pos="0">
                <a:srgbClr val="10253f"/>
              </a:gs>
              <a:gs pos="100000">
                <a:srgbClr val="c6d9f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4" name="" descr=""/>
          <p:cNvPicPr/>
          <p:nvPr/>
        </p:nvPicPr>
        <p:blipFill>
          <a:blip r:embed="rId1"/>
          <a:stretch/>
        </p:blipFill>
        <p:spPr>
          <a:xfrm>
            <a:off x="6659640" y="82440"/>
            <a:ext cx="2303280" cy="603360"/>
          </a:xfrm>
          <a:prstGeom prst="rect">
            <a:avLst/>
          </a:prstGeom>
          <a:ln w="0">
            <a:noFill/>
          </a:ln>
        </p:spPr>
      </p:pic>
      <p:pic>
        <p:nvPicPr>
          <p:cNvPr id="425" name="" descr=""/>
          <p:cNvPicPr/>
          <p:nvPr/>
        </p:nvPicPr>
        <p:blipFill>
          <a:blip r:embed="rId2"/>
          <a:stretch/>
        </p:blipFill>
        <p:spPr>
          <a:xfrm>
            <a:off x="87480" y="34920"/>
            <a:ext cx="1892160" cy="650880"/>
          </a:xfrm>
          <a:prstGeom prst="rect">
            <a:avLst/>
          </a:prstGeom>
          <a:ln w="0">
            <a:noFill/>
          </a:ln>
        </p:spPr>
      </p:pic>
      <p:sp>
        <p:nvSpPr>
          <p:cNvPr id="426" name=""/>
          <p:cNvSpPr/>
          <p:nvPr/>
        </p:nvSpPr>
        <p:spPr>
          <a:xfrm flipH="1" flipV="1">
            <a:off x="-37080" y="754920"/>
            <a:ext cx="9180360" cy="17640"/>
          </a:xfrm>
          <a:prstGeom prst="rect">
            <a:avLst/>
          </a:prstGeom>
          <a:gradFill rotWithShape="0">
            <a:gsLst>
              <a:gs pos="0">
                <a:srgbClr val="10253f"/>
              </a:gs>
              <a:gs pos="100000">
                <a:srgbClr val="c6d9f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-360" y="6697800"/>
            <a:ext cx="9178920" cy="153360"/>
            <a:chOff x="-360" y="6697800"/>
            <a:chExt cx="9178920" cy="153360"/>
          </a:xfrm>
        </p:grpSpPr>
        <p:sp>
          <p:nvSpPr>
            <p:cNvPr id="428" name=""/>
            <p:cNvSpPr/>
            <p:nvPr/>
          </p:nvSpPr>
          <p:spPr>
            <a:xfrm flipH="1" flipV="1">
              <a:off x="-720" y="6697800"/>
              <a:ext cx="9178920" cy="15840"/>
            </a:xfrm>
            <a:prstGeom prst="rect">
              <a:avLst/>
            </a:prstGeom>
            <a:gradFill rotWithShape="0">
              <a:gsLst>
                <a:gs pos="0">
                  <a:srgbClr val="10253f"/>
                </a:gs>
                <a:gs pos="100000">
                  <a:srgbClr val="c6d9f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 flipV="1">
              <a:off x="-720" y="6768360"/>
              <a:ext cx="9178920" cy="82440"/>
            </a:xfrm>
            <a:prstGeom prst="rect">
              <a:avLst/>
            </a:prstGeom>
            <a:gradFill rotWithShape="0">
              <a:gsLst>
                <a:gs pos="0">
                  <a:srgbClr val="10253f"/>
                </a:gs>
                <a:gs pos="100000">
                  <a:srgbClr val="c6d9f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 flipV="1">
              <a:off x="-720" y="6734160"/>
              <a:ext cx="9178920" cy="15840"/>
            </a:xfrm>
            <a:prstGeom prst="rect">
              <a:avLst/>
            </a:prstGeom>
            <a:gradFill rotWithShape="0">
              <a:gsLst>
                <a:gs pos="0">
                  <a:srgbClr val="10253f"/>
                </a:gs>
                <a:gs pos="100000">
                  <a:srgbClr val="c6d9f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/>
          <p:nvPr/>
        </p:nvSpPr>
        <p:spPr>
          <a:xfrm>
            <a:off x="1619280" y="2160720"/>
            <a:ext cx="6513480" cy="35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81120" indent="-303120" algn="just">
              <a:lnSpc>
                <a:spcPct val="90000"/>
              </a:lnSpc>
              <a:spcBef>
                <a:spcPts val="950"/>
              </a:spcBef>
              <a:tabLst>
                <a:tab algn="l" pos="0"/>
                <a:tab algn="l" pos="681120"/>
                <a:tab algn="l" pos="1128600"/>
                <a:tab algn="l" pos="1577880"/>
                <a:tab algn="l" pos="2027160"/>
                <a:tab algn="l" pos="2476440"/>
                <a:tab algn="l" pos="2925720"/>
                <a:tab algn="l" pos="3375000"/>
                <a:tab algn="l" pos="3824280"/>
                <a:tab algn="l" pos="4273560"/>
                <a:tab algn="l" pos="4722840"/>
                <a:tab algn="l" pos="5172120"/>
                <a:tab algn="l" pos="5621400"/>
                <a:tab algn="l" pos="6070680"/>
                <a:tab algn="l" pos="6519960"/>
                <a:tab algn="l" pos="6969240"/>
                <a:tab algn="l" pos="7418520"/>
                <a:tab algn="l" pos="7867800"/>
                <a:tab algn="l" pos="8317080"/>
                <a:tab algn="l" pos="8766000"/>
                <a:tab algn="l" pos="9215280"/>
                <a:tab algn="l" pos="9664560"/>
                <a:tab algn="l" pos="9883800"/>
                <a:tab algn="l" pos="10333080"/>
                <a:tab algn="l" pos="1078236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681120" indent="-303120" algn="just">
              <a:lnSpc>
                <a:spcPct val="90000"/>
              </a:lnSpc>
              <a:spcBef>
                <a:spcPts val="950"/>
              </a:spcBef>
              <a:tabLst>
                <a:tab algn="l" pos="0"/>
                <a:tab algn="l" pos="681120"/>
                <a:tab algn="l" pos="1128600"/>
                <a:tab algn="l" pos="1577880"/>
                <a:tab algn="l" pos="2027160"/>
                <a:tab algn="l" pos="2476440"/>
                <a:tab algn="l" pos="2925720"/>
                <a:tab algn="l" pos="3375000"/>
                <a:tab algn="l" pos="3824280"/>
                <a:tab algn="l" pos="4273560"/>
                <a:tab algn="l" pos="4722840"/>
                <a:tab algn="l" pos="5172120"/>
                <a:tab algn="l" pos="5621400"/>
                <a:tab algn="l" pos="6070680"/>
                <a:tab algn="l" pos="6519960"/>
                <a:tab algn="l" pos="6969240"/>
                <a:tab algn="l" pos="7418520"/>
                <a:tab algn="l" pos="7867800"/>
                <a:tab algn="l" pos="8317080"/>
                <a:tab algn="l" pos="8766000"/>
                <a:tab algn="l" pos="9215280"/>
                <a:tab algn="l" pos="9664560"/>
                <a:tab algn="l" pos="9883800"/>
                <a:tab algn="l" pos="10333080"/>
                <a:tab algn="l" pos="1078236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681120" indent="-303120" algn="ctr">
              <a:lnSpc>
                <a:spcPct val="100000"/>
              </a:lnSpc>
              <a:spcBef>
                <a:spcPts val="950"/>
              </a:spcBef>
              <a:tabLst>
                <a:tab algn="l" pos="0"/>
                <a:tab algn="l" pos="681120"/>
                <a:tab algn="l" pos="1128600"/>
                <a:tab algn="l" pos="1577880"/>
                <a:tab algn="l" pos="2027160"/>
                <a:tab algn="l" pos="2476440"/>
                <a:tab algn="l" pos="2925720"/>
                <a:tab algn="l" pos="3375000"/>
                <a:tab algn="l" pos="3824280"/>
                <a:tab algn="l" pos="4273560"/>
                <a:tab algn="l" pos="4722840"/>
                <a:tab algn="l" pos="5172120"/>
                <a:tab algn="l" pos="5621400"/>
                <a:tab algn="l" pos="6070680"/>
                <a:tab algn="l" pos="6519960"/>
                <a:tab algn="l" pos="6969240"/>
                <a:tab algn="l" pos="7418520"/>
                <a:tab algn="l" pos="7867800"/>
                <a:tab algn="l" pos="8317080"/>
                <a:tab algn="l" pos="8766000"/>
                <a:tab algn="l" pos="9215280"/>
                <a:tab algn="l" pos="9664560"/>
                <a:tab algn="l" pos="9883800"/>
                <a:tab algn="l" pos="10333080"/>
                <a:tab algn="l" pos="1078236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1143000" y="3581280"/>
            <a:ext cx="5105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1447920" y="2438280"/>
            <a:ext cx="3124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-609480" y="5638680"/>
            <a:ext cx="8458200" cy="1447920"/>
          </a:xfrm>
          <a:prstGeom prst="flowChartInputOutpu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457200" y="2133720"/>
            <a:ext cx="1752480" cy="685800"/>
          </a:xfrm>
          <a:custGeom>
            <a:avLst/>
            <a:gdLst>
              <a:gd name="textAreaLeft" fmla="*/ 0 w 1752480"/>
              <a:gd name="textAreaRight" fmla="*/ 1752840 w 1752480"/>
              <a:gd name="textAreaTop" fmla="*/ 0 h 685800"/>
              <a:gd name="textAreaBottom" fmla="*/ 686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380880" y="2044800"/>
            <a:ext cx="82868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62040" indent="-301680" algn="just">
              <a:lnSpc>
                <a:spcPct val="90000"/>
              </a:lnSpc>
              <a:spcBef>
                <a:spcPts val="950"/>
              </a:spcBef>
              <a:buClr>
                <a:srgbClr val="800000"/>
              </a:buClr>
              <a:buSzPct val="150000"/>
              <a:buFont typeface="Wingdings" charset="2"/>
              <a:buChar char=""/>
              <a:tabLst>
                <a:tab algn="l" pos="662040"/>
                <a:tab algn="l" pos="1109520"/>
                <a:tab algn="l" pos="1558800"/>
                <a:tab algn="l" pos="2008080"/>
                <a:tab algn="l" pos="2457360"/>
                <a:tab algn="l" pos="2906640"/>
                <a:tab algn="l" pos="3355920"/>
                <a:tab algn="l" pos="3805200"/>
                <a:tab algn="l" pos="4254480"/>
                <a:tab algn="l" pos="4703760"/>
                <a:tab algn="l" pos="5153040"/>
                <a:tab algn="l" pos="5602320"/>
                <a:tab algn="l" pos="6051600"/>
                <a:tab algn="l" pos="6500880"/>
                <a:tab algn="l" pos="6950160"/>
                <a:tab algn="l" pos="7399440"/>
                <a:tab algn="l" pos="7848720"/>
                <a:tab algn="l" pos="8298000"/>
                <a:tab algn="l" pos="8747280"/>
                <a:tab algn="l" pos="9196560"/>
                <a:tab algn="l" pos="964548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000080"/>
                </a:solidFill>
                <a:latin typeface="Arial"/>
                <a:ea typeface="Times New Roman"/>
              </a:rPr>
              <a:t>Inclusão do campo no CNPJ/Serpro para coleta de informação necessária ao controle das contribuições previdenciárias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1219320" y="5562720"/>
            <a:ext cx="6705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360360" y="914400"/>
            <a:ext cx="86407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800" spc="-1" strike="noStrike">
                <a:solidFill>
                  <a:srgbClr val="000080"/>
                </a:solidFill>
                <a:latin typeface="Arial"/>
              </a:rPr>
              <a:t>Inclusão da “data do primeiro vínculo”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 flipH="1" flipV="1">
            <a:off x="0" y="1440"/>
            <a:ext cx="9144000" cy="720720"/>
          </a:xfrm>
          <a:prstGeom prst="rect">
            <a:avLst/>
          </a:prstGeom>
          <a:gradFill rotWithShape="0">
            <a:gsLst>
              <a:gs pos="0">
                <a:srgbClr val="10253f"/>
              </a:gs>
              <a:gs pos="100000">
                <a:srgbClr val="c6d9f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0" name="" descr=""/>
          <p:cNvPicPr/>
          <p:nvPr/>
        </p:nvPicPr>
        <p:blipFill>
          <a:blip r:embed="rId1"/>
          <a:stretch/>
        </p:blipFill>
        <p:spPr>
          <a:xfrm>
            <a:off x="6659640" y="82440"/>
            <a:ext cx="2303280" cy="603360"/>
          </a:xfrm>
          <a:prstGeom prst="rect">
            <a:avLst/>
          </a:prstGeom>
          <a:ln w="0">
            <a:noFill/>
          </a:ln>
        </p:spPr>
      </p:pic>
      <p:pic>
        <p:nvPicPr>
          <p:cNvPr id="441" name="" descr=""/>
          <p:cNvPicPr/>
          <p:nvPr/>
        </p:nvPicPr>
        <p:blipFill>
          <a:blip r:embed="rId2"/>
          <a:stretch/>
        </p:blipFill>
        <p:spPr>
          <a:xfrm>
            <a:off x="87480" y="34920"/>
            <a:ext cx="1892160" cy="650880"/>
          </a:xfrm>
          <a:prstGeom prst="rect">
            <a:avLst/>
          </a:prstGeom>
          <a:ln w="0">
            <a:noFill/>
          </a:ln>
        </p:spPr>
      </p:pic>
      <p:sp>
        <p:nvSpPr>
          <p:cNvPr id="442" name=""/>
          <p:cNvSpPr/>
          <p:nvPr/>
        </p:nvSpPr>
        <p:spPr>
          <a:xfrm flipH="1" flipV="1">
            <a:off x="-37080" y="754920"/>
            <a:ext cx="9180360" cy="17640"/>
          </a:xfrm>
          <a:prstGeom prst="rect">
            <a:avLst/>
          </a:prstGeom>
          <a:gradFill rotWithShape="0">
            <a:gsLst>
              <a:gs pos="0">
                <a:srgbClr val="10253f"/>
              </a:gs>
              <a:gs pos="100000">
                <a:srgbClr val="c6d9f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503280" y="3781440"/>
            <a:ext cx="86407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800" spc="-1" strike="noStrike">
                <a:solidFill>
                  <a:srgbClr val="000080"/>
                </a:solidFill>
                <a:latin typeface="Arial"/>
              </a:rPr>
              <a:t>Migração dos consórcios simplificados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800" spc="-1" strike="noStrike">
                <a:solidFill>
                  <a:srgbClr val="000080"/>
                </a:solidFill>
                <a:latin typeface="Arial"/>
              </a:rPr>
              <a:t>de produtores rurai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533520" y="5040360"/>
            <a:ext cx="82864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62040" indent="-301680" algn="just">
              <a:lnSpc>
                <a:spcPct val="90000"/>
              </a:lnSpc>
              <a:spcBef>
                <a:spcPts val="950"/>
              </a:spcBef>
              <a:buClr>
                <a:srgbClr val="800000"/>
              </a:buClr>
              <a:buSzPct val="150000"/>
              <a:buFont typeface="Wingdings" charset="2"/>
              <a:buChar char=""/>
              <a:tabLst>
                <a:tab algn="l" pos="662040"/>
                <a:tab algn="l" pos="1109520"/>
                <a:tab algn="l" pos="1558800"/>
                <a:tab algn="l" pos="2008080"/>
                <a:tab algn="l" pos="2457360"/>
                <a:tab algn="l" pos="2906640"/>
                <a:tab algn="l" pos="3355920"/>
                <a:tab algn="l" pos="3805200"/>
                <a:tab algn="l" pos="4254480"/>
                <a:tab algn="l" pos="4703760"/>
                <a:tab algn="l" pos="5153040"/>
                <a:tab algn="l" pos="5602320"/>
                <a:tab algn="l" pos="6051600"/>
                <a:tab algn="l" pos="6500880"/>
                <a:tab algn="l" pos="6950160"/>
                <a:tab algn="l" pos="7399440"/>
                <a:tab algn="l" pos="7848720"/>
                <a:tab algn="l" pos="8298000"/>
                <a:tab algn="l" pos="8747280"/>
                <a:tab algn="l" pos="9196560"/>
                <a:tab algn="l" pos="964548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000080"/>
                </a:solidFill>
                <a:latin typeface="Arial"/>
                <a:ea typeface="Times New Roman"/>
              </a:rPr>
              <a:t>Atribuição de um número de identificação no CNPJ e encerramento da matrícula CEI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797040" y="3251160"/>
            <a:ext cx="180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619280" y="2160720"/>
            <a:ext cx="6513480" cy="35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81120" indent="-303120" algn="just">
              <a:lnSpc>
                <a:spcPct val="90000"/>
              </a:lnSpc>
              <a:spcBef>
                <a:spcPts val="950"/>
              </a:spcBef>
              <a:tabLst>
                <a:tab algn="l" pos="0"/>
                <a:tab algn="l" pos="681120"/>
                <a:tab algn="l" pos="1128600"/>
                <a:tab algn="l" pos="1577880"/>
                <a:tab algn="l" pos="2027160"/>
                <a:tab algn="l" pos="2476440"/>
                <a:tab algn="l" pos="2925720"/>
                <a:tab algn="l" pos="3375000"/>
                <a:tab algn="l" pos="3824280"/>
                <a:tab algn="l" pos="4273560"/>
                <a:tab algn="l" pos="4722840"/>
                <a:tab algn="l" pos="5172120"/>
                <a:tab algn="l" pos="5621400"/>
                <a:tab algn="l" pos="6070680"/>
                <a:tab algn="l" pos="6519960"/>
                <a:tab algn="l" pos="6969240"/>
                <a:tab algn="l" pos="7418520"/>
                <a:tab algn="l" pos="7867800"/>
                <a:tab algn="l" pos="8317080"/>
                <a:tab algn="l" pos="8766000"/>
                <a:tab algn="l" pos="9215280"/>
                <a:tab algn="l" pos="9664560"/>
                <a:tab algn="l" pos="9883800"/>
                <a:tab algn="l" pos="10333080"/>
                <a:tab algn="l" pos="1078236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681120" indent="-303120" algn="just">
              <a:lnSpc>
                <a:spcPct val="90000"/>
              </a:lnSpc>
              <a:spcBef>
                <a:spcPts val="950"/>
              </a:spcBef>
              <a:tabLst>
                <a:tab algn="l" pos="0"/>
                <a:tab algn="l" pos="681120"/>
                <a:tab algn="l" pos="1128600"/>
                <a:tab algn="l" pos="1577880"/>
                <a:tab algn="l" pos="2027160"/>
                <a:tab algn="l" pos="2476440"/>
                <a:tab algn="l" pos="2925720"/>
                <a:tab algn="l" pos="3375000"/>
                <a:tab algn="l" pos="3824280"/>
                <a:tab algn="l" pos="4273560"/>
                <a:tab algn="l" pos="4722840"/>
                <a:tab algn="l" pos="5172120"/>
                <a:tab algn="l" pos="5621400"/>
                <a:tab algn="l" pos="6070680"/>
                <a:tab algn="l" pos="6519960"/>
                <a:tab algn="l" pos="6969240"/>
                <a:tab algn="l" pos="7418520"/>
                <a:tab algn="l" pos="7867800"/>
                <a:tab algn="l" pos="8317080"/>
                <a:tab algn="l" pos="8766000"/>
                <a:tab algn="l" pos="9215280"/>
                <a:tab algn="l" pos="9664560"/>
                <a:tab algn="l" pos="9883800"/>
                <a:tab algn="l" pos="10333080"/>
                <a:tab algn="l" pos="1078236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681120" indent="-303120" algn="ctr">
              <a:lnSpc>
                <a:spcPct val="100000"/>
              </a:lnSpc>
              <a:spcBef>
                <a:spcPts val="950"/>
              </a:spcBef>
              <a:tabLst>
                <a:tab algn="l" pos="0"/>
                <a:tab algn="l" pos="681120"/>
                <a:tab algn="l" pos="1128600"/>
                <a:tab algn="l" pos="1577880"/>
                <a:tab algn="l" pos="2027160"/>
                <a:tab algn="l" pos="2476440"/>
                <a:tab algn="l" pos="2925720"/>
                <a:tab algn="l" pos="3375000"/>
                <a:tab algn="l" pos="3824280"/>
                <a:tab algn="l" pos="4273560"/>
                <a:tab algn="l" pos="4722840"/>
                <a:tab algn="l" pos="5172120"/>
                <a:tab algn="l" pos="5621400"/>
                <a:tab algn="l" pos="6070680"/>
                <a:tab algn="l" pos="6519960"/>
                <a:tab algn="l" pos="6969240"/>
                <a:tab algn="l" pos="7418520"/>
                <a:tab algn="l" pos="7867800"/>
                <a:tab algn="l" pos="8317080"/>
                <a:tab algn="l" pos="8766000"/>
                <a:tab algn="l" pos="9215280"/>
                <a:tab algn="l" pos="9664560"/>
                <a:tab algn="l" pos="9883800"/>
                <a:tab algn="l" pos="10333080"/>
                <a:tab algn="l" pos="1078236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 flipV="1">
            <a:off x="-720" y="0"/>
            <a:ext cx="9180360" cy="72072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00458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6780240" y="81000"/>
            <a:ext cx="2184480" cy="56844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1295280" y="4267080"/>
            <a:ext cx="6172200" cy="1981440"/>
          </a:xfrm>
          <a:prstGeom prst="foldedCorner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066680" y="5105520"/>
            <a:ext cx="6705720" cy="1295280"/>
          </a:xfrm>
          <a:prstGeom prst="foldedCorner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-2514600" y="4343400"/>
            <a:ext cx="1981080" cy="1752480"/>
          </a:xfrm>
          <a:prstGeom prst="foldedCorner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-360" y="6696000"/>
            <a:ext cx="9178920" cy="155160"/>
            <a:chOff x="-360" y="6696000"/>
            <a:chExt cx="9178920" cy="155160"/>
          </a:xfrm>
        </p:grpSpPr>
        <p:sp>
          <p:nvSpPr>
            <p:cNvPr id="117" name=""/>
            <p:cNvSpPr/>
            <p:nvPr/>
          </p:nvSpPr>
          <p:spPr>
            <a:xfrm flipH="1" flipV="1">
              <a:off x="-720" y="6696000"/>
              <a:ext cx="9178920" cy="15840"/>
            </a:xfrm>
            <a:prstGeom prst="rect">
              <a:avLst/>
            </a:prstGeom>
            <a:gradFill rotWithShape="0">
              <a:gsLst>
                <a:gs pos="0">
                  <a:srgbClr val="10253f"/>
                </a:gs>
                <a:gs pos="100000">
                  <a:srgbClr val="c6d9f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 flipV="1">
              <a:off x="-720" y="6768360"/>
              <a:ext cx="9178920" cy="82440"/>
            </a:xfrm>
            <a:prstGeom prst="rect">
              <a:avLst/>
            </a:prstGeom>
            <a:gradFill rotWithShape="0">
              <a:gsLst>
                <a:gs pos="0">
                  <a:srgbClr val="10253f"/>
                </a:gs>
                <a:gs pos="100000">
                  <a:srgbClr val="c6d9f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 flipH="1" flipV="1">
              <a:off x="-720" y="6732720"/>
              <a:ext cx="9178920" cy="15840"/>
            </a:xfrm>
            <a:prstGeom prst="rect">
              <a:avLst/>
            </a:prstGeom>
            <a:gradFill rotWithShape="0">
              <a:gsLst>
                <a:gs pos="0">
                  <a:srgbClr val="10253f"/>
                </a:gs>
                <a:gs pos="100000">
                  <a:srgbClr val="c6d9f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1871640" y="1460520"/>
            <a:ext cx="5013360" cy="1490760"/>
            <a:chOff x="1871640" y="1460520"/>
            <a:chExt cx="5013360" cy="1490760"/>
          </a:xfrm>
        </p:grpSpPr>
        <p:pic>
          <p:nvPicPr>
            <p:cNvPr id="121" name="" descr=""/>
            <p:cNvPicPr/>
            <p:nvPr/>
          </p:nvPicPr>
          <p:blipFill>
            <a:blip r:embed="rId2"/>
            <a:stretch/>
          </p:blipFill>
          <p:spPr>
            <a:xfrm>
              <a:off x="1871640" y="1460520"/>
              <a:ext cx="5013360" cy="149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"/>
            <p:cNvSpPr/>
            <p:nvPr/>
          </p:nvSpPr>
          <p:spPr>
            <a:xfrm>
              <a:off x="2997360" y="1906560"/>
              <a:ext cx="302400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pt-BR" sz="2400" spc="-1" strike="noStrike">
                  <a:solidFill>
                    <a:srgbClr val="004586"/>
                  </a:solidFill>
                  <a:latin typeface="Arial"/>
                </a:rPr>
                <a:t>Lei n° 11.457/2007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87480" y="104760"/>
            <a:ext cx="1676160" cy="54288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4716360" y="3527280"/>
            <a:ext cx="3600720" cy="1079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46"/>
              </a:gs>
              <a:gs pos="100000">
                <a:srgbClr val="a5a5a5"/>
              </a:gs>
            </a:gsLst>
            <a:lin ang="2700000"/>
          </a:gradFill>
          <a:ln w="936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Ministério da Previdência Socia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Secretaria da Receita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Previdenciária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00360" y="4140360"/>
            <a:ext cx="3600360" cy="1439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46"/>
              </a:gs>
              <a:gs pos="100000">
                <a:srgbClr val="a5a5a5"/>
              </a:gs>
            </a:gsLst>
            <a:lin ang="2700000"/>
          </a:gradFill>
          <a:ln w="936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Ministério da Fazenda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Secretaria da Receita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Federal do Brasi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84360" y="3527280"/>
            <a:ext cx="3600360" cy="1079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46"/>
              </a:gs>
              <a:gs pos="100000">
                <a:srgbClr val="a5a5a5"/>
              </a:gs>
            </a:gsLst>
            <a:lin ang="2700000"/>
          </a:gradFill>
          <a:ln w="936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Ministério da Fazenda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Secretaria da Receita Federa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 flipV="1">
            <a:off x="0" y="0"/>
            <a:ext cx="9144000" cy="720720"/>
          </a:xfrm>
          <a:prstGeom prst="rect">
            <a:avLst/>
          </a:prstGeom>
          <a:gradFill rotWithShape="0">
            <a:gsLst>
              <a:gs pos="0">
                <a:srgbClr val="10253f"/>
              </a:gs>
              <a:gs pos="100000">
                <a:srgbClr val="c6d9f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6659640" y="81000"/>
            <a:ext cx="2303280" cy="60336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5"/>
          <a:stretch/>
        </p:blipFill>
        <p:spPr>
          <a:xfrm>
            <a:off x="87480" y="33480"/>
            <a:ext cx="1892160" cy="65088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 flipH="1" flipV="1">
            <a:off x="-37080" y="754920"/>
            <a:ext cx="9180360" cy="17640"/>
          </a:xfrm>
          <a:prstGeom prst="rect">
            <a:avLst/>
          </a:prstGeom>
          <a:gradFill rotWithShape="0">
            <a:gsLst>
              <a:gs pos="0">
                <a:srgbClr val="10253f"/>
              </a:gs>
              <a:gs pos="100000">
                <a:srgbClr val="c6d9f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55556875416068 0 L -0.227295726234476 0 E">
                                      <p:cBhvr>
                                        <p:cTn id="6" dur="2000" fill="hold"/>
                                        <p:tgtEl>
                                          <p:spTgt spid="1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8439925225174 0 L 0.210445816575086 0 E">
                                      <p:cBhvr>
                                        <p:cTn id="8" dur="20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" dur="2000" fill="hold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" dur="2000" fill="hold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dur="indefinite" fill="hold">
                            <p:stCondLst>
                              <p:cond delay="2000"/>
                            </p:stCondLst>
                            <p:childTnLst>
                              <p:par>
                                <p:cTn id="16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1000" fill="hold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"/>
          <p:cNvSpPr/>
          <p:nvPr/>
        </p:nvSpPr>
        <p:spPr>
          <a:xfrm>
            <a:off x="1619280" y="2160720"/>
            <a:ext cx="6513480" cy="35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81120" indent="-303120" algn="just">
              <a:lnSpc>
                <a:spcPct val="90000"/>
              </a:lnSpc>
              <a:spcBef>
                <a:spcPts val="950"/>
              </a:spcBef>
              <a:tabLst>
                <a:tab algn="l" pos="0"/>
                <a:tab algn="l" pos="681120"/>
                <a:tab algn="l" pos="1128600"/>
                <a:tab algn="l" pos="1577880"/>
                <a:tab algn="l" pos="2027160"/>
                <a:tab algn="l" pos="2476440"/>
                <a:tab algn="l" pos="2925720"/>
                <a:tab algn="l" pos="3375000"/>
                <a:tab algn="l" pos="3824280"/>
                <a:tab algn="l" pos="4273560"/>
                <a:tab algn="l" pos="4722840"/>
                <a:tab algn="l" pos="5172120"/>
                <a:tab algn="l" pos="5621400"/>
                <a:tab algn="l" pos="6070680"/>
                <a:tab algn="l" pos="6519960"/>
                <a:tab algn="l" pos="6969240"/>
                <a:tab algn="l" pos="7418520"/>
                <a:tab algn="l" pos="7867800"/>
                <a:tab algn="l" pos="8317080"/>
                <a:tab algn="l" pos="8766000"/>
                <a:tab algn="l" pos="9215280"/>
                <a:tab algn="l" pos="9664560"/>
                <a:tab algn="l" pos="9883800"/>
                <a:tab algn="l" pos="10333080"/>
                <a:tab algn="l" pos="1078236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681120" indent="-303120" algn="just">
              <a:lnSpc>
                <a:spcPct val="90000"/>
              </a:lnSpc>
              <a:spcBef>
                <a:spcPts val="950"/>
              </a:spcBef>
              <a:tabLst>
                <a:tab algn="l" pos="0"/>
                <a:tab algn="l" pos="681120"/>
                <a:tab algn="l" pos="1128600"/>
                <a:tab algn="l" pos="1577880"/>
                <a:tab algn="l" pos="2027160"/>
                <a:tab algn="l" pos="2476440"/>
                <a:tab algn="l" pos="2925720"/>
                <a:tab algn="l" pos="3375000"/>
                <a:tab algn="l" pos="3824280"/>
                <a:tab algn="l" pos="4273560"/>
                <a:tab algn="l" pos="4722840"/>
                <a:tab algn="l" pos="5172120"/>
                <a:tab algn="l" pos="5621400"/>
                <a:tab algn="l" pos="6070680"/>
                <a:tab algn="l" pos="6519960"/>
                <a:tab algn="l" pos="6969240"/>
                <a:tab algn="l" pos="7418520"/>
                <a:tab algn="l" pos="7867800"/>
                <a:tab algn="l" pos="8317080"/>
                <a:tab algn="l" pos="8766000"/>
                <a:tab algn="l" pos="9215280"/>
                <a:tab algn="l" pos="9664560"/>
                <a:tab algn="l" pos="9883800"/>
                <a:tab algn="l" pos="10333080"/>
                <a:tab algn="l" pos="1078236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681120" indent="-303120" algn="ctr">
              <a:lnSpc>
                <a:spcPct val="100000"/>
              </a:lnSpc>
              <a:spcBef>
                <a:spcPts val="950"/>
              </a:spcBef>
              <a:tabLst>
                <a:tab algn="l" pos="0"/>
                <a:tab algn="l" pos="681120"/>
                <a:tab algn="l" pos="1128600"/>
                <a:tab algn="l" pos="1577880"/>
                <a:tab algn="l" pos="2027160"/>
                <a:tab algn="l" pos="2476440"/>
                <a:tab algn="l" pos="2925720"/>
                <a:tab algn="l" pos="3375000"/>
                <a:tab algn="l" pos="3824280"/>
                <a:tab algn="l" pos="4273560"/>
                <a:tab algn="l" pos="4722840"/>
                <a:tab algn="l" pos="5172120"/>
                <a:tab algn="l" pos="5621400"/>
                <a:tab algn="l" pos="6070680"/>
                <a:tab algn="l" pos="6519960"/>
                <a:tab algn="l" pos="6969240"/>
                <a:tab algn="l" pos="7418520"/>
                <a:tab algn="l" pos="7867800"/>
                <a:tab algn="l" pos="8317080"/>
                <a:tab algn="l" pos="8766000"/>
                <a:tab algn="l" pos="9215280"/>
                <a:tab algn="l" pos="9664560"/>
                <a:tab algn="l" pos="9883800"/>
                <a:tab algn="l" pos="10333080"/>
                <a:tab algn="l" pos="1078236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066680" y="5105520"/>
            <a:ext cx="6705720" cy="1295280"/>
          </a:xfrm>
          <a:prstGeom prst="foldedCorner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-2514600" y="4343400"/>
            <a:ext cx="1981080" cy="1752480"/>
          </a:xfrm>
          <a:prstGeom prst="foldedCorner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79280" y="1022400"/>
            <a:ext cx="5580000" cy="59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3200" spc="-1" strike="noStrike">
                <a:solidFill>
                  <a:srgbClr val="000080"/>
                </a:solidFill>
                <a:latin typeface="Arial"/>
              </a:rPr>
              <a:t>Situação atual do projet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50" name=""/>
          <p:cNvGrpSpPr/>
          <p:nvPr/>
        </p:nvGrpSpPr>
        <p:grpSpPr>
          <a:xfrm>
            <a:off x="-360" y="6696000"/>
            <a:ext cx="9178920" cy="155160"/>
            <a:chOff x="-360" y="6696000"/>
            <a:chExt cx="9178920" cy="155160"/>
          </a:xfrm>
        </p:grpSpPr>
        <p:sp>
          <p:nvSpPr>
            <p:cNvPr id="451" name=""/>
            <p:cNvSpPr/>
            <p:nvPr/>
          </p:nvSpPr>
          <p:spPr>
            <a:xfrm flipH="1" flipV="1">
              <a:off x="-720" y="6696000"/>
              <a:ext cx="9178920" cy="15840"/>
            </a:xfrm>
            <a:prstGeom prst="rect">
              <a:avLst/>
            </a:prstGeom>
            <a:gradFill rotWithShape="0">
              <a:gsLst>
                <a:gs pos="0">
                  <a:srgbClr val="10253f"/>
                </a:gs>
                <a:gs pos="100000">
                  <a:srgbClr val="c6d9f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 flipV="1">
              <a:off x="-720" y="6768360"/>
              <a:ext cx="9178920" cy="82440"/>
            </a:xfrm>
            <a:prstGeom prst="rect">
              <a:avLst/>
            </a:prstGeom>
            <a:gradFill rotWithShape="0">
              <a:gsLst>
                <a:gs pos="0">
                  <a:srgbClr val="10253f"/>
                </a:gs>
                <a:gs pos="100000">
                  <a:srgbClr val="c6d9f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 flipV="1">
              <a:off x="-720" y="6732720"/>
              <a:ext cx="9178920" cy="15840"/>
            </a:xfrm>
            <a:prstGeom prst="rect">
              <a:avLst/>
            </a:prstGeom>
            <a:gradFill rotWithShape="0">
              <a:gsLst>
                <a:gs pos="0">
                  <a:srgbClr val="10253f"/>
                </a:gs>
                <a:gs pos="100000">
                  <a:srgbClr val="c6d9f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54" name=""/>
          <p:cNvSpPr/>
          <p:nvPr/>
        </p:nvSpPr>
        <p:spPr>
          <a:xfrm flipH="1" flipV="1">
            <a:off x="0" y="1440"/>
            <a:ext cx="9144000" cy="720720"/>
          </a:xfrm>
          <a:prstGeom prst="rect">
            <a:avLst/>
          </a:prstGeom>
          <a:gradFill rotWithShape="0">
            <a:gsLst>
              <a:gs pos="0">
                <a:srgbClr val="10253f"/>
              </a:gs>
              <a:gs pos="100000">
                <a:srgbClr val="c6d9f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5" name="" descr=""/>
          <p:cNvPicPr/>
          <p:nvPr/>
        </p:nvPicPr>
        <p:blipFill>
          <a:blip r:embed="rId1"/>
          <a:stretch/>
        </p:blipFill>
        <p:spPr>
          <a:xfrm>
            <a:off x="6659640" y="82440"/>
            <a:ext cx="2303280" cy="603360"/>
          </a:xfrm>
          <a:prstGeom prst="rect">
            <a:avLst/>
          </a:prstGeom>
          <a:ln w="0">
            <a:noFill/>
          </a:ln>
        </p:spPr>
      </p:pic>
      <p:pic>
        <p:nvPicPr>
          <p:cNvPr id="456" name="" descr=""/>
          <p:cNvPicPr/>
          <p:nvPr/>
        </p:nvPicPr>
        <p:blipFill>
          <a:blip r:embed="rId2"/>
          <a:stretch/>
        </p:blipFill>
        <p:spPr>
          <a:xfrm>
            <a:off x="87480" y="34920"/>
            <a:ext cx="1892160" cy="650880"/>
          </a:xfrm>
          <a:prstGeom prst="rect">
            <a:avLst/>
          </a:prstGeom>
          <a:ln w="0">
            <a:noFill/>
          </a:ln>
        </p:spPr>
      </p:pic>
      <p:sp>
        <p:nvSpPr>
          <p:cNvPr id="457" name=""/>
          <p:cNvSpPr/>
          <p:nvPr/>
        </p:nvSpPr>
        <p:spPr>
          <a:xfrm flipH="1" flipV="1">
            <a:off x="-37080" y="754920"/>
            <a:ext cx="9180360" cy="17640"/>
          </a:xfrm>
          <a:prstGeom prst="rect">
            <a:avLst/>
          </a:prstGeom>
          <a:gradFill rotWithShape="0">
            <a:gsLst>
              <a:gs pos="0">
                <a:srgbClr val="10253f"/>
              </a:gs>
              <a:gs pos="100000">
                <a:srgbClr val="c6d9f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655640" y="5003640"/>
            <a:ext cx="575964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3372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200" spc="-1" strike="noStrike">
                <a:solidFill>
                  <a:srgbClr val="000080"/>
                </a:solidFill>
                <a:latin typeface="Arial"/>
                <a:ea typeface="Times New Roman"/>
              </a:rPr>
              <a:t>Sistemas em desenvolvimento. 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372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200" spc="-1" strike="noStrike">
                <a:solidFill>
                  <a:srgbClr val="000080"/>
                </a:solidFill>
                <a:latin typeface="Arial"/>
                <a:ea typeface="Times New Roman"/>
              </a:rPr>
              <a:t>Homologação prevista para 07/10/2013.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903240" y="2124000"/>
            <a:ext cx="7197840" cy="20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800" spc="-1" strike="noStrike">
                <a:solidFill>
                  <a:srgbClr val="280099"/>
                </a:solidFill>
                <a:latin typeface="Arial"/>
              </a:rPr>
              <a:t>Cadastro de Atividades Econômicas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800" spc="-1" strike="noStrike">
                <a:solidFill>
                  <a:srgbClr val="280099"/>
                </a:solidFill>
                <a:latin typeface="Arial"/>
              </a:rPr>
              <a:t>da Pessoa Física – CAEPF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800" spc="-1" strike="noStrike">
                <a:solidFill>
                  <a:srgbClr val="280099"/>
                </a:solidFill>
                <a:latin typeface="Arial"/>
              </a:rPr>
              <a:t>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800" spc="-1" strike="noStrike">
                <a:solidFill>
                  <a:srgbClr val="280099"/>
                </a:solidFill>
                <a:latin typeface="Arial"/>
              </a:rPr>
              <a:t>Cadastro Nacional de Obras – CNO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3887640" y="4319640"/>
            <a:ext cx="1260720" cy="53964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808080"/>
              </a:gs>
              <a:gs pos="100000">
                <a:srgbClr val="e6e6e6"/>
              </a:gs>
            </a:gsLst>
            <a:lin ang="36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"/>
          <p:cNvSpPr/>
          <p:nvPr/>
        </p:nvSpPr>
        <p:spPr>
          <a:xfrm>
            <a:off x="1619280" y="2160720"/>
            <a:ext cx="6513480" cy="35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81120" indent="-303120" algn="just">
              <a:lnSpc>
                <a:spcPct val="90000"/>
              </a:lnSpc>
              <a:spcBef>
                <a:spcPts val="950"/>
              </a:spcBef>
              <a:tabLst>
                <a:tab algn="l" pos="0"/>
                <a:tab algn="l" pos="681120"/>
                <a:tab algn="l" pos="1128600"/>
                <a:tab algn="l" pos="1577880"/>
                <a:tab algn="l" pos="2027160"/>
                <a:tab algn="l" pos="2476440"/>
                <a:tab algn="l" pos="2925720"/>
                <a:tab algn="l" pos="3375000"/>
                <a:tab algn="l" pos="3824280"/>
                <a:tab algn="l" pos="4273560"/>
                <a:tab algn="l" pos="4722840"/>
                <a:tab algn="l" pos="5172120"/>
                <a:tab algn="l" pos="5621400"/>
                <a:tab algn="l" pos="6070680"/>
                <a:tab algn="l" pos="6519960"/>
                <a:tab algn="l" pos="6969240"/>
                <a:tab algn="l" pos="7418520"/>
                <a:tab algn="l" pos="7867800"/>
                <a:tab algn="l" pos="8317080"/>
                <a:tab algn="l" pos="8766000"/>
                <a:tab algn="l" pos="9215280"/>
                <a:tab algn="l" pos="9664560"/>
                <a:tab algn="l" pos="9883800"/>
                <a:tab algn="l" pos="10333080"/>
                <a:tab algn="l" pos="1078236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681120" indent="-303120" algn="just">
              <a:lnSpc>
                <a:spcPct val="90000"/>
              </a:lnSpc>
              <a:spcBef>
                <a:spcPts val="950"/>
              </a:spcBef>
              <a:tabLst>
                <a:tab algn="l" pos="0"/>
                <a:tab algn="l" pos="681120"/>
                <a:tab algn="l" pos="1128600"/>
                <a:tab algn="l" pos="1577880"/>
                <a:tab algn="l" pos="2027160"/>
                <a:tab algn="l" pos="2476440"/>
                <a:tab algn="l" pos="2925720"/>
                <a:tab algn="l" pos="3375000"/>
                <a:tab algn="l" pos="3824280"/>
                <a:tab algn="l" pos="4273560"/>
                <a:tab algn="l" pos="4722840"/>
                <a:tab algn="l" pos="5172120"/>
                <a:tab algn="l" pos="5621400"/>
                <a:tab algn="l" pos="6070680"/>
                <a:tab algn="l" pos="6519960"/>
                <a:tab algn="l" pos="6969240"/>
                <a:tab algn="l" pos="7418520"/>
                <a:tab algn="l" pos="7867800"/>
                <a:tab algn="l" pos="8317080"/>
                <a:tab algn="l" pos="8766000"/>
                <a:tab algn="l" pos="9215280"/>
                <a:tab algn="l" pos="9664560"/>
                <a:tab algn="l" pos="9883800"/>
                <a:tab algn="l" pos="10333080"/>
                <a:tab algn="l" pos="1078236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681120" indent="-303120" algn="ctr">
              <a:lnSpc>
                <a:spcPct val="100000"/>
              </a:lnSpc>
              <a:spcBef>
                <a:spcPts val="950"/>
              </a:spcBef>
              <a:tabLst>
                <a:tab algn="l" pos="0"/>
                <a:tab algn="l" pos="681120"/>
                <a:tab algn="l" pos="1128600"/>
                <a:tab algn="l" pos="1577880"/>
                <a:tab algn="l" pos="2027160"/>
                <a:tab algn="l" pos="2476440"/>
                <a:tab algn="l" pos="2925720"/>
                <a:tab algn="l" pos="3375000"/>
                <a:tab algn="l" pos="3824280"/>
                <a:tab algn="l" pos="4273560"/>
                <a:tab algn="l" pos="4722840"/>
                <a:tab algn="l" pos="5172120"/>
                <a:tab algn="l" pos="5621400"/>
                <a:tab algn="l" pos="6070680"/>
                <a:tab algn="l" pos="6519960"/>
                <a:tab algn="l" pos="6969240"/>
                <a:tab algn="l" pos="7418520"/>
                <a:tab algn="l" pos="7867800"/>
                <a:tab algn="l" pos="8317080"/>
                <a:tab algn="l" pos="8766000"/>
                <a:tab algn="l" pos="9215280"/>
                <a:tab algn="l" pos="9664560"/>
                <a:tab algn="l" pos="9883800"/>
                <a:tab algn="l" pos="10333080"/>
                <a:tab algn="l" pos="1078236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1066680" y="5105520"/>
            <a:ext cx="6705720" cy="1295280"/>
          </a:xfrm>
          <a:prstGeom prst="foldedCorner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-2514600" y="4343400"/>
            <a:ext cx="1981080" cy="1752480"/>
          </a:xfrm>
          <a:prstGeom prst="foldedCorner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0" y="806400"/>
            <a:ext cx="5580000" cy="59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3200" spc="-1" strike="noStrike">
                <a:solidFill>
                  <a:srgbClr val="000080"/>
                </a:solidFill>
                <a:latin typeface="Arial"/>
              </a:rPr>
              <a:t>Situação atual do projet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5" name=""/>
          <p:cNvGrpSpPr/>
          <p:nvPr/>
        </p:nvGrpSpPr>
        <p:grpSpPr>
          <a:xfrm>
            <a:off x="-360" y="6696000"/>
            <a:ext cx="9178920" cy="155160"/>
            <a:chOff x="-360" y="6696000"/>
            <a:chExt cx="9178920" cy="155160"/>
          </a:xfrm>
        </p:grpSpPr>
        <p:sp>
          <p:nvSpPr>
            <p:cNvPr id="466" name=""/>
            <p:cNvSpPr/>
            <p:nvPr/>
          </p:nvSpPr>
          <p:spPr>
            <a:xfrm flipH="1" flipV="1">
              <a:off x="-720" y="6696000"/>
              <a:ext cx="9178920" cy="15840"/>
            </a:xfrm>
            <a:prstGeom prst="rect">
              <a:avLst/>
            </a:prstGeom>
            <a:gradFill rotWithShape="0">
              <a:gsLst>
                <a:gs pos="0">
                  <a:srgbClr val="10253f"/>
                </a:gs>
                <a:gs pos="100000">
                  <a:srgbClr val="c6d9f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 flipH="1" flipV="1">
              <a:off x="-720" y="6768360"/>
              <a:ext cx="9178920" cy="82440"/>
            </a:xfrm>
            <a:prstGeom prst="rect">
              <a:avLst/>
            </a:prstGeom>
            <a:gradFill rotWithShape="0">
              <a:gsLst>
                <a:gs pos="0">
                  <a:srgbClr val="10253f"/>
                </a:gs>
                <a:gs pos="100000">
                  <a:srgbClr val="c6d9f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 flipH="1" flipV="1">
              <a:off x="-720" y="6732720"/>
              <a:ext cx="9178920" cy="15840"/>
            </a:xfrm>
            <a:prstGeom prst="rect">
              <a:avLst/>
            </a:prstGeom>
            <a:gradFill rotWithShape="0">
              <a:gsLst>
                <a:gs pos="0">
                  <a:srgbClr val="10253f"/>
                </a:gs>
                <a:gs pos="100000">
                  <a:srgbClr val="c6d9f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69" name=""/>
          <p:cNvSpPr/>
          <p:nvPr/>
        </p:nvSpPr>
        <p:spPr>
          <a:xfrm>
            <a:off x="71280" y="2016000"/>
            <a:ext cx="8999640" cy="29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372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372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600" spc="-1" strike="noStrike">
                <a:solidFill>
                  <a:srgbClr val="280099"/>
                </a:solidFill>
                <a:latin typeface="Arial"/>
                <a:ea typeface="Times New Roman"/>
              </a:rPr>
              <a:t>Inclusão da Data do Primeiro Vínculo 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3372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600" spc="-1" strike="noStrike">
                <a:solidFill>
                  <a:srgbClr val="280099"/>
                </a:solidFill>
                <a:latin typeface="Arial"/>
                <a:ea typeface="Times New Roman"/>
              </a:rPr>
              <a:t>no CNPJ/Serpro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3372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3372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372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200" spc="-1" strike="noStrike">
                <a:solidFill>
                  <a:srgbClr val="000080"/>
                </a:solidFill>
                <a:latin typeface="Arial"/>
                <a:ea typeface="Times New Roman"/>
              </a:rPr>
              <a:t>Campo incluído.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372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200" spc="-1" strike="noStrike">
                <a:solidFill>
                  <a:srgbClr val="000080"/>
                </a:solidFill>
                <a:latin typeface="Arial"/>
                <a:ea typeface="Times New Roman"/>
              </a:rPr>
              <a:t>Povoamento com as informações da Dataprev 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372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200" spc="-1" strike="noStrike">
                <a:solidFill>
                  <a:srgbClr val="000080"/>
                </a:solidFill>
                <a:latin typeface="Arial"/>
                <a:ea typeface="Times New Roman"/>
              </a:rPr>
              <a:t>previsto para julho de 2013.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372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37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1479600" indent="-56196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 flipH="1" flipV="1">
            <a:off x="0" y="1440"/>
            <a:ext cx="9144000" cy="720720"/>
          </a:xfrm>
          <a:prstGeom prst="rect">
            <a:avLst/>
          </a:prstGeom>
          <a:gradFill rotWithShape="0">
            <a:gsLst>
              <a:gs pos="0">
                <a:srgbClr val="10253f"/>
              </a:gs>
              <a:gs pos="100000">
                <a:srgbClr val="c6d9f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1" name="" descr=""/>
          <p:cNvPicPr/>
          <p:nvPr/>
        </p:nvPicPr>
        <p:blipFill>
          <a:blip r:embed="rId1"/>
          <a:stretch/>
        </p:blipFill>
        <p:spPr>
          <a:xfrm>
            <a:off x="6659640" y="82440"/>
            <a:ext cx="2303280" cy="603360"/>
          </a:xfrm>
          <a:prstGeom prst="rect">
            <a:avLst/>
          </a:prstGeom>
          <a:ln w="0">
            <a:noFill/>
          </a:ln>
        </p:spPr>
      </p:pic>
      <p:pic>
        <p:nvPicPr>
          <p:cNvPr id="472" name="" descr=""/>
          <p:cNvPicPr/>
          <p:nvPr/>
        </p:nvPicPr>
        <p:blipFill>
          <a:blip r:embed="rId2"/>
          <a:stretch/>
        </p:blipFill>
        <p:spPr>
          <a:xfrm>
            <a:off x="87480" y="34920"/>
            <a:ext cx="1892160" cy="650880"/>
          </a:xfrm>
          <a:prstGeom prst="rect">
            <a:avLst/>
          </a:prstGeom>
          <a:ln w="0">
            <a:noFill/>
          </a:ln>
        </p:spPr>
      </p:pic>
      <p:sp>
        <p:nvSpPr>
          <p:cNvPr id="473" name=""/>
          <p:cNvSpPr/>
          <p:nvPr/>
        </p:nvSpPr>
        <p:spPr>
          <a:xfrm flipH="1" flipV="1">
            <a:off x="-37080" y="754920"/>
            <a:ext cx="9180360" cy="17640"/>
          </a:xfrm>
          <a:prstGeom prst="rect">
            <a:avLst/>
          </a:prstGeom>
          <a:gradFill rotWithShape="0">
            <a:gsLst>
              <a:gs pos="0">
                <a:srgbClr val="10253f"/>
              </a:gs>
              <a:gs pos="100000">
                <a:srgbClr val="c6d9f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3959280" y="3635280"/>
            <a:ext cx="1260360" cy="54000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808080"/>
              </a:gs>
              <a:gs pos="100000">
                <a:srgbClr val="e6e6e6"/>
              </a:gs>
            </a:gsLst>
            <a:lin ang="36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/>
          <p:nvPr/>
        </p:nvSpPr>
        <p:spPr>
          <a:xfrm>
            <a:off x="1619280" y="2160720"/>
            <a:ext cx="6513480" cy="35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81120" indent="-303120" algn="just">
              <a:lnSpc>
                <a:spcPct val="90000"/>
              </a:lnSpc>
              <a:spcBef>
                <a:spcPts val="950"/>
              </a:spcBef>
              <a:tabLst>
                <a:tab algn="l" pos="0"/>
                <a:tab algn="l" pos="681120"/>
                <a:tab algn="l" pos="1128600"/>
                <a:tab algn="l" pos="1577880"/>
                <a:tab algn="l" pos="2027160"/>
                <a:tab algn="l" pos="2476440"/>
                <a:tab algn="l" pos="2925720"/>
                <a:tab algn="l" pos="3375000"/>
                <a:tab algn="l" pos="3824280"/>
                <a:tab algn="l" pos="4273560"/>
                <a:tab algn="l" pos="4722840"/>
                <a:tab algn="l" pos="5172120"/>
                <a:tab algn="l" pos="5621400"/>
                <a:tab algn="l" pos="6070680"/>
                <a:tab algn="l" pos="6519960"/>
                <a:tab algn="l" pos="6969240"/>
                <a:tab algn="l" pos="7418520"/>
                <a:tab algn="l" pos="7867800"/>
                <a:tab algn="l" pos="8317080"/>
                <a:tab algn="l" pos="8766000"/>
                <a:tab algn="l" pos="9215280"/>
                <a:tab algn="l" pos="9664560"/>
                <a:tab algn="l" pos="9883800"/>
                <a:tab algn="l" pos="10333080"/>
                <a:tab algn="l" pos="1078236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681120" indent="-303120" algn="just">
              <a:lnSpc>
                <a:spcPct val="90000"/>
              </a:lnSpc>
              <a:spcBef>
                <a:spcPts val="950"/>
              </a:spcBef>
              <a:tabLst>
                <a:tab algn="l" pos="0"/>
                <a:tab algn="l" pos="681120"/>
                <a:tab algn="l" pos="1128600"/>
                <a:tab algn="l" pos="1577880"/>
                <a:tab algn="l" pos="2027160"/>
                <a:tab algn="l" pos="2476440"/>
                <a:tab algn="l" pos="2925720"/>
                <a:tab algn="l" pos="3375000"/>
                <a:tab algn="l" pos="3824280"/>
                <a:tab algn="l" pos="4273560"/>
                <a:tab algn="l" pos="4722840"/>
                <a:tab algn="l" pos="5172120"/>
                <a:tab algn="l" pos="5621400"/>
                <a:tab algn="l" pos="6070680"/>
                <a:tab algn="l" pos="6519960"/>
                <a:tab algn="l" pos="6969240"/>
                <a:tab algn="l" pos="7418520"/>
                <a:tab algn="l" pos="7867800"/>
                <a:tab algn="l" pos="8317080"/>
                <a:tab algn="l" pos="8766000"/>
                <a:tab algn="l" pos="9215280"/>
                <a:tab algn="l" pos="9664560"/>
                <a:tab algn="l" pos="9883800"/>
                <a:tab algn="l" pos="10333080"/>
                <a:tab algn="l" pos="1078236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681120" indent="-303120" algn="ctr">
              <a:lnSpc>
                <a:spcPct val="100000"/>
              </a:lnSpc>
              <a:spcBef>
                <a:spcPts val="950"/>
              </a:spcBef>
              <a:tabLst>
                <a:tab algn="l" pos="0"/>
                <a:tab algn="l" pos="681120"/>
                <a:tab algn="l" pos="1128600"/>
                <a:tab algn="l" pos="1577880"/>
                <a:tab algn="l" pos="2027160"/>
                <a:tab algn="l" pos="2476440"/>
                <a:tab algn="l" pos="2925720"/>
                <a:tab algn="l" pos="3375000"/>
                <a:tab algn="l" pos="3824280"/>
                <a:tab algn="l" pos="4273560"/>
                <a:tab algn="l" pos="4722840"/>
                <a:tab algn="l" pos="5172120"/>
                <a:tab algn="l" pos="5621400"/>
                <a:tab algn="l" pos="6070680"/>
                <a:tab algn="l" pos="6519960"/>
                <a:tab algn="l" pos="6969240"/>
                <a:tab algn="l" pos="7418520"/>
                <a:tab algn="l" pos="7867800"/>
                <a:tab algn="l" pos="8317080"/>
                <a:tab algn="l" pos="8766000"/>
                <a:tab algn="l" pos="9215280"/>
                <a:tab algn="l" pos="9664560"/>
                <a:tab algn="l" pos="9883800"/>
                <a:tab algn="l" pos="10333080"/>
                <a:tab algn="l" pos="1078236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1066680" y="5105520"/>
            <a:ext cx="6705720" cy="1295280"/>
          </a:xfrm>
          <a:prstGeom prst="foldedCorner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-2514600" y="4343400"/>
            <a:ext cx="1981080" cy="1752480"/>
          </a:xfrm>
          <a:prstGeom prst="foldedCorner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0" y="806400"/>
            <a:ext cx="5580000" cy="59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3200" spc="-1" strike="noStrike">
                <a:solidFill>
                  <a:srgbClr val="000080"/>
                </a:solidFill>
                <a:latin typeface="Arial"/>
              </a:rPr>
              <a:t>Situação atual do projet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9" name=""/>
          <p:cNvGrpSpPr/>
          <p:nvPr/>
        </p:nvGrpSpPr>
        <p:grpSpPr>
          <a:xfrm>
            <a:off x="-360" y="6696000"/>
            <a:ext cx="9178920" cy="155160"/>
            <a:chOff x="-360" y="6696000"/>
            <a:chExt cx="9178920" cy="155160"/>
          </a:xfrm>
        </p:grpSpPr>
        <p:sp>
          <p:nvSpPr>
            <p:cNvPr id="480" name=""/>
            <p:cNvSpPr/>
            <p:nvPr/>
          </p:nvSpPr>
          <p:spPr>
            <a:xfrm flipH="1" flipV="1">
              <a:off x="-720" y="6696000"/>
              <a:ext cx="9178920" cy="15840"/>
            </a:xfrm>
            <a:prstGeom prst="rect">
              <a:avLst/>
            </a:prstGeom>
            <a:gradFill rotWithShape="0">
              <a:gsLst>
                <a:gs pos="0">
                  <a:srgbClr val="10253f"/>
                </a:gs>
                <a:gs pos="100000">
                  <a:srgbClr val="c6d9f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 flipH="1" flipV="1">
              <a:off x="-720" y="6768360"/>
              <a:ext cx="9178920" cy="82440"/>
            </a:xfrm>
            <a:prstGeom prst="rect">
              <a:avLst/>
            </a:prstGeom>
            <a:gradFill rotWithShape="0">
              <a:gsLst>
                <a:gs pos="0">
                  <a:srgbClr val="10253f"/>
                </a:gs>
                <a:gs pos="100000">
                  <a:srgbClr val="c6d9f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 flipH="1" flipV="1">
              <a:off x="-720" y="6732720"/>
              <a:ext cx="9178920" cy="15840"/>
            </a:xfrm>
            <a:prstGeom prst="rect">
              <a:avLst/>
            </a:prstGeom>
            <a:gradFill rotWithShape="0">
              <a:gsLst>
                <a:gs pos="0">
                  <a:srgbClr val="10253f"/>
                </a:gs>
                <a:gs pos="100000">
                  <a:srgbClr val="c6d9f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83" name=""/>
          <p:cNvSpPr/>
          <p:nvPr/>
        </p:nvSpPr>
        <p:spPr>
          <a:xfrm>
            <a:off x="71280" y="2340000"/>
            <a:ext cx="8999640" cy="39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372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800" spc="-1" strike="noStrike">
                <a:solidFill>
                  <a:srgbClr val="000080"/>
                </a:solidFill>
                <a:latin typeface="Arial"/>
                <a:ea typeface="Times New Roman"/>
              </a:rPr>
              <a:t>Migração dos consórcios simplificados de produtores rurais para o CNPJ/Serpro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3372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372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372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200" spc="-1" strike="noStrike">
                <a:solidFill>
                  <a:srgbClr val="000080"/>
                </a:solidFill>
                <a:latin typeface="Arial"/>
                <a:ea typeface="Times New Roman"/>
              </a:rPr>
              <a:t>Produto entregue.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37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1479600" indent="-56196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 flipH="1" flipV="1">
            <a:off x="0" y="1440"/>
            <a:ext cx="9144000" cy="720720"/>
          </a:xfrm>
          <a:prstGeom prst="rect">
            <a:avLst/>
          </a:prstGeom>
          <a:gradFill rotWithShape="0">
            <a:gsLst>
              <a:gs pos="0">
                <a:srgbClr val="10253f"/>
              </a:gs>
              <a:gs pos="100000">
                <a:srgbClr val="c6d9f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5" name="" descr=""/>
          <p:cNvPicPr/>
          <p:nvPr/>
        </p:nvPicPr>
        <p:blipFill>
          <a:blip r:embed="rId1"/>
          <a:stretch/>
        </p:blipFill>
        <p:spPr>
          <a:xfrm>
            <a:off x="6659640" y="82440"/>
            <a:ext cx="2303280" cy="603360"/>
          </a:xfrm>
          <a:prstGeom prst="rect">
            <a:avLst/>
          </a:prstGeom>
          <a:ln w="0">
            <a:noFill/>
          </a:ln>
        </p:spPr>
      </p:pic>
      <p:pic>
        <p:nvPicPr>
          <p:cNvPr id="486" name="" descr=""/>
          <p:cNvPicPr/>
          <p:nvPr/>
        </p:nvPicPr>
        <p:blipFill>
          <a:blip r:embed="rId2"/>
          <a:stretch/>
        </p:blipFill>
        <p:spPr>
          <a:xfrm>
            <a:off x="87480" y="34920"/>
            <a:ext cx="1892160" cy="650880"/>
          </a:xfrm>
          <a:prstGeom prst="rect">
            <a:avLst/>
          </a:prstGeom>
          <a:ln w="0">
            <a:noFill/>
          </a:ln>
        </p:spPr>
      </p:pic>
      <p:sp>
        <p:nvSpPr>
          <p:cNvPr id="487" name=""/>
          <p:cNvSpPr/>
          <p:nvPr/>
        </p:nvSpPr>
        <p:spPr>
          <a:xfrm flipH="1" flipV="1">
            <a:off x="-37080" y="754920"/>
            <a:ext cx="9180360" cy="17640"/>
          </a:xfrm>
          <a:prstGeom prst="rect">
            <a:avLst/>
          </a:prstGeom>
          <a:gradFill rotWithShape="0">
            <a:gsLst>
              <a:gs pos="0">
                <a:srgbClr val="10253f"/>
              </a:gs>
              <a:gs pos="100000">
                <a:srgbClr val="c6d9f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3924360" y="3527280"/>
            <a:ext cx="1260360" cy="54000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808080"/>
              </a:gs>
              <a:gs pos="100000">
                <a:srgbClr val="e6e6e6"/>
              </a:gs>
            </a:gsLst>
            <a:lin ang="36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"/>
          <p:cNvSpPr/>
          <p:nvPr/>
        </p:nvSpPr>
        <p:spPr>
          <a:xfrm>
            <a:off x="1619280" y="2160720"/>
            <a:ext cx="6513480" cy="35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81120" indent="-303120" algn="just">
              <a:lnSpc>
                <a:spcPct val="90000"/>
              </a:lnSpc>
              <a:spcBef>
                <a:spcPts val="950"/>
              </a:spcBef>
              <a:tabLst>
                <a:tab algn="l" pos="0"/>
                <a:tab algn="l" pos="681120"/>
                <a:tab algn="l" pos="1128600"/>
                <a:tab algn="l" pos="1577880"/>
                <a:tab algn="l" pos="2027160"/>
                <a:tab algn="l" pos="2476440"/>
                <a:tab algn="l" pos="2925720"/>
                <a:tab algn="l" pos="3375000"/>
                <a:tab algn="l" pos="3824280"/>
                <a:tab algn="l" pos="4273560"/>
                <a:tab algn="l" pos="4722840"/>
                <a:tab algn="l" pos="5172120"/>
                <a:tab algn="l" pos="5621400"/>
                <a:tab algn="l" pos="6070680"/>
                <a:tab algn="l" pos="6519960"/>
                <a:tab algn="l" pos="6969240"/>
                <a:tab algn="l" pos="7418520"/>
                <a:tab algn="l" pos="7867800"/>
                <a:tab algn="l" pos="8317080"/>
                <a:tab algn="l" pos="8766000"/>
                <a:tab algn="l" pos="9215280"/>
                <a:tab algn="l" pos="9664560"/>
                <a:tab algn="l" pos="9883800"/>
                <a:tab algn="l" pos="10333080"/>
                <a:tab algn="l" pos="1078236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681120" indent="-303120" algn="just">
              <a:lnSpc>
                <a:spcPct val="90000"/>
              </a:lnSpc>
              <a:spcBef>
                <a:spcPts val="950"/>
              </a:spcBef>
              <a:tabLst>
                <a:tab algn="l" pos="0"/>
                <a:tab algn="l" pos="681120"/>
                <a:tab algn="l" pos="1128600"/>
                <a:tab algn="l" pos="1577880"/>
                <a:tab algn="l" pos="2027160"/>
                <a:tab algn="l" pos="2476440"/>
                <a:tab algn="l" pos="2925720"/>
                <a:tab algn="l" pos="3375000"/>
                <a:tab algn="l" pos="3824280"/>
                <a:tab algn="l" pos="4273560"/>
                <a:tab algn="l" pos="4722840"/>
                <a:tab algn="l" pos="5172120"/>
                <a:tab algn="l" pos="5621400"/>
                <a:tab algn="l" pos="6070680"/>
                <a:tab algn="l" pos="6519960"/>
                <a:tab algn="l" pos="6969240"/>
                <a:tab algn="l" pos="7418520"/>
                <a:tab algn="l" pos="7867800"/>
                <a:tab algn="l" pos="8317080"/>
                <a:tab algn="l" pos="8766000"/>
                <a:tab algn="l" pos="9215280"/>
                <a:tab algn="l" pos="9664560"/>
                <a:tab algn="l" pos="9883800"/>
                <a:tab algn="l" pos="10333080"/>
                <a:tab algn="l" pos="1078236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681120" indent="-303120" algn="ctr">
              <a:lnSpc>
                <a:spcPct val="100000"/>
              </a:lnSpc>
              <a:spcBef>
                <a:spcPts val="950"/>
              </a:spcBef>
              <a:tabLst>
                <a:tab algn="l" pos="0"/>
                <a:tab algn="l" pos="681120"/>
                <a:tab algn="l" pos="1128600"/>
                <a:tab algn="l" pos="1577880"/>
                <a:tab algn="l" pos="2027160"/>
                <a:tab algn="l" pos="2476440"/>
                <a:tab algn="l" pos="2925720"/>
                <a:tab algn="l" pos="3375000"/>
                <a:tab algn="l" pos="3824280"/>
                <a:tab algn="l" pos="4273560"/>
                <a:tab algn="l" pos="4722840"/>
                <a:tab algn="l" pos="5172120"/>
                <a:tab algn="l" pos="5621400"/>
                <a:tab algn="l" pos="6070680"/>
                <a:tab algn="l" pos="6519960"/>
                <a:tab algn="l" pos="6969240"/>
                <a:tab algn="l" pos="7418520"/>
                <a:tab algn="l" pos="7867800"/>
                <a:tab algn="l" pos="8317080"/>
                <a:tab algn="l" pos="8766000"/>
                <a:tab algn="l" pos="9215280"/>
                <a:tab algn="l" pos="9664560"/>
                <a:tab algn="l" pos="9883800"/>
                <a:tab algn="l" pos="10333080"/>
                <a:tab algn="l" pos="1078236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1143000" y="3581280"/>
            <a:ext cx="5105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447920" y="2438280"/>
            <a:ext cx="3124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2651040" y="4227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 flipH="1" flipV="1">
            <a:off x="0" y="1440"/>
            <a:ext cx="9144000" cy="720720"/>
          </a:xfrm>
          <a:prstGeom prst="rect">
            <a:avLst/>
          </a:prstGeom>
          <a:gradFill rotWithShape="0">
            <a:gsLst>
              <a:gs pos="0">
                <a:srgbClr val="10253f"/>
              </a:gs>
              <a:gs pos="100000">
                <a:srgbClr val="c6d9f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5" name="" descr=""/>
          <p:cNvPicPr/>
          <p:nvPr/>
        </p:nvPicPr>
        <p:blipFill>
          <a:blip r:embed="rId1"/>
          <a:stretch/>
        </p:blipFill>
        <p:spPr>
          <a:xfrm>
            <a:off x="6659640" y="82440"/>
            <a:ext cx="2303280" cy="603360"/>
          </a:xfrm>
          <a:prstGeom prst="rect">
            <a:avLst/>
          </a:prstGeom>
          <a:ln w="0">
            <a:noFill/>
          </a:ln>
        </p:spPr>
      </p:pic>
      <p:pic>
        <p:nvPicPr>
          <p:cNvPr id="496" name="" descr=""/>
          <p:cNvPicPr/>
          <p:nvPr/>
        </p:nvPicPr>
        <p:blipFill>
          <a:blip r:embed="rId2"/>
          <a:stretch/>
        </p:blipFill>
        <p:spPr>
          <a:xfrm>
            <a:off x="87480" y="34920"/>
            <a:ext cx="1892160" cy="650880"/>
          </a:xfrm>
          <a:prstGeom prst="rect">
            <a:avLst/>
          </a:prstGeom>
          <a:ln w="0">
            <a:noFill/>
          </a:ln>
        </p:spPr>
      </p:pic>
      <p:sp>
        <p:nvSpPr>
          <p:cNvPr id="497" name=""/>
          <p:cNvSpPr/>
          <p:nvPr/>
        </p:nvSpPr>
        <p:spPr>
          <a:xfrm flipH="1" flipV="1">
            <a:off x="-37080" y="754920"/>
            <a:ext cx="9180360" cy="17640"/>
          </a:xfrm>
          <a:prstGeom prst="rect">
            <a:avLst/>
          </a:prstGeom>
          <a:gradFill rotWithShape="0">
            <a:gsLst>
              <a:gs pos="0">
                <a:srgbClr val="10253f"/>
              </a:gs>
              <a:gs pos="100000">
                <a:srgbClr val="c6d9f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720720" y="1440000"/>
            <a:ext cx="7740720" cy="45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3200" spc="-1" strike="noStrike">
                <a:solidFill>
                  <a:srgbClr val="000080"/>
                </a:solidFill>
                <a:latin typeface="Arial"/>
              </a:rPr>
              <a:t>Equip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200" spc="-1" strike="noStrike">
                <a:solidFill>
                  <a:srgbClr val="000080"/>
                </a:solidFill>
                <a:latin typeface="Arial"/>
              </a:rPr>
              <a:t>Ana-paula.sacchi@receita.fazenda.gov.br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200" spc="-1" strike="noStrike">
                <a:solidFill>
                  <a:srgbClr val="000080"/>
                </a:solidFill>
                <a:latin typeface="Arial"/>
              </a:rPr>
              <a:t>Carolina.freitas@receita.fazenda.gov.br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200" spc="-1" strike="noStrike">
                <a:solidFill>
                  <a:srgbClr val="000080"/>
                </a:solidFill>
                <a:latin typeface="Arial"/>
              </a:rPr>
              <a:t>Celia.rondina@receita.fazenda.gov.br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200" spc="-1" strike="noStrike">
                <a:solidFill>
                  <a:srgbClr val="000080"/>
                </a:solidFill>
                <a:latin typeface="Arial"/>
              </a:rPr>
              <a:t>Claudio.pinto@receita.fazenda.gov.br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200" spc="-1" strike="noStrike">
                <a:solidFill>
                  <a:srgbClr val="000080"/>
                </a:solidFill>
                <a:latin typeface="Arial"/>
              </a:rPr>
              <a:t>Fernando.Muller@receita.fazenda.gov.br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200" spc="-1" strike="noStrike">
                <a:solidFill>
                  <a:srgbClr val="000080"/>
                </a:solidFill>
                <a:latin typeface="Arial"/>
              </a:rPr>
              <a:t>Joao-luiz.bittencourt@receita.fazenda.gov.br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200" spc="-1" strike="noStrike">
                <a:solidFill>
                  <a:srgbClr val="000080"/>
                </a:solidFill>
                <a:latin typeface="Arial"/>
              </a:rPr>
              <a:t>Selita.medeiros@receita.fazenda.gov.br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200" spc="-1" strike="noStrike">
                <a:solidFill>
                  <a:srgbClr val="000080"/>
                </a:solidFill>
                <a:latin typeface="Arial"/>
              </a:rPr>
              <a:t>Shogo.yamamoto@receita.fazenda.gov.br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9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1" name=""/>
          <p:cNvSpPr/>
          <p:nvPr/>
        </p:nvSpPr>
        <p:spPr>
          <a:xfrm>
            <a:off x="5040360" y="3456000"/>
            <a:ext cx="287964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4000" spc="-1" strike="noStrike">
                <a:solidFill>
                  <a:srgbClr val="003366"/>
                </a:solidFill>
                <a:latin typeface="Tahoma"/>
              </a:rPr>
              <a:t>Obrigada.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E0464E-FB7B-4CCA-BFC0-5596B7158CBF}" type="slidenum">
              <a:t>24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539640" y="2268360"/>
            <a:ext cx="3708360" cy="359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122000"/>
              </a:gs>
              <a:gs pos="100000">
                <a:srgbClr val="94bd5e"/>
              </a:gs>
            </a:gsLst>
            <a:lin ang="3600000"/>
          </a:gradFill>
          <a:ln w="936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619280" y="2160720"/>
            <a:ext cx="6513480" cy="35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81120" indent="-303120" algn="just">
              <a:lnSpc>
                <a:spcPct val="90000"/>
              </a:lnSpc>
              <a:spcBef>
                <a:spcPts val="950"/>
              </a:spcBef>
              <a:tabLst>
                <a:tab algn="l" pos="0"/>
                <a:tab algn="l" pos="681120"/>
                <a:tab algn="l" pos="1128600"/>
                <a:tab algn="l" pos="1577880"/>
                <a:tab algn="l" pos="2027160"/>
                <a:tab algn="l" pos="2476440"/>
                <a:tab algn="l" pos="2925720"/>
                <a:tab algn="l" pos="3375000"/>
                <a:tab algn="l" pos="3824280"/>
                <a:tab algn="l" pos="4273560"/>
                <a:tab algn="l" pos="4722840"/>
                <a:tab algn="l" pos="5172120"/>
                <a:tab algn="l" pos="5621400"/>
                <a:tab algn="l" pos="6070680"/>
                <a:tab algn="l" pos="6519960"/>
                <a:tab algn="l" pos="6969240"/>
                <a:tab algn="l" pos="7418520"/>
                <a:tab algn="l" pos="7867800"/>
                <a:tab algn="l" pos="8317080"/>
                <a:tab algn="l" pos="8766000"/>
                <a:tab algn="l" pos="9215280"/>
                <a:tab algn="l" pos="9664560"/>
                <a:tab algn="l" pos="9883800"/>
                <a:tab algn="l" pos="10333080"/>
                <a:tab algn="l" pos="1078236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681120" indent="-303120" algn="just">
              <a:lnSpc>
                <a:spcPct val="90000"/>
              </a:lnSpc>
              <a:spcBef>
                <a:spcPts val="950"/>
              </a:spcBef>
              <a:tabLst>
                <a:tab algn="l" pos="0"/>
                <a:tab algn="l" pos="681120"/>
                <a:tab algn="l" pos="1128600"/>
                <a:tab algn="l" pos="1577880"/>
                <a:tab algn="l" pos="2027160"/>
                <a:tab algn="l" pos="2476440"/>
                <a:tab algn="l" pos="2925720"/>
                <a:tab algn="l" pos="3375000"/>
                <a:tab algn="l" pos="3824280"/>
                <a:tab algn="l" pos="4273560"/>
                <a:tab algn="l" pos="4722840"/>
                <a:tab algn="l" pos="5172120"/>
                <a:tab algn="l" pos="5621400"/>
                <a:tab algn="l" pos="6070680"/>
                <a:tab algn="l" pos="6519960"/>
                <a:tab algn="l" pos="6969240"/>
                <a:tab algn="l" pos="7418520"/>
                <a:tab algn="l" pos="7867800"/>
                <a:tab algn="l" pos="8317080"/>
                <a:tab algn="l" pos="8766000"/>
                <a:tab algn="l" pos="9215280"/>
                <a:tab algn="l" pos="9664560"/>
                <a:tab algn="l" pos="9883800"/>
                <a:tab algn="l" pos="10333080"/>
                <a:tab algn="l" pos="1078236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681120" indent="-303120" algn="ctr">
              <a:lnSpc>
                <a:spcPct val="100000"/>
              </a:lnSpc>
              <a:spcBef>
                <a:spcPts val="950"/>
              </a:spcBef>
              <a:tabLst>
                <a:tab algn="l" pos="0"/>
                <a:tab algn="l" pos="681120"/>
                <a:tab algn="l" pos="1128600"/>
                <a:tab algn="l" pos="1577880"/>
                <a:tab algn="l" pos="2027160"/>
                <a:tab algn="l" pos="2476440"/>
                <a:tab algn="l" pos="2925720"/>
                <a:tab algn="l" pos="3375000"/>
                <a:tab algn="l" pos="3824280"/>
                <a:tab algn="l" pos="4273560"/>
                <a:tab algn="l" pos="4722840"/>
                <a:tab algn="l" pos="5172120"/>
                <a:tab algn="l" pos="5621400"/>
                <a:tab algn="l" pos="6070680"/>
                <a:tab algn="l" pos="6519960"/>
                <a:tab algn="l" pos="6969240"/>
                <a:tab algn="l" pos="7418520"/>
                <a:tab algn="l" pos="7867800"/>
                <a:tab algn="l" pos="8317080"/>
                <a:tab algn="l" pos="8766000"/>
                <a:tab algn="l" pos="9215280"/>
                <a:tab algn="l" pos="9664560"/>
                <a:tab algn="l" pos="9883800"/>
                <a:tab algn="l" pos="10333080"/>
                <a:tab algn="l" pos="1078236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95280" y="4267080"/>
            <a:ext cx="6172200" cy="1981440"/>
          </a:xfrm>
          <a:prstGeom prst="foldedCorner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5105520"/>
            <a:ext cx="6705720" cy="1295280"/>
          </a:xfrm>
          <a:prstGeom prst="foldedCorner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-2514600" y="4343400"/>
            <a:ext cx="1981080" cy="1752480"/>
          </a:xfrm>
          <a:prstGeom prst="foldedCorner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66204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Cadastros de Informações Previdenciária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-360" y="6696000"/>
            <a:ext cx="9178920" cy="155160"/>
            <a:chOff x="-360" y="6696000"/>
            <a:chExt cx="9178920" cy="155160"/>
          </a:xfrm>
        </p:grpSpPr>
        <p:sp>
          <p:nvSpPr>
            <p:cNvPr id="138" name=""/>
            <p:cNvSpPr/>
            <p:nvPr/>
          </p:nvSpPr>
          <p:spPr>
            <a:xfrm flipH="1" flipV="1">
              <a:off x="-720" y="6696000"/>
              <a:ext cx="9178920" cy="15840"/>
            </a:xfrm>
            <a:prstGeom prst="rect">
              <a:avLst/>
            </a:prstGeom>
            <a:gradFill rotWithShape="0">
              <a:gsLst>
                <a:gs pos="0">
                  <a:srgbClr val="10253f"/>
                </a:gs>
                <a:gs pos="100000">
                  <a:srgbClr val="c6d9f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flipH="1" flipV="1">
              <a:off x="-720" y="6768360"/>
              <a:ext cx="9178920" cy="82440"/>
            </a:xfrm>
            <a:prstGeom prst="rect">
              <a:avLst/>
            </a:prstGeom>
            <a:gradFill rotWithShape="0">
              <a:gsLst>
                <a:gs pos="0">
                  <a:srgbClr val="10253f"/>
                </a:gs>
                <a:gs pos="100000">
                  <a:srgbClr val="c6d9f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 flipV="1">
              <a:off x="-720" y="6732720"/>
              <a:ext cx="9178920" cy="15840"/>
            </a:xfrm>
            <a:prstGeom prst="rect">
              <a:avLst/>
            </a:prstGeom>
            <a:gradFill rotWithShape="0">
              <a:gsLst>
                <a:gs pos="0">
                  <a:srgbClr val="10253f"/>
                </a:gs>
                <a:gs pos="100000">
                  <a:srgbClr val="c6d9f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1" name=""/>
          <p:cNvSpPr/>
          <p:nvPr/>
        </p:nvSpPr>
        <p:spPr>
          <a:xfrm>
            <a:off x="4176720" y="2519280"/>
            <a:ext cx="16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200" spc="-1" strike="noStrike">
                <a:solidFill>
                  <a:srgbClr val="ffffff"/>
                </a:solidFill>
                <a:latin typeface="Arial"/>
              </a:rPr>
              <a:t>Dataprev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535640" y="2341440"/>
            <a:ext cx="4103640" cy="359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122000"/>
              </a:gs>
              <a:gs pos="100000">
                <a:srgbClr val="94bd5e"/>
              </a:gs>
            </a:gsLst>
            <a:lin ang="3600000"/>
          </a:gradFill>
          <a:ln w="936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98920" y="3059280"/>
            <a:ext cx="1260720" cy="1081080"/>
          </a:xfrm>
          <a:prstGeom prst="can">
            <a:avLst>
              <a:gd name="adj" fmla="val 25000"/>
            </a:avLst>
          </a:prstGeom>
          <a:solidFill>
            <a:srgbClr val="c0c0c0"/>
          </a:solidFill>
          <a:ln w="18000">
            <a:solidFill>
              <a:srgbClr val="4c4c4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4320" rIns="94320" tIns="49320" bIns="4932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CNPJ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708360" y="3564000"/>
            <a:ext cx="14400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600" spc="-1" strike="noStrike">
                <a:solidFill>
                  <a:srgbClr val="b84700"/>
                </a:solidFill>
                <a:latin typeface="Arial"/>
              </a:rPr>
              <a:t>Atualização Diária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19280" y="3598920"/>
            <a:ext cx="1260360" cy="1081080"/>
          </a:xfrm>
          <a:prstGeom prst="can">
            <a:avLst>
              <a:gd name="adj" fmla="val 25000"/>
            </a:avLst>
          </a:prstGeom>
          <a:solidFill>
            <a:srgbClr val="c0c0c0"/>
          </a:solidFill>
          <a:ln w="18000">
            <a:solidFill>
              <a:srgbClr val="4c4c4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4320" rIns="94320" tIns="49320" bIns="4932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CNPJ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19280" y="2411280"/>
            <a:ext cx="1260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200" spc="-1" strike="noStrike">
                <a:solidFill>
                  <a:srgbClr val="ffffff"/>
                </a:solidFill>
                <a:latin typeface="Arial"/>
              </a:rPr>
              <a:t>Serpro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400720" y="4498920"/>
            <a:ext cx="1260360" cy="1081080"/>
          </a:xfrm>
          <a:prstGeom prst="can">
            <a:avLst>
              <a:gd name="adj" fmla="val 25000"/>
            </a:avLst>
          </a:prstGeom>
          <a:solidFill>
            <a:srgbClr val="c0c0c0"/>
          </a:solidFill>
          <a:ln w="18000">
            <a:solidFill>
              <a:srgbClr val="4c4c4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4320" rIns="94320" tIns="49320" bIns="4932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CEI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020000" y="2374920"/>
            <a:ext cx="1439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200" spc="-1" strike="noStrike">
                <a:solidFill>
                  <a:srgbClr val="ffffff"/>
                </a:solidFill>
                <a:latin typeface="Arial"/>
              </a:rPr>
              <a:t>Dataprev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451640" y="3778200"/>
            <a:ext cx="1008000" cy="901800"/>
          </a:xfrm>
          <a:prstGeom prst="can">
            <a:avLst>
              <a:gd name="adj" fmla="val 25000"/>
            </a:avLst>
          </a:prstGeom>
          <a:solidFill>
            <a:srgbClr val="c0c0c0"/>
          </a:solidFill>
          <a:ln w="18000">
            <a:solidFill>
              <a:srgbClr val="4c4c4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4320" rIns="94320" tIns="49320" bIns="4932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Outros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sistema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0" y="0"/>
            <a:ext cx="9144000" cy="720720"/>
          </a:xfrm>
          <a:prstGeom prst="rect">
            <a:avLst/>
          </a:prstGeom>
          <a:gradFill rotWithShape="0">
            <a:gsLst>
              <a:gs pos="0">
                <a:srgbClr val="10253f"/>
              </a:gs>
              <a:gs pos="100000">
                <a:srgbClr val="c6d9f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6659640" y="81000"/>
            <a:ext cx="2303280" cy="60336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87480" y="34920"/>
            <a:ext cx="1892160" cy="65088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 flipH="1" flipV="1">
            <a:off x="-37080" y="754920"/>
            <a:ext cx="9180360" cy="17640"/>
          </a:xfrm>
          <a:prstGeom prst="rect">
            <a:avLst/>
          </a:prstGeom>
          <a:gradFill rotWithShape="0">
            <a:gsLst>
              <a:gs pos="0">
                <a:srgbClr val="10253f"/>
              </a:gs>
              <a:gs pos="100000">
                <a:srgbClr val="c6d9f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79640" y="1260360"/>
            <a:ext cx="6551640" cy="5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600" spc="-1" strike="noStrike">
                <a:solidFill>
                  <a:srgbClr val="280099"/>
                </a:solidFill>
                <a:latin typeface="Arial"/>
              </a:rPr>
              <a:t>Sistemas de Cadastros Previdenciário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55" name=""/>
          <p:cNvCxnSpPr>
            <a:stCxn id="145" idx="4"/>
            <a:endCxn id="143" idx="2"/>
          </p:cNvCxnSpPr>
          <p:nvPr/>
        </p:nvCxnSpPr>
        <p:spPr>
          <a:xfrm flipV="1">
            <a:off x="2879640" y="3600000"/>
            <a:ext cx="2520000" cy="540720"/>
          </a:xfrm>
          <a:prstGeom prst="bentConnector3">
            <a:avLst>
              <a:gd name="adj1" fmla="val 49992"/>
            </a:avLst>
          </a:prstGeom>
          <a:ln w="9360">
            <a:solidFill>
              <a:srgbClr val="000000"/>
            </a:solidFill>
            <a:round/>
          </a:ln>
        </p:spPr>
      </p:cxnSp>
      <p:cxnSp>
        <p:nvCxnSpPr>
          <p:cNvPr id="156" name=""/>
          <p:cNvCxnSpPr>
            <a:stCxn id="143" idx="4"/>
            <a:endCxn id="149" idx="1"/>
          </p:cNvCxnSpPr>
          <p:nvPr/>
        </p:nvCxnSpPr>
        <p:spPr>
          <a:xfrm>
            <a:off x="6659280" y="3600360"/>
            <a:ext cx="1299240" cy="17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round/>
          </a:ln>
        </p:spPr>
      </p:cxnSp>
      <p:cxnSp>
        <p:nvCxnSpPr>
          <p:cNvPr id="157" name=""/>
          <p:cNvCxnSpPr>
            <a:stCxn id="147" idx="4"/>
            <a:endCxn id="149" idx="3"/>
          </p:cNvCxnSpPr>
          <p:nvPr/>
        </p:nvCxnSpPr>
        <p:spPr>
          <a:xfrm flipV="1">
            <a:off x="6660720" y="4680000"/>
            <a:ext cx="1297800" cy="3589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round/>
          </a:ln>
        </p:spPr>
      </p:cxn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619280" y="2160720"/>
            <a:ext cx="6513480" cy="35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81120" indent="-303120" algn="just">
              <a:lnSpc>
                <a:spcPct val="90000"/>
              </a:lnSpc>
              <a:spcBef>
                <a:spcPts val="950"/>
              </a:spcBef>
              <a:tabLst>
                <a:tab algn="l" pos="0"/>
                <a:tab algn="l" pos="681120"/>
                <a:tab algn="l" pos="1128600"/>
                <a:tab algn="l" pos="1577880"/>
                <a:tab algn="l" pos="2027160"/>
                <a:tab algn="l" pos="2476440"/>
                <a:tab algn="l" pos="2925720"/>
                <a:tab algn="l" pos="3375000"/>
                <a:tab algn="l" pos="3824280"/>
                <a:tab algn="l" pos="4273560"/>
                <a:tab algn="l" pos="4722840"/>
                <a:tab algn="l" pos="5172120"/>
                <a:tab algn="l" pos="5621400"/>
                <a:tab algn="l" pos="6070680"/>
                <a:tab algn="l" pos="6519960"/>
                <a:tab algn="l" pos="6969240"/>
                <a:tab algn="l" pos="7418520"/>
                <a:tab algn="l" pos="7867800"/>
                <a:tab algn="l" pos="8317080"/>
                <a:tab algn="l" pos="8766000"/>
                <a:tab algn="l" pos="9215280"/>
                <a:tab algn="l" pos="9664560"/>
                <a:tab algn="l" pos="9883800"/>
                <a:tab algn="l" pos="10333080"/>
                <a:tab algn="l" pos="1078236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681120" indent="-303120" algn="just">
              <a:lnSpc>
                <a:spcPct val="90000"/>
              </a:lnSpc>
              <a:spcBef>
                <a:spcPts val="950"/>
              </a:spcBef>
              <a:tabLst>
                <a:tab algn="l" pos="0"/>
                <a:tab algn="l" pos="681120"/>
                <a:tab algn="l" pos="1128600"/>
                <a:tab algn="l" pos="1577880"/>
                <a:tab algn="l" pos="2027160"/>
                <a:tab algn="l" pos="2476440"/>
                <a:tab algn="l" pos="2925720"/>
                <a:tab algn="l" pos="3375000"/>
                <a:tab algn="l" pos="3824280"/>
                <a:tab algn="l" pos="4273560"/>
                <a:tab algn="l" pos="4722840"/>
                <a:tab algn="l" pos="5172120"/>
                <a:tab algn="l" pos="5621400"/>
                <a:tab algn="l" pos="6070680"/>
                <a:tab algn="l" pos="6519960"/>
                <a:tab algn="l" pos="6969240"/>
                <a:tab algn="l" pos="7418520"/>
                <a:tab algn="l" pos="7867800"/>
                <a:tab algn="l" pos="8317080"/>
                <a:tab algn="l" pos="8766000"/>
                <a:tab algn="l" pos="9215280"/>
                <a:tab algn="l" pos="9664560"/>
                <a:tab algn="l" pos="9883800"/>
                <a:tab algn="l" pos="10333080"/>
                <a:tab algn="l" pos="1078236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681120" indent="-303120" algn="ctr">
              <a:lnSpc>
                <a:spcPct val="100000"/>
              </a:lnSpc>
              <a:spcBef>
                <a:spcPts val="950"/>
              </a:spcBef>
              <a:tabLst>
                <a:tab algn="l" pos="0"/>
                <a:tab algn="l" pos="681120"/>
                <a:tab algn="l" pos="1128600"/>
                <a:tab algn="l" pos="1577880"/>
                <a:tab algn="l" pos="2027160"/>
                <a:tab algn="l" pos="2476440"/>
                <a:tab algn="l" pos="2925720"/>
                <a:tab algn="l" pos="3375000"/>
                <a:tab algn="l" pos="3824280"/>
                <a:tab algn="l" pos="4273560"/>
                <a:tab algn="l" pos="4722840"/>
                <a:tab algn="l" pos="5172120"/>
                <a:tab algn="l" pos="5621400"/>
                <a:tab algn="l" pos="6070680"/>
                <a:tab algn="l" pos="6519960"/>
                <a:tab algn="l" pos="6969240"/>
                <a:tab algn="l" pos="7418520"/>
                <a:tab algn="l" pos="7867800"/>
                <a:tab algn="l" pos="8317080"/>
                <a:tab algn="l" pos="8766000"/>
                <a:tab algn="l" pos="9215280"/>
                <a:tab algn="l" pos="9664560"/>
                <a:tab algn="l" pos="9883800"/>
                <a:tab algn="l" pos="10333080"/>
                <a:tab algn="l" pos="1078236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295280" y="4267080"/>
            <a:ext cx="6172200" cy="1981440"/>
          </a:xfrm>
          <a:prstGeom prst="foldedCorner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066680" y="5105520"/>
            <a:ext cx="6705720" cy="1295280"/>
          </a:xfrm>
          <a:prstGeom prst="foldedCorner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-2514600" y="4343400"/>
            <a:ext cx="1981080" cy="1752480"/>
          </a:xfrm>
          <a:prstGeom prst="foldedCorner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-360" y="6696000"/>
            <a:ext cx="9178920" cy="155160"/>
            <a:chOff x="-360" y="6696000"/>
            <a:chExt cx="9178920" cy="155160"/>
          </a:xfrm>
        </p:grpSpPr>
        <p:sp>
          <p:nvSpPr>
            <p:cNvPr id="163" name=""/>
            <p:cNvSpPr/>
            <p:nvPr/>
          </p:nvSpPr>
          <p:spPr>
            <a:xfrm flipH="1" flipV="1">
              <a:off x="-720" y="6696000"/>
              <a:ext cx="9178920" cy="15840"/>
            </a:xfrm>
            <a:prstGeom prst="rect">
              <a:avLst/>
            </a:prstGeom>
            <a:gradFill rotWithShape="0">
              <a:gsLst>
                <a:gs pos="0">
                  <a:srgbClr val="10253f"/>
                </a:gs>
                <a:gs pos="100000">
                  <a:srgbClr val="c6d9f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 flipH="1" flipV="1">
              <a:off x="-720" y="6768360"/>
              <a:ext cx="9178920" cy="82440"/>
            </a:xfrm>
            <a:prstGeom prst="rect">
              <a:avLst/>
            </a:prstGeom>
            <a:gradFill rotWithShape="0">
              <a:gsLst>
                <a:gs pos="0">
                  <a:srgbClr val="10253f"/>
                </a:gs>
                <a:gs pos="100000">
                  <a:srgbClr val="c6d9f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 flipV="1">
              <a:off x="-720" y="6732720"/>
              <a:ext cx="9178920" cy="15840"/>
            </a:xfrm>
            <a:prstGeom prst="rect">
              <a:avLst/>
            </a:prstGeom>
            <a:gradFill rotWithShape="0">
              <a:gsLst>
                <a:gs pos="0">
                  <a:srgbClr val="10253f"/>
                </a:gs>
                <a:gs pos="100000">
                  <a:srgbClr val="c6d9f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6" name=""/>
          <p:cNvSpPr/>
          <p:nvPr/>
        </p:nvSpPr>
        <p:spPr>
          <a:xfrm>
            <a:off x="360360" y="1800360"/>
            <a:ext cx="7738920" cy="46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372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372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600" spc="-1" strike="noStrike">
                <a:solidFill>
                  <a:srgbClr val="000080"/>
                </a:solidFill>
                <a:latin typeface="Arial"/>
                <a:ea typeface="Times New Roman"/>
              </a:rPr>
              <a:t> </a:t>
            </a:r>
            <a:r>
              <a:rPr b="1" lang="pt-BR" sz="2600" spc="-1" strike="noStrike">
                <a:solidFill>
                  <a:srgbClr val="000080"/>
                </a:solidFill>
                <a:latin typeface="Arial"/>
                <a:ea typeface="Times New Roman"/>
              </a:rPr>
              <a:t>Cadastro Nacional da Pessoa Jurídica – CNPJ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337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1476360" indent="-561960" algn="just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Banco de dados réplica do CNPJ/Serpro;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476360" indent="-561960" algn="just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Acessado por sistemas que controlam as contribuições previdenciárias, hospedados na Dataprev;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476360" indent="-561960" algn="just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Atualização diária por meio de arquivo enviado pelo Serpro com as alterações ocorridas no CNPJ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 flipV="1">
            <a:off x="0" y="1440"/>
            <a:ext cx="9144000" cy="720720"/>
          </a:xfrm>
          <a:prstGeom prst="rect">
            <a:avLst/>
          </a:prstGeom>
          <a:gradFill rotWithShape="0">
            <a:gsLst>
              <a:gs pos="0">
                <a:srgbClr val="10253f"/>
              </a:gs>
              <a:gs pos="100000">
                <a:srgbClr val="c6d9f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5"/>
          <a:stretch/>
        </p:blipFill>
        <p:spPr>
          <a:xfrm>
            <a:off x="6659640" y="82440"/>
            <a:ext cx="2303280" cy="60336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6"/>
          <a:stretch/>
        </p:blipFill>
        <p:spPr>
          <a:xfrm>
            <a:off x="87480" y="34920"/>
            <a:ext cx="1892160" cy="65088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 flipH="1" flipV="1">
            <a:off x="-37080" y="754920"/>
            <a:ext cx="9180360" cy="17640"/>
          </a:xfrm>
          <a:prstGeom prst="rect">
            <a:avLst/>
          </a:prstGeom>
          <a:gradFill rotWithShape="0">
            <a:gsLst>
              <a:gs pos="0">
                <a:srgbClr val="10253f"/>
              </a:gs>
              <a:gs pos="100000">
                <a:srgbClr val="c6d9f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079640" y="1260360"/>
            <a:ext cx="719928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800" spc="-1" strike="noStrike">
                <a:solidFill>
                  <a:srgbClr val="280099"/>
                </a:solidFill>
                <a:latin typeface="Arial"/>
              </a:rPr>
              <a:t>Sistemas de Cadastros Previdenciário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619280" y="2160720"/>
            <a:ext cx="6513480" cy="35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81120" indent="-303120" algn="just">
              <a:lnSpc>
                <a:spcPct val="90000"/>
              </a:lnSpc>
              <a:spcBef>
                <a:spcPts val="950"/>
              </a:spcBef>
              <a:tabLst>
                <a:tab algn="l" pos="0"/>
                <a:tab algn="l" pos="681120"/>
                <a:tab algn="l" pos="1128600"/>
                <a:tab algn="l" pos="1577880"/>
                <a:tab algn="l" pos="2027160"/>
                <a:tab algn="l" pos="2476440"/>
                <a:tab algn="l" pos="2925720"/>
                <a:tab algn="l" pos="3375000"/>
                <a:tab algn="l" pos="3824280"/>
                <a:tab algn="l" pos="4273560"/>
                <a:tab algn="l" pos="4722840"/>
                <a:tab algn="l" pos="5172120"/>
                <a:tab algn="l" pos="5621400"/>
                <a:tab algn="l" pos="6070680"/>
                <a:tab algn="l" pos="6519960"/>
                <a:tab algn="l" pos="6969240"/>
                <a:tab algn="l" pos="7418520"/>
                <a:tab algn="l" pos="7867800"/>
                <a:tab algn="l" pos="8317080"/>
                <a:tab algn="l" pos="8766000"/>
                <a:tab algn="l" pos="9215280"/>
                <a:tab algn="l" pos="9664560"/>
                <a:tab algn="l" pos="9883800"/>
                <a:tab algn="l" pos="10333080"/>
                <a:tab algn="l" pos="1078236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681120" indent="-303120" algn="just">
              <a:lnSpc>
                <a:spcPct val="90000"/>
              </a:lnSpc>
              <a:spcBef>
                <a:spcPts val="950"/>
              </a:spcBef>
              <a:tabLst>
                <a:tab algn="l" pos="0"/>
                <a:tab algn="l" pos="681120"/>
                <a:tab algn="l" pos="1128600"/>
                <a:tab algn="l" pos="1577880"/>
                <a:tab algn="l" pos="2027160"/>
                <a:tab algn="l" pos="2476440"/>
                <a:tab algn="l" pos="2925720"/>
                <a:tab algn="l" pos="3375000"/>
                <a:tab algn="l" pos="3824280"/>
                <a:tab algn="l" pos="4273560"/>
                <a:tab algn="l" pos="4722840"/>
                <a:tab algn="l" pos="5172120"/>
                <a:tab algn="l" pos="5621400"/>
                <a:tab algn="l" pos="6070680"/>
                <a:tab algn="l" pos="6519960"/>
                <a:tab algn="l" pos="6969240"/>
                <a:tab algn="l" pos="7418520"/>
                <a:tab algn="l" pos="7867800"/>
                <a:tab algn="l" pos="8317080"/>
                <a:tab algn="l" pos="8766000"/>
                <a:tab algn="l" pos="9215280"/>
                <a:tab algn="l" pos="9664560"/>
                <a:tab algn="l" pos="9883800"/>
                <a:tab algn="l" pos="10333080"/>
                <a:tab algn="l" pos="1078236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681120" indent="-303120" algn="ctr">
              <a:lnSpc>
                <a:spcPct val="100000"/>
              </a:lnSpc>
              <a:spcBef>
                <a:spcPts val="950"/>
              </a:spcBef>
              <a:tabLst>
                <a:tab algn="l" pos="0"/>
                <a:tab algn="l" pos="681120"/>
                <a:tab algn="l" pos="1128600"/>
                <a:tab algn="l" pos="1577880"/>
                <a:tab algn="l" pos="2027160"/>
                <a:tab algn="l" pos="2476440"/>
                <a:tab algn="l" pos="2925720"/>
                <a:tab algn="l" pos="3375000"/>
                <a:tab algn="l" pos="3824280"/>
                <a:tab algn="l" pos="4273560"/>
                <a:tab algn="l" pos="4722840"/>
                <a:tab algn="l" pos="5172120"/>
                <a:tab algn="l" pos="5621400"/>
                <a:tab algn="l" pos="6070680"/>
                <a:tab algn="l" pos="6519960"/>
                <a:tab algn="l" pos="6969240"/>
                <a:tab algn="l" pos="7418520"/>
                <a:tab algn="l" pos="7867800"/>
                <a:tab algn="l" pos="8317080"/>
                <a:tab algn="l" pos="8766000"/>
                <a:tab algn="l" pos="9215280"/>
                <a:tab algn="l" pos="9664560"/>
                <a:tab algn="l" pos="9883800"/>
                <a:tab algn="l" pos="10333080"/>
                <a:tab algn="l" pos="1078236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066680" y="5105520"/>
            <a:ext cx="6705720" cy="1295280"/>
          </a:xfrm>
          <a:prstGeom prst="foldedCorner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-2514600" y="4343400"/>
            <a:ext cx="1981080" cy="1752480"/>
          </a:xfrm>
          <a:prstGeom prst="foldedCorner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-360" y="6696000"/>
            <a:ext cx="9178920" cy="155160"/>
            <a:chOff x="-360" y="6696000"/>
            <a:chExt cx="9178920" cy="155160"/>
          </a:xfrm>
        </p:grpSpPr>
        <p:sp>
          <p:nvSpPr>
            <p:cNvPr id="176" name=""/>
            <p:cNvSpPr/>
            <p:nvPr/>
          </p:nvSpPr>
          <p:spPr>
            <a:xfrm flipH="1" flipV="1">
              <a:off x="-720" y="6696000"/>
              <a:ext cx="9178920" cy="15840"/>
            </a:xfrm>
            <a:prstGeom prst="rect">
              <a:avLst/>
            </a:prstGeom>
            <a:gradFill rotWithShape="0">
              <a:gsLst>
                <a:gs pos="0">
                  <a:srgbClr val="10253f"/>
                </a:gs>
                <a:gs pos="100000">
                  <a:srgbClr val="c6d9f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flipH="1" flipV="1">
              <a:off x="-720" y="6768360"/>
              <a:ext cx="9178920" cy="82440"/>
            </a:xfrm>
            <a:prstGeom prst="rect">
              <a:avLst/>
            </a:prstGeom>
            <a:gradFill rotWithShape="0">
              <a:gsLst>
                <a:gs pos="0">
                  <a:srgbClr val="10253f"/>
                </a:gs>
                <a:gs pos="100000">
                  <a:srgbClr val="c6d9f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flipH="1" flipV="1">
              <a:off x="-720" y="6732720"/>
              <a:ext cx="9178920" cy="15840"/>
            </a:xfrm>
            <a:prstGeom prst="rect">
              <a:avLst/>
            </a:prstGeom>
            <a:gradFill rotWithShape="0">
              <a:gsLst>
                <a:gs pos="0">
                  <a:srgbClr val="10253f"/>
                </a:gs>
                <a:gs pos="100000">
                  <a:srgbClr val="c6d9f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360360" y="2087640"/>
            <a:ext cx="863928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3336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1" lang="pt-BR" sz="2600" spc="-1" strike="noStrike">
                <a:solidFill>
                  <a:srgbClr val="000080"/>
                </a:solidFill>
                <a:latin typeface="Arial"/>
                <a:ea typeface="Times New Roman"/>
              </a:rPr>
              <a:t>Cadastro Específico do INSS – CEI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1280" indent="-3333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1476360" indent="-561960" algn="just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200" spc="-1" strike="noStrike">
                <a:solidFill>
                  <a:srgbClr val="333333"/>
                </a:solidFill>
                <a:latin typeface="Arial"/>
                <a:ea typeface="Times New Roman"/>
              </a:rPr>
              <a:t>Equiparados à empresa desobrigados da inscrição no CNPJ;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1476360" indent="-561960" algn="just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200" spc="-1" strike="noStrike">
                <a:solidFill>
                  <a:srgbClr val="333333"/>
                </a:solidFill>
                <a:latin typeface="Arial"/>
                <a:ea typeface="Times New Roman"/>
              </a:rPr>
              <a:t>Produtor rural contribuinte individual;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1476360" indent="-561960" algn="just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200" spc="-1" strike="noStrike">
                <a:solidFill>
                  <a:srgbClr val="333333"/>
                </a:solidFill>
                <a:latin typeface="Arial"/>
                <a:ea typeface="Times New Roman"/>
              </a:rPr>
              <a:t>Segurado especial;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1476360" indent="-561960" algn="just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200" spc="-1" strike="noStrike">
                <a:solidFill>
                  <a:srgbClr val="333333"/>
                </a:solidFill>
                <a:latin typeface="Arial"/>
                <a:ea typeface="Times New Roman"/>
              </a:rPr>
              <a:t>Titular de cartório;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1476360" indent="-561960" algn="just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200" spc="-1" strike="noStrike">
                <a:solidFill>
                  <a:srgbClr val="333333"/>
                </a:solidFill>
                <a:latin typeface="Arial"/>
                <a:ea typeface="Times New Roman"/>
              </a:rPr>
              <a:t>Consórcio simplificado de produtores rurais;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1476360" indent="-561960" algn="just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200" spc="-1" strike="noStrike">
                <a:solidFill>
                  <a:srgbClr val="333333"/>
                </a:solidFill>
                <a:latin typeface="Arial"/>
                <a:ea typeface="Times New Roman"/>
              </a:rPr>
              <a:t>Empregador doméstico para recolhimento do FGTS;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1476360" indent="-561960" algn="just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200" spc="-1" strike="noStrike">
                <a:solidFill>
                  <a:srgbClr val="333333"/>
                </a:solidFill>
                <a:latin typeface="Arial"/>
                <a:ea typeface="Times New Roman"/>
              </a:rPr>
              <a:t>Obras de construção civil (pessoas física e jurídica).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1476360" indent="-56196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79640" y="1260360"/>
            <a:ext cx="701964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800" spc="-1" strike="noStrike">
                <a:solidFill>
                  <a:srgbClr val="280099"/>
                </a:solidFill>
                <a:latin typeface="Arial"/>
              </a:rPr>
              <a:t>Sistemas de Cadastros Previdenciário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0" y="1440"/>
            <a:ext cx="9144000" cy="720720"/>
          </a:xfrm>
          <a:prstGeom prst="rect">
            <a:avLst/>
          </a:prstGeom>
          <a:gradFill rotWithShape="0">
            <a:gsLst>
              <a:gs pos="0">
                <a:srgbClr val="10253f"/>
              </a:gs>
              <a:gs pos="100000">
                <a:srgbClr val="c6d9f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9"/>
          <a:stretch/>
        </p:blipFill>
        <p:spPr>
          <a:xfrm>
            <a:off x="6659640" y="82440"/>
            <a:ext cx="2303280" cy="60336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10"/>
          <a:stretch/>
        </p:blipFill>
        <p:spPr>
          <a:xfrm>
            <a:off x="87480" y="34920"/>
            <a:ext cx="1892160" cy="65088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 flipH="1" flipV="1">
            <a:off x="-37080" y="754920"/>
            <a:ext cx="9180360" cy="17640"/>
          </a:xfrm>
          <a:prstGeom prst="rect">
            <a:avLst/>
          </a:prstGeom>
          <a:gradFill rotWithShape="0">
            <a:gsLst>
              <a:gs pos="0">
                <a:srgbClr val="10253f"/>
              </a:gs>
              <a:gs pos="100000">
                <a:srgbClr val="c6d9f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1619280" y="2160720"/>
            <a:ext cx="6513480" cy="35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81120" indent="-303120" algn="just">
              <a:lnSpc>
                <a:spcPct val="90000"/>
              </a:lnSpc>
              <a:spcBef>
                <a:spcPts val="950"/>
              </a:spcBef>
              <a:tabLst>
                <a:tab algn="l" pos="0"/>
                <a:tab algn="l" pos="681120"/>
                <a:tab algn="l" pos="1128600"/>
                <a:tab algn="l" pos="1577880"/>
                <a:tab algn="l" pos="2027160"/>
                <a:tab algn="l" pos="2476440"/>
                <a:tab algn="l" pos="2925720"/>
                <a:tab algn="l" pos="3375000"/>
                <a:tab algn="l" pos="3824280"/>
                <a:tab algn="l" pos="4273560"/>
                <a:tab algn="l" pos="4722840"/>
                <a:tab algn="l" pos="5172120"/>
                <a:tab algn="l" pos="5621400"/>
                <a:tab algn="l" pos="6070680"/>
                <a:tab algn="l" pos="6519960"/>
                <a:tab algn="l" pos="6969240"/>
                <a:tab algn="l" pos="7418520"/>
                <a:tab algn="l" pos="7867800"/>
                <a:tab algn="l" pos="8317080"/>
                <a:tab algn="l" pos="8766000"/>
                <a:tab algn="l" pos="9215280"/>
                <a:tab algn="l" pos="9664560"/>
                <a:tab algn="l" pos="9883800"/>
                <a:tab algn="l" pos="10333080"/>
                <a:tab algn="l" pos="1078236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681120" indent="-303120" algn="just">
              <a:lnSpc>
                <a:spcPct val="90000"/>
              </a:lnSpc>
              <a:spcBef>
                <a:spcPts val="950"/>
              </a:spcBef>
              <a:tabLst>
                <a:tab algn="l" pos="0"/>
                <a:tab algn="l" pos="681120"/>
                <a:tab algn="l" pos="1128600"/>
                <a:tab algn="l" pos="1577880"/>
                <a:tab algn="l" pos="2027160"/>
                <a:tab algn="l" pos="2476440"/>
                <a:tab algn="l" pos="2925720"/>
                <a:tab algn="l" pos="3375000"/>
                <a:tab algn="l" pos="3824280"/>
                <a:tab algn="l" pos="4273560"/>
                <a:tab algn="l" pos="4722840"/>
                <a:tab algn="l" pos="5172120"/>
                <a:tab algn="l" pos="5621400"/>
                <a:tab algn="l" pos="6070680"/>
                <a:tab algn="l" pos="6519960"/>
                <a:tab algn="l" pos="6969240"/>
                <a:tab algn="l" pos="7418520"/>
                <a:tab algn="l" pos="7867800"/>
                <a:tab algn="l" pos="8317080"/>
                <a:tab algn="l" pos="8766000"/>
                <a:tab algn="l" pos="9215280"/>
                <a:tab algn="l" pos="9664560"/>
                <a:tab algn="l" pos="9883800"/>
                <a:tab algn="l" pos="10333080"/>
                <a:tab algn="l" pos="1078236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681120" indent="-303120" algn="ctr">
              <a:lnSpc>
                <a:spcPct val="100000"/>
              </a:lnSpc>
              <a:spcBef>
                <a:spcPts val="950"/>
              </a:spcBef>
              <a:tabLst>
                <a:tab algn="l" pos="0"/>
                <a:tab algn="l" pos="681120"/>
                <a:tab algn="l" pos="1128600"/>
                <a:tab algn="l" pos="1577880"/>
                <a:tab algn="l" pos="2027160"/>
                <a:tab algn="l" pos="2476440"/>
                <a:tab algn="l" pos="2925720"/>
                <a:tab algn="l" pos="3375000"/>
                <a:tab algn="l" pos="3824280"/>
                <a:tab algn="l" pos="4273560"/>
                <a:tab algn="l" pos="4722840"/>
                <a:tab algn="l" pos="5172120"/>
                <a:tab algn="l" pos="5621400"/>
                <a:tab algn="l" pos="6070680"/>
                <a:tab algn="l" pos="6519960"/>
                <a:tab algn="l" pos="6969240"/>
                <a:tab algn="l" pos="7418520"/>
                <a:tab algn="l" pos="7867800"/>
                <a:tab algn="l" pos="8317080"/>
                <a:tab algn="l" pos="8766000"/>
                <a:tab algn="l" pos="9215280"/>
                <a:tab algn="l" pos="9664560"/>
                <a:tab algn="l" pos="9883800"/>
                <a:tab algn="l" pos="10333080"/>
                <a:tab algn="l" pos="1078236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066680" y="5105520"/>
            <a:ext cx="6705720" cy="1295280"/>
          </a:xfrm>
          <a:prstGeom prst="foldedCorner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-2514600" y="4343400"/>
            <a:ext cx="1981080" cy="1752480"/>
          </a:xfrm>
          <a:prstGeom prst="foldedCorner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0" y="66204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Cadastros de Informações Previdenciária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-360" y="6696000"/>
            <a:ext cx="9178920" cy="155160"/>
            <a:chOff x="-360" y="6696000"/>
            <a:chExt cx="9178920" cy="155160"/>
          </a:xfrm>
        </p:grpSpPr>
        <p:sp>
          <p:nvSpPr>
            <p:cNvPr id="190" name=""/>
            <p:cNvSpPr/>
            <p:nvPr/>
          </p:nvSpPr>
          <p:spPr>
            <a:xfrm flipH="1" flipV="1">
              <a:off x="-720" y="6696000"/>
              <a:ext cx="9178920" cy="15840"/>
            </a:xfrm>
            <a:prstGeom prst="rect">
              <a:avLst/>
            </a:prstGeom>
            <a:gradFill rotWithShape="0">
              <a:gsLst>
                <a:gs pos="0">
                  <a:srgbClr val="10253f"/>
                </a:gs>
                <a:gs pos="100000">
                  <a:srgbClr val="c6d9f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flipH="1" flipV="1">
              <a:off x="-720" y="6768360"/>
              <a:ext cx="9178920" cy="82440"/>
            </a:xfrm>
            <a:prstGeom prst="rect">
              <a:avLst/>
            </a:prstGeom>
            <a:gradFill rotWithShape="0">
              <a:gsLst>
                <a:gs pos="0">
                  <a:srgbClr val="10253f"/>
                </a:gs>
                <a:gs pos="100000">
                  <a:srgbClr val="c6d9f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 flipV="1">
              <a:off x="-720" y="6732720"/>
              <a:ext cx="9178920" cy="15840"/>
            </a:xfrm>
            <a:prstGeom prst="rect">
              <a:avLst/>
            </a:prstGeom>
            <a:gradFill rotWithShape="0">
              <a:gsLst>
                <a:gs pos="0">
                  <a:srgbClr val="10253f"/>
                </a:gs>
                <a:gs pos="100000">
                  <a:srgbClr val="c6d9f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3" name=""/>
          <p:cNvSpPr/>
          <p:nvPr/>
        </p:nvSpPr>
        <p:spPr>
          <a:xfrm>
            <a:off x="900000" y="2879640"/>
            <a:ext cx="7559640" cy="2700360"/>
          </a:xfrm>
          <a:prstGeom prst="foldedCorner">
            <a:avLst>
              <a:gd name="adj" fmla="val 12500"/>
            </a:avLst>
          </a:prstGeom>
          <a:solidFill>
            <a:srgbClr val="dfd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741240" indent="-269640" algn="ctr">
              <a:lnSpc>
                <a:spcPct val="100000"/>
              </a:lnSpc>
              <a:tabLst>
                <a:tab algn="l" pos="0"/>
                <a:tab algn="l" pos="741240"/>
                <a:tab algn="l" pos="1189080"/>
                <a:tab algn="l" pos="1638360"/>
                <a:tab algn="l" pos="2087640"/>
                <a:tab algn="l" pos="2536920"/>
                <a:tab algn="l" pos="2986200"/>
                <a:tab algn="l" pos="3435480"/>
                <a:tab algn="l" pos="3884760"/>
                <a:tab algn="l" pos="4334040"/>
                <a:tab algn="l" pos="4782960"/>
                <a:tab algn="l" pos="5232240"/>
                <a:tab algn="l" pos="5681520"/>
                <a:tab algn="l" pos="6130800"/>
                <a:tab algn="l" pos="6580080"/>
                <a:tab algn="l" pos="7029360"/>
                <a:tab algn="l" pos="7478640"/>
                <a:tab algn="l" pos="7927920"/>
                <a:tab algn="l" pos="8377200"/>
                <a:tab algn="l" pos="8826480"/>
                <a:tab algn="l" pos="9275760"/>
                <a:tab algn="l" pos="9725040"/>
                <a:tab algn="l" pos="988380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41240"/>
                <a:tab algn="l" pos="1189080"/>
                <a:tab algn="l" pos="1638360"/>
                <a:tab algn="l" pos="2087640"/>
                <a:tab algn="l" pos="2536920"/>
                <a:tab algn="l" pos="2986200"/>
                <a:tab algn="l" pos="3435480"/>
                <a:tab algn="l" pos="3884760"/>
                <a:tab algn="l" pos="4334040"/>
                <a:tab algn="l" pos="4782960"/>
                <a:tab algn="l" pos="5232240"/>
                <a:tab algn="l" pos="5681520"/>
                <a:tab algn="l" pos="6130800"/>
                <a:tab algn="l" pos="6580080"/>
                <a:tab algn="l" pos="7029360"/>
                <a:tab algn="l" pos="7478640"/>
                <a:tab algn="l" pos="7927920"/>
                <a:tab algn="l" pos="8377200"/>
                <a:tab algn="l" pos="8826480"/>
                <a:tab algn="l" pos="9275760"/>
                <a:tab algn="l" pos="9725040"/>
                <a:tab algn="l" pos="988380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41240"/>
                <a:tab algn="l" pos="1189080"/>
                <a:tab algn="l" pos="1638360"/>
                <a:tab algn="l" pos="2087640"/>
                <a:tab algn="l" pos="2536920"/>
                <a:tab algn="l" pos="2986200"/>
                <a:tab algn="l" pos="3435480"/>
                <a:tab algn="l" pos="3884760"/>
                <a:tab algn="l" pos="4334040"/>
                <a:tab algn="l" pos="4782960"/>
                <a:tab algn="l" pos="5232240"/>
                <a:tab algn="l" pos="5681520"/>
                <a:tab algn="l" pos="6130800"/>
                <a:tab algn="l" pos="6580080"/>
                <a:tab algn="l" pos="7029360"/>
                <a:tab algn="l" pos="7478640"/>
                <a:tab algn="l" pos="7927920"/>
                <a:tab algn="l" pos="8377200"/>
                <a:tab algn="l" pos="8826480"/>
                <a:tab algn="l" pos="9275760"/>
                <a:tab algn="l" pos="972504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O objetivo do programa é a unificação do Crédito Previdenciário (contribuição da empresa, contribuição do trabalhador e contribuições para terceiros) e Fazendário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41240"/>
                <a:tab algn="l" pos="1189080"/>
                <a:tab algn="l" pos="1638360"/>
                <a:tab algn="l" pos="2087640"/>
                <a:tab algn="l" pos="2536920"/>
                <a:tab algn="l" pos="2986200"/>
                <a:tab algn="l" pos="3435480"/>
                <a:tab algn="l" pos="3884760"/>
                <a:tab algn="l" pos="4334040"/>
                <a:tab algn="l" pos="4782960"/>
                <a:tab algn="l" pos="5232240"/>
                <a:tab algn="l" pos="5681520"/>
                <a:tab algn="l" pos="6130800"/>
                <a:tab algn="l" pos="6580080"/>
                <a:tab algn="l" pos="7029360"/>
                <a:tab algn="l" pos="7478640"/>
                <a:tab algn="l" pos="7927920"/>
                <a:tab algn="l" pos="8377200"/>
                <a:tab algn="l" pos="8826480"/>
                <a:tab algn="l" pos="9275760"/>
                <a:tab algn="l" pos="9725040"/>
                <a:tab algn="l" pos="988380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69640" algn="ctr">
              <a:lnSpc>
                <a:spcPct val="100000"/>
              </a:lnSpc>
              <a:tabLst>
                <a:tab algn="l" pos="0"/>
                <a:tab algn="l" pos="741240"/>
                <a:tab algn="l" pos="1189080"/>
                <a:tab algn="l" pos="1638360"/>
                <a:tab algn="l" pos="2087640"/>
                <a:tab algn="l" pos="2536920"/>
                <a:tab algn="l" pos="2986200"/>
                <a:tab algn="l" pos="3435480"/>
                <a:tab algn="l" pos="3884760"/>
                <a:tab algn="l" pos="4334040"/>
                <a:tab algn="l" pos="4782960"/>
                <a:tab algn="l" pos="5232240"/>
                <a:tab algn="l" pos="5681520"/>
                <a:tab algn="l" pos="6130800"/>
                <a:tab algn="l" pos="6580080"/>
                <a:tab algn="l" pos="7029360"/>
                <a:tab algn="l" pos="7478640"/>
                <a:tab algn="l" pos="7927920"/>
                <a:tab algn="l" pos="8377200"/>
                <a:tab algn="l" pos="8826480"/>
                <a:tab algn="l" pos="9275760"/>
                <a:tab algn="l" pos="9725040"/>
                <a:tab algn="l" pos="988380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12720" y="1147680"/>
            <a:ext cx="7920000" cy="11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3200" spc="-1" strike="noStrike">
                <a:solidFill>
                  <a:srgbClr val="280099"/>
                </a:solidFill>
                <a:latin typeface="Arial"/>
              </a:rPr>
              <a:t>Programa de Unificação do Crédito Previdenciário e Fazendário - PUC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H="1" flipV="1">
            <a:off x="0" y="1440"/>
            <a:ext cx="9144000" cy="720720"/>
          </a:xfrm>
          <a:prstGeom prst="rect">
            <a:avLst/>
          </a:prstGeom>
          <a:gradFill rotWithShape="0">
            <a:gsLst>
              <a:gs pos="0">
                <a:srgbClr val="10253f"/>
              </a:gs>
              <a:gs pos="100000">
                <a:srgbClr val="c6d9f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6659640" y="82440"/>
            <a:ext cx="2303280" cy="60336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87480" y="34920"/>
            <a:ext cx="1892160" cy="65088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 flipH="1" flipV="1">
            <a:off x="-37080" y="754920"/>
            <a:ext cx="9180360" cy="17640"/>
          </a:xfrm>
          <a:prstGeom prst="rect">
            <a:avLst/>
          </a:prstGeom>
          <a:gradFill rotWithShape="0">
            <a:gsLst>
              <a:gs pos="0">
                <a:srgbClr val="10253f"/>
              </a:gs>
              <a:gs pos="100000">
                <a:srgbClr val="c6d9f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1619280" y="2160720"/>
            <a:ext cx="6513480" cy="35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81120" indent="-303120" algn="just">
              <a:lnSpc>
                <a:spcPct val="90000"/>
              </a:lnSpc>
              <a:spcBef>
                <a:spcPts val="950"/>
              </a:spcBef>
              <a:tabLst>
                <a:tab algn="l" pos="0"/>
                <a:tab algn="l" pos="681120"/>
                <a:tab algn="l" pos="1128600"/>
                <a:tab algn="l" pos="1577880"/>
                <a:tab algn="l" pos="2027160"/>
                <a:tab algn="l" pos="2476440"/>
                <a:tab algn="l" pos="2925720"/>
                <a:tab algn="l" pos="3375000"/>
                <a:tab algn="l" pos="3824280"/>
                <a:tab algn="l" pos="4273560"/>
                <a:tab algn="l" pos="4722840"/>
                <a:tab algn="l" pos="5172120"/>
                <a:tab algn="l" pos="5621400"/>
                <a:tab algn="l" pos="6070680"/>
                <a:tab algn="l" pos="6519960"/>
                <a:tab algn="l" pos="6969240"/>
                <a:tab algn="l" pos="7418520"/>
                <a:tab algn="l" pos="7867800"/>
                <a:tab algn="l" pos="8317080"/>
                <a:tab algn="l" pos="8766000"/>
                <a:tab algn="l" pos="9215280"/>
                <a:tab algn="l" pos="9664560"/>
                <a:tab algn="l" pos="9883800"/>
                <a:tab algn="l" pos="10333080"/>
                <a:tab algn="l" pos="1078236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681120" indent="-303120" algn="just">
              <a:lnSpc>
                <a:spcPct val="90000"/>
              </a:lnSpc>
              <a:spcBef>
                <a:spcPts val="950"/>
              </a:spcBef>
              <a:tabLst>
                <a:tab algn="l" pos="0"/>
                <a:tab algn="l" pos="681120"/>
                <a:tab algn="l" pos="1128600"/>
                <a:tab algn="l" pos="1577880"/>
                <a:tab algn="l" pos="2027160"/>
                <a:tab algn="l" pos="2476440"/>
                <a:tab algn="l" pos="2925720"/>
                <a:tab algn="l" pos="3375000"/>
                <a:tab algn="l" pos="3824280"/>
                <a:tab algn="l" pos="4273560"/>
                <a:tab algn="l" pos="4722840"/>
                <a:tab algn="l" pos="5172120"/>
                <a:tab algn="l" pos="5621400"/>
                <a:tab algn="l" pos="6070680"/>
                <a:tab algn="l" pos="6519960"/>
                <a:tab algn="l" pos="6969240"/>
                <a:tab algn="l" pos="7418520"/>
                <a:tab algn="l" pos="7867800"/>
                <a:tab algn="l" pos="8317080"/>
                <a:tab algn="l" pos="8766000"/>
                <a:tab algn="l" pos="9215280"/>
                <a:tab algn="l" pos="9664560"/>
                <a:tab algn="l" pos="9883800"/>
                <a:tab algn="l" pos="10333080"/>
                <a:tab algn="l" pos="1078236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681120" indent="-303120" algn="ctr">
              <a:lnSpc>
                <a:spcPct val="100000"/>
              </a:lnSpc>
              <a:spcBef>
                <a:spcPts val="950"/>
              </a:spcBef>
              <a:tabLst>
                <a:tab algn="l" pos="0"/>
                <a:tab algn="l" pos="681120"/>
                <a:tab algn="l" pos="1128600"/>
                <a:tab algn="l" pos="1577880"/>
                <a:tab algn="l" pos="2027160"/>
                <a:tab algn="l" pos="2476440"/>
                <a:tab algn="l" pos="2925720"/>
                <a:tab algn="l" pos="3375000"/>
                <a:tab algn="l" pos="3824280"/>
                <a:tab algn="l" pos="4273560"/>
                <a:tab algn="l" pos="4722840"/>
                <a:tab algn="l" pos="5172120"/>
                <a:tab algn="l" pos="5621400"/>
                <a:tab algn="l" pos="6070680"/>
                <a:tab algn="l" pos="6519960"/>
                <a:tab algn="l" pos="6969240"/>
                <a:tab algn="l" pos="7418520"/>
                <a:tab algn="l" pos="7867800"/>
                <a:tab algn="l" pos="8317080"/>
                <a:tab algn="l" pos="8766000"/>
                <a:tab algn="l" pos="9215280"/>
                <a:tab algn="l" pos="9664560"/>
                <a:tab algn="l" pos="9883800"/>
                <a:tab algn="l" pos="10333080"/>
                <a:tab algn="l" pos="1078236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295280" y="4267080"/>
            <a:ext cx="6172200" cy="1981440"/>
          </a:xfrm>
          <a:prstGeom prst="foldedCorner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066680" y="5105520"/>
            <a:ext cx="6705720" cy="1295280"/>
          </a:xfrm>
          <a:prstGeom prst="foldedCorner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-2514600" y="4343400"/>
            <a:ext cx="1981080" cy="1752480"/>
          </a:xfrm>
          <a:prstGeom prst="foldedCorner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403280" y="733320"/>
            <a:ext cx="63007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3200" spc="-1" strike="noStrike">
                <a:solidFill>
                  <a:srgbClr val="280099"/>
                </a:solidFill>
                <a:latin typeface="Arial"/>
              </a:rPr>
              <a:t>PUC – Objetivos específico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-360" y="6696000"/>
            <a:ext cx="9178920" cy="155160"/>
            <a:chOff x="-360" y="6696000"/>
            <a:chExt cx="9178920" cy="155160"/>
          </a:xfrm>
        </p:grpSpPr>
        <p:sp>
          <p:nvSpPr>
            <p:cNvPr id="205" name=""/>
            <p:cNvSpPr/>
            <p:nvPr/>
          </p:nvSpPr>
          <p:spPr>
            <a:xfrm flipH="1" flipV="1">
              <a:off x="-720" y="6696000"/>
              <a:ext cx="9178920" cy="15840"/>
            </a:xfrm>
            <a:prstGeom prst="rect">
              <a:avLst/>
            </a:prstGeom>
            <a:gradFill rotWithShape="0">
              <a:gsLst>
                <a:gs pos="0">
                  <a:srgbClr val="10253f"/>
                </a:gs>
                <a:gs pos="100000">
                  <a:srgbClr val="c6d9f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 flipH="1" flipV="1">
              <a:off x="-720" y="6768360"/>
              <a:ext cx="9178920" cy="82440"/>
            </a:xfrm>
            <a:prstGeom prst="rect">
              <a:avLst/>
            </a:prstGeom>
            <a:gradFill rotWithShape="0">
              <a:gsLst>
                <a:gs pos="0">
                  <a:srgbClr val="10253f"/>
                </a:gs>
                <a:gs pos="100000">
                  <a:srgbClr val="c6d9f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 flipH="1" flipV="1">
              <a:off x="-720" y="6732720"/>
              <a:ext cx="9178920" cy="15840"/>
            </a:xfrm>
            <a:prstGeom prst="rect">
              <a:avLst/>
            </a:prstGeom>
            <a:gradFill rotWithShape="0">
              <a:gsLst>
                <a:gs pos="0">
                  <a:srgbClr val="10253f"/>
                </a:gs>
                <a:gs pos="100000">
                  <a:srgbClr val="c6d9f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8" name=""/>
          <p:cNvSpPr/>
          <p:nvPr/>
        </p:nvSpPr>
        <p:spPr>
          <a:xfrm>
            <a:off x="468360" y="1584360"/>
            <a:ext cx="8459640" cy="4967280"/>
          </a:xfrm>
          <a:prstGeom prst="foldedCorner">
            <a:avLst>
              <a:gd name="adj" fmla="val 12500"/>
            </a:avLst>
          </a:prstGeom>
          <a:solidFill>
            <a:srgbClr val="dfd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ahoma"/>
              </a:rPr>
              <a:t>- Criar uma folha de pagamento digital;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ahoma"/>
              </a:rPr>
              <a:t>- Criar uma nova declaração previdenciária;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ahoma"/>
              </a:rPr>
              <a:t>- Implantar o Projeto Global da Construção Civil - PGCC com a alteração na legislação e a implantação de sistemas de cálculo, controle e lançamento dos créditos previdenciários oriundos de obras de construção civil;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ahoma"/>
              </a:rPr>
              <a:t>- Promover o lançamento de ofício no Sief-Processos;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- Ajustar o cadastro aos contribuintes previdenciário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ahoma"/>
              </a:rPr>
              <a:t>- Adaptar o Ambiente de pagamentos ao crédito previdenciário;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ahoma"/>
              </a:rPr>
              <a:t>- Adaptar o Sief-Fiscel ao crédito previdenciário declarado;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ahoma"/>
              </a:rPr>
              <a:t>- Adaptar o Sief-Processos ao crédito previdenciário lançado de oficio;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ahoma"/>
              </a:rPr>
              <a:t>- Adaptar os sistemas de compensação para o crédito previdenciário;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ahoma"/>
              </a:rPr>
              <a:t>- Adaptar os sistemas de cálculo ao crédito previdenciário;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ahoma"/>
              </a:rPr>
              <a:t>- Unificar as certidões conjunta e específica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flipH="1" flipV="1">
            <a:off x="0" y="1440"/>
            <a:ext cx="9144000" cy="720720"/>
          </a:xfrm>
          <a:prstGeom prst="rect">
            <a:avLst/>
          </a:prstGeom>
          <a:gradFill rotWithShape="0">
            <a:gsLst>
              <a:gs pos="0">
                <a:srgbClr val="10253f"/>
              </a:gs>
              <a:gs pos="100000">
                <a:srgbClr val="c6d9f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6659640" y="82440"/>
            <a:ext cx="2303280" cy="6033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87480" y="34920"/>
            <a:ext cx="1892160" cy="65088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 flipH="1" flipV="1">
            <a:off x="-37080" y="754920"/>
            <a:ext cx="9180360" cy="17640"/>
          </a:xfrm>
          <a:prstGeom prst="rect">
            <a:avLst/>
          </a:prstGeom>
          <a:gradFill rotWithShape="0">
            <a:gsLst>
              <a:gs pos="0">
                <a:srgbClr val="10253f"/>
              </a:gs>
              <a:gs pos="100000">
                <a:srgbClr val="c6d9f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1619280" y="2160720"/>
            <a:ext cx="6513480" cy="35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81120" indent="-303120" algn="just">
              <a:lnSpc>
                <a:spcPct val="90000"/>
              </a:lnSpc>
              <a:spcBef>
                <a:spcPts val="950"/>
              </a:spcBef>
              <a:tabLst>
                <a:tab algn="l" pos="0"/>
                <a:tab algn="l" pos="681120"/>
                <a:tab algn="l" pos="1128600"/>
                <a:tab algn="l" pos="1577880"/>
                <a:tab algn="l" pos="2027160"/>
                <a:tab algn="l" pos="2476440"/>
                <a:tab algn="l" pos="2925720"/>
                <a:tab algn="l" pos="3375000"/>
                <a:tab algn="l" pos="3824280"/>
                <a:tab algn="l" pos="4273560"/>
                <a:tab algn="l" pos="4722840"/>
                <a:tab algn="l" pos="5172120"/>
                <a:tab algn="l" pos="5621400"/>
                <a:tab algn="l" pos="6070680"/>
                <a:tab algn="l" pos="6519960"/>
                <a:tab algn="l" pos="6969240"/>
                <a:tab algn="l" pos="7418520"/>
                <a:tab algn="l" pos="7867800"/>
                <a:tab algn="l" pos="8317080"/>
                <a:tab algn="l" pos="8766000"/>
                <a:tab algn="l" pos="9215280"/>
                <a:tab algn="l" pos="9664560"/>
                <a:tab algn="l" pos="9883800"/>
                <a:tab algn="l" pos="10333080"/>
                <a:tab algn="l" pos="1078236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681120" indent="-303120" algn="just">
              <a:lnSpc>
                <a:spcPct val="90000"/>
              </a:lnSpc>
              <a:spcBef>
                <a:spcPts val="950"/>
              </a:spcBef>
              <a:tabLst>
                <a:tab algn="l" pos="0"/>
                <a:tab algn="l" pos="681120"/>
                <a:tab algn="l" pos="1128600"/>
                <a:tab algn="l" pos="1577880"/>
                <a:tab algn="l" pos="2027160"/>
                <a:tab algn="l" pos="2476440"/>
                <a:tab algn="l" pos="2925720"/>
                <a:tab algn="l" pos="3375000"/>
                <a:tab algn="l" pos="3824280"/>
                <a:tab algn="l" pos="4273560"/>
                <a:tab algn="l" pos="4722840"/>
                <a:tab algn="l" pos="5172120"/>
                <a:tab algn="l" pos="5621400"/>
                <a:tab algn="l" pos="6070680"/>
                <a:tab algn="l" pos="6519960"/>
                <a:tab algn="l" pos="6969240"/>
                <a:tab algn="l" pos="7418520"/>
                <a:tab algn="l" pos="7867800"/>
                <a:tab algn="l" pos="8317080"/>
                <a:tab algn="l" pos="8766000"/>
                <a:tab algn="l" pos="9215280"/>
                <a:tab algn="l" pos="9664560"/>
                <a:tab algn="l" pos="9883800"/>
                <a:tab algn="l" pos="10333080"/>
                <a:tab algn="l" pos="1078236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681120" indent="-303120" algn="ctr">
              <a:lnSpc>
                <a:spcPct val="100000"/>
              </a:lnSpc>
              <a:spcBef>
                <a:spcPts val="950"/>
              </a:spcBef>
              <a:tabLst>
                <a:tab algn="l" pos="0"/>
                <a:tab algn="l" pos="681120"/>
                <a:tab algn="l" pos="1128600"/>
                <a:tab algn="l" pos="1577880"/>
                <a:tab algn="l" pos="2027160"/>
                <a:tab algn="l" pos="2476440"/>
                <a:tab algn="l" pos="2925720"/>
                <a:tab algn="l" pos="3375000"/>
                <a:tab algn="l" pos="3824280"/>
                <a:tab algn="l" pos="4273560"/>
                <a:tab algn="l" pos="4722840"/>
                <a:tab algn="l" pos="5172120"/>
                <a:tab algn="l" pos="5621400"/>
                <a:tab algn="l" pos="6070680"/>
                <a:tab algn="l" pos="6519960"/>
                <a:tab algn="l" pos="6969240"/>
                <a:tab algn="l" pos="7418520"/>
                <a:tab algn="l" pos="7867800"/>
                <a:tab algn="l" pos="8317080"/>
                <a:tab algn="l" pos="8766000"/>
                <a:tab algn="l" pos="9215280"/>
                <a:tab algn="l" pos="9664560"/>
                <a:tab algn="l" pos="9883800"/>
                <a:tab algn="l" pos="10333080"/>
                <a:tab algn="l" pos="1078236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066680" y="5105520"/>
            <a:ext cx="6705720" cy="1295280"/>
          </a:xfrm>
          <a:prstGeom prst="foldedCorner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-2514600" y="4343400"/>
            <a:ext cx="1981080" cy="1752480"/>
          </a:xfrm>
          <a:prstGeom prst="foldedCorner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66204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Cadastros de Informações Previdenciária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-360" y="6696000"/>
            <a:ext cx="9178920" cy="155160"/>
            <a:chOff x="-360" y="6696000"/>
            <a:chExt cx="9178920" cy="155160"/>
          </a:xfrm>
        </p:grpSpPr>
        <p:sp>
          <p:nvSpPr>
            <p:cNvPr id="218" name=""/>
            <p:cNvSpPr/>
            <p:nvPr/>
          </p:nvSpPr>
          <p:spPr>
            <a:xfrm flipH="1" flipV="1">
              <a:off x="-720" y="6696000"/>
              <a:ext cx="9178920" cy="15840"/>
            </a:xfrm>
            <a:prstGeom prst="rect">
              <a:avLst/>
            </a:prstGeom>
            <a:gradFill rotWithShape="0">
              <a:gsLst>
                <a:gs pos="0">
                  <a:srgbClr val="10253f"/>
                </a:gs>
                <a:gs pos="100000">
                  <a:srgbClr val="c6d9f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 flipH="1" flipV="1">
              <a:off x="-720" y="6768360"/>
              <a:ext cx="9178920" cy="82440"/>
            </a:xfrm>
            <a:prstGeom prst="rect">
              <a:avLst/>
            </a:prstGeom>
            <a:gradFill rotWithShape="0">
              <a:gsLst>
                <a:gs pos="0">
                  <a:srgbClr val="10253f"/>
                </a:gs>
                <a:gs pos="100000">
                  <a:srgbClr val="c6d9f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 flipH="1" flipV="1">
              <a:off x="-720" y="6732720"/>
              <a:ext cx="9178920" cy="15840"/>
            </a:xfrm>
            <a:prstGeom prst="rect">
              <a:avLst/>
            </a:prstGeom>
            <a:gradFill rotWithShape="0">
              <a:gsLst>
                <a:gs pos="0">
                  <a:srgbClr val="10253f"/>
                </a:gs>
                <a:gs pos="100000">
                  <a:srgbClr val="c6d9f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1" name=""/>
          <p:cNvSpPr/>
          <p:nvPr/>
        </p:nvSpPr>
        <p:spPr>
          <a:xfrm>
            <a:off x="942840" y="1039680"/>
            <a:ext cx="71582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800" spc="-1" strike="noStrike">
                <a:solidFill>
                  <a:srgbClr val="280099"/>
                </a:solidFill>
                <a:latin typeface="Arial"/>
              </a:rPr>
              <a:t>Projeto Matrícula CEI –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800" spc="-1" strike="noStrike">
                <a:solidFill>
                  <a:srgbClr val="280099"/>
                </a:solidFill>
                <a:latin typeface="Arial"/>
              </a:rPr>
              <a:t>Ajustes nos Cadastros da RFB - PUC 05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90720" y="2502000"/>
            <a:ext cx="7238880" cy="1447560"/>
          </a:xfrm>
          <a:prstGeom prst="foldedCorner">
            <a:avLst>
              <a:gd name="adj" fmla="val 12500"/>
            </a:avLst>
          </a:prstGeom>
          <a:solidFill>
            <a:srgbClr val="dfd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Reorganizar os cadastros de modo a permitir a correta classificação do sujeito passivo de acordo com sua personalidade jurídica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990720" y="4313160"/>
            <a:ext cx="7391160" cy="1981440"/>
          </a:xfrm>
          <a:prstGeom prst="foldedCorner">
            <a:avLst>
              <a:gd name="adj" fmla="val 12500"/>
            </a:avLst>
          </a:prstGeom>
          <a:solidFill>
            <a:srgbClr val="dfd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000066"/>
                </a:solidFill>
                <a:latin typeface="Tahoma"/>
              </a:rPr>
              <a:t>Acrescentar atributos que permitam registrar os dados do contribuinte de maneira eficiente e concisa, de modo a tornar possível a sua localização e a identificação de suas diversas atividades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flipH="1" flipV="1">
            <a:off x="0" y="1440"/>
            <a:ext cx="9144000" cy="720720"/>
          </a:xfrm>
          <a:prstGeom prst="rect">
            <a:avLst/>
          </a:prstGeom>
          <a:gradFill rotWithShape="0">
            <a:gsLst>
              <a:gs pos="0">
                <a:srgbClr val="10253f"/>
              </a:gs>
              <a:gs pos="100000">
                <a:srgbClr val="c6d9f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6659640" y="82440"/>
            <a:ext cx="2303280" cy="60336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87480" y="34920"/>
            <a:ext cx="1892160" cy="65088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flipH="1" flipV="1">
            <a:off x="-37080" y="754920"/>
            <a:ext cx="9180360" cy="17640"/>
          </a:xfrm>
          <a:prstGeom prst="rect">
            <a:avLst/>
          </a:prstGeom>
          <a:gradFill rotWithShape="0">
            <a:gsLst>
              <a:gs pos="0">
                <a:srgbClr val="10253f"/>
              </a:gs>
              <a:gs pos="100000">
                <a:srgbClr val="c6d9f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619280" y="2160720"/>
            <a:ext cx="6513480" cy="35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81120" indent="-303120" algn="just">
              <a:lnSpc>
                <a:spcPct val="90000"/>
              </a:lnSpc>
              <a:spcBef>
                <a:spcPts val="950"/>
              </a:spcBef>
              <a:tabLst>
                <a:tab algn="l" pos="0"/>
                <a:tab algn="l" pos="681120"/>
                <a:tab algn="l" pos="1128600"/>
                <a:tab algn="l" pos="1577880"/>
                <a:tab algn="l" pos="2027160"/>
                <a:tab algn="l" pos="2476440"/>
                <a:tab algn="l" pos="2925720"/>
                <a:tab algn="l" pos="3375000"/>
                <a:tab algn="l" pos="3824280"/>
                <a:tab algn="l" pos="4273560"/>
                <a:tab algn="l" pos="4722840"/>
                <a:tab algn="l" pos="5172120"/>
                <a:tab algn="l" pos="5621400"/>
                <a:tab algn="l" pos="6070680"/>
                <a:tab algn="l" pos="6519960"/>
                <a:tab algn="l" pos="6969240"/>
                <a:tab algn="l" pos="7418520"/>
                <a:tab algn="l" pos="7867800"/>
                <a:tab algn="l" pos="8317080"/>
                <a:tab algn="l" pos="8766000"/>
                <a:tab algn="l" pos="9215280"/>
                <a:tab algn="l" pos="9664560"/>
                <a:tab algn="l" pos="9883800"/>
                <a:tab algn="l" pos="10333080"/>
                <a:tab algn="l" pos="1078236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681120" indent="-303120" algn="just">
              <a:lnSpc>
                <a:spcPct val="90000"/>
              </a:lnSpc>
              <a:spcBef>
                <a:spcPts val="950"/>
              </a:spcBef>
              <a:tabLst>
                <a:tab algn="l" pos="0"/>
                <a:tab algn="l" pos="681120"/>
                <a:tab algn="l" pos="1128600"/>
                <a:tab algn="l" pos="1577880"/>
                <a:tab algn="l" pos="2027160"/>
                <a:tab algn="l" pos="2476440"/>
                <a:tab algn="l" pos="2925720"/>
                <a:tab algn="l" pos="3375000"/>
                <a:tab algn="l" pos="3824280"/>
                <a:tab algn="l" pos="4273560"/>
                <a:tab algn="l" pos="4722840"/>
                <a:tab algn="l" pos="5172120"/>
                <a:tab algn="l" pos="5621400"/>
                <a:tab algn="l" pos="6070680"/>
                <a:tab algn="l" pos="6519960"/>
                <a:tab algn="l" pos="6969240"/>
                <a:tab algn="l" pos="7418520"/>
                <a:tab algn="l" pos="7867800"/>
                <a:tab algn="l" pos="8317080"/>
                <a:tab algn="l" pos="8766000"/>
                <a:tab algn="l" pos="9215280"/>
                <a:tab algn="l" pos="9664560"/>
                <a:tab algn="l" pos="9883800"/>
                <a:tab algn="l" pos="10333080"/>
                <a:tab algn="l" pos="1078236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681120" indent="-303120" algn="ctr">
              <a:lnSpc>
                <a:spcPct val="100000"/>
              </a:lnSpc>
              <a:spcBef>
                <a:spcPts val="950"/>
              </a:spcBef>
              <a:tabLst>
                <a:tab algn="l" pos="0"/>
                <a:tab algn="l" pos="681120"/>
                <a:tab algn="l" pos="1128600"/>
                <a:tab algn="l" pos="1577880"/>
                <a:tab algn="l" pos="2027160"/>
                <a:tab algn="l" pos="2476440"/>
                <a:tab algn="l" pos="2925720"/>
                <a:tab algn="l" pos="3375000"/>
                <a:tab algn="l" pos="3824280"/>
                <a:tab algn="l" pos="4273560"/>
                <a:tab algn="l" pos="4722840"/>
                <a:tab algn="l" pos="5172120"/>
                <a:tab algn="l" pos="5621400"/>
                <a:tab algn="l" pos="6070680"/>
                <a:tab algn="l" pos="6519960"/>
                <a:tab algn="l" pos="6969240"/>
                <a:tab algn="l" pos="7418520"/>
                <a:tab algn="l" pos="7867800"/>
                <a:tab algn="l" pos="8317080"/>
                <a:tab algn="l" pos="8766000"/>
                <a:tab algn="l" pos="9215280"/>
                <a:tab algn="l" pos="9664560"/>
                <a:tab algn="l" pos="9883800"/>
                <a:tab algn="l" pos="10333080"/>
                <a:tab algn="l" pos="1078236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143000" y="3581280"/>
            <a:ext cx="5105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447920" y="2438280"/>
            <a:ext cx="3124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295280" y="4267080"/>
            <a:ext cx="6172200" cy="1981440"/>
          </a:xfrm>
          <a:prstGeom prst="foldedCorner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066680" y="5105520"/>
            <a:ext cx="6705720" cy="1295280"/>
          </a:xfrm>
          <a:prstGeom prst="foldedCorner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-2514600" y="4343400"/>
            <a:ext cx="1981080" cy="1752480"/>
          </a:xfrm>
          <a:prstGeom prst="foldedCorner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539640" y="1979640"/>
            <a:ext cx="7920000" cy="4319640"/>
          </a:xfrm>
          <a:prstGeom prst="rect">
            <a:avLst/>
          </a:prstGeom>
          <a:ln w="9360">
            <a:solidFill>
              <a:srgbClr val="808080"/>
            </a:solidFill>
            <a:round/>
          </a:ln>
        </p:spPr>
      </p:pic>
      <p:sp>
        <p:nvSpPr>
          <p:cNvPr id="235" name=""/>
          <p:cNvSpPr/>
          <p:nvPr/>
        </p:nvSpPr>
        <p:spPr>
          <a:xfrm>
            <a:off x="0" y="914400"/>
            <a:ext cx="5759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3200" spc="-1" strike="noStrike">
                <a:solidFill>
                  <a:srgbClr val="280099"/>
                </a:solidFill>
                <a:latin typeface="Arial"/>
              </a:rPr>
              <a:t>Programa Cadfisc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 flipV="1">
            <a:off x="0" y="1440"/>
            <a:ext cx="9144000" cy="720720"/>
          </a:xfrm>
          <a:prstGeom prst="rect">
            <a:avLst/>
          </a:prstGeom>
          <a:gradFill rotWithShape="0">
            <a:gsLst>
              <a:gs pos="0">
                <a:srgbClr val="10253f"/>
              </a:gs>
              <a:gs pos="100000">
                <a:srgbClr val="c6d9f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6659640" y="82440"/>
            <a:ext cx="2303280" cy="60336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3"/>
          <a:stretch/>
        </p:blipFill>
        <p:spPr>
          <a:xfrm>
            <a:off x="87480" y="34920"/>
            <a:ext cx="1892160" cy="65088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/>
          <p:nvPr/>
        </p:nvSpPr>
        <p:spPr>
          <a:xfrm flipH="1" flipV="1">
            <a:off x="-37080" y="754920"/>
            <a:ext cx="9180360" cy="17640"/>
          </a:xfrm>
          <a:prstGeom prst="rect">
            <a:avLst/>
          </a:prstGeom>
          <a:gradFill rotWithShape="0">
            <a:gsLst>
              <a:gs pos="0">
                <a:srgbClr val="10253f"/>
              </a:gs>
              <a:gs pos="100000">
                <a:srgbClr val="c6d9f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-360" y="6697800"/>
            <a:ext cx="9178920" cy="153360"/>
            <a:chOff x="-360" y="6697800"/>
            <a:chExt cx="9178920" cy="153360"/>
          </a:xfrm>
        </p:grpSpPr>
        <p:sp>
          <p:nvSpPr>
            <p:cNvPr id="241" name=""/>
            <p:cNvSpPr/>
            <p:nvPr/>
          </p:nvSpPr>
          <p:spPr>
            <a:xfrm flipH="1" flipV="1">
              <a:off x="-720" y="6697800"/>
              <a:ext cx="9178920" cy="15840"/>
            </a:xfrm>
            <a:prstGeom prst="rect">
              <a:avLst/>
            </a:prstGeom>
            <a:gradFill rotWithShape="0">
              <a:gsLst>
                <a:gs pos="0">
                  <a:srgbClr val="10253f"/>
                </a:gs>
                <a:gs pos="100000">
                  <a:srgbClr val="c6d9f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 flipH="1" flipV="1">
              <a:off x="-720" y="6768360"/>
              <a:ext cx="9178920" cy="82440"/>
            </a:xfrm>
            <a:prstGeom prst="rect">
              <a:avLst/>
            </a:prstGeom>
            <a:gradFill rotWithShape="0">
              <a:gsLst>
                <a:gs pos="0">
                  <a:srgbClr val="10253f"/>
                </a:gs>
                <a:gs pos="100000">
                  <a:srgbClr val="c6d9f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 flipH="1" flipV="1">
              <a:off x="-720" y="6734160"/>
              <a:ext cx="9178920" cy="15840"/>
            </a:xfrm>
            <a:prstGeom prst="rect">
              <a:avLst/>
            </a:prstGeom>
            <a:gradFill rotWithShape="0">
              <a:gsLst>
                <a:gs pos="0">
                  <a:srgbClr val="10253f"/>
                </a:gs>
                <a:gs pos="100000">
                  <a:srgbClr val="c6d9f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7T11:36:45Z</dcterms:created>
  <dc:creator>FILIPE VIGLONGO CORREA VILARDO DE FREITAS</dc:creator>
  <dc:description/>
  <dc:language>en-US</dc:language>
  <cp:lastModifiedBy>Carolina</cp:lastModifiedBy>
  <dcterms:modified xsi:type="dcterms:W3CDTF">2012-09-18T23:31:46Z</dcterms:modified>
  <cp:revision>48</cp:revision>
  <dc:subject/>
  <dc:title>Objetivos</dc:title>
</cp:coreProperties>
</file>