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90DD-C999-40D5-BE73-9799969E02DD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EFD8-0018-48E4-83EA-C3C5B42511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94D-6A01-4E6A-97C8-0EA1017DBCCF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791-AE45-4791-8281-AFF93EBE6C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FFFE-9BA0-4835-B2E5-9C3D39CCE7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E71-AA42-4768-AA64-7BBF4699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4A7-8EB2-48C8-B41B-0164D74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981-B3D1-4284-A147-B72E4085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9F5-A59F-43F3-B6BC-239F6EB5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649-2420-4F44-ACE1-AC737D4C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B0A-5687-44B3-B863-9BD4519A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5FE-95FF-477F-8408-3CA07810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ADC-1B48-4C41-BF53-315685C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B5F-B762-48F9-96D4-20932262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0B1-8A3C-46F0-A415-0F295CD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4AF-64D6-4F07-BD5D-ADB8AC8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EE1-FBE6-4DA5-9ADF-74F7225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D98-DCFD-48A3-B0B9-D573041F4657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tobarbl\Mis documentos\Mis imágenes\Fondo SA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tobarbl\Mis documentos\Mis imágenes\Fondo SA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960" y="691920"/>
            <a:ext cx="849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Calibri"/>
              </a:rPr>
              <a:t>Visita de Intercambio/ Intercambio de Inform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770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002060"/>
                </a:solidFill>
                <a:latin typeface="Calibri"/>
              </a:rPr>
              <a:t>SITUACIÓN DE GUATEMALA EN MATERIA DE INTERCAMBIO DE INFORMACIÓN TRIBU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71636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002060"/>
                </a:solidFill>
                <a:latin typeface="Calibri"/>
              </a:rPr>
              <a:t>Guatemala, noviembre d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795760"/>
            <a:ext cx="8229600" cy="10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2060"/>
                </a:solidFill>
                <a:latin typeface="Calibri"/>
              </a:rPr>
              <a:t>Muchas graci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009: EL INICIO DE LOS CAMBIOS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981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El G2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Insta a todas las jurisdicciones a implementar el estándar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Recomienda la reestructuración y fortalecimiento del Foro Glo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El Secretariado General de la OCDE hace pública una lista de jurisdicciones de acuerdo con el cumplimiento del estándar internac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Guatemala es incluida en la “lista gris” (otros centros financier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Calibri"/>
              </a:rPr>
              <a:t>Individualmente, algunos países anuncian la aplicación de sanciones </a:t>
            </a: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(Francia, Alemania, Reino Uni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2060"/>
                </a:solidFill>
                <a:latin typeface="Calibri"/>
              </a:rPr>
              <a:t>Se crea el </a:t>
            </a:r>
            <a:r>
              <a:rPr b="1" lang="es-GT" sz="2400" spc="-1" strike="noStrike">
                <a:solidFill>
                  <a:srgbClr val="002060"/>
                </a:solidFill>
                <a:latin typeface="Calibri"/>
              </a:rPr>
              <a:t>Foro Global </a:t>
            </a:r>
            <a:r>
              <a:rPr b="0" lang="es-GT" sz="2400" spc="-1" strike="noStrike">
                <a:solidFill>
                  <a:srgbClr val="002060"/>
                </a:solidFill>
                <a:latin typeface="Calibri"/>
              </a:rPr>
              <a:t>como una instancia internacional en el que Guatemala participa como miembro funda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9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Situación actual de Guatema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44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17375e"/>
                </a:solidFill>
                <a:latin typeface="Calibri"/>
              </a:rPr>
              <a:t>Guatemala salió de la lista gris de la OCDE en diciembre de 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En 2011-2012 Guatemala fue sujeto a revisión de Fase I por el Foro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8760" indent="-15876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De los 10 elementos y sus componentes evaluados, las determinaciones s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4 se encuentran en lug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2 se encuentran en lugar, pero necesitan mejoras;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4 no se encuentran en l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15876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Calibri"/>
              </a:rPr>
              <a:t>Proceso de cumpl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Desde que Guatemala asumió el compromiso con el Foro Global en 2009, organizó un equipo de trabajo con profesionales de las siguientes institu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Ministerio de Finanzas Públic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Ministerio de Relaciones Exterior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Registro Mercanti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Superintendencia de Banc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2060"/>
                </a:solidFill>
                <a:latin typeface="Calibri"/>
              </a:rPr>
              <a:t>Superintendencia de </a:t>
            </a:r>
            <a:r>
              <a:rPr b="1" lang="es-GT" sz="2000" spc="-1" strike="noStrike">
                <a:solidFill>
                  <a:srgbClr val="17375e"/>
                </a:solidFill>
                <a:latin typeface="Calibri"/>
              </a:rPr>
              <a:t>Administración Tribut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El grupo de trabajo avanzó sustantivamente en la revisión del marco legal vigente, en la preparación de las iniciativas de ley pertinentes y en la revisión del Modelo Internacional Estándar de TI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CuadroTexto"/>
          <p:cNvSpPr/>
          <p:nvPr/>
        </p:nvSpPr>
        <p:spPr>
          <a:xfrm>
            <a:off x="4287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uerdos suscr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500040" y="107172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Guatemala ha suscrito 8 TI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17375e"/>
                </a:solidFill>
                <a:latin typeface="Arial"/>
              </a:rPr>
              <a:t>En diciembre de 2012 Guatemala suscribió la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Convención sobre A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Administrativa Mutua en Materia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</a:rPr>
              <a:t>Asimismo, también está el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Convenio de Asistencia Mutua y 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Técnica entre las Administraciones Tributarias y Aduaner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Centro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es-GT" sz="1800" spc="-1" strike="noStrike">
                <a:solidFill>
                  <a:srgbClr val="002060"/>
                </a:solidFill>
                <a:latin typeface="Arial"/>
                <a:ea typeface="Arial"/>
              </a:rPr>
              <a:t>Recientemente se suscribió un convenio con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Título"/>
          <p:cNvSpPr/>
          <p:nvPr/>
        </p:nvSpPr>
        <p:spPr>
          <a:xfrm>
            <a:off x="457200" y="442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GT" sz="4000" spc="-1" strike="noStrike">
                <a:solidFill>
                  <a:srgbClr val="ff0000"/>
                </a:solidFill>
                <a:latin typeface="Calibri"/>
              </a:rPr>
              <a:t>REFORMAS LEG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2060"/>
                </a:solidFill>
                <a:latin typeface="Calibri"/>
              </a:rPr>
              <a:t>ELIMINACIÓN DE ACCIONES AL 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Decreto 55-2010: Ley de Extinción de Domin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2060"/>
                </a:solidFill>
                <a:latin typeface="Calibri"/>
              </a:rPr>
              <a:t>ACCESO A INFORMACIÓN BANCARIA (Pendien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-101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00160" indent="-743040" algn="ct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0000"/>
                </a:solidFill>
                <a:latin typeface="Calibri"/>
              </a:rPr>
              <a:t>Acceso a la Información Banca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CuadroTexto"/>
          <p:cNvSpPr/>
          <p:nvPr/>
        </p:nvSpPr>
        <p:spPr>
          <a:xfrm>
            <a:off x="249120" y="981000"/>
            <a:ext cx="864576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Iniciativa de Ley 4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Reforma 1 artículo del Código Tributario (Decreto 6-91 y sus refor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Facultar a la SAT para solicitar información ban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Reforma 2 artículos de la Ley de Bancos y Grupos Financieros (Decreto 19-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GT" sz="2800" spc="-1" strike="noStrike">
                <a:solidFill>
                  <a:srgbClr val="002060"/>
                </a:solidFill>
                <a:latin typeface="Calibri"/>
              </a:rPr>
              <a:t>Levantar el secreto bancario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CuadroTexto"/>
          <p:cNvSpPr/>
          <p:nvPr/>
        </p:nvSpPr>
        <p:spPr>
          <a:xfrm>
            <a:off x="642960" y="642960"/>
            <a:ext cx="80722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El Reglamento de la Superintendencia de Administración Tributaria, en el Artículo 37 establece que son funciones de la </a:t>
            </a: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Gerencia de Planificación y Desarrollo Institucional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, entre otr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Realizar estudios y análisis sobre los efectos de la suscripción de convenios y trat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internacionales y otros temas de interés para la Administración Tribut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Coordinar las relaciones y acciones de cooperación internacional de la S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9)    Coordinar la participación de la SAT en la negociación de convenios y tratados internac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en materia tributaria y aduanera y la administración interna de los mism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Aduanas (Artículo 31, inciso 12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Recaudación y Gestión (Artículo 32, inciso 9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Fiscalización (Artículo 33, inciso 10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Arial"/>
              </a:rPr>
              <a:t>Intendencia de Asuntos Jurídicos (Artículo 34, inciso 15):  </a:t>
            </a:r>
            <a:r>
              <a:rPr b="0" lang="es-ES" sz="1200" spc="-1" strike="noStrike">
                <a:solidFill>
                  <a:srgbClr val="17375e"/>
                </a:solidFill>
                <a:latin typeface="Arial"/>
              </a:rPr>
              <a:t>Participar en representación de la SAT en el proceso de preparación o elaboración de convenios, acuerdos o tratados internacionales y en las relaciones internacionales en materia de su competencia; así como en la revisión o elaboración de proyectos de ley, reglamentos, dictámenes, acuerdos internos y otr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CuadroTexto"/>
          <p:cNvSpPr/>
          <p:nvPr/>
        </p:nvSpPr>
        <p:spPr>
          <a:xfrm>
            <a:off x="71424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unciones de las dependencias de acuerdo al Reglamento Interno de la 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1:11:50Z</dcterms:created>
  <dc:creator>Tobar Blanco, Arturo</dc:creator>
  <dc:description/>
  <dc:language>en-US</dc:language>
  <cp:lastModifiedBy>María S. López</cp:lastModifiedBy>
  <dcterms:modified xsi:type="dcterms:W3CDTF">2013-11-14T14:44:30Z</dcterms:modified>
  <cp:revision>165</cp:revision>
  <dc:subject/>
  <dc:title>FORO GLOBAL EVALUACIÓN DE PARES.  PRIMERA FASE</dc:title>
</cp:coreProperties>
</file>