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702-B493-4EB7-B4C9-40F87C55D588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ADC-1DB0-478D-A049-B0748A5741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DDB-E2AF-46B9-A38E-038DC826D5EC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1E6-E930-4221-9C87-7966C58191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26C0-5D26-4916-9087-D4E12BA9FD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F34-356C-4095-9C47-FFF02446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021-812C-472E-96D4-154E95A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862-8F64-4545-978D-5DCF7BE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BB1-A555-4B39-93B1-F9B6D9A9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910-FC9C-4038-822B-2E1039F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8BD-E52E-4854-BACF-E788B82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857-3271-45B4-8A2A-07DF2E6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AFA-18B2-478D-90E0-DEFF395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14E-9D3C-475F-9F7A-B7265CF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EC5-AC69-4426-A21A-1A6999B7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91B-D81A-4A74-B55D-B85D7E4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277-931E-454B-BF32-64CB07A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B16-8F43-45E9-ADEE-031B8354A6F9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tobarbl\Mis documentos\Mis imágenes\Fondo S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tobarbl\Mis documentos\Mis imágenes\Fondo S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960" y="691920"/>
            <a:ext cx="849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Calibri"/>
              </a:rPr>
              <a:t>Visita de Intercambio/ Intercambio de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70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2060"/>
                </a:solidFill>
                <a:latin typeface="Calibri"/>
              </a:rPr>
              <a:t>SITUACIÓN DE GUATEMALA EN MATERIA DE INTERCAMBIO DE INFORMACIÓN TRIBU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71636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002060"/>
                </a:solidFill>
                <a:latin typeface="Calibri"/>
              </a:rPr>
              <a:t>Guatemala, noviembre d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795760"/>
            <a:ext cx="8229600" cy="10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2060"/>
                </a:solidFill>
                <a:latin typeface="Calibri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009: EL INICIO DE LOS CAMBIO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981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G2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Insta a todas las jurisdicciones a implementar el estándar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Recomienda la reestructuración y fortalecimiento del For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Secretariado General de la OCDE hace pública una lista de jurisdicciones de acuerdo con el cumplimiento del estándar 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Guatemala es incluida en la “lista gris” (otros centros financi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Individualmente, algunos países anuncian la aplicación de sanciones </a:t>
            </a: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(Francia, Alemania, Reino U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Se crea el </a:t>
            </a:r>
            <a:r>
              <a:rPr b="1" lang="es-GT" sz="2400" spc="-1" strike="noStrike">
                <a:solidFill>
                  <a:srgbClr val="002060"/>
                </a:solidFill>
                <a:latin typeface="Calibri"/>
              </a:rPr>
              <a:t>Foro Global </a:t>
            </a: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como una instancia internacional en el que Guatemala participa como miembro fund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Situación actual de Guatem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44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17375e"/>
                </a:solidFill>
                <a:latin typeface="Calibri"/>
              </a:rPr>
              <a:t>Guatemala salió de la lista gris de la OCDE en diciembre de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En 2011-2012 Guatemala fue sujeto a revisión de Fase I por el Foro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De los 10 elementos y sus componentes evaluados, las determinaciones s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se encuentran en lug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2 se encuentran en lugar, pero necesitan mejoras;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no se encuentran en l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Calibri"/>
              </a:rPr>
              <a:t>Proceso de cumpl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sde que Guatemala asumió el compromiso con el Foro Global en 2009, organizó un equipo de trabajo con profesionales de las siguientes institu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Finanzas Públic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Relaciones Exterior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Registro Mercanti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Banc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</a:t>
            </a:r>
            <a:r>
              <a:rPr b="1" lang="es-GT" sz="2000" spc="-1" strike="noStrike">
                <a:solidFill>
                  <a:srgbClr val="17375e"/>
                </a:solidFill>
                <a:latin typeface="Calibri"/>
              </a:rPr>
              <a:t>Administración Tribut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El grupo de trabajo avanzó sustantivamente en la revisión del marco legal vigente, en la preparación de las iniciativas de ley pertinentes y en la revisión del Modelo Internacional Estándar de TI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CuadroTexto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uerdos suscr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500040" y="10717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Guatemala ha suscrito 8 TI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En diciembre de 2012 Guatemala suscribió la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Convención sobre 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dministrativa Mutua en Materia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simismo, también está el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onvenio de Asistencia Mutua y 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Técnica entre las Administraciones Tributarias y Aduaner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entro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Recientemente se suscribió un convenio con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457200" y="442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REFORMAS LE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ELIMINACIÓN DE ACCIONES AL 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creto 55-2010: Ley de Extinción de Domin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ACCESO A INFORMACIÓN BANCARIA (Pendien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-101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00160" indent="-743040" algn="ct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0000"/>
                </a:solidFill>
                <a:latin typeface="Calibri"/>
              </a:rPr>
              <a:t>Acceso a la Información Banca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CuadroTexto"/>
          <p:cNvSpPr/>
          <p:nvPr/>
        </p:nvSpPr>
        <p:spPr>
          <a:xfrm>
            <a:off x="249120" y="981000"/>
            <a:ext cx="864576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Iniciativa de Ley 4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1 artículo del Código Tributario (Decreto 6-91 y sus refor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Facultar a la SAT para solicitar información ban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2 artículos de la Ley de Bancos y Grupos Financieros (Decreto 19-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Levantar el secreto bancario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CuadroTexto"/>
          <p:cNvSpPr/>
          <p:nvPr/>
        </p:nvSpPr>
        <p:spPr>
          <a:xfrm>
            <a:off x="642960" y="642960"/>
            <a:ext cx="8072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l Reglamento de la Superintendencia de Administración Tributaria, en el Artículo 37 establece que son funciones de la </a:t>
            </a: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Gerencia de Planificación y Desarrollo Institucional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, entre otr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Realizar estudios y análisis sobre los efectos de la suscripción de convenios y trat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internacionales y otros temas de interés para la Administración Tribut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Coordinar las relaciones y acciones de cooperación internacional de la S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9)    Coordinar la participación de la SAT en la negociación de convenios y tratados internac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n materia tributaria y aduanera y la administración interna de los mism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duanas (Artículo 31, inciso 12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Recaudación y Gestión (Artículo 32, inciso 9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Fiscalización (Artículo 33, inciso 10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suntos Jurídicos (Artículo 34, inciso 15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71424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unciones de las dependencias de acuerdo al Reglamento Interno de la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1:11:50Z</dcterms:created>
  <dc:creator>Tobar Blanco, Arturo</dc:creator>
  <dc:description/>
  <dc:language>en-US</dc:language>
  <cp:lastModifiedBy>María S. López</cp:lastModifiedBy>
  <dcterms:modified xsi:type="dcterms:W3CDTF">2013-11-14T14:44:30Z</dcterms:modified>
  <cp:revision>165</cp:revision>
  <dc:subject/>
  <dc:title>FORO GLOBAL EVALUACIÓN DE PARES.  PRIMERA FASE</dc:title>
</cp:coreProperties>
</file>